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0.png" ContentType="image/png"/>
  <Override PartName="/ppt/media/image3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7.wmf" ContentType="image/x-wmf"/>
  <Override PartName="/ppt/media/image15.jpeg" ContentType="image/jpeg"/>
  <Override PartName="/ppt/media/image16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92E7-8271-4FE5-845F-D6B1748F77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D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Peri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Topic: Graphing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-U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system of inequalities by graph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lt; 2x + 4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x – 2y ≥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nequality represents the graph bel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lt; 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≥ x +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≤ 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gt; x +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D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Peri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Topic: Graphing Absolute Valu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following system of inequalities by graph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lt; 2x + 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x – 2y ≥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nequality represents the graph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lt; 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≥ x +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≤ 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gt; x +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Mov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special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minus inside the absolute value, you move to the right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 - 2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ddition inside the absolute value, you move to the left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 + 2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Mo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special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minus inside the absolute value, you move to the right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 - 2 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ddition inside the absolute value, you move to the left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 + 2 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- 5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+ 6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- 5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+ 6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+ 4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- 1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+ 4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- 1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y = │x - 4 │+ 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y = │x - 4 │+ 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y = -│x - 2 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y = -│x - 2 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-│x 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rule, but now it makes it look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-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-│x 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rule, but now it makes it look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-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actice Time!!!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gebra Aerobic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y = │x - 1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y = │x +3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 y = │x │ +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 y = │x│ 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 y = │x + 3│ + 3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) y = │x - 1│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) y = -│x - 6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) y = -│x │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) │x│+ y =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) y = -│x + 1│ - 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actice Time!!!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ebra Aerob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y = │x - 1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y = │x +3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y = │x │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y = │x│ 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y = │x + 3│ 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) y = │x - 1│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) y = -│x - 6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) y = -│x │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) │x│+ y = 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) y = -│x + 1│ -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x Algebra Aerob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- 4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+ 5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│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-│x + 2│ -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-│x - 7│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x + 3y ≤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≥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 ≥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≥ -3x -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x Algebra Aerob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- 4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+ 5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│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-│x + 2│ 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-│x - 7│ +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 + 3y ≤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≥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≥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≥ -3x 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-Learning Assignment #5 Revie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-Learning Assignment #5 Re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al Comprehension 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│x - 3 │ together on the sam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│x │- 3 on the sam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- │x │ together on a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negative sign have on the graph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Comprehension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│x - 3 │ together on the sam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│x │- 3 on the sam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- │x │ together on a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negative sign have on the graph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ap-u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ke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vocabulary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 Reminder 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for Exam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Linear Inequalities, Systems of Inequalities, &amp; Graphing Absolute Value Equat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-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key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vocabular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 Reminder 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for Exam #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near Inequalities, Systems of Inequalities, &amp; Graphing Absolute Value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iz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iz #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ng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I make one of those V grap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ng Absolute Valu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 make one of those V 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trans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: shifts the parent function graph horizontally an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: it creates a mirror image of the parent-function graph across the line of refl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trans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: shifts the parent function graph horizontally and ver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: it creates a mirror image of the parent-function graph across the line of refle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rent Function y = │x 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ent Function y = │x 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ical Mov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minus outside the absolute value, you move down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│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ddition outside the absolute value, you move up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│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Mo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minus outside the absolute value, you move down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│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ddition outside the absolute value, you move up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│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-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+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+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F04E-83B0-46BF-A1DF-493F8B58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460-1BB6-4103-B816-62A6D1E2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C9AB-9FA5-4B9F-90BD-4ABFE0D2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FAB-CD30-45C8-9A70-E54C18C8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2A03-4F45-4069-B0A3-9B81D12F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092A-0E7F-43AE-AA55-C7BD0DB9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6129-379C-4493-816D-47FDF74F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C097-4741-4FF8-97D3-34C72FFD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A727-35FC-4E16-9688-DC90A5F9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3392-D677-4A75-94BE-5CE665A2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7082-0A3F-4F59-AADA-0CCCCF68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0D0-12D4-4950-9B59-1E09DC70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A29A-4A6F-4B6E-85EF-A425F759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CE56-B630-42C2-80F2-315BF662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6A89-83DA-41EF-8874-75E840C4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7BC5-D242-401E-A273-5A6BE21D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8DEB-AB9A-4F78-B962-0DFF6D96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54DE-F0D1-484A-92CD-351B5844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3F1-199A-41A8-9765-52FAE245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107-18B5-414B-A5B1-C5DF13EB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BC4-3E47-4AB8-ACB9-A74A4445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B9A-E63D-442F-9A73-1620BBB5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9717-DC7B-4D71-9D2E-78DBC67E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ACF5-CE91-4536-9D9A-93102084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2554-FF2B-433F-9552-982B4BF83D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DFF1-16DA-4AF1-AB9A-13DC3109D5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th12.vln.dreamhosters.com/images/math12.vln.dreamhosters.com/1/16/F(x)_%253D_-absolute_x.jpg&amp;imgrefurl=http://math12.vln.dreamhosters.com/wiki/Polynomic_Functions&amp;usg=__01xGfS9cAeUdBo2sUga4zfy0eZY=&amp;h=259&amp;w=576&amp;sz=18&amp;hl=en&amp;start=13&amp;zoom=1&amp;um=1&amp;itbs=1&amp;tbnid=0GX4kbien9YOvM:&amp;tbnh=60&amp;tbnw=134&amp;prev=/images%3Fq%3Dnegative%2Babsolute%2Bvalue%2Bfunction%2Bgraph%26um%3D1%26hl%3Den%26safe%3Dactive%26sa%3DN%26ndsp%3D20%26tbs%3Disch:1&amp;ei=bzhdTduPLMWblgeI6LDYC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Name: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Date: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Period:</a:t>
            </a:r>
            <a:br>
              <a:rPr sz="20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Topic: </a:t>
            </a:r>
            <a:r>
              <a:rPr b="1" lang="en-US" sz="3200" spc="-1" strike="noStrike" u="sng">
                <a:solidFill>
                  <a:srgbClr val="330033"/>
                </a:solidFill>
                <a:uFillTx/>
                <a:latin typeface="Times New Roman"/>
              </a:rPr>
              <a:t>Graphing Absolute Value Equation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rm-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ve the following system of inequalities by graph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lt; 2x + 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3x – 2y ≥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nequality represents the graph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lt; 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≥ 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≤ 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gt; 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2880" y="4302000"/>
          <a:ext cx="3581640" cy="2560680"/>
        </p:xfrm>
        <a:graphic>
          <a:graphicData uri="http://schemas.openxmlformats.org/drawingml/2006/table">
            <a:tbl>
              <a:tblPr/>
              <a:tblGrid>
                <a:gridCol w="358920"/>
                <a:gridCol w="357120"/>
                <a:gridCol w="358920"/>
                <a:gridCol w="357120"/>
                <a:gridCol w="358920"/>
                <a:gridCol w="358560"/>
                <a:gridCol w="357120"/>
                <a:gridCol w="358920"/>
                <a:gridCol w="357120"/>
                <a:gridCol w="358920"/>
              </a:tblGrid>
              <a:tr h="3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</a:tbl>
          </a:graphicData>
        </a:graphic>
      </p:graphicFrame>
      <p:cxnSp>
        <p:nvCxnSpPr>
          <p:cNvPr id="107" name="Straight Arrow Connector 6"/>
          <p:cNvCxnSpPr/>
          <p:nvPr/>
        </p:nvCxnSpPr>
        <p:spPr>
          <a:xfrm>
            <a:off x="6400440" y="4267080"/>
            <a:ext cx="1080" cy="2743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8" name="Straight Arrow Connector 10"/>
          <p:cNvCxnSpPr/>
          <p:nvPr/>
        </p:nvCxnSpPr>
        <p:spPr>
          <a:xfrm flipH="1">
            <a:off x="4876200" y="5790960"/>
            <a:ext cx="3734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9" name="Straight Arrow Connector 27"/>
          <p:cNvCxnSpPr/>
          <p:nvPr/>
        </p:nvCxnSpPr>
        <p:spPr>
          <a:xfrm flipV="1">
            <a:off x="4952520" y="4191120"/>
            <a:ext cx="2591640" cy="2667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rizontal Movemen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value special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inus inside the absolute value, you move to the right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2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ddition inside the absolute value, you move to the left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2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Documents and Settings\275602\Local Settings\Temporary Internet Files\Content.IE5\8CZ25BBI\MC900434403[1].wmf"/>
          <p:cNvPicPr/>
          <p:nvPr/>
        </p:nvPicPr>
        <p:blipFill>
          <a:blip r:embed="rId1"/>
          <a:stretch/>
        </p:blipFill>
        <p:spPr>
          <a:xfrm>
            <a:off x="7848720" y="457200"/>
            <a:ext cx="604800" cy="8478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s Practic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5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6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4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1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bout y =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│x - 4 │+ 5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Picture 3" descr="C:\Users\user\AppData\Local\Microsoft\Windows\Temporary Internet Files\Content.IE5\RKD2LOJ0\MM900282747[1].gif"/>
          <p:cNvPicPr/>
          <p:nvPr/>
        </p:nvPicPr>
        <p:blipFill>
          <a:blip r:embed="rId1"/>
          <a:stretch/>
        </p:blipFill>
        <p:spPr>
          <a:xfrm rot="21299400">
            <a:off x="7391520" y="51814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274320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bout y =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-│x - 2 │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Picture 2" descr="C:\Users\user\AppData\Local\Microsoft\Windows\Temporary Internet Files\Content.IE5\FMINL040\MC900383550[1].wmf"/>
          <p:cNvPicPr/>
          <p:nvPr/>
        </p:nvPicPr>
        <p:blipFill>
          <a:blip r:embed="rId1"/>
          <a:stretch/>
        </p:blipFill>
        <p:spPr>
          <a:xfrm rot="21028800">
            <a:off x="685440" y="3429000"/>
            <a:ext cx="1425600" cy="3138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user\AppData\Local\Microsoft\Windows\Temporary Internet Files\Content.IE5\RKD2LOJ0\MM900282747[1].gif"/>
          <p:cNvPicPr/>
          <p:nvPr/>
        </p:nvPicPr>
        <p:blipFill>
          <a:blip r:embed="rId2"/>
          <a:stretch/>
        </p:blipFill>
        <p:spPr>
          <a:xfrm>
            <a:off x="7620120" y="152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user\AppData\Local\Microsoft\Windows\Temporary Internet Files\Content.IE5\NNA2BYPD\MC900293468[1].wmf"/>
          <p:cNvPicPr/>
          <p:nvPr/>
        </p:nvPicPr>
        <p:blipFill>
          <a:blip r:embed="rId3"/>
          <a:stretch/>
        </p:blipFill>
        <p:spPr>
          <a:xfrm>
            <a:off x="685800" y="0"/>
            <a:ext cx="1074600" cy="1371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Users\user\AppData\Local\Microsoft\Windows\Temporary Internet Files\Content.IE5\FMINL040\MC900304311[1].wmf"/>
          <p:cNvPicPr/>
          <p:nvPr/>
        </p:nvPicPr>
        <p:blipFill>
          <a:blip r:embed="rId4"/>
          <a:stretch/>
        </p:blipFill>
        <p:spPr>
          <a:xfrm flipH="1">
            <a:off x="7620120" y="4724280"/>
            <a:ext cx="1295280" cy="18097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y = -│x │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1" name="Picture 2" descr="http://t0.gstatic.com/images?q=tbn:ANd9GcQ2HTiFzrEdIDpgHTabub4GZ2eioCGCh3SeFhpX8LnZrBQw-eIhxSIIAa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828800"/>
            <a:ext cx="5715000" cy="29527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3982680" y="571500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rule, but now it makes it look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C:\Documents and Settings\275602\Local Settings\Temporary Internet Files\Content.IE5\GUNV34DJ\MC900440412[1].wmf"/>
          <p:cNvPicPr/>
          <p:nvPr/>
        </p:nvPicPr>
        <p:blipFill>
          <a:blip r:embed="rId3"/>
          <a:stretch/>
        </p:blipFill>
        <p:spPr>
          <a:xfrm>
            <a:off x="8001000" y="6176880"/>
            <a:ext cx="839880" cy="6811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4124520" y="213372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lec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-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C:\Users\user\AppData\Local\Microsoft\Windows\Temporary Internet Files\Content.IE5\RKD2LOJ0\MC900440516[1].wmf"/>
          <p:cNvPicPr/>
          <p:nvPr/>
        </p:nvPicPr>
        <p:blipFill>
          <a:blip r:embed="rId4"/>
          <a:stretch/>
        </p:blipFill>
        <p:spPr>
          <a:xfrm>
            <a:off x="7696080" y="2819520"/>
            <a:ext cx="1447920" cy="182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C:\Users\user\AppData\Local\Microsoft\Windows\Temporary Internet Files\Content.IE5\M5XL5LPK\MM900282742[1].gif"/>
          <p:cNvPicPr/>
          <p:nvPr/>
        </p:nvPicPr>
        <p:blipFill>
          <a:blip r:embed="rId5"/>
          <a:stretch/>
        </p:blipFill>
        <p:spPr>
          <a:xfrm>
            <a:off x="0" y="5105520"/>
            <a:ext cx="1219320" cy="17524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40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actice Time!!!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lgebra Aerobics!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1447920"/>
            <a:ext cx="43434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1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3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│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│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 3│ + 3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572000" y="1371600"/>
            <a:ext cx="4572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1│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6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│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│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 1│ - 1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Mix Algebra Aerob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14400" y="160020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- 4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2120" y="365760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+ 5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057120" y="5715000"/>
            <a:ext cx="244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│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010920" y="1828800"/>
            <a:ext cx="30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+ 2│ -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5853240" y="3733920"/>
            <a:ext cx="29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- 7│ +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846360" y="525780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x + 3y ≤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176520" y="5181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 ≥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3813840" y="44956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≥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359160" y="281952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≥ -3x 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305920" cy="50292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143000" y="1486080"/>
            <a:ext cx="7696080" cy="53719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Home-Learning Assignment #5 Review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762120" y="1666800"/>
            <a:ext cx="8153280" cy="51912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bal Comprehension Analy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144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functions y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│x │ and y = │x - 3 │ together on the sam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3 have on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 the functions y = │x │ and y = │x │- 3 on the sam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3 have on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 the functions y = │x │ and y = - │x │ together on a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negative sign have on the graph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rap-up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ke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vocabular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 Reminder 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for Exam #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near Inequalities, Systems of Inequalities, &amp; Graphing Absolute Value Equ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Quiz #8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Graphing Absolute Value Equation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make one of those V 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167652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0" y="5057640"/>
            <a:ext cx="1347840" cy="180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739152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7000920" y="0"/>
            <a:ext cx="2143080" cy="1600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5"/>
          <a:stretch/>
        </p:blipFill>
        <p:spPr>
          <a:xfrm>
            <a:off x="3429000" y="0"/>
            <a:ext cx="175248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bsolute value transformation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ocabular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hifts the parent function graph horizontally and ver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flec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creates a mirror image of the parent-function graph across the line of ref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rent Function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y = │x │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Picture 2" descr="http://schoolwires.henry.k12.ga.us/437520715143758627/lib/437520715143758627/absolute_value_function_graph.gif"/>
          <p:cNvPicPr/>
          <p:nvPr/>
        </p:nvPicPr>
        <p:blipFill>
          <a:blip r:embed="rId1"/>
          <a:stretch/>
        </p:blipFill>
        <p:spPr>
          <a:xfrm>
            <a:off x="762120" y="1752480"/>
            <a:ext cx="7816680" cy="4419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Users\user\AppData\Local\Microsoft\Windows\Temporary Internet Files\Content.IE5\NNA2BYPD\MC900446036[1].wmf"/>
          <p:cNvPicPr/>
          <p:nvPr/>
        </p:nvPicPr>
        <p:blipFill>
          <a:blip r:embed="rId2"/>
          <a:stretch/>
        </p:blipFill>
        <p:spPr>
          <a:xfrm>
            <a:off x="7391520" y="5005440"/>
            <a:ext cx="1752480" cy="1852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Users\user\AppData\Local\Microsoft\Windows\Temporary Internet Files\Content.IE5\M5XL5LPK\MC900292252[1].wmf"/>
          <p:cNvPicPr/>
          <p:nvPr/>
        </p:nvPicPr>
        <p:blipFill>
          <a:blip r:embed="rId3"/>
          <a:stretch/>
        </p:blipFill>
        <p:spPr>
          <a:xfrm flipH="1">
            <a:off x="0" y="5124600"/>
            <a:ext cx="1168560" cy="17334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tical Movemen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value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inus outside the absolute value, you move down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│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ddition outside the absolute value, you move up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│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Documents and Settings\275602\Local Settings\Temporary Internet Files\Content.IE5\L9JD6LDM\MC900434411[1].wmf"/>
          <p:cNvPicPr/>
          <p:nvPr/>
        </p:nvPicPr>
        <p:blipFill>
          <a:blip r:embed="rId1"/>
          <a:stretch/>
        </p:blipFill>
        <p:spPr>
          <a:xfrm>
            <a:off x="7162920" y="228600"/>
            <a:ext cx="1041120" cy="1171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s practic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1:06:11Z</dcterms:created>
  <dc:creator>Jane Neff</dc:creator>
  <dc:description/>
  <dc:language>en-US</dc:language>
  <cp:lastModifiedBy>LEGION</cp:lastModifiedBy>
  <dcterms:modified xsi:type="dcterms:W3CDTF">2017-07-06T06:35:02Z</dcterms:modified>
  <cp:revision>58</cp:revision>
  <dc:subject/>
  <dc:title>Graphing Absolute Value Equations</dc:title>
</cp:coreProperties>
</file>