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358A-6DDE-415C-8119-12095D318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ACE-D8BC-422A-8F36-ADC701A6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E98-5458-4B8C-A0EF-2D488D45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CE1-EB3A-47AA-9460-9FACEBA9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F94-2D3A-4115-B847-B124F2F1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FE1-836D-40A8-ABDB-D9053785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855-4D8E-4379-98C7-6AACFBAC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2B6-F3C7-4C39-9936-3B925F66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EB4-34CC-43B4-B8C9-60C92D48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A00-A9DC-4C04-B90E-07F50A38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0B3-827B-4450-8626-0B23B441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871-F09D-495E-AE5C-147A8F4C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570-C5BD-4427-A356-2D0EC568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57E6-41FD-45EA-B219-C3B640B77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763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76320"/>
            <a:ext cx="8048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5840" y="304920"/>
            <a:ext cx="8553240" cy="129528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4360" y="387360"/>
            <a:ext cx="8296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130480" y="5330880"/>
            <a:ext cx="6864120" cy="1289160"/>
          </a:xfrm>
          <a:prstGeom prst="rect">
            <a:avLst/>
          </a:prstGeom>
          <a:solidFill>
            <a:srgbClr val="cccc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252520" y="5407200"/>
            <a:ext cx="6620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1930680" cy="1320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228600" y="2057400"/>
            <a:ext cx="8763120" cy="2927520"/>
          </a:xfrm>
          <a:prstGeom prst="rect">
            <a:avLst/>
          </a:prstGeom>
          <a:solidFill>
            <a:srgbClr val="cc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58920" y="2141640"/>
            <a:ext cx="850248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4080" y="3430440"/>
            <a:ext cx="411156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49120" y="3479760"/>
            <a:ext cx="392112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4920" y="152280"/>
            <a:ext cx="8458200" cy="1295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34880" y="160200"/>
            <a:ext cx="8197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497480" y="3430440"/>
            <a:ext cx="449244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92520" y="3479760"/>
            <a:ext cx="430236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54080" y="1601640"/>
            <a:ext cx="8835840" cy="17496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49120" y="1650960"/>
            <a:ext cx="86457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ddition to working problems, you shoul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know and underst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definitions of  these words and phras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54080" y="1754280"/>
            <a:ext cx="8835840" cy="49496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49120" y="1803240"/>
            <a:ext cx="86457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4080" y="1754280"/>
            <a:ext cx="8835840" cy="50259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49120" y="1803240"/>
            <a:ext cx="86457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interval containing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l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up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g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down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77760" y="1297080"/>
            <a:ext cx="8988480" cy="5254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73160" y="1346040"/>
            <a:ext cx="879768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44440" y="1569960"/>
            <a:ext cx="86551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52280" y="152280"/>
            <a:ext cx="8839440" cy="1143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82600" y="236520"/>
            <a:ext cx="8578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54080" y="1297080"/>
            <a:ext cx="8835840" cy="5406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49120" y="1346040"/>
            <a:ext cx="86457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(x) = 3x - 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s “f of x equals three times x subtract 4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side parenthesis is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utside parenthesis is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2:05:02Z</dcterms:created>
  <dc:creator>DCMOORC</dc:creator>
  <dc:description/>
  <dc:language>en-US</dc:language>
  <cp:lastModifiedBy>LEGION</cp:lastModifiedBy>
  <dcterms:modified xsi:type="dcterms:W3CDTF">2017-07-06T06:34:35Z</dcterms:modified>
  <cp:revision>3</cp:revision>
  <dc:subject/>
  <dc:title>PowerPoint Presentation</dc:title>
</cp:coreProperties>
</file>