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9BED-FD77-41B7-807A-FDD53CAFC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 and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, domain,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, increasing/decreasing, even/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nctions and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nction, domain,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raph, increasing/decreasing, even/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working problems, you should know and understand the definitions of  these words and phras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working problems, you should know and understand the definitions of  these words and phras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Line Test for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t of points in a coordinate plane is the graph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as a function of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d only if no vertical line intersects the graph at more than on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Line Test for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t of points in a coordinate plane is the graph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as a function of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d only if no vertical line intersects the graph at more than on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interval containing x1 &lt; x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(x) is increasing if f(x1) &lt;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goes up to 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f(x) is decreasing if f(x1) &gt;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goes down to 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ny interval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(x) is constant if f(x1) =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is horizon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, Decreasing, and Constant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interval containing x1 &lt; x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(x) is increasing if f(x1) &lt;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goes up to 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f(x) is decreasing if f(x1) &gt;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goes down to 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ny interval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(x) is constant if f(x1) =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is horizon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, Decreasing, and Constant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function given by y = f(x) is even if, for each x in the domai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x) = f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 function given by y = f(x) is odd if, for each x in the domai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x) = - f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and Odd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function given by y = f(x) is even if, for each x in the domai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x) = f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 function given by y = f(x) is odd if, for each x in the domai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x) = - f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and Odd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f from set A to set B is a rule of correspondence that assigns to each element x in set A exactly one element y in set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A is the domain (or set of inputs) of the function f, and set B contains range (or set of outpu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f from set A to set B is a rule of correspondence that assigns to each element x in set A exactly one element y in set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A is the domain (or set of inputs) of the function f, and set B contains range (or set of outpu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Each element in A (domain) must be matched with an element of B (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Each element in A is matched to not more than one element in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ome elements in B may not be matched with any element in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Two or more elements of A may be matched with the same element of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Each element in A (domain) must be matched with an element of B (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Each element in A is matched to not more than one element in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ome elements in B may not be matched with any element in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Two or more elements of A may be matched with the same element of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 f(x) = 3x - 4 as “f of x equals three times x subtract 4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nside parenthesis is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outside parenthesis is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function f(x) = 3x - 4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5) = 3(5) - 4 = 15 - 4 = 11,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2) = 3(-2) - 4 = - 6 - 4 = -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 f(x) = 3x - 4 as “f of x equals three times x subtract 4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nside parenthesis is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outside parenthesis is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function f(x) = 3x - 4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5) = 3(5) - 4 = 15 - 4 = 11,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2) = 3(-2) - 4 = - 6 - 4 = -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= 2x - 1; otherwise, f(x) = x2 -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= 2x - 1; otherwise, f(x) = x2 -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f from set A to set B is a rule of correspondence that assigns to each element x in set A exactly one element y in set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A is the domain (or set of inputs) of the function f, and set B contains range (or set of outpu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f from set A to set B is a rule of correspondence that assigns to each element x in set A exactly one element y in set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A is the domain (or set of inputs) of the function f, and set B contains range (or set of outpu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= 2x - 1; otherwise, f(x) = x2 -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= 2x - 1; otherwise, f(x) = x2 -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real numbers that yield a real number functional value (in the 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estrictions to do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enominator cannot equal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adicand must be greater than or equal to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Practical problems may limit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real numbers that yield a real number functional value (in the 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estrictions to do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enominator cannot equal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adicand must be greater than or equal to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Practical problems may limit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real numbers that yield a real number functional value (in the 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estrictions to do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enominator cannot equal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adicand must be greater than or equal to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Practical problems may limit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real numbers that yield a real number functional value (in the 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estrictions to do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enominator cannot equal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adicand must be greater than or equal to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Practical problems may limit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8207-2C92-476E-B442-4BC98F797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DD44-8157-4F51-930F-30C86C2D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70B0-297C-4432-92DF-24D472267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970A-EB86-4C19-9AF3-A8A2E9D2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B0B9-165A-4881-87C4-16A62467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0DA3-3A38-4219-A247-2B30B089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9575-B2E6-41D9-B98F-8703B8E1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8374-8641-4259-9627-A049FF69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B6CA-B83D-4055-963B-DF895B3D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ED51-283A-4787-886D-F6B70430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0829-1040-4504-ABE3-6214A18B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FE3E-546B-4D8F-910E-9E4AF506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2064-FE49-444B-8F2C-9DC786AD0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57200" y="76320"/>
            <a:ext cx="82296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457200" y="76320"/>
            <a:ext cx="8048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85840" y="304920"/>
            <a:ext cx="8553240" cy="129528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14360" y="387360"/>
            <a:ext cx="8296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2130480" y="5330880"/>
            <a:ext cx="6864120" cy="1289160"/>
          </a:xfrm>
          <a:prstGeom prst="rect">
            <a:avLst/>
          </a:prstGeom>
          <a:solidFill>
            <a:srgbClr val="cccc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2252520" y="5407200"/>
            <a:ext cx="662004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152280" y="5334120"/>
            <a:ext cx="1930680" cy="1320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9"/>
          <p:cNvSpPr/>
          <p:nvPr/>
        </p:nvSpPr>
        <p:spPr>
          <a:xfrm>
            <a:off x="228600" y="2057400"/>
            <a:ext cx="8763120" cy="2927520"/>
          </a:xfrm>
          <a:prstGeom prst="rect">
            <a:avLst/>
          </a:prstGeom>
          <a:solidFill>
            <a:srgbClr val="ccff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358920" y="2141640"/>
            <a:ext cx="8502480" cy="28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Functions and Graph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nction, domain, independent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ph, increasing/decreasing, even/o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54080" y="3430440"/>
            <a:ext cx="4111560" cy="33498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49120" y="3479760"/>
            <a:ext cx="392112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pendent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dependent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04920" y="152280"/>
            <a:ext cx="8458200" cy="129564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434880" y="160200"/>
            <a:ext cx="81979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ummary of Functional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497480" y="3430440"/>
            <a:ext cx="4492440" cy="33498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592520" y="3479760"/>
            <a:ext cx="430236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al val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plied dom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154080" y="1601640"/>
            <a:ext cx="8835840" cy="17496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249120" y="1650960"/>
            <a:ext cx="864576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ddition to working problems, you should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know and underst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e definitions of  these words and phrase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304920" y="152280"/>
            <a:ext cx="8458200" cy="1447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34880" y="236520"/>
            <a:ext cx="8197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Vertical Line Test for a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54080" y="1754280"/>
            <a:ext cx="8835840" cy="494964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249120" y="1803240"/>
            <a:ext cx="864576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set of points in a coordinate plane is the graph of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 as a function of 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and only if no vertical line intersects the graph at more than one poi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54080" y="1754280"/>
            <a:ext cx="8835840" cy="50259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49120" y="1803240"/>
            <a:ext cx="864576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 the interval containing 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&lt; 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f(x)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creas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f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&lt;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 of f(x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es up to the righ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f(x)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creas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f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&gt;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 of f(x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es down to the righ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 any interval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f(x)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sta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f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 of f(x)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152280"/>
            <a:ext cx="8458200" cy="1447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34880" y="236520"/>
            <a:ext cx="8197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ncreasing, Decreasing, and Constant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77760" y="1297080"/>
            <a:ext cx="8988480" cy="52545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73160" y="1346040"/>
            <a:ext cx="8797680" cy="51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A function given by y = f(x) is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ve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f, for each x in the domain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(-x) = f(x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A function given by y = f(x) is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d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f, for each x in the domain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(-x) = - f(x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152280"/>
            <a:ext cx="8458200" cy="9144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34880" y="236520"/>
            <a:ext cx="8197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ven and Od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54080" y="1830240"/>
            <a:ext cx="8835840" cy="47214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49120" y="1879560"/>
            <a:ext cx="864576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from set A to set B is a rule of correspondence that assigns to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ach element x in set A exactly one element y in set 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is the domai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or set of inputs) of the func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and se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contains rang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or set of outputs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04920" y="152280"/>
            <a:ext cx="8458200" cy="1447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434880" y="236520"/>
            <a:ext cx="8197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152280" y="1523880"/>
            <a:ext cx="8839440" cy="5105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244440" y="1569960"/>
            <a:ext cx="865512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Each element in A (domain) must be matched with an element of B (range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Each element in A is matched to not more than one element in 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Some elements in B may not be matched with any element in 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Two or more elements of A may be matched with the same element of 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152280" y="152280"/>
            <a:ext cx="8839440" cy="11430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282600" y="236520"/>
            <a:ext cx="857880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haracteristics of a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154080" y="1297080"/>
            <a:ext cx="8835840" cy="540684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49120" y="1346040"/>
            <a:ext cx="864576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d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(x) = 3x - 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s “f of x equals three times x subtract 4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nside parenthesis is th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vari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utside parenthesis is th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pende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vari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e function f(x) = 3x - 4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5) = 3(5) - 4 = 15 - 4 = 11,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-2) = 3(-2) - 4 = - 6 - 4 = -10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304920" y="152280"/>
            <a:ext cx="8458200" cy="9907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34880" y="236520"/>
            <a:ext cx="8197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154080" y="1220760"/>
            <a:ext cx="8835840" cy="54831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49120" y="1270080"/>
            <a:ext cx="8645760" cy="53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x) = 2x - 1; otherwise, f(x) =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304920" y="152280"/>
            <a:ext cx="8458200" cy="9907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434880" y="236520"/>
            <a:ext cx="8197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1828800" y="4648320"/>
                <a:ext cx="532764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 </m:t>
                              </m:r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54080" y="1830240"/>
            <a:ext cx="8835840" cy="47214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49120" y="1879560"/>
            <a:ext cx="864576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from set A to set B is a rule of correspondence that assigns to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ach element x in set A exactly one element y in set 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is the domai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or set of inputs) of the func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and se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contains rang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or set of outputs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304920" y="152280"/>
            <a:ext cx="8458200" cy="1447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434880" y="236520"/>
            <a:ext cx="8197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154080" y="1220760"/>
            <a:ext cx="8835840" cy="54831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49120" y="1270080"/>
            <a:ext cx="8645760" cy="53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x) = 2x - 1; otherwise, f(x) =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04920" y="152280"/>
            <a:ext cx="8458200" cy="9907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434880" y="236520"/>
            <a:ext cx="8197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1828800" y="4648320"/>
                <a:ext cx="532764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 </m:t>
                              </m:r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54080" y="1220760"/>
            <a:ext cx="8835840" cy="555948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49120" y="1270080"/>
            <a:ext cx="864576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l number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at yield a real number functional value (in the range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 restrictions to doma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nominat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annot equal zero (0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c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ust be greater than or equal to zero (0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actical problem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y limit dom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04920" y="152280"/>
            <a:ext cx="8458200" cy="9144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434880" y="236520"/>
            <a:ext cx="8197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54080" y="1220760"/>
            <a:ext cx="8835840" cy="555948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49120" y="1270080"/>
            <a:ext cx="864576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l number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at yield a real number functional value (in the range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 restrictions to doma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nominat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annot equal zero (0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c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ust be greater than or equal to zero (0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actical problem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y limit dom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04920" y="152280"/>
            <a:ext cx="8458200" cy="9144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434880" y="236520"/>
            <a:ext cx="8197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2:05:02Z</dcterms:created>
  <dc:creator>DCMOORC</dc:creator>
  <dc:description/>
  <dc:language>en-US</dc:language>
  <cp:lastModifiedBy>LEGION</cp:lastModifiedBy>
  <dcterms:modified xsi:type="dcterms:W3CDTF">2017-07-06T06:34:35Z</dcterms:modified>
  <cp:revision>3</cp:revision>
  <dc:subject/>
  <dc:title>PowerPoint Presentation</dc:title>
</cp:coreProperties>
</file>