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3B6D-304E-42F0-8966-E5065EE5F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unction Transformations Uni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n Algebra 2 Course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 Project Funded by the National Science Foundation,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nd written by Kirk Taylo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Transformations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lgebra 2 Cou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oject Funded by the National Science Found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ritten by Kirk Tay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Practice makes pretty good!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vening Enrichment Opportun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makes pretty 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ing Enrichment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er observa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er Observations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ccuracy of sketch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Verbal feedback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 interaction and peer instruction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Observa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cy of ske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nteraction and peer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n-class demonstration and presentation of student work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Verbal CFU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izzes and tes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lternative Assessmen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.A. Rubr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-class demonstration and presentation of stude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CF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zes an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A. Rub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TU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adratics and Polynomial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ymbolic Language Fluenc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How Does an FTU Fit In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tics and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 Language Fl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n FTU F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anks! It was great!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! It was gr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NCTM Standards and California Content Standards call for all students to have skill in function transforma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ost Algebra 2 curriculums teach it, but not as a cohesive and comprehensive set of principle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t gives students the power and knowledge to transform many types of func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CTM Standards and California Content Standards call for all students to have skill in function trans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lgebra 2 curriculums teach it, but not as a cohesive and comprehensive set of princi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ives students the power and knowledge to transform many type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ransform = Chang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raphs are pictures of relationship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athematics is a symbolic language of relationship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 =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are pictures of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 is a symbolic language of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 the rules of FT as a single comprehensive set of principl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Not add time to the Algebra 2 calenda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Use simple, low-technology and graphing calculators to give students confidence with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the rules of FT as a single comprehensive set of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dd time to the Algebra 2 calend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imple, low-technology and graphing calculators to give students confidence wit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Learning Objectives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increase their fluency with function notat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increase their fluency with function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Other Learning Objectives for the FTU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ore math vocabulary: asymptote, increasing/decreasing function, odd/even function, inflection point, point symmetry, and more.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Better curve-sketching techniqu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stablish foundations for further stud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earning Objectives for the F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math vocabulary: asymptote, increasing/decreasing function, odd/even function, inflection point, point symmetry, and m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curve-sketching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foundations for furthe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Unit Overview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ntroducing the Big 6: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adratic   Sketching Techniqu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Cubic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eneralizing       power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bsolute Value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quare Roo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xponential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Linea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Big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tic   Sketching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izing       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Work collaboratively under well-defined guidelin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ake conclusions and conjectures based on experienc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e Student’s Ro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collaboratively under well-defined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onclusions and conjectures based on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ent’s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et clear rules for collaborat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et time limit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ummarize points of the activity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 students’ understanding and modify lessons as necessary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e Teacher’s Ro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lear rules for collab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ime lim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ze points of the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 students’ understanding and modify lessons as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acher’s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9F2C-ACC2-4E1A-B2CC-7793BA6C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CEF6-385C-4465-8CFE-06AFD304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82B4-0C14-443D-844E-ED34FC1D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6FEB-2F7C-4CEB-A75C-80FF292B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EC0C-F96C-42E6-A08E-066200F8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8F57-F883-48EF-90DC-4E1F727E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555B-457F-47D7-8503-A3E625CA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D193-EFDD-44C9-B909-27D41591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16C6-0A83-41AA-957E-4B6FC921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9722-9595-4989-9185-7E96D14B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A211-67E2-4E6B-A1B3-2A64C02A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D2C-D6A8-4F95-9BD6-99A90CAF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038F-0C36-45EE-815D-6D859C20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5325-7BDC-4ACF-963E-B923B0EB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0191-B531-49E3-A105-820A53AF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B9B1-4562-4CB5-8902-8C57B686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EDA3-7BC1-4870-9630-6DFD7108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66576-B7C8-48D4-8DC7-BF642FD2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A2067-DB31-490E-AC64-61311152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272AD-8709-463F-96D1-D45C92E3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A5CBA-8A09-494A-8DF4-9316E3E4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AE53C-19D3-40CA-BB70-04FDD368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BB6-A248-4C27-B57F-19515D1B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ED164-BE37-47DC-B3D2-7AFBCBAF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3EC00-3CF3-455C-804E-94080ADF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22B99-39CB-4A26-8A11-36837FB9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56E39-1966-4BFF-9D06-AD0CC623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27C9C-9485-4E55-A938-87A68A50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55530-013E-4B4F-B6C9-8393CA6F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83B89-3219-49BA-964F-981A1AC0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526DD-068D-4EC1-965C-823554EA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0861E-E536-489F-B925-1DA759E8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A308A-CCA5-492A-8478-5FBA25BA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90F4-D832-41BF-B367-4B037D5A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F180C-072A-4470-BDED-0D4FFC4E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F591F-0A74-41CA-923D-271C81B4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1AF50-50AA-4EDD-B404-F232254F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C217C-6B41-4DFE-A91A-0829FA76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6161C-EAEE-4A82-908E-0655BFC0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55229-3971-4C77-8588-14ED8BA4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BB36B-9963-4F48-9C37-73A91A30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C2634-D387-4C89-8EE2-6230D0BF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DE60C-94C7-4580-9F2E-0DD13BD8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94203-462B-4251-9A48-597A7213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B782-8262-4E94-A65A-E4792E67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AC8A1-3DE3-4CDC-942D-8C4A3A06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DAEC0-DC21-4FAE-AA9F-0473AF89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61454-2C89-440F-A912-E5E14319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9AE74-D738-4D03-AA93-B5DC748C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95DE6-1C85-4F61-962F-189A50A7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3CBDF-796C-46E6-91FB-B1A236BE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82DA1-7CCF-41F8-83EF-ECAF127E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9E8EA-44C4-4205-A906-22427D2B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16CBC-1DAB-4BD6-97AB-3188EAB4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7601F-FD14-4936-89AB-043D536C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3493-BDA8-4D69-9363-C68180FF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8477A-D2C6-46A4-B5BA-995DCCAC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C933D-AA73-46F4-BD61-6168D44E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BFFD3-AD36-4749-80FE-E87C7E1D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91887-33E8-4C78-B765-0038C6E2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1C508-B279-4D39-AB54-ED8F87ED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6386F-85F6-4734-A08F-6EC68E93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3C1F8-1D67-4F7E-A1C6-1AE89A75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9D861-E42E-4D39-A95D-A7E13F04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47607-8A93-465E-8C43-94ED76E1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80D7A-8BBE-4285-B313-BD394E23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AE3B-143D-4EA4-A2DA-753AC7A6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E0B60-4E0D-43B5-B53D-7C758C83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511C9-BCDA-4131-AA15-03EC0741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6C39C-74DF-4C1F-9087-B9B9EAA5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C6540A-3EEF-4D91-AF35-877195F1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D6B53C-BA51-41D4-BE9D-10DDEEE7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DD5425-7FED-41AF-B99A-37103B08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78BE9E-2657-4E18-8029-6FC95432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49A9B4-943A-46E6-BB1B-AD85AD6A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ACDE84-FF2B-48F7-B2F6-ABAD709E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085FE8-72FD-4EE3-B2B6-3E04B632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5CD2-C2CF-43F1-8959-F614C3DC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CD0FEE-15A6-4B1C-804A-8F409360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09C67F-F095-4FC0-9D17-1A055309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E76B26-DCD2-4659-9FE1-61243652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C98059-4A6B-4D81-95B0-8EE979D9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FBCEC0-B194-4942-9443-323B26F8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16808-D29F-4527-8A82-EBFFC743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4AE7E-FCF8-44D8-84CF-41133E8A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A4121-1B3B-4E2C-8C85-B90B9AE6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68A8D-1FA9-49CC-8368-45B83719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BB514-9FEF-4C07-935A-CDEC34EA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D3EC-06ED-4B43-8703-91891969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2985D-8F16-42C3-B0FF-D5F1C6C7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10181-5706-4F93-B5CF-3058A8C3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68BF7-56C5-42E4-96DB-4ADD69C8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5D8AF-2542-490D-B919-C30BCDBC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D4F75-72C8-4751-BD9B-64C0D036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C5E60-B656-423D-9F28-5A5C8D6C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BB5D0-1AA2-4F89-8408-37BAFF0C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C386-0DA7-427D-91A1-8B8841B8E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D6F1-158B-41BA-B848-228BAEB7B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ACE4-FB6A-44C5-84EF-20F4CE929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F304-57DB-4791-822C-43EF18C97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2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4B40-5BFA-4457-8B8F-BC6F3E0CBF4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8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8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28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28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3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33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4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34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8411-B368-403C-AB5A-63C112476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E4DB-3772-4626-B89B-537365365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3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C273-43E3-46CD-BB86-F826477B7B3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tion Transformations Uni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990720" y="30477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For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An Algebra 2 Course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Project Funded by the National Science Foundation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d written by Kirk Tayl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96" name="Picture 5" descr="Pupfish"/>
          <p:cNvPicPr/>
          <p:nvPr/>
        </p:nvPicPr>
        <p:blipFill>
          <a:blip r:embed="rId1"/>
          <a:stretch/>
        </p:blipFill>
        <p:spPr>
          <a:xfrm>
            <a:off x="1066680" y="1219320"/>
            <a:ext cx="1086120" cy="637920"/>
          </a:xfrm>
          <a:prstGeom prst="rect">
            <a:avLst/>
          </a:prstGeom>
          <a:ln w="0">
            <a:noFill/>
          </a:ln>
        </p:spPr>
      </p:pic>
      <p:sp>
        <p:nvSpPr>
          <p:cNvPr id="4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7495E-006 C 0.02292 -0.01781 0.04584 -0.03539 0.06372 -0.04395 C 0.0816 -0.05251 0.09393 -0.05043 0.10764 -0.05136 C 0.12136 -0.05228 0.13247 -0.05621 0.14618 -0.04974 C 0.1599 -0.04326 0.17344 -0.02822 0.19011 -0.0118 C 0.20677 0.00462 0.2316 0.0384 0.24618 0.04834 C 0.26077 0.05829 0.26459 0.05019 0.27795 0.04834 C 0.29132 0.04649 0.31476 0.04464 0.32639 0.03655 C 0.33802 0.02845 0.34063 0.01018 0.34722 2.07495E-006 C 0.35382 -0.01018 0.35955 -0.0199 0.3658 -0.02498 C 0.37205 -0.03007 0.37882 -0.02984 0.38455 -0.03077 C 0.39028 -0.03169 0.39028 -0.03401 0.4 -0.03077 C 0.40972 -0.02753 0.43316 -0.01573 0.44288 -0.0118 C 0.45261 -0.00787 0.44931 -0.01203 0.45816 -0.0074 C 0.46702 -0.00278 0.48577 0.01203 0.49549 0.01596 C 0.50521 0.01989 0.50938 0.02567 0.5165 0.01596 C 0.52361 0.00624 0.53247 -0.03031 0.53837 -0.04257 C 0.54427 -0.05483 0.5467 -0.05297 0.55157 -0.05714 C 0.55643 -0.0613 0.56233 -0.0657 0.56806 -0.06732 C 0.57379 -0.06894 0.5783 -0.06755 0.58559 -0.06732 C 0.59288 -0.06709 0.60643 -0.06662 0.61198 -0.06593 C 0.61754 -0.06523 0.61754 -0.06338 0.61858 -0.06292 E">
                                      <p:cBhvr>
                                        <p:cTn id="40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c1eb"/>
                </a:solidFill>
                <a:latin typeface="Tahoma"/>
              </a:rPr>
              <a:t>Practice makes pretty good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99"/>
                </a:solidFill>
                <a:latin typeface="Tahoma"/>
              </a:rPr>
              <a:t>Evening Enrichment Opportunitie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3" name="AutoShape 4"/>
          <p:cNvSpPr/>
          <p:nvPr/>
        </p:nvSpPr>
        <p:spPr>
          <a:xfrm rot="21024600">
            <a:off x="1836360" y="2614680"/>
            <a:ext cx="1290600" cy="1092240"/>
          </a:xfrm>
          <a:prstGeom prst="smileyFace">
            <a:avLst>
              <a:gd name="adj" fmla="val 1296"/>
            </a:avLst>
          </a:prstGeom>
          <a:solidFill>
            <a:srgbClr val="00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4" name="AutoShape 5"/>
          <p:cNvSpPr/>
          <p:nvPr/>
        </p:nvSpPr>
        <p:spPr>
          <a:xfrm rot="648000">
            <a:off x="5857920" y="2704680"/>
            <a:ext cx="1295280" cy="1067040"/>
          </a:xfrm>
          <a:prstGeom prst="smileyFace">
            <a:avLst>
              <a:gd name="adj" fmla="val 1370"/>
            </a:avLst>
          </a:prstGeom>
          <a:solidFill>
            <a:srgbClr val="00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c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684920" cy="1193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pperplate Gothic Bold"/>
              </a:rPr>
              <a:t>Assessmen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 observ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ssment To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eacher Observations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cy of ske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 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interaction and peer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ssessment Tool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-class demonstration and presentation of student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 CF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zzes and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Assess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A. Rub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4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1371600" y="4267080"/>
            <a:ext cx="12952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4038480" y="434340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6477120" y="4343400"/>
            <a:ext cx="12952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3733920" y="1447920"/>
            <a:ext cx="15238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3733920" y="40384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58c"/>
                </a:solidFill>
                <a:latin typeface="Albertus Extra Bold"/>
              </a:rPr>
              <a:t>FTU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1371600" y="3886200"/>
            <a:ext cx="129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uadratics and Polynomial Func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6248520" y="39625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ekton"/>
              </a:rPr>
              <a:t>Exponential Func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3733920" y="1600200"/>
            <a:ext cx="167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ITC Avant Garde Gothic"/>
              </a:rPr>
              <a:t>Symbolic Language Fluency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5" name="WordArt 12"/>
          <p:cNvSpPr txBox="1"/>
          <p:nvPr/>
        </p:nvSpPr>
        <p:spPr>
          <a:xfrm>
            <a:off x="1805040" y="2971800"/>
            <a:ext cx="5815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8440">
                  <a:solidFill>
                    <a:srgbClr val="0066ff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How Does an FTU Fit In?</a:t>
            </a:r>
            <a:endParaRPr b="0" lang="en-US" sz="3200" spc="1" strike="noStrike">
              <a:ln w="28440">
                <a:solidFill>
                  <a:srgbClr val="0066ff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5" descr="2076497200030222410lSThCs_ph"/>
          <p:cNvPicPr/>
          <p:nvPr/>
        </p:nvPicPr>
        <p:blipFill>
          <a:blip r:embed="rId1"/>
          <a:srcRect l="14508" t="14381" r="16469" b="18469"/>
          <a:stretch/>
        </p:blipFill>
        <p:spPr>
          <a:xfrm>
            <a:off x="304920" y="1143000"/>
            <a:ext cx="6705360" cy="480060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6"/>
          <p:cNvSpPr/>
          <p:nvPr/>
        </p:nvSpPr>
        <p:spPr>
          <a:xfrm>
            <a:off x="685800" y="3808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ahoma"/>
              </a:rPr>
              <a:t>Thanks! It was great!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6" presetSubtype="16">
                                  <p:stCondLst>
                                    <p:cond delay="8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4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c1eb"/>
                </a:solidFill>
                <a:latin typeface="Tahoma"/>
              </a:rPr>
              <a:t>Why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CTM Standards and California Content Standards call for all students to have skill in function transforma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st Algebra 2 curriculums teach it, but not as a cohesive and comprehensive set of princip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 gives students the power and knowledge to transform many types of func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 rot="21260400">
            <a:off x="0" y="8380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Transform = </a:t>
            </a:r>
            <a:r>
              <a:rPr b="0" lang="en-US" sz="3600" spc="-1" strike="noStrike">
                <a:solidFill>
                  <a:srgbClr val="40458c"/>
                </a:solidFill>
                <a:latin typeface="Snap ITC"/>
              </a:rPr>
              <a:t>Chang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228600" y="19810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raphs are pictures of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03" name="Picture 4" descr="worldpop2050"/>
          <p:cNvPicPr/>
          <p:nvPr/>
        </p:nvPicPr>
        <p:blipFill>
          <a:blip r:embed="rId1"/>
          <a:stretch/>
        </p:blipFill>
        <p:spPr>
          <a:xfrm>
            <a:off x="838080" y="2438280"/>
            <a:ext cx="2667240" cy="23814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daln195l"/>
          <p:cNvPicPr/>
          <p:nvPr/>
        </p:nvPicPr>
        <p:blipFill>
          <a:blip r:embed="rId2"/>
          <a:stretch/>
        </p:blipFill>
        <p:spPr>
          <a:xfrm>
            <a:off x="4952880" y="2362320"/>
            <a:ext cx="2743200" cy="209844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6"/>
          <p:cNvSpPr/>
          <p:nvPr/>
        </p:nvSpPr>
        <p:spPr>
          <a:xfrm>
            <a:off x="533520" y="487692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thematics is a symbolic language of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7"/>
              <p:cNvSpPr txBox="1"/>
              <p:nvPr/>
            </p:nvSpPr>
            <p:spPr>
              <a:xfrm>
                <a:off x="1828800" y="5410080"/>
                <a:ext cx="533412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ach the rules of FT as a single comprehensive set of princip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t add time to the Algebra 2 calend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simple, low-technology and graphing calculators to give students confidence with func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increase their fluency with function no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ther Learning Objectives for the FTU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ore math vocabulary: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asymptote, increasing/decreasing function, odd/even function, inflection point, point symmetry,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nd more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tter curve-sketching techniqu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ablish foundations for further stu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16" name="Group 15"/>
          <p:cNvGrpSpPr/>
          <p:nvPr/>
        </p:nvGrpSpPr>
        <p:grpSpPr>
          <a:xfrm>
            <a:off x="2133720" y="2895480"/>
            <a:ext cx="3885840" cy="1447920"/>
            <a:chOff x="2133720" y="2895480"/>
            <a:chExt cx="3885840" cy="1447920"/>
          </a:xfrm>
        </p:grpSpPr>
        <p:grpSp>
          <p:nvGrpSpPr>
            <p:cNvPr id="517" name="Group 5"/>
            <p:cNvGrpSpPr/>
            <p:nvPr/>
          </p:nvGrpSpPr>
          <p:grpSpPr>
            <a:xfrm>
              <a:off x="2133720" y="2895480"/>
              <a:ext cx="3885840" cy="1389960"/>
              <a:chOff x="2133720" y="2895480"/>
              <a:chExt cx="3885840" cy="1389960"/>
            </a:xfrm>
          </p:grpSpPr>
          <p:sp>
            <p:nvSpPr>
              <p:cNvPr id="518" name="Line 6"/>
              <p:cNvSpPr/>
              <p:nvPr/>
            </p:nvSpPr>
            <p:spPr>
              <a:xfrm>
                <a:off x="2133720" y="3550320"/>
                <a:ext cx="388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19" name="Freeform 7"/>
              <p:cNvSpPr/>
              <p:nvPr/>
            </p:nvSpPr>
            <p:spPr>
              <a:xfrm>
                <a:off x="2448720" y="2895480"/>
                <a:ext cx="3150720" cy="1389960"/>
              </a:xfrm>
              <a:custGeom>
                <a:avLst/>
                <a:gdLst/>
                <a:ahLst/>
                <a:rect l="l" t="t" r="r" b="b"/>
                <a:pathLst>
                  <a:path w="4320" h="2880">
                    <a:moveTo>
                      <a:pt x="0" y="0"/>
                    </a:moveTo>
                    <a:cubicBezTo>
                      <a:pt x="312" y="1272"/>
                      <a:pt x="624" y="2544"/>
                      <a:pt x="1152" y="2592"/>
                    </a:cubicBezTo>
                    <a:cubicBezTo>
                      <a:pt x="1680" y="2640"/>
                      <a:pt x="2640" y="240"/>
                      <a:pt x="3168" y="288"/>
                    </a:cubicBezTo>
                    <a:cubicBezTo>
                      <a:pt x="3696" y="336"/>
                      <a:pt x="4008" y="1608"/>
                      <a:pt x="4320" y="28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0" name="Line 8"/>
              <p:cNvSpPr/>
              <p:nvPr/>
            </p:nvSpPr>
            <p:spPr>
              <a:xfrm>
                <a:off x="2807640" y="4079880"/>
                <a:ext cx="94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1" name="Line 9"/>
              <p:cNvSpPr/>
              <p:nvPr/>
            </p:nvSpPr>
            <p:spPr>
              <a:xfrm>
                <a:off x="4353840" y="3027600"/>
                <a:ext cx="83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2" name="Line 10"/>
              <p:cNvSpPr/>
              <p:nvPr/>
            </p:nvSpPr>
            <p:spPr>
              <a:xfrm flipH="1">
                <a:off x="4233600" y="2904840"/>
                <a:ext cx="808920" cy="30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3" name="Line 11"/>
              <p:cNvSpPr/>
              <p:nvPr/>
            </p:nvSpPr>
            <p:spPr>
              <a:xfrm>
                <a:off x="4528800" y="2904840"/>
                <a:ext cx="71388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4" name="Line 12"/>
              <p:cNvSpPr/>
              <p:nvPr/>
            </p:nvSpPr>
            <p:spPr>
              <a:xfrm>
                <a:off x="2734560" y="3884400"/>
                <a:ext cx="83988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5" name="Line 13"/>
              <p:cNvSpPr/>
              <p:nvPr/>
            </p:nvSpPr>
            <p:spPr>
              <a:xfrm flipV="1">
                <a:off x="2912400" y="3906720"/>
                <a:ext cx="94500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526" name="Line 14"/>
            <p:cNvSpPr/>
            <p:nvPr/>
          </p:nvSpPr>
          <p:spPr>
            <a:xfrm>
              <a:off x="4059000" y="2895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nit Over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Introducing the Big 6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Quadratic   </a:t>
            </a:r>
            <a:r>
              <a:rPr b="1" lang="en-US" sz="2000" spc="-1" strike="noStrike">
                <a:solidFill>
                  <a:srgbClr val="40458c"/>
                </a:solidFill>
                <a:latin typeface="Bradley Hand ITC"/>
              </a:rPr>
              <a:t>Sketching Techniqu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Cubic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Stencil"/>
              </a:rPr>
              <a:t>Generalizing       </a:t>
            </a:r>
            <a:r>
              <a:rPr b="0" lang="en-US" sz="2400" spc="-1" strike="noStrike">
                <a:solidFill>
                  <a:srgbClr val="40458c"/>
                </a:solidFill>
                <a:latin typeface="Impact"/>
              </a:rPr>
              <a:t>power func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Absolute Value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Square Root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Exponential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4"/>
              <p:cNvSpPr txBox="1"/>
              <p:nvPr/>
            </p:nvSpPr>
            <p:spPr>
              <a:xfrm>
                <a:off x="4648320" y="5334120"/>
                <a:ext cx="3809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nctio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tati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175"/>
                            </p:stCondLst>
                            <p:childTnLst>
                              <p:par>
                                <p:cTn id="2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425"/>
                            </p:stCondLst>
                            <p:childTnLst>
                              <p:par>
                                <p:cTn id="2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225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2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2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Guided Inquiry Activ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252252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marL="58320" indent="-5832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Work collaboratively under well-defined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Make conclusions and conjectures based on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1676520" y="1752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tudent’s Ro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Guided Inquiry Activit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et clear rules for collaboratio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et time limi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ummarize points of the activit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ssess students’ understanding and modify lessons as necessar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99072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Teacher’s Ro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39" name="Picture 5" descr="20060704kaisertop"/>
          <p:cNvPicPr/>
          <p:nvPr/>
        </p:nvPicPr>
        <p:blipFill>
          <a:blip r:embed="rId6">
            <a:lum contrast="-42000"/>
          </a:blip>
          <a:stretch/>
        </p:blipFill>
        <p:spPr>
          <a:xfrm>
            <a:off x="4952880" y="1371600"/>
            <a:ext cx="2629080" cy="197172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21:54:05Z</dcterms:created>
  <dc:creator>Ed_user</dc:creator>
  <dc:description/>
  <dc:language>en-US</dc:language>
  <cp:lastModifiedBy>LEGION</cp:lastModifiedBy>
  <dcterms:modified xsi:type="dcterms:W3CDTF">2017-07-06T06:34:21Z</dcterms:modified>
  <cp:revision>17</cp:revision>
  <dc:subject/>
  <dc:title>Function Transformations Unit</dc:title>
</cp:coreProperties>
</file>