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5811-5D88-4A81-B7D9-496731F9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Transformations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lgebra 2 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ject Funded by the National Science Found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ritten by Kirk Tay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makes pretty 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ing Enrichment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of ske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interaction and peer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-class demonstration and presentation of studen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F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zes and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A. Rub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s and Polynom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 Language Fl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n FTU Fit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! It was gr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TM Standards and California Content Standards call for all students to have skill in function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lgebra 2 curriculums teach it, but not as a cohesive and comprehensive set of princi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gives students the power and knowledge to transform many typ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 =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pictures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 is a symbolic language of relat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rules of FT as a single comprehensive set of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dd time to the Algebra 2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imple, low-technology and graphing calculators to give students confidence wi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will increase their fluency with function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Learning Objectives for the F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math vocabulary: asymptote, increasing/decreasing function, odd/even function, inflection point, point symmetry, and mo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curve-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foundations for further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the Big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dratic   Sketching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izing       power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collaboratively under well-defined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onclusions and conjectures based on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d Inquiry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clear rules for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time lim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 points of the acti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 students’ understanding and modify lessons as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acher’s R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63A-561F-43D8-BC27-45911312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65F-D969-45B7-902D-9B466D55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6994-B1E8-4FF6-90F0-6F548CCA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E46-7CF6-4EFD-A839-783B5C96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0D6D-8326-4E9F-8B08-7D98154A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9B483-AD92-449C-85BA-CCDE5507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008-EFFA-45A0-BCC2-5F267908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5601-90A4-4ACF-975F-9AD0F93E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41DB-7269-4EBD-A87C-6E23EC26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3363-B895-4AFF-A19C-CAE1E321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64E6-CF4E-4249-8F50-30307BAB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637-AD01-4DA3-AF31-8D8C3AF6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794F-F44D-494D-A04B-5366C743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C408-DA1C-4DDF-AC83-70634BC8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D7E3-B93B-45F2-A86C-2ACB75DF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AA2-6041-4DC3-93BD-56540ADF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7D4C-8F0D-4FB2-A465-86B5DE22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A82C-B7E6-4123-B01A-69934FC0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EFA1-FC9D-4A57-9D42-749DC6C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12A4-11CD-407A-8C7C-3924231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069F-35C8-41BF-A1CC-4C2B1897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5FB2-1BD2-45CA-A674-DE74A380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935-44E9-48DF-A654-31A5B38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E62C8-B900-4440-920A-DDE9CBA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6616E-9F76-49B3-B643-3701AFE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B9514-20A8-4D97-ABEC-D6F4FEC7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4E27D-D55C-4FD2-8640-46895B2C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543E-4479-4FDB-85EB-4B293E32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D883F-7917-4727-92EC-30C5507E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A781-828E-444D-BD5A-1346A0D7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BC1F-78EA-4A64-8FF3-3FBF1C54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EA499-7DFE-4D20-84F5-A5D10CF3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32540-829B-4BC9-87AD-6623C180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608-3E94-4701-828C-0CE385F3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800B6-C59C-4DC1-B297-A9B5F89C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F2C3-CF1C-403F-9022-2977BA8A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114AA-D84A-4DF7-B666-7A957503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4C7A1-FD7A-4435-9769-8853DE2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939D7-5AFD-4578-A271-30D93554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77C2A-3A2A-49C0-B215-F5EF462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34CD9-5619-4282-9C1E-E1823DE8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3EFFF-13DE-4A97-A4DF-7761BE6A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43F1B-4C1B-44E9-B911-BEF2DEC8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1B10-5595-4CCE-AE4C-68E71FF6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F6E-248E-4EFD-92FF-86CDA152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934DF-6E0D-40B6-A849-294A4276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694F-7460-4D71-BAF7-8CECAA4B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7E439-5BFA-48AC-A8BE-5775513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AF7A5-8666-4CB8-992C-C66B3B0D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08FFE-BBB4-4A00-AF88-DF42065F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CC7F6-D84C-4CC1-9CCA-E4285659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FEE71-210A-4E09-A9A2-E5C04D68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385B1-6AA4-48CC-878C-FCD6CD2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34AC6-2B79-4AC2-9C16-DF8727B3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CFF06-FB95-4DD4-8A9C-1950509B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52E6-06C4-4AB4-A104-1D2255C8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74479-73E8-4332-98B2-6C31EDD36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51AA9-6F01-489A-9A05-ECD793F6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28AD4-D384-42F0-B6B9-D2ACFF82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42A6C-68E2-461F-B494-35F24C9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BFC1-B8E0-4231-A0B2-A8AA6E7F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BF71-A30D-41B9-A3E0-9CF6CDC1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A42F6-D0DC-4279-B2DB-80E2BFA6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0D99B-3F5E-4218-B741-F53F783F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CF34-9D29-435C-81DD-5974531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AE580-C94E-4878-9D23-5B43F3E6B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01E-ADEC-4B89-AD5E-91A8DFF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51735-087E-4B51-944E-68DED2F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EE11-40A6-414C-BA15-8EE987E8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D1004-03E0-47A6-92A0-23AA1CCF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36031-EE3D-433C-92B9-CE73B95E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0FBC4-D03C-413A-9C80-57F02A05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D4DB98-D8C7-496E-8FEE-FA7BFA1B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71C1CA-D6D7-4CE1-89C2-6CEB4182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10DE7-8BD8-4902-B690-650E417E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71BD4F-0838-4BFE-BFE3-57F73327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D1B0E-4B5F-4176-8CBA-2842EDC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C20-21E0-43AE-9939-47386D71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4496D-FB55-4F07-B2AC-459F3296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BC393A-9C10-4DED-8CE0-77D345BF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49BFD4-4FE5-4B78-B2C3-ADEB73CC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3DA4E-C717-4391-B1B9-3ACB46C2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94A1D-0C5E-4D6B-9E48-386E1FBE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F1D13-2592-4846-8343-027EEA25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C9A18-686B-4C2B-A750-CBA9428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E7157-FDE8-4E6A-96FC-452A0CD6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1D783-1227-4B80-ABAA-7441951C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2011-6E50-41C2-B5CF-7302095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BFC-FDF5-4183-A80C-A2FD3794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8E816-C511-4FCB-BB1B-AC242A27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D533C-6290-41FD-8F21-0D2BFC8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B992B-A159-4465-8277-48600D60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4E939-E96C-4ACE-BCFA-C274C98D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D8033-0BDE-4244-B88E-2DF9AD18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007F1-6EE9-4F7F-9BDC-40F28CC0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19E87-9001-4568-9F29-8984DC47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7E9-3835-419D-AE17-B1D84F9D8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B537-E564-48A0-9AD1-DE4BF471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2745-8A0F-48F5-BC65-E1A7980A1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0552-2463-4C4B-B618-45429755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2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3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4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2FE8-1B5D-4B8A-9DB4-B87827F045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8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8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28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28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3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33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34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34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46" name="Arc 66"/>
              <p:cNvSpPr/>
              <p:nvPr/>
            </p:nvSpPr>
            <p:spPr>
              <a:xfrm rot="5400000">
                <a:off x="809064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02D4-D000-4D68-96CB-829146B32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23B-FE14-4AB2-AC30-29375C18D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3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4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125-8DF8-408F-8E80-B631AF95A3D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nction Transformations Uni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90720" y="30477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For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n Algebra 2 Cours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Project Funded by the National Science Foundation,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nd written by Kirk Tay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96" name="Picture 5" descr="Pupfish"/>
          <p:cNvPicPr/>
          <p:nvPr/>
        </p:nvPicPr>
        <p:blipFill>
          <a:blip r:embed="rId1"/>
          <a:stretch/>
        </p:blipFill>
        <p:spPr>
          <a:xfrm>
            <a:off x="1066680" y="1219320"/>
            <a:ext cx="1086120" cy="63792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7495E-006 C 0.02292 -0.01781 0.04584 -0.03539 0.06372 -0.04395 C 0.0816 -0.05251 0.09393 -0.05043 0.10764 -0.05136 C 0.12136 -0.05228 0.13247 -0.05621 0.14618 -0.04974 C 0.1599 -0.04326 0.17344 -0.02822 0.19011 -0.0118 C 0.20677 0.00462 0.2316 0.0384 0.24618 0.04834 C 0.26077 0.05829 0.26459 0.05019 0.27795 0.04834 C 0.29132 0.04649 0.31476 0.04464 0.32639 0.03655 C 0.33802 0.02845 0.34063 0.01018 0.34722 2.07495E-006 C 0.35382 -0.01018 0.35955 -0.0199 0.3658 -0.02498 C 0.37205 -0.03007 0.37882 -0.02984 0.38455 -0.03077 C 0.39028 -0.03169 0.39028 -0.03401 0.4 -0.03077 C 0.40972 -0.02753 0.43316 -0.01573 0.44288 -0.0118 C 0.45261 -0.00787 0.44931 -0.01203 0.45816 -0.0074 C 0.46702 -0.00278 0.48577 0.01203 0.49549 0.01596 C 0.50521 0.01989 0.50938 0.02567 0.5165 0.01596 C 0.52361 0.00624 0.53247 -0.03031 0.53837 -0.04257 C 0.54427 -0.05483 0.5467 -0.05297 0.55157 -0.05714 C 0.55643 -0.0613 0.56233 -0.0657 0.56806 -0.06732 C 0.57379 -0.06894 0.5783 -0.06755 0.58559 -0.06732 C 0.59288 -0.06709 0.60643 -0.06662 0.61198 -0.06593 C 0.61754 -0.06523 0.61754 -0.06338 0.61858 -0.06292 E">
                                      <p:cBhvr>
                                        <p:cTn id="40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Practice makes pretty good!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99"/>
                </a:solidFill>
                <a:latin typeface="Tahoma"/>
              </a:rPr>
              <a:t>Evening Enrichment Opportunitie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AutoShape 4"/>
          <p:cNvSpPr/>
          <p:nvPr/>
        </p:nvSpPr>
        <p:spPr>
          <a:xfrm rot="21024600">
            <a:off x="1836360" y="2614680"/>
            <a:ext cx="1290600" cy="1092240"/>
          </a:xfrm>
          <a:prstGeom prst="smileyFace">
            <a:avLst>
              <a:gd name="adj" fmla="val 1296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4" name="AutoShape 5"/>
          <p:cNvSpPr/>
          <p:nvPr/>
        </p:nvSpPr>
        <p:spPr>
          <a:xfrm rot="648000">
            <a:off x="5857920" y="2704680"/>
            <a:ext cx="1295280" cy="1067040"/>
          </a:xfrm>
          <a:prstGeom prst="smileyFace">
            <a:avLst>
              <a:gd name="adj" fmla="val 1370"/>
            </a:avLst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cc"/>
            </a:gs>
            <a:gs pos="100000">
              <a:srgbClr val="00c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684920" cy="1193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pperplate Gothic Bold"/>
              </a:rPr>
              <a:t>Assessment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 observ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essment T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eacher Observations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cy of ske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interaction and peer i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ssessment Tool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-class demonstration and presentation of student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bal CF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zes and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Assess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A.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4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1371600" y="4267080"/>
            <a:ext cx="129528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Rectangle 5"/>
          <p:cNvSpPr/>
          <p:nvPr/>
        </p:nvSpPr>
        <p:spPr>
          <a:xfrm>
            <a:off x="4038480" y="434340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9" name="Rectangle 6"/>
          <p:cNvSpPr/>
          <p:nvPr/>
        </p:nvSpPr>
        <p:spPr>
          <a:xfrm>
            <a:off x="6477120" y="4343400"/>
            <a:ext cx="12952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733920" y="1447920"/>
            <a:ext cx="15238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Text Box 8"/>
          <p:cNvSpPr/>
          <p:nvPr/>
        </p:nvSpPr>
        <p:spPr>
          <a:xfrm>
            <a:off x="3733920" y="40384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58c"/>
                </a:solidFill>
                <a:latin typeface="Albertus Extra Bold"/>
              </a:rPr>
              <a:t>FTU</a:t>
            </a: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2" name="Text Box 9"/>
          <p:cNvSpPr/>
          <p:nvPr/>
        </p:nvSpPr>
        <p:spPr>
          <a:xfrm>
            <a:off x="1371600" y="3886200"/>
            <a:ext cx="129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Quadratics and Polynomial Func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3" name="Text Box 10"/>
          <p:cNvSpPr/>
          <p:nvPr/>
        </p:nvSpPr>
        <p:spPr>
          <a:xfrm>
            <a:off x="6248520" y="39625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458c"/>
                </a:solidFill>
                <a:latin typeface="Tekton"/>
              </a:rPr>
              <a:t>Exponential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Text Box 11"/>
          <p:cNvSpPr/>
          <p:nvPr/>
        </p:nvSpPr>
        <p:spPr>
          <a:xfrm>
            <a:off x="3733920" y="1600200"/>
            <a:ext cx="167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ITC Avant Garde Gothic"/>
              </a:rPr>
              <a:t>Symbolic Language Fluency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5" name="WordArt 12"/>
          <p:cNvSpPr txBox="1"/>
          <p:nvPr/>
        </p:nvSpPr>
        <p:spPr>
          <a:xfrm>
            <a:off x="1805040" y="2971800"/>
            <a:ext cx="5815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28440">
                  <a:solidFill>
                    <a:srgbClr val="0066ff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How Does an FTU Fit In?</a:t>
            </a:r>
            <a:endParaRPr b="0" lang="en-US" sz="3200" spc="1" strike="noStrike">
              <a:ln w="28440">
                <a:solidFill>
                  <a:srgbClr val="0066ff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2076497200030222410lSThCs_ph"/>
          <p:cNvPicPr/>
          <p:nvPr/>
        </p:nvPicPr>
        <p:blipFill>
          <a:blip r:embed="rId1"/>
          <a:srcRect l="14508" t="14381" r="16469" b="18469"/>
          <a:stretch/>
        </p:blipFill>
        <p:spPr>
          <a:xfrm>
            <a:off x="304920" y="1143000"/>
            <a:ext cx="6705360" cy="48006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6"/>
          <p:cNvSpPr/>
          <p:nvPr/>
        </p:nvSpPr>
        <p:spPr>
          <a:xfrm>
            <a:off x="685800" y="380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Tahoma"/>
              </a:rPr>
              <a:t>Thanks! It was great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6" presetSubtype="16">
                                  <p:stCondLst>
                                    <p:cond delay="8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4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c1eb"/>
                </a:solidFill>
                <a:latin typeface="Tahoma"/>
              </a:rPr>
              <a:t>Why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CTM Standards and California Content Standards call for all students to have skill in function transforma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st Algebra 2 curriculums teach it, but not as a cohesive and comprehensive set of principl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t gives students the power and knowledge to transform many types of function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 rot="21260400">
            <a:off x="0" y="838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Transform = </a:t>
            </a:r>
            <a:r>
              <a:rPr b="0" lang="en-US" sz="3600" spc="-1" strike="noStrike">
                <a:solidFill>
                  <a:srgbClr val="40458c"/>
                </a:solidFill>
                <a:latin typeface="Snap ITC"/>
              </a:rPr>
              <a:t>Change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228600" y="198108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raphs are pictures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03" name="Picture 4" descr="worldpop2050"/>
          <p:cNvPicPr/>
          <p:nvPr/>
        </p:nvPicPr>
        <p:blipFill>
          <a:blip r:embed="rId1"/>
          <a:stretch/>
        </p:blipFill>
        <p:spPr>
          <a:xfrm>
            <a:off x="838080" y="2438280"/>
            <a:ext cx="2667240" cy="238140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daln195l"/>
          <p:cNvPicPr/>
          <p:nvPr/>
        </p:nvPicPr>
        <p:blipFill>
          <a:blip r:embed="rId2"/>
          <a:stretch/>
        </p:blipFill>
        <p:spPr>
          <a:xfrm>
            <a:off x="4952880" y="2362320"/>
            <a:ext cx="2743200" cy="209844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6"/>
          <p:cNvSpPr/>
          <p:nvPr/>
        </p:nvSpPr>
        <p:spPr>
          <a:xfrm>
            <a:off x="533520" y="4876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hematics is a symbolic language of relationship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7"/>
              <p:cNvSpPr txBox="1"/>
              <p:nvPr/>
            </p:nvSpPr>
            <p:spPr>
              <a:xfrm>
                <a:off x="1828800" y="5410080"/>
                <a:ext cx="533412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ahoma"/>
              </a:rPr>
              <a:t>Goa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each the rules of FT as a single comprehensive set of princip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t add time to the Algebra 2 calend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se simple, low-technology and graphing calculators to give students confidence with func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earning 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tudents will learn to recognize by shape a group of six function families: Quadratic, Cubic, Absolute Value, Square Root, Exponential and Linear, and to learn the name of a ‘locator point’ for each famil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will learn the rules for function transformation, and be able to apply them to all six function families. They will be able to make accurate sketches of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be able to correctly identify to what degree functions have been translated, reflected, and/or stretched/compres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ents will increase their fluency with function no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 Learning Objectives for the FTU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ore math vocabulary: </a:t>
            </a: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asymptote, increasing/decreasing function, odd/even function, inflection point, point symmetry,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and more.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etter curve-sketching techniqu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 foundations for further stu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16" name="Group 15"/>
          <p:cNvGrpSpPr/>
          <p:nvPr/>
        </p:nvGrpSpPr>
        <p:grpSpPr>
          <a:xfrm>
            <a:off x="2133720" y="2895480"/>
            <a:ext cx="3885840" cy="1447920"/>
            <a:chOff x="2133720" y="2895480"/>
            <a:chExt cx="3885840" cy="1447920"/>
          </a:xfrm>
        </p:grpSpPr>
        <p:grpSp>
          <p:nvGrpSpPr>
            <p:cNvPr id="517" name="Group 5"/>
            <p:cNvGrpSpPr/>
            <p:nvPr/>
          </p:nvGrpSpPr>
          <p:grpSpPr>
            <a:xfrm>
              <a:off x="2133720" y="2895480"/>
              <a:ext cx="3885840" cy="1389960"/>
              <a:chOff x="2133720" y="2895480"/>
              <a:chExt cx="3885840" cy="1389960"/>
            </a:xfrm>
          </p:grpSpPr>
          <p:sp>
            <p:nvSpPr>
              <p:cNvPr id="518" name="Line 6"/>
              <p:cNvSpPr/>
              <p:nvPr/>
            </p:nvSpPr>
            <p:spPr>
              <a:xfrm>
                <a:off x="2133720" y="3550320"/>
                <a:ext cx="388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2448720" y="2895480"/>
                <a:ext cx="3150720" cy="1389960"/>
              </a:xfrm>
              <a:custGeom>
                <a:avLst/>
                <a:gdLst/>
                <a:ahLst/>
                <a:rect l="l" t="t" r="r" b="b"/>
                <a:pathLst>
                  <a:path w="4320" h="2880">
                    <a:moveTo>
                      <a:pt x="0" y="0"/>
                    </a:moveTo>
                    <a:cubicBezTo>
                      <a:pt x="312" y="1272"/>
                      <a:pt x="624" y="2544"/>
                      <a:pt x="1152" y="2592"/>
                    </a:cubicBezTo>
                    <a:cubicBezTo>
                      <a:pt x="1680" y="2640"/>
                      <a:pt x="2640" y="240"/>
                      <a:pt x="3168" y="288"/>
                    </a:cubicBezTo>
                    <a:cubicBezTo>
                      <a:pt x="3696" y="336"/>
                      <a:pt x="4008" y="1608"/>
                      <a:pt x="4320" y="28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0" name="Line 8"/>
              <p:cNvSpPr/>
              <p:nvPr/>
            </p:nvSpPr>
            <p:spPr>
              <a:xfrm>
                <a:off x="2807640" y="4079880"/>
                <a:ext cx="94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1" name="Line 9"/>
              <p:cNvSpPr/>
              <p:nvPr/>
            </p:nvSpPr>
            <p:spPr>
              <a:xfrm>
                <a:off x="4353840" y="3027600"/>
                <a:ext cx="83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2" name="Line 10"/>
              <p:cNvSpPr/>
              <p:nvPr/>
            </p:nvSpPr>
            <p:spPr>
              <a:xfrm flipH="1">
                <a:off x="4233600" y="2904840"/>
                <a:ext cx="808920" cy="30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3" name="Line 11"/>
              <p:cNvSpPr/>
              <p:nvPr/>
            </p:nvSpPr>
            <p:spPr>
              <a:xfrm>
                <a:off x="4528800" y="2904840"/>
                <a:ext cx="713880" cy="31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4" name="Line 12"/>
              <p:cNvSpPr/>
              <p:nvPr/>
            </p:nvSpPr>
            <p:spPr>
              <a:xfrm>
                <a:off x="2734560" y="3884400"/>
                <a:ext cx="83988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25" name="Line 13"/>
              <p:cNvSpPr/>
              <p:nvPr/>
            </p:nvSpPr>
            <p:spPr>
              <a:xfrm flipV="1">
                <a:off x="2912400" y="3906720"/>
                <a:ext cx="9450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526" name="Line 14"/>
            <p:cNvSpPr/>
            <p:nvPr/>
          </p:nvSpPr>
          <p:spPr>
            <a:xfrm>
              <a:off x="4059000" y="2895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t Over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Introducing the Big 6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Quadratic   </a:t>
            </a:r>
            <a:r>
              <a:rPr b="1" lang="en-US" sz="2000" spc="-1" strike="noStrike">
                <a:solidFill>
                  <a:srgbClr val="40458c"/>
                </a:solidFill>
                <a:latin typeface="Bradley Hand ITC"/>
              </a:rPr>
              <a:t>Sketching Techniqu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ubic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Stencil"/>
              </a:rPr>
              <a:t>Generalizing       </a:t>
            </a:r>
            <a:r>
              <a:rPr b="0" lang="en-US" sz="2400" spc="-1" strike="noStrike">
                <a:solidFill>
                  <a:srgbClr val="40458c"/>
                </a:solidFill>
                <a:latin typeface="Impact"/>
              </a:rPr>
              <a:t>power functio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Absolute Value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Square Roo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Exponential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56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Linear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4"/>
              <p:cNvSpPr txBox="1"/>
              <p:nvPr/>
            </p:nvSpPr>
            <p:spPr>
              <a:xfrm>
                <a:off x="4648320" y="5334120"/>
                <a:ext cx="3809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unctio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t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425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225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2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Guided Inquiry Activ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252252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Work collaboratively under well-defined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-5832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Make conclusions and conjectures based on exper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676520" y="17524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Student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Guided Inquiry Activit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clear rules for collabora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et time limi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ummarize points of the activit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Assess students’ understanding and modify lessons as necessar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90720" y="167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e Teacher’s Ro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39" name="Picture 5" descr="20060704kaisertop"/>
          <p:cNvPicPr/>
          <p:nvPr/>
        </p:nvPicPr>
        <p:blipFill>
          <a:blip r:embed="rId6">
            <a:lum contrast="-42000"/>
          </a:blip>
          <a:stretch/>
        </p:blipFill>
        <p:spPr>
          <a:xfrm>
            <a:off x="4952880" y="1371600"/>
            <a:ext cx="2629080" cy="19717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2T21:54:05Z</dcterms:created>
  <dc:creator>Ed_user</dc:creator>
  <dc:description/>
  <dc:language>en-US</dc:language>
  <cp:lastModifiedBy>LEGION</cp:lastModifiedBy>
  <dcterms:modified xsi:type="dcterms:W3CDTF">2017-07-06T06:34:21Z</dcterms:modified>
  <cp:revision>17</cp:revision>
  <dc:subject/>
  <dc:title>Function Transformations Unit</dc:title>
</cp:coreProperties>
</file>