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496F-80E7-45C0-A232-7247F0471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Function Transformations Uni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For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n Algebra 2 Course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 Project Funded by the National Science Foundation,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nd written by Kirk Taylor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Transformations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lgebra 2 Cour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oject Funded by the National Science Founda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ritten by Kirk Tay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Practice makes pretty good!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Evening Enrichment Opportuniti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makes pretty 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ing Enrichment Opportun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ssessmen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eacher observation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ssessment Tool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observ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eacher Observations</a:t>
            </a: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ccuracy of sketch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Verbal feedback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tudent interaction and peer instruction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Observa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uracy of sket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al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interaction and peer i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ssessment Tool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In-class demonstration and presentation of student work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Verbal CFU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Quizzes and test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lternative Assessment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.A. Rubric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-class demonstration and presentation of student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al CF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zes and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ive Assess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A. Rub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FTU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Quadratics and Polynomial Function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Exponential Function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ymbolic Language Fluency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How Does an FTU Fit In?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dratics and Polynom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c Language Fl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n FTU Fit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hanks! It was great!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! It was grea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NCTM Standards and California Content Standards call for all students to have skill in function transformation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Most Algebra 2 curriculums teach it, but not as a cohesive and comprehensive set of principle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It gives students the power and knowledge to transform many types of function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CTM Standards and California Content Standards call for all students to have skill in function transform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lgebra 2 curriculums teach it, but not as a cohesive and comprehensive set of princi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ives students the power and knowledge to transform many type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ransform = Chang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Graphs are pictures of relationship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Mathematics is a symbolic language of relationship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 =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are pictures of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s is a symbolic language of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Goal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each the rules of FT as a single comprehensive set of principl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Not add time to the Algebra 2 calendar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Use simple, low-technology and graphing calculators to give students confidence with function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the rules of FT as a single comprehensive set of princ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dd time to the Algebra 2 calend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imple, low-technology and graphing calculators to give students confidence with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Learning Objectives</a:t>
            </a: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tudents will learn to recognize by shape a group of six function families: Quadratic, Cubic, Absolute Value, Square Root, Exponential and Linear, and to learn the name of a ‘locator point’ for each family. 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tudents will learn the rules for function transformation, and be able to apply them to all six function families. They will be able to make accurate sketches of function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tudents will be able to correctly identify to what degree functions have been translated, reflected, and/or stretched/compressed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tudents will increase their fluency with function notation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ill learn to recognize by shape a group of six function families: Quadratic, Cubic, Absolute Value, Square Root, Exponential and Linear, and to learn the name of a ‘locator point’ for each famil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ill learn the rules for function transformation, and be able to apply them to all six function families. They will be able to make accurate sketche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ill be able to correctly identify to what degree functions have been translated, reflected, and/or stretched/compres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ill increase their fluency with function n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Other Learning Objectives for the FTU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More math vocabulary: asymptote, increasing/decreasing function, odd/even function, inflection point, point symmetry, and more.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Better curve-sketching techniqu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Establish foundations for further study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Learning Objectives for the F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math vocabulary: asymptote, increasing/decreasing function, odd/even function, inflection point, point symmetry, and mo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 curve-sketching techn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 foundations for further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Unit Overview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Introducing the Big 6: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Quadratic   Sketching Techniqu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Cubic</a:t>
            </a: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Generalizing       power function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bsolute Value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quare Roo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Exponential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Linear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the Big 6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dratic   Sketching Techn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izing       power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Val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Guided Inquiry Activiti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Work collaboratively under well-defined guidelin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Make conclusions and conjectures based on experienc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he Student’s Rol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d Inquiry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collaboratively under well-defined guide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conclusions and conjectures based on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udent’s R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Guided Inquiry Activiti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et clear rules for collaboration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et time limit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ummarize points of the activity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ssess students’ understanding and modify lessons as necessary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he Teacher’s Rol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d Inquiry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clear rules for collab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time lim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ize points of the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 students’ understanding and modify lessons as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acher’s R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5816-38DA-40FD-AB40-9908DC230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8543-39EF-4656-9CF5-8B9A97A5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16F5-13E8-46DD-A39F-3C3A741AF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22CD-0455-4234-88A1-D273B6A1A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E7BB-5162-4F05-AE35-57EDA102E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17D4-50C9-4103-A54D-FE0B40D6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F6C0-4958-48EC-BC64-AA289A19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3D82-F2E2-4971-AE75-9B782872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2FCD-C835-42E8-A976-D89AAFE7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31E0-AF54-457E-9749-7598975B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7DC7-D000-42F6-A60F-57F520A8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FD2F-5744-4483-954C-5ABACECE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2D35-6904-40BB-B2D3-BC33B0FD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85F7-0064-4F2E-8286-63358080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32E1-C2C5-4FA1-8EB1-BD4CBF00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694B-2348-4CEF-8D10-63F0505AF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8524-D31D-4B40-B1D8-7B81746D0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C625F-0E75-4864-A70E-B14ACA216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CDC47-0A35-408E-978A-489562B4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5ADE0-38D5-4C79-8C5D-CC1AFEC3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2A0DF-D111-438A-9C64-079DBEE7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4BE84-51FE-4705-9026-6C1AC834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9273-E85B-46BC-A91A-73C7E3A1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D6393-6BDF-438C-825C-9F68C42F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5EECA-6AD9-4F04-81E7-AE569E31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DC2CA-1D39-4204-8CB8-9EBB9CE7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0031D-6860-4F59-8D8D-65E41087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81CEF-A7AA-4238-B8C9-28C28F45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77426-AA51-4C2F-A847-C5739886B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E1082-32CF-448A-8F46-DF1B76A1A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0DBEE-D13B-4AB6-9881-4DE40826D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5AC87-6424-414F-948D-E3AA5AC8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334C1-B4C0-47A2-96AF-2E8B07D9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47C3-1EE3-4E3D-A2CB-A0F2E08B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17639-913D-4240-B5CC-CF3F0763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F6034-04FD-458E-B23A-5C1D8199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03DAF-E6D9-4C73-A940-ED5172F6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9BFEE-AED3-4BC4-A9FD-C237A6B7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5F96F-B595-468C-AA23-866E0084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8EC95-115E-4683-8A24-047BA0EF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ED6A7-9483-49CD-B1D8-77BAB25D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B8DF9-7075-48E3-B5C7-51A5AD00C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A38B2-8205-4517-983C-CF679A956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AED37-8F24-4D0A-967B-B9556746D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99EE-3972-4EB2-AAB5-D0533BA4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24221-D542-4718-9C42-F3735535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A4065-5212-4A9E-8B35-CF8693B6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FA009-1C43-4E26-B484-C133BE09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56AF1-00F0-4AAD-94FE-29316C92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D8045-B4E7-41A7-8BDC-9A6A4F2A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2BAD5-AA78-4FBD-9DDC-67EF97AD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2E2D3-D4CF-473C-AD57-F0C7C690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439A6-65B5-4D6A-A0F8-001469DD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C1DED-9A6E-4D6A-8715-02E5868D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BC98D-C6C3-45CB-B03B-4CC74802F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EA1B-56D7-443A-A8F3-BE422871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C5302-8102-4411-8F9B-06217C94E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34BA7-71F9-4C2E-BB63-1ADCCA9E7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D5ECF-46F8-4883-9724-35814C41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43A80-67CC-45AB-8EC5-2B678275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67033-C11A-4B3F-964C-58337242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8AF56-4E72-43EE-B6E7-15CDA429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F3E50-F363-48A9-A06B-5E538CFC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F955D-3465-4893-BBF1-F8AADD91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C887B-EE14-4FB6-9007-BBE9426C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56FF7-4B54-4E96-8581-16787A7D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87E8-88EF-4498-8691-8B9805CB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E9149-6A1E-4832-BC1C-DF44C40C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E9342-3898-44A2-8B56-39DE3B684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BA696-F07A-4A67-BC46-C4376F0EE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5A783C-DAD5-4861-AB33-2B944ECC5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86F779-6309-4148-94A3-0EF5EE3C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09C154-571F-40C0-9FDB-AD1E22A8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B03E3D-DAEE-4CFA-9754-C525B43E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C70B63-D7D9-4A5C-99B6-8343FBED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2FB6D7-FA04-46C2-9B66-EDBBC581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F214A4-5299-4251-A6CF-B5981258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C992-FEA7-4DB1-9CF9-D28487BC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895159-F1B3-4ABC-B665-CFEC1935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C32221-FC5B-4360-A864-31AF5F5E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B47FC9-9425-446C-B5A8-24C78C05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1EDD27-2C7B-49B4-AE0A-0D240C099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E075F2-6B93-4EA4-A89B-EA5C5FB2C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E05FB-DEE2-48D6-9932-4D9A423E4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1AEF4-5A8D-4991-98BD-A85128E1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4D272-2140-4AAC-AD81-A8A6EA1B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F4C9E-6389-453F-901B-5BFAFD7D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7702F-5303-4B69-96F7-77731895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F34E-E048-4C36-AB8D-AF0AE04F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2FE17-4CBB-43D9-8985-FBDF361D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A095F-D42C-415B-A428-5F5C9B77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14B26-A76A-4E23-81B8-B1A9EB5C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3E4CA-8FBF-4035-BBB5-2E2F30F3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EC7C0-7642-4777-A112-0D8C118D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BA176-B5D6-4584-8E12-293D61AFF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00CE0-7A27-447D-B1FB-E93EEE730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97F2-F0B4-4EA2-90F7-0DE57B8E6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FE6A-DF4E-46B1-9B38-908976D18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F54D-DE97-461A-BEF7-7840A06CA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218D-D588-46F6-B3AF-609BFD268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26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7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8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9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0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1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2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3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4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5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6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7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8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9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0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57D7-77FC-4A67-9164-67816A562F7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8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8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28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28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3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33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33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34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34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3354-E973-4AFA-B3BB-A0BF0E572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4220-616A-4587-A33E-6E90E5E4B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3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1A9B-8C06-4E64-A48B-26A3127D7B3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nction Transformations Uni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990720" y="30477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For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An Algebra 2 Course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 Project Funded by the National Science Foundation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nd written by Kirk Tayl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96" name="Picture 5" descr="Pupfish"/>
          <p:cNvPicPr/>
          <p:nvPr/>
        </p:nvPicPr>
        <p:blipFill>
          <a:blip r:embed="rId1"/>
          <a:stretch/>
        </p:blipFill>
        <p:spPr>
          <a:xfrm>
            <a:off x="1066680" y="1219320"/>
            <a:ext cx="1086120" cy="637920"/>
          </a:xfrm>
          <a:prstGeom prst="rect">
            <a:avLst/>
          </a:prstGeom>
          <a:ln w="0">
            <a:noFill/>
          </a:ln>
        </p:spPr>
      </p:pic>
      <p:sp>
        <p:nvSpPr>
          <p:cNvPr id="4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07495E-006 C 0.02292 -0.01781 0.04584 -0.03539 0.06372 -0.04395 C 0.0816 -0.05251 0.09393 -0.05043 0.10764 -0.05136 C 0.12136 -0.05228 0.13247 -0.05621 0.14618 -0.04974 C 0.1599 -0.04326 0.17344 -0.02822 0.19011 -0.0118 C 0.20677 0.00462 0.2316 0.0384 0.24618 0.04834 C 0.26077 0.05829 0.26459 0.05019 0.27795 0.04834 C 0.29132 0.04649 0.31476 0.04464 0.32639 0.03655 C 0.33802 0.02845 0.34063 0.01018 0.34722 2.07495E-006 C 0.35382 -0.01018 0.35955 -0.0199 0.3658 -0.02498 C 0.37205 -0.03007 0.37882 -0.02984 0.38455 -0.03077 C 0.39028 -0.03169 0.39028 -0.03401 0.4 -0.03077 C 0.40972 -0.02753 0.43316 -0.01573 0.44288 -0.0118 C 0.45261 -0.00787 0.44931 -0.01203 0.45816 -0.0074 C 0.46702 -0.00278 0.48577 0.01203 0.49549 0.01596 C 0.50521 0.01989 0.50938 0.02567 0.5165 0.01596 C 0.52361 0.00624 0.53247 -0.03031 0.53837 -0.04257 C 0.54427 -0.05483 0.5467 -0.05297 0.55157 -0.05714 C 0.55643 -0.0613 0.56233 -0.0657 0.56806 -0.06732 C 0.57379 -0.06894 0.5783 -0.06755 0.58559 -0.06732 C 0.59288 -0.06709 0.60643 -0.06662 0.61198 -0.06593 C 0.61754 -0.06523 0.61754 -0.06338 0.61858 -0.06292 E">
                                      <p:cBhvr>
                                        <p:cTn id="40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c1eb"/>
                </a:solidFill>
                <a:latin typeface="Tahoma"/>
              </a:rPr>
              <a:t>Practice makes pretty good!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99"/>
                </a:solidFill>
                <a:latin typeface="Tahoma"/>
              </a:rPr>
              <a:t>Evening Enrichment Opportunities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3" name="AutoShape 4"/>
          <p:cNvSpPr/>
          <p:nvPr/>
        </p:nvSpPr>
        <p:spPr>
          <a:xfrm rot="21024600">
            <a:off x="1836360" y="2614680"/>
            <a:ext cx="1290600" cy="1092240"/>
          </a:xfrm>
          <a:prstGeom prst="smileyFace">
            <a:avLst>
              <a:gd name="adj" fmla="val 1296"/>
            </a:avLst>
          </a:prstGeom>
          <a:solidFill>
            <a:srgbClr val="00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4" name="AutoShape 5"/>
          <p:cNvSpPr/>
          <p:nvPr/>
        </p:nvSpPr>
        <p:spPr>
          <a:xfrm rot="648000">
            <a:off x="5857920" y="2704680"/>
            <a:ext cx="1295280" cy="1067040"/>
          </a:xfrm>
          <a:prstGeom prst="smileyFace">
            <a:avLst>
              <a:gd name="adj" fmla="val 1370"/>
            </a:avLst>
          </a:prstGeom>
          <a:solidFill>
            <a:srgbClr val="00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c6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684920" cy="11937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pperplate Gothic Bold"/>
              </a:rPr>
              <a:t>Assessmen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acher observ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essment Too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eacher Observations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racy of sket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bal feed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 interaction and peer i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ssessment Tool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-class demonstration and presentation of student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bal CF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zzes and t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ve Assess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A. Rubr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4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3" dur="2000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"/>
          <p:cNvSpPr/>
          <p:nvPr/>
        </p:nvSpPr>
        <p:spPr>
          <a:xfrm>
            <a:off x="1371600" y="4267080"/>
            <a:ext cx="129528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8" name="Rectangle 5"/>
          <p:cNvSpPr/>
          <p:nvPr/>
        </p:nvSpPr>
        <p:spPr>
          <a:xfrm>
            <a:off x="4038480" y="4343400"/>
            <a:ext cx="10670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9" name="Rectangle 6"/>
          <p:cNvSpPr/>
          <p:nvPr/>
        </p:nvSpPr>
        <p:spPr>
          <a:xfrm>
            <a:off x="6477120" y="4343400"/>
            <a:ext cx="12952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3733920" y="1447920"/>
            <a:ext cx="15238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1" name="Text Box 8"/>
          <p:cNvSpPr/>
          <p:nvPr/>
        </p:nvSpPr>
        <p:spPr>
          <a:xfrm>
            <a:off x="3733920" y="403848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0458c"/>
                </a:solidFill>
                <a:latin typeface="Albertus Extra Bold"/>
              </a:rPr>
              <a:t>FTU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2" name="Text Box 9"/>
          <p:cNvSpPr/>
          <p:nvPr/>
        </p:nvSpPr>
        <p:spPr>
          <a:xfrm>
            <a:off x="1371600" y="3886200"/>
            <a:ext cx="129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Quadratics and Polynomial Function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3" name="Text Box 10"/>
          <p:cNvSpPr/>
          <p:nvPr/>
        </p:nvSpPr>
        <p:spPr>
          <a:xfrm>
            <a:off x="6248520" y="39625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ekton"/>
              </a:rPr>
              <a:t>Exponential Functi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4" name="Text Box 11"/>
          <p:cNvSpPr/>
          <p:nvPr/>
        </p:nvSpPr>
        <p:spPr>
          <a:xfrm>
            <a:off x="3733920" y="1600200"/>
            <a:ext cx="167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ITC Avant Garde Gothic"/>
              </a:rPr>
              <a:t>Symbolic Language Fluency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5" name="WordArt 12"/>
          <p:cNvSpPr txBox="1"/>
          <p:nvPr/>
        </p:nvSpPr>
        <p:spPr>
          <a:xfrm>
            <a:off x="1805040" y="2971800"/>
            <a:ext cx="5815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28440">
                  <a:solidFill>
                    <a:srgbClr val="0066ff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How Does an FTU Fit In?</a:t>
            </a:r>
            <a:endParaRPr b="0" lang="en-US" sz="3200" spc="1" strike="noStrike">
              <a:ln w="28440">
                <a:solidFill>
                  <a:srgbClr val="0066ff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5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5" descr="2076497200030222410lSThCs_ph"/>
          <p:cNvPicPr/>
          <p:nvPr/>
        </p:nvPicPr>
        <p:blipFill>
          <a:blip r:embed="rId1"/>
          <a:srcRect l="14508" t="14381" r="16469" b="18469"/>
          <a:stretch/>
        </p:blipFill>
        <p:spPr>
          <a:xfrm>
            <a:off x="304920" y="1143000"/>
            <a:ext cx="6705360" cy="480060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6"/>
          <p:cNvSpPr/>
          <p:nvPr/>
        </p:nvSpPr>
        <p:spPr>
          <a:xfrm>
            <a:off x="685800" y="38088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ahoma"/>
              </a:rPr>
              <a:t>Thanks! It was great!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6" presetSubtype="16">
                                  <p:stCondLst>
                                    <p:cond delay="8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41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c1eb"/>
                </a:solidFill>
                <a:latin typeface="Tahoma"/>
              </a:rPr>
              <a:t>Why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CTM Standards and California Content Standards call for all students to have skill in function transformation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ost Algebra 2 curriculums teach it, but not as a cohesive and comprehensive set of princip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t gives students the power and knowledge to transform many types of function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 rot="21260400">
            <a:off x="0" y="8380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Transform = </a:t>
            </a:r>
            <a:r>
              <a:rPr b="0" lang="en-US" sz="3600" spc="-1" strike="noStrike">
                <a:solidFill>
                  <a:srgbClr val="40458c"/>
                </a:solidFill>
                <a:latin typeface="Snap ITC"/>
              </a:rPr>
              <a:t>Change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2" name="Text Box 3"/>
          <p:cNvSpPr/>
          <p:nvPr/>
        </p:nvSpPr>
        <p:spPr>
          <a:xfrm>
            <a:off x="228600" y="198108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raphs are pictures of relationship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03" name="Picture 4" descr="worldpop2050"/>
          <p:cNvPicPr/>
          <p:nvPr/>
        </p:nvPicPr>
        <p:blipFill>
          <a:blip r:embed="rId1"/>
          <a:stretch/>
        </p:blipFill>
        <p:spPr>
          <a:xfrm>
            <a:off x="838080" y="2438280"/>
            <a:ext cx="2667240" cy="238140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5" descr="daln195l"/>
          <p:cNvPicPr/>
          <p:nvPr/>
        </p:nvPicPr>
        <p:blipFill>
          <a:blip r:embed="rId2"/>
          <a:stretch/>
        </p:blipFill>
        <p:spPr>
          <a:xfrm>
            <a:off x="4952880" y="2362320"/>
            <a:ext cx="2743200" cy="209844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6"/>
          <p:cNvSpPr/>
          <p:nvPr/>
        </p:nvSpPr>
        <p:spPr>
          <a:xfrm>
            <a:off x="533520" y="487692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thematics is a symbolic language of relationship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Object 7"/>
              <p:cNvSpPr txBox="1"/>
              <p:nvPr/>
            </p:nvSpPr>
            <p:spPr>
              <a:xfrm>
                <a:off x="1828800" y="5410080"/>
                <a:ext cx="5334120" cy="6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ahoma"/>
              </a:rPr>
              <a:t>Goa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each the rules of FT as a single comprehensive set of princip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t add time to the Algebra 2 calenda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 simple, low-technology and graphing calculators to give students confidence with func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tudents will learn to recognize by shape a group of six function families: Quadratic, Cubic, Absolute Value, Square Root, Exponential and Linear, and to learn the name of a ‘locator point’ for each famil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will learn the rules for function transformation, and be able to apply them to all six function families. They will be able to make accurate sketches of fun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ents will be able to correctly identify to what degree functions have been translated, reflected, and/or stretched/compres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ents will increase their fluency with function no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Other Learning Objectives for the FTU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ore math vocabulary: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asymptote, increasing/decreasing function, odd/even function, inflection point, point symmetry,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and more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etter curve-sketching techniqu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tablish foundations for further stud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16" name="Group 15"/>
          <p:cNvGrpSpPr/>
          <p:nvPr/>
        </p:nvGrpSpPr>
        <p:grpSpPr>
          <a:xfrm>
            <a:off x="2133720" y="2895480"/>
            <a:ext cx="3885840" cy="1447920"/>
            <a:chOff x="2133720" y="2895480"/>
            <a:chExt cx="3885840" cy="1447920"/>
          </a:xfrm>
        </p:grpSpPr>
        <p:grpSp>
          <p:nvGrpSpPr>
            <p:cNvPr id="517" name="Group 5"/>
            <p:cNvGrpSpPr/>
            <p:nvPr/>
          </p:nvGrpSpPr>
          <p:grpSpPr>
            <a:xfrm>
              <a:off x="2133720" y="2895480"/>
              <a:ext cx="3885840" cy="1389960"/>
              <a:chOff x="2133720" y="2895480"/>
              <a:chExt cx="3885840" cy="1389960"/>
            </a:xfrm>
          </p:grpSpPr>
          <p:sp>
            <p:nvSpPr>
              <p:cNvPr id="518" name="Line 6"/>
              <p:cNvSpPr/>
              <p:nvPr/>
            </p:nvSpPr>
            <p:spPr>
              <a:xfrm>
                <a:off x="2133720" y="3550320"/>
                <a:ext cx="388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19" name="Freeform 7"/>
              <p:cNvSpPr/>
              <p:nvPr/>
            </p:nvSpPr>
            <p:spPr>
              <a:xfrm>
                <a:off x="2448720" y="2895480"/>
                <a:ext cx="3150720" cy="1389960"/>
              </a:xfrm>
              <a:custGeom>
                <a:avLst/>
                <a:gdLst/>
                <a:ahLst/>
                <a:rect l="l" t="t" r="r" b="b"/>
                <a:pathLst>
                  <a:path w="4320" h="2880">
                    <a:moveTo>
                      <a:pt x="0" y="0"/>
                    </a:moveTo>
                    <a:cubicBezTo>
                      <a:pt x="312" y="1272"/>
                      <a:pt x="624" y="2544"/>
                      <a:pt x="1152" y="2592"/>
                    </a:cubicBezTo>
                    <a:cubicBezTo>
                      <a:pt x="1680" y="2640"/>
                      <a:pt x="2640" y="240"/>
                      <a:pt x="3168" y="288"/>
                    </a:cubicBezTo>
                    <a:cubicBezTo>
                      <a:pt x="3696" y="336"/>
                      <a:pt x="4008" y="1608"/>
                      <a:pt x="4320" y="28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0" name="Line 8"/>
              <p:cNvSpPr/>
              <p:nvPr/>
            </p:nvSpPr>
            <p:spPr>
              <a:xfrm>
                <a:off x="2807640" y="4079880"/>
                <a:ext cx="94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1" name="Line 9"/>
              <p:cNvSpPr/>
              <p:nvPr/>
            </p:nvSpPr>
            <p:spPr>
              <a:xfrm>
                <a:off x="4353840" y="3027600"/>
                <a:ext cx="83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2" name="Line 10"/>
              <p:cNvSpPr/>
              <p:nvPr/>
            </p:nvSpPr>
            <p:spPr>
              <a:xfrm flipH="1">
                <a:off x="4233600" y="2904840"/>
                <a:ext cx="808920" cy="30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3" name="Line 11"/>
              <p:cNvSpPr/>
              <p:nvPr/>
            </p:nvSpPr>
            <p:spPr>
              <a:xfrm>
                <a:off x="4528800" y="2904840"/>
                <a:ext cx="713880" cy="31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4" name="Line 12"/>
              <p:cNvSpPr/>
              <p:nvPr/>
            </p:nvSpPr>
            <p:spPr>
              <a:xfrm>
                <a:off x="2734560" y="3884400"/>
                <a:ext cx="839880" cy="34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5" name="Line 13"/>
              <p:cNvSpPr/>
              <p:nvPr/>
            </p:nvSpPr>
            <p:spPr>
              <a:xfrm flipV="1">
                <a:off x="2912400" y="3906720"/>
                <a:ext cx="945000" cy="34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526" name="Line 14"/>
            <p:cNvSpPr/>
            <p:nvPr/>
          </p:nvSpPr>
          <p:spPr>
            <a:xfrm>
              <a:off x="4059000" y="289548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nit Overview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Introducing the Big 6: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Quadratic   </a:t>
            </a:r>
            <a:r>
              <a:rPr b="1" lang="en-US" sz="2000" spc="-1" strike="noStrike">
                <a:solidFill>
                  <a:srgbClr val="40458c"/>
                </a:solidFill>
                <a:latin typeface="Bradley Hand ITC"/>
              </a:rPr>
              <a:t>Sketching Techniqu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56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Cubic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Stencil"/>
              </a:rPr>
              <a:t>Generalizing       </a:t>
            </a:r>
            <a:r>
              <a:rPr b="0" lang="en-US" sz="2400" spc="-1" strike="noStrike">
                <a:solidFill>
                  <a:srgbClr val="40458c"/>
                </a:solidFill>
                <a:latin typeface="Impact"/>
              </a:rPr>
              <a:t>power functi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Absolute Value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Square Root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Exponential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Linear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4"/>
              <p:cNvSpPr txBox="1"/>
              <p:nvPr/>
            </p:nvSpPr>
            <p:spPr>
              <a:xfrm>
                <a:off x="4648320" y="5334120"/>
                <a:ext cx="3809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unction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notatio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175"/>
                            </p:stCondLst>
                            <p:childTnLst>
                              <p:par>
                                <p:cTn id="2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425"/>
                            </p:stCondLst>
                            <p:childTnLst>
                              <p:par>
                                <p:cTn id="2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225"/>
                            </p:stCondLst>
                            <p:childTnLst>
                              <p:par>
                                <p:cTn id="2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950"/>
                            </p:stCondLst>
                            <p:childTnLst>
                              <p:par>
                                <p:cTn id="2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2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Guided Inquiry Activ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2522520"/>
            <a:ext cx="82296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7000"/>
          </a:bodyPr>
          <a:p>
            <a:pPr marL="58320" indent="-5832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Work collaboratively under well-defined 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Make conclusions and conjectures based on exper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1676520" y="17524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Student’s Ro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66"/>
                </a:solidFill>
                <a:latin typeface="Tahoma"/>
              </a:rPr>
              <a:t>Guided Inquiry Activiti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762120" y="32763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et clear rules for collaboratio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et time limit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ummarize points of the activity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ssess students’ understanding and modify lessons as necessary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990720" y="167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Teacher’s Ro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39" name="Picture 5" descr="20060704kaisertop"/>
          <p:cNvPicPr/>
          <p:nvPr/>
        </p:nvPicPr>
        <p:blipFill>
          <a:blip r:embed="rId6">
            <a:lum contrast="-42000"/>
          </a:blip>
          <a:stretch/>
        </p:blipFill>
        <p:spPr>
          <a:xfrm>
            <a:off x="4952880" y="1371600"/>
            <a:ext cx="2629080" cy="1971720"/>
          </a:xfrm>
          <a:prstGeom prst="rect">
            <a:avLst/>
          </a:prstGeom>
          <a:ln w="0">
            <a:noFill/>
          </a:ln>
        </p:spPr>
      </p:pic>
      <p:sp>
        <p:nvSpPr>
          <p:cNvPr id="5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2T21:54:05Z</dcterms:created>
  <dc:creator>Ed_user</dc:creator>
  <dc:description/>
  <dc:language>en-US</dc:language>
  <cp:lastModifiedBy>LEGION</cp:lastModifiedBy>
  <dcterms:modified xsi:type="dcterms:W3CDTF">2017-07-06T06:34:21Z</dcterms:modified>
  <cp:revision>17</cp:revision>
  <dc:subject/>
  <dc:title>Function Transformations Unit</dc:title>
</cp:coreProperties>
</file>