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37E0-6524-46F6-A388-4816064D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Reduced Basis for Lat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/Csc 8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polynomials with  rational coeffec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and cannot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primitiv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cd of all coeffecients of f is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ous Diophantine approx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s s a subset sum of the mi’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s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                define the 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c conjecture: For every x&gt;1 there exists only finitely many a,b,c with gcd(a,b,c) = 1 and a + b = c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.e. the 1st vector is “reasonably” shor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basis, what is it goo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erm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changes only if some bi* is changed, which only occurs at case 1 of the algorithm. The number               is reduced by a factor of ¾ since       is, while the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vas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 we have         values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a lattice if there exists a basis b1,b2,…,bn of      such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is the rank of 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tructing latt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L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erform the Gram-Schmidt pro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an orthogonal basis of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b1,..,bn of a lattice is called reduced if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59D-4082-40E8-A08D-DE4A7AEA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072-DD40-4E33-AFC2-DD732324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D61-92AC-4AF5-BD63-F6C6280A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987-E923-41FA-80E4-DA0579C0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6AC-66D3-42CD-BCAB-34019CC1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B7A-94B2-4ABA-AF49-03A25CA4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9DE-7DCA-4CA6-A384-1C4D16D4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172-47A3-49A4-83C7-4F56990A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A6C-FD85-4601-943F-DF55199E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0E5-1BD0-4F57-A335-BC2200A2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506-9716-4106-BDA8-A874D1E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E40-A747-4B1F-A3C9-81126AF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36E7-13D4-4EA4-845B-48E1015F2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nding Reduced Basis for Lat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o Hesk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9072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th/Csc 8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685800" y="838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85800" y="18288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oring polynomials with  rational coeffe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10"/>
          <p:cNvGraphicFramePr/>
          <p:nvPr/>
        </p:nvGraphicFramePr>
        <p:xfrm>
          <a:off x="533520" y="3276720"/>
          <a:ext cx="39621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3962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1"/>
          <p:cNvSpPr/>
          <p:nvPr/>
        </p:nvSpPr>
        <p:spPr>
          <a:xfrm>
            <a:off x="457200" y="44956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12"/>
          <p:cNvGraphicFramePr/>
          <p:nvPr/>
        </p:nvGraphicFramePr>
        <p:xfrm>
          <a:off x="3048120" y="4267080"/>
          <a:ext cx="4159080" cy="9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267080"/>
                    <a:ext cx="4159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3"/>
          <p:cNvGraphicFramePr/>
          <p:nvPr/>
        </p:nvGraphicFramePr>
        <p:xfrm>
          <a:off x="2057400" y="5181480"/>
          <a:ext cx="104472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5181480"/>
                    <a:ext cx="104472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09480" y="609480"/>
            <a:ext cx="754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rreducible polynomial over a fiel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as the product of at-lea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nstant Polynom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ble (over        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: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4724280" y="4267080"/>
          <a:ext cx="3162600" cy="6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267080"/>
                    <a:ext cx="316260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8"/>
          <p:cNvGraphicFramePr/>
          <p:nvPr/>
        </p:nvGraphicFramePr>
        <p:xfrm>
          <a:off x="3746520" y="4267080"/>
          <a:ext cx="45720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6520" y="4267080"/>
                    <a:ext cx="4572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6"/>
          <p:cNvGraphicFramePr/>
          <p:nvPr/>
        </p:nvGraphicFramePr>
        <p:xfrm>
          <a:off x="2819520" y="5029200"/>
          <a:ext cx="86976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029200"/>
                    <a:ext cx="8697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5800" y="60948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find, for a given non-z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          its decomposition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duci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cd of all coeffecien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irreducible factor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6019920" y="3429000"/>
          <a:ext cx="167004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429000"/>
                    <a:ext cx="167004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5"/>
          <p:cNvGraphicFramePr/>
          <p:nvPr/>
        </p:nvGraphicFramePr>
        <p:xfrm>
          <a:off x="5334120" y="5029200"/>
          <a:ext cx="76356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5029200"/>
                    <a:ext cx="76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9"/>
          <p:cNvGraphicFramePr/>
          <p:nvPr/>
        </p:nvGraphicFramePr>
        <p:xfrm>
          <a:off x="3352680" y="1447920"/>
          <a:ext cx="641520" cy="4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447920"/>
                    <a:ext cx="6415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83808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multaneous Diophantine approxi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066680" y="1447920"/>
            <a:ext cx="54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      ,             and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6"/>
          <p:cNvGraphicFramePr/>
          <p:nvPr/>
        </p:nvGraphicFramePr>
        <p:xfrm>
          <a:off x="2362320" y="1600200"/>
          <a:ext cx="711000" cy="3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600200"/>
                    <a:ext cx="711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124080" y="1600200"/>
          <a:ext cx="13780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00200"/>
                    <a:ext cx="1378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8"/>
          <p:cNvGraphicFramePr/>
          <p:nvPr/>
        </p:nvGraphicFramePr>
        <p:xfrm>
          <a:off x="5486400" y="1600200"/>
          <a:ext cx="109872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600200"/>
                    <a:ext cx="1098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9"/>
          <p:cNvGraphicFramePr/>
          <p:nvPr/>
        </p:nvGraphicFramePr>
        <p:xfrm>
          <a:off x="2057400" y="2286000"/>
          <a:ext cx="16956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2286000"/>
                    <a:ext cx="16956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1219320" y="2895480"/>
          <a:ext cx="2711160" cy="46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2895480"/>
                    <a:ext cx="2711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1"/>
          <p:cNvGraphicFramePr/>
          <p:nvPr/>
        </p:nvGraphicFramePr>
        <p:xfrm>
          <a:off x="1219320" y="4343400"/>
          <a:ext cx="1600200" cy="7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9320" y="4343400"/>
                    <a:ext cx="16002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143000" y="7621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ryp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1523880"/>
            <a:ext cx="7772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iven posi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re exist                    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set s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mi’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191120" y="1676520"/>
          <a:ext cx="1809720" cy="3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18097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581280" y="2286000"/>
          <a:ext cx="20066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2286000"/>
                    <a:ext cx="2006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914400" y="3048120"/>
          <a:ext cx="251460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3048120"/>
                    <a:ext cx="251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71600" y="6858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ums of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447920" y="167652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prime that is 1mod4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sum of two squ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quares are found using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447920" y="6858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bc Conj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3520" y="1523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                defin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1371600" y="1676520"/>
          <a:ext cx="125100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12510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2286000" y="2362320"/>
          <a:ext cx="220968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22096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6"/>
          <p:cNvSpPr/>
          <p:nvPr/>
        </p:nvSpPr>
        <p:spPr>
          <a:xfrm>
            <a:off x="762120" y="3048120"/>
            <a:ext cx="78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at’s the product of distinct prime factors of a,b,c). suppose gcd(a,b,c)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7"/>
          <p:cNvGraphicFramePr/>
          <p:nvPr/>
        </p:nvGraphicFramePr>
        <p:xfrm>
          <a:off x="838080" y="3581280"/>
          <a:ext cx="2374920" cy="62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81280"/>
                    <a:ext cx="237492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8"/>
          <p:cNvSpPr/>
          <p:nvPr/>
        </p:nvSpPr>
        <p:spPr>
          <a:xfrm>
            <a:off x="685800" y="4191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 conj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very x&gt;1 there exists only finitely many a,b,c with gcd(a,b,c) = 1 and a + b = c such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9"/>
          <p:cNvGraphicFramePr/>
          <p:nvPr/>
        </p:nvGraphicFramePr>
        <p:xfrm>
          <a:off x="838080" y="5181480"/>
          <a:ext cx="2076480" cy="6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181480"/>
                    <a:ext cx="20764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10"/>
          <p:cNvSpPr/>
          <p:nvPr/>
        </p:nvSpPr>
        <p:spPr>
          <a:xfrm>
            <a:off x="914400" y="5943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arch for examples uses L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28600" y="990720"/>
            <a:ext cx="7924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1,bn are reduced basis for a lattice L in       b1*, bn* defined as before.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 is “reasonably” shor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3"/>
          <p:cNvGraphicFramePr/>
          <p:nvPr/>
        </p:nvGraphicFramePr>
        <p:xfrm>
          <a:off x="762120" y="2971800"/>
          <a:ext cx="2590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2590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4"/>
          <p:cNvGraphicFramePr/>
          <p:nvPr/>
        </p:nvGraphicFramePr>
        <p:xfrm>
          <a:off x="762120" y="3581280"/>
          <a:ext cx="220968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22096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762120" y="4343400"/>
          <a:ext cx="1600200" cy="5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16002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6"/>
          <p:cNvSpPr/>
          <p:nvPr/>
        </p:nvSpPr>
        <p:spPr>
          <a:xfrm>
            <a:off x="6094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duced basis, what is it goo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7696080" y="1752480"/>
          <a:ext cx="4892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1752480"/>
                    <a:ext cx="489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762120" y="5105520"/>
          <a:ext cx="350496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105520"/>
                    <a:ext cx="350496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57200" y="5335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457200" y="45720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gorithm termin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457200" y="1219320"/>
          <a:ext cx="32958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2958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457200" y="1905120"/>
          <a:ext cx="230832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23083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6"/>
          <p:cNvSpPr/>
          <p:nvPr/>
        </p:nvSpPr>
        <p:spPr>
          <a:xfrm>
            <a:off x="2971800" y="2057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each is a pos. re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7"/>
          <p:cNvGraphicFramePr/>
          <p:nvPr/>
        </p:nvGraphicFramePr>
        <p:xfrm>
          <a:off x="457200" y="2895480"/>
          <a:ext cx="2387520" cy="59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895480"/>
                    <a:ext cx="23875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533520" y="3886200"/>
          <a:ext cx="1009440" cy="67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886200"/>
                    <a:ext cx="10094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533520" y="4724280"/>
            <a:ext cx="80769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ly if some bi* is changed, which only occurs at case 1 of the algorithm. The number               is reduced by a factor of ¾ since       is, while the 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’s are unchanged. Hence D reduced by factor of ¾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0"/>
          <p:cNvGraphicFramePr/>
          <p:nvPr/>
        </p:nvGraphicFramePr>
        <p:xfrm>
          <a:off x="6172200" y="5105520"/>
          <a:ext cx="5335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5105520"/>
                    <a:ext cx="533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1"/>
          <p:cNvGraphicFramePr/>
          <p:nvPr/>
        </p:nvGraphicFramePr>
        <p:xfrm>
          <a:off x="4800600" y="5486400"/>
          <a:ext cx="42552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0600" y="5486400"/>
                    <a:ext cx="42552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57200" y="1828800"/>
            <a:ext cx="685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.W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23880" y="5257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094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533520" y="533520"/>
            <a:ext cx="7162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’s are bounded from below which bounds D from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5"/>
          <p:cNvGraphicFramePr/>
          <p:nvPr/>
        </p:nvGraphicFramePr>
        <p:xfrm>
          <a:off x="685800" y="1676520"/>
          <a:ext cx="426708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2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6"/>
          <p:cNvGraphicFramePr/>
          <p:nvPr/>
        </p:nvGraphicFramePr>
        <p:xfrm>
          <a:off x="609480" y="2590920"/>
          <a:ext cx="175284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590920"/>
                    <a:ext cx="17528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7"/>
          <p:cNvSpPr/>
          <p:nvPr/>
        </p:nvSpPr>
        <p:spPr>
          <a:xfrm>
            <a:off x="685800" y="335268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re’s an upper bound for # of times we pass through case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685800" y="4572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nd of case 1, k = k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case 2, k = k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with k = 2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4495680" y="1981080"/>
          <a:ext cx="139068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981080"/>
                    <a:ext cx="13906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6"/>
          <p:cNvSpPr/>
          <p:nvPr/>
        </p:nvSpPr>
        <p:spPr>
          <a:xfrm>
            <a:off x="762120" y="2743200"/>
            <a:ext cx="7086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# of times we pass through ca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t most n-1 more than the # of times we pass through case 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the algorithm ter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4572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step with rationa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6553080" y="1371600"/>
          <a:ext cx="72396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371600"/>
                    <a:ext cx="7239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5"/>
          <p:cNvSpPr/>
          <p:nvPr/>
        </p:nvSpPr>
        <p:spPr>
          <a:xfrm>
            <a:off x="685800" y="213372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times pass through case 2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6"/>
          <p:cNvGraphicFramePr/>
          <p:nvPr/>
        </p:nvGraphicFramePr>
        <p:xfrm>
          <a:off x="6553080" y="2209680"/>
          <a:ext cx="142884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209680"/>
                    <a:ext cx="142884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7"/>
          <p:cNvGraphicFramePr/>
          <p:nvPr/>
        </p:nvGraphicFramePr>
        <p:xfrm>
          <a:off x="6553080" y="2819520"/>
          <a:ext cx="15051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2819520"/>
                    <a:ext cx="15051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2438280" y="3505320"/>
          <a:ext cx="3149640" cy="66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3505320"/>
                    <a:ext cx="3149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9"/>
          <p:cNvSpPr/>
          <p:nvPr/>
        </p:nvSpPr>
        <p:spPr>
          <a:xfrm>
            <a:off x="838080" y="4191120"/>
            <a:ext cx="7086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requires       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 we have         valu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equires       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10"/>
          <p:cNvGraphicFramePr/>
          <p:nvPr/>
        </p:nvGraphicFramePr>
        <p:xfrm>
          <a:off x="3886200" y="4267080"/>
          <a:ext cx="615960" cy="4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6200" y="426708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11"/>
          <p:cNvGraphicFramePr/>
          <p:nvPr/>
        </p:nvGraphicFramePr>
        <p:xfrm>
          <a:off x="4038480" y="5029200"/>
          <a:ext cx="6159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50292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12"/>
          <p:cNvGraphicFramePr/>
          <p:nvPr/>
        </p:nvGraphicFramePr>
        <p:xfrm>
          <a:off x="3505320" y="5715000"/>
          <a:ext cx="615960" cy="42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5320" y="5715000"/>
                    <a:ext cx="6159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914400" y="533520"/>
            <a:ext cx="7696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we get a total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5"/>
          <p:cNvGraphicFramePr/>
          <p:nvPr/>
        </p:nvGraphicFramePr>
        <p:xfrm>
          <a:off x="5257800" y="2743200"/>
          <a:ext cx="15811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743200"/>
                    <a:ext cx="15811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676520" y="9144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Lat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2343240" cy="2181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80880" y="1676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80880" y="5029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1143000" y="4732200"/>
          <a:ext cx="365760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4732200"/>
                    <a:ext cx="3657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33520" y="380880"/>
            <a:ext cx="8001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n be a positive integer. A subset L of the n-dimensional real vector space      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ti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exists a basis b1,b2,…,bn of      such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span 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is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1752480" y="2666880"/>
          <a:ext cx="438156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666880"/>
                    <a:ext cx="438156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1"/>
          <p:cNvGraphicFramePr/>
          <p:nvPr/>
        </p:nvGraphicFramePr>
        <p:xfrm>
          <a:off x="7162920" y="914400"/>
          <a:ext cx="4888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914400"/>
                    <a:ext cx="488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12"/>
          <p:cNvGraphicFramePr/>
          <p:nvPr/>
        </p:nvGraphicFramePr>
        <p:xfrm>
          <a:off x="3276720" y="1828800"/>
          <a:ext cx="5331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828800"/>
                    <a:ext cx="5331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14"/>
          <p:cNvGraphicFramePr/>
          <p:nvPr/>
        </p:nvGraphicFramePr>
        <p:xfrm>
          <a:off x="4572000" y="5257800"/>
          <a:ext cx="99072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257800"/>
                    <a:ext cx="9907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27"/>
          <p:cNvSpPr/>
          <p:nvPr/>
        </p:nvSpPr>
        <p:spPr>
          <a:xfrm flipV="1">
            <a:off x="3998880" y="888480"/>
            <a:ext cx="1800" cy="384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1440000" y="3006720"/>
            <a:ext cx="5278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 flipV="1">
            <a:off x="4017960" y="21081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4052880" y="302436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4952880" y="32004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2"/>
          <p:cNvSpPr/>
          <p:nvPr/>
        </p:nvSpPr>
        <p:spPr>
          <a:xfrm>
            <a:off x="5229360" y="2030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 flipV="1">
            <a:off x="1720800" y="275436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4"/>
          <p:cNvSpPr/>
          <p:nvPr/>
        </p:nvSpPr>
        <p:spPr>
          <a:xfrm>
            <a:off x="6229440" y="2322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5353200" y="211788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3929040" y="29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2766960" y="393048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8"/>
          <p:cNvSpPr/>
          <p:nvPr/>
        </p:nvSpPr>
        <p:spPr>
          <a:xfrm>
            <a:off x="3029040" y="2739960"/>
            <a:ext cx="898560" cy="211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9"/>
          <p:cNvSpPr/>
          <p:nvPr/>
        </p:nvSpPr>
        <p:spPr>
          <a:xfrm>
            <a:off x="4219560" y="17971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0"/>
          <p:cNvSpPr/>
          <p:nvPr/>
        </p:nvSpPr>
        <p:spPr>
          <a:xfrm>
            <a:off x="2911320" y="26766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1"/>
          <p:cNvSpPr/>
          <p:nvPr/>
        </p:nvSpPr>
        <p:spPr>
          <a:xfrm flipV="1">
            <a:off x="3008160" y="183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2"/>
          <p:cNvSpPr/>
          <p:nvPr/>
        </p:nvSpPr>
        <p:spPr>
          <a:xfrm flipV="1">
            <a:off x="2722680" y="301788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3"/>
          <p:cNvSpPr/>
          <p:nvPr/>
        </p:nvSpPr>
        <p:spPr>
          <a:xfrm>
            <a:off x="2624040" y="385272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4"/>
          <p:cNvSpPr/>
          <p:nvPr/>
        </p:nvSpPr>
        <p:spPr>
          <a:xfrm>
            <a:off x="5086440" y="32814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5"/>
          <p:cNvSpPr/>
          <p:nvPr/>
        </p:nvSpPr>
        <p:spPr>
          <a:xfrm>
            <a:off x="5970600" y="34592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6"/>
          <p:cNvSpPr/>
          <p:nvPr/>
        </p:nvSpPr>
        <p:spPr>
          <a:xfrm>
            <a:off x="3641760" y="412740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1622520" y="360684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780000" y="4179960"/>
            <a:ext cx="89820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9"/>
          <p:cNvSpPr/>
          <p:nvPr/>
        </p:nvSpPr>
        <p:spPr>
          <a:xfrm>
            <a:off x="4673520" y="4383000"/>
            <a:ext cx="14148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 flipV="1">
            <a:off x="5029200" y="235440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 flipV="1">
            <a:off x="3733920" y="32767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1752480" y="36576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4343400" y="182880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 flipV="1">
            <a:off x="4724280" y="35053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5"/>
          <p:cNvSpPr/>
          <p:nvPr/>
        </p:nvSpPr>
        <p:spPr>
          <a:xfrm flipV="1">
            <a:off x="6095880" y="2590920"/>
            <a:ext cx="1216080" cy="846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6"/>
          <p:cNvSpPr/>
          <p:nvPr/>
        </p:nvSpPr>
        <p:spPr>
          <a:xfrm>
            <a:off x="6400800" y="2362320"/>
            <a:ext cx="898560" cy="21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7"/>
          <p:cNvSpPr/>
          <p:nvPr/>
        </p:nvSpPr>
        <p:spPr>
          <a:xfrm>
            <a:off x="7294680" y="2565360"/>
            <a:ext cx="141120" cy="104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28440" bIns="2844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8"/>
          <p:cNvSpPr/>
          <p:nvPr/>
        </p:nvSpPr>
        <p:spPr>
          <a:xfrm>
            <a:off x="380880" y="3049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tructing latti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3886200" y="533520"/>
          <a:ext cx="2590920" cy="52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33520"/>
                    <a:ext cx="2590920" cy="52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3"/>
          <p:cNvSpPr/>
          <p:nvPr/>
        </p:nvSpPr>
        <p:spPr>
          <a:xfrm>
            <a:off x="609480" y="457200"/>
            <a:ext cx="655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’s are written as colum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s. Apparently, this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number doesn’t depend o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ce of the 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33520" y="45720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                be linearly independent. Suppose it is a basi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erform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m-Schm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1295280" y="457200"/>
          <a:ext cx="174636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"/>
                    <a:ext cx="17463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4"/>
          <p:cNvSpPr/>
          <p:nvPr/>
        </p:nvSpPr>
        <p:spPr>
          <a:xfrm>
            <a:off x="60948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 flipV="1">
            <a:off x="990720" y="26668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990720" y="3733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371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4792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343400" y="2514600"/>
            <a:ext cx="2971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 flipV="1">
            <a:off x="4724280" y="2666880"/>
            <a:ext cx="1295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4724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181480" y="2819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019920" y="2666880"/>
            <a:ext cx="1440" cy="1067040"/>
          </a:xfrm>
          <a:prstGeom prst="line">
            <a:avLst/>
          </a:prstGeom>
          <a:ln w="936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10080" y="3733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25"/>
          <p:cNvGraphicFramePr/>
          <p:nvPr/>
        </p:nvGraphicFramePr>
        <p:xfrm>
          <a:off x="5410080" y="3809880"/>
          <a:ext cx="8575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3809880"/>
                    <a:ext cx="857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26"/>
          <p:cNvSpPr/>
          <p:nvPr/>
        </p:nvSpPr>
        <p:spPr>
          <a:xfrm>
            <a:off x="7621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4419720" y="3657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6019920" y="3733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62940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609480" y="4495680"/>
            <a:ext cx="3429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990720" y="5943600"/>
            <a:ext cx="879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762120" y="5943600"/>
            <a:ext cx="3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5"/>
          <p:cNvSpPr/>
          <p:nvPr/>
        </p:nvSpPr>
        <p:spPr>
          <a:xfrm flipV="1">
            <a:off x="9907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6"/>
          <p:cNvGraphicFramePr/>
          <p:nvPr/>
        </p:nvGraphicFramePr>
        <p:xfrm>
          <a:off x="1152360" y="4637160"/>
          <a:ext cx="159084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4637160"/>
                    <a:ext cx="15908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38"/>
          <p:cNvGraphicFramePr/>
          <p:nvPr/>
        </p:nvGraphicFramePr>
        <p:xfrm>
          <a:off x="5029200" y="990720"/>
          <a:ext cx="996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990720"/>
                    <a:ext cx="996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39"/>
          <p:cNvGraphicFramePr/>
          <p:nvPr/>
        </p:nvGraphicFramePr>
        <p:xfrm>
          <a:off x="4800600" y="3733920"/>
          <a:ext cx="295200" cy="40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733920"/>
                    <a:ext cx="29520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46"/>
          <p:cNvGraphicFramePr/>
          <p:nvPr/>
        </p:nvGraphicFramePr>
        <p:xfrm>
          <a:off x="1143000" y="5943600"/>
          <a:ext cx="345960" cy="46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" name="Object 4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5943600"/>
                    <a:ext cx="345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14400" y="609480"/>
            <a:ext cx="6095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ly, 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4267080" y="1295280"/>
          <a:ext cx="933480" cy="5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93348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267080" y="1893960"/>
          <a:ext cx="175284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893960"/>
                    <a:ext cx="17528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573120" y="2819520"/>
          <a:ext cx="2701800" cy="52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2819520"/>
                    <a:ext cx="270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2"/>
          <p:cNvGraphicFramePr/>
          <p:nvPr/>
        </p:nvGraphicFramePr>
        <p:xfrm>
          <a:off x="533520" y="3429000"/>
          <a:ext cx="2133360" cy="88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21333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14"/>
          <p:cNvGraphicFramePr/>
          <p:nvPr/>
        </p:nvGraphicFramePr>
        <p:xfrm>
          <a:off x="380880" y="4800600"/>
          <a:ext cx="142236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4800600"/>
                    <a:ext cx="14223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21"/>
          <p:cNvSpPr/>
          <p:nvPr/>
        </p:nvSpPr>
        <p:spPr>
          <a:xfrm>
            <a:off x="1752480" y="4800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s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thogonal b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3733920" y="2819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ing by         shortens our v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5410080" y="2819520"/>
          <a:ext cx="43812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819520"/>
                    <a:ext cx="438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5"/>
          <p:cNvGraphicFramePr/>
          <p:nvPr/>
        </p:nvGraphicFramePr>
        <p:xfrm>
          <a:off x="4267080" y="2362320"/>
          <a:ext cx="281304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362320"/>
                    <a:ext cx="28130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533520" y="1600200"/>
            <a:ext cx="838188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is b1,..,bn of a lattice is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¾ can be replaced by any ¼&lt;y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066680" y="2819520"/>
          <a:ext cx="91440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91440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1143000" y="3505320"/>
          <a:ext cx="4349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505320"/>
                    <a:ext cx="434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5"/>
          <p:cNvSpPr/>
          <p:nvPr/>
        </p:nvSpPr>
        <p:spPr>
          <a:xfrm>
            <a:off x="457200" y="487692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| | is Euclidean leng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2971800" y="2895480"/>
          <a:ext cx="18288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95480"/>
                    <a:ext cx="18288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9:27:15Z</dcterms:created>
  <dc:creator>Ido Heskia</dc:creator>
  <dc:description/>
  <dc:language>en-US</dc:language>
  <cp:lastModifiedBy>LEGION</cp:lastModifiedBy>
  <dcterms:modified xsi:type="dcterms:W3CDTF">2017-07-06T06:34:10Z</dcterms:modified>
  <cp:revision>61</cp:revision>
  <dc:subject/>
  <dc:title>Factoring polynomials with rational coeffecients</dc:title>
</cp:coreProperties>
</file>