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DE4-29AF-4EBB-9B86-4FF665BE88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Choose the pair that adds up to the middle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 Fill those numbers into the blanks in the binomi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3)(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x2 + 2x -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-24.  (To get -24, one number must be positive and one negativ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Which pair adds up to 2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rite the binomial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2x - 24 = ( x - 4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4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8 = 24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  Put the original leading coefficient (3) under both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 Reduce the fractions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7:  Move denominators in front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  Write temporary factors with the two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.    3x2 + 14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2 + 14 x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4x + 8 = (3x + 2)(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   3x2 + 11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, the x2 term DOES have a coefficient (other than 1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List all pairs of numbers that multiply to equal that produc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 Which pair adds up to 1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Multiply 3 • 4 = 12   (the leading coefficient &amp; constan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 pairs add up to 11, this trinomial can’t be factored; it is PR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Watch out for sign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x2 + 12x +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x2 –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x2 + 3x –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2x2 + x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se Trinomia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 – 4t – 21 = (t + 3)(t -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2 = (x + 4)(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- 10x + 24 = (x - 4)(x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• 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• 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•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•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2x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2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3x - 18 = (x - 3)(x + 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+ x - 21 = (x - 3)(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- 3)( 2x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#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Write the temporar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1x + 10 = (3x + 5)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3x + 5)( 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x2 + 5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B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Start with x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Add seven “x” tiles (vertical or horizontal, at least one of each) and twelve “1” 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T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x2 tiles = x’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= ( x + 4)( x +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we will factor trinomials such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 back into bi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als (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x2 term has no coefficient (other than 1)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List all pairs of numbers that multiply to equal the constant,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7x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47D-26B8-4572-895A-A8E16BC2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462-554D-4F69-A800-106A999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A3E-70A1-4E66-A314-DC6B298E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780-F033-47F3-A520-F73F26E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559-70F9-41F2-8DDD-CB360E7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E62-CBB9-4DE9-93C0-318AB5F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978-C8A6-4F69-88C3-049554DD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854-6DD3-497F-A69C-6B03AAA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535-F59A-45C4-8386-5457F070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A33-DCF8-4036-BB7A-A9CA1AE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80A-A53A-4918-A5B2-DEF56FD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0E2-7144-40F3-B49D-D0BFEA68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9B1-509E-4BC1-9E19-CDE7A1C9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844560" y="23763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Choose the pair that adds up to the middle co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417480" y="131112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14920" y="237960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6172200" y="3398760"/>
            <a:ext cx="912960" cy="608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839880" y="413532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Fill those numbers into the blanks in the bi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5134680" y="45403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x +     )( x +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062760" y="457992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7437600" y="457524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2241720" y="5721480"/>
            <a:ext cx="52606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 = ( x + 3)( x +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630440" y="1244520"/>
            <a:ext cx="574524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.   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508040" y="1922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constant is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90520" y="2465280"/>
            <a:ext cx="43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-24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o get -24, one number must be positive and one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5326200" y="2541600"/>
            <a:ext cx="3558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24 = 1 • -24,  -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-12,  -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-8,   -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-6,   -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5840" y="462600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94440" y="4168800"/>
            <a:ext cx="1055880" cy="517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281160" y="53197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rite the binomi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4988880" y="5470560"/>
            <a:ext cx="3688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x - 24 = ( x - 4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50720" y="390528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30800" y="2935440"/>
            <a:ext cx="1676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4 = 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46040" y="534996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6691320" y="3454560"/>
            <a:ext cx="1055520" cy="517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446040" y="283536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8 = 24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47"/>
          <p:cNvSpPr/>
          <p:nvPr/>
        </p:nvSpPr>
        <p:spPr>
          <a:xfrm>
            <a:off x="5472000" y="5730840"/>
            <a:ext cx="32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( x +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318360" y="2390760"/>
            <a:ext cx="44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447840" y="3390840"/>
            <a:ext cx="43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Put the original leading coefficient (3) under both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505480" y="2398680"/>
            <a:ext cx="294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x +       )( x +   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07880" y="4800600"/>
            <a:ext cx="48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duce the fractions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385920" y="5791320"/>
            <a:ext cx="46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Move denominators in front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465120" y="2333520"/>
            <a:ext cx="43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Write temporary factors with the two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7553160" y="2403360"/>
            <a:ext cx="60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6"/>
          <p:cNvGrpSpPr/>
          <p:nvPr/>
        </p:nvGrpSpPr>
        <p:grpSpPr>
          <a:xfrm>
            <a:off x="6313320" y="2752560"/>
            <a:ext cx="441360" cy="489960"/>
            <a:chOff x="6313320" y="2752560"/>
            <a:chExt cx="441360" cy="489960"/>
          </a:xfrm>
        </p:grpSpPr>
        <p:sp>
          <p:nvSpPr>
            <p:cNvPr id="513" name="Text Box 15"/>
            <p:cNvSpPr/>
            <p:nvPr/>
          </p:nvSpPr>
          <p:spPr>
            <a:xfrm>
              <a:off x="6313320" y="27525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6332400" y="279072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7"/>
          <p:cNvGrpSpPr/>
          <p:nvPr/>
        </p:nvGrpSpPr>
        <p:grpSpPr>
          <a:xfrm>
            <a:off x="7635960" y="2747880"/>
            <a:ext cx="441360" cy="489960"/>
            <a:chOff x="7635960" y="2747880"/>
            <a:chExt cx="441360" cy="489960"/>
          </a:xfrm>
        </p:grpSpPr>
        <p:sp>
          <p:nvSpPr>
            <p:cNvPr id="516" name="Text Box 18"/>
            <p:cNvSpPr/>
            <p:nvPr/>
          </p:nvSpPr>
          <p:spPr>
            <a:xfrm>
              <a:off x="7635960" y="274788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>
              <a:off x="7655040" y="2785680"/>
              <a:ext cx="285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5499000" y="3789360"/>
            <a:ext cx="2946240" cy="851760"/>
            <a:chOff x="5499000" y="3789360"/>
            <a:chExt cx="2946240" cy="851760"/>
          </a:xfrm>
        </p:grpSpPr>
        <p:sp>
          <p:nvSpPr>
            <p:cNvPr id="519" name="Text Box 20"/>
            <p:cNvSpPr/>
            <p:nvPr/>
          </p:nvSpPr>
          <p:spPr>
            <a:xfrm>
              <a:off x="6311880" y="378936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21"/>
            <p:cNvSpPr/>
            <p:nvPr/>
          </p:nvSpPr>
          <p:spPr>
            <a:xfrm>
              <a:off x="5499000" y="3797280"/>
              <a:ext cx="2946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22"/>
            <p:cNvSpPr/>
            <p:nvPr/>
          </p:nvSpPr>
          <p:spPr>
            <a:xfrm>
              <a:off x="7546680" y="380196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23"/>
            <p:cNvGrpSpPr/>
            <p:nvPr/>
          </p:nvGrpSpPr>
          <p:grpSpPr>
            <a:xfrm>
              <a:off x="6306840" y="4151160"/>
              <a:ext cx="441360" cy="489960"/>
              <a:chOff x="6306840" y="4151160"/>
              <a:chExt cx="441360" cy="489960"/>
            </a:xfrm>
          </p:grpSpPr>
          <p:sp>
            <p:nvSpPr>
              <p:cNvPr id="523" name="Text Box 24"/>
              <p:cNvSpPr/>
              <p:nvPr/>
            </p:nvSpPr>
            <p:spPr>
              <a:xfrm>
                <a:off x="6306840" y="415116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25"/>
              <p:cNvSpPr/>
              <p:nvPr/>
            </p:nvSpPr>
            <p:spPr>
              <a:xfrm>
                <a:off x="6325920" y="41893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6"/>
            <p:cNvGrpSpPr/>
            <p:nvPr/>
          </p:nvGrpSpPr>
          <p:grpSpPr>
            <a:xfrm>
              <a:off x="7629480" y="4146480"/>
              <a:ext cx="441360" cy="489960"/>
              <a:chOff x="7629480" y="4146480"/>
              <a:chExt cx="441360" cy="489960"/>
            </a:xfrm>
          </p:grpSpPr>
          <p:sp>
            <p:nvSpPr>
              <p:cNvPr id="526" name="Text Box 27"/>
              <p:cNvSpPr/>
              <p:nvPr/>
            </p:nvSpPr>
            <p:spPr>
              <a:xfrm>
                <a:off x="7629480" y="414648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8"/>
              <p:cNvSpPr/>
              <p:nvPr/>
            </p:nvSpPr>
            <p:spPr>
              <a:xfrm>
                <a:off x="7648560" y="418428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Line 30"/>
          <p:cNvSpPr/>
          <p:nvPr/>
        </p:nvSpPr>
        <p:spPr>
          <a:xfrm flipH="1">
            <a:off x="7600680" y="3827520"/>
            <a:ext cx="33948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1"/>
          <p:cNvSpPr/>
          <p:nvPr/>
        </p:nvSpPr>
        <p:spPr>
          <a:xfrm flipH="1">
            <a:off x="7613640" y="4189320"/>
            <a:ext cx="33984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2"/>
          <p:cNvSpPr/>
          <p:nvPr/>
        </p:nvSpPr>
        <p:spPr>
          <a:xfrm>
            <a:off x="7618320" y="34545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44"/>
          <p:cNvGrpSpPr/>
          <p:nvPr/>
        </p:nvGrpSpPr>
        <p:grpSpPr>
          <a:xfrm>
            <a:off x="5479920" y="4756320"/>
            <a:ext cx="2946600" cy="851760"/>
            <a:chOff x="5479920" y="4756320"/>
            <a:chExt cx="2946600" cy="851760"/>
          </a:xfrm>
        </p:grpSpPr>
        <p:sp>
          <p:nvSpPr>
            <p:cNvPr id="532" name="Text Box 33"/>
            <p:cNvSpPr/>
            <p:nvPr/>
          </p:nvSpPr>
          <p:spPr>
            <a:xfrm>
              <a:off x="6292800" y="4756320"/>
              <a:ext cx="44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34"/>
            <p:cNvSpPr/>
            <p:nvPr/>
          </p:nvSpPr>
          <p:spPr>
            <a:xfrm>
              <a:off x="5479920" y="4764240"/>
              <a:ext cx="2946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 x +       )( x +       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>
              <a:off x="7527960" y="4768920"/>
              <a:ext cx="60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36"/>
            <p:cNvGrpSpPr/>
            <p:nvPr/>
          </p:nvGrpSpPr>
          <p:grpSpPr>
            <a:xfrm>
              <a:off x="6288120" y="5118120"/>
              <a:ext cx="441360" cy="489960"/>
              <a:chOff x="6288120" y="5118120"/>
              <a:chExt cx="441360" cy="489960"/>
            </a:xfrm>
          </p:grpSpPr>
          <p:sp>
            <p:nvSpPr>
              <p:cNvPr id="536" name="Text Box 37"/>
              <p:cNvSpPr/>
              <p:nvPr/>
            </p:nvSpPr>
            <p:spPr>
              <a:xfrm>
                <a:off x="6288120" y="5118120"/>
                <a:ext cx="4413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38"/>
              <p:cNvSpPr/>
              <p:nvPr/>
            </p:nvSpPr>
            <p:spPr>
              <a:xfrm>
                <a:off x="6307200" y="5155920"/>
                <a:ext cx="2858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6640" y="3741840"/>
            <a:ext cx="26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 3x +  2 )( x +  4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1630440" y="145404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.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568440" y="247644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should always check the factors by distributing, especially since this process has more than a couple of st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3510000" y="4322880"/>
            <a:ext cx="249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 14 x +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9"/>
          <p:cNvSpPr/>
          <p:nvPr/>
        </p:nvSpPr>
        <p:spPr>
          <a:xfrm>
            <a:off x="3511800" y="3743280"/>
            <a:ext cx="429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3x • x + 3x • 4 + 2 • x + 2 • 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935680" y="4344840"/>
            <a:ext cx="4651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1"/>
          <p:cNvSpPr/>
          <p:nvPr/>
        </p:nvSpPr>
        <p:spPr>
          <a:xfrm>
            <a:off x="2082960" y="5364000"/>
            <a:ext cx="492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4x + 8 = (3x + 2)(x +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630440" y="1244520"/>
            <a:ext cx="574524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  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1x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63600" y="19224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ime, the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erm DOES have a coefficient (other than 1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*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50720" y="3486240"/>
            <a:ext cx="43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at produc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6130800" y="265572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446040" y="479124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ich pair adds up to 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446040" y="2608200"/>
            <a:ext cx="4346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Multiply 3 • 4 = 12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the leading coefficient &amp; const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231920" y="5580000"/>
            <a:ext cx="65102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ne of the pairs add up to 11, this trinomial can’t be factored; it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RIM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304920" y="11304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 each trinomial, if possible.  The first four do NOT have leading coefficients, the last two DO have leading coefficients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tch out for sig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921040" y="2763720"/>
            <a:ext cx="32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2x + 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10x +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 –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92160" y="231840"/>
            <a:ext cx="891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 These Trinomial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4838760" y="301680"/>
            <a:ext cx="243504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4t –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2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630600" y="1949400"/>
            <a:ext cx="21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21, -1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7, -3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509760" y="30510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(- 4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9"/>
          <p:cNvSpPr/>
          <p:nvPr/>
        </p:nvSpPr>
        <p:spPr>
          <a:xfrm>
            <a:off x="3613320" y="227340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17680" y="3738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556000" y="4906800"/>
            <a:ext cx="3917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t – 21 = (t + 3)(t -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2x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3630600" y="1949400"/>
            <a:ext cx="21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09760" y="317340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13320" y="2665440"/>
            <a:ext cx="84132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17680" y="386064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2556000" y="4906800"/>
            <a:ext cx="4632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2x + 32 = (x + 4)(x +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10x +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630600" y="19494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-1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19800" y="305280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17680" y="50436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73280" y="583740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10x + 24 = (x - 4)(x -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4346640" y="3597120"/>
            <a:ext cx="456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e of them adds to (-10). For the numbers to multiply to +24 and add to -10, they must both be nega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5424480" y="1962000"/>
            <a:ext cx="13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1 •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2 •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3 •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4 •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>
            <a:off x="2971800" y="26668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• x + x • 2 + 3 • x + 3 •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7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FOI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8"/>
          <p:cNvSpPr/>
          <p:nvPr/>
        </p:nvSpPr>
        <p:spPr>
          <a:xfrm>
            <a:off x="3276720" y="3200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419720" y="3200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5638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7816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048120" y="3992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 + 3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3048120" y="505944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4"/>
          <p:cNvSpPr/>
          <p:nvPr/>
        </p:nvSpPr>
        <p:spPr>
          <a:xfrm>
            <a:off x="668160" y="26668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x -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500040" y="196848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Factors of -1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30600" y="194940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18, -1 • 1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9,  -2 •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6, -3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509760" y="3605040"/>
            <a:ext cx="41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3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4437000" y="265896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514440" y="454500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"/>
          <p:cNvSpPr/>
          <p:nvPr/>
        </p:nvSpPr>
        <p:spPr>
          <a:xfrm>
            <a:off x="2430360" y="549756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x - 18 = (x - 3)(x +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838760" y="301680"/>
            <a:ext cx="293508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x -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2 • (-21) = - 4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-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43560" y="1378080"/>
            <a:ext cx="217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-42, -1 • 4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-21,  -2 •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-14, -3 •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• -7, -6 •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33232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2340000" y="5962680"/>
            <a:ext cx="4400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 - 21 = (x - 3)(2x +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6)( 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2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4"/>
          <p:cNvGrpSpPr/>
          <p:nvPr/>
        </p:nvGrpSpPr>
        <p:grpSpPr>
          <a:xfrm>
            <a:off x="5222880" y="3508200"/>
            <a:ext cx="411120" cy="459720"/>
            <a:chOff x="5222880" y="3508200"/>
            <a:chExt cx="411120" cy="459720"/>
          </a:xfrm>
        </p:grpSpPr>
        <p:sp>
          <p:nvSpPr>
            <p:cNvPr id="610" name="Text Box 13"/>
            <p:cNvSpPr/>
            <p:nvPr/>
          </p:nvSpPr>
          <p:spPr>
            <a:xfrm>
              <a:off x="522288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2"/>
            <p:cNvSpPr/>
            <p:nvPr/>
          </p:nvSpPr>
          <p:spPr>
            <a:xfrm>
              <a:off x="525924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15"/>
          <p:cNvGrpSpPr/>
          <p:nvPr/>
        </p:nvGrpSpPr>
        <p:grpSpPr>
          <a:xfrm>
            <a:off x="6143760" y="3503520"/>
            <a:ext cx="411120" cy="459720"/>
            <a:chOff x="6143760" y="3503520"/>
            <a:chExt cx="411120" cy="459720"/>
          </a:xfrm>
        </p:grpSpPr>
        <p:sp>
          <p:nvSpPr>
            <p:cNvPr id="613" name="Text Box 16"/>
            <p:cNvSpPr/>
            <p:nvPr/>
          </p:nvSpPr>
          <p:spPr>
            <a:xfrm>
              <a:off x="61437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7"/>
            <p:cNvSpPr/>
            <p:nvPr/>
          </p:nvSpPr>
          <p:spPr>
            <a:xfrm>
              <a:off x="61801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17" name="Text Box 19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- 6)( x + 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20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19" name="Text Box 21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2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Group 23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22" name="Text Box 24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Line 27"/>
          <p:cNvSpPr/>
          <p:nvPr/>
        </p:nvSpPr>
        <p:spPr>
          <a:xfrm flipH="1">
            <a:off x="5240160" y="4525920"/>
            <a:ext cx="21456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 flipH="1">
            <a:off x="525276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9"/>
          <p:cNvSpPr/>
          <p:nvPr/>
        </p:nvSpPr>
        <p:spPr>
          <a:xfrm>
            <a:off x="527544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- 3)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633240" y="231840"/>
            <a:ext cx="440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olution #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4838760" y="301680"/>
            <a:ext cx="313056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1x +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82760" y="1343160"/>
            <a:ext cx="37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Multiply 3 • 10 = 3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list factors of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4543560" y="1378080"/>
            <a:ext cx="98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•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•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•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474840" y="238608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Which pair adds to 1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7"/>
          <p:cNvSpPr/>
          <p:nvPr/>
        </p:nvSpPr>
        <p:spPr>
          <a:xfrm>
            <a:off x="4456080" y="2443320"/>
            <a:ext cx="98424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61880" y="313380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 Writ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79800" y="5962680"/>
            <a:ext cx="4900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1x + 10 = (3x + 5)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4651200" y="3166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x + 5)( x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457200" y="37227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 Put “3” undern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12"/>
          <p:cNvGrpSpPr/>
          <p:nvPr/>
        </p:nvGrpSpPr>
        <p:grpSpPr>
          <a:xfrm>
            <a:off x="5275440" y="3508200"/>
            <a:ext cx="411120" cy="459720"/>
            <a:chOff x="5275440" y="3508200"/>
            <a:chExt cx="411120" cy="459720"/>
          </a:xfrm>
        </p:grpSpPr>
        <p:sp>
          <p:nvSpPr>
            <p:cNvPr id="641" name="Text Box 13"/>
            <p:cNvSpPr/>
            <p:nvPr/>
          </p:nvSpPr>
          <p:spPr>
            <a:xfrm>
              <a:off x="5275440" y="350820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5311800" y="352404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"/>
          <p:cNvGrpSpPr/>
          <p:nvPr/>
        </p:nvGrpSpPr>
        <p:grpSpPr>
          <a:xfrm>
            <a:off x="6195960" y="3503520"/>
            <a:ext cx="411120" cy="459720"/>
            <a:chOff x="6195960" y="3503520"/>
            <a:chExt cx="411120" cy="459720"/>
          </a:xfrm>
        </p:grpSpPr>
        <p:sp>
          <p:nvSpPr>
            <p:cNvPr id="644" name="Text Box 16"/>
            <p:cNvSpPr/>
            <p:nvPr/>
          </p:nvSpPr>
          <p:spPr>
            <a:xfrm>
              <a:off x="6195960" y="350352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6232320" y="3519360"/>
              <a:ext cx="248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18"/>
          <p:cNvSpPr/>
          <p:nvPr/>
        </p:nvSpPr>
        <p:spPr>
          <a:xfrm>
            <a:off x="469800" y="4259160"/>
            <a:ext cx="42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 Reduce (if possi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9"/>
          <p:cNvGrpSpPr/>
          <p:nvPr/>
        </p:nvGrpSpPr>
        <p:grpSpPr>
          <a:xfrm>
            <a:off x="4622760" y="4105440"/>
            <a:ext cx="2252520" cy="801000"/>
            <a:chOff x="4622760" y="4105440"/>
            <a:chExt cx="2252520" cy="801000"/>
          </a:xfrm>
        </p:grpSpPr>
        <p:sp>
          <p:nvSpPr>
            <p:cNvPr id="648" name="Text Box 20"/>
            <p:cNvSpPr/>
            <p:nvPr/>
          </p:nvSpPr>
          <p:spPr>
            <a:xfrm>
              <a:off x="4622760" y="4105440"/>
              <a:ext cx="22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x + 5)( x +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Group 21"/>
            <p:cNvGrpSpPr/>
            <p:nvPr/>
          </p:nvGrpSpPr>
          <p:grpSpPr>
            <a:xfrm>
              <a:off x="5194080" y="4446720"/>
              <a:ext cx="411120" cy="459720"/>
              <a:chOff x="5194080" y="4446720"/>
              <a:chExt cx="411120" cy="459720"/>
            </a:xfrm>
          </p:grpSpPr>
          <p:sp>
            <p:nvSpPr>
              <p:cNvPr id="650" name="Text Box 22"/>
              <p:cNvSpPr/>
              <p:nvPr/>
            </p:nvSpPr>
            <p:spPr>
              <a:xfrm>
                <a:off x="5194080" y="444672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3"/>
              <p:cNvSpPr/>
              <p:nvPr/>
            </p:nvSpPr>
            <p:spPr>
              <a:xfrm>
                <a:off x="5230440" y="446256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6114960" y="4442040"/>
              <a:ext cx="411120" cy="459720"/>
              <a:chOff x="6114960" y="4442040"/>
              <a:chExt cx="411120" cy="459720"/>
            </a:xfrm>
          </p:grpSpPr>
          <p:sp>
            <p:nvSpPr>
              <p:cNvPr id="653" name="Text Box 25"/>
              <p:cNvSpPr/>
              <p:nvPr/>
            </p:nvSpPr>
            <p:spPr>
              <a:xfrm>
                <a:off x="6114960" y="4442040"/>
                <a:ext cx="411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"/>
              <p:cNvSpPr/>
              <p:nvPr/>
            </p:nvSpPr>
            <p:spPr>
              <a:xfrm>
                <a:off x="6151320" y="4457880"/>
                <a:ext cx="2487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Line 27"/>
          <p:cNvSpPr/>
          <p:nvPr/>
        </p:nvSpPr>
        <p:spPr>
          <a:xfrm flipH="1">
            <a:off x="6151320" y="456084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8"/>
          <p:cNvSpPr/>
          <p:nvPr/>
        </p:nvSpPr>
        <p:spPr>
          <a:xfrm flipH="1">
            <a:off x="6217920" y="4206960"/>
            <a:ext cx="214200" cy="233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6149880" y="3881520"/>
            <a:ext cx="4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0"/>
          <p:cNvSpPr/>
          <p:nvPr/>
        </p:nvSpPr>
        <p:spPr>
          <a:xfrm>
            <a:off x="465120" y="4848120"/>
            <a:ext cx="42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 Move denominator(s)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of “x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31"/>
          <p:cNvSpPr/>
          <p:nvPr/>
        </p:nvSpPr>
        <p:spPr>
          <a:xfrm>
            <a:off x="4603680" y="49831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+ 5)(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76"/>
          <p:cNvGrpSpPr/>
          <p:nvPr/>
        </p:nvGrpSpPr>
        <p:grpSpPr>
          <a:xfrm>
            <a:off x="1305000" y="3381480"/>
            <a:ext cx="3284640" cy="2298600"/>
            <a:chOff x="1305000" y="3381480"/>
            <a:chExt cx="3284640" cy="2298600"/>
          </a:xfrm>
        </p:grpSpPr>
        <p:sp>
          <p:nvSpPr>
            <p:cNvPr id="62" name="Line 21"/>
            <p:cNvSpPr/>
            <p:nvPr/>
          </p:nvSpPr>
          <p:spPr>
            <a:xfrm>
              <a:off x="1305000" y="3686040"/>
              <a:ext cx="328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 flipH="1">
              <a:off x="1905120" y="3381480"/>
              <a:ext cx="17280" cy="22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23"/>
          <p:cNvSpPr/>
          <p:nvPr/>
        </p:nvSpPr>
        <p:spPr>
          <a:xfrm>
            <a:off x="2379600" y="33051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  +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1312920" y="3962520"/>
            <a:ext cx="457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457200" y="248436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Algebra Tiles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5324400" y="429084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x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228600" y="228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ultiplying B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2666880" y="1477800"/>
            <a:ext cx="3657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. (x+3)(x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2124000" y="3794040"/>
            <a:ext cx="838080" cy="838440"/>
            <a:chOff x="2124000" y="3794040"/>
            <a:chExt cx="838080" cy="838440"/>
          </a:xfrm>
        </p:grpSpPr>
        <p:sp>
          <p:nvSpPr>
            <p:cNvPr id="71" name="Rectangle 35"/>
            <p:cNvSpPr/>
            <p:nvPr/>
          </p:nvSpPr>
          <p:spPr>
            <a:xfrm>
              <a:off x="2124000" y="379404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6"/>
            <p:cNvSpPr/>
            <p:nvPr/>
          </p:nvSpPr>
          <p:spPr>
            <a:xfrm>
              <a:off x="2352600" y="394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47"/>
          <p:cNvGrpSpPr/>
          <p:nvPr/>
        </p:nvGrpSpPr>
        <p:grpSpPr>
          <a:xfrm>
            <a:off x="3002040" y="3795840"/>
            <a:ext cx="492120" cy="838080"/>
            <a:chOff x="3002040" y="3795840"/>
            <a:chExt cx="492120" cy="838080"/>
          </a:xfrm>
        </p:grpSpPr>
        <p:sp>
          <p:nvSpPr>
            <p:cNvPr id="74" name="Rectangle 37"/>
            <p:cNvSpPr/>
            <p:nvPr/>
          </p:nvSpPr>
          <p:spPr>
            <a:xfrm>
              <a:off x="3002040" y="379584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3036960" y="39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46"/>
          <p:cNvGrpSpPr/>
          <p:nvPr/>
        </p:nvGrpSpPr>
        <p:grpSpPr>
          <a:xfrm>
            <a:off x="2128680" y="4653000"/>
            <a:ext cx="839880" cy="460080"/>
            <a:chOff x="2128680" y="4653000"/>
            <a:chExt cx="839880" cy="460080"/>
          </a:xfrm>
        </p:grpSpPr>
        <p:sp>
          <p:nvSpPr>
            <p:cNvPr id="77" name="Rectangle 41"/>
            <p:cNvSpPr/>
            <p:nvPr/>
          </p:nvSpPr>
          <p:spPr>
            <a:xfrm>
              <a:off x="2128680" y="468612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3"/>
            <p:cNvSpPr/>
            <p:nvPr/>
          </p:nvSpPr>
          <p:spPr>
            <a:xfrm>
              <a:off x="23605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5"/>
          <p:cNvGrpSpPr/>
          <p:nvPr/>
        </p:nvGrpSpPr>
        <p:grpSpPr>
          <a:xfrm>
            <a:off x="3006720" y="4686480"/>
            <a:ext cx="493560" cy="465840"/>
            <a:chOff x="3006720" y="4686480"/>
            <a:chExt cx="493560" cy="465840"/>
          </a:xfrm>
        </p:grpSpPr>
        <p:sp>
          <p:nvSpPr>
            <p:cNvPr id="80" name="Rectangle 42"/>
            <p:cNvSpPr/>
            <p:nvPr/>
          </p:nvSpPr>
          <p:spPr>
            <a:xfrm>
              <a:off x="3006720" y="46864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3043080" y="46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52"/>
          <p:cNvGrpSpPr/>
          <p:nvPr/>
        </p:nvGrpSpPr>
        <p:grpSpPr>
          <a:xfrm>
            <a:off x="3486240" y="3790800"/>
            <a:ext cx="492120" cy="838440"/>
            <a:chOff x="3486240" y="3790800"/>
            <a:chExt cx="492120" cy="838440"/>
          </a:xfrm>
        </p:grpSpPr>
        <p:sp>
          <p:nvSpPr>
            <p:cNvPr id="83" name="Rectangle 53"/>
            <p:cNvSpPr/>
            <p:nvPr/>
          </p:nvSpPr>
          <p:spPr>
            <a:xfrm>
              <a:off x="3486240" y="37908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54"/>
            <p:cNvSpPr/>
            <p:nvPr/>
          </p:nvSpPr>
          <p:spPr>
            <a:xfrm>
              <a:off x="3521160" y="3943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55"/>
          <p:cNvGrpSpPr/>
          <p:nvPr/>
        </p:nvGrpSpPr>
        <p:grpSpPr>
          <a:xfrm>
            <a:off x="3970440" y="3786120"/>
            <a:ext cx="492120" cy="838440"/>
            <a:chOff x="3970440" y="3786120"/>
            <a:chExt cx="492120" cy="838440"/>
          </a:xfrm>
        </p:grpSpPr>
        <p:sp>
          <p:nvSpPr>
            <p:cNvPr id="86" name="Rectangle 56"/>
            <p:cNvSpPr/>
            <p:nvPr/>
          </p:nvSpPr>
          <p:spPr>
            <a:xfrm>
              <a:off x="3970440" y="378612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7"/>
            <p:cNvSpPr/>
            <p:nvPr/>
          </p:nvSpPr>
          <p:spPr>
            <a:xfrm>
              <a:off x="4005360" y="3938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58"/>
          <p:cNvGrpSpPr/>
          <p:nvPr/>
        </p:nvGrpSpPr>
        <p:grpSpPr>
          <a:xfrm>
            <a:off x="2124000" y="5119560"/>
            <a:ext cx="839880" cy="460080"/>
            <a:chOff x="2124000" y="5119560"/>
            <a:chExt cx="839880" cy="460080"/>
          </a:xfrm>
        </p:grpSpPr>
        <p:sp>
          <p:nvSpPr>
            <p:cNvPr id="89" name="Rectangle 59"/>
            <p:cNvSpPr/>
            <p:nvPr/>
          </p:nvSpPr>
          <p:spPr>
            <a:xfrm>
              <a:off x="2124000" y="515268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60"/>
            <p:cNvSpPr/>
            <p:nvPr/>
          </p:nvSpPr>
          <p:spPr>
            <a:xfrm>
              <a:off x="2355840" y="5119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61"/>
          <p:cNvGrpSpPr/>
          <p:nvPr/>
        </p:nvGrpSpPr>
        <p:grpSpPr>
          <a:xfrm>
            <a:off x="3490920" y="4681440"/>
            <a:ext cx="493560" cy="466200"/>
            <a:chOff x="3490920" y="4681440"/>
            <a:chExt cx="493560" cy="466200"/>
          </a:xfrm>
        </p:grpSpPr>
        <p:sp>
          <p:nvSpPr>
            <p:cNvPr id="92" name="Rectangle 62"/>
            <p:cNvSpPr/>
            <p:nvPr/>
          </p:nvSpPr>
          <p:spPr>
            <a:xfrm>
              <a:off x="3490920" y="4681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63"/>
            <p:cNvSpPr/>
            <p:nvPr/>
          </p:nvSpPr>
          <p:spPr>
            <a:xfrm>
              <a:off x="3527280" y="4687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64"/>
          <p:cNvGrpSpPr/>
          <p:nvPr/>
        </p:nvGrpSpPr>
        <p:grpSpPr>
          <a:xfrm>
            <a:off x="3975120" y="4694400"/>
            <a:ext cx="493560" cy="465840"/>
            <a:chOff x="3975120" y="4694400"/>
            <a:chExt cx="493560" cy="465840"/>
          </a:xfrm>
        </p:grpSpPr>
        <p:sp>
          <p:nvSpPr>
            <p:cNvPr id="95" name="Rectangle 65"/>
            <p:cNvSpPr/>
            <p:nvPr/>
          </p:nvSpPr>
          <p:spPr>
            <a:xfrm>
              <a:off x="3975120" y="46944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4011480" y="470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67"/>
          <p:cNvGrpSpPr/>
          <p:nvPr/>
        </p:nvGrpSpPr>
        <p:grpSpPr>
          <a:xfrm>
            <a:off x="2998800" y="5145120"/>
            <a:ext cx="493560" cy="466200"/>
            <a:chOff x="2998800" y="5145120"/>
            <a:chExt cx="493560" cy="466200"/>
          </a:xfrm>
        </p:grpSpPr>
        <p:sp>
          <p:nvSpPr>
            <p:cNvPr id="98" name="Rectangle 68"/>
            <p:cNvSpPr/>
            <p:nvPr/>
          </p:nvSpPr>
          <p:spPr>
            <a:xfrm>
              <a:off x="2998800" y="5145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035160" y="515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70"/>
          <p:cNvGrpSpPr/>
          <p:nvPr/>
        </p:nvGrpSpPr>
        <p:grpSpPr>
          <a:xfrm>
            <a:off x="3483000" y="5140440"/>
            <a:ext cx="493560" cy="465840"/>
            <a:chOff x="3483000" y="5140440"/>
            <a:chExt cx="493560" cy="465840"/>
          </a:xfrm>
        </p:grpSpPr>
        <p:sp>
          <p:nvSpPr>
            <p:cNvPr id="101" name="Rectangle 71"/>
            <p:cNvSpPr/>
            <p:nvPr/>
          </p:nvSpPr>
          <p:spPr>
            <a:xfrm>
              <a:off x="3483000" y="5140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3519360" y="51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3"/>
          <p:cNvGrpSpPr/>
          <p:nvPr/>
        </p:nvGrpSpPr>
        <p:grpSpPr>
          <a:xfrm>
            <a:off x="3967200" y="5153040"/>
            <a:ext cx="493560" cy="466200"/>
            <a:chOff x="3967200" y="5153040"/>
            <a:chExt cx="493560" cy="466200"/>
          </a:xfrm>
        </p:grpSpPr>
        <p:sp>
          <p:nvSpPr>
            <p:cNvPr id="104" name="Rectangle 74"/>
            <p:cNvSpPr/>
            <p:nvPr/>
          </p:nvSpPr>
          <p:spPr>
            <a:xfrm>
              <a:off x="3967200" y="51530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5"/>
            <p:cNvSpPr/>
            <p:nvPr/>
          </p:nvSpPr>
          <p:spPr>
            <a:xfrm>
              <a:off x="4003560" y="515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Місце для нижнього колонтитула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1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38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16" name="Rectangle 39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40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41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19" name="Rectangle 42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3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4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22" name="Rectangle 45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6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25" name="Rectangle 48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28" name="Rectangle 51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2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131" name="Rectangle 54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134" name="Rectangle 57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59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137" name="Rectangle 60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61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62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140" name="Rectangle 63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64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65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143" name="Rectangle 66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7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68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146" name="Rectangle 69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0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149" name="Rectangle 72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74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152" name="Rectangle 75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7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155" name="Rectangle 78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9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80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158" name="Rectangle 81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82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3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161" name="Rectangle 84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85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86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164" name="Rectangle 87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9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167" name="Rectangle 90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91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92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170" name="Rectangle 93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95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173" name="Rectangle 96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97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Місце для нижнього колонтитула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179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185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188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191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194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19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0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0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31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206" name="Rectangle 32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09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12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15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18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21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24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27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30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233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236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64"/>
          <p:cNvGrpSpPr/>
          <p:nvPr/>
        </p:nvGrpSpPr>
        <p:grpSpPr>
          <a:xfrm>
            <a:off x="5521320" y="5172120"/>
            <a:ext cx="493560" cy="466200"/>
            <a:chOff x="5521320" y="5172120"/>
            <a:chExt cx="493560" cy="466200"/>
          </a:xfrm>
        </p:grpSpPr>
        <p:sp>
          <p:nvSpPr>
            <p:cNvPr id="239" name="Rectangle 65"/>
            <p:cNvSpPr/>
            <p:nvPr/>
          </p:nvSpPr>
          <p:spPr>
            <a:xfrm>
              <a:off x="552132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555768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67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242" name="Rectangle 68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69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1"/>
          <p:cNvSpPr/>
          <p:nvPr/>
        </p:nvSpPr>
        <p:spPr>
          <a:xfrm>
            <a:off x="4218120" y="5815080"/>
            <a:ext cx="46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need to change the “x” tiles so the “1” tiles will fill in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4046400" y="2790720"/>
            <a:ext cx="4124160" cy="2481480"/>
            <a:chOff x="4046400" y="2790720"/>
            <a:chExt cx="4124160" cy="2481480"/>
          </a:xfrm>
        </p:grpSpPr>
        <p:sp>
          <p:nvSpPr>
            <p:cNvPr id="250" name="Line 5"/>
            <p:cNvSpPr/>
            <p:nvPr/>
          </p:nvSpPr>
          <p:spPr>
            <a:xfrm>
              <a:off x="4046400" y="3247920"/>
              <a:ext cx="41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"/>
            <p:cNvSpPr/>
            <p:nvPr/>
          </p:nvSpPr>
          <p:spPr>
            <a:xfrm>
              <a:off x="4579560" y="2790720"/>
              <a:ext cx="0" cy="24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256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259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262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7389720" y="3321000"/>
            <a:ext cx="492120" cy="838080"/>
            <a:chOff x="7389720" y="3321000"/>
            <a:chExt cx="492120" cy="838080"/>
          </a:xfrm>
        </p:grpSpPr>
        <p:sp>
          <p:nvSpPr>
            <p:cNvPr id="265" name="Rectangle 20"/>
            <p:cNvSpPr/>
            <p:nvPr/>
          </p:nvSpPr>
          <p:spPr>
            <a:xfrm>
              <a:off x="738972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742464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268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271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274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34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277" name="Rectangle 35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6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280" name="Rectangle 38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9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283" name="Rectangle 41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42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286" name="Rectangle 44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45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289" name="Rectangle 47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48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49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292" name="Rectangle 50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51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2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295" name="Rectangle 53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4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5"/>
          <p:cNvGrpSpPr/>
          <p:nvPr/>
        </p:nvGrpSpPr>
        <p:grpSpPr>
          <a:xfrm>
            <a:off x="7386480" y="4219560"/>
            <a:ext cx="493560" cy="466200"/>
            <a:chOff x="7386480" y="4219560"/>
            <a:chExt cx="493560" cy="466200"/>
          </a:xfrm>
        </p:grpSpPr>
        <p:sp>
          <p:nvSpPr>
            <p:cNvPr id="298" name="Rectangle 56"/>
            <p:cNvSpPr/>
            <p:nvPr/>
          </p:nvSpPr>
          <p:spPr>
            <a:xfrm>
              <a:off x="738648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742284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58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01" name="Rectangle 59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60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61"/>
          <p:cNvGrpSpPr/>
          <p:nvPr/>
        </p:nvGrpSpPr>
        <p:grpSpPr>
          <a:xfrm>
            <a:off x="7385040" y="4705200"/>
            <a:ext cx="493560" cy="466200"/>
            <a:chOff x="7385040" y="4705200"/>
            <a:chExt cx="493560" cy="466200"/>
          </a:xfrm>
        </p:grpSpPr>
        <p:sp>
          <p:nvSpPr>
            <p:cNvPr id="304" name="Rectangle 62"/>
            <p:cNvSpPr/>
            <p:nvPr/>
          </p:nvSpPr>
          <p:spPr>
            <a:xfrm>
              <a:off x="7385040" y="47052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63"/>
            <p:cNvSpPr/>
            <p:nvPr/>
          </p:nvSpPr>
          <p:spPr>
            <a:xfrm>
              <a:off x="7421400" y="471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64"/>
          <p:cNvGrpSpPr/>
          <p:nvPr/>
        </p:nvGrpSpPr>
        <p:grpSpPr>
          <a:xfrm>
            <a:off x="7846920" y="4707000"/>
            <a:ext cx="493560" cy="465840"/>
            <a:chOff x="7846920" y="4707000"/>
            <a:chExt cx="493560" cy="465840"/>
          </a:xfrm>
        </p:grpSpPr>
        <p:sp>
          <p:nvSpPr>
            <p:cNvPr id="307" name="Rectangle 65"/>
            <p:cNvSpPr/>
            <p:nvPr/>
          </p:nvSpPr>
          <p:spPr>
            <a:xfrm>
              <a:off x="7846920" y="470700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66"/>
            <p:cNvSpPr/>
            <p:nvPr/>
          </p:nvSpPr>
          <p:spPr>
            <a:xfrm>
              <a:off x="7883280" y="4713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67"/>
          <p:cNvGrpSpPr/>
          <p:nvPr/>
        </p:nvGrpSpPr>
        <p:grpSpPr>
          <a:xfrm>
            <a:off x="7846920" y="4219560"/>
            <a:ext cx="493560" cy="466200"/>
            <a:chOff x="7846920" y="4219560"/>
            <a:chExt cx="493560" cy="466200"/>
          </a:xfrm>
        </p:grpSpPr>
        <p:sp>
          <p:nvSpPr>
            <p:cNvPr id="310" name="Rectangle 68"/>
            <p:cNvSpPr/>
            <p:nvPr/>
          </p:nvSpPr>
          <p:spPr>
            <a:xfrm>
              <a:off x="7846920" y="42195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69"/>
            <p:cNvSpPr/>
            <p:nvPr/>
          </p:nvSpPr>
          <p:spPr>
            <a:xfrm>
              <a:off x="7883280" y="422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70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1"/>
          <p:cNvSpPr/>
          <p:nvPr/>
        </p:nvSpPr>
        <p:spPr>
          <a:xfrm>
            <a:off x="4857840" y="57434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ill not a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2"/>
          <p:cNvGrpSpPr/>
          <p:nvPr/>
        </p:nvGrpSpPr>
        <p:grpSpPr>
          <a:xfrm>
            <a:off x="7856640" y="3333600"/>
            <a:ext cx="492120" cy="838440"/>
            <a:chOff x="7856640" y="3333600"/>
            <a:chExt cx="492120" cy="838440"/>
          </a:xfrm>
        </p:grpSpPr>
        <p:sp>
          <p:nvSpPr>
            <p:cNvPr id="315" name="Rectangle 73"/>
            <p:cNvSpPr/>
            <p:nvPr/>
          </p:nvSpPr>
          <p:spPr>
            <a:xfrm>
              <a:off x="785664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74"/>
            <p:cNvSpPr/>
            <p:nvPr/>
          </p:nvSpPr>
          <p:spPr>
            <a:xfrm>
              <a:off x="789156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Line 75"/>
          <p:cNvSpPr/>
          <p:nvPr/>
        </p:nvSpPr>
        <p:spPr>
          <a:xfrm flipH="1" flipV="1">
            <a:off x="5060880" y="5062680"/>
            <a:ext cx="1080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064040" y="2668680"/>
            <a:ext cx="3747960" cy="3214080"/>
            <a:chOff x="4064040" y="2668680"/>
            <a:chExt cx="3747960" cy="3214080"/>
          </a:xfrm>
        </p:grpSpPr>
        <p:sp>
          <p:nvSpPr>
            <p:cNvPr id="322" name="Line 5"/>
            <p:cNvSpPr/>
            <p:nvPr/>
          </p:nvSpPr>
          <p:spPr>
            <a:xfrm>
              <a:off x="4064040" y="3260880"/>
              <a:ext cx="37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454824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Text Box 7"/>
          <p:cNvSpPr/>
          <p:nvPr/>
        </p:nvSpPr>
        <p:spPr>
          <a:xfrm>
            <a:off x="289080" y="2973240"/>
            <a:ext cx="32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Start with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270000" y="3693960"/>
            <a:ext cx="332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Add seven “x” til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ertical or horizontal, at least one of each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welve “1” t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28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331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334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337" name="Rectangle 23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340" name="Rectangle 26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28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343" name="Rectangle 29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0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1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346" name="Rectangle 32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3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4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349" name="Rectangle 35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6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352" name="Rectangle 38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39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40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355" name="Rectangle 41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42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3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358" name="Rectangle 44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5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6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361" name="Rectangle 47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8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9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364" name="Rectangle 50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1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2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367" name="Rectangle 53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4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55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370" name="Rectangle 56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7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58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373" name="Rectangle 59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0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61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376" name="Rectangle 62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63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64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379" name="Rectangle 65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 Box 66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Rectangle 67"/>
          <p:cNvSpPr/>
          <p:nvPr/>
        </p:nvSpPr>
        <p:spPr>
          <a:xfrm>
            <a:off x="263520" y="5294160"/>
            <a:ext cx="32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Rearrange the tiles until they form a rectang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8"/>
          <p:cNvSpPr/>
          <p:nvPr/>
        </p:nvSpPr>
        <p:spPr>
          <a:xfrm>
            <a:off x="5054760" y="6031080"/>
            <a:ext cx="2109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ctangl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384" name="Rectangle 74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75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76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387" name="Rectangle 77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78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630440" y="110484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2082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ethod is to again use algebra t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4081320" y="2668680"/>
            <a:ext cx="3533760" cy="3214080"/>
            <a:chOff x="4081320" y="2668680"/>
            <a:chExt cx="3533760" cy="3214080"/>
          </a:xfrm>
        </p:grpSpPr>
        <p:sp>
          <p:nvSpPr>
            <p:cNvPr id="393" name="Line 5"/>
            <p:cNvSpPr/>
            <p:nvPr/>
          </p:nvSpPr>
          <p:spPr>
            <a:xfrm>
              <a:off x="4081320" y="3260880"/>
              <a:ext cx="35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6"/>
            <p:cNvSpPr/>
            <p:nvPr/>
          </p:nvSpPr>
          <p:spPr>
            <a:xfrm>
              <a:off x="4538160" y="2668680"/>
              <a:ext cx="0" cy="32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"/>
          <p:cNvSpPr/>
          <p:nvPr/>
        </p:nvSpPr>
        <p:spPr>
          <a:xfrm>
            <a:off x="289080" y="2973240"/>
            <a:ext cx="327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Top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column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actoring Trinomials (Til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270000" y="4829040"/>
            <a:ext cx="33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Side facto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les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# of “x” and “1” rows =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4646520" y="3328920"/>
            <a:ext cx="838080" cy="838440"/>
            <a:chOff x="4646520" y="3328920"/>
            <a:chExt cx="838080" cy="838440"/>
          </a:xfrm>
        </p:grpSpPr>
        <p:sp>
          <p:nvSpPr>
            <p:cNvPr id="399" name="Rectangle 11"/>
            <p:cNvSpPr/>
            <p:nvPr/>
          </p:nvSpPr>
          <p:spPr>
            <a:xfrm>
              <a:off x="4646520" y="3328920"/>
              <a:ext cx="838080" cy="838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2"/>
            <p:cNvSpPr/>
            <p:nvPr/>
          </p:nvSpPr>
          <p:spPr>
            <a:xfrm>
              <a:off x="4875120" y="3481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5527800" y="3321000"/>
            <a:ext cx="492120" cy="838080"/>
            <a:chOff x="5527800" y="3321000"/>
            <a:chExt cx="492120" cy="838080"/>
          </a:xfrm>
        </p:grpSpPr>
        <p:sp>
          <p:nvSpPr>
            <p:cNvPr id="402" name="Rectangle 14"/>
            <p:cNvSpPr/>
            <p:nvPr/>
          </p:nvSpPr>
          <p:spPr>
            <a:xfrm>
              <a:off x="5527800" y="332100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15"/>
            <p:cNvSpPr/>
            <p:nvPr/>
          </p:nvSpPr>
          <p:spPr>
            <a:xfrm>
              <a:off x="5562720" y="347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5994360" y="3333600"/>
            <a:ext cx="492120" cy="838440"/>
            <a:chOff x="5994360" y="3333600"/>
            <a:chExt cx="492120" cy="838440"/>
          </a:xfrm>
        </p:grpSpPr>
        <p:sp>
          <p:nvSpPr>
            <p:cNvPr id="405" name="Rectangle 17"/>
            <p:cNvSpPr/>
            <p:nvPr/>
          </p:nvSpPr>
          <p:spPr>
            <a:xfrm>
              <a:off x="5994360" y="3333600"/>
              <a:ext cx="434880" cy="83844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8"/>
            <p:cNvSpPr/>
            <p:nvPr/>
          </p:nvSpPr>
          <p:spPr>
            <a:xfrm>
              <a:off x="6029280" y="348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6915240" y="3330720"/>
            <a:ext cx="492120" cy="838080"/>
            <a:chOff x="6915240" y="3330720"/>
            <a:chExt cx="492120" cy="838080"/>
          </a:xfrm>
        </p:grpSpPr>
        <p:sp>
          <p:nvSpPr>
            <p:cNvPr id="408" name="Rectangle 20"/>
            <p:cNvSpPr/>
            <p:nvPr/>
          </p:nvSpPr>
          <p:spPr>
            <a:xfrm>
              <a:off x="6915240" y="333072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1"/>
            <p:cNvSpPr/>
            <p:nvPr/>
          </p:nvSpPr>
          <p:spPr>
            <a:xfrm>
              <a:off x="6950160" y="348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2"/>
          <p:cNvGrpSpPr/>
          <p:nvPr/>
        </p:nvGrpSpPr>
        <p:grpSpPr>
          <a:xfrm>
            <a:off x="6451560" y="3319560"/>
            <a:ext cx="492120" cy="838080"/>
            <a:chOff x="6451560" y="3319560"/>
            <a:chExt cx="492120" cy="838080"/>
          </a:xfrm>
        </p:grpSpPr>
        <p:sp>
          <p:nvSpPr>
            <p:cNvPr id="411" name="Rectangle 23"/>
            <p:cNvSpPr/>
            <p:nvPr/>
          </p:nvSpPr>
          <p:spPr>
            <a:xfrm>
              <a:off x="6451560" y="3319560"/>
              <a:ext cx="434880" cy="83808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24"/>
            <p:cNvSpPr/>
            <p:nvPr/>
          </p:nvSpPr>
          <p:spPr>
            <a:xfrm>
              <a:off x="6486480" y="3471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25"/>
          <p:cNvGrpSpPr/>
          <p:nvPr/>
        </p:nvGrpSpPr>
        <p:grpSpPr>
          <a:xfrm>
            <a:off x="4651200" y="4187880"/>
            <a:ext cx="839880" cy="460080"/>
            <a:chOff x="4651200" y="4187880"/>
            <a:chExt cx="839880" cy="460080"/>
          </a:xfrm>
        </p:grpSpPr>
        <p:sp>
          <p:nvSpPr>
            <p:cNvPr id="414" name="Rectangle 26"/>
            <p:cNvSpPr/>
            <p:nvPr/>
          </p:nvSpPr>
          <p:spPr>
            <a:xfrm>
              <a:off x="4651200" y="42210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7"/>
            <p:cNvSpPr/>
            <p:nvPr/>
          </p:nvSpPr>
          <p:spPr>
            <a:xfrm>
              <a:off x="4883040" y="4187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529240" y="4221000"/>
            <a:ext cx="493560" cy="466200"/>
            <a:chOff x="5529240" y="4221000"/>
            <a:chExt cx="493560" cy="466200"/>
          </a:xfrm>
        </p:grpSpPr>
        <p:sp>
          <p:nvSpPr>
            <p:cNvPr id="417" name="Rectangle 29"/>
            <p:cNvSpPr/>
            <p:nvPr/>
          </p:nvSpPr>
          <p:spPr>
            <a:xfrm>
              <a:off x="5529240" y="422100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30"/>
            <p:cNvSpPr/>
            <p:nvPr/>
          </p:nvSpPr>
          <p:spPr>
            <a:xfrm>
              <a:off x="5565600" y="4227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1"/>
          <p:cNvGrpSpPr/>
          <p:nvPr/>
        </p:nvGrpSpPr>
        <p:grpSpPr>
          <a:xfrm>
            <a:off x="5996160" y="4216320"/>
            <a:ext cx="493560" cy="466200"/>
            <a:chOff x="5996160" y="4216320"/>
            <a:chExt cx="493560" cy="466200"/>
          </a:xfrm>
        </p:grpSpPr>
        <p:sp>
          <p:nvSpPr>
            <p:cNvPr id="420" name="Rectangle 32"/>
            <p:cNvSpPr/>
            <p:nvPr/>
          </p:nvSpPr>
          <p:spPr>
            <a:xfrm>
              <a:off x="5996160" y="42163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33"/>
            <p:cNvSpPr/>
            <p:nvPr/>
          </p:nvSpPr>
          <p:spPr>
            <a:xfrm>
              <a:off x="6032520" y="4222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Group 34"/>
          <p:cNvGrpSpPr/>
          <p:nvPr/>
        </p:nvGrpSpPr>
        <p:grpSpPr>
          <a:xfrm>
            <a:off x="6462720" y="4229280"/>
            <a:ext cx="493560" cy="465840"/>
            <a:chOff x="6462720" y="4229280"/>
            <a:chExt cx="493560" cy="465840"/>
          </a:xfrm>
        </p:grpSpPr>
        <p:sp>
          <p:nvSpPr>
            <p:cNvPr id="423" name="Rectangle 35"/>
            <p:cNvSpPr/>
            <p:nvPr/>
          </p:nvSpPr>
          <p:spPr>
            <a:xfrm>
              <a:off x="6462720" y="422928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36"/>
            <p:cNvSpPr/>
            <p:nvPr/>
          </p:nvSpPr>
          <p:spPr>
            <a:xfrm>
              <a:off x="6499080" y="4235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37"/>
          <p:cNvGrpSpPr/>
          <p:nvPr/>
        </p:nvGrpSpPr>
        <p:grpSpPr>
          <a:xfrm>
            <a:off x="5521320" y="4695840"/>
            <a:ext cx="493560" cy="466200"/>
            <a:chOff x="5521320" y="4695840"/>
            <a:chExt cx="493560" cy="466200"/>
          </a:xfrm>
        </p:grpSpPr>
        <p:sp>
          <p:nvSpPr>
            <p:cNvPr id="426" name="Rectangle 38"/>
            <p:cNvSpPr/>
            <p:nvPr/>
          </p:nvSpPr>
          <p:spPr>
            <a:xfrm>
              <a:off x="5521320" y="46958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9"/>
            <p:cNvSpPr/>
            <p:nvPr/>
          </p:nvSpPr>
          <p:spPr>
            <a:xfrm>
              <a:off x="5557680" y="470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5987880" y="4708440"/>
            <a:ext cx="493560" cy="466200"/>
            <a:chOff x="5987880" y="4708440"/>
            <a:chExt cx="493560" cy="466200"/>
          </a:xfrm>
        </p:grpSpPr>
        <p:sp>
          <p:nvSpPr>
            <p:cNvPr id="429" name="Rectangle 41"/>
            <p:cNvSpPr/>
            <p:nvPr/>
          </p:nvSpPr>
          <p:spPr>
            <a:xfrm>
              <a:off x="5987880" y="47084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6024240" y="4714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6454800" y="4703760"/>
            <a:ext cx="493560" cy="466200"/>
            <a:chOff x="6454800" y="4703760"/>
            <a:chExt cx="493560" cy="466200"/>
          </a:xfrm>
        </p:grpSpPr>
        <p:sp>
          <p:nvSpPr>
            <p:cNvPr id="432" name="Rectangle 44"/>
            <p:cNvSpPr/>
            <p:nvPr/>
          </p:nvSpPr>
          <p:spPr>
            <a:xfrm>
              <a:off x="6454800" y="470376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6491160" y="471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6919920" y="4224240"/>
            <a:ext cx="493560" cy="466200"/>
            <a:chOff x="6919920" y="4224240"/>
            <a:chExt cx="493560" cy="466200"/>
          </a:xfrm>
        </p:grpSpPr>
        <p:sp>
          <p:nvSpPr>
            <p:cNvPr id="435" name="Rectangle 47"/>
            <p:cNvSpPr/>
            <p:nvPr/>
          </p:nvSpPr>
          <p:spPr>
            <a:xfrm>
              <a:off x="6919920" y="422424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8"/>
            <p:cNvSpPr/>
            <p:nvPr/>
          </p:nvSpPr>
          <p:spPr>
            <a:xfrm>
              <a:off x="6956280" y="4230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526000" y="5167440"/>
            <a:ext cx="493560" cy="465840"/>
            <a:chOff x="5526000" y="5167440"/>
            <a:chExt cx="493560" cy="465840"/>
          </a:xfrm>
        </p:grpSpPr>
        <p:sp>
          <p:nvSpPr>
            <p:cNvPr id="438" name="Rectangle 50"/>
            <p:cNvSpPr/>
            <p:nvPr/>
          </p:nvSpPr>
          <p:spPr>
            <a:xfrm>
              <a:off x="552600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1"/>
            <p:cNvSpPr/>
            <p:nvPr/>
          </p:nvSpPr>
          <p:spPr>
            <a:xfrm>
              <a:off x="556236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6918480" y="4710240"/>
            <a:ext cx="493560" cy="465840"/>
            <a:chOff x="6918480" y="4710240"/>
            <a:chExt cx="493560" cy="465840"/>
          </a:xfrm>
        </p:grpSpPr>
        <p:sp>
          <p:nvSpPr>
            <p:cNvPr id="441" name="Rectangle 53"/>
            <p:cNvSpPr/>
            <p:nvPr/>
          </p:nvSpPr>
          <p:spPr>
            <a:xfrm>
              <a:off x="6918480" y="47102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54"/>
            <p:cNvSpPr/>
            <p:nvPr/>
          </p:nvSpPr>
          <p:spPr>
            <a:xfrm>
              <a:off x="6954840" y="47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6454800" y="5172120"/>
            <a:ext cx="493560" cy="466200"/>
            <a:chOff x="6454800" y="5172120"/>
            <a:chExt cx="493560" cy="466200"/>
          </a:xfrm>
        </p:grpSpPr>
        <p:sp>
          <p:nvSpPr>
            <p:cNvPr id="444" name="Rectangle 56"/>
            <p:cNvSpPr/>
            <p:nvPr/>
          </p:nvSpPr>
          <p:spPr>
            <a:xfrm>
              <a:off x="645480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57"/>
            <p:cNvSpPr/>
            <p:nvPr/>
          </p:nvSpPr>
          <p:spPr>
            <a:xfrm>
              <a:off x="649116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6916680" y="5172120"/>
            <a:ext cx="493560" cy="466200"/>
            <a:chOff x="6916680" y="5172120"/>
            <a:chExt cx="493560" cy="466200"/>
          </a:xfrm>
        </p:grpSpPr>
        <p:sp>
          <p:nvSpPr>
            <p:cNvPr id="447" name="Rectangle 59"/>
            <p:cNvSpPr/>
            <p:nvPr/>
          </p:nvSpPr>
          <p:spPr>
            <a:xfrm>
              <a:off x="6916680" y="5172120"/>
              <a:ext cx="428760" cy="4302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60"/>
            <p:cNvSpPr/>
            <p:nvPr/>
          </p:nvSpPr>
          <p:spPr>
            <a:xfrm>
              <a:off x="6953040" y="5178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987880" y="5167440"/>
            <a:ext cx="493560" cy="465840"/>
            <a:chOff x="5987880" y="5167440"/>
            <a:chExt cx="493560" cy="465840"/>
          </a:xfrm>
        </p:grpSpPr>
        <p:sp>
          <p:nvSpPr>
            <p:cNvPr id="450" name="Rectangle 62"/>
            <p:cNvSpPr/>
            <p:nvPr/>
          </p:nvSpPr>
          <p:spPr>
            <a:xfrm>
              <a:off x="5987880" y="5167440"/>
              <a:ext cx="428760" cy="4298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63"/>
            <p:cNvSpPr/>
            <p:nvPr/>
          </p:nvSpPr>
          <p:spPr>
            <a:xfrm>
              <a:off x="6024240" y="5173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Text Box 65"/>
          <p:cNvSpPr/>
          <p:nvPr/>
        </p:nvSpPr>
        <p:spPr>
          <a:xfrm>
            <a:off x="3838680" y="6031080"/>
            <a:ext cx="4611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 + 12 = ( x + 4)( x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66"/>
          <p:cNvGrpSpPr/>
          <p:nvPr/>
        </p:nvGrpSpPr>
        <p:grpSpPr>
          <a:xfrm>
            <a:off x="4646520" y="4672080"/>
            <a:ext cx="839880" cy="460080"/>
            <a:chOff x="4646520" y="4672080"/>
            <a:chExt cx="839880" cy="460080"/>
          </a:xfrm>
        </p:grpSpPr>
        <p:sp>
          <p:nvSpPr>
            <p:cNvPr id="454" name="Rectangle 67"/>
            <p:cNvSpPr/>
            <p:nvPr/>
          </p:nvSpPr>
          <p:spPr>
            <a:xfrm>
              <a:off x="4646520" y="470520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68"/>
            <p:cNvSpPr/>
            <p:nvPr/>
          </p:nvSpPr>
          <p:spPr>
            <a:xfrm>
              <a:off x="4878360" y="4672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69"/>
          <p:cNvGrpSpPr/>
          <p:nvPr/>
        </p:nvGrpSpPr>
        <p:grpSpPr>
          <a:xfrm>
            <a:off x="4641840" y="5138640"/>
            <a:ext cx="839880" cy="460080"/>
            <a:chOff x="4641840" y="5138640"/>
            <a:chExt cx="839880" cy="460080"/>
          </a:xfrm>
        </p:grpSpPr>
        <p:sp>
          <p:nvSpPr>
            <p:cNvPr id="457" name="Rectangle 70"/>
            <p:cNvSpPr/>
            <p:nvPr/>
          </p:nvSpPr>
          <p:spPr>
            <a:xfrm>
              <a:off x="4641840" y="5171760"/>
              <a:ext cx="839880" cy="426960"/>
            </a:xfrm>
            <a:prstGeom prst="rect">
              <a:avLst/>
            </a:prstGeom>
            <a:solidFill>
              <a:srgbClr val="676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1"/>
            <p:cNvSpPr/>
            <p:nvPr/>
          </p:nvSpPr>
          <p:spPr>
            <a:xfrm>
              <a:off x="4873680" y="51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Text Box 72"/>
          <p:cNvSpPr/>
          <p:nvPr/>
        </p:nvSpPr>
        <p:spPr>
          <a:xfrm>
            <a:off x="4898880" y="282744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3"/>
          <p:cNvSpPr/>
          <p:nvPr/>
        </p:nvSpPr>
        <p:spPr>
          <a:xfrm>
            <a:off x="5473800" y="2825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74"/>
          <p:cNvSpPr/>
          <p:nvPr/>
        </p:nvSpPr>
        <p:spPr>
          <a:xfrm>
            <a:off x="4127400" y="347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5"/>
          <p:cNvSpPr/>
          <p:nvPr/>
        </p:nvSpPr>
        <p:spPr>
          <a:xfrm>
            <a:off x="4113360" y="4100400"/>
            <a:ext cx="33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630440" y="1244520"/>
            <a:ext cx="5745240" cy="825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, we wi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inomials such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7x + 12 back into bi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1436760" y="245916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ethod does not use tiles, instead we look for the pattern of products and su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14200" y="2318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actoring Trinomials 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thod 2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5"/>
          <p:cNvSpPr/>
          <p:nvPr/>
        </p:nvSpPr>
        <p:spPr>
          <a:xfrm>
            <a:off x="750960" y="3475080"/>
            <a:ext cx="66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erm has no coefficient (other than 1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76"/>
          <p:cNvSpPr/>
          <p:nvPr/>
        </p:nvSpPr>
        <p:spPr>
          <a:xfrm>
            <a:off x="720720" y="500544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List all pairs of numbers that multiply to equal the constant,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7"/>
          <p:cNvSpPr/>
          <p:nvPr/>
        </p:nvSpPr>
        <p:spPr>
          <a:xfrm>
            <a:off x="3435120" y="4079880"/>
            <a:ext cx="21909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x +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5491080" y="5008680"/>
            <a:ext cx="169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2 = 1 •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2 •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3 •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6:12:12Z</dcterms:created>
  <dc:creator>Joyce DuVall</dc:creator>
  <dc:description/>
  <dc:language>en-US</dc:language>
  <cp:lastModifiedBy>LEGION</cp:lastModifiedBy>
  <dcterms:modified xsi:type="dcterms:W3CDTF">2017-07-06T06:33:49Z</dcterms:modified>
  <cp:revision>23</cp:revision>
  <dc:subject/>
  <dc:title>PowerPoint Presentation</dc:title>
</cp:coreProperties>
</file>