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D22A-CAC1-49DA-8F10-CFC48DFEBCB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actor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rouping, Trinomials, Binomials, GCF &amp; Solving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actoring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rouping, Trinomials, Binomials, GCF &amp; Solving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Factoring Tri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try this 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x2 + 13x +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a bo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the factors of the first te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the factors of the last te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 on the diagonal and add to see if you get the middle term of the trinomial.  If so, you’re don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Factoring Tri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try this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2 + 13x +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the factors of the first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the factors of the last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on the diagonal and add to see if you get the middle term of the trinomial.  If so, you’re don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fference of Squ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fference of 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ce of Squ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factoring using a difference of squares, look for the following three thing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2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us sign between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th terms must be perfect squ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ll 3 of the above are true, write two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), one with a + sign and one with a – sign : (   +   ) (   -    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 of 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factoring using a difference of squares, look for the following three thing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2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us sign between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terms must be perfect 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ll 3 of the above are true, write two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), one with a + sign and one with a – sign : (   +   ) (   -    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e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 a2 –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 x2 –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 4y2 –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 9y2 –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 3r2 – 8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 2a2 +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he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a2 –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x2 –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4y2 –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9y2 –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3r2 – 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2a2 +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erfect Square Tri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erfect Square Tri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fect Square Tri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factoring using perfect square trinomials, look for the following three thing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st term must be pos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and last terms must be perfect squ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ll three of the above are true, write one (    )2 using the sign of the middle te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fect Square Tri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factoring using perfect square trinomials, look for the following three thing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term must be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nd last terms must be perfect 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ll three of the above are true, write one (    )2 using the sign of the middle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Try The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1.  a2 – 8a +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2.  x2 + 10x +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3.  4y2 + 16y +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4.  9y2 + 30y +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5.  3r2 – 18r +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6.  2a2 + 8a -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ry The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1.  a2 – 8a +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2.  x2 + 10x +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3.  4y2 + 16y +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4.  9y2 + 30y +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5.  3r2 – 18r + 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6.  2a2 + 8a -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actoring Complete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actoring Complet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Complete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that we’ve learned all the types of factoring, we need to remember to use them a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ever it says to factor, you must break down the expression into the smallest possib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review all the ways to fac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Complet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learned all the types of factoring, we need to remember to use them 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ever it says to factor, you must break down the expression into the smallest possi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review all the ways to fac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 for GCF fir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unt the number of te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terms – factor by group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terms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 for perfect square tr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not, try diamond or bo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terms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 for difference of squ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ny ( ) still has an exponent of 2 or more, see if you can factor aga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Fac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GCF fir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 the number of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terms – factor by grou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terms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perfect square trinom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not, try diamond or 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terms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difference of 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y ( ) still has an exponent of 2 or more, see if you can factor ag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by Group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polynomials contain four terms, it is sometimes easier to group like terms in order to fac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goal is to create a common fac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also move terms around in the polynomial to create a common fac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ce makes you better in recognizing common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by Grou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polynomials contain four terms, it is sometimes easier to group like terms in order to fac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goal is to create a common fac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also move terms around in the polynomial to create a common fac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actice makes you better in recognizing common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ing Equation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Equations by Fac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s to Solve Equation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know that an equation must be solved for the unkn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 to now, we have only solved equations with a degree of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x + 8 = 4x +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x + 8 =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x = 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s to Solve Equations by Fac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know that an equation must be solved for the unkn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 to now, we have only solved equations with a degree of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 + 8 = 4x +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x + 8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x = 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s to Solve Equation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n equation has a degree of 2 or higher, we cannot solve it until it has been factor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must first get “0” on one side of the = sign before you try any factor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ce you have “0” on one side, use all your rules for factoring to make 2 ( ) or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s to Solve Equations by Fac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equation has a degree of 2 or higher, we cannot solve it until it has been facto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first get “0” on one side of the = sign before you try any facto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you have “0” on one side, use all your rules for factoring to make 2 ( ) or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s to Solve Equation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, set each factor = 0 and solve for the unkn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12x = 0      Factor GC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(x + 12) = 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set each factor = 0, &amp; solv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x + 12 = 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 = - 12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now have 2 answers, x = 0 and x = -1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s to Solve Equations by Fac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, set each factor = 0 and solve for the unkn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12x = 0      Factor G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(x + 12) = 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et each factor = 0, &amp; sol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x + 12 = 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 = - 12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ow have 2 answers, x = 0 and x = -1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Four Term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Four Term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by Group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: 3xy - 21y + 5x – 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 first two te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xy - 21y = 3y (x – 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 last two te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5x - 35 = 5 (x – 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een parentheses are the same so it’s the common fa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 have a common fac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 - 7) (3y +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by Group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: 3xy - 21y + 5x – 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 first two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y - 21y = 3y (x –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 last two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5x - 35 = 5 (x –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n parentheses are the same so it’s the common f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you have a common fac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 - 7) (3y + 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by Group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Example 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: 6mx – 4m + 3rx – 2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 first two te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mx – 4m = 2m (3x -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 last two te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3rx – 2r = r (3x -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een parentheses are the same so it’s the common fa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 have a common fac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3x - 2)  (2m + 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by Group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xample 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: 6mx – 4m + 3rx – 2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 first two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mx – 4m = 2m (3x -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 last two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3rx – 2r = r (3x -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n parentheses are the same so it’s the common f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you have a common fac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3x - 2)  (2m + 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by Grouping  Exampl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:  15x – 3xy + 4y –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 first two te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x – 3xy = 3x (5 – 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 last two te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4y –20 = 4 (y –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een parentheses are opposites so change the sign on the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4 (-y + 5) or – 4 (5 - 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 have a common fac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5 – y) (3x –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by Grouping  Example 3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:  15x – 3xy + 4y –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 first two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x – 3xy = 3x (5 – 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 last two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4y –20 = 4 (y – 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n parentheses are opposites so change the sign on th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4 (-y + 5) or – 4 (5 - 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you have a common fac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5 – y) (3x –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actoring Tri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actoring Tri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rinomials have a degree of “2”, they are known as quadrati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learned earlier to use the “diamond” to factor trinomials that had a “1” in front of the squared te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12x + 3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 + 7)(x +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n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rinomials have a degree of “2”, they are known as quadrat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learned earlier to use the “diamond” to factor trinomials that had a “1” in front of the squared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12x + 3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 + 7)(x + 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Factoring Tri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re is a coefficient larger than “1” in front of the squared term, we can use a modified diamond or square to find the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ways remember to look for a GCF before you do ANY other factor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Factoring Tri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re is a coefficient larger than “1” in front of the squared term, we can use a modified diamond or square to find the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remember to look for a GCF before you do ANY other facto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BB70-51B4-4025-B460-BEAB04326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F047-A543-4DA8-BFF4-835962ABC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1831-85A1-4967-A663-3465E9F77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8FD9-B7A4-4618-AF25-ECDDFB672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C66B0-AEC0-42B4-84D1-DB2FD8CF7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C4CDE-3AE1-4350-923C-E03341379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9BCF6-785B-417F-A52D-BF9CC012C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95B52-9E7B-420F-9F5C-B2D9CFF8C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4811A-9A5D-4086-B067-54B9332A3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246B5-5312-4263-9542-608025F10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83F2D-DDBB-4B8A-8DC3-9B2AED22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9CE1-CE45-4A66-A055-46CCF0617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40AA9-6726-47FC-AFCC-1C568469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6A7A8-8DD5-4991-9CAB-FC2DA831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BD068-2F09-44A6-9955-99D8CBBD5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595A3-BAA2-49D0-944B-635CCE5C0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E9145-7668-4D9D-82E0-14176860D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21E7-FDCD-4BE0-8A0C-E5760F7BC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1CD0-3065-45A1-90A3-50F1C20CC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161E-330D-490A-AC65-5F7011BE1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EF15-0BB4-44C4-AE0A-76B0C1826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3A85-6BBE-42A6-81BC-53D440F9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0657-FD9B-45AC-9E91-37A096A9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BFED-91A7-41B7-B099-109618E9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B828B-1861-413C-984C-C4F4BF814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1026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1027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1028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1029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1030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1031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1032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1033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34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035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036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037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038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039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040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041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042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043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1044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1045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1046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1047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1048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4D10D-E886-41AC-A16B-E7615C592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1268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actoring Polynomi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676520" y="4114800"/>
            <a:ext cx="5838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, Trinomials, Binomials, GCF &amp; Solving Equ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More Factoring Trinomi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t’s try this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1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e a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 the factors of the first te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 the factors of the last te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ltiply on the diagonal and add to see if you get the middle term of the trinomial.  If so, you’re d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3886200" y="3124080"/>
            <a:ext cx="13716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5"/>
          <p:cNvSpPr/>
          <p:nvPr/>
        </p:nvSpPr>
        <p:spPr>
          <a:xfrm>
            <a:off x="4648320" y="31240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6"/>
          <p:cNvSpPr/>
          <p:nvPr/>
        </p:nvSpPr>
        <p:spPr>
          <a:xfrm>
            <a:off x="388620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ifference of Squar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ifference of Squar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factoring using a difference of squares, look for the following three thing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ly 2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us sign between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th terms must be perfect squ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all 3 of the above are true, write two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), one with a + sign and one with a – sign : (   +   ) (   -   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Try Thes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 4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 9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 3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8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.  2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Perfect Square Trinomi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2849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Perfect Square Trinomi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factoring using perfect square trinomials, look for the following three thing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st term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mus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be po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and last terms must be perfect squ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all three of the above are true, write one (    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using the sign of the middle te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Try Thes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8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10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 4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16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 9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30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 3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18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.  2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8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-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actoring Completel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actoring Completel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w that we’ve learned all the types of factoring, we need to remember to use them 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ever it says to factor, you must break down the expression into the smallest possi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t’s review all the ways to fac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Types of Factor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410760" indent="-4107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ok for GCF fir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760" indent="-4107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nt the number of te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 terms – factor by grou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 terms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7200" indent="-293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ok for perfect square trinom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7200" indent="-293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not, try diamond or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terms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ok for difference of squ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760" indent="-4107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any ( ) still has an exponent of 2 or more, see if you can factor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actor by Group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polynomials contain four terms, it is sometimes easier to group like terms in order to fac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r goal is to create a common fac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can also move terms around in the polynomial to create a common fac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actice makes you better in recognizing common fac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720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Solving Equations by Factor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teps to Solve Equations by Factoring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know that an equation must be solved for the unkn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p to now, we have only solved equations with a degree of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8 = 4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8 =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teps to Solve Equations by Factoring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an equation has a degree of 2 or higher, we cannot solve it until it has been facto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must first get “0” on one side of the = sign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befo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 try any facto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ce you have “0” on one side, use all your rules for factoring to make 2 ( ) or fac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teps to Solve Equations by Factoring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7324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xt, set each factor = 0 and solve for the unkn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1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0      Factor GC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cc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 + 12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set each factor = 0, &amp; sol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en-US" sz="2800" spc="-1" strike="noStrike">
                <a:solidFill>
                  <a:srgbClr val="00cc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 + 12 = 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cc00"/>
                </a:solidFill>
                <a:latin typeface="Times New Roman"/>
              </a:rPr>
              <a:t>                             </a:t>
            </a:r>
            <a:r>
              <a:rPr b="1" i="1" lang="en-US" sz="2800" spc="-1" strike="noStrike">
                <a:solidFill>
                  <a:srgbClr val="00cc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  = - 1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 now have 2 answers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0 an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-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actoring Four Term Polynomi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Picture 3" descr="PE02097_"/>
          <p:cNvPicPr/>
          <p:nvPr/>
        </p:nvPicPr>
        <p:blipFill>
          <a:blip r:embed="rId1"/>
          <a:stretch/>
        </p:blipFill>
        <p:spPr>
          <a:xfrm>
            <a:off x="2590920" y="3389400"/>
            <a:ext cx="4332240" cy="346860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         </a:t>
            </a: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Factor by Grouping</a:t>
            </a:r>
            <a:br>
              <a:rPr sz="4800"/>
            </a:b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Example 1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: 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3</a:t>
            </a:r>
            <a:r>
              <a:rPr b="1" i="1" lang="en-US" sz="3200" spc="-1" strike="noStrike">
                <a:solidFill>
                  <a:srgbClr val="990099"/>
                </a:solidFill>
                <a:latin typeface="Times New Roman"/>
              </a:rPr>
              <a:t>xy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 - 21</a:t>
            </a:r>
            <a:r>
              <a:rPr b="1" i="1" lang="en-US" sz="3200" spc="-1" strike="noStrike">
                <a:solidFill>
                  <a:srgbClr val="990099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 + 5</a:t>
            </a:r>
            <a:r>
              <a:rPr b="1" i="1" lang="en-US" sz="3200" spc="-1" strike="noStrike">
                <a:solidFill>
                  <a:srgbClr val="990099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 – 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 the first two te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2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 3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6699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– 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 the last two te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5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35 =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6699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– 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The green parentheses are the same so it’s the common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w you have a common fac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        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6699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- 7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3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Factor by Grouping</a:t>
            </a:r>
            <a:br>
              <a:rPr sz="48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Example 2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: 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6</a:t>
            </a:r>
            <a:r>
              <a:rPr b="1" i="1" lang="en-US" sz="3200" spc="-1" strike="noStrike">
                <a:solidFill>
                  <a:srgbClr val="990099"/>
                </a:solidFill>
                <a:latin typeface="Times New Roman"/>
              </a:rPr>
              <a:t>mx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 – 4</a:t>
            </a:r>
            <a:r>
              <a:rPr b="1" i="1" lang="en-US" sz="3200" spc="-1" strike="noStrike">
                <a:solidFill>
                  <a:srgbClr val="990099"/>
                </a:solidFill>
                <a:latin typeface="Times New Roman"/>
              </a:rPr>
              <a:t>m 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+ 3</a:t>
            </a:r>
            <a:r>
              <a:rPr b="1" i="1" lang="en-US" sz="3200" spc="-1" strike="noStrike">
                <a:solidFill>
                  <a:srgbClr val="990099"/>
                </a:solidFill>
                <a:latin typeface="Times New Roman"/>
              </a:rPr>
              <a:t>rx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 – 2</a:t>
            </a:r>
            <a:r>
              <a:rPr b="1" i="1" lang="en-US" sz="3200" spc="-1" strike="noStrike">
                <a:solidFill>
                  <a:srgbClr val="990099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 the first two te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– 4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 2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(3</a:t>
            </a:r>
            <a:r>
              <a:rPr b="1" i="1" lang="en-US" sz="3200" spc="-1" strike="noStrike">
                <a:solidFill>
                  <a:srgbClr val="6699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-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 the last two te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– 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(3</a:t>
            </a:r>
            <a:r>
              <a:rPr b="1" i="1" lang="en-US" sz="3200" spc="-1" strike="noStrike">
                <a:solidFill>
                  <a:srgbClr val="6699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-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The green parentheses are the same so it’s the common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w you have a common fac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        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(3</a:t>
            </a:r>
            <a:r>
              <a:rPr b="1" i="1" lang="en-US" sz="3200" spc="-1" strike="noStrike">
                <a:solidFill>
                  <a:srgbClr val="6699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- 2)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2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Factor by Grouping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Example 3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TOR:  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15</a:t>
            </a:r>
            <a:r>
              <a:rPr b="1" i="1" lang="en-US" sz="2800" spc="-1" strike="noStrike">
                <a:solidFill>
                  <a:srgbClr val="990099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 – 3</a:t>
            </a:r>
            <a:r>
              <a:rPr b="1" i="1" lang="en-US" sz="2800" spc="-1" strike="noStrike">
                <a:solidFill>
                  <a:srgbClr val="990099"/>
                </a:solidFill>
                <a:latin typeface="Times New Roman"/>
              </a:rPr>
              <a:t>xy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 + 4</a:t>
            </a:r>
            <a:r>
              <a:rPr b="1" i="1" lang="en-US" sz="2800" spc="-1" strike="noStrike">
                <a:solidFill>
                  <a:srgbClr val="990099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 –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tor the first two ter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5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– 3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3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(5 – </a:t>
            </a:r>
            <a:r>
              <a:rPr b="1" i="1" lang="en-US" sz="2800" spc="-1" strike="noStrike">
                <a:solidFill>
                  <a:srgbClr val="6699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tor the last two ter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 4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–20 = 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6699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 – 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The green parentheses are opposites so change the sign on 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- 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(-</a:t>
            </a:r>
            <a:r>
              <a:rPr b="1" i="1" lang="en-US" sz="2800" spc="-1" strike="noStrike">
                <a:solidFill>
                  <a:srgbClr val="6699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 + 5) or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– 4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 (5 - </a:t>
            </a:r>
            <a:r>
              <a:rPr b="1" i="1" lang="en-US" sz="2800" spc="-1" strike="noStrike">
                <a:solidFill>
                  <a:srgbClr val="6699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w you have a common fac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(5 – </a:t>
            </a:r>
            <a:r>
              <a:rPr b="1" i="1" lang="en-US" sz="2800" spc="-1" strike="noStrike">
                <a:solidFill>
                  <a:srgbClr val="6699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3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–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actoring Trinomi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Factoring Trinominals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trinomials have a degree of “2”, they are known as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quadratic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learned earlier to use the “diamond” to factor trinomials that had a “1” in front of the squared te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1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3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7)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More Factoring Trinomi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there is a coefficient larger than “1” in front of the squared term, we can use a modified diamond or square to find the fac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ways remember to look for a GCF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efo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 do ANY other facto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8T21:25:54Z</dcterms:created>
  <dc:creator>June Hilton</dc:creator>
  <dc:description/>
  <dc:language>en-US</dc:language>
  <cp:lastModifiedBy>LEGION</cp:lastModifiedBy>
  <dcterms:modified xsi:type="dcterms:W3CDTF">2017-07-06T06:33:27Z</dcterms:modified>
  <cp:revision>23</cp:revision>
  <dc:subject/>
  <dc:title>SECTION 7.3:  Factor By Grouping</dc:title>
</cp:coreProperties>
</file>