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3F7C-8D17-430D-8B40-9616042662D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4A2D-090E-45DD-B353-FB1963F2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A4C-8DE0-40C6-9C54-7918F204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B3F-FC56-49F5-9149-C63B5F44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4B3-081D-41C4-BE61-853C118F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8742-33B0-4FB8-BC9B-8B969493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EB41-6B22-4443-9CBD-8F63ECAC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D330-0954-4082-9E9A-12652C6F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2075-9611-4256-B018-DF1D0EFC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B963-6D6D-4747-B816-BA96D92B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08F9-4E11-4896-B5AF-895BAB6D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5067-106B-4D9D-955C-E4570AC0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D21-FE9D-4AC5-A7B6-10726C6C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6DED-4FFF-43D5-9D26-281A6CFA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E777-9029-434A-BC9A-21CB56EC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E60B-65E0-480F-AAD6-380FF585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3F1C-50AC-41A1-A9A7-58E40043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A591-96AC-41E1-9C87-678975B8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379-DB0F-4B5F-A09D-9056B37A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E27-7887-4328-9987-56D74512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75B6-6AE8-4A91-B250-4408CD0E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C96-735B-4484-828D-2E88F13F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240-0724-4001-9560-161FB2B8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A47-0A51-4669-A267-14A6462D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04CC-ADEF-4225-A8BF-91A2CD71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27F2-5A22-4A2B-A041-92FFCA69C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1027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1028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029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030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31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32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33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34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35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036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037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038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039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040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041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042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043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044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1045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046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1047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048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AFCD-8366-42F2-98E5-E0EF6FEE1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126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676520" y="4114800"/>
            <a:ext cx="58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886200" y="3124080"/>
            <a:ext cx="1371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464832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3886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849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term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mu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e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sing the sign of the middl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ypes of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720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olving Equations by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ry any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     Factor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                    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= -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now have 2 answer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Four Term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Picture 3" descr="PE02097_"/>
          <p:cNvPicPr/>
          <p:nvPr/>
        </p:nvPicPr>
        <p:blipFill>
          <a:blip r:embed="rId1"/>
          <a:stretch/>
        </p:blipFill>
        <p:spPr>
          <a:xfrm>
            <a:off x="2590920" y="3389400"/>
            <a:ext cx="433224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1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+ 5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35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7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2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3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: 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+ 4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20 =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The green parentheses are opposites so change the sign on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-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+ 5) 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 4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(5 -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ing Trinominal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quadratic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3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)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ways remember to look for a GC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do ANY other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1:25:54Z</dcterms:created>
  <dc:creator>June Hilton</dc:creator>
  <dc:description/>
  <dc:language>en-US</dc:language>
  <cp:lastModifiedBy>LEGION</cp:lastModifiedBy>
  <dcterms:modified xsi:type="dcterms:W3CDTF">2017-07-06T06:33:27Z</dcterms:modified>
  <cp:revision>23</cp:revision>
  <dc:subject/>
  <dc:title>SECTION 7.3:  Factor By Grouping</dc:title>
</cp:coreProperties>
</file>