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FDFF-B5E2-44C9-909D-A6D56F5AB4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2 + 13x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a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x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4y2 –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9y2 –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3r2 – 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2a2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term must be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2 using the sign of the middl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y Th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.  a2 – 8a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.  x2 + 10x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.  4y2 + 16y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.  9y2 + 30y +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.  3r2 – 18r +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.  2a2 + 8a -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Comple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8 = 4x +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+ 8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x =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before you try any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s to Solve Equations by 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= 0      Factor 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(x + 12)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x + 12 = 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 = - 12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ow have 2 answers, x = 0 and x = -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Four Term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3xy - 21y + 5x – 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 - 21y = 3y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x - 35 = 5 (x –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- 7) (3y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ample 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6mx – 4m + 3rx – 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mx – 4m = 2m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rx – 2r = r (3x -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the same so it’s the common f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 - 2)  (2m +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by Grouping  Example 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  15x – 3xy + 4y 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x – 3xy = 3x (5 –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y –20 = 4 (y –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 parentheses are opposites so change the sign on th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4 (-y + 5) or – 4 (5 - 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 – y) (3x –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Trinomi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quadra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2 + 12x +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+ 7)(x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actoring Tri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remember to look for a GCF before you do ANY other fact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CDF1-1636-47F8-AB9C-C3F243E6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CFE-7129-483A-ABA5-0683FF9F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A35-5585-4951-A8A2-107851B3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80F-0DE0-4CAA-A065-A3D7DC81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EEC3-1C1B-4C02-820F-06D05C49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9208-003E-4E37-950A-3A190A5A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ECC9-9DD4-4FFD-8761-278C8F9A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3303-684D-4167-B4FA-D14F0C2C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C81C-643C-49F0-BEE6-85B6B311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B248-9C2E-465D-8E20-BBF4891D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A500-00BB-4215-B14F-885FD17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A29-8C72-41BA-9275-A6129D83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86B6-902F-4D4D-B561-B79E0A95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46EF-4B3E-48A9-BC6F-09B3FEEA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A888-A24F-4BDE-90D3-947129F1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44D3-FDC1-466F-9532-F4BBD651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87BB-3B7E-4BE1-A8EC-8CE8A30D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A68-9E40-42F0-8481-D49195FB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773-7EE9-477D-9863-58A5FBB9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77C-3E20-435F-9B6B-6DE55483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D2F-4BC9-4627-8955-081BBBFD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95B-2342-4492-A541-DCD74E5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739-7AA6-4A7F-950F-329CF2C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146-D67D-4A16-BF4F-29FA3439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47EA-15C0-4A75-A922-52B9E4D9F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B91B-4DF7-4041-9459-9C01BF6C1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LEGION</cp:lastModifiedBy>
  <dcterms:modified xsi:type="dcterms:W3CDTF">2017-07-06T06:33:27Z</dcterms:modified>
  <cp:revision>23</cp:revision>
  <dc:subject/>
  <dc:title>SECTION 7.3:  Factor By Grouping</dc:title>
</cp:coreProperties>
</file>