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38.wmf" ContentType="image/x-wmf"/>
  <Override PartName="/ppt/media/image8.wmf" ContentType="image/x-wmf"/>
  <Override PartName="/ppt/media/image85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36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22.wmf" ContentType="image/x-wmf"/>
  <Override PartName="/ppt/media/image59.wmf" ContentType="image/x-wmf"/>
  <Override PartName="/ppt/media/image23.wmf" ContentType="image/x-wmf"/>
  <Override PartName="/ppt/media/image60.wmf" ContentType="image/x-wmf"/>
  <Override PartName="/ppt/media/image24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88.wmf" ContentType="image/x-wmf"/>
  <Override PartName="/ppt/media/image76.wmf" ContentType="image/x-wmf"/>
  <Override PartName="/ppt/media/image87.wmf" ContentType="image/x-wmf"/>
  <Override PartName="/ppt/media/image50.wmf" ContentType="image/x-wmf"/>
  <Override PartName="/ppt/media/image75.wmf" ContentType="image/x-wmf"/>
  <Override PartName="/ppt/media/image79.wmf" ContentType="image/x-wmf"/>
  <Override PartName="/ppt/media/image78.wmf" ContentType="image/x-wmf"/>
  <Override PartName="/ppt/media/image77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68.wmf" ContentType="image/x-wmf"/>
  <Override PartName="/ppt/media/image70.wmf" ContentType="image/x-wmf"/>
  <Override PartName="/ppt/media/image28.wmf" ContentType="image/x-wmf"/>
  <Override PartName="/ppt/media/image71.wmf" ContentType="image/x-wmf"/>
  <Override PartName="/ppt/media/image29.wmf" ContentType="image/x-wmf"/>
  <Override PartName="/ppt/media/image69.wmf" ContentType="image/x-wmf"/>
  <Override PartName="/ppt/media/image32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81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90.wmf" ContentType="image/x-wmf"/>
  <Override PartName="/ppt/media/image25.wmf" ContentType="image/x-wmf"/>
  <Override PartName="/ppt/media/image2.wmf" ContentType="image/x-wmf"/>
  <Override PartName="/ppt/media/image14.wmf" ContentType="image/x-wmf"/>
  <Override PartName="/ppt/media/image91.wmf" ContentType="image/x-wmf"/>
  <Override PartName="/ppt/media/image26.wmf" ContentType="image/x-wmf"/>
  <Override PartName="/ppt/media/image80.wmf" ContentType="image/x-wmf"/>
  <Override PartName="/ppt/media/image15.wmf" ContentType="image/x-wmf"/>
  <Override PartName="/ppt/media/image3.wmf" ContentType="image/x-wmf"/>
  <Override PartName="/ppt/media/image33.wmf" ContentType="image/x-wmf"/>
  <Override PartName="/ppt/media/image82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5BCD-76E2-465B-B394-DB15B2419A60}" type="slidenum">
              <a:rPr b="1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y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Factor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Polynomial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othe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Here is another example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 on your 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and Difference of Cub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um and Difference of Cube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write as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each monomial as a cube and apply either of the rul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rite each monomial as a cube and apply either of the rules.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write as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actoring Method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Factoring Method #3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Product of first terms of both binomi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t equal first term of the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Write two sets of parenthesis, (   )(   ).  These will be the factors of the trinomi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Next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Product of first terms of both binomial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must equal first term of the trinomial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Write two sets of parenthesis, (   )(   ).  These will be the factors of the trinomial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The product of last terms of both binomials must equal last term of the trinomial (c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Think of the FOIL method of multiplying binomials, the sum of the outer and the inner products must equal the middle term (bx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The product of last terms of both binomials must equal last term of the trinomial (c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4. Think of the FOIL method of multiplying binomials, the sum of the outer and the inner products must equal the middle term (bx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s of +8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 &amp;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&amp;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 &amp; 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2 &amp; -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s of +8: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1 &amp; 8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 &amp; 4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-1 &amp; -8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-2 &amp; -4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“Difference of Squares” is a binomial (*2 terms only*) and it factors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 “Difference of Squares” is a binomial (*2 terms only*) and it factors like thi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s do another examp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d a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rinom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Forget Method #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check for GCF before you do anything el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Lets do another example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ind a GCF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 trinomial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n’t Forget Method #1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lways check for GCF before you do anything else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&gt;1 and c&lt;1, there may be more combinations to tr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hen a&gt;1 and c&lt;1, there may be more combinations to try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Place the factors inside the parenthesis until O + I = b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+ I = 30 x - x = 29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oesn’t work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3: Place the factors inside the parenthesis until O + I = bx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 + I = 30 x - x = 29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+ I = -6x + 5x = -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oesn’t work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the order of the second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ry ag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 + I = -6x + 5x = -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witch the order of the second term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and try again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another combin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tch to 3x and 2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another combinatio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witch to 3x and 2x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echnique 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 perfect square trinomial in the for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Technique #3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continued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a perfect square trinomial in the form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fect Square Trinomials can be factored just like other trinomials (guess and check), but if you recognize the perfect squares pattern, follow the formula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Perfect Square Trinomials can be factored just like other trinomials (guess and check), but if you recognize the perfect squares pattern, follow the formula!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term fit the pattern, 2a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the factors are (a + b)2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es the middle term fit the pattern, 2ab?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Yes, the factors are (a + b)2 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a polynomial means expressing it as a product of other polynom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a polynomial means expressing it as a product of other polynomial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 the middle term fit the pattern, 2a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the factors are (a - b)2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Does the middle term fit the pattern, 2ab?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Yes, the factors are (a - b)2 :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Technique 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polynomi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4 or more te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Technique #4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or polynomials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with 4 or more terms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By Group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Group the first set of terms and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st set of terms with parenthe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Factor out the GCF from each grou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at both sets of parenthes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ain the same facto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Factor out the GCF again (the GC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e factor from step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Group the first set of terms and  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last set of terms with parenthese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Factor out the GCF from each group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o that both sets of parentheses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contain the same factor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Factor out the GCF again (the GCF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is the factor from step 2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1: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Factor out GCF from each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: Factor out GCF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1: Group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Example 1:      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2: Factor out GCF from each group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3: Factor out GCF again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Example 2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these on your 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nsw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Answer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polynomials with a common monomial factor     (using GC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*Always look for a GCF before using any other factoring meth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Method 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polynomials with a common monomial factor     (using GCF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**Always look for a GCF before using any other factoring method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Method #1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Find the greatest common factor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CF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Divide the polynomial by the GCF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otient is the other fac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Express the polynomial as the produ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quotient and the GC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1. Find the greatest common factor    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(GCF)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2. Divide the polynomial by the GCF.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e quotient is the other factor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3. Express the polynomial as the product 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of the quotient and the GCF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:  Divide by GC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1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tep 2:  Divide by GCF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should look like th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The answer should look like this: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these on your own looking for a GC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 these on your own looking for a GCF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polynomials that are a difference of squa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ing Method 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polynomials that are a difference of squares.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Factoring Method #2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33"/>
                </a:solidFill>
                <a:latin typeface="Times New Roman"/>
              </a:rPr>
              <a:t>sliderbase.com</a:t>
            </a: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CC8-9F36-46F7-ACFB-1F50B1ED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4585-657E-421B-A90F-3C33DEFF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33E-5DB1-4461-8856-816A78C6D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145A-D02B-445F-923F-6ABEE8DAB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DDD0-1D0C-47B2-9B12-0FCE02ED6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B45C-2412-4A2E-8F4E-26045E7D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873C-30A5-4962-A1C1-BBD97D84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1FE1-8BB7-4E21-9EE8-183DE6C7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4D36-1CA7-4FD2-A7CD-EA7CE07C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366F-0BE6-43E4-BD9C-E92D672F6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3A6F-586C-4D84-91AD-96709FB0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6711-1FCE-4AAF-9776-6C5CF98B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1DAF-8DAB-4EBB-B471-1C22B445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42FC-3309-4B73-960D-E22AB19B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8C14-B8DE-4CF5-8BBB-84B208A4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3316-0DE4-480E-9438-4B444FF49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1912-FC62-4B35-A55C-5193DF1E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C73-ADED-4995-A4B6-DCF86352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373D-5CF6-49F5-80B6-5FFDB0A0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AC18-058A-4B1B-989E-AE099B37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9367-87A5-4C5C-96B2-4B3E93CC6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0D21-7789-4605-931A-095B6A4A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1BF6-987E-415E-9600-DB86DE6D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D28D-59FD-4DF0-BC07-C28DF4EB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3104-E544-488E-80DA-B2977C08596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4282a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2209-C3DA-4AB4-909A-A9B8FB915F0E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73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380880" y="380880"/>
            <a:ext cx="7315200" cy="408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actoring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3"/>
          <p:cNvSpPr txBox="1"/>
          <p:nvPr/>
        </p:nvSpPr>
        <p:spPr>
          <a:xfrm>
            <a:off x="762120" y="1905120"/>
            <a:ext cx="7772400" cy="495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olynomials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4"/>
          <p:cNvGrpSpPr/>
          <p:nvPr/>
        </p:nvGrpSpPr>
        <p:grpSpPr>
          <a:xfrm>
            <a:off x="533520" y="685800"/>
            <a:ext cx="8305560" cy="2104920"/>
            <a:chOff x="533520" y="685800"/>
            <a:chExt cx="8305560" cy="2104920"/>
          </a:xfrm>
        </p:grpSpPr>
        <p:sp>
          <p:nvSpPr>
            <p:cNvPr id="139" name="Text Box 3"/>
            <p:cNvSpPr/>
            <p:nvPr/>
          </p:nvSpPr>
          <p:spPr>
            <a:xfrm>
              <a:off x="533520" y="685800"/>
              <a:ext cx="830556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To factor, express each term as a square of a monomial then apply the rule... 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40" name="Object 4"/>
            <p:cNvGraphicFramePr/>
            <p:nvPr/>
          </p:nvGraphicFramePr>
          <p:xfrm>
            <a:off x="2952720" y="2095560"/>
            <a:ext cx="4800600" cy="673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52720" y="2095560"/>
                      <a:ext cx="4800600" cy="673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42" name="Object 7"/>
          <p:cNvGraphicFramePr/>
          <p:nvPr/>
        </p:nvGraphicFramePr>
        <p:xfrm>
          <a:off x="533520" y="3124080"/>
          <a:ext cx="380988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124080"/>
                    <a:ext cx="380988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9"/>
          <p:cNvGraphicFramePr/>
          <p:nvPr/>
        </p:nvGraphicFramePr>
        <p:xfrm>
          <a:off x="1809720" y="4091040"/>
          <a:ext cx="2475000" cy="739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5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09720" y="4091040"/>
                    <a:ext cx="247500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1"/>
          <p:cNvGraphicFramePr/>
          <p:nvPr/>
        </p:nvGraphicFramePr>
        <p:xfrm>
          <a:off x="1523880" y="5105520"/>
          <a:ext cx="381024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5105520"/>
                    <a:ext cx="38102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15"/>
          <p:cNvSpPr/>
          <p:nvPr/>
        </p:nvSpPr>
        <p:spPr>
          <a:xfrm>
            <a:off x="1376280" y="5081760"/>
            <a:ext cx="3951360" cy="846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1752480" y="304920"/>
            <a:ext cx="586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Here is another example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339840" y="1447920"/>
          <a:ext cx="336060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9840" y="1447920"/>
                    <a:ext cx="336060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5"/>
          <p:cNvGraphicFramePr/>
          <p:nvPr/>
        </p:nvGraphicFramePr>
        <p:xfrm>
          <a:off x="411120" y="3459240"/>
          <a:ext cx="3595680" cy="17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120" y="3459240"/>
                    <a:ext cx="359568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4229280" y="3676680"/>
          <a:ext cx="4241520" cy="13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29280" y="3676680"/>
                    <a:ext cx="424152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Rectangle 7"/>
          <p:cNvSpPr/>
          <p:nvPr/>
        </p:nvSpPr>
        <p:spPr>
          <a:xfrm>
            <a:off x="4181400" y="3564000"/>
            <a:ext cx="4392720" cy="1535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600200" y="30492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60" name="Object 3"/>
          <p:cNvGraphicFramePr/>
          <p:nvPr/>
        </p:nvGraphicFramePr>
        <p:xfrm>
          <a:off x="366840" y="1428840"/>
          <a:ext cx="4152600" cy="39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840" y="1428840"/>
                    <a:ext cx="4152600" cy="39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"/>
          <p:cNvGraphicFramePr/>
          <p:nvPr/>
        </p:nvGraphicFramePr>
        <p:xfrm>
          <a:off x="3581280" y="1349280"/>
          <a:ext cx="3969000" cy="83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1349280"/>
                    <a:ext cx="3969000" cy="8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5"/>
          <p:cNvGraphicFramePr/>
          <p:nvPr/>
        </p:nvGraphicFramePr>
        <p:xfrm>
          <a:off x="4441680" y="2589120"/>
          <a:ext cx="4702320" cy="75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41680" y="2589120"/>
                    <a:ext cx="470232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6"/>
          <p:cNvGraphicFramePr/>
          <p:nvPr/>
        </p:nvGraphicFramePr>
        <p:xfrm>
          <a:off x="3387600" y="3581280"/>
          <a:ext cx="5756400" cy="1013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387600" y="3581280"/>
                    <a:ext cx="5756400" cy="10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5"/>
          <p:cNvSpPr/>
          <p:nvPr/>
        </p:nvSpPr>
        <p:spPr>
          <a:xfrm>
            <a:off x="571680" y="135576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Sum and Difference of Cubes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70" name="Object 6"/>
          <p:cNvGraphicFramePr/>
          <p:nvPr/>
        </p:nvGraphicFramePr>
        <p:xfrm>
          <a:off x="407880" y="2706840"/>
          <a:ext cx="849960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2706840"/>
                    <a:ext cx="849960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Object 2"/>
          <p:cNvGraphicFramePr/>
          <p:nvPr/>
        </p:nvGraphicFramePr>
        <p:xfrm>
          <a:off x="0" y="1951200"/>
          <a:ext cx="5505480" cy="10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51200"/>
                    <a:ext cx="5505480" cy="10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3"/>
          <p:cNvGraphicFramePr/>
          <p:nvPr/>
        </p:nvGraphicFramePr>
        <p:xfrm>
          <a:off x="5430960" y="2001960"/>
          <a:ext cx="3504960" cy="103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0960" y="2001960"/>
                    <a:ext cx="3504960" cy="10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4"/>
          <p:cNvSpPr/>
          <p:nvPr/>
        </p:nvSpPr>
        <p:spPr>
          <a:xfrm>
            <a:off x="4533840" y="1581120"/>
            <a:ext cx="365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0" y="287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Write each monomial as a cube and apply either of the rules.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79" name="Group 12"/>
          <p:cNvGrpSpPr/>
          <p:nvPr/>
        </p:nvGrpSpPr>
        <p:grpSpPr>
          <a:xfrm>
            <a:off x="728640" y="2982960"/>
            <a:ext cx="7643880" cy="1425600"/>
            <a:chOff x="728640" y="2982960"/>
            <a:chExt cx="7643880" cy="1425600"/>
          </a:xfrm>
        </p:grpSpPr>
        <p:sp>
          <p:nvSpPr>
            <p:cNvPr id="180" name="Text Box 6"/>
            <p:cNvSpPr/>
            <p:nvPr/>
          </p:nvSpPr>
          <p:spPr>
            <a:xfrm>
              <a:off x="728640" y="2982960"/>
              <a:ext cx="5410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Apply the rule for sum of cubes: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81" name="Object 8"/>
            <p:cNvGraphicFramePr/>
            <p:nvPr/>
          </p:nvGraphicFramePr>
          <p:xfrm>
            <a:off x="896760" y="3449520"/>
            <a:ext cx="7475760" cy="9590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8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96760" y="3449520"/>
                      <a:ext cx="7475760" cy="95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83" name="Object 5"/>
          <p:cNvGraphicFramePr/>
          <p:nvPr/>
        </p:nvGraphicFramePr>
        <p:xfrm>
          <a:off x="1641600" y="5661000"/>
          <a:ext cx="5940360" cy="849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41600" y="5661000"/>
                    <a:ext cx="59403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Line 11"/>
          <p:cNvSpPr/>
          <p:nvPr/>
        </p:nvSpPr>
        <p:spPr>
          <a:xfrm>
            <a:off x="0" y="1535040"/>
            <a:ext cx="914400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86" name="Object 13"/>
          <p:cNvGraphicFramePr/>
          <p:nvPr/>
        </p:nvGraphicFramePr>
        <p:xfrm>
          <a:off x="1446120" y="4518000"/>
          <a:ext cx="6311880" cy="84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7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46120" y="4518000"/>
                    <a:ext cx="631188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Rectangle 14"/>
          <p:cNvSpPr/>
          <p:nvPr/>
        </p:nvSpPr>
        <p:spPr>
          <a:xfrm>
            <a:off x="2141640" y="5634000"/>
            <a:ext cx="5449680" cy="87300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54000" y="868320"/>
          <a:ext cx="459900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000" y="868320"/>
                    <a:ext cx="459900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4"/>
          <p:cNvSpPr/>
          <p:nvPr/>
        </p:nvSpPr>
        <p:spPr>
          <a:xfrm>
            <a:off x="5451480" y="27936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Rewrite as cubes</a:t>
            </a:r>
            <a:endParaRPr b="1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3" name="Object 8"/>
          <p:cNvGraphicFramePr/>
          <p:nvPr/>
        </p:nvGraphicFramePr>
        <p:xfrm>
          <a:off x="4714920" y="868320"/>
          <a:ext cx="426708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868320"/>
                    <a:ext cx="426708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9"/>
          <p:cNvGraphicFramePr/>
          <p:nvPr/>
        </p:nvGraphicFramePr>
        <p:xfrm>
          <a:off x="851040" y="5299200"/>
          <a:ext cx="7594560" cy="1125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6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51040" y="5299200"/>
                    <a:ext cx="75945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7" name="Group 14"/>
          <p:cNvGrpSpPr/>
          <p:nvPr/>
        </p:nvGrpSpPr>
        <p:grpSpPr>
          <a:xfrm>
            <a:off x="800280" y="2077920"/>
            <a:ext cx="7789680" cy="1600200"/>
            <a:chOff x="800280" y="2077920"/>
            <a:chExt cx="7789680" cy="1600200"/>
          </a:xfrm>
        </p:grpSpPr>
        <p:sp>
          <p:nvSpPr>
            <p:cNvPr id="198" name="Text Box 6"/>
            <p:cNvSpPr/>
            <p:nvPr/>
          </p:nvSpPr>
          <p:spPr>
            <a:xfrm>
              <a:off x="820800" y="2077920"/>
              <a:ext cx="65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Apply the rule for difference of cubes: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199" name="Object 10"/>
            <p:cNvGraphicFramePr/>
            <p:nvPr/>
          </p:nvGraphicFramePr>
          <p:xfrm>
            <a:off x="800280" y="2678040"/>
            <a:ext cx="7789680" cy="1000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0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0280" y="2678040"/>
                      <a:ext cx="7789680" cy="10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01" name="Object 13"/>
          <p:cNvGraphicFramePr/>
          <p:nvPr/>
        </p:nvGraphicFramePr>
        <p:xfrm>
          <a:off x="392040" y="3841920"/>
          <a:ext cx="8444160" cy="123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2" name="Object 1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2040" y="3841920"/>
                    <a:ext cx="8444160" cy="12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Rectangle 15"/>
          <p:cNvSpPr/>
          <p:nvPr/>
        </p:nvSpPr>
        <p:spPr>
          <a:xfrm>
            <a:off x="1428840" y="5292720"/>
            <a:ext cx="7021440" cy="111132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7812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3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06" name="Group 7"/>
          <p:cNvGrpSpPr/>
          <p:nvPr/>
        </p:nvGrpSpPr>
        <p:grpSpPr>
          <a:xfrm>
            <a:off x="533520" y="2409840"/>
            <a:ext cx="8610480" cy="2125800"/>
            <a:chOff x="533520" y="2409840"/>
            <a:chExt cx="8610480" cy="2125800"/>
          </a:xfrm>
        </p:grpSpPr>
        <p:sp>
          <p:nvSpPr>
            <p:cNvPr id="207" name="Text Box 5"/>
            <p:cNvSpPr/>
            <p:nvPr/>
          </p:nvSpPr>
          <p:spPr>
            <a:xfrm>
              <a:off x="533520" y="2409840"/>
              <a:ext cx="86104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Factoring a 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trinomial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in the form: </a:t>
              </a:r>
              <a:endParaRPr b="1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08" name="Object 6"/>
            <p:cNvGraphicFramePr/>
            <p:nvPr/>
          </p:nvGraphicFramePr>
          <p:xfrm>
            <a:off x="2095560" y="3457440"/>
            <a:ext cx="5159160" cy="1078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9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095560" y="3457440"/>
                      <a:ext cx="5159160" cy="107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7734240" y="61833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Next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12" name="Group 6"/>
          <p:cNvGrpSpPr/>
          <p:nvPr/>
        </p:nvGrpSpPr>
        <p:grpSpPr>
          <a:xfrm>
            <a:off x="360360" y="385920"/>
            <a:ext cx="8105760" cy="1354680"/>
            <a:chOff x="360360" y="385920"/>
            <a:chExt cx="8105760" cy="1354680"/>
          </a:xfrm>
        </p:grpSpPr>
        <p:sp>
          <p:nvSpPr>
            <p:cNvPr id="213" name="Text Box 7"/>
            <p:cNvSpPr/>
            <p:nvPr/>
          </p:nvSpPr>
          <p:spPr>
            <a:xfrm>
              <a:off x="360360" y="549360"/>
              <a:ext cx="424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Factoring a trinomial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:</a:t>
              </a: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  </a:t>
              </a:r>
              <a:endParaRPr b="1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14" name="Object 8"/>
            <p:cNvGraphicFramePr/>
            <p:nvPr/>
          </p:nvGraphicFramePr>
          <p:xfrm>
            <a:off x="4748400" y="385920"/>
            <a:ext cx="3717720" cy="7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748400" y="385920"/>
                      <a:ext cx="37177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6" name="Text Box 10"/>
          <p:cNvSpPr/>
          <p:nvPr/>
        </p:nvSpPr>
        <p:spPr>
          <a:xfrm>
            <a:off x="0" y="4295880"/>
            <a:ext cx="8940960" cy="23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2. Product of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fir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s of both binomials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must equal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fir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of the trinomial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0" y="1778040"/>
            <a:ext cx="8534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spcBef>
                <a:spcPts val="4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1. Write two sets of parenthesis, (   )(   ).  These will be the </a:t>
            </a: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factors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of the trinomial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8" name="Object 13"/>
          <p:cNvGraphicFramePr/>
          <p:nvPr/>
        </p:nvGraphicFramePr>
        <p:xfrm>
          <a:off x="598320" y="5397480"/>
          <a:ext cx="1414800" cy="95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320" y="5397480"/>
                    <a:ext cx="141480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361800" y="1503360"/>
            <a:ext cx="838224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1200" indent="-511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3. The product of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la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s of both binomials must equal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last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of the trinomial (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511200" indent="-511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4. Think of the FOIL method of multiplying binomials, the sum of the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oute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and the </a:t>
            </a:r>
            <a:r>
              <a:rPr b="0" i="1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inner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products must equal the </a:t>
            </a:r>
            <a:r>
              <a:rPr b="0" lang="en-US" sz="4000" spc="-1" strike="noStrike" u="sng">
                <a:solidFill>
                  <a:srgbClr val="333333"/>
                </a:solidFill>
                <a:uFillTx/>
                <a:latin typeface="Times New Roman"/>
              </a:rPr>
              <a:t>middle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term (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bx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)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436680" y="246240"/>
            <a:ext cx="8105760" cy="1354680"/>
            <a:chOff x="436680" y="246240"/>
            <a:chExt cx="8105760" cy="1354680"/>
          </a:xfrm>
        </p:grpSpPr>
        <p:sp>
          <p:nvSpPr>
            <p:cNvPr id="223" name="Text Box 4"/>
            <p:cNvSpPr/>
            <p:nvPr/>
          </p:nvSpPr>
          <p:spPr>
            <a:xfrm>
              <a:off x="436680" y="409680"/>
              <a:ext cx="4246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Factoring a trinomial</a:t>
              </a:r>
              <a:r>
                <a:rPr b="0" lang="en-US" sz="3600" spc="-1" strike="noStrike">
                  <a:solidFill>
                    <a:srgbClr val="333333"/>
                  </a:solidFill>
                  <a:latin typeface="Times New Roman"/>
                </a:rPr>
                <a:t>:</a:t>
              </a:r>
              <a:r>
                <a:rPr b="0" lang="en-US" sz="3600" spc="-1" strike="noStrike" u="sng">
                  <a:solidFill>
                    <a:srgbClr val="333333"/>
                  </a:solidFill>
                  <a:uFillTx/>
                  <a:latin typeface="Times New Roman"/>
                </a:rPr>
                <a:t>  </a:t>
              </a:r>
              <a:endParaRPr b="1" lang="en-US" sz="36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24" name="Object 5"/>
            <p:cNvGraphicFramePr/>
            <p:nvPr/>
          </p:nvGraphicFramePr>
          <p:xfrm>
            <a:off x="4824720" y="246240"/>
            <a:ext cx="3717720" cy="7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24720" y="246240"/>
                      <a:ext cx="3717720" cy="7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58"/>
          <p:cNvGrpSpPr/>
          <p:nvPr/>
        </p:nvGrpSpPr>
        <p:grpSpPr>
          <a:xfrm>
            <a:off x="1405080" y="1395360"/>
            <a:ext cx="2352600" cy="776880"/>
            <a:chOff x="1405080" y="1395360"/>
            <a:chExt cx="2352600" cy="776880"/>
          </a:xfrm>
        </p:grpSpPr>
        <p:sp>
          <p:nvSpPr>
            <p:cNvPr id="228" name="Text Box 56"/>
            <p:cNvSpPr/>
            <p:nvPr/>
          </p:nvSpPr>
          <p:spPr>
            <a:xfrm>
              <a:off x="3157560" y="1395360"/>
              <a:ext cx="600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29" name="Text Box 57"/>
            <p:cNvSpPr/>
            <p:nvPr/>
          </p:nvSpPr>
          <p:spPr>
            <a:xfrm>
              <a:off x="1405080" y="1407960"/>
              <a:ext cx="599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230" name="Object 2"/>
          <p:cNvGraphicFramePr/>
          <p:nvPr/>
        </p:nvGraphicFramePr>
        <p:xfrm>
          <a:off x="622440" y="270000"/>
          <a:ext cx="6137280" cy="101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440" y="270000"/>
                    <a:ext cx="6137280" cy="101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3"/>
          <p:cNvGraphicFramePr/>
          <p:nvPr/>
        </p:nvGraphicFramePr>
        <p:xfrm>
          <a:off x="1111320" y="1447920"/>
          <a:ext cx="3492360" cy="67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1320" y="1447920"/>
                    <a:ext cx="34923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4" name="Group 15"/>
          <p:cNvGrpSpPr/>
          <p:nvPr/>
        </p:nvGrpSpPr>
        <p:grpSpPr>
          <a:xfrm>
            <a:off x="4723920" y="1312920"/>
            <a:ext cx="3242160" cy="711000"/>
            <a:chOff x="4723920" y="1312920"/>
            <a:chExt cx="3242160" cy="711000"/>
          </a:xfrm>
        </p:grpSpPr>
        <p:cxnSp>
          <p:nvCxnSpPr>
            <p:cNvPr id="235" name="AutoShape 4"/>
            <p:cNvCxnSpPr/>
            <p:nvPr/>
          </p:nvCxnSpPr>
          <p:spPr>
            <a:xfrm>
              <a:off x="4723920" y="1752120"/>
              <a:ext cx="686520" cy="108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graphicFrame>
          <p:nvGraphicFramePr>
            <p:cNvPr id="236" name="Object 5"/>
            <p:cNvGraphicFramePr/>
            <p:nvPr/>
          </p:nvGraphicFramePr>
          <p:xfrm>
            <a:off x="5680080" y="1312920"/>
            <a:ext cx="2286000" cy="711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37" name="Object 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80080" y="1312920"/>
                      <a:ext cx="2286000" cy="71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38" name="Group 52"/>
          <p:cNvGrpSpPr/>
          <p:nvPr/>
        </p:nvGrpSpPr>
        <p:grpSpPr>
          <a:xfrm>
            <a:off x="1066680" y="2301840"/>
            <a:ext cx="3581640" cy="679320"/>
            <a:chOff x="1066680" y="2301840"/>
            <a:chExt cx="3581640" cy="679320"/>
          </a:xfrm>
        </p:grpSpPr>
        <p:graphicFrame>
          <p:nvGraphicFramePr>
            <p:cNvPr id="239" name="Object 16"/>
            <p:cNvGraphicFramePr/>
            <p:nvPr/>
          </p:nvGraphicFramePr>
          <p:xfrm>
            <a:off x="1066680" y="2301840"/>
            <a:ext cx="3581640" cy="679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40" name="Object 1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66680" y="2301840"/>
                      <a:ext cx="358164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41" name="Rectangle 17"/>
            <p:cNvSpPr/>
            <p:nvPr/>
          </p:nvSpPr>
          <p:spPr>
            <a:xfrm>
              <a:off x="2046240" y="231300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42" name="Rectangle 18"/>
            <p:cNvSpPr/>
            <p:nvPr/>
          </p:nvSpPr>
          <p:spPr>
            <a:xfrm>
              <a:off x="3678120" y="233208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43" name="Text Box 19"/>
          <p:cNvSpPr/>
          <p:nvPr/>
        </p:nvSpPr>
        <p:spPr>
          <a:xfrm>
            <a:off x="547560" y="3260880"/>
            <a:ext cx="413244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actors of +8: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1 &amp; 8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2 &amp; 4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1 &amp; -8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635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-2 &amp; -4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44" name="Group 35"/>
          <p:cNvGrpSpPr/>
          <p:nvPr/>
        </p:nvGrpSpPr>
        <p:grpSpPr>
          <a:xfrm>
            <a:off x="4705200" y="3963960"/>
            <a:ext cx="3576960" cy="581400"/>
            <a:chOff x="4705200" y="3963960"/>
            <a:chExt cx="3576960" cy="581400"/>
          </a:xfrm>
        </p:grpSpPr>
        <p:sp>
          <p:nvSpPr>
            <p:cNvPr id="245" name="Text Box 29"/>
            <p:cNvSpPr/>
            <p:nvPr/>
          </p:nvSpPr>
          <p:spPr>
            <a:xfrm>
              <a:off x="5684760" y="3963960"/>
              <a:ext cx="259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+ 4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6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cxnSp>
          <p:nvCxnSpPr>
            <p:cNvPr id="246" name="AutoShape 23"/>
            <p:cNvCxnSpPr/>
            <p:nvPr/>
          </p:nvCxnSpPr>
          <p:spPr>
            <a:xfrm>
              <a:off x="4705200" y="4204800"/>
              <a:ext cx="705240" cy="252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</p:grpSp>
      <p:grpSp>
        <p:nvGrpSpPr>
          <p:cNvPr id="247" name="Group 34"/>
          <p:cNvGrpSpPr/>
          <p:nvPr/>
        </p:nvGrpSpPr>
        <p:grpSpPr>
          <a:xfrm>
            <a:off x="4705200" y="3260880"/>
            <a:ext cx="3576960" cy="581400"/>
            <a:chOff x="4705200" y="3260880"/>
            <a:chExt cx="3576960" cy="581400"/>
          </a:xfrm>
        </p:grpSpPr>
        <p:cxnSp>
          <p:nvCxnSpPr>
            <p:cNvPr id="248" name="AutoShape 24"/>
            <p:cNvCxnSpPr/>
            <p:nvPr/>
          </p:nvCxnSpPr>
          <p:spPr>
            <a:xfrm>
              <a:off x="4705200" y="352440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49" name="Text Box 27"/>
            <p:cNvSpPr/>
            <p:nvPr/>
          </p:nvSpPr>
          <p:spPr>
            <a:xfrm>
              <a:off x="5684760" y="3260880"/>
              <a:ext cx="259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+ 8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9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0" name="Group 33"/>
          <p:cNvGrpSpPr/>
          <p:nvPr/>
        </p:nvGrpSpPr>
        <p:grpSpPr>
          <a:xfrm>
            <a:off x="4724280" y="2387520"/>
            <a:ext cx="3784680" cy="581400"/>
            <a:chOff x="4724280" y="2387520"/>
            <a:chExt cx="3784680" cy="581400"/>
          </a:xfrm>
        </p:grpSpPr>
        <p:cxnSp>
          <p:nvCxnSpPr>
            <p:cNvPr id="251" name="AutoShape 7"/>
            <p:cNvCxnSpPr/>
            <p:nvPr/>
          </p:nvCxnSpPr>
          <p:spPr>
            <a:xfrm>
              <a:off x="4724280" y="259236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2" name="Text Box 28"/>
            <p:cNvSpPr/>
            <p:nvPr/>
          </p:nvSpPr>
          <p:spPr>
            <a:xfrm>
              <a:off x="5657760" y="2387520"/>
              <a:ext cx="285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Times New Roman"/>
                </a:rPr>
                <a:t>O  +  I = </a:t>
              </a:r>
              <a:r>
                <a:rPr b="0" i="1" lang="en-US" sz="3200" spc="-1" strike="noStrike">
                  <a:solidFill>
                    <a:srgbClr val="ff0000"/>
                  </a:solidFill>
                  <a:latin typeface="Times New Roman"/>
                </a:rPr>
                <a:t>bx ?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3" name="Group 37"/>
          <p:cNvGrpSpPr/>
          <p:nvPr/>
        </p:nvGrpSpPr>
        <p:grpSpPr>
          <a:xfrm>
            <a:off x="4703760" y="5462640"/>
            <a:ext cx="3483000" cy="581400"/>
            <a:chOff x="4703760" y="5462640"/>
            <a:chExt cx="3483000" cy="581400"/>
          </a:xfrm>
        </p:grpSpPr>
        <p:cxnSp>
          <p:nvCxnSpPr>
            <p:cNvPr id="254" name="AutoShape 21"/>
            <p:cNvCxnSpPr/>
            <p:nvPr/>
          </p:nvCxnSpPr>
          <p:spPr>
            <a:xfrm>
              <a:off x="4703760" y="5738400"/>
              <a:ext cx="705240" cy="252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5" name="Text Box 30"/>
            <p:cNvSpPr/>
            <p:nvPr/>
          </p:nvSpPr>
          <p:spPr>
            <a:xfrm>
              <a:off x="5589720" y="5462640"/>
              <a:ext cx="25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2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- 4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-6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56" name="Group 36"/>
          <p:cNvGrpSpPr/>
          <p:nvPr/>
        </p:nvGrpSpPr>
        <p:grpSpPr>
          <a:xfrm>
            <a:off x="4705200" y="4702320"/>
            <a:ext cx="3462480" cy="581400"/>
            <a:chOff x="4705200" y="4702320"/>
            <a:chExt cx="3462480" cy="581400"/>
          </a:xfrm>
        </p:grpSpPr>
        <p:cxnSp>
          <p:nvCxnSpPr>
            <p:cNvPr id="257" name="AutoShape 22"/>
            <p:cNvCxnSpPr/>
            <p:nvPr/>
          </p:nvCxnSpPr>
          <p:spPr>
            <a:xfrm>
              <a:off x="4705200" y="5002200"/>
              <a:ext cx="705240" cy="2160"/>
            </a:xfrm>
            <a:prstGeom prst="straightConnector1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</p:cxnSp>
        <p:sp>
          <p:nvSpPr>
            <p:cNvPr id="258" name="Text Box 31"/>
            <p:cNvSpPr/>
            <p:nvPr/>
          </p:nvSpPr>
          <p:spPr>
            <a:xfrm>
              <a:off x="5570640" y="4702320"/>
              <a:ext cx="2597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1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- 8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 = -9</a:t>
              </a:r>
              <a:r>
                <a:rPr b="0" i="1" lang="en-US" sz="32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59" name="Oval 38"/>
          <p:cNvSpPr/>
          <p:nvPr/>
        </p:nvSpPr>
        <p:spPr>
          <a:xfrm>
            <a:off x="3071880" y="5311800"/>
            <a:ext cx="5149800" cy="863640"/>
          </a:xfrm>
          <a:prstGeom prst="ellipse">
            <a:avLst/>
          </a:prstGeom>
          <a:noFill/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60" name="Group 48"/>
          <p:cNvGrpSpPr/>
          <p:nvPr/>
        </p:nvGrpSpPr>
        <p:grpSpPr>
          <a:xfrm>
            <a:off x="2107440" y="2325600"/>
            <a:ext cx="1224360" cy="3319560"/>
            <a:chOff x="2107440" y="2325600"/>
            <a:chExt cx="1224360" cy="3319560"/>
          </a:xfrm>
        </p:grpSpPr>
        <p:sp>
          <p:nvSpPr>
            <p:cNvPr id="261" name="Line 44"/>
            <p:cNvSpPr/>
            <p:nvPr/>
          </p:nvSpPr>
          <p:spPr>
            <a:xfrm flipH="1" flipV="1">
              <a:off x="2574720" y="2770200"/>
              <a:ext cx="757080" cy="287496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Rectangle 46"/>
            <p:cNvSpPr/>
            <p:nvPr/>
          </p:nvSpPr>
          <p:spPr>
            <a:xfrm>
              <a:off x="2107440" y="232560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2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3" name="Group 49"/>
          <p:cNvGrpSpPr/>
          <p:nvPr/>
        </p:nvGrpSpPr>
        <p:grpSpPr>
          <a:xfrm>
            <a:off x="3641040" y="2378160"/>
            <a:ext cx="697680" cy="3232080"/>
            <a:chOff x="3641040" y="2378160"/>
            <a:chExt cx="697680" cy="3232080"/>
          </a:xfrm>
        </p:grpSpPr>
        <p:sp>
          <p:nvSpPr>
            <p:cNvPr id="264" name="Line 45"/>
            <p:cNvSpPr/>
            <p:nvPr/>
          </p:nvSpPr>
          <p:spPr>
            <a:xfrm flipH="1" flipV="1">
              <a:off x="4145040" y="2822400"/>
              <a:ext cx="193680" cy="2787840"/>
            </a:xfrm>
            <a:prstGeom prst="line">
              <a:avLst/>
            </a:prstGeom>
            <a:ln w="5724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Rectangle 47"/>
            <p:cNvSpPr/>
            <p:nvPr/>
          </p:nvSpPr>
          <p:spPr>
            <a:xfrm>
              <a:off x="3641040" y="2378160"/>
              <a:ext cx="60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33"/>
                  </a:solidFill>
                  <a:latin typeface="Times New Roman"/>
                </a:rPr>
                <a:t>-4</a:t>
              </a:r>
              <a:r>
                <a:rPr b="0" lang="en-US" sz="28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endParaRPr b="1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66" name="Group 55"/>
          <p:cNvGrpSpPr/>
          <p:nvPr/>
        </p:nvGrpSpPr>
        <p:grpSpPr>
          <a:xfrm>
            <a:off x="1352520" y="1477800"/>
            <a:ext cx="2351160" cy="611280"/>
            <a:chOff x="1352520" y="1477800"/>
            <a:chExt cx="2351160" cy="611280"/>
          </a:xfrm>
        </p:grpSpPr>
        <p:sp>
          <p:nvSpPr>
            <p:cNvPr id="267" name="Rectangle 50"/>
            <p:cNvSpPr/>
            <p:nvPr/>
          </p:nvSpPr>
          <p:spPr>
            <a:xfrm>
              <a:off x="1352520" y="1482840"/>
              <a:ext cx="606600" cy="60624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Rectangle 51"/>
            <p:cNvSpPr/>
            <p:nvPr/>
          </p:nvSpPr>
          <p:spPr>
            <a:xfrm>
              <a:off x="3097080" y="1477800"/>
              <a:ext cx="606600" cy="6066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857160" y="789120"/>
            <a:ext cx="73152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A “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Difference of Squares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” is a </a:t>
            </a:r>
            <a:r>
              <a:rPr b="0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binomial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*2 terms only*)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and it factors like thi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4" name="Object 4"/>
          <p:cNvGraphicFramePr/>
          <p:nvPr/>
        </p:nvGraphicFramePr>
        <p:xfrm>
          <a:off x="934920" y="3657600"/>
          <a:ext cx="739296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3657600"/>
                    <a:ext cx="73929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723960" y="438120"/>
          <a:ext cx="327672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438120"/>
                    <a:ext cx="327672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2" name="Group 9"/>
          <p:cNvGrpSpPr/>
          <p:nvPr/>
        </p:nvGrpSpPr>
        <p:grpSpPr>
          <a:xfrm>
            <a:off x="1025640" y="1898640"/>
            <a:ext cx="7246440" cy="1434600"/>
            <a:chOff x="1025640" y="1898640"/>
            <a:chExt cx="7246440" cy="1434600"/>
          </a:xfrm>
        </p:grpSpPr>
        <p:graphicFrame>
          <p:nvGraphicFramePr>
            <p:cNvPr id="273" name="Object 10"/>
            <p:cNvGraphicFramePr/>
            <p:nvPr/>
          </p:nvGraphicFramePr>
          <p:xfrm>
            <a:off x="1025640" y="2229840"/>
            <a:ext cx="833760" cy="577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4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025640" y="2229840"/>
                      <a:ext cx="833760" cy="57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75" name="Text Box 11"/>
            <p:cNvSpPr/>
            <p:nvPr/>
          </p:nvSpPr>
          <p:spPr>
            <a:xfrm>
              <a:off x="2115720" y="1898640"/>
              <a:ext cx="5643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33"/>
                  </a:solidFill>
                  <a:latin typeface="Times New Roman"/>
                </a:rPr>
                <a:t>Check your answer by using FOIL</a:t>
              </a:r>
              <a:endParaRPr b="1" lang="en-US" sz="4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aphicFrame>
          <p:nvGraphicFramePr>
            <p:cNvPr id="276" name="Object 12"/>
            <p:cNvGraphicFramePr/>
            <p:nvPr/>
          </p:nvGraphicFramePr>
          <p:xfrm>
            <a:off x="7502760" y="2229840"/>
            <a:ext cx="769320" cy="533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77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02760" y="2229840"/>
                      <a:ext cx="76932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8" name="Object 19"/>
          <p:cNvGraphicFramePr/>
          <p:nvPr/>
        </p:nvGraphicFramePr>
        <p:xfrm>
          <a:off x="4114800" y="531720"/>
          <a:ext cx="4632480" cy="83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9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531720"/>
                    <a:ext cx="463248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Rectangle 20"/>
          <p:cNvSpPr/>
          <p:nvPr/>
        </p:nvSpPr>
        <p:spPr>
          <a:xfrm>
            <a:off x="4676760" y="404640"/>
            <a:ext cx="4013280" cy="10670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81" name="Group 35"/>
          <p:cNvGrpSpPr/>
          <p:nvPr/>
        </p:nvGrpSpPr>
        <p:grpSpPr>
          <a:xfrm>
            <a:off x="666720" y="3597120"/>
            <a:ext cx="7989840" cy="1314720"/>
            <a:chOff x="666720" y="3597120"/>
            <a:chExt cx="7989840" cy="1314720"/>
          </a:xfrm>
        </p:grpSpPr>
        <p:graphicFrame>
          <p:nvGraphicFramePr>
            <p:cNvPr id="282" name="Object 18"/>
            <p:cNvGraphicFramePr/>
            <p:nvPr/>
          </p:nvGraphicFramePr>
          <p:xfrm>
            <a:off x="666720" y="4103640"/>
            <a:ext cx="7989840" cy="8082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83" name="Object 1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66720" y="4103640"/>
                      <a:ext cx="7989840" cy="808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4" name="Text Box 21"/>
            <p:cNvSpPr/>
            <p:nvPr/>
          </p:nvSpPr>
          <p:spPr>
            <a:xfrm>
              <a:off x="4632480" y="3597120"/>
              <a:ext cx="53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Text Box 22"/>
            <p:cNvSpPr/>
            <p:nvPr/>
          </p:nvSpPr>
          <p:spPr>
            <a:xfrm>
              <a:off x="5946840" y="359712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Text Box 23"/>
            <p:cNvSpPr/>
            <p:nvPr/>
          </p:nvSpPr>
          <p:spPr>
            <a:xfrm>
              <a:off x="7197840" y="359712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Text Box 24"/>
            <p:cNvSpPr/>
            <p:nvPr/>
          </p:nvSpPr>
          <p:spPr>
            <a:xfrm>
              <a:off x="8207280" y="359712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288" name="Group 36"/>
          <p:cNvGrpSpPr/>
          <p:nvPr/>
        </p:nvGrpSpPr>
        <p:grpSpPr>
          <a:xfrm>
            <a:off x="4098960" y="4816080"/>
            <a:ext cx="4667040" cy="1322640"/>
            <a:chOff x="4098960" y="4816080"/>
            <a:chExt cx="4667040" cy="1322640"/>
          </a:xfrm>
        </p:grpSpPr>
        <p:graphicFrame>
          <p:nvGraphicFramePr>
            <p:cNvPr id="289" name="Object 26"/>
            <p:cNvGraphicFramePr/>
            <p:nvPr/>
          </p:nvGraphicFramePr>
          <p:xfrm>
            <a:off x="4098960" y="5124600"/>
            <a:ext cx="3330720" cy="7063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290" name="Object 2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98960" y="5124600"/>
                      <a:ext cx="3330720" cy="7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91" name="Group 34"/>
            <p:cNvGrpSpPr/>
            <p:nvPr/>
          </p:nvGrpSpPr>
          <p:grpSpPr>
            <a:xfrm>
              <a:off x="7691400" y="4816080"/>
              <a:ext cx="1074600" cy="1322640"/>
              <a:chOff x="7691400" y="4816080"/>
              <a:chExt cx="1074600" cy="1322640"/>
            </a:xfrm>
          </p:grpSpPr>
          <p:sp>
            <p:nvSpPr>
              <p:cNvPr id="292" name="Line 27"/>
              <p:cNvSpPr/>
              <p:nvPr/>
            </p:nvSpPr>
            <p:spPr>
              <a:xfrm>
                <a:off x="7726320" y="5433840"/>
                <a:ext cx="17640" cy="65268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3" name="Line 28"/>
              <p:cNvSpPr/>
              <p:nvPr/>
            </p:nvSpPr>
            <p:spPr>
              <a:xfrm flipV="1">
                <a:off x="7743960" y="4921200"/>
                <a:ext cx="1004760" cy="121752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4" name="Line 29"/>
              <p:cNvSpPr/>
              <p:nvPr/>
            </p:nvSpPr>
            <p:spPr>
              <a:xfrm flipH="1" flipV="1">
                <a:off x="8502480" y="4816080"/>
                <a:ext cx="263520" cy="1047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5" name="Line 30"/>
              <p:cNvSpPr/>
              <p:nvPr/>
            </p:nvSpPr>
            <p:spPr>
              <a:xfrm flipH="1">
                <a:off x="7919640" y="4816440"/>
                <a:ext cx="600120" cy="88272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6" name="Line 31"/>
              <p:cNvSpPr/>
              <p:nvPr/>
            </p:nvSpPr>
            <p:spPr>
              <a:xfrm flipV="1">
                <a:off x="7902720" y="5275080"/>
                <a:ext cx="17280" cy="4935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7" name="Line 32"/>
              <p:cNvSpPr/>
              <p:nvPr/>
            </p:nvSpPr>
            <p:spPr>
              <a:xfrm flipH="1">
                <a:off x="7691400" y="5256360"/>
                <a:ext cx="193680" cy="158760"/>
              </a:xfrm>
              <a:prstGeom prst="line">
                <a:avLst/>
              </a:prstGeom>
              <a:ln w="7632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2"/>
          <p:cNvSpPr/>
          <p:nvPr/>
        </p:nvSpPr>
        <p:spPr>
          <a:xfrm>
            <a:off x="1581120" y="4572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ets do another example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2133720" y="1285920"/>
          <a:ext cx="4495680" cy="8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1285920"/>
                    <a:ext cx="4495680" cy="8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4"/>
          <p:cNvGraphicFramePr/>
          <p:nvPr/>
        </p:nvGraphicFramePr>
        <p:xfrm>
          <a:off x="838080" y="3924360"/>
          <a:ext cx="4330800" cy="99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924360"/>
                    <a:ext cx="43308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Text Box 5"/>
          <p:cNvSpPr/>
          <p:nvPr/>
        </p:nvSpPr>
        <p:spPr>
          <a:xfrm>
            <a:off x="6019920" y="41529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Find a GCF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05" name="Object 6"/>
          <p:cNvGraphicFramePr/>
          <p:nvPr/>
        </p:nvGraphicFramePr>
        <p:xfrm>
          <a:off x="762120" y="5219640"/>
          <a:ext cx="4267080" cy="84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5219640"/>
                    <a:ext cx="4267080" cy="84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7" name="Text Box 7"/>
          <p:cNvSpPr/>
          <p:nvPr/>
        </p:nvSpPr>
        <p:spPr>
          <a:xfrm>
            <a:off x="5943600" y="529596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Factor trinomial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0" y="23446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Don’t Forget Method #1.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Always check for GCF before you do anything else.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3"/>
          <p:cNvSpPr/>
          <p:nvPr/>
        </p:nvSpPr>
        <p:spPr>
          <a:xfrm>
            <a:off x="590400" y="287280"/>
            <a:ext cx="804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hen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&gt;1 and </a:t>
            </a:r>
            <a:r>
              <a:rPr b="0" i="1" lang="en-US" sz="44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&lt;1, there may be more combinations to try!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11" name="Object 5"/>
          <p:cNvGraphicFramePr/>
          <p:nvPr/>
        </p:nvGraphicFramePr>
        <p:xfrm>
          <a:off x="692280" y="1781280"/>
          <a:ext cx="7596000" cy="115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781280"/>
                    <a:ext cx="7596000" cy="115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Line 6"/>
          <p:cNvSpPr/>
          <p:nvPr/>
        </p:nvSpPr>
        <p:spPr>
          <a:xfrm>
            <a:off x="163440" y="1793880"/>
            <a:ext cx="862164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14" name="Group 12"/>
          <p:cNvGrpSpPr/>
          <p:nvPr/>
        </p:nvGrpSpPr>
        <p:grpSpPr>
          <a:xfrm>
            <a:off x="0" y="3282840"/>
            <a:ext cx="5921280" cy="1908000"/>
            <a:chOff x="0" y="3282840"/>
            <a:chExt cx="5921280" cy="1908000"/>
          </a:xfrm>
        </p:grpSpPr>
        <p:graphicFrame>
          <p:nvGraphicFramePr>
            <p:cNvPr id="315" name="Object 7"/>
            <p:cNvGraphicFramePr/>
            <p:nvPr/>
          </p:nvGraphicFramePr>
          <p:xfrm>
            <a:off x="0" y="4381200"/>
            <a:ext cx="5921280" cy="80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16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4381200"/>
                      <a:ext cx="5921280" cy="80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17" name="Text Box 8"/>
            <p:cNvSpPr/>
            <p:nvPr/>
          </p:nvSpPr>
          <p:spPr>
            <a:xfrm>
              <a:off x="701640" y="3282840"/>
              <a:ext cx="198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Step 1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18" name="Object 9"/>
          <p:cNvGraphicFramePr/>
          <p:nvPr/>
        </p:nvGraphicFramePr>
        <p:xfrm>
          <a:off x="6727680" y="4121280"/>
          <a:ext cx="1727280" cy="1523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9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27680" y="4121280"/>
                    <a:ext cx="17272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1" name="Object 6"/>
          <p:cNvGraphicFramePr/>
          <p:nvPr/>
        </p:nvGraphicFramePr>
        <p:xfrm>
          <a:off x="563400" y="241200"/>
          <a:ext cx="5958000" cy="97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241200"/>
                    <a:ext cx="59580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3" name="Group 11"/>
          <p:cNvGrpSpPr/>
          <p:nvPr/>
        </p:nvGrpSpPr>
        <p:grpSpPr>
          <a:xfrm>
            <a:off x="646200" y="1871640"/>
            <a:ext cx="6719760" cy="703440"/>
            <a:chOff x="646200" y="1871640"/>
            <a:chExt cx="6719760" cy="703440"/>
          </a:xfrm>
        </p:grpSpPr>
        <p:graphicFrame>
          <p:nvGraphicFramePr>
            <p:cNvPr id="324" name="Object 8"/>
            <p:cNvGraphicFramePr/>
            <p:nvPr/>
          </p:nvGraphicFramePr>
          <p:xfrm>
            <a:off x="2832120" y="1873080"/>
            <a:ext cx="4533840" cy="595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5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32120" y="1873080"/>
                      <a:ext cx="4533840" cy="59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26" name="Text Box 9"/>
            <p:cNvSpPr/>
            <p:nvPr/>
          </p:nvSpPr>
          <p:spPr>
            <a:xfrm>
              <a:off x="646200" y="1871640"/>
              <a:ext cx="1984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Step 2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327" name="Object 10"/>
          <p:cNvGraphicFramePr/>
          <p:nvPr/>
        </p:nvGraphicFramePr>
        <p:xfrm>
          <a:off x="641520" y="2641680"/>
          <a:ext cx="2133360" cy="365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1520" y="2641680"/>
                    <a:ext cx="21333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9" name="Group 14"/>
          <p:cNvGrpSpPr/>
          <p:nvPr/>
        </p:nvGrpSpPr>
        <p:grpSpPr>
          <a:xfrm>
            <a:off x="2611440" y="3352680"/>
            <a:ext cx="6532560" cy="1992240"/>
            <a:chOff x="2611440" y="3352680"/>
            <a:chExt cx="6532560" cy="1992240"/>
          </a:xfrm>
        </p:grpSpPr>
        <p:sp>
          <p:nvSpPr>
            <p:cNvPr id="330" name="Text Box 12"/>
            <p:cNvSpPr/>
            <p:nvPr/>
          </p:nvSpPr>
          <p:spPr>
            <a:xfrm>
              <a:off x="2968560" y="3352680"/>
              <a:ext cx="61754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Order can make 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a difference!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1" name="Line 13"/>
            <p:cNvSpPr/>
            <p:nvPr/>
          </p:nvSpPr>
          <p:spPr>
            <a:xfrm flipV="1">
              <a:off x="2611440" y="3900240"/>
              <a:ext cx="1552680" cy="1444680"/>
            </a:xfrm>
            <a:prstGeom prst="line">
              <a:avLst/>
            </a:prstGeom>
            <a:ln w="7632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270000" y="1311120"/>
            <a:ext cx="8607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52640" indent="-195264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tep 3: 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Place the factors inside the parenthesis until O + I = </a:t>
            </a:r>
            <a:r>
              <a:rPr b="1" i="1" lang="en-US" sz="4000" spc="-1" strike="noStrike">
                <a:solidFill>
                  <a:srgbClr val="333333"/>
                </a:solidFill>
                <a:latin typeface="Times New Roman"/>
              </a:rPr>
              <a:t>bx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334" name="Group 15"/>
          <p:cNvGrpSpPr/>
          <p:nvPr/>
        </p:nvGrpSpPr>
        <p:grpSpPr>
          <a:xfrm>
            <a:off x="798480" y="3809880"/>
            <a:ext cx="5410080" cy="1185840"/>
            <a:chOff x="798480" y="3809880"/>
            <a:chExt cx="5410080" cy="1185840"/>
          </a:xfrm>
        </p:grpSpPr>
        <p:graphicFrame>
          <p:nvGraphicFramePr>
            <p:cNvPr id="335" name="Object 4"/>
            <p:cNvGraphicFramePr/>
            <p:nvPr/>
          </p:nvGraphicFramePr>
          <p:xfrm>
            <a:off x="798480" y="4114800"/>
            <a:ext cx="541008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3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8480" y="4114800"/>
                      <a:ext cx="54100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7" name="Text Box 5"/>
            <p:cNvSpPr/>
            <p:nvPr/>
          </p:nvSpPr>
          <p:spPr>
            <a:xfrm>
              <a:off x="1179360" y="3809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8" name="Text Box 6"/>
            <p:cNvSpPr/>
            <p:nvPr/>
          </p:nvSpPr>
          <p:spPr>
            <a:xfrm>
              <a:off x="3008160" y="3809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39" name="Text Box 7"/>
            <p:cNvSpPr/>
            <p:nvPr/>
          </p:nvSpPr>
          <p:spPr>
            <a:xfrm>
              <a:off x="4608360" y="3809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40" name="Text Box 8"/>
            <p:cNvSpPr/>
            <p:nvPr/>
          </p:nvSpPr>
          <p:spPr>
            <a:xfrm>
              <a:off x="582768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1" name="Rectangle 9"/>
          <p:cNvSpPr/>
          <p:nvPr/>
        </p:nvSpPr>
        <p:spPr>
          <a:xfrm>
            <a:off x="704880" y="533412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 + I =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30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= 29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2" name="Text Box 10"/>
          <p:cNvSpPr/>
          <p:nvPr/>
        </p:nvSpPr>
        <p:spPr>
          <a:xfrm>
            <a:off x="6883560" y="46418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43" name="Object 11"/>
          <p:cNvGraphicFramePr/>
          <p:nvPr/>
        </p:nvGraphicFramePr>
        <p:xfrm>
          <a:off x="254160" y="0"/>
          <a:ext cx="661320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4160" y="0"/>
                    <a:ext cx="661320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5" name="Group 13"/>
          <p:cNvGrpSpPr/>
          <p:nvPr/>
        </p:nvGrpSpPr>
        <p:grpSpPr>
          <a:xfrm>
            <a:off x="2181240" y="2857680"/>
            <a:ext cx="4932360" cy="857160"/>
            <a:chOff x="2181240" y="2857680"/>
            <a:chExt cx="4932360" cy="857160"/>
          </a:xfrm>
        </p:grpSpPr>
        <p:graphicFrame>
          <p:nvGraphicFramePr>
            <p:cNvPr id="346" name="Object 3"/>
            <p:cNvGraphicFramePr/>
            <p:nvPr/>
          </p:nvGraphicFramePr>
          <p:xfrm>
            <a:off x="3309840" y="2857680"/>
            <a:ext cx="3803760" cy="8571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7" name="Object 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309840" y="2857680"/>
                      <a:ext cx="380376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Text Box 12"/>
            <p:cNvSpPr/>
            <p:nvPr/>
          </p:nvSpPr>
          <p:spPr>
            <a:xfrm>
              <a:off x="2181240" y="2919600"/>
              <a:ext cx="195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333333"/>
                  </a:solidFill>
                  <a:latin typeface="Times New Roman"/>
                </a:rPr>
                <a:t>Try: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6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15"/>
          <p:cNvGrpSpPr/>
          <p:nvPr/>
        </p:nvGrpSpPr>
        <p:grpSpPr>
          <a:xfrm>
            <a:off x="868320" y="3809880"/>
            <a:ext cx="5410080" cy="1185840"/>
            <a:chOff x="868320" y="3809880"/>
            <a:chExt cx="5410080" cy="1185840"/>
          </a:xfrm>
        </p:grpSpPr>
        <p:graphicFrame>
          <p:nvGraphicFramePr>
            <p:cNvPr id="351" name="Object 4"/>
            <p:cNvGraphicFramePr/>
            <p:nvPr/>
          </p:nvGraphicFramePr>
          <p:xfrm>
            <a:off x="868320" y="4114800"/>
            <a:ext cx="5410080" cy="88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2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68320" y="4114800"/>
                      <a:ext cx="5410080" cy="88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Text Box 5"/>
            <p:cNvSpPr/>
            <p:nvPr/>
          </p:nvSpPr>
          <p:spPr>
            <a:xfrm>
              <a:off x="1179360" y="380988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4" name="Text Box 6"/>
            <p:cNvSpPr/>
            <p:nvPr/>
          </p:nvSpPr>
          <p:spPr>
            <a:xfrm>
              <a:off x="3008160" y="380988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5" name="Text Box 7"/>
            <p:cNvSpPr/>
            <p:nvPr/>
          </p:nvSpPr>
          <p:spPr>
            <a:xfrm>
              <a:off x="4608360" y="3809880"/>
              <a:ext cx="381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56" name="Text Box 8"/>
            <p:cNvSpPr/>
            <p:nvPr/>
          </p:nvSpPr>
          <p:spPr>
            <a:xfrm>
              <a:off x="5827680" y="380988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357" name="Rectangle 9"/>
          <p:cNvSpPr/>
          <p:nvPr/>
        </p:nvSpPr>
        <p:spPr>
          <a:xfrm>
            <a:off x="704880" y="5334120"/>
            <a:ext cx="565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 + I = 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-6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+ 5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33"/>
                </a:solidFill>
                <a:latin typeface="Times New Roman"/>
              </a:rPr>
              <a:t> = -</a:t>
            </a:r>
            <a:r>
              <a:rPr b="0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Text Box 10"/>
          <p:cNvSpPr/>
          <p:nvPr/>
        </p:nvSpPr>
        <p:spPr>
          <a:xfrm>
            <a:off x="6883560" y="464184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3333"/>
                </a:solidFill>
                <a:latin typeface="Times New Roman"/>
              </a:rPr>
              <a:t>This doesn’t work!!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59" name="Object 11"/>
          <p:cNvGraphicFramePr/>
          <p:nvPr/>
        </p:nvGraphicFramePr>
        <p:xfrm>
          <a:off x="646200" y="246240"/>
          <a:ext cx="6613560" cy="108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6200" y="246240"/>
                    <a:ext cx="6613560" cy="10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13"/>
          <p:cNvGraphicFramePr/>
          <p:nvPr/>
        </p:nvGraphicFramePr>
        <p:xfrm>
          <a:off x="2692440" y="2751120"/>
          <a:ext cx="3803760" cy="85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92440" y="2751120"/>
                    <a:ext cx="38037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16"/>
          <p:cNvSpPr/>
          <p:nvPr/>
        </p:nvSpPr>
        <p:spPr>
          <a:xfrm>
            <a:off x="254160" y="1297080"/>
            <a:ext cx="862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witch the order of the second terms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and try again.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914400" y="18252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Try another combination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2008080" y="1968480"/>
          <a:ext cx="4876920" cy="88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8080" y="1968480"/>
                    <a:ext cx="4876920" cy="8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8" name="Group 11"/>
          <p:cNvGrpSpPr/>
          <p:nvPr/>
        </p:nvGrpSpPr>
        <p:grpSpPr>
          <a:xfrm>
            <a:off x="1239840" y="2862360"/>
            <a:ext cx="6248520" cy="1341360"/>
            <a:chOff x="1239840" y="2862360"/>
            <a:chExt cx="6248520" cy="1341360"/>
          </a:xfrm>
        </p:grpSpPr>
        <p:graphicFrame>
          <p:nvGraphicFramePr>
            <p:cNvPr id="369" name="Object 4"/>
            <p:cNvGraphicFramePr/>
            <p:nvPr/>
          </p:nvGraphicFramePr>
          <p:xfrm>
            <a:off x="1239840" y="3243240"/>
            <a:ext cx="6248520" cy="960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0" name="Object 4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39840" y="3243240"/>
                      <a:ext cx="6248520" cy="960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1" name="Text Box 5"/>
            <p:cNvSpPr/>
            <p:nvPr/>
          </p:nvSpPr>
          <p:spPr>
            <a:xfrm>
              <a:off x="1773360" y="286236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2" name="Text Box 6"/>
            <p:cNvSpPr/>
            <p:nvPr/>
          </p:nvSpPr>
          <p:spPr>
            <a:xfrm>
              <a:off x="3678120" y="2862360"/>
              <a:ext cx="533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3" name="Text Box 7"/>
            <p:cNvSpPr/>
            <p:nvPr/>
          </p:nvSpPr>
          <p:spPr>
            <a:xfrm>
              <a:off x="5583240" y="2862360"/>
              <a:ext cx="45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4" name="Text Box 8"/>
            <p:cNvSpPr/>
            <p:nvPr/>
          </p:nvSpPr>
          <p:spPr>
            <a:xfrm>
              <a:off x="7031160" y="2862360"/>
              <a:ext cx="380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L</a:t>
              </a: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5" name="Group 17"/>
          <p:cNvGrpSpPr/>
          <p:nvPr/>
        </p:nvGrpSpPr>
        <p:grpSpPr>
          <a:xfrm>
            <a:off x="157320" y="4357800"/>
            <a:ext cx="9144000" cy="825120"/>
            <a:chOff x="157320" y="4357800"/>
            <a:chExt cx="9144000" cy="825120"/>
          </a:xfrm>
        </p:grpSpPr>
        <p:sp>
          <p:nvSpPr>
            <p:cNvPr id="376" name="Text Box 9"/>
            <p:cNvSpPr/>
            <p:nvPr/>
          </p:nvSpPr>
          <p:spPr>
            <a:xfrm>
              <a:off x="157320" y="4357800"/>
              <a:ext cx="5680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O+I = 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5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- 2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 =</a:t>
              </a: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4800" spc="-1" strike="noStrike">
                  <a:solidFill>
                    <a:srgbClr val="333333"/>
                  </a:solidFill>
                  <a:latin typeface="Times New Roman"/>
                </a:rPr>
                <a:t>13</a:t>
              </a:r>
              <a:r>
                <a:rPr b="0" i="1" lang="en-US" sz="48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5808960" y="4405320"/>
              <a:ext cx="349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IT WORKS!!</a:t>
              </a:r>
              <a:endParaRPr b="1" lang="en-US" sz="40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378" name="Group 14"/>
          <p:cNvGrpSpPr/>
          <p:nvPr/>
        </p:nvGrpSpPr>
        <p:grpSpPr>
          <a:xfrm>
            <a:off x="326880" y="5662440"/>
            <a:ext cx="8568000" cy="790920"/>
            <a:chOff x="326880" y="5662440"/>
            <a:chExt cx="8568000" cy="790920"/>
          </a:xfrm>
        </p:grpSpPr>
        <p:graphicFrame>
          <p:nvGraphicFramePr>
            <p:cNvPr id="379" name="Object 12"/>
            <p:cNvGraphicFramePr/>
            <p:nvPr/>
          </p:nvGraphicFramePr>
          <p:xfrm>
            <a:off x="4125960" y="5681520"/>
            <a:ext cx="4768920" cy="768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80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25960" y="5681520"/>
                      <a:ext cx="4768920" cy="76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1" name="Object 13"/>
            <p:cNvGraphicFramePr/>
            <p:nvPr/>
          </p:nvGraphicFramePr>
          <p:xfrm>
            <a:off x="326880" y="5662440"/>
            <a:ext cx="3721320" cy="790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82" name="Object 13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26880" y="5662440"/>
                      <a:ext cx="3721320" cy="79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83" name="Rectangle 15"/>
          <p:cNvSpPr/>
          <p:nvPr/>
        </p:nvSpPr>
        <p:spPr>
          <a:xfrm>
            <a:off x="4656240" y="5645160"/>
            <a:ext cx="4216320" cy="8110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4" name="Rectangle 16"/>
          <p:cNvSpPr/>
          <p:nvPr/>
        </p:nvSpPr>
        <p:spPr>
          <a:xfrm>
            <a:off x="1863000" y="1011240"/>
            <a:ext cx="52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Switch to 3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 and 2</a:t>
            </a:r>
            <a:r>
              <a:rPr b="1" i="1" lang="en-US" sz="4800" spc="-1" strike="noStrike">
                <a:solidFill>
                  <a:srgbClr val="333333"/>
                </a:solidFill>
                <a:latin typeface="Times New Roman"/>
              </a:rPr>
              <a:t>x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026"/>
          <p:cNvSpPr/>
          <p:nvPr/>
        </p:nvSpPr>
        <p:spPr>
          <a:xfrm>
            <a:off x="762120" y="449280"/>
            <a:ext cx="769608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Technique #3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Times New Roman"/>
              </a:rPr>
              <a:t>continued</a:t>
            </a:r>
            <a:endParaRPr b="1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7" name="Text Box 1028"/>
          <p:cNvSpPr/>
          <p:nvPr/>
        </p:nvSpPr>
        <p:spPr>
          <a:xfrm>
            <a:off x="0" y="2208240"/>
            <a:ext cx="9144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33333"/>
                </a:solidFill>
                <a:latin typeface="Times New Roman"/>
              </a:rPr>
              <a:t>Factoring a </a:t>
            </a:r>
            <a:r>
              <a:rPr b="1" i="1" lang="en-US" sz="4600" spc="-1" strike="noStrike">
                <a:solidFill>
                  <a:srgbClr val="333333"/>
                </a:solidFill>
                <a:latin typeface="Times New Roman"/>
              </a:rPr>
              <a:t>perfect square</a:t>
            </a:r>
            <a:r>
              <a:rPr b="1" lang="en-US" sz="4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4600" spc="-1" strike="noStrike">
                <a:solidFill>
                  <a:srgbClr val="333333"/>
                </a:solidFill>
                <a:latin typeface="Times New Roman"/>
              </a:rPr>
              <a:t>trinomial</a:t>
            </a:r>
            <a:r>
              <a:rPr b="0" lang="en-US" sz="4600" spc="-1" strike="noStrike">
                <a:solidFill>
                  <a:srgbClr val="333333"/>
                </a:solidFill>
                <a:latin typeface="Times New Roman"/>
              </a:rPr>
              <a:t> in the form: </a:t>
            </a:r>
            <a:endParaRPr b="1" lang="en-US" sz="46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88" name="Object 1030"/>
          <p:cNvGraphicFramePr/>
          <p:nvPr/>
        </p:nvGraphicFramePr>
        <p:xfrm>
          <a:off x="855720" y="3935520"/>
          <a:ext cx="762012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1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935520"/>
                    <a:ext cx="76201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3"/>
          <p:cNvSpPr/>
          <p:nvPr/>
        </p:nvSpPr>
        <p:spPr>
          <a:xfrm>
            <a:off x="339840" y="417600"/>
            <a:ext cx="84931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33"/>
                </a:solidFill>
                <a:latin typeface="Times New Roman"/>
              </a:rPr>
              <a:t>Perfect Square Trinomials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can be factored just like other trinomials (guess and check), but </a:t>
            </a: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if</a:t>
            </a: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 you recognize the perfect squares pattern, follow the formula!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392" name="Object 4"/>
          <p:cNvGraphicFramePr/>
          <p:nvPr/>
        </p:nvGraphicFramePr>
        <p:xfrm>
          <a:off x="855720" y="3935520"/>
          <a:ext cx="7620120" cy="23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5720" y="3935520"/>
                    <a:ext cx="7620120" cy="23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Object 2"/>
          <p:cNvGraphicFramePr/>
          <p:nvPr/>
        </p:nvGraphicFramePr>
        <p:xfrm>
          <a:off x="1714680" y="380880"/>
          <a:ext cx="532764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4680" y="380880"/>
                    <a:ext cx="532764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4"/>
          <p:cNvGraphicFramePr/>
          <p:nvPr/>
        </p:nvGraphicFramePr>
        <p:xfrm>
          <a:off x="1206360" y="5357880"/>
          <a:ext cx="702972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6360" y="5357880"/>
                    <a:ext cx="702972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22"/>
          <p:cNvGraphicFramePr/>
          <p:nvPr/>
        </p:nvGraphicFramePr>
        <p:xfrm>
          <a:off x="3195720" y="3244680"/>
          <a:ext cx="8031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0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95720" y="3244680"/>
                    <a:ext cx="8031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1" name="Group 43"/>
          <p:cNvGrpSpPr/>
          <p:nvPr/>
        </p:nvGrpSpPr>
        <p:grpSpPr>
          <a:xfrm>
            <a:off x="1930320" y="1250640"/>
            <a:ext cx="1425600" cy="1254600"/>
            <a:chOff x="1930320" y="1250640"/>
            <a:chExt cx="1425600" cy="1254600"/>
          </a:xfrm>
        </p:grpSpPr>
        <p:graphicFrame>
          <p:nvGraphicFramePr>
            <p:cNvPr id="402" name="Object 20"/>
            <p:cNvGraphicFramePr/>
            <p:nvPr/>
          </p:nvGraphicFramePr>
          <p:xfrm>
            <a:off x="1930320" y="1514520"/>
            <a:ext cx="129708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03" name="Object 2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30320" y="1514520"/>
                      <a:ext cx="129708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4" name="Line 23"/>
            <p:cNvSpPr/>
            <p:nvPr/>
          </p:nvSpPr>
          <p:spPr>
            <a:xfrm flipV="1">
              <a:off x="3070080" y="1250640"/>
              <a:ext cx="285840" cy="436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05" name="Group 44"/>
          <p:cNvGrpSpPr/>
          <p:nvPr/>
        </p:nvGrpSpPr>
        <p:grpSpPr>
          <a:xfrm>
            <a:off x="6786720" y="1231920"/>
            <a:ext cx="1314360" cy="1217520"/>
            <a:chOff x="6786720" y="1231920"/>
            <a:chExt cx="1314360" cy="1217520"/>
          </a:xfrm>
        </p:grpSpPr>
        <p:graphicFrame>
          <p:nvGraphicFramePr>
            <p:cNvPr id="406" name="Object 21"/>
            <p:cNvGraphicFramePr/>
            <p:nvPr/>
          </p:nvGraphicFramePr>
          <p:xfrm>
            <a:off x="6804000" y="1459080"/>
            <a:ext cx="1297080" cy="9903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07" name="Object 2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04000" y="1459080"/>
                      <a:ext cx="1297080" cy="99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8" name="Line 24"/>
            <p:cNvSpPr/>
            <p:nvPr/>
          </p:nvSpPr>
          <p:spPr>
            <a:xfrm>
              <a:off x="6786720" y="1231920"/>
              <a:ext cx="379080" cy="45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09" name="Text Box 26"/>
          <p:cNvSpPr/>
          <p:nvPr/>
        </p:nvSpPr>
        <p:spPr>
          <a:xfrm>
            <a:off x="38160" y="2787480"/>
            <a:ext cx="29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es the middle term fit the pattern, 2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Text Box 33"/>
          <p:cNvSpPr/>
          <p:nvPr/>
        </p:nvSpPr>
        <p:spPr>
          <a:xfrm>
            <a:off x="2101680" y="45673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es, the factors are (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11" name="Group 40"/>
          <p:cNvGrpSpPr/>
          <p:nvPr/>
        </p:nvGrpSpPr>
        <p:grpSpPr>
          <a:xfrm>
            <a:off x="4840200" y="2236680"/>
            <a:ext cx="2078280" cy="1710000"/>
            <a:chOff x="4840200" y="2236680"/>
            <a:chExt cx="2078280" cy="1710000"/>
          </a:xfrm>
        </p:grpSpPr>
        <p:grpSp>
          <p:nvGrpSpPr>
            <p:cNvPr id="412" name="Group 32"/>
            <p:cNvGrpSpPr/>
            <p:nvPr/>
          </p:nvGrpSpPr>
          <p:grpSpPr>
            <a:xfrm>
              <a:off x="5175360" y="2236680"/>
              <a:ext cx="1743120" cy="1024200"/>
              <a:chOff x="5175360" y="2236680"/>
              <a:chExt cx="1743120" cy="1024200"/>
            </a:xfrm>
          </p:grpSpPr>
          <p:sp>
            <p:nvSpPr>
              <p:cNvPr id="413" name="Line 28"/>
              <p:cNvSpPr/>
              <p:nvPr/>
            </p:nvSpPr>
            <p:spPr>
              <a:xfrm flipH="1">
                <a:off x="5175360" y="2236680"/>
                <a:ext cx="1743120" cy="1024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4" name="Text Box 31"/>
              <p:cNvSpPr/>
              <p:nvPr/>
            </p:nvSpPr>
            <p:spPr>
              <a:xfrm>
                <a:off x="5764320" y="2295360"/>
                <a:ext cx="66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15" name="Object 36"/>
            <p:cNvGraphicFramePr/>
            <p:nvPr/>
          </p:nvGraphicFramePr>
          <p:xfrm>
            <a:off x="4840200" y="3265560"/>
            <a:ext cx="555840" cy="6811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16" name="Object 36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40200" y="3265560"/>
                      <a:ext cx="55584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17" name="Group 39"/>
          <p:cNvGrpSpPr/>
          <p:nvPr/>
        </p:nvGrpSpPr>
        <p:grpSpPr>
          <a:xfrm>
            <a:off x="2976480" y="2274840"/>
            <a:ext cx="1782720" cy="1739880"/>
            <a:chOff x="2976480" y="2274840"/>
            <a:chExt cx="1782720" cy="1739880"/>
          </a:xfrm>
        </p:grpSpPr>
        <p:grpSp>
          <p:nvGrpSpPr>
            <p:cNvPr id="418" name="Group 30"/>
            <p:cNvGrpSpPr/>
            <p:nvPr/>
          </p:nvGrpSpPr>
          <p:grpSpPr>
            <a:xfrm>
              <a:off x="2976480" y="2274840"/>
              <a:ext cx="1098720" cy="1100160"/>
              <a:chOff x="2976480" y="2274840"/>
              <a:chExt cx="1098720" cy="1100160"/>
            </a:xfrm>
          </p:grpSpPr>
          <p:sp>
            <p:nvSpPr>
              <p:cNvPr id="419" name="Line 27"/>
              <p:cNvSpPr/>
              <p:nvPr/>
            </p:nvSpPr>
            <p:spPr>
              <a:xfrm>
                <a:off x="2976480" y="2274840"/>
                <a:ext cx="1098720" cy="11001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0" name="Text Box 29"/>
              <p:cNvSpPr/>
              <p:nvPr/>
            </p:nvSpPr>
            <p:spPr>
              <a:xfrm>
                <a:off x="3470400" y="2313000"/>
                <a:ext cx="568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21" name="Object 37"/>
            <p:cNvGraphicFramePr/>
            <p:nvPr/>
          </p:nvGraphicFramePr>
          <p:xfrm>
            <a:off x="3956040" y="3457440"/>
            <a:ext cx="803160" cy="5572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22" name="Object 37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956040" y="3457440"/>
                      <a:ext cx="803160" cy="557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23" name="Object 38"/>
          <p:cNvGraphicFramePr/>
          <p:nvPr/>
        </p:nvGraphicFramePr>
        <p:xfrm>
          <a:off x="5443560" y="3270240"/>
          <a:ext cx="154620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24" name="Object 38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43560" y="3270240"/>
                    <a:ext cx="15462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5" name="Rectangle 42"/>
          <p:cNvSpPr/>
          <p:nvPr/>
        </p:nvSpPr>
        <p:spPr>
          <a:xfrm>
            <a:off x="5716440" y="5310360"/>
            <a:ext cx="2521080" cy="111096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914400" y="1447920"/>
            <a:ext cx="7467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333333"/>
                </a:solidFill>
                <a:uFillTx/>
                <a:latin typeface="Times New Roman"/>
              </a:rPr>
              <a:t>Factoring</a:t>
            </a: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 a polynomial means expressing it as a </a:t>
            </a:r>
            <a:r>
              <a:rPr b="1" i="1" lang="en-US" sz="5400" spc="-1" strike="noStrike" u="sng">
                <a:solidFill>
                  <a:srgbClr val="333333"/>
                </a:solidFill>
                <a:uFillTx/>
                <a:latin typeface="Times New Roman"/>
              </a:rPr>
              <a:t>product</a:t>
            </a: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 of other polynomials.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7" name="Object 2"/>
          <p:cNvGraphicFramePr/>
          <p:nvPr/>
        </p:nvGraphicFramePr>
        <p:xfrm>
          <a:off x="1457280" y="380880"/>
          <a:ext cx="5842080" cy="89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380880"/>
                    <a:ext cx="584208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9" name="Object 3"/>
          <p:cNvGraphicFramePr/>
          <p:nvPr/>
        </p:nvGraphicFramePr>
        <p:xfrm>
          <a:off x="787320" y="5357880"/>
          <a:ext cx="7867800" cy="103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7320" y="5357880"/>
                    <a:ext cx="7867800" cy="103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1" name="Object 4"/>
          <p:cNvGraphicFramePr/>
          <p:nvPr/>
        </p:nvGraphicFramePr>
        <p:xfrm>
          <a:off x="3005280" y="3244680"/>
          <a:ext cx="803160" cy="68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05280" y="3244680"/>
                    <a:ext cx="80316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3" name="Group 31"/>
          <p:cNvGrpSpPr/>
          <p:nvPr/>
        </p:nvGrpSpPr>
        <p:grpSpPr>
          <a:xfrm>
            <a:off x="1725480" y="1250640"/>
            <a:ext cx="1668600" cy="1235520"/>
            <a:chOff x="1725480" y="1250640"/>
            <a:chExt cx="1668600" cy="1235520"/>
          </a:xfrm>
        </p:grpSpPr>
        <p:graphicFrame>
          <p:nvGraphicFramePr>
            <p:cNvPr id="434" name="Object 6"/>
            <p:cNvGraphicFramePr/>
            <p:nvPr/>
          </p:nvGraphicFramePr>
          <p:xfrm>
            <a:off x="1725480" y="1495440"/>
            <a:ext cx="1668600" cy="9907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5" name="Object 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725480" y="1495440"/>
                      <a:ext cx="166860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6" name="Line 7"/>
            <p:cNvSpPr/>
            <p:nvPr/>
          </p:nvSpPr>
          <p:spPr>
            <a:xfrm flipV="1">
              <a:off x="3070080" y="1250640"/>
              <a:ext cx="285840" cy="43668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437" name="Group 30"/>
          <p:cNvGrpSpPr/>
          <p:nvPr/>
        </p:nvGrpSpPr>
        <p:grpSpPr>
          <a:xfrm>
            <a:off x="6786720" y="1231920"/>
            <a:ext cx="1303200" cy="1236600"/>
            <a:chOff x="6786720" y="1231920"/>
            <a:chExt cx="1303200" cy="1236600"/>
          </a:xfrm>
        </p:grpSpPr>
        <p:graphicFrame>
          <p:nvGraphicFramePr>
            <p:cNvPr id="438" name="Object 9"/>
            <p:cNvGraphicFramePr/>
            <p:nvPr/>
          </p:nvGraphicFramePr>
          <p:xfrm>
            <a:off x="6854760" y="1477800"/>
            <a:ext cx="1235160" cy="990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439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54760" y="1477800"/>
                      <a:ext cx="123516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0" name="Line 10"/>
            <p:cNvSpPr/>
            <p:nvPr/>
          </p:nvSpPr>
          <p:spPr>
            <a:xfrm>
              <a:off x="6786720" y="1231920"/>
              <a:ext cx="379080" cy="455760"/>
            </a:xfrm>
            <a:prstGeom prst="line">
              <a:avLst/>
            </a:prstGeom>
            <a:ln w="93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441" name="Text Box 11"/>
          <p:cNvSpPr/>
          <p:nvPr/>
        </p:nvSpPr>
        <p:spPr>
          <a:xfrm>
            <a:off x="38160" y="2787480"/>
            <a:ext cx="299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Does the middle term fit the pattern, 2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2" name="Text Box 12"/>
          <p:cNvSpPr/>
          <p:nvPr/>
        </p:nvSpPr>
        <p:spPr>
          <a:xfrm>
            <a:off x="2101680" y="4567320"/>
            <a:ext cx="553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Yes, the factors are (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r>
              <a:rPr b="0" lang="en-US" sz="3200" spc="-1" strike="noStrike" baseline="30000">
                <a:solidFill>
                  <a:srgbClr val="3333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: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443" name="Group 25"/>
          <p:cNvGrpSpPr/>
          <p:nvPr/>
        </p:nvGrpSpPr>
        <p:grpSpPr>
          <a:xfrm>
            <a:off x="4851360" y="2236680"/>
            <a:ext cx="2067120" cy="1741680"/>
            <a:chOff x="4851360" y="2236680"/>
            <a:chExt cx="2067120" cy="1741680"/>
          </a:xfrm>
        </p:grpSpPr>
        <p:grpSp>
          <p:nvGrpSpPr>
            <p:cNvPr id="444" name="Group 14"/>
            <p:cNvGrpSpPr/>
            <p:nvPr/>
          </p:nvGrpSpPr>
          <p:grpSpPr>
            <a:xfrm>
              <a:off x="5175360" y="2236680"/>
              <a:ext cx="1743120" cy="1024200"/>
              <a:chOff x="5175360" y="2236680"/>
              <a:chExt cx="1743120" cy="1024200"/>
            </a:xfrm>
          </p:grpSpPr>
          <p:sp>
            <p:nvSpPr>
              <p:cNvPr id="445" name="Line 15"/>
              <p:cNvSpPr/>
              <p:nvPr/>
            </p:nvSpPr>
            <p:spPr>
              <a:xfrm flipH="1">
                <a:off x="5175360" y="2236680"/>
                <a:ext cx="1743120" cy="102420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6" name="Text Box 16"/>
              <p:cNvSpPr/>
              <p:nvPr/>
            </p:nvSpPr>
            <p:spPr>
              <a:xfrm>
                <a:off x="5764320" y="2295360"/>
                <a:ext cx="6634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b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47" name="Object 17"/>
            <p:cNvGraphicFramePr/>
            <p:nvPr/>
          </p:nvGraphicFramePr>
          <p:xfrm>
            <a:off x="4851360" y="3235320"/>
            <a:ext cx="493920" cy="7430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48" name="Object 1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851360" y="3235320"/>
                      <a:ext cx="49392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49" name="Group 24"/>
          <p:cNvGrpSpPr/>
          <p:nvPr/>
        </p:nvGrpSpPr>
        <p:grpSpPr>
          <a:xfrm>
            <a:off x="2976480" y="2274840"/>
            <a:ext cx="1922400" cy="1719360"/>
            <a:chOff x="2976480" y="2274840"/>
            <a:chExt cx="1922400" cy="1719360"/>
          </a:xfrm>
        </p:grpSpPr>
        <p:grpSp>
          <p:nvGrpSpPr>
            <p:cNvPr id="450" name="Group 19"/>
            <p:cNvGrpSpPr/>
            <p:nvPr/>
          </p:nvGrpSpPr>
          <p:grpSpPr>
            <a:xfrm>
              <a:off x="2976480" y="2274840"/>
              <a:ext cx="1250640" cy="1137960"/>
              <a:chOff x="2976480" y="2274840"/>
              <a:chExt cx="1250640" cy="1137960"/>
            </a:xfrm>
          </p:grpSpPr>
          <p:sp>
            <p:nvSpPr>
              <p:cNvPr id="451" name="Line 20"/>
              <p:cNvSpPr/>
              <p:nvPr/>
            </p:nvSpPr>
            <p:spPr>
              <a:xfrm>
                <a:off x="2976480" y="2274840"/>
                <a:ext cx="1250640" cy="1137960"/>
              </a:xfrm>
              <a:prstGeom prst="line">
                <a:avLst/>
              </a:prstGeom>
              <a:ln w="9360">
                <a:solidFill>
                  <a:srgbClr val="3333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2" name="Text Box 21"/>
              <p:cNvSpPr/>
              <p:nvPr/>
            </p:nvSpPr>
            <p:spPr>
              <a:xfrm>
                <a:off x="3538800" y="2314080"/>
                <a:ext cx="646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333333"/>
                    </a:solidFill>
                    <a:latin typeface="Times New Roman"/>
                  </a:rPr>
                  <a:t>a</a:t>
                </a:r>
                <a:endParaRPr b="1" lang="en-US" sz="32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453" name="Object 22"/>
            <p:cNvGraphicFramePr/>
            <p:nvPr/>
          </p:nvGraphicFramePr>
          <p:xfrm>
            <a:off x="3664080" y="3251160"/>
            <a:ext cx="1234800" cy="7430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454" name="Object 2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3664080" y="3251160"/>
                      <a:ext cx="1234800" cy="74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455" name="Object 23"/>
          <p:cNvGraphicFramePr/>
          <p:nvPr/>
        </p:nvGraphicFramePr>
        <p:xfrm>
          <a:off x="5289480" y="3251160"/>
          <a:ext cx="185580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56" name="Object 2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289480" y="3251160"/>
                    <a:ext cx="185580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7" name="Rectangle 28"/>
          <p:cNvSpPr/>
          <p:nvPr/>
        </p:nvSpPr>
        <p:spPr>
          <a:xfrm>
            <a:off x="5732640" y="5292720"/>
            <a:ext cx="2928600" cy="11476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781200" y="66816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Technique #4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0" y="2589120"/>
            <a:ext cx="91440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or polynomials 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with 4 or more terms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/>
          </p:nvPr>
        </p:nvSpPr>
        <p:spPr>
          <a:xfrm>
            <a:off x="0" y="244440"/>
            <a:ext cx="9144000" cy="90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33"/>
                </a:solidFill>
                <a:latin typeface="Times New Roman"/>
              </a:rPr>
              <a:t>Factoring By Grouping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216000" y="1406520"/>
            <a:ext cx="8928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. Group the first set of terms and 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last set of terms with parentheses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2. Factor out the GCF from each group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so that both sets of parentheses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ontain the same factors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. Factor out the GCF again (the GCF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is the factor from step 2)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/>
          </p:nvPr>
        </p:nvSpPr>
        <p:spPr>
          <a:xfrm>
            <a:off x="-360" y="1509480"/>
            <a:ext cx="5256360" cy="79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1: Group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66" name="Object 5"/>
          <p:cNvGraphicFramePr/>
          <p:nvPr/>
        </p:nvGraphicFramePr>
        <p:xfrm>
          <a:off x="2157480" y="374760"/>
          <a:ext cx="6329160" cy="11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57480" y="374760"/>
                    <a:ext cx="6329160" cy="11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Text Box 6"/>
          <p:cNvSpPr/>
          <p:nvPr/>
        </p:nvSpPr>
        <p:spPr>
          <a:xfrm>
            <a:off x="0" y="779400"/>
            <a:ext cx="22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ample 1:      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69" name="Object 9"/>
          <p:cNvGraphicFramePr/>
          <p:nvPr/>
        </p:nvGraphicFramePr>
        <p:xfrm>
          <a:off x="1217520" y="2120760"/>
          <a:ext cx="6846840" cy="11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7520" y="2120760"/>
                    <a:ext cx="6846840" cy="11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1" name="Rectangle 11"/>
          <p:cNvSpPr/>
          <p:nvPr/>
        </p:nvSpPr>
        <p:spPr>
          <a:xfrm>
            <a:off x="0" y="3316320"/>
            <a:ext cx="91440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2: Factor out GCF from each group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2" name="Object 12"/>
          <p:cNvGraphicFramePr/>
          <p:nvPr/>
        </p:nvGraphicFramePr>
        <p:xfrm>
          <a:off x="1457280" y="3981600"/>
          <a:ext cx="6291360" cy="96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3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7280" y="3981600"/>
                    <a:ext cx="6291360" cy="96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Rectangle 13"/>
          <p:cNvSpPr/>
          <p:nvPr/>
        </p:nvSpPr>
        <p:spPr>
          <a:xfrm>
            <a:off x="0" y="4967280"/>
            <a:ext cx="640224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Times New Roman"/>
              </a:rPr>
              <a:t>Step 3: Factor out GCF again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75" name="Object 14"/>
          <p:cNvGraphicFramePr/>
          <p:nvPr/>
        </p:nvGraphicFramePr>
        <p:xfrm>
          <a:off x="2101680" y="5624640"/>
          <a:ext cx="4694400" cy="110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7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01680" y="5624640"/>
                    <a:ext cx="469440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Rectangle 15"/>
          <p:cNvSpPr/>
          <p:nvPr/>
        </p:nvSpPr>
        <p:spPr>
          <a:xfrm>
            <a:off x="2629080" y="5646600"/>
            <a:ext cx="4197240" cy="11066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12"/>
          <p:cNvGrpSpPr/>
          <p:nvPr/>
        </p:nvGrpSpPr>
        <p:grpSpPr>
          <a:xfrm>
            <a:off x="0" y="344520"/>
            <a:ext cx="8802360" cy="1194840"/>
            <a:chOff x="0" y="344520"/>
            <a:chExt cx="8802360" cy="1194840"/>
          </a:xfrm>
        </p:grpSpPr>
        <p:graphicFrame>
          <p:nvGraphicFramePr>
            <p:cNvPr id="480" name="Object 4"/>
            <p:cNvGraphicFramePr/>
            <p:nvPr/>
          </p:nvGraphicFramePr>
          <p:xfrm>
            <a:off x="2433600" y="344520"/>
            <a:ext cx="6368760" cy="1194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1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433600" y="344520"/>
                      <a:ext cx="6368760" cy="1194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2" name="Text Box 5"/>
            <p:cNvSpPr/>
            <p:nvPr/>
          </p:nvSpPr>
          <p:spPr>
            <a:xfrm>
              <a:off x="0" y="654840"/>
              <a:ext cx="1571040" cy="4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aphicFrame>
        <p:nvGraphicFramePr>
          <p:cNvPr id="483" name="Object 6"/>
          <p:cNvGraphicFramePr/>
          <p:nvPr/>
        </p:nvGraphicFramePr>
        <p:xfrm>
          <a:off x="476280" y="1452600"/>
          <a:ext cx="6846840" cy="113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6280" y="1452600"/>
                    <a:ext cx="6846840" cy="11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8"/>
          <p:cNvGraphicFramePr/>
          <p:nvPr/>
        </p:nvGraphicFramePr>
        <p:xfrm>
          <a:off x="496800" y="2441520"/>
          <a:ext cx="8286840" cy="12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6800" y="2441520"/>
                    <a:ext cx="8286840" cy="12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Rectangle 11"/>
          <p:cNvSpPr/>
          <p:nvPr/>
        </p:nvSpPr>
        <p:spPr>
          <a:xfrm>
            <a:off x="1166760" y="5646600"/>
            <a:ext cx="6810480" cy="110664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88" name="Object 14"/>
          <p:cNvGraphicFramePr/>
          <p:nvPr/>
        </p:nvGraphicFramePr>
        <p:xfrm>
          <a:off x="544680" y="3606840"/>
          <a:ext cx="7621560" cy="114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89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4680" y="3606840"/>
                    <a:ext cx="762156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0" name="Object 16"/>
          <p:cNvGraphicFramePr/>
          <p:nvPr/>
        </p:nvGraphicFramePr>
        <p:xfrm>
          <a:off x="558720" y="4545000"/>
          <a:ext cx="5807160" cy="1268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91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8720" y="4545000"/>
                    <a:ext cx="5807160" cy="12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Object 17"/>
          <p:cNvGraphicFramePr/>
          <p:nvPr/>
        </p:nvGraphicFramePr>
        <p:xfrm>
          <a:off x="584280" y="5726160"/>
          <a:ext cx="7439040" cy="1027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93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84280" y="5726160"/>
                    <a:ext cx="7439040" cy="10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Text Box 18"/>
          <p:cNvSpPr/>
          <p:nvPr/>
        </p:nvSpPr>
        <p:spPr>
          <a:xfrm>
            <a:off x="311040" y="793800"/>
            <a:ext cx="256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Example 2:</a:t>
            </a: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685800" y="22860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ry these on your own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497" name="Object 3"/>
          <p:cNvGraphicFramePr/>
          <p:nvPr/>
        </p:nvGraphicFramePr>
        <p:xfrm>
          <a:off x="1371600" y="1219320"/>
          <a:ext cx="5486400" cy="54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19320"/>
                    <a:ext cx="548640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1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3124080" y="3049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Answer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501" name="Object 3"/>
          <p:cNvGraphicFramePr/>
          <p:nvPr/>
        </p:nvGraphicFramePr>
        <p:xfrm>
          <a:off x="1523880" y="1523880"/>
          <a:ext cx="6477120" cy="494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523880"/>
                    <a:ext cx="6477120" cy="494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4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28440" y="2046240"/>
            <a:ext cx="9144000" cy="41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Factoring polynomials with a common </a:t>
            </a:r>
            <a:r>
              <a:rPr b="1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monomial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 factor     (using GCF)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**Always look for a GCF before using any other factoring method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144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1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647640" y="3348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Steps: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0" y="13906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1. Find the greatest common factor    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(GCF)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0" y="29908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2. Divide the polynomial by the GCF. 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The quotient is the other factor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0" y="4635360"/>
            <a:ext cx="9144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3. 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Express the polynomial as the product 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4200" spc="-1" strike="noStrike">
                <a:solidFill>
                  <a:srgbClr val="333333"/>
                </a:solidFill>
                <a:latin typeface="Times New Roman"/>
              </a:rPr>
              <a:t>of the quotient and the GCF.</a:t>
            </a:r>
            <a:endParaRPr b="1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9"/>
          <p:cNvGraphicFramePr/>
          <p:nvPr/>
        </p:nvGraphicFramePr>
        <p:xfrm>
          <a:off x="-20520" y="189000"/>
          <a:ext cx="9250200" cy="11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0520" y="189000"/>
                    <a:ext cx="925020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0"/>
          <p:cNvGraphicFramePr/>
          <p:nvPr/>
        </p:nvGraphicFramePr>
        <p:xfrm>
          <a:off x="3438360" y="1749600"/>
          <a:ext cx="4162680" cy="87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38360" y="1749600"/>
                    <a:ext cx="41626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Text Box 11"/>
          <p:cNvSpPr/>
          <p:nvPr/>
        </p:nvSpPr>
        <p:spPr>
          <a:xfrm>
            <a:off x="639720" y="1773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Step 1:</a:t>
            </a:r>
            <a:endParaRPr b="1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569880" y="286704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Step 2:  </a:t>
            </a:r>
            <a:r>
              <a:rPr b="1" i="1" lang="en-US" sz="4400" spc="-1" strike="noStrike">
                <a:solidFill>
                  <a:srgbClr val="333333"/>
                </a:solidFill>
                <a:latin typeface="Times New Roman"/>
              </a:rPr>
              <a:t>Divide by GCF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13" name="Object 13"/>
          <p:cNvGraphicFramePr/>
          <p:nvPr/>
        </p:nvGraphicFramePr>
        <p:xfrm>
          <a:off x="0" y="3836880"/>
          <a:ext cx="8915400" cy="97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836880"/>
                    <a:ext cx="891540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14"/>
          <p:cNvGraphicFramePr/>
          <p:nvPr/>
        </p:nvGraphicFramePr>
        <p:xfrm>
          <a:off x="2262240" y="5172120"/>
          <a:ext cx="4822920" cy="1038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6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62240" y="5172120"/>
                    <a:ext cx="482292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Object 5"/>
          <p:cNvGraphicFramePr/>
          <p:nvPr/>
        </p:nvGraphicFramePr>
        <p:xfrm>
          <a:off x="525600" y="4181400"/>
          <a:ext cx="7866000" cy="12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181400"/>
                    <a:ext cx="7866000" cy="12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"/>
          <p:cNvSpPr/>
          <p:nvPr/>
        </p:nvSpPr>
        <p:spPr>
          <a:xfrm>
            <a:off x="228600" y="11430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The answer should look like this: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1" name="Object 11"/>
          <p:cNvGraphicFramePr/>
          <p:nvPr/>
        </p:nvGraphicFramePr>
        <p:xfrm>
          <a:off x="380880" y="2514600"/>
          <a:ext cx="830592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514600"/>
                    <a:ext cx="83059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Rectangle 12"/>
          <p:cNvSpPr/>
          <p:nvPr/>
        </p:nvSpPr>
        <p:spPr>
          <a:xfrm>
            <a:off x="1212840" y="4156200"/>
            <a:ext cx="7275600" cy="1442880"/>
          </a:xfrm>
          <a:prstGeom prst="rect">
            <a:avLst/>
          </a:prstGeom>
          <a:noFill/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371600" y="30492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Factor these on your own looking for a GCF.</a:t>
            </a:r>
            <a:endParaRPr b="1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533520" y="2438280"/>
          <a:ext cx="861048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61048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4"/>
          <p:cNvGraphicFramePr/>
          <p:nvPr/>
        </p:nvGraphicFramePr>
        <p:xfrm>
          <a:off x="5819760" y="2533680"/>
          <a:ext cx="3328920" cy="7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19760" y="2533680"/>
                    <a:ext cx="3328920" cy="7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5"/>
          <p:cNvGraphicFramePr/>
          <p:nvPr/>
        </p:nvGraphicFramePr>
        <p:xfrm>
          <a:off x="5673600" y="3660840"/>
          <a:ext cx="3017880" cy="78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73600" y="3660840"/>
                    <a:ext cx="301788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6"/>
          <p:cNvGraphicFramePr/>
          <p:nvPr/>
        </p:nvGraphicFramePr>
        <p:xfrm>
          <a:off x="2058840" y="5632560"/>
          <a:ext cx="576900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58840" y="5632560"/>
                    <a:ext cx="57690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0" y="2817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Factoring polynomials that are a </a:t>
            </a:r>
            <a:r>
              <a:rPr b="1" i="1" lang="en-US" sz="4800" spc="-1" strike="noStrike" u="sng">
                <a:solidFill>
                  <a:srgbClr val="333333"/>
                </a:solidFill>
                <a:uFillTx/>
                <a:latin typeface="Times New Roman"/>
              </a:rPr>
              <a:t>difference of squares</a:t>
            </a:r>
            <a:r>
              <a:rPr b="1" lang="en-US" sz="4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14400" y="10666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cc0000"/>
                </a:solidFill>
                <a:uFillTx/>
                <a:latin typeface="Times New Roman"/>
              </a:rPr>
              <a:t>Factoring Method #2</a:t>
            </a:r>
            <a:endParaRPr b="1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sliderbase.com</a:t>
            </a:r>
            <a:endParaRPr b="1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15:38:57Z</dcterms:created>
  <dc:creator>HCPS</dc:creator>
  <dc:description/>
  <dc:language>en-US</dc:language>
  <cp:lastModifiedBy>LEGION</cp:lastModifiedBy>
  <dcterms:modified xsi:type="dcterms:W3CDTF">2017-07-06T06:33:18Z</dcterms:modified>
  <cp:revision>75</cp:revision>
  <dc:subject/>
  <dc:title>No Slide Title</dc:title>
</cp:coreProperties>
</file>