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3CD7-16AE-49C1-BF7C-CBE4D916B98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se the symbols of algebra,                    we could write the domain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at look like a foreign langu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ansla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the symbols of algebra,                    we could write the domai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at look like a foreign langu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ansl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ly br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tell us we have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ly bra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ell us we have a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x reminds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our set contains x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x reminds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our set contains x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lon say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on say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bol that looks like an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r a c sticking its tongue o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s, belongs to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mbol that looks like an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a c sticking its tongue 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s, belongs to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cursive, or script,                     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short for 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cursive, or script,      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hort for 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, the set of real number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e read it, “The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belongs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, the set of real numb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read it, “The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belong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put 11 in for x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was 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put 11 in for 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was 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17 belong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of the func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ny number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not get for y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some number in for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7 belong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of the fun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 number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not get for y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some number in for 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the rang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nction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at the rang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we study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earn term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put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put 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study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 terms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y, 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belongs to 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real number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thi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y, 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belongs to 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real numb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thi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and r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any real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ot always true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thematic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to study a functio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mited dom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and r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any re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always true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mathemat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to study a func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mited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ight think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x is between –3 and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uld be writte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ight think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x is between –3 and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writt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the domain or ran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the function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func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x be any real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the domain or r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the functio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func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x be any real numb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re 3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would have to                 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never                           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3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would have to                 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ever                           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from the dom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e would have to elimi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would b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from the dom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would have to eli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would b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ould not belong to the rang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could never be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could not belong to the rang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hink of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ould never be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number we can divide 1 by to get 0, so 0 cannot            belong to the r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 to be 0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x have to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of the function i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number we can divide 1 by to get 0, so 0 cannot            belong to the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y to be 0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x have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of the function i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limit the domain of function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common rules of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 1:  You can’t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limit the domain of function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common rules of 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 1:  You can’t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ule 1:  You can’t divide by 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ve already seen a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ule 1:  You can’t divide by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ve already seen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put values are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put into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the x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put values are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come out of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the y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values are th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put into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x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values are th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ome out of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y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’t take the square root        of a negativ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about Rule 2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func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om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’t take the square root        of a negativ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about Rule 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fun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om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y when x is 16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quare root of 16 is 4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y is 4 when x is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belongs to the doma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4 belongs to the r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y when x is 16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 4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y is 4 when x is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belongs to the dom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4 belongs to the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at is y when                             x is –16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number do you square           to get –16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say –4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hat is y when                             x is –16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 do you square           to get –16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say –4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 –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real number we can square to get a negativ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o negative number can belong        to the domain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 –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real number we can square to get a negativ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 negative number can belong        to the doma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domain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number for which     we can find a square root is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doma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number for which     we can find a square root is 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domain of each fun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domain of each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func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hoose any value                   we want for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we choose 1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put 11 into the function      by substituting for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func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hoose any value                   we want for 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we choose 1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put 11 into the function      by substituting for 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wrote down every            number we could put in for x       and still have the function         make sens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ould have the set of numbers we call the domain                          of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wrote down every            number we could put in for x       and still have the function         make sens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ould have the set of numbers we call the domain                          of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is the set                   that contains all the                    input values                                   for a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is the set                   that contains all the                    input values                                   for a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ny number we could                        not put in for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fun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 number we could                        not put in for 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we could substitute                             any real number                                        for x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e domain                                             of the function                                     is 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could substitute                             any real number                                        for 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e domain                                             of the function                                     is 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B5C-1387-4B7A-85A5-C1FA7D47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EFE-D79C-419E-8AEA-CC09BF93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2AFE-2C13-4E13-91E7-425146D0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8805-A205-4470-8947-F7449529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0FC-2B1E-4B4D-ACC5-E11372F5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3FB-9A60-4A27-AF4A-E3E089E0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EBF-0794-4B01-B773-E904DB8C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EFB-CBDE-4234-9DE1-1418B936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2F9-AB7C-4E76-8E36-3366A5DC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16F-34C0-4B03-8C5C-CC9B4B9C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6E6-BB4C-4D8A-9D44-A052B1C5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EC86-8A53-4E40-97C4-CED59656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F93A-66F6-4B58-9C09-587DBB850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297240" y="380880"/>
            <a:ext cx="2548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m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3792600" y="2211480"/>
            <a:ext cx="1557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3733920" y="4040280"/>
            <a:ext cx="2547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an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use the symbols of algebra,                    we could write the domain 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2514600" y="2438280"/>
                <a:ext cx="412740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Text Box 5"/>
          <p:cNvSpPr/>
          <p:nvPr/>
        </p:nvSpPr>
        <p:spPr>
          <a:xfrm>
            <a:off x="0" y="4038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es that look like a foreign languag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0" y="405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’s translat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urly brac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1187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st tell us we have a set of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2519280" y="3247920"/>
                <a:ext cx="410544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reminds 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our set contain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2514600" y="3247920"/>
                <a:ext cx="406224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lon say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2514600" y="3247920"/>
                <a:ext cx="401940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2514600" y="3276720"/>
                <a:ext cx="41688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ymbol that looks like a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r a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sticking its tongue ou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0" y="1919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ys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elongs to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4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ursive, or script,      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2482920" y="3276720"/>
                <a:ext cx="412596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Text Box 5"/>
          <p:cNvSpPr/>
          <p:nvPr/>
        </p:nvSpPr>
        <p:spPr>
          <a:xfrm>
            <a:off x="0" y="1919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short for 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2575080" y="3400560"/>
                <a:ext cx="435924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Text Box 13"/>
          <p:cNvSpPr/>
          <p:nvPr/>
        </p:nvSpPr>
        <p:spPr>
          <a:xfrm>
            <a:off x="0" y="2073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, the set of real number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we read it, “The s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0" y="12207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7"/>
              <p:cNvSpPr txBox="1"/>
              <p:nvPr/>
            </p:nvSpPr>
            <p:spPr>
              <a:xfrm>
                <a:off x="3817800" y="3743280"/>
                <a:ext cx="2127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Text Box 11"/>
          <p:cNvSpPr/>
          <p:nvPr/>
        </p:nvSpPr>
        <p:spPr>
          <a:xfrm>
            <a:off x="1676520" y="12207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419720" y="12193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longs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5"/>
              <p:cNvSpPr txBox="1"/>
              <p:nvPr/>
            </p:nvSpPr>
            <p:spPr>
              <a:xfrm>
                <a:off x="3065400" y="3789360"/>
                <a:ext cx="574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5595840" y="3611520"/>
                <a:ext cx="8305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4114800" y="3768840"/>
                <a:ext cx="1298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3873600" y="3600360"/>
                <a:ext cx="1536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7"/>
              <p:cNvSpPr txBox="1"/>
              <p:nvPr/>
            </p:nvSpPr>
            <p:spPr>
              <a:xfrm>
                <a:off x="3270240" y="2558880"/>
                <a:ext cx="2057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Text Box 8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we put 11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0" y="1157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as 17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3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17 belongs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0" y="1157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un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ny number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uld not get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3282840" y="2362320"/>
                <a:ext cx="257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 Box 9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ting some number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60948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No!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ay that the rang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nction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3359160" y="2362320"/>
                <a:ext cx="2425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7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study f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0" y="1068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learn terms li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198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put valu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0" y="2897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0" y="3811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utput 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longs to R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real number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ad this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2433600" y="1649520"/>
                <a:ext cx="42768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omain and rang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2071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be any real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not always true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0" y="2909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times mathematic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0" y="37479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nt to study a function o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0" y="4586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limited dom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might think ab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2909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between –3 and 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could be writte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8"/>
              <p:cNvSpPr txBox="1"/>
              <p:nvPr/>
            </p:nvSpPr>
            <p:spPr>
              <a:xfrm>
                <a:off x="3340080" y="2133720"/>
                <a:ext cx="2463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1638360" y="5092560"/>
                <a:ext cx="6045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6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mits the domain or rang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times the function itsel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is functio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Text Box 8"/>
          <p:cNvSpPr/>
          <p:nvPr/>
        </p:nvSpPr>
        <p:spPr>
          <a:xfrm>
            <a:off x="0" y="4738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any real numb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re 3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ould happen 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0" y="3900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we would have to                 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7"/>
          <p:cNvSpPr/>
          <p:nvPr/>
        </p:nvSpPr>
        <p:spPr>
          <a:xfrm>
            <a:off x="0" y="3886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never                           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 from the domain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we would have to elimin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Text Box 6"/>
          <p:cNvSpPr/>
          <p:nvPr/>
        </p:nvSpPr>
        <p:spPr>
          <a:xfrm>
            <a:off x="0" y="38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omain would b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3416400" y="5105520"/>
                <a:ext cx="23112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428" nodeType="afterEffect" fill="hold" presetClass="entr" presetID="17" presetSubtype="10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4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could not belong to the rang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you think of a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3505320" y="298440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5"/>
          <p:cNvSpPr/>
          <p:nvPr/>
        </p:nvSpPr>
        <p:spPr>
          <a:xfrm>
            <a:off x="0" y="4559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uld never be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0" y="4572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7"/>
          <p:cNvSpPr/>
          <p:nvPr/>
        </p:nvSpPr>
        <p:spPr>
          <a:xfrm>
            <a:off x="0" y="40068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number we can divide 1 by to get 0, so 0 cannot            belong to the ran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o be 0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oul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ave to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3505320" y="2362320"/>
                <a:ext cx="213336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Text Box 5"/>
          <p:cNvSpPr/>
          <p:nvPr/>
        </p:nvSpPr>
        <p:spPr>
          <a:xfrm>
            <a:off x="0" y="40035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ange of the function i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3365640" y="5410080"/>
                <a:ext cx="24127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limit the domain of functions a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ost common rules of algeb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762120" y="2743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ule 1:  You can’t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1"/>
          <p:cNvGrpSpPr/>
          <p:nvPr/>
        </p:nvGrpSpPr>
        <p:grpSpPr>
          <a:xfrm>
            <a:off x="762120" y="3625920"/>
            <a:ext cx="9144000" cy="2288160"/>
            <a:chOff x="762120" y="3625920"/>
            <a:chExt cx="9144000" cy="2288160"/>
          </a:xfrm>
        </p:grpSpPr>
        <p:sp>
          <p:nvSpPr>
            <p:cNvPr id="201" name="Text Box 8"/>
            <p:cNvSpPr/>
            <p:nvPr/>
          </p:nvSpPr>
          <p:spPr>
            <a:xfrm>
              <a:off x="762120" y="362592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Rule 2:  You can’t take th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2895480" y="4357800"/>
              <a:ext cx="6248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quare root of a            negative number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0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Rule 1:  You can’t divide by 0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’ve already seen an exam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put value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1068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ut into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198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0" y="2984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utput value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come out of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0" y="481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can’t take the square root        of a negative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nk about Rule 2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0" y="2863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the fun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3638520" y="3778200"/>
                <a:ext cx="1866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Text Box 9"/>
          <p:cNvSpPr/>
          <p:nvPr/>
        </p:nvSpPr>
        <p:spPr>
          <a:xfrm>
            <a:off x="0" y="4510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dom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16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0" y="2863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quare root of 16 is 4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3708360" y="144792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6" name="Text Box 6"/>
          <p:cNvSpPr/>
          <p:nvPr/>
        </p:nvSpPr>
        <p:spPr>
          <a:xfrm>
            <a:off x="0" y="3733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4 w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3733920" y="1447920"/>
                <a:ext cx="1955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8" name="Text Box 8"/>
          <p:cNvSpPr/>
          <p:nvPr/>
        </p:nvSpPr>
        <p:spPr>
          <a:xfrm>
            <a:off x="0" y="4495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 belongs to the domai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4 belongs to the ran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1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what i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hen                          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–16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0" y="2863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number do you square           to get –16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3708360" y="213372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6"/>
              <p:cNvSpPr txBox="1"/>
              <p:nvPr/>
            </p:nvSpPr>
            <p:spPr>
              <a:xfrm>
                <a:off x="3695760" y="2133720"/>
                <a:ext cx="2400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5" name="Text Box 7"/>
          <p:cNvSpPr/>
          <p:nvPr/>
        </p:nvSpPr>
        <p:spPr>
          <a:xfrm>
            <a:off x="0" y="4495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d you say –4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0" y="144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 –16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1682640" y="609480"/>
                <a:ext cx="577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Text Box 6"/>
          <p:cNvSpPr/>
          <p:nvPr/>
        </p:nvSpPr>
        <p:spPr>
          <a:xfrm>
            <a:off x="0" y="22096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real number we can square to get a negative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0" y="3809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no negative number can belong        to the domain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3733920" y="5562720"/>
                <a:ext cx="172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0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19051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e domain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0" y="3657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3708360" y="297180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6" name="Text Box 7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mallest number for which     we can find a square root is 0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8"/>
              <p:cNvSpPr txBox="1"/>
              <p:nvPr/>
            </p:nvSpPr>
            <p:spPr>
              <a:xfrm>
                <a:off x="3384720" y="4648320"/>
                <a:ext cx="2323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nd the domain of each funct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457200" y="1523880"/>
                <a:ext cx="298440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8"/>
              <p:cNvSpPr txBox="1"/>
              <p:nvPr/>
            </p:nvSpPr>
            <p:spPr>
              <a:xfrm>
                <a:off x="457200" y="3276720"/>
                <a:ext cx="36194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419040" y="4178160"/>
                <a:ext cx="34671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0"/>
              <p:cNvSpPr txBox="1"/>
              <p:nvPr/>
            </p:nvSpPr>
            <p:spPr>
              <a:xfrm>
                <a:off x="457200" y="4965840"/>
                <a:ext cx="36576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0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60948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1143000" y="1778040"/>
                <a:ext cx="3505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1098720" y="2819520"/>
                <a:ext cx="33778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1095480" y="4711680"/>
                <a:ext cx="33782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9"/>
              <p:cNvSpPr txBox="1"/>
              <p:nvPr/>
            </p:nvSpPr>
            <p:spPr>
              <a:xfrm>
                <a:off x="1101600" y="3797280"/>
                <a:ext cx="3556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the functio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3289320" y="106848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 Box 6"/>
          <p:cNvSpPr/>
          <p:nvPr/>
        </p:nvSpPr>
        <p:spPr>
          <a:xfrm>
            <a:off x="0" y="1644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choose any value                   we want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0" y="3811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ppose we choose 11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0" y="472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put 11 into the function      by substituting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4373640" y="3416400"/>
                <a:ext cx="1904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4362480" y="3416400"/>
                <a:ext cx="19303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4373640" y="3429000"/>
                <a:ext cx="27306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3168720" y="3606840"/>
                <a:ext cx="1104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1"/>
              <p:cNvSpPr txBox="1"/>
              <p:nvPr/>
            </p:nvSpPr>
            <p:spPr>
              <a:xfrm>
                <a:off x="4464000" y="3416400"/>
                <a:ext cx="7365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2"/>
              <p:cNvSpPr txBox="1"/>
              <p:nvPr/>
            </p:nvSpPr>
            <p:spPr>
              <a:xfrm>
                <a:off x="2438280" y="2057400"/>
                <a:ext cx="2679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" dur="1" fill="hold"/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152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we wrote down every            number we could put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ill have the function         make sens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312264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would have the set of numbers we call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           of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152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the set                   that contains all the                    input values                                   for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our functi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3289320" y="106848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4"/>
          <p:cNvSpPr/>
          <p:nvPr/>
        </p:nvSpPr>
        <p:spPr>
          <a:xfrm>
            <a:off x="0" y="1720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ny number we could                        not put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0" y="3429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9288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we could substitute                             any real number                                       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32749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ay the domain                                             of the function                                     is 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6:11:46Z</dcterms:created>
  <dc:creator>Bob Greer</dc:creator>
  <dc:description/>
  <dc:language>en-US</dc:language>
  <cp:lastModifiedBy>LEGION</cp:lastModifiedBy>
  <dcterms:modified xsi:type="dcterms:W3CDTF">2017-07-06T06:33:07Z</dcterms:modified>
  <cp:revision>4</cp:revision>
  <dc:subject/>
  <dc:title>PowerPoint Presentation</dc:title>
</cp:coreProperties>
</file>