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1B34-DADA-4049-845D-0C2B77141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367-5784-4AF3-8D7D-F3AA5554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9C2-3A88-449C-824C-4DFCD292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747-648C-48AC-A646-77B04EBE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059-DFA5-457A-A828-F7A8833A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790-C9F7-40BA-9B3D-069C6DE6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4AE-BB05-4E4E-8317-C765B013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D32-7FAC-4F0E-8EAA-57F6BB2C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200-FD5E-4BBA-8F51-AFCF6958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EA5-CB13-4251-9DAD-89FDD9AE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B57-C627-41D9-9F60-A28EAE7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A86-3F8C-4166-B0BD-92DB546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142-0D81-46B2-BD6B-504E03D8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994-44F1-4BCA-A21D-FB0385018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2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LEGION</cp:lastModifiedBy>
  <dcterms:modified xsi:type="dcterms:W3CDTF">2017-07-06T06:32:40Z</dcterms:modified>
  <cp:revision>10</cp:revision>
  <dc:subject/>
  <dc:title>Directly and inversely proportional</dc:title>
</cp:coreProperties>
</file>