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EA7B4-F94E-4713-A936-4B6BB02C1B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6200EE-EF1E-4B0F-9584-EFB3C75E1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607-6352-44C3-B175-2BE5007C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29E-3046-4EB7-89E5-97873279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467-75BC-4540-B422-7767FEC9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43F9-CD6D-4898-ABE7-B36C932D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D99F-8BE1-47D9-957C-61433A36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FDEA-D205-45F2-A434-CDC31BD6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1FAA-EE6C-45D2-AEB8-9F81993E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8CCD-7AD7-4B14-8FC3-15683169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01C0-8727-4975-B2DA-A84353ED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D5053-93EC-44BC-BD23-AC2B3631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A868-B874-4DD2-84CA-7E3BA8C2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5A9-3FA1-402B-AEC0-3DE0794A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1A03-BF9F-4DEC-ADB0-BF849F70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0EB7-30F3-42EA-8CC2-1F2A352D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FAD8-9FBE-4B4C-A9DE-2535C3F3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E0CE-859E-48D5-B10A-2E471410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8362-8A4A-435C-97EB-B595FFDB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6820E-6D50-4F35-87E0-8AEFF696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C777E-9E82-46FE-8798-D6A1E873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99BE-2DC0-45D6-9E96-F5C78690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8B0AF-7D51-4BB2-886B-46AF67B3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29119-DFAB-431F-B4B4-F8C0E5B2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F9B8-8D32-4A31-AE21-6D13B311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50863-5C28-4BDF-996D-F1C03ECB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FBC32-A7FA-4F7A-B736-5C74F0CB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9C061-35C5-4C4A-A993-D14407D0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97F74-F0B5-4E62-9E28-8426607D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CCA85-17C4-4D92-AE43-7DE95F69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CE747-4DDD-48C5-A68D-0D65713D5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7D96A-1EF4-49FC-8E91-7DE8C1CF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FB850-54FA-4072-96CB-98541C99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9C503-E037-4631-8731-56A2676A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52627-3175-4BB0-BADE-6D5C2594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CA02-575B-4287-BAE7-1A3FC0A8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95F5A-0793-4B17-B0F8-EE7FAFC9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2D09E-4710-4D7C-9551-70557B9F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1405A-0802-45A5-AF11-2D4E0CCE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33284-EBE7-485F-9237-BC80A2C0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7A4EF-FF74-41F8-9131-DC964F4B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D0A59-992A-4D8D-9F37-08875E24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8D0A6-8C16-4F87-BEF6-6602BC53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FCDD-5FFB-4E55-9817-D0086463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F0A6E-D024-4618-AE09-1828EF65E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33E3-6D43-4CF3-BBA6-F0E1B623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451-E319-4A77-B1A9-B7C733BD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A3E-5871-48F5-8B7D-271A932B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15E-7168-4021-8D82-C893E33E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542-95EE-4847-9697-273554B3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48236-F186-48B2-A700-23781D6C9B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F0743-ECEC-4044-BE3B-6B5F32DAF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92532-DCFC-4B5B-A756-EB5E31A4F2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C86F1-7024-4628-A9C1-085939F039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745AD-9400-43F7-A198-00A7B2103E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4A34E-5450-49A4-9E1D-A7A50167E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73604-0AFE-4095-A862-888313EFF9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CA005-A53A-40FB-982B-600A7B048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6591240" y="33526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7" descr="[image]"/>
          <p:cNvPicPr/>
          <p:nvPr/>
        </p:nvPicPr>
        <p:blipFill>
          <a:blip r:embed="rId1"/>
          <a:stretch/>
        </p:blipFill>
        <p:spPr>
          <a:xfrm>
            <a:off x="518148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3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exactly betwee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19160" cy="2514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457200" y="1905120"/>
            <a:ext cx="4495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(x) is exponential and g(x) i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g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f(x) is linear and g(x) is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opulation of bacteria is described by y = 200(2.7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re t is measured in days.  Which statement is corr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1.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100(1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191120" y="17146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y = 100(1/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y = 25(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y = 30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/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y = 8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8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re t is measured in d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log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s about .0906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It equals .25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It equals .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Object 2"/>
          <p:cNvGraphicFramePr/>
          <p:nvPr/>
        </p:nvGraphicFramePr>
        <p:xfrm>
          <a:off x="533520" y="1447920"/>
          <a:ext cx="4267080" cy="25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426708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5257800" y="685800"/>
          <a:ext cx="327672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685800"/>
                    <a:ext cx="32767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1523880" y="4114800"/>
          <a:ext cx="3124440" cy="2036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114800"/>
                    <a:ext cx="312444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46479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3505320" y="2916360"/>
          <a:ext cx="2286000" cy="17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916360"/>
                    <a:ext cx="2286000" cy="171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380880" y="2819520"/>
          <a:ext cx="2286000" cy="190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19520"/>
                    <a:ext cx="2286000" cy="190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Object 4"/>
          <p:cNvGraphicFramePr/>
          <p:nvPr/>
        </p:nvGraphicFramePr>
        <p:xfrm>
          <a:off x="6400800" y="2819520"/>
          <a:ext cx="2344680" cy="1958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2344680" cy="195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457200" y="3809880"/>
          <a:ext cx="2276640" cy="20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2276640" cy="206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3"/>
          <p:cNvGraphicFramePr/>
          <p:nvPr/>
        </p:nvGraphicFramePr>
        <p:xfrm>
          <a:off x="3200400" y="3809880"/>
          <a:ext cx="2230560" cy="20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230560" cy="202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5943600" y="3809880"/>
          <a:ext cx="2257560" cy="2043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809880"/>
                    <a:ext cx="2257560" cy="204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, how should you rank the jobs according to the income you will rece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6:21:45Z</dcterms:created>
  <dc:creator>Mark Schlatter</dc:creator>
  <dc:description/>
  <dc:language>en-US</dc:language>
  <cp:lastModifiedBy>LEGION</cp:lastModifiedBy>
  <dcterms:modified xsi:type="dcterms:W3CDTF">2017-07-06T06:32:08Z</dcterms:modified>
  <cp:revision>5</cp:revision>
  <dc:subject/>
  <dc:title>Concept Test</dc:title>
</cp:coreProperties>
</file>