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6135D-6AA9-47E5-8026-F1211183FE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0A4E1-2839-4ABB-AEA9-CAC7C1B07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24D-99E5-433D-9523-46B6E46D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BED-587E-4CCA-8B2B-86A0EA44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1B8-7D48-4793-91B2-4065082A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306-8191-4FBB-BE71-0095BF3F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51E3-469D-4EEF-988E-11F22556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7F25-3ED3-46FF-B0BC-11FDBC1A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FAC1-4B12-4995-B8BA-45C65DC6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3633-CF00-41BF-9E3D-76FA68FF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0C72-7631-4059-88E0-A8393207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BE45-C15E-4021-AAAD-F541E543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E3E3-00DC-432E-A075-D86C8BC2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800-5AA6-4F70-B8E5-427E7000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5759-83AC-4C34-8370-0F03E657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40B7-464A-4135-96D4-96512A73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981B-2D3E-4C61-8246-3316AA1A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0535-C188-425C-83BD-C95A66F8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8B34-94EF-4DCE-BF57-78FBA5C2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4FE70-0BFC-44DE-98C1-8FEDF70E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CBBA-C6DE-4322-9241-89538974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5597-3988-4BF5-ACC9-7AFBF2F3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CBD2-4296-4047-91FC-2FA4947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5601-EE04-4714-8F64-A6452E71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101-E2F6-497C-833B-C9EB337E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91693-F7D6-4071-891D-6AE21554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8577-905E-425C-8FF2-90D2C106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6225-FCE9-4DB0-B8F1-1B9CF5E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1E5E-A0A1-4978-8B67-860CE7BF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EC80-8AF6-4B78-A8AA-2D7D7BAF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6F3F9-2613-4F7B-AB85-125F3A7A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9760-1BA7-4F7B-A1D9-A5C738F8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E8EB-20D8-4C9A-B79A-1DB762CD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DDF4-D488-4402-BF02-E06AB466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E4750-E73C-452B-A642-E2FF24E0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E4E-2528-40A4-AC01-2263A55B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9933-813D-45AB-AD66-74164ADF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169D9-27A2-4E72-9189-99A72847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2CE71-E99F-45CA-A3CA-A3EEFA70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3CED3-799C-48AC-BC99-1E80FAD2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C2AE5-9E82-443F-86FE-32179E69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DCB25-1C28-4D5A-B0C6-7DDFFB08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6CB3-98BD-4310-B6E9-B2E0E76F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E3C25-B5A4-4DA0-A1F7-F2214589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A80A6-4E4C-42FA-B328-39CE6A3D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3EF-8A72-456E-9067-7A05E4B7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8DB-4002-441E-8AB3-877EA1FC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DB3-81EA-42ED-93A4-B5F2D75B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4DD-C470-4280-843D-5F9E42A9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A76-2E01-4907-840D-3499FB2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91E44-A442-4FCC-8ECD-B12674AF1B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85EF4-7F48-49A2-8103-DBECF7E2F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2F876-3244-422E-AB99-76E8497883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92313-BBBB-4920-AD79-BDE53D32C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44C8C-25C2-4B55-80F6-5C375EAAF8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CD92C-A86D-4434-9E23-8ADDBE8EA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D15B5-73C5-44BE-843A-98C13B5343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65361-4BE5-4EA9-841A-5CF646466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LEGION</cp:lastModifiedBy>
  <dcterms:modified xsi:type="dcterms:W3CDTF">2017-07-06T06:32:08Z</dcterms:modified>
  <cp:revision>5</cp:revision>
  <dc:subject/>
  <dc:title>Concept Test</dc:title>
</cp:coreProperties>
</file>