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908ECE-E3C8-430B-B39B-12187FBEFC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53B08-4BE8-42EF-A0E2-25012DAD7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EB71-4512-4150-9797-E008B1DA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8ED-2CE6-4C8E-99FE-0A19E43D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4BA0-9313-468D-8200-EC3EA109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7ED0-E2D5-4198-BA74-640502DD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DDA1-AD6A-40FD-8A47-471B9FD2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886C-E259-405B-B750-4714BFE2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5C44-9BC1-4E29-BF8C-EE100F82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1DE1-6AE3-4302-AAA4-F1D29989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98ED-5098-4261-BE01-69180589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3F7F-15A9-4B26-A43A-63A97510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2C75A-8235-4978-88A4-5CF5BCAA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757D-C1A4-4D7B-A8DF-5FAB8DF0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4899-B767-44AF-945E-D7BF72F6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8213-70AF-419B-A6E4-F50598D9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838C-1721-40FE-8902-C7470693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E092-88F8-4371-BECA-0FFEBFF4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6ADE-8EF3-4304-84FF-0D85C44D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6B1FE-2FE4-4975-B4C1-C11E6996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D8906-DDB7-4EA1-AF64-E1010617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DAC52-5C7B-4EA6-A28C-4F306E6A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E71C-502A-4A18-B444-B254E064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9DC4-CD04-4B07-8947-645C43A9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3489-E206-407A-AE35-F097FE20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CF376-34F6-41EB-A554-ED7B39C1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C8B25-9381-422E-B070-43D66E2A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89706-6998-40A4-B320-77982AAC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DE443-B068-4AC1-BB07-1D5EC9A6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ABA7-EEE3-4453-8A1D-BBA326C1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E548B-ABC4-4C0E-9DED-28DC515C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F6C40-48DA-4A5D-9BDC-09674882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B4776-DD59-4560-A793-1A6C5121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9B732-5C2E-430A-9570-CFCF905B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6AFB8-7C37-4231-8A8D-2EAA1B99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CC9-0903-4E4E-85E2-877CC1AE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B946D-09AA-4762-8FCC-A6FA2A95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EA3E2-8C23-4E53-A72B-92690294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47C06-C41C-4ABA-BE98-7B53200D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F6BBA-AC1D-4CB2-8268-B0345B94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92FC0-33A9-4E81-9409-7555A9ED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A223B-234D-4DDB-A94D-D3F321AC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1D8C4-AB47-46E7-AC96-0547A333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09C03-83CA-43A7-8826-084D074C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565A0-D216-4661-BCEA-1CDB96E48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55D-7FCA-4D3C-8A21-5386AF58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CC0-350A-4858-82C3-2F2F8497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4D84-6192-4FD7-87AA-78D81308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1F54-ECD6-42F8-9A17-837C9BF4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3CA-F12D-4763-B64F-9DF626C1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7FBE8-510B-4FFA-A668-C4786B61DA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3F1C9-1BA6-4C87-8374-E70249B0CD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C1C08-62EC-4DF7-A10D-C9290E5087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E7A19-5D32-41F0-9DCC-47ED7F4C9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3B1F1-534A-40CF-852C-4F2FAC8013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89245-BFCD-48A1-B6AC-6DBB4D02C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F223D7-2327-4128-B48B-256FC23F11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D678B-719B-44B3-8961-E8E60BE56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4572000" y="36576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6591240" y="33526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7" descr="[image]"/>
          <p:cNvPicPr/>
          <p:nvPr/>
        </p:nvPicPr>
        <p:blipFill>
          <a:blip r:embed="rId1"/>
          <a:stretch/>
        </p:blipFill>
        <p:spPr>
          <a:xfrm>
            <a:off x="518148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3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exactly betwee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819160" cy="2514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457200" y="1905120"/>
            <a:ext cx="4495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(x) is exponential and g(x) i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g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f(x) is linear and g(x) is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opulation of bacteria is described by y = 200(2.7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re t is measured in days.  Which statement is corr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1.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100(1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191120" y="17146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y = 100(1/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y = 25(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y = 30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/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y = 8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8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re t is measured in d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log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s about .0906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It equals .25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It equals .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Object 2"/>
          <p:cNvGraphicFramePr/>
          <p:nvPr/>
        </p:nvGraphicFramePr>
        <p:xfrm>
          <a:off x="533520" y="1447920"/>
          <a:ext cx="4267080" cy="25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426708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5257800" y="685800"/>
          <a:ext cx="327672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685800"/>
                    <a:ext cx="32767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1523880" y="4114800"/>
          <a:ext cx="3124440" cy="2036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114800"/>
                    <a:ext cx="312444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647960" cy="46479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3505320" y="2916360"/>
          <a:ext cx="2286000" cy="17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916360"/>
                    <a:ext cx="2286000" cy="171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380880" y="2819520"/>
          <a:ext cx="2286000" cy="190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19520"/>
                    <a:ext cx="2286000" cy="190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Object 4"/>
          <p:cNvGraphicFramePr/>
          <p:nvPr/>
        </p:nvGraphicFramePr>
        <p:xfrm>
          <a:off x="6400800" y="2819520"/>
          <a:ext cx="2344680" cy="1958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2344680" cy="195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457200" y="3809880"/>
          <a:ext cx="2276640" cy="206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2276640" cy="206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3" name="Object 3"/>
          <p:cNvGraphicFramePr/>
          <p:nvPr/>
        </p:nvGraphicFramePr>
        <p:xfrm>
          <a:off x="3200400" y="3809880"/>
          <a:ext cx="2230560" cy="202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230560" cy="202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5943600" y="3809880"/>
          <a:ext cx="2257560" cy="2043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809880"/>
                    <a:ext cx="2257560" cy="204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, how should you rank the jobs according to the income you will rece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6:21:45Z</dcterms:created>
  <dc:creator>Mark Schlatter</dc:creator>
  <dc:description/>
  <dc:language>en-US</dc:language>
  <cp:lastModifiedBy>LEGION</cp:lastModifiedBy>
  <dcterms:modified xsi:type="dcterms:W3CDTF">2017-07-06T06:32:08Z</dcterms:modified>
  <cp:revision>5</cp:revision>
  <dc:subject/>
  <dc:title>Concept Test</dc:title>
</cp:coreProperties>
</file>