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2.png" ContentType="image/png"/>
  <Override PartName="/ppt/media/image33.wmf" ContentType="image/x-wmf"/>
  <Override PartName="/ppt/media/image8.wmf" ContentType="image/x-wmf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24.gif" ContentType="image/gif"/>
  <Override PartName="/ppt/media/image37.png" ContentType="image/png"/>
  <Override PartName="/ppt/media/image13.wmf" ContentType="image/x-wmf"/>
  <Override PartName="/ppt/media/image38.png" ContentType="image/png"/>
  <Override PartName="/ppt/media/image7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11.wmf" ContentType="image/x-wmf"/>
  <Override PartName="/ppt/media/image23.gif" ContentType="image/gi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3.gif" ContentType="image/gi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E55A-B9A0-464C-9BFE-1C52A17F0D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3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esson 3.3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empting to combin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property of radicals only works for positive values under the radical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use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rning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t is tempting to combine th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multiplicative property of radicals only works for positive values under the radical sig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stead use imaginary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It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correct principles to simplify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y It 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e the correct principles to simplify the following: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xpression under the radical in the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known as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i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a perfect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ot a perfect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             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scrimin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the expression under the radical in the quadratic formul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is is known as the discrimin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hat happens when it is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itive and a perfect square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itive and not a perfect square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egative 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turn of th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soluti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interse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ol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the solution t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te the graph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 intersect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x-axi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ing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lve and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solve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damental Theorem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olynomial f(x) of degree n ≥ 1 has at least one complex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member that complex includes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mber of Zeros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olynomial of degree n has at most n distinct ze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plain how theorems apply to thes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Fundamental Theorem of Algebr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A polynomial f(x) of degree n ≥ 1 has at least one complex 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Remember that complex includes real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Number of Zeros theor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A polynomial of degree n has at most n distinct zero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Explain how theorems apply to these graph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Zeroes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with real coeffic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+ bi is a zero, then a – bi will also be a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jugate Zeroes Theor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iven a polynomial with real coefficient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f a + bi is a zero, then a – bi will also be a 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son 3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ge 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rcises 1 – 78  E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Assignme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esson 3.3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Page 211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Exercises 1 – 78  EO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inary Numbe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powers if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Imaginary Number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y defini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powers if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can handle quantities that occasionally show up in mathematical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ing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w we can handle quantities that occasionally show up in mathematical solution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hat ab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real numbers with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bine real numbers with imaginary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 + b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It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se complex numbers in standard form   a + 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y It 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rite these complex numbers in standard form   a + b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on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can be combined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on 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can be combined with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ubtrac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on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ech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numerator and denominator by the conjugate of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on 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vision techniqu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ltiply numerator and denominator by the conjugate of the denomin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on the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res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t mo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form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ctang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alculator do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red res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on the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sible resul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et mode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format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o Rectangula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w calculator does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sired resul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on the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with complex on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to use the correct character for i. Use 2nd-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on the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with complex on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ke sure to use the correct character for i. Use 2nd-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297-7494-42ED-8822-1954B76E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0D7-397C-474A-AB6B-B07336D3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37D-30D0-480D-82FD-13D10218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9444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3132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9444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33132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007-BF2C-46B1-BB06-402316B9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6C5D-C350-458B-BFFE-4A81A6B4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C44F-E2D5-4748-9B3E-D9DD500D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47DA-75DE-47E1-B953-8C9377AE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117C-7F1B-48A9-AA0A-C65714F3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5733-081D-434F-8DD3-B3637657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2037-5143-4DEF-90EA-BA3E30F9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F96F-727A-4892-8CE0-76AD306D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063-C61E-485E-B177-70521DC9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D7A5-2DED-46AE-A07A-0D0EB683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E905-4F0A-47D2-BD46-95EC13AA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4504-16A3-4930-9293-9909C454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12BB-C868-4D3C-BEDD-DE028E61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9444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33132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9444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33132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63A3-F704-4CCD-A503-BAC82A2C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604-EB6B-4499-A6EF-54F6567A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2E85-4B91-4478-8719-125B98EC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937-F36C-44CD-987E-DCCE1EC7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0E0-176B-4F76-9CE2-8E65ABE7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979-8119-4176-A304-C116BCD1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BCE-DAC1-4081-A28D-3DE1B10B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96B-E829-4133-8393-0DEBFE9B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f83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A60D-DF7F-4F51-B4B4-EFE4B22360B0}" type="slidenum"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f83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8"/>
          <p:cNvGrpSpPr/>
          <p:nvPr/>
        </p:nvGrpSpPr>
        <p:grpSpPr>
          <a:xfrm>
            <a:off x="8035920" y="2984400"/>
            <a:ext cx="791640" cy="1295280"/>
            <a:chOff x="8035920" y="2984400"/>
            <a:chExt cx="791640" cy="1295280"/>
          </a:xfrm>
        </p:grpSpPr>
        <p:sp>
          <p:nvSpPr>
            <p:cNvPr id="75" name="Oval 9"/>
            <p:cNvSpPr/>
            <p:nvPr/>
          </p:nvSpPr>
          <p:spPr>
            <a:xfrm>
              <a:off x="8035920" y="298440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8203680" y="298440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8371800" y="298440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8035920" y="315216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8203680" y="315216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8371800" y="315216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Oval 15"/>
            <p:cNvSpPr/>
            <p:nvPr/>
          </p:nvSpPr>
          <p:spPr>
            <a:xfrm>
              <a:off x="8539560" y="315216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Oval 16"/>
            <p:cNvSpPr/>
            <p:nvPr/>
          </p:nvSpPr>
          <p:spPr>
            <a:xfrm>
              <a:off x="8035920" y="332028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Oval 17"/>
            <p:cNvSpPr/>
            <p:nvPr/>
          </p:nvSpPr>
          <p:spPr>
            <a:xfrm>
              <a:off x="8203680" y="332028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Oval 18"/>
            <p:cNvSpPr/>
            <p:nvPr/>
          </p:nvSpPr>
          <p:spPr>
            <a:xfrm>
              <a:off x="8371800" y="332028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Oval 19"/>
            <p:cNvSpPr/>
            <p:nvPr/>
          </p:nvSpPr>
          <p:spPr>
            <a:xfrm>
              <a:off x="8539560" y="332028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Oval 20"/>
            <p:cNvSpPr/>
            <p:nvPr/>
          </p:nvSpPr>
          <p:spPr>
            <a:xfrm>
              <a:off x="8707680" y="332028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Oval 21"/>
            <p:cNvSpPr/>
            <p:nvPr/>
          </p:nvSpPr>
          <p:spPr>
            <a:xfrm>
              <a:off x="8035920" y="3488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Oval 22"/>
            <p:cNvSpPr/>
            <p:nvPr/>
          </p:nvSpPr>
          <p:spPr>
            <a:xfrm>
              <a:off x="8203680" y="3488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Oval 23"/>
            <p:cNvSpPr/>
            <p:nvPr/>
          </p:nvSpPr>
          <p:spPr>
            <a:xfrm>
              <a:off x="8371800" y="348804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Oval 24"/>
            <p:cNvSpPr/>
            <p:nvPr/>
          </p:nvSpPr>
          <p:spPr>
            <a:xfrm>
              <a:off x="8539560" y="3488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Oval 25"/>
            <p:cNvSpPr/>
            <p:nvPr/>
          </p:nvSpPr>
          <p:spPr>
            <a:xfrm>
              <a:off x="8035920" y="3656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Oval 26"/>
            <p:cNvSpPr/>
            <p:nvPr/>
          </p:nvSpPr>
          <p:spPr>
            <a:xfrm>
              <a:off x="8203680" y="365616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Oval 27"/>
            <p:cNvSpPr/>
            <p:nvPr/>
          </p:nvSpPr>
          <p:spPr>
            <a:xfrm>
              <a:off x="8371800" y="365616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Oval 28"/>
            <p:cNvSpPr/>
            <p:nvPr/>
          </p:nvSpPr>
          <p:spPr>
            <a:xfrm>
              <a:off x="8539560" y="365616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Oval 29"/>
            <p:cNvSpPr/>
            <p:nvPr/>
          </p:nvSpPr>
          <p:spPr>
            <a:xfrm>
              <a:off x="8707680" y="3656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Oval 30"/>
            <p:cNvSpPr/>
            <p:nvPr/>
          </p:nvSpPr>
          <p:spPr>
            <a:xfrm>
              <a:off x="8035920" y="382428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Oval 31"/>
            <p:cNvSpPr/>
            <p:nvPr/>
          </p:nvSpPr>
          <p:spPr>
            <a:xfrm>
              <a:off x="8203680" y="382428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Oval 32"/>
            <p:cNvSpPr/>
            <p:nvPr/>
          </p:nvSpPr>
          <p:spPr>
            <a:xfrm>
              <a:off x="8371800" y="382428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Oval 33"/>
            <p:cNvSpPr/>
            <p:nvPr/>
          </p:nvSpPr>
          <p:spPr>
            <a:xfrm>
              <a:off x="8539560" y="382428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Oval 34"/>
            <p:cNvSpPr/>
            <p:nvPr/>
          </p:nvSpPr>
          <p:spPr>
            <a:xfrm>
              <a:off x="8035920" y="399204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Oval 35"/>
            <p:cNvSpPr/>
            <p:nvPr/>
          </p:nvSpPr>
          <p:spPr>
            <a:xfrm>
              <a:off x="8203680" y="399204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Oval 36"/>
            <p:cNvSpPr/>
            <p:nvPr/>
          </p:nvSpPr>
          <p:spPr>
            <a:xfrm>
              <a:off x="8371800" y="399204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Oval 37"/>
            <p:cNvSpPr/>
            <p:nvPr/>
          </p:nvSpPr>
          <p:spPr>
            <a:xfrm>
              <a:off x="8539560" y="399204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Oval 38"/>
            <p:cNvSpPr/>
            <p:nvPr/>
          </p:nvSpPr>
          <p:spPr>
            <a:xfrm>
              <a:off x="8203680" y="416016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Oval 39"/>
            <p:cNvSpPr/>
            <p:nvPr/>
          </p:nvSpPr>
          <p:spPr>
            <a:xfrm>
              <a:off x="8539560" y="416016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5419-9652-4AD0-BBC1-9203759F3919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781680" cy="164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esson 3.3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Warning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77440" y="1752480"/>
            <a:ext cx="8566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t is tempting to combine them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The multiplicative property of radicals only works for positive values under the radical sig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Instead use imaginary number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40" name="Picture 4" descr="j0163107"/>
          <p:cNvPicPr/>
          <p:nvPr/>
        </p:nvPicPr>
        <p:blipFill>
          <a:blip r:embed="rId1"/>
          <a:stretch/>
        </p:blipFill>
        <p:spPr>
          <a:xfrm>
            <a:off x="4044960" y="514440"/>
            <a:ext cx="1000080" cy="780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j0213521"/>
          <p:cNvPicPr/>
          <p:nvPr/>
        </p:nvPicPr>
        <p:blipFill>
          <a:blip r:embed="rId2"/>
          <a:stretch/>
        </p:blipFill>
        <p:spPr>
          <a:xfrm>
            <a:off x="7097760" y="3414600"/>
            <a:ext cx="952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Object 6"/>
          <p:cNvGraphicFramePr/>
          <p:nvPr/>
        </p:nvGraphicFramePr>
        <p:xfrm>
          <a:off x="3828960" y="1724040"/>
          <a:ext cx="210024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8960" y="1724040"/>
                    <a:ext cx="21002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7"/>
          <p:cNvGraphicFramePr/>
          <p:nvPr/>
        </p:nvGraphicFramePr>
        <p:xfrm>
          <a:off x="1940040" y="3525840"/>
          <a:ext cx="489888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0040" y="3525840"/>
                    <a:ext cx="4898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8"/>
          <p:cNvGraphicFramePr/>
          <p:nvPr/>
        </p:nvGraphicFramePr>
        <p:xfrm>
          <a:off x="1757520" y="5856120"/>
          <a:ext cx="492732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7520" y="5856120"/>
                    <a:ext cx="4927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ry It Ou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Use the correct principles to simplify the following: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4721400" y="2727360"/>
          <a:ext cx="20620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1400" y="2727360"/>
                    <a:ext cx="20620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5"/>
          <p:cNvGraphicFramePr/>
          <p:nvPr/>
        </p:nvGraphicFramePr>
        <p:xfrm>
          <a:off x="1201680" y="3838680"/>
          <a:ext cx="3400560" cy="71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1680" y="3838680"/>
                    <a:ext cx="340056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4235400" y="5014800"/>
          <a:ext cx="2075040" cy="84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35400" y="5014800"/>
                    <a:ext cx="207504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he                </a:t>
            </a:r>
            <a:br>
              <a:rPr sz="3900"/>
            </a:b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Discriminan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the expression under the radical in the quadratic formula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This is known as the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</a:rPr>
              <a:t>discriminant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hat happens when it is 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Positive and a perfect square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Positive and </a:t>
            </a:r>
            <a:r>
              <a:rPr b="0" lang="en-US" sz="2600" spc="-1" strike="noStrike" u="sng">
                <a:solidFill>
                  <a:srgbClr val="1c1c1c"/>
                </a:solidFill>
                <a:uFillTx/>
                <a:latin typeface="Arial"/>
              </a:rPr>
              <a:t>not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 a perfect square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Zero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Negative 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4265640" y="2478240"/>
          <a:ext cx="20113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5640" y="2478240"/>
                    <a:ext cx="2011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AutoShape 5"/>
          <p:cNvSpPr/>
          <p:nvPr/>
        </p:nvSpPr>
        <p:spPr>
          <a:xfrm>
            <a:off x="5029200" y="2533680"/>
            <a:ext cx="131904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6178680" y="2233440"/>
            <a:ext cx="326880" cy="2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4" name="WordArt 7" descr=""/>
          <p:cNvPicPr/>
          <p:nvPr/>
        </p:nvPicPr>
        <p:blipFill>
          <a:blip r:embed="rId3"/>
          <a:stretch/>
        </p:blipFill>
        <p:spPr>
          <a:xfrm>
            <a:off x="1590840" y="189000"/>
            <a:ext cx="3114360" cy="69516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10"/>
          <p:cNvGrpSpPr/>
          <p:nvPr/>
        </p:nvGrpSpPr>
        <p:grpSpPr>
          <a:xfrm>
            <a:off x="3117960" y="5251320"/>
            <a:ext cx="3781440" cy="1606680"/>
            <a:chOff x="3117960" y="5251320"/>
            <a:chExt cx="3781440" cy="1606680"/>
          </a:xfrm>
        </p:grpSpPr>
        <p:sp>
          <p:nvSpPr>
            <p:cNvPr id="266" name="AutoShape 9"/>
            <p:cNvSpPr/>
            <p:nvPr/>
          </p:nvSpPr>
          <p:spPr>
            <a:xfrm>
              <a:off x="3117960" y="5251320"/>
              <a:ext cx="3781440" cy="1606680"/>
            </a:xfrm>
            <a:prstGeom prst="irregularSeal1">
              <a:avLst/>
            </a:prstGeom>
            <a:solidFill>
              <a:srgbClr val="808080"/>
            </a:solidFill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3490920" y="5735520"/>
              <a:ext cx="2895480" cy="459720"/>
            </a:xfrm>
            <a:prstGeom prst="rect">
              <a:avLst/>
            </a:prstGeom>
            <a:solidFill>
              <a:srgbClr val="5c8a8a"/>
            </a:solidFill>
            <a:ln w="25560">
              <a:solidFill>
                <a:srgbClr val="41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lex roots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the solution t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te the graph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No intersections</a:t>
            </a:r>
            <a:br>
              <a:rPr sz="2600"/>
            </a:b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with x-axi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Using the </a:t>
            </a: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solve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and</a:t>
            </a: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csolve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unction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168880" y="1685880"/>
          <a:ext cx="24098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685880"/>
                    <a:ext cx="24098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3" name="Picture 5" descr=""/>
          <p:cNvPicPr/>
          <p:nvPr/>
        </p:nvPicPr>
        <p:blipFill>
          <a:blip r:embed="rId3"/>
          <a:srcRect l="0" t="0" r="0" b="33688"/>
          <a:stretch/>
        </p:blipFill>
        <p:spPr>
          <a:xfrm>
            <a:off x="4249800" y="2446200"/>
            <a:ext cx="4367160" cy="154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4" name="Picture 6" descr=""/>
          <p:cNvPicPr/>
          <p:nvPr/>
        </p:nvPicPr>
        <p:blipFill>
          <a:blip r:embed="rId4"/>
          <a:stretch/>
        </p:blipFill>
        <p:spPr>
          <a:xfrm>
            <a:off x="3724200" y="4446720"/>
            <a:ext cx="3959280" cy="211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5" name="Line 7"/>
          <p:cNvSpPr/>
          <p:nvPr/>
        </p:nvSpPr>
        <p:spPr>
          <a:xfrm flipV="1">
            <a:off x="3859200" y="3394080"/>
            <a:ext cx="1797120" cy="29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Fundamental Theorem of Algebra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A polynomial f(x) of degree n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≥ 1 has at least one complex zer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Remember that complex includes </a:t>
            </a:r>
            <a:r>
              <a:rPr b="0" lang="en-US" sz="2600" spc="-1" strike="noStrike" u="sng">
                <a:solidFill>
                  <a:srgbClr val="1c1c1c"/>
                </a:solidFill>
                <a:uFillTx/>
                <a:latin typeface="Arial"/>
                <a:ea typeface="Arial"/>
              </a:rPr>
              <a:t>real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Number of Zeros theorem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A polynomial of degree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 has at most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 distinct zero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Explain how theorems apply to these graph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622440" y="5065560"/>
            <a:ext cx="228600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3413160" y="5099040"/>
            <a:ext cx="228600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6248520" y="5097600"/>
            <a:ext cx="2286000" cy="121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onjugate Zeroes Theorem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Given a polynomial with real coefficient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f 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a + b</a:t>
            </a:r>
            <a:r>
              <a:rPr b="1" i="1" lang="en-US" sz="3000" spc="-1" strike="noStrike">
                <a:solidFill>
                  <a:srgbClr val="ffff99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s a zero, then 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a – bi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 will also be a zer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85" name="Object 4"/>
          <p:cNvGraphicFramePr/>
          <p:nvPr/>
        </p:nvGraphicFramePr>
        <p:xfrm>
          <a:off x="1015920" y="2489040"/>
          <a:ext cx="70279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2489040"/>
                    <a:ext cx="7027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Line 5"/>
          <p:cNvSpPr/>
          <p:nvPr/>
        </p:nvSpPr>
        <p:spPr>
          <a:xfrm flipH="1">
            <a:off x="2825640" y="2217600"/>
            <a:ext cx="2355840" cy="48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 flipH="1">
            <a:off x="4087440" y="2216160"/>
            <a:ext cx="1120680" cy="41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5222880" y="2216160"/>
            <a:ext cx="1122480" cy="582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0" name="Group 11"/>
          <p:cNvGrpSpPr/>
          <p:nvPr/>
        </p:nvGrpSpPr>
        <p:grpSpPr>
          <a:xfrm>
            <a:off x="2259000" y="4378320"/>
            <a:ext cx="4371840" cy="1557360"/>
            <a:chOff x="2259000" y="4378320"/>
            <a:chExt cx="4371840" cy="1557360"/>
          </a:xfrm>
        </p:grpSpPr>
        <p:pic>
          <p:nvPicPr>
            <p:cNvPr id="291" name="Picture 8" descr=""/>
            <p:cNvPicPr/>
            <p:nvPr/>
          </p:nvPicPr>
          <p:blipFill>
            <a:blip r:embed="rId3"/>
            <a:srcRect l="0" t="54532" r="0" b="0"/>
            <a:stretch/>
          </p:blipFill>
          <p:spPr>
            <a:xfrm>
              <a:off x="2671920" y="4975200"/>
              <a:ext cx="3958920" cy="960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92" name="Line 9"/>
            <p:cNvSpPr/>
            <p:nvPr/>
          </p:nvSpPr>
          <p:spPr>
            <a:xfrm>
              <a:off x="2259000" y="4475160"/>
              <a:ext cx="1744560" cy="803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>
              <a:off x="5998680" y="4378320"/>
              <a:ext cx="179640" cy="85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Assignmen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712880" y="2013120"/>
            <a:ext cx="7431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Lesson 3.3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Page 211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Exercises 1 – 78  EO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he Imaginary Number </a:t>
            </a:r>
            <a:r>
              <a:rPr b="0" i="1" lang="en-US" sz="39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By definition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powers if </a:t>
            </a:r>
            <a:r>
              <a:rPr b="0" i="1" lang="en-US" sz="30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4191120" y="1676520"/>
          <a:ext cx="335268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335268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5"/>
          <p:cNvGraphicFramePr/>
          <p:nvPr/>
        </p:nvGraphicFramePr>
        <p:xfrm>
          <a:off x="2438280" y="3276720"/>
          <a:ext cx="3733920" cy="33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276720"/>
                    <a:ext cx="373392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Group 6"/>
          <p:cNvGrpSpPr/>
          <p:nvPr/>
        </p:nvGrpSpPr>
        <p:grpSpPr>
          <a:xfrm>
            <a:off x="6508800" y="2433600"/>
            <a:ext cx="2262240" cy="2244600"/>
            <a:chOff x="6508800" y="2433600"/>
            <a:chExt cx="2262240" cy="2244600"/>
          </a:xfrm>
        </p:grpSpPr>
        <p:pic>
          <p:nvPicPr>
            <p:cNvPr id="164" name="Picture 7" descr="j0236531"/>
            <p:cNvPicPr/>
            <p:nvPr/>
          </p:nvPicPr>
          <p:blipFill>
            <a:blip r:embed="rId5"/>
            <a:stretch/>
          </p:blipFill>
          <p:spPr>
            <a:xfrm>
              <a:off x="7742520" y="3421080"/>
              <a:ext cx="102852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AutoShape 8"/>
            <p:cNvSpPr/>
            <p:nvPr/>
          </p:nvSpPr>
          <p:spPr>
            <a:xfrm>
              <a:off x="6508800" y="2433600"/>
              <a:ext cx="1317600" cy="1114560"/>
            </a:xfrm>
            <a:prstGeom prst="wedgeEllipseCallout">
              <a:avLst>
                <a:gd name="adj1" fmla="val 47467"/>
                <a:gd name="adj2" fmla="val 61824"/>
              </a:avLst>
            </a:prstGeom>
            <a:solidFill>
              <a:srgbClr val="669999"/>
            </a:solidFill>
            <a:ln w="25560">
              <a:solidFill>
                <a:srgbClr val="49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It's any number you can imagine</a:t>
              </a:r>
              <a:endParaRPr b="0" lang="en-US" sz="1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Using </a:t>
            </a:r>
            <a:r>
              <a:rPr b="0" i="1" lang="en-US" sz="39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w we can handle quantities that occasionally show up in mathematical solution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hat abou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2676600" y="3476520"/>
          <a:ext cx="400824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3476520"/>
                    <a:ext cx="40082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2911320" y="5567400"/>
          <a:ext cx="11383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1320" y="5567400"/>
                    <a:ext cx="11383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5205240" y="5611680"/>
          <a:ext cx="107964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05240" y="5611680"/>
                    <a:ext cx="10796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bine real numbers with imaginary number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a + b</a:t>
            </a:r>
            <a:r>
              <a:rPr b="1" i="1" lang="en-US" sz="26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61920" y="2708280"/>
            <a:ext cx="1797120" cy="1081080"/>
            <a:chOff x="61920" y="2708280"/>
            <a:chExt cx="1797120" cy="1081080"/>
          </a:xfrm>
        </p:grpSpPr>
        <p:sp>
          <p:nvSpPr>
            <p:cNvPr id="179" name="Text Box 5"/>
            <p:cNvSpPr/>
            <p:nvPr/>
          </p:nvSpPr>
          <p:spPr>
            <a:xfrm>
              <a:off x="61920" y="342108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Real part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 flipV="1">
              <a:off x="1084320" y="2708280"/>
              <a:ext cx="293760" cy="71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81" name="Group 7"/>
          <p:cNvGrpSpPr/>
          <p:nvPr/>
        </p:nvGrpSpPr>
        <p:grpSpPr>
          <a:xfrm>
            <a:off x="1979640" y="2752560"/>
            <a:ext cx="2332080" cy="1090440"/>
            <a:chOff x="1979640" y="2752560"/>
            <a:chExt cx="2332080" cy="1090440"/>
          </a:xfrm>
        </p:grpSpPr>
        <p:sp>
          <p:nvSpPr>
            <p:cNvPr id="182" name="Text Box 8"/>
            <p:cNvSpPr/>
            <p:nvPr/>
          </p:nvSpPr>
          <p:spPr>
            <a:xfrm>
              <a:off x="2668680" y="3200400"/>
              <a:ext cx="16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Imaginary part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1979640" y="2752560"/>
              <a:ext cx="611280" cy="647640"/>
            </a:xfrm>
            <a:custGeom>
              <a:avLst/>
              <a:gdLst/>
              <a:ahLst/>
              <a:rect l="l" t="t" r="r" b="b"/>
              <a:pathLst>
                <a:path w="385" h="408">
                  <a:moveTo>
                    <a:pt x="385" y="400"/>
                  </a:moveTo>
                  <a:cubicBezTo>
                    <a:pt x="255" y="404"/>
                    <a:pt x="126" y="408"/>
                    <a:pt x="63" y="341"/>
                  </a:cubicBezTo>
                  <a:cubicBezTo>
                    <a:pt x="0" y="274"/>
                    <a:pt x="2" y="137"/>
                    <a:pt x="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aphicFrame>
        <p:nvGraphicFramePr>
          <p:cNvPr id="184" name="Object 10"/>
          <p:cNvGraphicFramePr/>
          <p:nvPr/>
        </p:nvGraphicFramePr>
        <p:xfrm>
          <a:off x="1776240" y="5308560"/>
          <a:ext cx="102096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5308560"/>
                    <a:ext cx="1020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11"/>
          <p:cNvGraphicFramePr/>
          <p:nvPr/>
        </p:nvGraphicFramePr>
        <p:xfrm>
          <a:off x="3659040" y="4770360"/>
          <a:ext cx="12528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9040" y="4770360"/>
                    <a:ext cx="12528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2"/>
          <p:cNvGraphicFramePr/>
          <p:nvPr/>
        </p:nvGraphicFramePr>
        <p:xfrm>
          <a:off x="5600880" y="5518080"/>
          <a:ext cx="192060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0880" y="5518080"/>
                    <a:ext cx="1920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ry It Ou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rite these complex numbers in standard form   a + b</a:t>
            </a:r>
            <a:r>
              <a:rPr b="1" i="1" lang="en-US" sz="30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1522440" y="3411360"/>
          <a:ext cx="152064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3411360"/>
                    <a:ext cx="152064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5"/>
          <p:cNvGraphicFramePr/>
          <p:nvPr/>
        </p:nvGraphicFramePr>
        <p:xfrm>
          <a:off x="4705200" y="3889440"/>
          <a:ext cx="143676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3889440"/>
                    <a:ext cx="1436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1820880" y="4854600"/>
          <a:ext cx="178740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0880" y="4854600"/>
                    <a:ext cx="17874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5160960" y="5176800"/>
          <a:ext cx="1474920" cy="6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0960" y="5176800"/>
                    <a:ext cx="14749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Operations on 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plex numbers can be combined with 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addi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subtrac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multiplica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divis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205160" y="4079880"/>
          <a:ext cx="3481560" cy="7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4079880"/>
                    <a:ext cx="34815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760320" y="4854600"/>
          <a:ext cx="3065400" cy="6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4854600"/>
                    <a:ext cx="3065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6"/>
          <p:cNvGraphicFramePr/>
          <p:nvPr/>
        </p:nvGraphicFramePr>
        <p:xfrm>
          <a:off x="5288040" y="5272200"/>
          <a:ext cx="2762280" cy="65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8040" y="5272200"/>
                    <a:ext cx="27622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Operations on 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Division technique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Multiply numerator and denominator by the conjugate of the denominator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1805040" y="3389400"/>
          <a:ext cx="83484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5040" y="3389400"/>
                    <a:ext cx="83484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Group 5"/>
          <p:cNvGrpSpPr/>
          <p:nvPr/>
        </p:nvGrpSpPr>
        <p:grpSpPr>
          <a:xfrm>
            <a:off x="2781360" y="3103560"/>
            <a:ext cx="3182760" cy="2948040"/>
            <a:chOff x="2781360" y="3103560"/>
            <a:chExt cx="3182760" cy="2948040"/>
          </a:xfrm>
        </p:grpSpPr>
        <p:graphicFrame>
          <p:nvGraphicFramePr>
            <p:cNvPr id="216" name="Object 6"/>
            <p:cNvGraphicFramePr/>
            <p:nvPr/>
          </p:nvGraphicFramePr>
          <p:xfrm>
            <a:off x="2781360" y="3390840"/>
            <a:ext cx="3182760" cy="266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81360" y="3390840"/>
                      <a:ext cx="318276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Oval 7"/>
            <p:cNvSpPr/>
            <p:nvPr/>
          </p:nvSpPr>
          <p:spPr>
            <a:xfrm>
              <a:off x="3811680" y="3206880"/>
              <a:ext cx="1146240" cy="1249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3387600" y="3103560"/>
              <a:ext cx="463680" cy="34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c1c1c"/>
                </a:solidFill>
                <a:latin typeface="Arial"/>
              </a:rPr>
              <a:t>Complex Numbers on the Calculator</a:t>
            </a:r>
            <a:endParaRPr b="1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Possible resul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Reset mode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plex format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o </a:t>
            </a:r>
            <a:r>
              <a:rPr b="0" lang="en-US" sz="3000" spc="-1" strike="noStrike" u="sng">
                <a:solidFill>
                  <a:srgbClr val="1c1c1c"/>
                </a:solidFill>
                <a:uFillTx/>
                <a:latin typeface="Arial"/>
              </a:rPr>
              <a:t>Rectangula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w calculator does 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desired resul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613400" y="1428840"/>
            <a:ext cx="2890800" cy="154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5078520" y="2484360"/>
            <a:ext cx="3155760" cy="168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25" name="Group 6"/>
          <p:cNvGrpSpPr/>
          <p:nvPr/>
        </p:nvGrpSpPr>
        <p:grpSpPr>
          <a:xfrm>
            <a:off x="4327560" y="5319720"/>
            <a:ext cx="4456080" cy="984240"/>
            <a:chOff x="4327560" y="5319720"/>
            <a:chExt cx="4456080" cy="984240"/>
          </a:xfrm>
        </p:grpSpPr>
        <p:pic>
          <p:nvPicPr>
            <p:cNvPr id="226" name="Picture 7" descr=""/>
            <p:cNvPicPr/>
            <p:nvPr/>
          </p:nvPicPr>
          <p:blipFill>
            <a:blip r:embed="rId3"/>
            <a:srcRect l="0" t="54975" r="0" b="0"/>
            <a:stretch/>
          </p:blipFill>
          <p:spPr>
            <a:xfrm>
              <a:off x="4524480" y="5354640"/>
              <a:ext cx="3949560" cy="949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27" name="Oval 8"/>
            <p:cNvSpPr/>
            <p:nvPr/>
          </p:nvSpPr>
          <p:spPr>
            <a:xfrm>
              <a:off x="7624800" y="5653080"/>
              <a:ext cx="1158840" cy="477720"/>
            </a:xfrm>
            <a:prstGeom prst="ellipse">
              <a:avLst/>
            </a:prstGeom>
            <a:noFill/>
            <a:ln w="1908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4327560" y="5319720"/>
              <a:ext cx="3206880" cy="514440"/>
            </a:xfrm>
            <a:prstGeom prst="line">
              <a:avLst/>
            </a:prstGeom>
            <a:ln w="19080">
              <a:solidFill>
                <a:srgbClr val="d8d8e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" descr="http://upload.wikimedia.org/wikipedia/commons/0/0d/TI-89Titanium.png"/>
          <p:cNvPicPr/>
          <p:nvPr/>
        </p:nvPicPr>
        <p:blipFill>
          <a:blip r:embed="rId1"/>
          <a:srcRect l="0" t="42599" r="0" b="22273"/>
          <a:stretch/>
        </p:blipFill>
        <p:spPr>
          <a:xfrm>
            <a:off x="3594240" y="2270160"/>
            <a:ext cx="5445000" cy="400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c1c1c"/>
                </a:solidFill>
                <a:latin typeface="Arial"/>
              </a:rPr>
              <a:t>Complex Numbers on the Calculator</a:t>
            </a:r>
            <a:endParaRPr b="1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Operations with complex on calculato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38120" y="3811680"/>
            <a:ext cx="2962440" cy="916920"/>
          </a:xfrm>
          <a:prstGeom prst="rect">
            <a:avLst/>
          </a:prstGeom>
          <a:solidFill>
            <a:srgbClr val="669999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Make sure to use the correct character for </a:t>
            </a: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. Use 2</a:t>
            </a:r>
            <a:r>
              <a:rPr b="0" lang="en-US" sz="1800" spc="-1" strike="noStrike" baseline="30000">
                <a:solidFill>
                  <a:srgbClr val="ffffcc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-i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6080040" y="3360600"/>
            <a:ext cx="387360" cy="451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4278240" y="2301840"/>
            <a:ext cx="750960" cy="45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4932360" y="2752560"/>
            <a:ext cx="1147680" cy="833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23:44:35Z</dcterms:created>
  <dc:creator>Steve Armstrong</dc:creator>
  <dc:description/>
  <dc:language>en-US</dc:language>
  <cp:lastModifiedBy>LEGION</cp:lastModifiedBy>
  <dcterms:modified xsi:type="dcterms:W3CDTF">2017-07-06T06:31:58Z</dcterms:modified>
  <cp:revision>13</cp:revision>
  <dc:subject/>
  <dc:title>The Fundamental Theorem of Algebra</dc:title>
</cp:coreProperties>
</file>