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6.wmf" ContentType="image/x-wmf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2.png" ContentType="image/png"/>
  <Override PartName="/ppt/media/image33.wmf" ContentType="image/x-wmf"/>
  <Override PartName="/ppt/media/image8.wmf" ContentType="image/x-wmf"/>
  <Override PartName="/ppt/media/image34.png" ContentType="image/png"/>
  <Override PartName="/ppt/media/image35.png" ContentType="image/png"/>
  <Override PartName="/ppt/media/image36.png" ContentType="image/png"/>
  <Override PartName="/ppt/media/image12.wmf" ContentType="image/x-wmf"/>
  <Override PartName="/ppt/media/image24.gif" ContentType="image/gif"/>
  <Override PartName="/ppt/media/image37.png" ContentType="image/png"/>
  <Override PartName="/ppt/media/image13.wmf" ContentType="image/x-wmf"/>
  <Override PartName="/ppt/media/image38.png" ContentType="image/png"/>
  <Override PartName="/ppt/media/image7.wmf" ContentType="image/x-wmf"/>
  <Override PartName="/ppt/media/image10.wmf" ContentType="image/x-wmf"/>
  <Override PartName="/ppt/media/image4.wmf" ContentType="image/x-wmf"/>
  <Override PartName="/ppt/media/image27.wmf" ContentType="image/x-wmf"/>
  <Override PartName="/ppt/media/image11.wmf" ContentType="image/x-wmf"/>
  <Override PartName="/ppt/media/image23.gif" ContentType="image/gif"/>
  <Override PartName="/ppt/media/image6.wmf" ContentType="image/x-wmf"/>
  <Override PartName="/ppt/media/image29.wmf" ContentType="image/x-wmf"/>
  <Override PartName="/ppt/media/image1.wmf" ContentType="image/x-wmf"/>
  <Override PartName="/ppt/media/image31.wmf" ContentType="image/x-wmf"/>
  <Override PartName="/ppt/media/image3.gif" ContentType="image/gif"/>
  <Override PartName="/ppt/media/image1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DBDF-3EAE-40C0-B7FA-6F4BA2D113A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3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plex Number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Lesson 3.3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empting to combin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ultiplicative property of radicals only works for positive values under the radical 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 use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rning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ide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t is tempting to combine the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multiplicative property of radicals only works for positive values under the radical sign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nstead use imaginary number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It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correct principles to simplify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ry It Ou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Use the correct principles to simplify the following: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expression under the radical in the quadratic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known as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 when it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and a perfect squa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and not a perfect squa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of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             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iscriminan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ider the expression under the radical in the quadratic formula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is is known as the discriminan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hat happens when it is 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ositive and a perfect square?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ositive and not a perfect square?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egative ?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Return of the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solution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th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intersec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x-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ol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ider the solution to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ote the graph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o intersections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ith x-axi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Using the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lve and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solve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undamental Theorem of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polynomial f(x) of degree n ≥ 1 has at least one complex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member that complex includes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umber of Zeros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polynomial of degree n has at most n distinct zer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plain how theorems apply to thes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Fundamental Theorem of Algebra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A polynomial f(x) of degree n ≥ 1 has at least one complex zero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Remember that complex includes real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Number of Zeros theore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A polynomial of degree n has at most n distinct zero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Explain how theorems apply to these graph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Zeroes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a polynomial with real coeffic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+ bi is a zero, then a – bi will also be a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jugate Zeroes Theore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Given a polynomial with real coefficient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f a + bi is a zero, then a – bi will also be a zero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ssig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sson 3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age 2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ercises 1 – 78  E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Assignmen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Lesson 3.3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Page 211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Exercises 1 – 78  EOO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aginary Number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powers if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Imaginary Number i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By definition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ider powers if i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we can handle quantities that occasionally show up in mathematical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Using i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ow we can handle quantities that occasionally show up in mathematical solution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hat abou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e real numbers with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+ b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plex Number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bine real numbers with imaginary number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a + bi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It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se complex numbers in standard form   a + b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ry It Ou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rite these complex numbers in standard form   a + bi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ions on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numbers can be combined wi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Operations on Complex Number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plex numbers can be combined with 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addition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ubtraction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ultiplication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ivision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ide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ions on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sion techn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 numerator and denominator by the conjugate of the denomin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Operations on Complex Number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ivision technique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ultiply numerator and denominator by the conjugate of the denominato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Numbers on the Calc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e res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t mo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form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Rectang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calculator do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ired res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plex Numbers on the Calculato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ossible resul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Reset mode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plex format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o Rectangula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ow calculator does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esired resul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Numbers on the Calc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ions with complex on calc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sure to use the correct character for i. Use 2nd-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plex Numbers on the Calculato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Operations with complex on calculato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ake sure to use the correct character for i. Use 2nd-i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4A0A-C07E-4F56-A69C-DA1388CAD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403520"/>
            <a:ext cx="868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6822-B33E-447E-9787-94734CF3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9086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857A-E0DD-4AA0-80C2-62A682B4A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94440" y="171936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331320" y="171936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40352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394440" y="440352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331320" y="440352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8807-ADC0-4C79-83D5-29F97F5BA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9040-294F-44DF-887E-7F79208DA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9B0F-77BA-4993-A9F1-AA1B0F67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6E14D-1AD5-44AB-8257-5496C7C9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9C97-BDDA-4748-88EC-DB5B4379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C647-C392-4C75-B961-0234CAE1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B753-6972-4D3E-8120-63489EA3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879D-10FE-41B8-AC26-CCD8F065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0BC4-FC3E-4467-8840-42AEB30D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9086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BB88-1B96-462D-9A73-4D8F7CE4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868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2F2B-4D85-4A35-86B1-45518151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403520"/>
            <a:ext cx="868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57E3-690B-4DA7-9138-DF840E73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9086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40A4-CD54-43DE-8D2E-7221F4EAB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94440" y="171936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331320" y="171936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40352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94440" y="440352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331320" y="440352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EB9D-F051-43CB-ADF5-A17401698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1EC2-C2D7-4A10-95C8-F49E05C4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7BFC-5244-4698-9900-87EE2D17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9157-E8B0-43EB-83F7-7894F205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DF4D-0446-4A6D-ACAF-B5BA58AF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5A03-B193-4152-98ED-0A0D5B8F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086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90B6-880A-4744-AB6A-C9183137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868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6F51-7868-44AB-B4F4-63373C87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f834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b2b2b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CE5C-A505-44F7-B537-D54E7CFD2452}" type="slidenum"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f834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8"/>
          <p:cNvGrpSpPr/>
          <p:nvPr/>
        </p:nvGrpSpPr>
        <p:grpSpPr>
          <a:xfrm>
            <a:off x="8035920" y="2984400"/>
            <a:ext cx="791640" cy="1295280"/>
            <a:chOff x="8035920" y="2984400"/>
            <a:chExt cx="791640" cy="1295280"/>
          </a:xfrm>
        </p:grpSpPr>
        <p:sp>
          <p:nvSpPr>
            <p:cNvPr id="75" name="Oval 9"/>
            <p:cNvSpPr/>
            <p:nvPr/>
          </p:nvSpPr>
          <p:spPr>
            <a:xfrm>
              <a:off x="8035920" y="298440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8203680" y="2984400"/>
              <a:ext cx="11844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8371800" y="2984400"/>
              <a:ext cx="1180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8035920" y="3152160"/>
              <a:ext cx="11988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8203680" y="3152160"/>
              <a:ext cx="11844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8371800" y="3152160"/>
              <a:ext cx="11808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1" name="Oval 15"/>
            <p:cNvSpPr/>
            <p:nvPr/>
          </p:nvSpPr>
          <p:spPr>
            <a:xfrm>
              <a:off x="8539560" y="315216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2" name="Oval 16"/>
            <p:cNvSpPr/>
            <p:nvPr/>
          </p:nvSpPr>
          <p:spPr>
            <a:xfrm>
              <a:off x="8035920" y="3320280"/>
              <a:ext cx="119880" cy="11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3" name="Oval 17"/>
            <p:cNvSpPr/>
            <p:nvPr/>
          </p:nvSpPr>
          <p:spPr>
            <a:xfrm>
              <a:off x="8203680" y="3320280"/>
              <a:ext cx="118440" cy="11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4" name="Oval 18"/>
            <p:cNvSpPr/>
            <p:nvPr/>
          </p:nvSpPr>
          <p:spPr>
            <a:xfrm>
              <a:off x="8371800" y="332028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5" name="Oval 19"/>
            <p:cNvSpPr/>
            <p:nvPr/>
          </p:nvSpPr>
          <p:spPr>
            <a:xfrm>
              <a:off x="8539560" y="332028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6" name="Oval 20"/>
            <p:cNvSpPr/>
            <p:nvPr/>
          </p:nvSpPr>
          <p:spPr>
            <a:xfrm>
              <a:off x="8707680" y="332028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7" name="Oval 21"/>
            <p:cNvSpPr/>
            <p:nvPr/>
          </p:nvSpPr>
          <p:spPr>
            <a:xfrm>
              <a:off x="8035920" y="3488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8" name="Oval 22"/>
            <p:cNvSpPr/>
            <p:nvPr/>
          </p:nvSpPr>
          <p:spPr>
            <a:xfrm>
              <a:off x="8203680" y="3488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9" name="Oval 23"/>
            <p:cNvSpPr/>
            <p:nvPr/>
          </p:nvSpPr>
          <p:spPr>
            <a:xfrm>
              <a:off x="8371800" y="348804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0" name="Oval 24"/>
            <p:cNvSpPr/>
            <p:nvPr/>
          </p:nvSpPr>
          <p:spPr>
            <a:xfrm>
              <a:off x="8539560" y="3488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1" name="Oval 25"/>
            <p:cNvSpPr/>
            <p:nvPr/>
          </p:nvSpPr>
          <p:spPr>
            <a:xfrm>
              <a:off x="8035920" y="3656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2" name="Oval 26"/>
            <p:cNvSpPr/>
            <p:nvPr/>
          </p:nvSpPr>
          <p:spPr>
            <a:xfrm>
              <a:off x="8203680" y="365616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3" name="Oval 27"/>
            <p:cNvSpPr/>
            <p:nvPr/>
          </p:nvSpPr>
          <p:spPr>
            <a:xfrm>
              <a:off x="8371800" y="365616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4" name="Oval 28"/>
            <p:cNvSpPr/>
            <p:nvPr/>
          </p:nvSpPr>
          <p:spPr>
            <a:xfrm>
              <a:off x="8539560" y="365616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5" name="Oval 29"/>
            <p:cNvSpPr/>
            <p:nvPr/>
          </p:nvSpPr>
          <p:spPr>
            <a:xfrm>
              <a:off x="8707680" y="3656160"/>
              <a:ext cx="119880" cy="1198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6" name="Oval 30"/>
            <p:cNvSpPr/>
            <p:nvPr/>
          </p:nvSpPr>
          <p:spPr>
            <a:xfrm>
              <a:off x="8035920" y="382428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7" name="Oval 31"/>
            <p:cNvSpPr/>
            <p:nvPr/>
          </p:nvSpPr>
          <p:spPr>
            <a:xfrm>
              <a:off x="8203680" y="382428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8" name="Oval 32"/>
            <p:cNvSpPr/>
            <p:nvPr/>
          </p:nvSpPr>
          <p:spPr>
            <a:xfrm>
              <a:off x="8371800" y="382428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9" name="Oval 33"/>
            <p:cNvSpPr/>
            <p:nvPr/>
          </p:nvSpPr>
          <p:spPr>
            <a:xfrm>
              <a:off x="8539560" y="382428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0" name="Oval 34"/>
            <p:cNvSpPr/>
            <p:nvPr/>
          </p:nvSpPr>
          <p:spPr>
            <a:xfrm>
              <a:off x="8035920" y="399204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1" name="Oval 35"/>
            <p:cNvSpPr/>
            <p:nvPr/>
          </p:nvSpPr>
          <p:spPr>
            <a:xfrm>
              <a:off x="8203680" y="399204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2" name="Oval 36"/>
            <p:cNvSpPr/>
            <p:nvPr/>
          </p:nvSpPr>
          <p:spPr>
            <a:xfrm>
              <a:off x="8371800" y="399204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3" name="Oval 37"/>
            <p:cNvSpPr/>
            <p:nvPr/>
          </p:nvSpPr>
          <p:spPr>
            <a:xfrm>
              <a:off x="8539560" y="399204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4" name="Oval 38"/>
            <p:cNvSpPr/>
            <p:nvPr/>
          </p:nvSpPr>
          <p:spPr>
            <a:xfrm>
              <a:off x="8203680" y="4160160"/>
              <a:ext cx="11844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5" name="Oval 39"/>
            <p:cNvSpPr/>
            <p:nvPr/>
          </p:nvSpPr>
          <p:spPr>
            <a:xfrm>
              <a:off x="8539560" y="4160160"/>
              <a:ext cx="1180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b2b2b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12C2-6E79-4F69-BDDA-6BEEE868D51B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6080" y="466560"/>
            <a:ext cx="6781680" cy="164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Complex Numbers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Lesson 3.3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Warning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77440" y="1752480"/>
            <a:ext cx="8566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nsider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It is tempting to combine them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The multiplicative property of radicals only works for positive values under the radical sign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Instead use imaginary numbers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40" name="Picture 4" descr="j0163107"/>
          <p:cNvPicPr/>
          <p:nvPr/>
        </p:nvPicPr>
        <p:blipFill>
          <a:blip r:embed="rId1"/>
          <a:stretch/>
        </p:blipFill>
        <p:spPr>
          <a:xfrm>
            <a:off x="4044960" y="514440"/>
            <a:ext cx="1000080" cy="7808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j0213521"/>
          <p:cNvPicPr/>
          <p:nvPr/>
        </p:nvPicPr>
        <p:blipFill>
          <a:blip r:embed="rId2"/>
          <a:stretch/>
        </p:blipFill>
        <p:spPr>
          <a:xfrm>
            <a:off x="7097760" y="3414600"/>
            <a:ext cx="95256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Object 6"/>
          <p:cNvGraphicFramePr/>
          <p:nvPr/>
        </p:nvGraphicFramePr>
        <p:xfrm>
          <a:off x="3828960" y="1724040"/>
          <a:ext cx="2100240" cy="58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28960" y="1724040"/>
                    <a:ext cx="210024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7"/>
          <p:cNvGraphicFramePr/>
          <p:nvPr/>
        </p:nvGraphicFramePr>
        <p:xfrm>
          <a:off x="1940040" y="3525840"/>
          <a:ext cx="489888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40040" y="3525840"/>
                    <a:ext cx="4898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8"/>
          <p:cNvGraphicFramePr/>
          <p:nvPr/>
        </p:nvGraphicFramePr>
        <p:xfrm>
          <a:off x="1757520" y="5856120"/>
          <a:ext cx="4927320" cy="57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7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57520" y="5856120"/>
                    <a:ext cx="49273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Try It Out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Use the correct principles to simplify the following: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4721400" y="2727360"/>
          <a:ext cx="2062080" cy="5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1400" y="2727360"/>
                    <a:ext cx="20620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5"/>
          <p:cNvGraphicFramePr/>
          <p:nvPr/>
        </p:nvGraphicFramePr>
        <p:xfrm>
          <a:off x="1201680" y="3838680"/>
          <a:ext cx="3400560" cy="71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01680" y="3838680"/>
                    <a:ext cx="3400560" cy="71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6"/>
          <p:cNvGraphicFramePr/>
          <p:nvPr/>
        </p:nvGraphicFramePr>
        <p:xfrm>
          <a:off x="4235400" y="5014800"/>
          <a:ext cx="2075040" cy="84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35400" y="5014800"/>
                    <a:ext cx="2075040" cy="8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The                </a:t>
            </a:r>
            <a:br>
              <a:rPr sz="3900"/>
            </a:b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Discriminant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nsider the expression under the radical in the quadratic formula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This is known as the </a:t>
            </a:r>
            <a:r>
              <a:rPr b="0" i="1" lang="en-US" sz="2600" spc="-1" strike="noStrike">
                <a:solidFill>
                  <a:srgbClr val="1c1c1c"/>
                </a:solidFill>
                <a:latin typeface="Arial"/>
              </a:rPr>
              <a:t>discriminant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What happens when it is 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Positive and a perfect square?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Positive and </a:t>
            </a:r>
            <a:r>
              <a:rPr b="0" lang="en-US" sz="2600" spc="-1" strike="noStrike" u="sng">
                <a:solidFill>
                  <a:srgbClr val="1c1c1c"/>
                </a:solidFill>
                <a:uFillTx/>
                <a:latin typeface="Arial"/>
              </a:rPr>
              <a:t>not</a:t>
            </a: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 a perfect square?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Zero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Negative ?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60" name="Object 4"/>
          <p:cNvGraphicFramePr/>
          <p:nvPr/>
        </p:nvGraphicFramePr>
        <p:xfrm>
          <a:off x="4265640" y="2478240"/>
          <a:ext cx="20113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5640" y="2478240"/>
                    <a:ext cx="20113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AutoShape 5"/>
          <p:cNvSpPr/>
          <p:nvPr/>
        </p:nvSpPr>
        <p:spPr>
          <a:xfrm>
            <a:off x="5029200" y="2533680"/>
            <a:ext cx="1319040" cy="509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3" name="Line 6"/>
          <p:cNvSpPr/>
          <p:nvPr/>
        </p:nvSpPr>
        <p:spPr>
          <a:xfrm flipH="1">
            <a:off x="6178680" y="2233440"/>
            <a:ext cx="326880" cy="2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64" name="WordArt 7" descr=""/>
          <p:cNvPicPr/>
          <p:nvPr/>
        </p:nvPicPr>
        <p:blipFill>
          <a:blip r:embed="rId3"/>
          <a:stretch/>
        </p:blipFill>
        <p:spPr>
          <a:xfrm>
            <a:off x="1590840" y="189000"/>
            <a:ext cx="3114360" cy="695160"/>
          </a:xfrm>
          <a:prstGeom prst="rect">
            <a:avLst/>
          </a:prstGeom>
          <a:ln w="0">
            <a:noFill/>
          </a:ln>
        </p:spPr>
      </p:pic>
      <p:grpSp>
        <p:nvGrpSpPr>
          <p:cNvPr id="265" name="Group 10"/>
          <p:cNvGrpSpPr/>
          <p:nvPr/>
        </p:nvGrpSpPr>
        <p:grpSpPr>
          <a:xfrm>
            <a:off x="3117960" y="5251320"/>
            <a:ext cx="3781440" cy="1606680"/>
            <a:chOff x="3117960" y="5251320"/>
            <a:chExt cx="3781440" cy="1606680"/>
          </a:xfrm>
        </p:grpSpPr>
        <p:sp>
          <p:nvSpPr>
            <p:cNvPr id="266" name="AutoShape 9"/>
            <p:cNvSpPr/>
            <p:nvPr/>
          </p:nvSpPr>
          <p:spPr>
            <a:xfrm>
              <a:off x="3117960" y="5251320"/>
              <a:ext cx="3781440" cy="1606680"/>
            </a:xfrm>
            <a:prstGeom prst="irregularSeal1">
              <a:avLst/>
            </a:prstGeom>
            <a:solidFill>
              <a:srgbClr val="808080"/>
            </a:solidFill>
            <a:ln w="25560">
              <a:solidFill>
                <a:srgbClr val="5c5c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7" name="Text Box 8"/>
            <p:cNvSpPr/>
            <p:nvPr/>
          </p:nvSpPr>
          <p:spPr>
            <a:xfrm>
              <a:off x="3490920" y="5735520"/>
              <a:ext cx="2895480" cy="459720"/>
            </a:xfrm>
            <a:prstGeom prst="rect">
              <a:avLst/>
            </a:prstGeom>
            <a:solidFill>
              <a:srgbClr val="5c8a8a"/>
            </a:solidFill>
            <a:ln w="25560">
              <a:solidFill>
                <a:srgbClr val="41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mplex roots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Example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nsider the solution to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Note the graph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No intersections</a:t>
            </a:r>
            <a:br>
              <a:rPr sz="2600"/>
            </a:b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with x-axis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Using the </a:t>
            </a:r>
            <a:br>
              <a:rPr sz="3000"/>
            </a:br>
            <a:r>
              <a:rPr b="1" lang="en-US" sz="3000" spc="-1" strike="noStrike">
                <a:solidFill>
                  <a:srgbClr val="ffff99"/>
                </a:solidFill>
                <a:latin typeface="Courier New"/>
              </a:rPr>
              <a:t>solve 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and</a:t>
            </a:r>
            <a:br>
              <a:rPr sz="3000"/>
            </a:br>
            <a:r>
              <a:rPr b="1" lang="en-US" sz="3000" spc="-1" strike="noStrike">
                <a:solidFill>
                  <a:srgbClr val="ffff99"/>
                </a:solidFill>
                <a:latin typeface="Courier New"/>
              </a:rPr>
              <a:t>csolve</a:t>
            </a:r>
            <a:br>
              <a:rPr sz="3000"/>
            </a:b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functions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71" name="Object 4"/>
          <p:cNvGraphicFramePr/>
          <p:nvPr/>
        </p:nvGraphicFramePr>
        <p:xfrm>
          <a:off x="5168880" y="1685880"/>
          <a:ext cx="2409840" cy="5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68880" y="1685880"/>
                    <a:ext cx="24098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3" name="Picture 5" descr=""/>
          <p:cNvPicPr/>
          <p:nvPr/>
        </p:nvPicPr>
        <p:blipFill>
          <a:blip r:embed="rId3"/>
          <a:srcRect l="0" t="0" r="0" b="33688"/>
          <a:stretch/>
        </p:blipFill>
        <p:spPr>
          <a:xfrm>
            <a:off x="4249800" y="2446200"/>
            <a:ext cx="4367160" cy="1544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74" name="Picture 6" descr=""/>
          <p:cNvPicPr/>
          <p:nvPr/>
        </p:nvPicPr>
        <p:blipFill>
          <a:blip r:embed="rId4"/>
          <a:stretch/>
        </p:blipFill>
        <p:spPr>
          <a:xfrm>
            <a:off x="3724200" y="4446720"/>
            <a:ext cx="3959280" cy="2111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5" name="Line 7"/>
          <p:cNvSpPr/>
          <p:nvPr/>
        </p:nvSpPr>
        <p:spPr>
          <a:xfrm flipV="1">
            <a:off x="3859200" y="3394080"/>
            <a:ext cx="1797120" cy="295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Fundamental Theorem of Algebra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A polynomial f(x) of degree n 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Arial"/>
              </a:rPr>
              <a:t>≥ 1 has at least one complex zero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  <a:ea typeface="Arial"/>
              </a:rPr>
              <a:t>Remember that complex includes </a:t>
            </a:r>
            <a:r>
              <a:rPr b="0" lang="en-US" sz="2600" spc="-1" strike="noStrike" u="sng">
                <a:solidFill>
                  <a:srgbClr val="1c1c1c"/>
                </a:solidFill>
                <a:uFillTx/>
                <a:latin typeface="Arial"/>
                <a:ea typeface="Arial"/>
              </a:rPr>
              <a:t>reals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Arial"/>
              </a:rPr>
              <a:t>Number of Zeros theorem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  <a:ea typeface="Arial"/>
              </a:rPr>
              <a:t>A polynomial of degree </a:t>
            </a:r>
            <a:r>
              <a:rPr b="0" i="1" lang="en-US" sz="2600" spc="-1" strike="noStrike">
                <a:solidFill>
                  <a:srgbClr val="1c1c1c"/>
                </a:solidFill>
                <a:latin typeface="Arial"/>
                <a:ea typeface="Arial"/>
              </a:rPr>
              <a:t>n</a:t>
            </a:r>
            <a:r>
              <a:rPr b="0" lang="en-US" sz="2600" spc="-1" strike="noStrike">
                <a:solidFill>
                  <a:srgbClr val="1c1c1c"/>
                </a:solidFill>
                <a:latin typeface="Arial"/>
                <a:ea typeface="Arial"/>
              </a:rPr>
              <a:t> has at most </a:t>
            </a:r>
            <a:r>
              <a:rPr b="0" i="1" lang="en-US" sz="2600" spc="-1" strike="noStrike">
                <a:solidFill>
                  <a:srgbClr val="1c1c1c"/>
                </a:solidFill>
                <a:latin typeface="Arial"/>
                <a:ea typeface="Arial"/>
              </a:rPr>
              <a:t>n</a:t>
            </a:r>
            <a:r>
              <a:rPr b="0" lang="en-US" sz="2600" spc="-1" strike="noStrike">
                <a:solidFill>
                  <a:srgbClr val="1c1c1c"/>
                </a:solidFill>
                <a:latin typeface="Arial"/>
                <a:ea typeface="Arial"/>
              </a:rPr>
              <a:t> distinct zeros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Arial"/>
              </a:rPr>
              <a:t>Explain how theorems apply to these graphs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1"/>
          <a:stretch/>
        </p:blipFill>
        <p:spPr>
          <a:xfrm>
            <a:off x="622440" y="5065560"/>
            <a:ext cx="2286000" cy="1219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0" name="Picture 6" descr=""/>
          <p:cNvPicPr/>
          <p:nvPr/>
        </p:nvPicPr>
        <p:blipFill>
          <a:blip r:embed="rId2"/>
          <a:stretch/>
        </p:blipFill>
        <p:spPr>
          <a:xfrm>
            <a:off x="3413160" y="5099040"/>
            <a:ext cx="2286000" cy="1219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1" name="Picture 8" descr=""/>
          <p:cNvPicPr/>
          <p:nvPr/>
        </p:nvPicPr>
        <p:blipFill>
          <a:blip r:embed="rId3"/>
          <a:stretch/>
        </p:blipFill>
        <p:spPr>
          <a:xfrm>
            <a:off x="6248520" y="5097600"/>
            <a:ext cx="2286000" cy="1218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Conjugate Zeroes Theorem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Given a polynomial with real coefficients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If </a:t>
            </a:r>
            <a:r>
              <a:rPr b="1" lang="en-US" sz="3000" spc="-1" strike="noStrike">
                <a:solidFill>
                  <a:srgbClr val="ffff99"/>
                </a:solidFill>
                <a:latin typeface="Courier New"/>
              </a:rPr>
              <a:t>a + b</a:t>
            </a:r>
            <a:r>
              <a:rPr b="1" i="1" lang="en-US" sz="3000" spc="-1" strike="noStrike">
                <a:solidFill>
                  <a:srgbClr val="ffff99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is a zero, then </a:t>
            </a:r>
            <a:r>
              <a:rPr b="1" lang="en-US" sz="3000" spc="-1" strike="noStrike">
                <a:solidFill>
                  <a:srgbClr val="ffff99"/>
                </a:solidFill>
                <a:latin typeface="Courier New"/>
              </a:rPr>
              <a:t>a – bi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 will also be a zero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85" name="Object 4"/>
          <p:cNvGraphicFramePr/>
          <p:nvPr/>
        </p:nvGraphicFramePr>
        <p:xfrm>
          <a:off x="1015920" y="2489040"/>
          <a:ext cx="7027920" cy="7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920" y="2489040"/>
                    <a:ext cx="70279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Line 5"/>
          <p:cNvSpPr/>
          <p:nvPr/>
        </p:nvSpPr>
        <p:spPr>
          <a:xfrm flipH="1">
            <a:off x="2825640" y="2217600"/>
            <a:ext cx="2355840" cy="484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8" name="Line 6"/>
          <p:cNvSpPr/>
          <p:nvPr/>
        </p:nvSpPr>
        <p:spPr>
          <a:xfrm flipH="1">
            <a:off x="4087440" y="2216160"/>
            <a:ext cx="1120680" cy="415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9" name="Line 7"/>
          <p:cNvSpPr/>
          <p:nvPr/>
        </p:nvSpPr>
        <p:spPr>
          <a:xfrm>
            <a:off x="5222880" y="2216160"/>
            <a:ext cx="1122480" cy="582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90" name="Group 11"/>
          <p:cNvGrpSpPr/>
          <p:nvPr/>
        </p:nvGrpSpPr>
        <p:grpSpPr>
          <a:xfrm>
            <a:off x="2259000" y="4378320"/>
            <a:ext cx="4371840" cy="1557360"/>
            <a:chOff x="2259000" y="4378320"/>
            <a:chExt cx="4371840" cy="1557360"/>
          </a:xfrm>
        </p:grpSpPr>
        <p:pic>
          <p:nvPicPr>
            <p:cNvPr id="291" name="Picture 8" descr=""/>
            <p:cNvPicPr/>
            <p:nvPr/>
          </p:nvPicPr>
          <p:blipFill>
            <a:blip r:embed="rId3"/>
            <a:srcRect l="0" t="54532" r="0" b="0"/>
            <a:stretch/>
          </p:blipFill>
          <p:spPr>
            <a:xfrm>
              <a:off x="2671920" y="4975200"/>
              <a:ext cx="3958920" cy="9604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92" name="Line 9"/>
            <p:cNvSpPr/>
            <p:nvPr/>
          </p:nvSpPr>
          <p:spPr>
            <a:xfrm>
              <a:off x="2259000" y="4475160"/>
              <a:ext cx="1744560" cy="803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3" name="Line 10"/>
            <p:cNvSpPr/>
            <p:nvPr/>
          </p:nvSpPr>
          <p:spPr>
            <a:xfrm flipH="1">
              <a:off x="5998680" y="4378320"/>
              <a:ext cx="179640" cy="858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Assignment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712880" y="2013120"/>
            <a:ext cx="743112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Lesson 3.3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Page 211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Exercises 1 – 78  EOO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The Imaginary Number </a:t>
            </a:r>
            <a:r>
              <a:rPr b="0" i="1" lang="en-US" sz="3900" spc="-1" strike="noStrike">
                <a:solidFill>
                  <a:srgbClr val="1c1c1c"/>
                </a:solidFill>
                <a:latin typeface="Arial"/>
              </a:rPr>
              <a:t>i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By definition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nsider powers if </a:t>
            </a:r>
            <a:r>
              <a:rPr b="0" i="1" lang="en-US" sz="3000" spc="-1" strike="noStrike">
                <a:solidFill>
                  <a:srgbClr val="1c1c1c"/>
                </a:solidFill>
                <a:latin typeface="Arial"/>
              </a:rPr>
              <a:t>i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4191120" y="1676520"/>
          <a:ext cx="3352680" cy="59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676520"/>
                    <a:ext cx="335268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5"/>
          <p:cNvGraphicFramePr/>
          <p:nvPr/>
        </p:nvGraphicFramePr>
        <p:xfrm>
          <a:off x="2438280" y="3276720"/>
          <a:ext cx="3733920" cy="330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3276720"/>
                    <a:ext cx="3733920" cy="33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3" name="Group 6"/>
          <p:cNvGrpSpPr/>
          <p:nvPr/>
        </p:nvGrpSpPr>
        <p:grpSpPr>
          <a:xfrm>
            <a:off x="6508800" y="2433600"/>
            <a:ext cx="2262240" cy="2244600"/>
            <a:chOff x="6508800" y="2433600"/>
            <a:chExt cx="2262240" cy="2244600"/>
          </a:xfrm>
        </p:grpSpPr>
        <p:pic>
          <p:nvPicPr>
            <p:cNvPr id="164" name="Picture 7" descr="j0236531"/>
            <p:cNvPicPr/>
            <p:nvPr/>
          </p:nvPicPr>
          <p:blipFill>
            <a:blip r:embed="rId5"/>
            <a:stretch/>
          </p:blipFill>
          <p:spPr>
            <a:xfrm>
              <a:off x="7742520" y="3421080"/>
              <a:ext cx="1028520" cy="12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AutoShape 8"/>
            <p:cNvSpPr/>
            <p:nvPr/>
          </p:nvSpPr>
          <p:spPr>
            <a:xfrm>
              <a:off x="6508800" y="2433600"/>
              <a:ext cx="1317600" cy="1114560"/>
            </a:xfrm>
            <a:prstGeom prst="wedgeEllipseCallout">
              <a:avLst>
                <a:gd name="adj1" fmla="val 47467"/>
                <a:gd name="adj2" fmla="val 61824"/>
              </a:avLst>
            </a:prstGeom>
            <a:solidFill>
              <a:srgbClr val="669999"/>
            </a:solidFill>
            <a:ln w="25560">
              <a:solidFill>
                <a:srgbClr val="496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Verdana"/>
                </a:rPr>
                <a:t>It's any number you can imagine</a:t>
              </a:r>
              <a:endParaRPr b="0" lang="en-US" sz="1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Using </a:t>
            </a:r>
            <a:r>
              <a:rPr b="0" i="1" lang="en-US" sz="3900" spc="-1" strike="noStrike">
                <a:solidFill>
                  <a:srgbClr val="1c1c1c"/>
                </a:solidFill>
                <a:latin typeface="Arial"/>
              </a:rPr>
              <a:t>i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Now we can handle quantities that occasionally show up in mathematical solutions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What about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169" name="Object 4"/>
          <p:cNvGraphicFramePr/>
          <p:nvPr/>
        </p:nvGraphicFramePr>
        <p:xfrm>
          <a:off x="2676600" y="3476520"/>
          <a:ext cx="4008240" cy="7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6600" y="3476520"/>
                    <a:ext cx="400824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5"/>
          <p:cNvGraphicFramePr/>
          <p:nvPr/>
        </p:nvGraphicFramePr>
        <p:xfrm>
          <a:off x="2911320" y="5567400"/>
          <a:ext cx="113832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1320" y="5567400"/>
                    <a:ext cx="113832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6"/>
          <p:cNvGraphicFramePr/>
          <p:nvPr/>
        </p:nvGraphicFramePr>
        <p:xfrm>
          <a:off x="5205240" y="5611680"/>
          <a:ext cx="1079640" cy="62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05240" y="5611680"/>
                    <a:ext cx="107964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Complex Numbers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mbine real numbers with imaginary numbers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a + b</a:t>
            </a:r>
            <a:r>
              <a:rPr b="1" i="1" lang="en-US" sz="2600" spc="-1" strike="noStrike">
                <a:solidFill>
                  <a:srgbClr val="1c1c1c"/>
                </a:solidFill>
                <a:latin typeface="Arial"/>
              </a:rPr>
              <a:t>i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Examples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61920" y="2708280"/>
            <a:ext cx="1797120" cy="1081080"/>
            <a:chOff x="61920" y="2708280"/>
            <a:chExt cx="1797120" cy="1081080"/>
          </a:xfrm>
        </p:grpSpPr>
        <p:sp>
          <p:nvSpPr>
            <p:cNvPr id="179" name="Text Box 5"/>
            <p:cNvSpPr/>
            <p:nvPr/>
          </p:nvSpPr>
          <p:spPr>
            <a:xfrm>
              <a:off x="61920" y="342108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Verdana"/>
                </a:rPr>
                <a:t>Real part</a:t>
              </a: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0" name="Line 6"/>
            <p:cNvSpPr/>
            <p:nvPr/>
          </p:nvSpPr>
          <p:spPr>
            <a:xfrm flipV="1">
              <a:off x="1084320" y="2708280"/>
              <a:ext cx="293760" cy="712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81" name="Group 7"/>
          <p:cNvGrpSpPr/>
          <p:nvPr/>
        </p:nvGrpSpPr>
        <p:grpSpPr>
          <a:xfrm>
            <a:off x="1979640" y="2752560"/>
            <a:ext cx="2332080" cy="1090440"/>
            <a:chOff x="1979640" y="2752560"/>
            <a:chExt cx="2332080" cy="1090440"/>
          </a:xfrm>
        </p:grpSpPr>
        <p:sp>
          <p:nvSpPr>
            <p:cNvPr id="182" name="Text Box 8"/>
            <p:cNvSpPr/>
            <p:nvPr/>
          </p:nvSpPr>
          <p:spPr>
            <a:xfrm>
              <a:off x="2668680" y="3200400"/>
              <a:ext cx="164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Verdana"/>
                </a:rPr>
                <a:t>Imaginary part</a:t>
              </a: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3" name="Freeform 9"/>
            <p:cNvSpPr/>
            <p:nvPr/>
          </p:nvSpPr>
          <p:spPr>
            <a:xfrm>
              <a:off x="1979640" y="2752560"/>
              <a:ext cx="611280" cy="647640"/>
            </a:xfrm>
            <a:custGeom>
              <a:avLst/>
              <a:gdLst/>
              <a:ahLst/>
              <a:rect l="l" t="t" r="r" b="b"/>
              <a:pathLst>
                <a:path w="385" h="408">
                  <a:moveTo>
                    <a:pt x="385" y="400"/>
                  </a:moveTo>
                  <a:cubicBezTo>
                    <a:pt x="255" y="404"/>
                    <a:pt x="126" y="408"/>
                    <a:pt x="63" y="341"/>
                  </a:cubicBezTo>
                  <a:cubicBezTo>
                    <a:pt x="0" y="274"/>
                    <a:pt x="2" y="137"/>
                    <a:pt x="4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aphicFrame>
        <p:nvGraphicFramePr>
          <p:cNvPr id="184" name="Object 10"/>
          <p:cNvGraphicFramePr/>
          <p:nvPr/>
        </p:nvGraphicFramePr>
        <p:xfrm>
          <a:off x="1776240" y="5308560"/>
          <a:ext cx="1020960" cy="4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6240" y="5308560"/>
                    <a:ext cx="102096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11"/>
          <p:cNvGraphicFramePr/>
          <p:nvPr/>
        </p:nvGraphicFramePr>
        <p:xfrm>
          <a:off x="3659040" y="4770360"/>
          <a:ext cx="125280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9040" y="4770360"/>
                    <a:ext cx="125280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12"/>
          <p:cNvGraphicFramePr/>
          <p:nvPr/>
        </p:nvGraphicFramePr>
        <p:xfrm>
          <a:off x="5600880" y="5518080"/>
          <a:ext cx="1920600" cy="5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00880" y="5518080"/>
                    <a:ext cx="19206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Try It Out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Write these complex numbers in standard form   a + b</a:t>
            </a:r>
            <a:r>
              <a:rPr b="1" i="1" lang="en-US" sz="3000" spc="-1" strike="noStrike">
                <a:solidFill>
                  <a:srgbClr val="1c1c1c"/>
                </a:solidFill>
                <a:latin typeface="Arial"/>
              </a:rPr>
              <a:t>i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193" name="Object 4"/>
          <p:cNvGraphicFramePr/>
          <p:nvPr/>
        </p:nvGraphicFramePr>
        <p:xfrm>
          <a:off x="1522440" y="3411360"/>
          <a:ext cx="152064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440" y="3411360"/>
                    <a:ext cx="152064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5"/>
          <p:cNvGraphicFramePr/>
          <p:nvPr/>
        </p:nvGraphicFramePr>
        <p:xfrm>
          <a:off x="4705200" y="3889440"/>
          <a:ext cx="1436760" cy="56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05200" y="3889440"/>
                    <a:ext cx="14367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6"/>
          <p:cNvGraphicFramePr/>
          <p:nvPr/>
        </p:nvGraphicFramePr>
        <p:xfrm>
          <a:off x="1820880" y="4854600"/>
          <a:ext cx="1787400" cy="62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0880" y="4854600"/>
                    <a:ext cx="178740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7"/>
          <p:cNvGraphicFramePr/>
          <p:nvPr/>
        </p:nvGraphicFramePr>
        <p:xfrm>
          <a:off x="5160960" y="5176800"/>
          <a:ext cx="1474920" cy="603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0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60960" y="5176800"/>
                    <a:ext cx="147492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Operations on Complex Numbers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mplex numbers can be combined with 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addition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subtraction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multiplication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division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nsider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4205160" y="4079880"/>
          <a:ext cx="3481560" cy="76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5160" y="4079880"/>
                    <a:ext cx="348156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5"/>
          <p:cNvGraphicFramePr/>
          <p:nvPr/>
        </p:nvGraphicFramePr>
        <p:xfrm>
          <a:off x="760320" y="4854600"/>
          <a:ext cx="3065400" cy="68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0320" y="4854600"/>
                    <a:ext cx="30654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6"/>
          <p:cNvGraphicFramePr/>
          <p:nvPr/>
        </p:nvGraphicFramePr>
        <p:xfrm>
          <a:off x="5288040" y="5272200"/>
          <a:ext cx="2762280" cy="657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88040" y="5272200"/>
                    <a:ext cx="276228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Operations on Complex Numbers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Division technique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Multiply numerator and denominator by the conjugate of the denominator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1805040" y="3389400"/>
          <a:ext cx="834840" cy="83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5040" y="3389400"/>
                    <a:ext cx="83484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5" name="Group 5"/>
          <p:cNvGrpSpPr/>
          <p:nvPr/>
        </p:nvGrpSpPr>
        <p:grpSpPr>
          <a:xfrm>
            <a:off x="2781360" y="3103560"/>
            <a:ext cx="3182760" cy="2948040"/>
            <a:chOff x="2781360" y="3103560"/>
            <a:chExt cx="3182760" cy="2948040"/>
          </a:xfrm>
        </p:grpSpPr>
        <p:graphicFrame>
          <p:nvGraphicFramePr>
            <p:cNvPr id="216" name="Object 6"/>
            <p:cNvGraphicFramePr/>
            <p:nvPr/>
          </p:nvGraphicFramePr>
          <p:xfrm>
            <a:off x="2781360" y="3390840"/>
            <a:ext cx="3182760" cy="2660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7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81360" y="3390840"/>
                      <a:ext cx="3182760" cy="266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8" name="Oval 7"/>
            <p:cNvSpPr/>
            <p:nvPr/>
          </p:nvSpPr>
          <p:spPr>
            <a:xfrm>
              <a:off x="3811680" y="3206880"/>
              <a:ext cx="1146240" cy="1249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9" name="Line 8"/>
            <p:cNvSpPr/>
            <p:nvPr/>
          </p:nvSpPr>
          <p:spPr>
            <a:xfrm>
              <a:off x="3387600" y="3103560"/>
              <a:ext cx="463680" cy="347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1c1c1c"/>
                </a:solidFill>
                <a:latin typeface="Arial"/>
              </a:rPr>
              <a:t>Complex Numbers on the Calculator</a:t>
            </a:r>
            <a:endParaRPr b="1" lang="en-US" sz="35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Possible result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Reset mode</a:t>
            </a:r>
            <a:br>
              <a:rPr sz="3000"/>
            </a:b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mplex format</a:t>
            </a:r>
            <a:br>
              <a:rPr sz="3000"/>
            </a:b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to </a:t>
            </a:r>
            <a:r>
              <a:rPr b="0" lang="en-US" sz="3000" spc="-1" strike="noStrike" u="sng">
                <a:solidFill>
                  <a:srgbClr val="1c1c1c"/>
                </a:solidFill>
                <a:uFillTx/>
                <a:latin typeface="Arial"/>
              </a:rPr>
              <a:t>Rectangular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Now calculator does </a:t>
            </a:r>
            <a:br>
              <a:rPr sz="3000"/>
            </a:b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desired result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4613400" y="1428840"/>
            <a:ext cx="2890800" cy="1541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24" name="Picture 5" descr=""/>
          <p:cNvPicPr/>
          <p:nvPr/>
        </p:nvPicPr>
        <p:blipFill>
          <a:blip r:embed="rId2"/>
          <a:stretch/>
        </p:blipFill>
        <p:spPr>
          <a:xfrm>
            <a:off x="5078520" y="2484360"/>
            <a:ext cx="3155760" cy="1683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225" name="Group 6"/>
          <p:cNvGrpSpPr/>
          <p:nvPr/>
        </p:nvGrpSpPr>
        <p:grpSpPr>
          <a:xfrm>
            <a:off x="4327560" y="5319720"/>
            <a:ext cx="4456080" cy="984240"/>
            <a:chOff x="4327560" y="5319720"/>
            <a:chExt cx="4456080" cy="984240"/>
          </a:xfrm>
        </p:grpSpPr>
        <p:pic>
          <p:nvPicPr>
            <p:cNvPr id="226" name="Picture 7" descr=""/>
            <p:cNvPicPr/>
            <p:nvPr/>
          </p:nvPicPr>
          <p:blipFill>
            <a:blip r:embed="rId3"/>
            <a:srcRect l="0" t="54975" r="0" b="0"/>
            <a:stretch/>
          </p:blipFill>
          <p:spPr>
            <a:xfrm>
              <a:off x="4524480" y="5354640"/>
              <a:ext cx="3949560" cy="9493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27" name="Oval 8"/>
            <p:cNvSpPr/>
            <p:nvPr/>
          </p:nvSpPr>
          <p:spPr>
            <a:xfrm>
              <a:off x="7624800" y="5653080"/>
              <a:ext cx="1158840" cy="477720"/>
            </a:xfrm>
            <a:prstGeom prst="ellipse">
              <a:avLst/>
            </a:prstGeom>
            <a:noFill/>
            <a:ln w="19080">
              <a:solidFill>
                <a:srgbClr val="d8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8" name="Line 9"/>
            <p:cNvSpPr/>
            <p:nvPr/>
          </p:nvSpPr>
          <p:spPr>
            <a:xfrm>
              <a:off x="4327560" y="5319720"/>
              <a:ext cx="3206880" cy="514440"/>
            </a:xfrm>
            <a:prstGeom prst="line">
              <a:avLst/>
            </a:prstGeom>
            <a:ln w="19080">
              <a:solidFill>
                <a:srgbClr val="d8d8e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10" descr="http://upload.wikimedia.org/wikipedia/commons/0/0d/TI-89Titanium.png"/>
          <p:cNvPicPr/>
          <p:nvPr/>
        </p:nvPicPr>
        <p:blipFill>
          <a:blip r:embed="rId1"/>
          <a:srcRect l="0" t="42599" r="0" b="22273"/>
          <a:stretch/>
        </p:blipFill>
        <p:spPr>
          <a:xfrm>
            <a:off x="3594240" y="2270160"/>
            <a:ext cx="5445000" cy="400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1c1c1c"/>
                </a:solidFill>
                <a:latin typeface="Arial"/>
              </a:rPr>
              <a:t>Complex Numbers on the Calculator</a:t>
            </a:r>
            <a:endParaRPr b="1" lang="en-US" sz="35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Operations with complex on calculator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438120" y="3811680"/>
            <a:ext cx="2962440" cy="916920"/>
          </a:xfrm>
          <a:prstGeom prst="rect">
            <a:avLst/>
          </a:prstGeom>
          <a:solidFill>
            <a:srgbClr val="669999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Make sure to use the correct character for </a:t>
            </a:r>
            <a:r>
              <a:rPr b="1" i="1" lang="en-US" sz="1800" spc="-1" strike="noStrike">
                <a:solidFill>
                  <a:srgbClr val="ffffcc"/>
                </a:solidFill>
                <a:latin typeface="Verdana"/>
              </a:rPr>
              <a:t>i</a:t>
            </a: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. Use 2</a:t>
            </a:r>
            <a:r>
              <a:rPr b="0" lang="en-US" sz="1800" spc="-1" strike="noStrike" baseline="30000">
                <a:solidFill>
                  <a:srgbClr val="ffffcc"/>
                </a:solidFill>
                <a:latin typeface="Verdana"/>
              </a:rPr>
              <a:t>nd</a:t>
            </a: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-i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Oval 6"/>
          <p:cNvSpPr/>
          <p:nvPr/>
        </p:nvSpPr>
        <p:spPr>
          <a:xfrm>
            <a:off x="6080040" y="3360600"/>
            <a:ext cx="387360" cy="4510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Oval 7"/>
          <p:cNvSpPr/>
          <p:nvPr/>
        </p:nvSpPr>
        <p:spPr>
          <a:xfrm>
            <a:off x="4278240" y="2301840"/>
            <a:ext cx="750960" cy="4507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Line 8"/>
          <p:cNvSpPr/>
          <p:nvPr/>
        </p:nvSpPr>
        <p:spPr>
          <a:xfrm>
            <a:off x="4932360" y="2752560"/>
            <a:ext cx="1147680" cy="833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4T23:44:35Z</dcterms:created>
  <dc:creator>Steve Armstrong</dc:creator>
  <dc:description/>
  <dc:language>en-US</dc:language>
  <cp:lastModifiedBy>LEGION</cp:lastModifiedBy>
  <dcterms:modified xsi:type="dcterms:W3CDTF">2017-07-06T06:31:58Z</dcterms:modified>
  <cp:revision>13</cp:revision>
  <dc:subject/>
  <dc:title>The Fundamental Theorem of Algebra</dc:title>
</cp:coreProperties>
</file>