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40CD-EFAD-470E-B521-0431C033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Stewart  Lothar Redlin  Saleem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special attention to Rules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Rule 4 says that, if we multiply ea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we start with the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ultiply by 2, we g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&lt;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we multiply by –2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6 &gt; –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is linear 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is constant or a 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 linear inequality, w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variable on one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etch the solution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&lt; 9x 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9x &lt; 9x + 4 – 9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9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x &lt;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1/6)(–6x) &gt; (–1/6)(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ultiply by –1/6 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vide by –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gt; –2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mplif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numbe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than –2/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1—Solving a Linear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the solution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is the interval (–2/3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consists of all values of 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atisfy both of the inequalitie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ules 1 and 3, we see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equalities are equival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≤ 3x – 2 &lt;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≤ 3x &lt; 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Add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≤ x &lt;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2—Solving a Pair of Simultaneous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olution set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gn of a Product or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o solve the inequal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≤ 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rst move all the terms to the left-hand side and factor to 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orm of the inequality says that the produ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must be negative or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sign of a product depends on the sign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tails are explained in Example 3, in which we use the following guide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 illustrates the following guidelines for solving an inequality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1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all terms to on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rewrite the inequality so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ppear on one side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quality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2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nonzero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3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values for which each factor is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will divide the real line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intervals determined by these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4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table or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est values to make a table or diagr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igns of each factor o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st row of the table, determine the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roduct (or quotient) of thes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 5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solution of the inequality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row of the sign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y happen if the inequality involves ≤ or ≥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Solving Non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inequality is not written in this 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write it—as indicated in Step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≤ 5x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5x + 6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hown, the numbers 2 and 3 divide the real line into three interval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∞, 2), (2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x – 2 and x – 3 change sign only at 2 and 3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y maintain their signs over the length of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interval, we determine the signs of the factors using test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a number inside each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heck the sign of the factors x – 2 and x –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alue se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let’s use the test valu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 for the interval (-∞, 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substitution in the factors x –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x – 3 giv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2 = 1 – 2 = –1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= 1 – 3 = –2 &lt;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oth factors are negative on this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need to check only one test value for each interval because the factors x – 2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– 3 do not change sign on any of the three intervals w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test values x = 2½ and x = 4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vals (2, 3) and (3, ∞), respectivel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the following sign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blems in algebra lead to inequalities instead of eq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looks just like an equation—except that, in the place of the equal sig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of these symbols: &lt;, &gt;, ≤, or ≥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: 4x + 7 ≤ 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l row is obtained from the fa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 expression in the last row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refer, you can represent that information on a real number line—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gn dia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tical lines indicate the points at whic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divided into 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ad from the table or the diagram that (x – 2)(x – 3) is negative on the interv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 3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solution of the inequal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x – 3) ≤ 0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x | 2 ≤ x ≤ 3} = [2,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cluded the endpoints 2 and 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e seek values of x such t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either less than or equal to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3—A Quadratic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the terms to the left-hand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2 – x – 1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the left side of the inequality, we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1 and x –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is –1/2 and 1, respec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, (–1/2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+ 1)(x – 1)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–∞, –1/2) or (1, ∞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–1/2)U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4—Solving an In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at some numbers satisfy the inequality and some numbers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in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nzero terms are already on one side of the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the nonzero side of the inequality is already fact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begin by finding the intervals for this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, (x – 1)2, and x –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actors are zero when x = 0, 1,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3), (3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diagram, we see th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(x – 1)2(x – 3) &l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x in the interval (0, 1) or (1, 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solution set is the union of these two interv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, 1)U(1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5—Solving an Inequality with Repeated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move all nonzero terms to the left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simplify using a common denomi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s of the left-hand side are 2x and 1 –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zero when x is 0 and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umbers divide the real line into the interv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–∞, 0), (0, 1), (1, 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that the solution set i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the endpoints of solution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ther they satisfy the original ine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equation, an inequality gener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n interval or a union of interva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al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6—An Inequality Involving a Quo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set [0, 1) is illustrat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with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real-life problems frequently leads to inequa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nival has two plans for ti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:  $5 entrance fee and 25¢ each 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B: $2 entrance fee and 50¢ each rid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rides would you have to tak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lan A to be less expensive than plan B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sked for the number of rid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hich plan A is less expensive than plan 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number of r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ormation in the problem may be organ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7—Carnival T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e set up th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with plan A &lt; Cost with pla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.25x &lt; 2 + 0.5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0.25x &lt; 0.50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lt; 0.25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btract 0.25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&lt;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vide by 0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f you plan to take more than 12 ride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 is less expen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on a box of film indicate that the box should be stored at a temperature between 5°C and 30°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nge of temperatures does this correspond to on the Fahrenheit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degrees Celsius (C) and degrees Fahrenheit (F) is give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5/9(F – 3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the statement on the box in term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inequalities, we hav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&lt; C &lt;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he corresponding Fahrenheit temperatures satisfy the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illustration shows how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equality differs from its corresponding equ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8—Fahrenheit and Celsius S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film should be stored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mperature between 41°F and 86°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inequalities, we use the following rules to isolate the variable on one si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inequality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ules tell us when two inequaliti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quivalent (      means “is equivalent to”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se rules, the symbols A, B, and C st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l numbers or algebraic expres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we state the rules for inequalities involving the symbol ≤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apply to all four inequality symbo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52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400" y="92376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536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52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400" y="3983400"/>
            <a:ext cx="2723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6933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19400" y="398340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9400" y="923760"/>
            <a:ext cx="4127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85360" y="3983400"/>
            <a:ext cx="8458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Stewart0495565210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120000"/>
              </a:lnSpc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a2742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666880" y="1592280"/>
            <a:ext cx="647712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d963d"/>
                </a:solidFill>
                <a:latin typeface="Arial"/>
              </a:rPr>
              <a:t>College Algebra</a:t>
            </a:r>
            <a:endParaRPr b="0" lang="en-US" sz="66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fth Edition</a:t>
            </a:r>
            <a:endParaRPr b="0" lang="en-US" sz="2800" spc="-1" strike="noStrike">
              <a:solidFill>
                <a:srgbClr val="61271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James Stewart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Lothar Redlin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d963d"/>
                </a:solidFill>
                <a:latin typeface="Wingdings"/>
                <a:ea typeface="Wingdings"/>
              </a:rPr>
              <a:t></a:t>
            </a:r>
            <a:r>
              <a:rPr b="0" lang="en-US" sz="2000" spc="-1" strike="noStrike">
                <a:solidFill>
                  <a:srgbClr val="8b37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94a37"/>
                </a:solidFill>
                <a:latin typeface="Arial"/>
              </a:rPr>
              <a:t>Saleem Watson</a:t>
            </a:r>
            <a:endParaRPr b="0" lang="en-US" sz="18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Pay special attention to Rules 3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4.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Rule 3 says that we can multiply (or divide) each side of an inequality by a positive numbe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ever, Rule 4 says that, if we multiply ea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ide of an inequality by a negative number, then we reverse the direction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9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if we start with the inequality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&lt; 5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d multiply by 2, we get: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 &lt; 1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However, if we multiply by –2,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get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–6 &gt; –10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6920" y="8571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An inequality is linear if: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Each term is constant or a multiple 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variable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To solve a linear inequality, w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isolate the variable on one side</a:t>
            </a:r>
            <a:br>
              <a:rPr sz="3200"/>
            </a:b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of the inequality sign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9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+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4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and sketch the solution set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+ 4 – 9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9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–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lt; 4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(–1/6)(–6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) &gt; (–1/6)(4)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Multiply by –1/6 or 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divide by –6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&gt; –2/3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implify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number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greater than –2/3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1—Solving a Linear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In other words, the solution of </a:t>
            </a:r>
            <a:br>
              <a:rPr sz="3800"/>
            </a:b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the inequality is the interval (–2/3, 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995560" y="4033800"/>
            <a:ext cx="5962680" cy="26290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ie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solution set consists of all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at satisfy both of the inequalities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 2 &lt; 13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Rules 1 and 3, we see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se inequalities are equivalent: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2 &lt; 13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6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 3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1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Add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2 ≤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 &lt; 5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(Divide by 3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2—Solving a Pair of Simultaneous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13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refore, the solution set is 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[2, 5)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895480" y="4167360"/>
            <a:ext cx="6034320" cy="24811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2057400"/>
            <a:ext cx="617220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94a37"/>
                </a:solidFill>
                <a:latin typeface="Arial"/>
              </a:rPr>
              <a:t>Equations and Inequalities</a:t>
            </a:r>
            <a:endParaRPr b="0" lang="en-US" sz="72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90720" y="25988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d963d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o solve inequalities involving squares and other powers, we use factoring, together with the following principle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The Sign of a Product or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25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even number of negative factors, then its value is posi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f a product or a quotient has an odd number of negative factors, then its value is negativ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For example, to solve the inequality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– 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–6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first move all the terms to the left-hand side and factor to get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(x – 2)(x – 3)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 0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form of the inequality says that the product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 – 3) must be negative or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 to solve the inequality, we must determine where each factor is negative or positive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is is because the sign of a product depends on the sign of th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The details are explained in Example 3, in which we use the following guideline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Example 3 illustrates the following guidelines for solving an inequality tha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an be factored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11764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ove all terms to one sid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actor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Find the intervals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Make a table or diagram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1176480" indent="-495360">
              <a:spcBef>
                <a:spcPts val="700"/>
              </a:spcBef>
              <a:buClr>
                <a:srgbClr val="b94a3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Solve.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1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ove all terms to one side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necessary, rewrite the inequality so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ppear on one side of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inequality sign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nonzero side of the inequality involves quotients, bring them to a common denominator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2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8120" y="7952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Factor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9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4a37"/>
                </a:solidFill>
                <a:latin typeface="Arial"/>
              </a:rPr>
              <a:t>Factor the nonzero side of the inequality.</a:t>
            </a:r>
            <a:endParaRPr b="0" lang="en-US" sz="3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3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Find the intervals.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values for which each factor is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will divide the real line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List the intervals determined by these number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4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Make a table or diagram. 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se test values to make a table or diagra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signs of each factor on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 last row of the table, determine the sign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the product (or quotient) of these factor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14240" y="35809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90720" y="356544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d963d"/>
                </a:solidFill>
                <a:latin typeface="Arial"/>
              </a:rPr>
              <a:t>1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 5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920" y="8096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1271d"/>
                </a:solidFill>
                <a:latin typeface="Arial"/>
              </a:rPr>
              <a:t>Solve.</a:t>
            </a:r>
            <a:endParaRPr b="0" lang="en-US" sz="5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Determine the solution of the inequality from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last row of the sign tabl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 sure to check whether the inequality is satisfied by some or all of the endpoints of the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is may happen if the inequality involves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Guidelines for Solving Nonlinear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ing technique described in these guidelines works only if all nonzero terms appear on one side of the inequality symbol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f the inequality is not written in this form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 rewrite it—as indicated in Step 1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5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–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5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6 ≤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2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2 and 3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s shown, the numbers 2 and 3 divide the real line into three interval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-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, 2)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, (2, 3), (3,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he factors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2 and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–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change sign only at 2 and 3, respectively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they maintain their signs over the length of each interval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On each interval, we determine the signs of the factors using test values. 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choose a number inside each interval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nd check the sign of the factor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2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t the value select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57440" y="4172040"/>
            <a:ext cx="6381720" cy="2485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25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For instance, let’s use the test value </a:t>
            </a:r>
            <a:br>
              <a:rPr sz="3800"/>
            </a:br>
            <a:r>
              <a:rPr b="0" i="1" lang="en-US" sz="3800" spc="-1" strike="noStrike">
                <a:solidFill>
                  <a:srgbClr val="61271d"/>
                </a:solidFill>
                <a:latin typeface="Arial"/>
              </a:rPr>
              <a:t>x =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 1 for the interval (-</a:t>
            </a:r>
            <a:r>
              <a:rPr b="0" lang="en-US" sz="3800" spc="-1" strike="noStrike">
                <a:solidFill>
                  <a:srgbClr val="61271d"/>
                </a:solidFill>
                <a:latin typeface="Arial"/>
                <a:ea typeface="Arial"/>
              </a:rPr>
              <a:t>∞, 2)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26" name="Group 8"/>
          <p:cNvGrpSpPr/>
          <p:nvPr/>
        </p:nvGrpSpPr>
        <p:grpSpPr>
          <a:xfrm>
            <a:off x="3124080" y="4038480"/>
            <a:ext cx="5810040" cy="2631960"/>
            <a:chOff x="3124080" y="4038480"/>
            <a:chExt cx="5810040" cy="2631960"/>
          </a:xfrm>
        </p:grpSpPr>
        <p:pic>
          <p:nvPicPr>
            <p:cNvPr id="127" name="Picture 6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040" cy="263196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28" name="Rectangle 7"/>
            <p:cNvSpPr/>
            <p:nvPr/>
          </p:nvSpPr>
          <p:spPr>
            <a:xfrm>
              <a:off x="5253840" y="4141800"/>
              <a:ext cx="3659760" cy="123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Then, substitution in the factors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2 </a:t>
            </a:r>
            <a:br>
              <a:rPr sz="3000"/>
            </a:b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 –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3 gives: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2 = 1 – 2 = –1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and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61271d"/>
                </a:solidFill>
                <a:latin typeface="Arial"/>
              </a:rPr>
              <a:t> – 3 = 1 – 3 = –2 &lt; 0 </a:t>
            </a:r>
            <a:endParaRPr b="0" lang="en-US" sz="3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So, both factors are negative on this interval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55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Notice that we need to check only one test value for each interval because the factors </a:t>
            </a: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2 and</a:t>
            </a:r>
            <a:br>
              <a:rPr sz="2200"/>
            </a:br>
            <a:r>
              <a:rPr b="0" i="1" lang="en-US" sz="22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b94a37"/>
                </a:solidFill>
                <a:latin typeface="Arial"/>
              </a:rPr>
              <a:t> – 3 do not change sign on any of the three intervals we found.</a:t>
            </a:r>
            <a:endParaRPr b="0" lang="en-US" sz="22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Using the test values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2½ and 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 =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4 for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tervals (2, 3) and (3,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∞)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, respectively,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construct the following sign table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3124080" y="4038480"/>
            <a:ext cx="5810400" cy="2632320"/>
            <a:chOff x="3124080" y="4038480"/>
            <a:chExt cx="5810400" cy="2632320"/>
          </a:xfrm>
        </p:grpSpPr>
        <p:pic>
          <p:nvPicPr>
            <p:cNvPr id="134" name="Picture 13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5810400" cy="2632320"/>
            </a:xfrm>
            <a:prstGeom prst="rect">
              <a:avLst/>
            </a:prstGeom>
            <a:ln w="50760">
              <a:solidFill>
                <a:srgbClr val="cd963d"/>
              </a:solidFill>
              <a:miter/>
            </a:ln>
          </p:spPr>
        </p:pic>
        <p:sp>
          <p:nvSpPr>
            <p:cNvPr id="135" name="Rectangle 14"/>
            <p:cNvSpPr/>
            <p:nvPr/>
          </p:nvSpPr>
          <p:spPr>
            <a:xfrm>
              <a:off x="3200400" y="4141800"/>
              <a:ext cx="198108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Some problems in algebra lead to inequalities instead of equation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n inequality looks just like an equation—except that, in the place of the equal sign </a:t>
            </a:r>
            <a:br>
              <a:rPr sz="3200"/>
            </a:b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is one of these symbols: &lt;, &gt;,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, or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ere is an example: 4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≤ 19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inal row is obtained from the fact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at the expression in the last row i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product of the two factors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8244000" cy="3033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f you prefer, you can represent that information on a real number line—a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in this sign diagram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vertical lines indicate the points at which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real line is divided into interval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712800" y="4403880"/>
            <a:ext cx="8238960" cy="19922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read from the table or the diagram tha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) is negative on the interval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(2, 3)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2966" t="6825" r="1068" b="12205"/>
          <a:stretch/>
        </p:blipFill>
        <p:spPr>
          <a:xfrm>
            <a:off x="2666880" y="2614680"/>
            <a:ext cx="6270840" cy="1515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2666880" y="4325760"/>
            <a:ext cx="6262920" cy="230364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solution of the inequality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2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3)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0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is: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{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| 2 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≤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 ≤ 3} = [2, 3]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We have included the endpoints 2 and 3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because we seek values of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uch tha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 product is either less than or equal to zero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3—A Quadratic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943360" y="3672000"/>
            <a:ext cx="5991120" cy="25048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x &gt; 1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the terms to the left-hand side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b94a3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– x – 1 &gt;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actoring the left side of the inequality, we get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2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+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(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 –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1)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  <a:ea typeface="Arial"/>
              </a:rPr>
              <a:t>&gt;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2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+ 1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is –1/2 and 1, respectivel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–1/2), (–1/2, 1), (1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57" name="Picture 5" descr="SRW CA5 ch01_Page_52a"/>
          <p:cNvPicPr/>
          <p:nvPr/>
        </p:nvPicPr>
        <p:blipFill>
          <a:blip r:embed="rId1"/>
          <a:stretch/>
        </p:blipFill>
        <p:spPr>
          <a:xfrm>
            <a:off x="609480" y="4130640"/>
            <a:ext cx="8229600" cy="2238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(2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+ 1)(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– 1) &gt; 0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–∞, –1/2) or (1, ∞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–∞, –1/2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∞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4—Solving an Inequality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2" name="Picture 5" descr="SRW CA5 ch01_Page_52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91448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table shows that some numbers satisfy the inequality and some numbers don’t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081320" y="3187800"/>
            <a:ext cx="4842000" cy="35049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Solve the inequality 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l nonzero terms are already on one side of the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so, the nonzero side of the inequality is already factored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 we begin by finding the intervals for this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The factors of the left-hand side are</a:t>
            </a:r>
            <a:br>
              <a:rPr sz="4000"/>
            </a:b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, and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.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actors are zero when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= 0, 1, 3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(–∞, 0), (0, 1), (1, 3), (3, ∞)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,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69" name="Picture 5" descr="SRW CA5 ch01_Page_53a"/>
          <p:cNvPicPr/>
          <p:nvPr/>
        </p:nvPicPr>
        <p:blipFill>
          <a:blip r:embed="rId1"/>
          <a:stretch/>
        </p:blipFill>
        <p:spPr>
          <a:xfrm>
            <a:off x="762120" y="4114800"/>
            <a:ext cx="7924680" cy="22417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rom the diagram, we see that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1)</a:t>
            </a:r>
            <a:r>
              <a:rPr b="0" lang="en-US" sz="4000" spc="-1" strike="noStrike" baseline="30000">
                <a:solidFill>
                  <a:srgbClr val="61271d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61271d"/>
                </a:solidFill>
                <a:latin typeface="Arial"/>
              </a:rPr>
              <a:t> – 3) &lt; 0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or </a:t>
            </a:r>
            <a:r>
              <a:rPr b="0" i="1" lang="en-US" sz="36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 in the interval (0, 1) or (1, 3)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 the solution set is the union of these two intervals: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0, 1)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(1, 3)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5—Solving an Inequality with Repeated Factor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1271d"/>
                </a:solidFill>
                <a:latin typeface="Arial"/>
              </a:rPr>
              <a:t>The solution is illustrated here.</a:t>
            </a: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74" name="Picture 5" descr="SRW CA5 ch01_Page_53"/>
          <p:cNvPicPr/>
          <p:nvPr/>
        </p:nvPicPr>
        <p:blipFill>
          <a:blip r:embed="rId1"/>
          <a:stretch/>
        </p:blipFill>
        <p:spPr>
          <a:xfrm>
            <a:off x="2895480" y="3657600"/>
            <a:ext cx="6096240" cy="1730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2520" y="82404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1271d"/>
                </a:solidFill>
                <a:latin typeface="Arial"/>
              </a:rPr>
              <a:t>Solve:</a:t>
            </a: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irst, we move all nonzero terms to the left side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n, we simplify using a common denominator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3476520" y="1300320"/>
          <a:ext cx="23623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6520" y="1300320"/>
                    <a:ext cx="23623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596880" y="1014480"/>
          <a:ext cx="838044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014480"/>
                    <a:ext cx="838044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914400" y="1249200"/>
          <a:ext cx="676764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49200"/>
                    <a:ext cx="67676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536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 factors of the left-hand side are 2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and 1 –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are zero when 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 is 0 and 1.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These numbers divide the real line into the intervals</a:t>
            </a:r>
            <a:br>
              <a:rPr sz="2400"/>
            </a:b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–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  <a:ea typeface="Arial"/>
              </a:rPr>
              <a:t>∞, 0), (0, 1), (1, ∞)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make the following diagram using test points to determine the sign of each factor in each interval.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see that the solution set is: </a:t>
            </a:r>
            <a:br>
              <a:rPr sz="2800"/>
            </a:b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94a37"/>
                </a:solidFill>
                <a:latin typeface="Arial"/>
                <a:ea typeface="Arial"/>
              </a:rPr>
              <a:t>[0, 1)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031" t="0" r="0" b="2541"/>
          <a:stretch/>
        </p:blipFill>
        <p:spPr>
          <a:xfrm>
            <a:off x="723960" y="4586400"/>
            <a:ext cx="8267760" cy="19461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We include the endpoint 0 as the original inequality requires the quotient to be greater than or equal to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However, we do not include the endpoint 1, since the quotient in the inequality is not defined at 1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lways check the endpoints of solution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o determine whether they satisfy the original inequality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536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To solve an inequality that contains a variable means to find all values of the variable that make the inequality true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Unlike an equation, an inequality generally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as infinitely many solutions.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form an interval or a union of interval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n the real line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6—An Inequality Involving a Quotient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71320" y="86688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1271d"/>
                </a:solidFill>
                <a:latin typeface="Arial"/>
              </a:rPr>
              <a:t>The solution set [0, 1) is illustrated here.</a:t>
            </a:r>
            <a:endParaRPr b="0" lang="en-US" sz="42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2614680" y="3933720"/>
            <a:ext cx="6305400" cy="26575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805040" y="3057120"/>
            <a:ext cx="733896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0" lang="en-US" sz="4000" spc="-1" strike="noStrike">
              <a:solidFill>
                <a:srgbClr val="61271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Modeling with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56920" y="8809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1271d"/>
                </a:solidFill>
                <a:latin typeface="Arial"/>
              </a:rPr>
              <a:t>Modeling real-life problems frequently leads to inequalities.</a:t>
            </a:r>
            <a:endParaRPr b="0" lang="en-US" sz="38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e are often interested in determining when one quantity is more (or less) than another.  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9237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A carnival has two plans for tickets.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A:  $5 entrance fee and 25¢ each ride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Plan B: $2 entrance fee and 50¢ each ride  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How many rides would you have to take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plan A to be less expensive than plan B? 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We are asked for the number of rides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for which plan A is less expensive than plan B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5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So, let: </a:t>
            </a:r>
            <a:br>
              <a:rPr sz="3000"/>
            </a:b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b94a37"/>
                </a:solidFill>
                <a:latin typeface="Arial"/>
              </a:rPr>
              <a:t>x =</a:t>
            </a:r>
            <a:r>
              <a:rPr b="0" lang="en-US" sz="3000" spc="-1" strike="noStrike">
                <a:solidFill>
                  <a:srgbClr val="b94a37"/>
                </a:solidFill>
                <a:latin typeface="Arial"/>
              </a:rPr>
              <a:t> number of rides</a:t>
            </a:r>
            <a:endParaRPr b="0" lang="en-US" sz="30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e information in the problem may be organized as follows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971800" y="2743200"/>
          <a:ext cx="5915160" cy="3900600"/>
        </p:xfrm>
        <a:graphic>
          <a:graphicData uri="http://schemas.openxmlformats.org/drawingml/2006/table">
            <a:tbl>
              <a:tblPr/>
              <a:tblGrid>
                <a:gridCol w="2957400"/>
                <a:gridCol w="295776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Word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61271d"/>
                          </a:solidFill>
                          <a:latin typeface="Arial"/>
                        </a:rPr>
                        <a:t>In Algebra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2808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Number of r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5 + 0.25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5760">
                      <a:solidFill>
                        <a:srgbClr val="cd963d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Cost with Plan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d963d"/>
                      </a:solidFill>
                    </a:lnL>
                    <a:lnR w="576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2 + 0.50</a:t>
                      </a:r>
                      <a:r>
                        <a:rPr b="0" i="1" lang="en-US" sz="2800" spc="-1" strike="noStrike">
                          <a:solidFill>
                            <a:srgbClr val="b94a37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d963d"/>
                      </a:solidFill>
                    </a:lnL>
                    <a:lnR w="28080">
                      <a:solidFill>
                        <a:srgbClr val="cd963d"/>
                      </a:solidFill>
                    </a:lnR>
                    <a:lnT w="5760">
                      <a:solidFill>
                        <a:srgbClr val="cd963d"/>
                      </a:solidFill>
                    </a:lnT>
                    <a:lnB w="28080">
                      <a:solidFill>
                        <a:srgbClr val="cd963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7—Carnival Ticket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6920" y="95256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Now, we set up the model.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Cost with plan A &lt; Cost with plan B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5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2 +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 +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 &lt;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0.50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2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&lt; 0.25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Subtract 0.25</a:t>
            </a:r>
            <a:r>
              <a:rPr b="0" i="1" lang="en-US" sz="2400" spc="-1" strike="noStrike">
                <a:solidFill>
                  <a:srgbClr val="b94a37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1271d"/>
                </a:solidFill>
                <a:latin typeface="Arial"/>
              </a:rPr>
              <a:t>12 &lt; 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61271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(Divide by 0.25)</a:t>
            </a:r>
            <a:endParaRPr b="0" lang="en-US" sz="2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o, if you plan to take more than 12 rides,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plan A is less expensive.</a:t>
            </a:r>
            <a:endParaRPr b="0" lang="en-US" sz="2600" spc="-1" strike="noStrike">
              <a:solidFill>
                <a:srgbClr val="a2742a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371600" y="2209680"/>
            <a:ext cx="6705720" cy="685800"/>
          </a:xfrm>
          <a:prstGeom prst="rect">
            <a:avLst/>
          </a:prstGeom>
          <a:noFill/>
          <a:ln w="22320">
            <a:solidFill>
              <a:srgbClr val="cd9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instructions on a box of film indicate that the box should be stored at a temperature between 5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 and 30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C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700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4a37"/>
                </a:solidFill>
                <a:latin typeface="Arial"/>
              </a:rPr>
              <a:t>What range of temperatures does this correspond to on the Fahrenheit scale?</a:t>
            </a:r>
            <a:endParaRPr b="0" lang="en-US" sz="28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relationship between degrees Celsius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and degrees Fahrenheit 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) is given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by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C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= 5/9(</a:t>
            </a:r>
            <a:r>
              <a:rPr b="0" i="1" lang="en-US" sz="3400" spc="-1" strike="noStrike">
                <a:solidFill>
                  <a:srgbClr val="61271d"/>
                </a:solidFill>
                <a:latin typeface="Arial"/>
              </a:rPr>
              <a:t>F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 – 32)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Expressing the statement on the box in term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of inequalities, we have: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5 &lt;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 &lt; 30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So, the corresponding Fahrenheit temperatures satisfy the inequalities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4520" y="2576520"/>
          <a:ext cx="716256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576520"/>
                    <a:ext cx="71625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he following illustration shows how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an inequality differs from its corresponding equation: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504" t="0" r="0" b="7773"/>
          <a:stretch/>
        </p:blipFill>
        <p:spPr>
          <a:xfrm>
            <a:off x="722160" y="3828960"/>
            <a:ext cx="8186760" cy="154332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E.g. 8—Fahrenheit and Celsius Scal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536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Thus, the film should be stored at </a:t>
            </a:r>
            <a:br>
              <a:rPr sz="3600"/>
            </a:b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a temperature between 41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 and 86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  <a:ea typeface="Arial"/>
              </a:rPr>
              <a:t>°</a:t>
            </a:r>
            <a:r>
              <a:rPr b="0" lang="en-US" sz="3600" spc="-1" strike="noStrike">
                <a:solidFill>
                  <a:srgbClr val="61271d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61271d"/>
              </a:solidFill>
              <a:latin typeface="Arial"/>
            </a:endParaRPr>
          </a:p>
        </p:txBody>
      </p:sp>
      <p:pic>
        <p:nvPicPr>
          <p:cNvPr id="217" name="Picture 5" descr="SRW CA5 ch01_Page_55"/>
          <p:cNvPicPr/>
          <p:nvPr/>
        </p:nvPicPr>
        <p:blipFill>
          <a:blip r:embed="rId1"/>
          <a:stretch/>
        </p:blipFill>
        <p:spPr>
          <a:xfrm>
            <a:off x="5378400" y="2438280"/>
            <a:ext cx="3513240" cy="411480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3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To solve inequalities, we use the following rules to isolate the variable on one side </a:t>
            </a:r>
            <a:br>
              <a:rPr sz="3400"/>
            </a:b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of the inequality sign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These rules tell us when two inequalities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are equivalent (      means “is equivalent to”)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  <a:p>
            <a:pPr lvl="1" marL="743040" indent="-279360">
              <a:spcBef>
                <a:spcPts val="649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In these rules, the symbols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b94a37"/>
                </a:solidFill>
                <a:latin typeface="Arial"/>
              </a:rPr>
              <a:t>C </a:t>
            </a: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stand </a:t>
            </a:r>
            <a:br>
              <a:rPr sz="2600"/>
            </a:br>
            <a:r>
              <a:rPr b="0" lang="en-US" sz="2600" spc="-1" strike="noStrike">
                <a:solidFill>
                  <a:srgbClr val="b94a37"/>
                </a:solidFill>
                <a:latin typeface="Arial"/>
              </a:rPr>
              <a:t>for real numbers or algebraic expressions. </a:t>
            </a:r>
            <a:endParaRPr b="0" lang="en-US" sz="2600" spc="-1" strike="noStrike">
              <a:solidFill>
                <a:srgbClr val="b94a37"/>
              </a:solidFill>
              <a:latin typeface="Arial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651120" y="3933720"/>
          <a:ext cx="6066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1120" y="3933720"/>
                    <a:ext cx="606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4a37"/>
                </a:solidFill>
                <a:latin typeface="Arial"/>
              </a:rPr>
              <a:t>Solving Inequalities</a:t>
            </a:r>
            <a:endParaRPr b="1" i="1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6920" y="909720"/>
            <a:ext cx="84582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Here, we state the rules for inequalities involving the symbol 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  <a:ea typeface="Arial"/>
              </a:rPr>
              <a:t>≤</a:t>
            </a:r>
            <a:r>
              <a:rPr b="0" lang="en-US" sz="3400" spc="-1" strike="noStrike">
                <a:solidFill>
                  <a:srgbClr val="61271d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61271d"/>
              </a:solidFill>
              <a:latin typeface="Arial"/>
            </a:endParaRPr>
          </a:p>
          <a:p>
            <a:pPr lvl="1" marL="743040" indent="-279360">
              <a:spcBef>
                <a:spcPts val="601"/>
              </a:spcBef>
              <a:buClr>
                <a:srgbClr val="b94a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4a37"/>
                </a:solidFill>
                <a:latin typeface="Arial"/>
              </a:rPr>
              <a:t>However, they apply to all four inequality symbols. </a:t>
            </a:r>
            <a:endParaRPr b="0" lang="en-US" sz="2400" spc="-1" strike="noStrike">
              <a:solidFill>
                <a:srgbClr val="b94a37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85800" y="2739960"/>
            <a:ext cx="8259840" cy="3951360"/>
          </a:xfrm>
          <a:prstGeom prst="rect">
            <a:avLst/>
          </a:prstGeom>
          <a:ln w="50760">
            <a:solidFill>
              <a:srgbClr val="cd963d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1:34:24Z</dcterms:created>
  <dc:creator>aa</dc:creator>
  <dc:description/>
  <dc:language>en-US</dc:language>
  <cp:lastModifiedBy>LEGION</cp:lastModifiedBy>
  <dcterms:modified xsi:type="dcterms:W3CDTF">2017-07-06T06:31:18Z</dcterms:modified>
  <cp:revision>636</cp:revision>
  <dc:subject/>
  <dc:title>Slide 1</dc:title>
</cp:coreProperties>
</file>