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A3D1-391D-40C0-A3E1-EF270D2821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_______________ is a sum or difference of terms.  Polynomials have special names based on their _______ and the number of _______ they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NUMBER O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based on the number of terms that it h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1:    5x2 + 2x – 4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2:    3a3 + 2a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3:    5mn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4:    3x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 4x2 – 7x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 -9x2 + 2x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 5ab2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 -9a2bc3 – 2ab4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NG BY THE 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1:   5x + 9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2:   3x3 + 5x – x2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3:   -4x + 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. 4:   -x4 + 2x2 + 5x3 – x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degree of a monomial is the sum of the expon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5:   5xy + 9x2y3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6:   3x3y5 + 5xy – x2y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7:   -4xy + 7y3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8:   -x4y + 2x2y5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lassify each polynomial above using its degree and number of te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TH DEGREE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TH DEGREE B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81C1-4FF9-4260-B0C7-EA950B8EF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47E3-BC8E-4C47-B5E7-C9330F08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C32-3938-4D94-AD54-9614C857A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52D7-A085-4069-AFF2-DB1C89597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5E55-EC95-49F1-BC7A-5BE55B9A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C263-9E2F-4C4F-BF97-13898385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3A51-C551-45F8-892C-9A94F557E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0C6A-DAEA-45E4-9394-9C4973B7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5F8B-375D-4420-8C23-A2EF1762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6B20-CFD6-405F-ACC0-53D245C28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1817-2D9A-48CC-8784-4DB5989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5BA-1FFB-45E0-9937-359E51EB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F4AF-BC3B-42FE-A606-DC20BB81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264A5-B385-4654-86BE-5D3FBB9D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4BCC-0F56-4EB7-8B49-53F74BCF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79228-0BFD-4135-9372-30D57A4C3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4AF4-659E-41D0-BD4C-D14046CFB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E82-3BC3-4F5F-8B83-DCF74720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8BA0-F7A6-448A-801D-F3B292BF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FC5B-2140-4992-BB82-2762AF77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087D-F6CB-4016-905F-B6CC814B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6DA-A41B-4DFB-AB23-2A688440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338C-38C8-440F-89B7-D344A896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74F-AEBE-4D80-97BB-4BC1FD2A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3E63-0097-4CB6-9749-3FD8CAE68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AB65-35A8-4530-B16D-25B2BBCFC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ASSIFYING POLYNOMIAL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Times New Roman"/>
              </a:rPr>
              <a:t>A _______________ is a sum or difference of terms.  Polynomials have special names based on their _______ and the number of _______ they have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286000" y="13716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POLYNOM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219320" y="41148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DEG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295280" y="4724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6666"/>
                </a:solidFill>
                <a:latin typeface="Arial"/>
              </a:rPr>
              <a:t>TER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NAMING BY NUMBER OF TERM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19840" cy="29718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3809880" y="259092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600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 TE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3886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6172200" y="3581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 TER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Classify each polynomial based on the number of terms that it has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914400" y="1828800"/>
            <a:ext cx="5257800" cy="43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 2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3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m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7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2x –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9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– 2a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5029200" y="18288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029200" y="2362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5029200" y="28954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5029200" y="3429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029200" y="3962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029200" y="45720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02920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5029200" y="5638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AMING BY THE DEGRE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43000" y="19810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__________ of a polynomial is the exponent of the term with the greatest exponent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5248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66cc"/>
                </a:solidFill>
                <a:latin typeface="Arial"/>
              </a:rPr>
              <a:t>DE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143000" y="3048120"/>
            <a:ext cx="52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 the degree of each polynomial below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371600" y="3809880"/>
            <a:ext cx="4952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1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2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. 3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4x + 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– x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61722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 flipH="1">
            <a:off x="3124080" y="3886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6172200" y="4191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 flipH="1">
            <a:off x="2666880" y="42670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6172200" y="4648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 flipH="1">
            <a:off x="251424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6172200" y="5105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6"/>
          <p:cNvSpPr/>
          <p:nvPr/>
        </p:nvSpPr>
        <p:spPr>
          <a:xfrm flipH="1">
            <a:off x="2590560" y="51055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6553080" y="38098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6553080" y="41911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6553080" y="46483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6553080" y="5105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110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degree of a monomial is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exponents.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143000" y="28195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5: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5xy + 9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6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3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+ 5xy – 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7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4xy + 7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.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 -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 + 2x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gre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5029200" y="28195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3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5029200" y="3276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5029200" y="36576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2743200" y="2133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2 &amp;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5029200" y="4038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5791320" y="28195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791320" y="327672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5791320" y="36576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5791320" y="40384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1867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y each polynomial above using its degree and number of ter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295280" y="2209680"/>
            <a:ext cx="1447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. 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209680" y="2209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DRAT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209680" y="2590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209680" y="30481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EAR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2209680" y="35053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RTIC POLY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209680" y="3886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2209680" y="42670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TR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2209680" y="47242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BIC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2209680" y="51055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GREE BINOM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03:09:53Z</dcterms:created>
  <dc:creator>phubbard</dc:creator>
  <dc:description/>
  <dc:language>en-US</dc:language>
  <cp:lastModifiedBy>LEGION</cp:lastModifiedBy>
  <dcterms:modified xsi:type="dcterms:W3CDTF">2017-07-06T06:31:05Z</dcterms:modified>
  <cp:revision>12</cp:revision>
  <dc:subject/>
  <dc:title>CLASSIFYING POLYNOMIALS</dc:title>
</cp:coreProperties>
</file>