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67CB-14F9-44A1-BCBA-7D7D976199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A7A-5212-46FF-B7B0-BABF675F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048-B45E-4522-8515-315C278C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032-8B56-42E2-A95A-DFDA265A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EE6-AA47-497E-BEF3-0DD14700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EA0F-E2F3-4900-8C50-43B001C7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908C-1004-48E7-85C6-E21EB357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5D1C-F20F-4FBB-9142-64068EF3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4D2F-A7ED-43C4-B1E4-B832C200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614C-8D09-4E03-9C66-77F29CD9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D42D-763C-4EEA-BF5A-1118C763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297A-6687-4B23-B10D-B75EF2A3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D99-03C7-4157-9BED-E0E895AC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8AA1-B3E0-4653-8EC0-7775A8DD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B6A8-BB03-4846-99E6-B58F510C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0F94-3425-4899-B210-8A80D46E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0A40-79F3-4658-A4BE-56E13CD8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23D1-FD2E-43A1-AB20-7F95E5AE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65EE-F1F4-419C-B573-D0CCB3A1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CF7-90B9-4B65-85B4-70B0C7B9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0FF-3C19-4AD3-8DF0-E143AF46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265-688D-4482-839E-23FEAE9B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25E-A986-4348-A4BD-AE7715B1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C85-0A00-40A9-B1D7-BA6DDBAC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515-3075-4ED9-AEC8-57815065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D8B0-B76D-4BE6-AAA7-AAEB49A91F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04E6-9FED-44DE-A444-B78E4EEF10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ASSIFYING POLYNOMIAL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Times New Roman"/>
              </a:rPr>
              <a:t>A _______________ is a sum or difference of terms.  Polynomials have special names based on their _______ and the number of _______ they have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0" y="1371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POLY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219320" y="4114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DEG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95280" y="47242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AMING BY NUMBER OF TER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819840" cy="2971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3809880" y="2590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600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886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172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Classify each polynomial based on the number of terms that it ha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14400" y="1828800"/>
            <a:ext cx="52578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3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7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029200" y="1828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02920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029200" y="2895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029200" y="3429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29200" y="3962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0292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02920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0292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AMING BY THE DEGR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43000" y="1981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524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cc"/>
                </a:solidFill>
                <a:latin typeface="Arial"/>
              </a:rPr>
              <a:t>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143000" y="3048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371600" y="3809880"/>
            <a:ext cx="4952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. 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4x +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x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1722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31240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17220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 flipH="1">
            <a:off x="2666880" y="4267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1722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251424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1722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2590560" y="5105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55308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553080" y="4191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553080" y="4648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655308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11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gree of a monomial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exponents.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143000" y="2819520"/>
            <a:ext cx="3886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y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y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4xy + 7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029200" y="2819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0292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0292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50292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791320" y="2819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791320" y="3276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791320" y="3657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5791320" y="4038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186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 each polynomial above using its degree and number of te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95280" y="2209680"/>
            <a:ext cx="1447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209680" y="2209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09680" y="2590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209680" y="3048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209680" y="3505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2209680" y="3886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20968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209680" y="4724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20968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3:09:53Z</dcterms:created>
  <dc:creator>phubbard</dc:creator>
  <dc:description/>
  <dc:language>en-US</dc:language>
  <cp:lastModifiedBy>LEGION</cp:lastModifiedBy>
  <dcterms:modified xsi:type="dcterms:W3CDTF">2017-07-06T06:31:05Z</dcterms:modified>
  <cp:revision>12</cp:revision>
  <dc:subject/>
  <dc:title>CLASSIFYING POLYNOMIALS</dc:title>
</cp:coreProperties>
</file>