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42D64-11C9-4C4E-A4F9-854A4CEF8D2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fo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 Council of Teac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2,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na McLe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cleishhm@aol.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for a copy of t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for AL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iana Council of Teach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f Mathemat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ctober 12, 2003</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nna McLeis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cleishhm@aol.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ail for a copy of this present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one-step linear equations and inequalities in one variable and check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use formulas with up to three variables to solv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ret and evaluate mathematical expressions that use grouping symbols such as parenthe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arentheses to indicate which operation to perform first when writing expressions containing more than two terms and different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variables in expressions describing geometric qua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the correct order of operations and the properties of real numbers (e.g., identity, inverse, commutative, associative, and distributive properties) to evaluate numerical expressions.  Justify each step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ordered pairs in the four quadrants of the coordinat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problems involving linear functions with integer values.  Write the equation and graph the resulting ordered pairs of integers on a gr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e how a change in one variable relates to a change in a second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6</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one-step linear equations and inequalities in one variable and check the ans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use formulas with up to three variables to solve problem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pret and evaluate mathematical expressions that use grouping symbols such as parenthes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parentheses to indicate which operation to perform first when writing expressions containing more than two terms and different oper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variables in expressions describing geometric quant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pply the correct order of operations and the properties of real numbers (e.g., identity, inverse, commutative, associative, and distributive properties) to evaluate numerical expressions.  Justify each step in the proc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ordered pairs in the four quadrants of the coordinate pla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problems involving linear functions with integer values.  Write the equation and graph the resulting ordered pairs of integers on a gri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vestigate how a change in one variable relates to a change in a second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variables and appropriate operations to write an expression, a formula, an equation, or an inequality that represents a verbal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two-step linear equations and inequalities in one variable and check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correct algebraic terminology, such as variable, equation, term, coefficient, inequality, expression, and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an equation or formula with two variables for a particular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 slope as vertical change per unit of horizontal change and recognize that a straight line has constant slope or rate of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slope of a line from its gra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the graph of a line given the slope and one point on the line, or two points on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functions as linear or nonlinear and examine their characteristics in tables, graphs, and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describe situation with constant or varying rates of change and know that a constant rate of change describes a linear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7</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variables and appropriate operations to write an expression, a formula, an equation, or an inequality that represents a verbal descrip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two-step linear equations and inequalities in one variable and check the ans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correct algebraic terminology, such as variable, equation, term, coefficient, inequality, expression, and consta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an equation or formula with two variables for a particular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fine slope as vertical change per unit of horizontal change and recognize that a straight line has constant slope or rate of chan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the slope of a line from its grap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aw the graph of a line given the slope and one point on the line, or two points on the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functions as linear or nonlinear and examine their characteristics in tables, graphs, and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describe situation with constant or varying rates of change and know that a constant rate of change describes a linear fun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linear equations and inequalities in one variable, interpret the solution or solutions in their context, and verify the reasonableness of the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systems of two linear equations using the substitution method and identify approximate solutions graph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ret positive integer powers as repeated multiplication and negative integer powers as repeated division or multiplication by the multiplicative in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orrect order of operations to find the values of algebraic expressions involving p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linear functions and identify lines with positive and negative sl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slope of a linear function given the equation and write the equation of a line given the slope and any point on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an understanding of rate as a measure of one quantity with respect to another qua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an understanding of the relationship among tables, equations, verbal expressions, and graphs of linear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 simple quadratic functions using verbal descriptions, tables, graphs, and formulas and translate among these repres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 functions of the form y=nx2 and y=nx3 and describe the similarities and differences in the grap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8</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linear equations and inequalities in one variable, interpret the solution or solutions in their context, and verify the reasonableness of the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systems of two linear equations using the substitution method and identify approximate solutions graphicall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pret positive integer powers as repeated multiplication and negative integer powers as repeated division or multiplication by the multiplicative invers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correct order of operations to find the values of algebraic expressions involving po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linear functions and identify lines with positive and negative slop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the slope of a linear function given the equation and write the equation of a line given the slope and any point on the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monstrate an understanding of rate as a measure of one quantity with respect to another quant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monstrate an understanding of the relationship among tables, equations, verbal expressions, and graphs of linear fun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resent simple quadratic functions using verbal descriptions, tables, graphs, and formulas and translate among these represent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ph functions of the form y=nx2 and y=nx3 and describe the similarities and differences in the graph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we teac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book exercise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book page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heet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s – FUN – But do they teach algebra top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 How do we teach i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xtbook exercise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book page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sheet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ames – FUN – But do they teach algebra top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a f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dergarten – “What’s My Rule?” F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1 – Guess the Rule; Magic B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2 – “What’s My Attribut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3 – “What’s My Rule?” Function Mach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4 – Credits/De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5 – Top It:  Positive/Nega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6 – “What’s My Rule?” Formu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7 – Solution 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s try a few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indergarten – “What’s My Rule?” Fishing</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1 – Guess the Rule; Magic Bag</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2 – “What’s My Attribut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3 – “What’s My Rule?” Function Mach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4 – Credits/Debi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5 – Top It:  Positive/Nega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6 – “What’s My Rule?” Formula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7 – Solution Sear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ask your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have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learn more ab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and nega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d you learn some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w ask yourself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d you have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d you learn more abou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ter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itive and nega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equal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Did you learn some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answer “Yes” </a:t>
            </a:r>
            <a:br>
              <a:rPr sz="1200"/>
            </a:br>
            <a:r>
              <a:rPr b="0" lang="en-US" sz="1200" spc="-1" strike="noStrike">
                <a:solidFill>
                  <a:srgbClr val="000000"/>
                </a:solidFill>
                <a:latin typeface="Calibri"/>
              </a:rPr>
              <a:t>then you can s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learned some algebra and it was pain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you can answer “Yes” </a:t>
            </a:r>
            <a:br>
              <a:rPr sz="1200"/>
            </a:br>
            <a:r>
              <a:rPr b="0" lang="en-US" sz="1200" spc="-1" strike="noStrike">
                <a:solidFill>
                  <a:srgbClr val="000000"/>
                </a:solidFill>
                <a:latin typeface="Tahoma"/>
              </a:rPr>
              <a:t>then you can sa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 learned some algebra and it was painl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ive our students the sam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isn’t all fun and games, and neither is the learning of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fun and games can and should be an important part of how we teach algebra at every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s give our students the same opportun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fe isn’t all fun and games, and neither is the learning of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t fun and games can and should be an important part of how we teach algebra at every grade leve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Guide to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s K-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day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ght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cGraw-Hill Compa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ghtgroup.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ourc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er’s Guide to Gam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s K-6</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eryday Mathemat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ght Group</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McGraw-Hill Compan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ghtgroup.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My Rule? Fishing  K1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  To identify a sorting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fishes” for a few students using some obvious attribute.  The teacher fishes out a few people wearing brown, for example, without explaining what he is fishing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asks “What sort of a fish am I going to catch next?” or “What’s my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guess until someone says “Students wearing br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asks “Who are the students NOT in my 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identify those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 steps 1-5 using other obvious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s My Rule? Fishing  K181</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ject:  To identify a sorting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fishes” for a few students using some obvious attribute.  The teacher fishes out a few people wearing brown, for example, without explaining what he is fishing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asks “What sort of a fish am I going to catch next?” or “What’s my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ents guess until someone says “Students wearing brow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asks “Who are the students NOT in my ne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ents identify those stud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eat steps 1-5 using other obvious 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of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w Content in Math Textboo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FEAR of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w Content in Math Textboo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ic Bag</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  To Identify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repeats the activity several times by always taking out 1 more stick than is put into the bag.  The class describes a rule for the magic bag’s action (add 1, 1 more, next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or student volunteer) repeats the activity for other rules.  The rest of the class guesse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ic Bag</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1-10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ject:  To Identify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repeats the activity several times by always taking out 1 more stick than is put into the bag.  The class describes a rule for the magic bag’s action (add 1, 1 more, next numb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er (or student volunteer) repeats the activity for other rules.  The rest of the class guesses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My Attribute Rule?  2-180</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bject:  To be the first player to identify a rule used to sort 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t of attribute blo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label one sheet of paper:  These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label another sheet:  These do NO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take turns.  Each player rolls the die once  The player with the lowest number is the first “Rul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mixes the Attribute Rule cards and then stacks them face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turns over the top card but does not show it to the other players or tell them what the rule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chooses 3 or 4 attribute blocks that fit the rule on the card, then places the blocks on the sheet labeled These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d on next 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s My Attribute Rule?  2-180</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Object:  To be the first player to identify a rule used to sort a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et of attribute bloc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label one sheet of paper:  These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label another sheet:  These do NO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take turns.  Each player rolls the die once  The player with the lowest number is the first “Rule Mak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mixes the Attribute Rule cards and then stacks them facedow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turns over the top card but does not show it to the other players or tell them what the rule i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chooses 3 or 4 attribute blocks that fit the rule on the card, then places the blocks on the sheet labeled These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d on next pa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chooses 3 or 4 attribute blocks that do NOT fit the rule on the card, then places the blocks on the sheet labeled              These do NO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players are the “Guessers.”  The Guessers take turns.  Each one chooses a block that he or she thinks migh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tells each Guesser Yes or No.  The Guesser puts the block on the correct sheet.  The Guesser suggests what the rule might be.  The Rule Maker tells the Guesser if his or her rule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uessers continue until someone figures out the rule.  That player is the winner and becomes the Rule Maker for the next 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chooses 3 or 4 attribute blocks that do NOT fit the rule on the card, then places the blocks on the sheet labeled              These do NO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other players are the “Guessers.”  The Guessers take turns.  Each one chooses a block that he or she thinks migh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tells each Guesser Yes or No.  The Guesser puts the block on the correct sheet.  The Guesser suggests what the rule might be.  The Rule Maker tells the Guesser if his or her rule is correc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Guessers continue until someone figures out the rule.  That player is the winner and becomes the Rule Maker for the next rou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for ALL Must Begin </a:t>
            </a:r>
            <a:br>
              <a:rPr sz="1200"/>
            </a:br>
            <a:r>
              <a:rPr b="0" lang="en-US" sz="1200" spc="-1" strike="noStrike">
                <a:solidFill>
                  <a:srgbClr val="000000"/>
                </a:solidFill>
                <a:latin typeface="Calibri"/>
              </a:rPr>
              <a:t>in Kindergarten…fo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sort, and classify objects by size, number, and other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objects that do not belong to a particular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copy, and make simple patterns with numbers and sh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for ALL Must Begin </a:t>
            </a:r>
            <a:br>
              <a:rPr sz="1200"/>
            </a:br>
            <a:r>
              <a:rPr b="0" lang="en-US" sz="1200" spc="-1" strike="noStrike">
                <a:solidFill>
                  <a:srgbClr val="000000"/>
                </a:solidFill>
                <a:latin typeface="Tahoma"/>
              </a:rPr>
              <a:t>in Kindergarten…for AL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sort, and classify objects by size, number, and other 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objects that do not belong to a particular group.</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copy, and make simple patterns with numbers and shap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continue every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ana Academic Standards-Mathematics specify year-by-year content standards and indicators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and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Analysis and Prob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d continue every yea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Indiana Academic Standards-Mathematics specify year-by-year content standards and indicators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umber Sens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ut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and Fun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metr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asurem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Analysis and Probabil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number sentences from problem situation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word problems that match given number sentence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use the relationship between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nd extend number patterns using ad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1</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number sentences from problem situation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word problems that match given number sentence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use the relationship between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and extend number patterns using addi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 problem situations to number sentence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ommutative and associative rules for addition to simplify mental calculations and to check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extend a linear pattern by its r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describe, and extend number patterns us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 problem situations to number sentence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commutative and associative rules for addition to simplify mental calculations and to check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extend a linear pattern by its rul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describe, and extend number patterns us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 relationships of quantities in the form of a numeric expression 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problems involving numeric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ose appropriate symbols for operations and relations to make a number sentenc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and use the commutative and associative rules of multi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describe, and extend number patterns using multi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simple problems involving a functional relationship between two qua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d label whole numbers on a number line up to 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3</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resent relationships of quantities in the form of a numeric expression or equ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problems involving numeric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oose appropriate symbols for operations and relations to make a number sentence tru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and use the commutative and associative rules of multiplic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describe, and extend number patterns using multiplic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simple problems involving a functional relationship between two quant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ot and label whole numbers on a number line up to 1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etters, boxes, or other symbols to represent any number in simple expressions, equations, or inequalities (i.e., demonstrate an understanding of and the use of the concept of a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nd interpret formulas to answer questions about quantities and their relation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multiplication and division are performed before addition and subtraction in expressions without parenthe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an equation such as y = 3x + 5 is a rule for finding a second number when a first number is gi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number patterns using multiplication and di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apply the relationships between addition and multiplication, between subtraction and division, and the inverse relationship between multiplication and division to solv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 problem situations to number sentences involving multiplication and di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d label whole numbers on a number line up to 100.  Estimate positions on the number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4</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letters, boxes, or other symbols to represent any number in simple expressions, equations, or inequalities (i.e., demonstrate an understanding of and the use of the concept of a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and interpret formulas to answer questions about quantities and their relationship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multiplication and division are performed before addition and subtraction in expressions without parenthes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an equation such as y = 3x + 5 is a rule for finding a second number when a first number is give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 number patterns using multiplication and divis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apply the relationships between addition and multiplication, between subtraction and division, and the inverse relationship between multiplication and division to solve problem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 problem situations to number sentences involving multiplication and divis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ot and label whole numbers on a number line up to 100.  Estimate positions on the number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 variable to represent an unknown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simple algebraic expressions in one or two variables and evaluate them by sub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distributive property in numerical expressions and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ordered pairs of posi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ordered pairs (positive numbers only) that fit a linear equation, graph the ordered pairs, and draw the line they determ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the length of a horizontal line segment on a coordinate plane equals the difference between the x-coordinates and that the length of a vertical line segment on a coordinate plane equals the difference between the y-coordin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information taken from a graph or equation to answer questions about a problem sit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5</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a variable to represent an unknown numb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simple algebraic expressions in one or two variables and evaluate them by substitu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distributive property in numerical expressions and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ordered pairs of posi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ordered pairs (positive numbers only) that fit a linear equation, graph the ordered pairs, and draw the line they determ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the length of a horizontal line segment on a coordinate plane equals the difference between the x-coordinates and that the length of a vertical line segment on a coordinate plane equals the difference between the y-coordina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information taken from a graph or equation to answer questions about a problem situ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61B67-5F5E-4197-A330-7BBCFCC71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D461C-221C-491C-95EB-E8DC8DB68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B1287-6B6C-4DE7-B616-108B0F545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66AA7-2478-442A-A170-7003DE724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8CBF1-F065-45B9-95C3-DC54F7870D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4B40F-7B25-4F30-825C-6C0C9FAE6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F34F8-153A-4144-879E-8EDADF5EA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9C0EE-F80F-4D70-8AB2-9E2ABC5EA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BB0E7-7E29-4B90-9478-A3CC57001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3872A-9450-4CB6-A61D-B468F531A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9ED88-4C1C-49B3-A238-A4D8C374F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A718B-8C52-42DF-820A-76D4FE8A1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530BC-4AC1-448D-B29D-3CA65B2BF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3A77C-A866-45F5-95F4-F30C5486E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EDDD4-5262-468B-B687-F8A51A5D0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36A7E1-C017-4087-A369-A5791A9FCE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AF8161-AC6D-4E5A-AA79-FD1F27726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2DE2C-2752-48E7-99C3-D0C36D75C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9FC3E-A2AA-4A94-92A7-DB37AC82E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C1CD8-1730-4FA6-8BC7-4B3F58E45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4EF19-C042-4C5A-95C3-D615E36CD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F2EC3-AB1E-4FCF-A142-64561D5D4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B9C3D-2007-459E-A982-193F5AAD2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9F134-043E-47E2-9381-2821676B6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8AA0-F969-4B12-BB00-84A44AC1F2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sliderbase.com</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CF9A3-E6DF-4A15-911B-303B43DA9687}"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cleishhm@aol.com"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720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Tahoma"/>
              </a:rPr>
              <a:t>Algebra for ALL</a:t>
            </a:r>
            <a:endParaRPr b="0" lang="en-US" sz="6000" spc="-1" strike="noStrike">
              <a:solidFill>
                <a:srgbClr val="333399"/>
              </a:solidFill>
              <a:latin typeface="Tahoma"/>
            </a:endParaRPr>
          </a:p>
        </p:txBody>
      </p:sp>
      <p:sp>
        <p:nvSpPr>
          <p:cNvPr id="107" name="PlaceHolder 2"/>
          <p:cNvSpPr>
            <a:spLocks noGrp="1"/>
          </p:cNvSpPr>
          <p:nvPr>
            <p:ph type="subTitle"/>
          </p:nvPr>
        </p:nvSpPr>
        <p:spPr>
          <a:xfrm>
            <a:off x="304920" y="2057040"/>
            <a:ext cx="8534160" cy="42670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diana Council of Teacher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f Mathematic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ctober 12, 2003</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Donna McLeish</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Monotype Corsiva"/>
                <a:hlinkClick r:id="rId1"/>
              </a:rPr>
              <a:t>mcleishhm@aol.com</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Email for a copy of this presentation</a:t>
            </a:r>
            <a:endParaRPr b="0" lang="en-US" sz="2400" spc="-1" strike="noStrike">
              <a:solidFill>
                <a:srgbClr val="000000"/>
              </a:solidFill>
              <a:latin typeface="Tahoma"/>
            </a:endParaRPr>
          </a:p>
        </p:txBody>
      </p:sp>
      <p:sp>
        <p:nvSpPr>
          <p:cNvPr id="10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6</a:t>
            </a:r>
            <a:endParaRPr b="0" lang="en-US" sz="4400" spc="-1" strike="noStrike">
              <a:solidFill>
                <a:srgbClr val="333399"/>
              </a:solidFill>
              <a:latin typeface="Tahoma"/>
            </a:endParaRPr>
          </a:p>
        </p:txBody>
      </p:sp>
      <p:sp>
        <p:nvSpPr>
          <p:cNvPr id="136" name="PlaceHolder 2"/>
          <p:cNvSpPr>
            <a:spLocks noGrp="1"/>
          </p:cNvSpPr>
          <p:nvPr>
            <p:ph/>
          </p:nvPr>
        </p:nvSpPr>
        <p:spPr>
          <a:xfrm>
            <a:off x="380520" y="2017800"/>
            <a:ext cx="8574120" cy="4535280"/>
          </a:xfrm>
          <a:prstGeom prst="rect">
            <a:avLst/>
          </a:prstGeom>
          <a:noFill/>
          <a:ln w="0">
            <a:noFill/>
          </a:ln>
        </p:spPr>
        <p:txBody>
          <a:bodyPr anchor="t">
            <a:normAutofit fontScale="95000"/>
          </a:bodyPr>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rite and solve one-step linear equations and inequalities in one variable and check the answer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and use formulas with up to three variables to solve problem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 and evaluate mathematical expressions that use grouping symbols such as parenthese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parentheses to indicate which operation to perform first when writing expressions containing more than two terms and different operation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variables in expressions describing geometric quantitie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the correct order of operations and the properties of real numbers (e.g., identity, inverse, commutative, associative, and distributive properties) to evaluate numerical expressions.  Justify each step in the proces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ntify and graph ordered pairs in the four quadrants of the coordinate plan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 problems involving linear functions with integer values.  Write the equation and graph the resulting ordered pairs of integers on a grid.</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vestigate how a change in one variable relates to a change in a second variable.</a:t>
            </a:r>
            <a:endParaRPr b="0" lang="en-US" sz="2000" spc="-1" strike="noStrike">
              <a:solidFill>
                <a:srgbClr val="000000"/>
              </a:solidFill>
              <a:latin typeface="Tahoma"/>
            </a:endParaRPr>
          </a:p>
        </p:txBody>
      </p:sp>
      <p:sp>
        <p:nvSpPr>
          <p:cNvPr id="13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7</a:t>
            </a:r>
            <a:endParaRPr b="0" lang="en-US" sz="4400" spc="-1" strike="noStrike">
              <a:solidFill>
                <a:srgbClr val="333399"/>
              </a:solidFill>
              <a:latin typeface="Tahoma"/>
            </a:endParaRPr>
          </a:p>
        </p:txBody>
      </p:sp>
      <p:sp>
        <p:nvSpPr>
          <p:cNvPr id="139" name="PlaceHolder 2"/>
          <p:cNvSpPr>
            <a:spLocks noGrp="1"/>
          </p:cNvSpPr>
          <p:nvPr>
            <p:ph/>
          </p:nvPr>
        </p:nvSpPr>
        <p:spPr>
          <a:xfrm>
            <a:off x="304920" y="2017800"/>
            <a:ext cx="8650080" cy="4535280"/>
          </a:xfrm>
          <a:prstGeom prst="rect">
            <a:avLst/>
          </a:prstGeom>
          <a:noFill/>
          <a:ln w="0">
            <a:noFill/>
          </a:ln>
        </p:spPr>
        <p:txBody>
          <a:bodyPr anchor="t">
            <a:normAutofit fontScale="97000"/>
          </a:bodyPr>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variables and appropriate operations to write an expression, a formula, an equation, or an inequality that represents a verbal description.</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and solve two-step linear equations and inequalities in one variable and check the answer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correct algebraic terminology, such as variable, equation, term, coefficient, inequality, expression, and constant</a:t>
            </a:r>
            <a:r>
              <a:rPr b="0" lang="en-US" sz="1800" spc="-1" strike="noStrike">
                <a:solidFill>
                  <a:srgbClr val="000000"/>
                </a:solidFill>
                <a:latin typeface="Times New Roman"/>
              </a:rPr>
              <a:t>.</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lve an equation or formula with two variables for a particular variabl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 slope as vertical change per unit of horizontal change and recognize that a straight line has constant slope or rate of chang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d the slope of a line from its graph.</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w the graph of a line given the slope and one point on the line, or two points on the lin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ntify functions as linear or nonlinear and examine their characteristics in tables, graphs, and equation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and describe situation with constant or varying rates of change and know that a constant rate of change describes a linear function.</a:t>
            </a:r>
            <a:endParaRPr b="0" lang="en-US" sz="1800" spc="-1" strike="noStrike">
              <a:solidFill>
                <a:srgbClr val="000000"/>
              </a:solidFill>
              <a:latin typeface="Tahoma"/>
            </a:endParaRPr>
          </a:p>
        </p:txBody>
      </p:sp>
      <p:sp>
        <p:nvSpPr>
          <p:cNvPr id="140"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8</a:t>
            </a:r>
            <a:endParaRPr b="0" lang="en-US" sz="4400" spc="-1" strike="noStrike">
              <a:solidFill>
                <a:srgbClr val="333399"/>
              </a:solidFill>
              <a:latin typeface="Tahoma"/>
            </a:endParaRPr>
          </a:p>
        </p:txBody>
      </p:sp>
      <p:sp>
        <p:nvSpPr>
          <p:cNvPr id="142" name="PlaceHolder 2"/>
          <p:cNvSpPr>
            <a:spLocks noGrp="1"/>
          </p:cNvSpPr>
          <p:nvPr>
            <p:ph/>
          </p:nvPr>
        </p:nvSpPr>
        <p:spPr>
          <a:xfrm>
            <a:off x="380520" y="2017800"/>
            <a:ext cx="8574120" cy="4535280"/>
          </a:xfrm>
          <a:prstGeom prst="rect">
            <a:avLst/>
          </a:prstGeom>
          <a:noFill/>
          <a:ln w="0">
            <a:noFill/>
          </a:ln>
        </p:spPr>
        <p:txBody>
          <a:bodyPr anchor="t">
            <a:normAutofit/>
          </a:bodyPr>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Write and solve linear equations and inequalities in one variable, interpret the solution or solutions in their context, and verify the reasonableness of the result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olve systems of two linear equations using the substitution method and identify approximate solutions graphically.</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terpret positive integer powers as repeated multiplication and negative integer powers as repeated division or multiplication by the multiplicative inverse.</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se the correct order of operations to find the values of algebraic expressions involving power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dentify and graph linear functions and identify lines with positive and negative slope</a:t>
            </a:r>
            <a:r>
              <a:rPr b="0" lang="en-US" sz="1700" spc="-1" strike="noStrike">
                <a:solidFill>
                  <a:srgbClr val="000000"/>
                </a:solidFill>
                <a:latin typeface="Times New Roman"/>
              </a:rPr>
              <a:t>.</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ind the slope of a linear function given the equation and write the equation of a line given the slope and any point on the line.</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emonstrate an understanding of rate as a measure of one quantity with respect to another quantity.</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emonstrate an understanding of the relationship among tables, equations, verbal expressions, and graphs of linear function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Represent simple quadratic functions using verbal descriptions, tables, graphs, and formulas and translate among these representation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Graph functions of the form </a:t>
            </a:r>
            <a:r>
              <a:rPr b="0" i="1" lang="en-US" sz="1700" spc="-1" strike="noStrike">
                <a:solidFill>
                  <a:srgbClr val="000000"/>
                </a:solidFill>
                <a:latin typeface="Times New Roman"/>
              </a:rPr>
              <a:t>y</a:t>
            </a:r>
            <a:r>
              <a:rPr b="0" lang="en-US" sz="1700" spc="-1" strike="noStrike">
                <a:solidFill>
                  <a:srgbClr val="000000"/>
                </a:solidFill>
                <a:latin typeface="Times New Roman"/>
              </a:rPr>
              <a:t>=</a:t>
            </a:r>
            <a:r>
              <a:rPr b="0" i="1" lang="en-US" sz="1700" spc="-1" strike="noStrike">
                <a:solidFill>
                  <a:srgbClr val="000000"/>
                </a:solidFill>
                <a:latin typeface="Times New Roman"/>
              </a:rPr>
              <a:t>nx</a:t>
            </a:r>
            <a:r>
              <a:rPr b="0" lang="en-US" sz="1700" spc="-1" strike="noStrike">
                <a:solidFill>
                  <a:srgbClr val="000000"/>
                </a:solidFill>
                <a:latin typeface="Times New Roman"/>
              </a:rPr>
              <a:t>2 and </a:t>
            </a:r>
            <a:r>
              <a:rPr b="0" i="1" lang="en-US" sz="1700" spc="-1" strike="noStrike">
                <a:solidFill>
                  <a:srgbClr val="000000"/>
                </a:solidFill>
                <a:latin typeface="Times New Roman"/>
              </a:rPr>
              <a:t>y</a:t>
            </a:r>
            <a:r>
              <a:rPr b="0" lang="en-US" sz="1700" spc="-1" strike="noStrike">
                <a:solidFill>
                  <a:srgbClr val="000000"/>
                </a:solidFill>
                <a:latin typeface="Times New Roman"/>
              </a:rPr>
              <a:t>=</a:t>
            </a:r>
            <a:r>
              <a:rPr b="0" i="1" lang="en-US" sz="1700" spc="-1" strike="noStrike">
                <a:solidFill>
                  <a:srgbClr val="000000"/>
                </a:solidFill>
                <a:latin typeface="Times New Roman"/>
              </a:rPr>
              <a:t>nx</a:t>
            </a:r>
            <a:r>
              <a:rPr b="0" lang="en-US" sz="1700" spc="-1" strike="noStrike">
                <a:solidFill>
                  <a:srgbClr val="000000"/>
                </a:solidFill>
                <a:latin typeface="Times New Roman"/>
              </a:rPr>
              <a:t>3 and describe the similarities and differences in the graphs.</a:t>
            </a:r>
            <a:endParaRPr b="0" lang="en-US" sz="1700" spc="-1" strike="noStrike">
              <a:solidFill>
                <a:srgbClr val="000000"/>
              </a:solidFill>
              <a:latin typeface="Tahoma"/>
            </a:endParaRPr>
          </a:p>
        </p:txBody>
      </p:sp>
      <p:sp>
        <p:nvSpPr>
          <p:cNvPr id="14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 How do we teach it?</a:t>
            </a:r>
            <a:endParaRPr b="0" lang="en-US" sz="4400" spc="-1" strike="noStrike">
              <a:solidFill>
                <a:srgbClr val="333399"/>
              </a:solidFill>
              <a:latin typeface="Tahoma"/>
            </a:endParaRPr>
          </a:p>
        </p:txBody>
      </p:sp>
      <p:sp>
        <p:nvSpPr>
          <p:cNvPr id="145" name="PlaceHolder 2"/>
          <p:cNvSpPr>
            <a:spLocks noGrp="1"/>
          </p:cNvSpPr>
          <p:nvPr>
            <p:ph/>
          </p:nvPr>
        </p:nvSpPr>
        <p:spPr>
          <a:xfrm>
            <a:off x="1219320" y="2017800"/>
            <a:ext cx="773568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extbook exercise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book page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sheet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ames – FUN – But do they </a:t>
            </a:r>
            <a:r>
              <a:rPr b="0" lang="en-US" sz="3600" spc="-1" strike="noStrike" u="sng">
                <a:solidFill>
                  <a:srgbClr val="000000"/>
                </a:solidFill>
                <a:uFillTx/>
                <a:latin typeface="Tahoma"/>
              </a:rPr>
              <a:t>teach</a:t>
            </a:r>
            <a:r>
              <a:rPr b="0" lang="en-US" sz="3600" spc="-1" strike="noStrike">
                <a:solidFill>
                  <a:srgbClr val="000000"/>
                </a:solidFill>
                <a:latin typeface="Tahoma"/>
              </a:rPr>
              <a:t> algebra topics?</a:t>
            </a:r>
            <a:endParaRPr b="0" lang="en-US" sz="3600" spc="-1" strike="noStrike">
              <a:solidFill>
                <a:srgbClr val="000000"/>
              </a:solidFill>
              <a:latin typeface="Tahom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6"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try a few …</a:t>
            </a:r>
            <a:endParaRPr b="0" lang="en-US" sz="4400" spc="-1" strike="noStrike">
              <a:solidFill>
                <a:srgbClr val="333399"/>
              </a:solidFill>
              <a:latin typeface="Tahoma"/>
            </a:endParaRPr>
          </a:p>
        </p:txBody>
      </p:sp>
      <p:sp>
        <p:nvSpPr>
          <p:cNvPr id="148" name="PlaceHolder 2"/>
          <p:cNvSpPr>
            <a:spLocks noGrp="1"/>
          </p:cNvSpPr>
          <p:nvPr>
            <p:ph/>
          </p:nvPr>
        </p:nvSpPr>
        <p:spPr>
          <a:xfrm>
            <a:off x="304920" y="2017800"/>
            <a:ext cx="8650080" cy="4687920"/>
          </a:xfrm>
          <a:prstGeom prst="rect">
            <a:avLst/>
          </a:prstGeom>
          <a:noFill/>
          <a:ln w="0">
            <a:noFill/>
          </a:ln>
        </p:spPr>
        <p:txBody>
          <a:bodyPr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indergarten – “What’s My Rule?” Fish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1 – Guess the Rule; Magic Ba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2 – “What’s My Attribute Rul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3 – “What’s My Rule?” Function Machin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4 – Credits/Debi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5 – Top It:  Positive/Negative Numbe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6 – “What’s My Rule?” Formula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7 – Solution Search</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w ask yourself …</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61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have fu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learn more abou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ribut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ter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itive and negative numbe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a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equalities</a:t>
            </a:r>
            <a:endParaRPr b="0" lang="en-US" sz="28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3200" spc="-1" strike="noStrike">
                <a:solidFill>
                  <a:srgbClr val="000000"/>
                </a:solidFill>
                <a:latin typeface="Tahoma"/>
              </a:rPr>
              <a:t>Did you learn some algebra???</a:t>
            </a:r>
            <a:endParaRPr b="0" lang="en-US" sz="3200" spc="-1" strike="noStrike">
              <a:solidFill>
                <a:srgbClr val="000000"/>
              </a:solidFill>
              <a:latin typeface="Tahoma"/>
            </a:endParaRPr>
          </a:p>
        </p:txBody>
      </p:sp>
      <p:sp>
        <p:nvSpPr>
          <p:cNvPr id="152"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f you can answer “Yes” </a:t>
            </a:r>
            <a:br>
              <a:rPr sz="4400"/>
            </a:br>
            <a:r>
              <a:rPr b="0" lang="en-US" sz="4400" spc="-1" strike="noStrike">
                <a:solidFill>
                  <a:srgbClr val="333399"/>
                </a:solidFill>
                <a:latin typeface="Tahoma"/>
              </a:rPr>
              <a:t>then you can say</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ahoma"/>
              </a:rPr>
              <a:t>I learned some algebra and it was painless!</a:t>
            </a:r>
            <a:endParaRPr b="0" lang="en-US" sz="7200" spc="-1" strike="noStrike">
              <a:solidFill>
                <a:srgbClr val="000000"/>
              </a:solidFill>
              <a:latin typeface="Tahoma"/>
            </a:endParaRPr>
          </a:p>
        </p:txBody>
      </p:sp>
      <p:sp>
        <p:nvSpPr>
          <p:cNvPr id="155"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give our students the same opportunity.</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fe isn’t all fun and games, and neither is the learning of algebra.</a:t>
            </a:r>
            <a:endParaRPr b="0" lang="en-US" sz="40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t fun and games can and </a:t>
            </a:r>
            <a:r>
              <a:rPr b="0" lang="en-US" sz="4000" spc="-1" strike="noStrike" u="sng">
                <a:solidFill>
                  <a:srgbClr val="000000"/>
                </a:solidFill>
                <a:uFillTx/>
                <a:latin typeface="Times New Roman"/>
              </a:rPr>
              <a:t>should</a:t>
            </a:r>
            <a:r>
              <a:rPr b="0" lang="en-US" sz="4000" spc="-1" strike="noStrike">
                <a:solidFill>
                  <a:srgbClr val="000000"/>
                </a:solidFill>
                <a:latin typeface="Times New Roman"/>
              </a:rPr>
              <a:t> be an important part of how we teach algebra at every grade level.</a:t>
            </a:r>
            <a:endParaRPr b="0" lang="en-US" sz="40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ahoma"/>
            </a:endParaRPr>
          </a:p>
        </p:txBody>
      </p:sp>
      <p:sp>
        <p:nvSpPr>
          <p:cNvPr id="158"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  </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ahoma"/>
              </a:rPr>
              <a:t>Teacher’s Guide to Gam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es K-6</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Everyday Mathematic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ght Group</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cGraw-Hill Compani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e4a8"/>
                </a:solidFill>
                <a:latin typeface="Tahoma"/>
              </a:rPr>
              <a:t>wrightgroup.co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161"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My Rule? Fishing  </a:t>
            </a:r>
            <a:r>
              <a:rPr b="0" lang="en-US" sz="1800" spc="-1" strike="noStrike">
                <a:solidFill>
                  <a:srgbClr val="333399"/>
                </a:solidFill>
                <a:latin typeface="Tahoma"/>
              </a:rPr>
              <a:t>K181</a:t>
            </a:r>
            <a:endParaRPr b="0" lang="en-US" sz="1800" spc="-1" strike="noStrike">
              <a:solidFill>
                <a:srgbClr val="333399"/>
              </a:solidFill>
              <a:latin typeface="Tahoma"/>
            </a:endParaRPr>
          </a:p>
        </p:txBody>
      </p:sp>
      <p:sp>
        <p:nvSpPr>
          <p:cNvPr id="163" name="PlaceHolder 2"/>
          <p:cNvSpPr>
            <a:spLocks noGrp="1"/>
          </p:cNvSpPr>
          <p:nvPr>
            <p:ph/>
          </p:nvPr>
        </p:nvSpPr>
        <p:spPr>
          <a:xfrm>
            <a:off x="228600" y="2017800"/>
            <a:ext cx="8726400" cy="468792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o identify a sorting rule</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fishes” for a few students using some obvious attribute.  The teacher fishes out a few people wearing brown, for example, without explaining what he is fishing for.</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asks “What sort of a fish am I going to catch next?” or “What’s my rule?”</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guess until someone says “Students wearing brown.”</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asks “Who are the students NOT in my net?” </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identify those student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 steps 1-5 using other obvious attributes</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FEAR of </a:t>
            </a:r>
            <a:r>
              <a:rPr b="0" lang="en-US" sz="5400" spc="-1" strike="noStrike">
                <a:solidFill>
                  <a:srgbClr val="333399"/>
                </a:solidFill>
                <a:latin typeface="Bremen Bd BT"/>
              </a:rPr>
              <a:t>Algebra</a:t>
            </a:r>
            <a:endParaRPr b="0" lang="en-US" sz="5400" spc="-1" strike="noStrike">
              <a:solidFill>
                <a:srgbClr val="333399"/>
              </a:solidFill>
              <a:latin typeface="Tahoma"/>
            </a:endParaRPr>
          </a:p>
        </p:txBody>
      </p:sp>
      <p:sp>
        <p:nvSpPr>
          <p:cNvPr id="110" name="PlaceHolder 2"/>
          <p:cNvSpPr>
            <a:spLocks noGrp="1"/>
          </p:cNvSpPr>
          <p:nvPr>
            <p:ph/>
          </p:nvPr>
        </p:nvSpPr>
        <p:spPr>
          <a:xfrm>
            <a:off x="685800" y="1904760"/>
            <a:ext cx="8305920" cy="460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New Content in Math Textbooks</a:t>
            </a:r>
            <a:endParaRPr b="0" lang="en-US" sz="3200" spc="-1" strike="noStrike">
              <a:solidFill>
                <a:srgbClr val="000000"/>
              </a:solidFill>
              <a:latin typeface="Tahoma"/>
            </a:endParaRPr>
          </a:p>
        </p:txBody>
      </p:sp>
      <p:graphicFrame>
        <p:nvGraphicFramePr>
          <p:cNvPr id="111" name="Object 4"/>
          <p:cNvGraphicFramePr/>
          <p:nvPr/>
        </p:nvGraphicFramePr>
        <p:xfrm>
          <a:off x="762120" y="2438280"/>
          <a:ext cx="7467480" cy="4191120"/>
        </p:xfrm>
        <a:graphic>
          <a:graphicData uri="http://schemas.openxmlformats.org/presentationml/2006/ole">
            <p:oleObj r:id="rId1" spid="">
              <p:embed/>
              <p:pic>
                <p:nvPicPr>
                  <p:cNvPr id="112" name="Object 4" descr=""/>
                  <p:cNvPicPr/>
                  <p:nvPr/>
                </p:nvPicPr>
                <p:blipFill>
                  <a:blip r:embed="rId2"/>
                  <a:stretch/>
                </p:blipFill>
                <p:spPr>
                  <a:xfrm>
                    <a:off x="762120" y="2438280"/>
                    <a:ext cx="7467480" cy="4191120"/>
                  </a:xfrm>
                  <a:prstGeom prst="rect">
                    <a:avLst/>
                  </a:prstGeom>
                  <a:ln w="0">
                    <a:noFill/>
                  </a:ln>
                </p:spPr>
              </p:pic>
            </p:oleObj>
          </a:graphicData>
        </a:graphic>
      </p:graphicFrame>
      <p:sp>
        <p:nvSpPr>
          <p:cNvPr id="11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gic Bag</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1800" spc="-1" strike="noStrike">
                <a:solidFill>
                  <a:srgbClr val="333399"/>
                </a:solidFill>
                <a:latin typeface="Tahoma"/>
              </a:rPr>
              <a:t>1-109</a:t>
            </a:r>
            <a:endParaRPr b="0" lang="en-US" sz="1800" spc="-1" strike="noStrike">
              <a:solidFill>
                <a:srgbClr val="333399"/>
              </a:solidFill>
              <a:latin typeface="Tahoma"/>
            </a:endParaRPr>
          </a:p>
        </p:txBody>
      </p:sp>
      <p:sp>
        <p:nvSpPr>
          <p:cNvPr id="166" name="PlaceHolder 2"/>
          <p:cNvSpPr>
            <a:spLocks noGrp="1"/>
          </p:cNvSpPr>
          <p:nvPr>
            <p:ph/>
          </p:nvPr>
        </p:nvSpPr>
        <p:spPr>
          <a:xfrm>
            <a:off x="304920" y="2017440"/>
            <a:ext cx="8650080" cy="4840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o Identify the Rule</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repeats the activity several times by always taking out 1 more stick than is put into the bag.  The class describes a rule for the magic bag’s action (add 1, 1 more, next number…).</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 (or student volunteer) repeats the activity for other rules.  The rest of the class guesses the rule.</a:t>
            </a:r>
            <a:endParaRPr b="0" lang="en-US" sz="2400" spc="-1" strike="noStrike">
              <a:solidFill>
                <a:srgbClr val="000000"/>
              </a:solidFill>
              <a:latin typeface="Tahoma"/>
            </a:endParaRPr>
          </a:p>
        </p:txBody>
      </p:sp>
      <p:sp>
        <p:nvSpPr>
          <p:cNvPr id="16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304920"/>
            <a:ext cx="77929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What’s My Attribute Rule?  </a:t>
            </a:r>
            <a:r>
              <a:rPr b="0" lang="en-US" sz="1600" spc="-1" strike="noStrike">
                <a:solidFill>
                  <a:srgbClr val="333399"/>
                </a:solidFill>
                <a:latin typeface="Tahoma"/>
              </a:rPr>
              <a:t>2-180</a:t>
            </a:r>
            <a:br>
              <a:rPr sz="1600"/>
            </a:br>
            <a:endParaRPr b="0" lang="en-US" sz="1600" spc="-1" strike="noStrike">
              <a:solidFill>
                <a:srgbClr val="333399"/>
              </a:solidFill>
              <a:latin typeface="Tahoma"/>
            </a:endParaRPr>
          </a:p>
        </p:txBody>
      </p:sp>
      <p:sp>
        <p:nvSpPr>
          <p:cNvPr id="169" name="PlaceHolder 2"/>
          <p:cNvSpPr>
            <a:spLocks noGrp="1"/>
          </p:cNvSpPr>
          <p:nvPr>
            <p:ph/>
          </p:nvPr>
        </p:nvSpPr>
        <p:spPr>
          <a:xfrm>
            <a:off x="304920" y="990360"/>
            <a:ext cx="8650080" cy="5638680"/>
          </a:xfrm>
          <a:prstGeom prst="rect">
            <a:avLst/>
          </a:prstGeom>
          <a:noFill/>
          <a:ln w="0">
            <a:noFill/>
          </a:ln>
        </p:spPr>
        <p:txBody>
          <a:bodyPr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Object:  To be the first player to identify a rule used to sort a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et of attribute blocks.</a:t>
            </a:r>
            <a:endParaRPr b="0" lang="en-US" sz="2000" spc="-1" strike="noStrike">
              <a:solidFill>
                <a:srgbClr val="000000"/>
              </a:solidFill>
              <a:latin typeface="Tahom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rections:</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label one sheet of paper:  </a:t>
            </a:r>
            <a:r>
              <a:rPr b="1" i="1" lang="en-US" sz="2000" spc="-1" strike="noStrike">
                <a:solidFill>
                  <a:srgbClr val="000000"/>
                </a:solidFill>
                <a:latin typeface="Times New Roman"/>
              </a:rPr>
              <a:t>These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label another sheet:  </a:t>
            </a:r>
            <a:r>
              <a:rPr b="1" i="1" lang="en-US" sz="2000" spc="-1" strike="noStrike">
                <a:solidFill>
                  <a:srgbClr val="000000"/>
                </a:solidFill>
                <a:latin typeface="Times New Roman"/>
              </a:rPr>
              <a:t>These do </a:t>
            </a:r>
            <a:r>
              <a:rPr b="1" lang="en-US" sz="2000" spc="-1" strike="noStrike">
                <a:solidFill>
                  <a:srgbClr val="000000"/>
                </a:solidFill>
                <a:latin typeface="Times New Roman"/>
              </a:rPr>
              <a:t>NOT</a:t>
            </a:r>
            <a:r>
              <a:rPr b="1" i="1" lang="en-US" sz="2000" spc="-1" strike="noStrike">
                <a:solidFill>
                  <a:srgbClr val="000000"/>
                </a:solidFill>
                <a:latin typeface="Times New Roman"/>
              </a:rPr>
              <a:t>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take turns.  Each player rolls the die once  The player with the lowest number is the first “Rule Maker.”</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mixes the Attribute Rule cards and then stacks them facedown.</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turns over the top card but does not show it to the other players or tell them what the rule is.</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chooses 3 or 4 attribute blocks that fit the rule on the card, then places the blocks on the sheet labeled </a:t>
            </a:r>
            <a:r>
              <a:rPr b="1" i="1" lang="en-US" sz="2000" spc="-1" strike="noStrike">
                <a:solidFill>
                  <a:srgbClr val="000000"/>
                </a:solidFill>
                <a:latin typeface="Times New Roman"/>
              </a:rPr>
              <a:t>These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d on next page)</a:t>
            </a: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0"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chooses 3 or 4 attribute blocks that do NOT fit the rule on the card, then places the blocks on the sheet labeled              </a:t>
            </a:r>
            <a:r>
              <a:rPr b="1" i="1" lang="en-US" sz="2000" spc="-1" strike="noStrike">
                <a:solidFill>
                  <a:srgbClr val="000000"/>
                </a:solidFill>
                <a:latin typeface="Times New Roman"/>
              </a:rPr>
              <a:t>These do NOT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ther players are the “Guessers.”  The Guessers take turns.  Each one chooses a block that he or she thinks might fit the rule.</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tells each Guesser </a:t>
            </a:r>
            <a:r>
              <a:rPr b="0" i="1" lang="en-US" sz="2000" spc="-1" strike="noStrike">
                <a:solidFill>
                  <a:srgbClr val="000000"/>
                </a:solidFill>
                <a:latin typeface="Times New Roman"/>
              </a:rPr>
              <a:t>Yes</a:t>
            </a:r>
            <a:r>
              <a:rPr b="0" lang="en-US" sz="2000" spc="-1" strike="noStrike">
                <a:solidFill>
                  <a:srgbClr val="000000"/>
                </a:solidFill>
                <a:latin typeface="Times New Roman"/>
              </a:rPr>
              <a:t> or </a:t>
            </a:r>
            <a:r>
              <a:rPr b="0" i="1" lang="en-US" sz="2000" spc="-1" strike="noStrike">
                <a:solidFill>
                  <a:srgbClr val="000000"/>
                </a:solidFill>
                <a:latin typeface="Times New Roman"/>
              </a:rPr>
              <a:t>No</a:t>
            </a:r>
            <a:r>
              <a:rPr b="0" lang="en-US" sz="2000" spc="-1" strike="noStrike">
                <a:solidFill>
                  <a:srgbClr val="000000"/>
                </a:solidFill>
                <a:latin typeface="Times New Roman"/>
              </a:rPr>
              <a:t>.  The Guesser puts the block on the correct sheet.  The Guesser suggests what the rule might be.  The Rule Maker tells the Guesser if his or her rule is correc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uessers continue until someone figures out the rule.  That player is the winner and becomes the Rule Maker for the next round.</a:t>
            </a:r>
            <a:endParaRPr b="0" lang="en-US" sz="2000" spc="-1" strike="noStrike">
              <a:solidFill>
                <a:srgbClr val="000000"/>
              </a:solidFill>
              <a:latin typeface="Tahoma"/>
            </a:endParaRPr>
          </a:p>
        </p:txBody>
      </p:sp>
      <p:sp>
        <p:nvSpPr>
          <p:cNvPr id="17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gebra for </a:t>
            </a:r>
            <a:r>
              <a:rPr b="0" lang="en-US" sz="4400" spc="-1" strike="noStrike" u="sng">
                <a:solidFill>
                  <a:srgbClr val="333399"/>
                </a:solidFill>
                <a:uFillTx/>
                <a:latin typeface="Tahoma"/>
              </a:rPr>
              <a:t>ALL</a:t>
            </a:r>
            <a:r>
              <a:rPr b="0" lang="en-US" sz="4400" spc="-1" strike="noStrike">
                <a:solidFill>
                  <a:srgbClr val="333399"/>
                </a:solidFill>
                <a:latin typeface="Tahoma"/>
              </a:rPr>
              <a:t> Must Begin </a:t>
            </a:r>
            <a:br>
              <a:rPr sz="4400"/>
            </a:br>
            <a:r>
              <a:rPr b="0" lang="en-US" sz="4400" spc="-1" strike="noStrike">
                <a:solidFill>
                  <a:srgbClr val="333399"/>
                </a:solidFill>
                <a:latin typeface="Tahoma"/>
              </a:rPr>
              <a:t>in Kindergarten…for ALL</a:t>
            </a:r>
            <a:endParaRPr b="0" lang="en-US" sz="4400" spc="-1" strike="noStrike">
              <a:solidFill>
                <a:srgbClr val="333399"/>
              </a:solidFill>
              <a:latin typeface="Tahoma"/>
            </a:endParaRPr>
          </a:p>
        </p:txBody>
      </p:sp>
      <p:sp>
        <p:nvSpPr>
          <p:cNvPr id="115" name="PlaceHolder 2"/>
          <p:cNvSpPr>
            <a:spLocks noGrp="1"/>
          </p:cNvSpPr>
          <p:nvPr>
            <p:ph/>
          </p:nvPr>
        </p:nvSpPr>
        <p:spPr>
          <a:xfrm>
            <a:off x="228600" y="2286000"/>
            <a:ext cx="8686800" cy="4114800"/>
          </a:xfrm>
          <a:prstGeom prst="rect">
            <a:avLst/>
          </a:prstGeom>
          <a:noFill/>
          <a:ln w="0">
            <a:noFill/>
          </a:ln>
        </p:spPr>
        <p:txBody>
          <a:bodyPr anchor="t">
            <a:normAutofit/>
          </a:bodyPr>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sort, and classify objects by size, number, and other attributes.</a:t>
            </a:r>
            <a:endParaRPr b="0" lang="en-US" sz="3600" spc="-1" strike="noStrike">
              <a:solidFill>
                <a:srgbClr val="000000"/>
              </a:solidFill>
              <a:latin typeface="Tahoma"/>
            </a:endParaRPr>
          </a:p>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objects that do not belong to a particular group.</a:t>
            </a:r>
            <a:endParaRPr b="0" lang="en-US" sz="36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copy, and make simple patterns with numbers and shapes</a:t>
            </a:r>
            <a:r>
              <a:rPr b="0" lang="en-US" sz="3200" spc="-1" strike="noStrike">
                <a:solidFill>
                  <a:srgbClr val="000000"/>
                </a:solidFill>
                <a:latin typeface="Times New Roman"/>
              </a:rPr>
              <a:t>.</a:t>
            </a:r>
            <a:endParaRPr b="0" lang="en-US" sz="3200" spc="-1" strike="noStrike">
              <a:solidFill>
                <a:srgbClr val="000000"/>
              </a:solidFill>
              <a:latin typeface="Tahoma"/>
            </a:endParaRPr>
          </a:p>
        </p:txBody>
      </p:sp>
      <p:sp>
        <p:nvSpPr>
          <p:cNvPr id="116"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d continue every year…</a:t>
            </a:r>
            <a:endParaRPr b="0" lang="en-US" sz="4400" spc="-1" strike="noStrike">
              <a:solidFill>
                <a:srgbClr val="333399"/>
              </a:solidFill>
              <a:latin typeface="Tahoma"/>
            </a:endParaRPr>
          </a:p>
        </p:txBody>
      </p:sp>
      <p:sp>
        <p:nvSpPr>
          <p:cNvPr id="118" name="PlaceHolder 2"/>
          <p:cNvSpPr>
            <a:spLocks noGrp="1"/>
          </p:cNvSpPr>
          <p:nvPr>
            <p:ph/>
          </p:nvPr>
        </p:nvSpPr>
        <p:spPr>
          <a:xfrm>
            <a:off x="228600" y="2057040"/>
            <a:ext cx="8763120" cy="48006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Indiana Academic Standards-Mathematics</a:t>
            </a:r>
            <a:r>
              <a:rPr b="0" lang="en-US" sz="3200" spc="-1" strike="noStrike">
                <a:solidFill>
                  <a:srgbClr val="000000"/>
                </a:solidFill>
                <a:latin typeface="Times New Roman"/>
              </a:rPr>
              <a:t> specify year-by-year content standards and indicators for:</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mber Sense</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tation</a:t>
            </a:r>
            <a:endParaRPr b="0" lang="en-US" sz="2800" spc="-1" strike="noStrike">
              <a:solidFill>
                <a:srgbClr val="000000"/>
              </a:solidFill>
              <a:latin typeface="Tahoma"/>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Algebra and Function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ometry</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suremen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Analysis and Probability</a:t>
            </a:r>
            <a:endParaRPr b="0" lang="en-US" sz="2800" spc="-1" strike="noStrike">
              <a:solidFill>
                <a:srgbClr val="000000"/>
              </a:solidFill>
              <a:latin typeface="Tahoma"/>
            </a:endParaRPr>
          </a:p>
        </p:txBody>
      </p:sp>
      <p:sp>
        <p:nvSpPr>
          <p:cNvPr id="119"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1</a:t>
            </a:r>
            <a:endParaRPr b="0" lang="en-US" sz="4400" spc="-1" strike="noStrike">
              <a:solidFill>
                <a:srgbClr val="333399"/>
              </a:solidFill>
              <a:latin typeface="Tahoma"/>
            </a:endParaRPr>
          </a:p>
        </p:txBody>
      </p:sp>
      <p:sp>
        <p:nvSpPr>
          <p:cNvPr id="121" name="PlaceHolder 2"/>
          <p:cNvSpPr>
            <a:spLocks noGrp="1"/>
          </p:cNvSpPr>
          <p:nvPr>
            <p:ph/>
          </p:nvPr>
        </p:nvSpPr>
        <p:spPr>
          <a:xfrm>
            <a:off x="380880" y="1981080"/>
            <a:ext cx="7772400" cy="4114800"/>
          </a:xfrm>
          <a:prstGeom prst="rect">
            <a:avLst/>
          </a:prstGeom>
          <a:noFill/>
          <a:ln w="0">
            <a:noFill/>
          </a:ln>
        </p:spPr>
        <p:txBody>
          <a:bodyPr anchor="t">
            <a:normAutofit fontScale="95000"/>
          </a:bodyPr>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rite and solve number sentences from problem situations involving addition and subtraction</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word problems that match given number sentences involving addition and subtraction.</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and use the relationship between addition and subtraction.</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d extend number patterns using addition.</a:t>
            </a:r>
            <a:endParaRPr b="0" lang="en-US" sz="3200" spc="-1" strike="noStrike">
              <a:solidFill>
                <a:srgbClr val="000000"/>
              </a:solidFill>
              <a:latin typeface="Tahoma"/>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2</a:t>
            </a:r>
            <a:endParaRPr b="0" lang="en-US" sz="4400" spc="-1" strike="noStrike">
              <a:solidFill>
                <a:srgbClr val="333399"/>
              </a:solidFill>
              <a:latin typeface="Tahoma"/>
            </a:endParaRPr>
          </a:p>
        </p:txBody>
      </p:sp>
      <p:sp>
        <p:nvSpPr>
          <p:cNvPr id="124" name="PlaceHolder 2"/>
          <p:cNvSpPr>
            <a:spLocks noGrp="1"/>
          </p:cNvSpPr>
          <p:nvPr>
            <p:ph/>
          </p:nvPr>
        </p:nvSpPr>
        <p:spPr>
          <a:xfrm>
            <a:off x="304920" y="2017800"/>
            <a:ext cx="8650080" cy="4114800"/>
          </a:xfrm>
          <a:prstGeom prst="rect">
            <a:avLst/>
          </a:prstGeom>
          <a:noFill/>
          <a:ln w="0">
            <a:noFill/>
          </a:ln>
        </p:spPr>
        <p:txBody>
          <a:bodyPr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ate problem situations to number sentences involving addition and subtraction</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commutative and associative rules for addition to simplify mental calculations and to check results.</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and extend a linear pattern by its rules</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describe, and extend number patterns using addition and subtraction.</a:t>
            </a:r>
            <a:endParaRPr b="0" lang="en-US" sz="3200" spc="-1" strike="noStrike">
              <a:solidFill>
                <a:srgbClr val="000000"/>
              </a:solidFill>
              <a:latin typeface="Tahoma"/>
            </a:endParaRPr>
          </a:p>
        </p:txBody>
      </p:sp>
      <p:sp>
        <p:nvSpPr>
          <p:cNvPr id="125"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3</a:t>
            </a:r>
            <a:endParaRPr b="0" lang="en-US" sz="4400" spc="-1" strike="noStrike">
              <a:solidFill>
                <a:srgbClr val="333399"/>
              </a:solidFill>
              <a:latin typeface="Tahoma"/>
            </a:endParaRPr>
          </a:p>
        </p:txBody>
      </p:sp>
      <p:sp>
        <p:nvSpPr>
          <p:cNvPr id="127" name="PlaceHolder 2"/>
          <p:cNvSpPr>
            <a:spLocks noGrp="1"/>
          </p:cNvSpPr>
          <p:nvPr>
            <p:ph/>
          </p:nvPr>
        </p:nvSpPr>
        <p:spPr>
          <a:xfrm>
            <a:off x="228600" y="2017800"/>
            <a:ext cx="8726400" cy="4611600"/>
          </a:xfrm>
          <a:prstGeom prst="rect">
            <a:avLst/>
          </a:prstGeom>
          <a:noFill/>
          <a:ln w="0">
            <a:noFill/>
          </a:ln>
        </p:spPr>
        <p:txBody>
          <a:bodyPr anchor="t">
            <a:normAutofit fontScale="95000"/>
          </a:bodyPr>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epresent relationships of quantities in the form of a numeric expression or equ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lve problems involving numeric equations.</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hoose appropriate symbols for operations and relations to make a number sentence true.</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derstand and use the commutative and associative rules of multiplic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reate, describe, and extend number patterns using multiplic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lve simple problems involving a functional relationship between two quantities.</a:t>
            </a:r>
            <a:endParaRPr b="0" lang="en-US" sz="26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ot and label whole numbers on a number line up to 10.</a:t>
            </a:r>
            <a:endParaRPr b="0" lang="en-US" sz="2400" spc="-1" strike="noStrike">
              <a:solidFill>
                <a:srgbClr val="000000"/>
              </a:solidFill>
              <a:latin typeface="Tahoma"/>
            </a:endParaRPr>
          </a:p>
        </p:txBody>
      </p:sp>
      <p:sp>
        <p:nvSpPr>
          <p:cNvPr id="128"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2282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4</a:t>
            </a:r>
            <a:endParaRPr b="0" lang="en-US" sz="4400" spc="-1" strike="noStrike">
              <a:solidFill>
                <a:srgbClr val="333399"/>
              </a:solidFill>
              <a:latin typeface="Tahoma"/>
            </a:endParaRPr>
          </a:p>
        </p:txBody>
      </p:sp>
      <p:sp>
        <p:nvSpPr>
          <p:cNvPr id="130" name="PlaceHolder 2"/>
          <p:cNvSpPr>
            <a:spLocks noGrp="1"/>
          </p:cNvSpPr>
          <p:nvPr>
            <p:ph/>
          </p:nvPr>
        </p:nvSpPr>
        <p:spPr>
          <a:xfrm>
            <a:off x="228600" y="1980720"/>
            <a:ext cx="8726400" cy="453564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letters, boxes, or other symbols to represent any number in simple expressions, equations, or inequalities (i.e., demonstrate an understanding of and the use of the concept of a variable).</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nd interpret formulas to answer questions about quantities and their relationships.</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derstand that multiplication and division are performed before addition and subtraction in expressions without parentheses.</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at an equation such as </a:t>
            </a:r>
            <a:r>
              <a:rPr b="0" i="1" lang="en-US" sz="2000" spc="-1" strike="noStrike">
                <a:solidFill>
                  <a:srgbClr val="000000"/>
                </a:solidFill>
                <a:latin typeface="Times New Roman"/>
              </a:rPr>
              <a:t>y</a:t>
            </a:r>
            <a:r>
              <a:rPr b="0" lang="en-US" sz="2000" spc="-1" strike="noStrike">
                <a:solidFill>
                  <a:srgbClr val="000000"/>
                </a:solidFill>
                <a:latin typeface="Times New Roman"/>
              </a:rPr>
              <a:t> = 3</a:t>
            </a:r>
            <a:r>
              <a:rPr b="0" i="1" lang="en-US" sz="2000" spc="-1" strike="noStrike">
                <a:solidFill>
                  <a:srgbClr val="000000"/>
                </a:solidFill>
                <a:latin typeface="Times New Roman"/>
              </a:rPr>
              <a:t>x</a:t>
            </a:r>
            <a:r>
              <a:rPr b="0" lang="en-US" sz="2000" spc="-1" strike="noStrike">
                <a:solidFill>
                  <a:srgbClr val="000000"/>
                </a:solidFill>
                <a:latin typeface="Times New Roman"/>
              </a:rPr>
              <a:t> + 5 is a rule for finding a second number when a first number is given.</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inue number patterns using multiplication and division.</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and apply the relationships between addition and multiplication, between subtraction and division, and the inverse relationship between multiplication and division to solve problems.</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ate problem situations to number sentences involving multiplication and division.</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ot and label whole numbers on a number line up to 100.  Estimate positions on the number line.</a:t>
            </a:r>
            <a:endParaRPr b="0" lang="en-US" sz="2000" spc="-1" strike="noStrike">
              <a:solidFill>
                <a:srgbClr val="000000"/>
              </a:solidFill>
              <a:latin typeface="Tahoma"/>
            </a:endParaRPr>
          </a:p>
        </p:txBody>
      </p:sp>
      <p:sp>
        <p:nvSpPr>
          <p:cNvPr id="131"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5</a:t>
            </a:r>
            <a:endParaRPr b="0" lang="en-US" sz="4400" spc="-1" strike="noStrike">
              <a:solidFill>
                <a:srgbClr val="333399"/>
              </a:solidFill>
              <a:latin typeface="Tahoma"/>
            </a:endParaRPr>
          </a:p>
        </p:txBody>
      </p:sp>
      <p:sp>
        <p:nvSpPr>
          <p:cNvPr id="133" name="PlaceHolder 2"/>
          <p:cNvSpPr>
            <a:spLocks noGrp="1"/>
          </p:cNvSpPr>
          <p:nvPr>
            <p:ph/>
          </p:nvPr>
        </p:nvSpPr>
        <p:spPr>
          <a:xfrm>
            <a:off x="304920" y="1981080"/>
            <a:ext cx="8650080" cy="4648320"/>
          </a:xfrm>
          <a:prstGeom prst="rect">
            <a:avLst/>
          </a:prstGeom>
          <a:noFill/>
          <a:ln w="0">
            <a:noFill/>
          </a:ln>
        </p:spPr>
        <p:txBody>
          <a:bodyPr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a variable to represent an unknown number.</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rite simple algebraic expressions in one or two variables and evaluate them by substitution.</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the distributive property in numerical expressions and equation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dentify and graph ordered pairs of positive number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ind ordered pairs (positive numbers only) that fit a linear equation, graph the ordered pairs, and draw the line they determine.</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derstand that the length of a horizontal line segment on a coordinate plane equals the difference between the </a:t>
            </a:r>
            <a:r>
              <a:rPr b="0" i="1" lang="en-US" sz="2200" spc="-1" strike="noStrike">
                <a:solidFill>
                  <a:srgbClr val="000000"/>
                </a:solidFill>
                <a:latin typeface="Times New Roman"/>
              </a:rPr>
              <a:t>x</a:t>
            </a:r>
            <a:r>
              <a:rPr b="0" lang="en-US" sz="2200" spc="-1" strike="noStrike">
                <a:solidFill>
                  <a:srgbClr val="000000"/>
                </a:solidFill>
                <a:latin typeface="Times New Roman"/>
              </a:rPr>
              <a:t>-coordinates and that the length of a vertical line segment on a coordinate plane equals the difference between the </a:t>
            </a:r>
            <a:r>
              <a:rPr b="0" i="1" lang="en-US" sz="2200" spc="-1" strike="noStrike">
                <a:solidFill>
                  <a:srgbClr val="000000"/>
                </a:solidFill>
                <a:latin typeface="Times New Roman"/>
              </a:rPr>
              <a:t>y</a:t>
            </a:r>
            <a:r>
              <a:rPr b="0" lang="en-US" sz="2200" spc="-1" strike="noStrike">
                <a:solidFill>
                  <a:srgbClr val="000000"/>
                </a:solidFill>
                <a:latin typeface="Times New Roman"/>
              </a:rPr>
              <a:t>-coordinate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information taken from a graph or equation to answer questions about a problem situation.</a:t>
            </a:r>
            <a:endParaRPr b="0" lang="en-US" sz="2200" spc="-1" strike="noStrike">
              <a:solidFill>
                <a:srgbClr val="000000"/>
              </a:solidFill>
              <a:latin typeface="Tahoma"/>
            </a:endParaRPr>
          </a:p>
        </p:txBody>
      </p:sp>
      <p:sp>
        <p:nvSpPr>
          <p:cNvPr id="134"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1T20:33:18Z</dcterms:created>
  <dc:creator>Donna McLeish</dc:creator>
  <dc:description/>
  <dc:language>en-US</dc:language>
  <cp:lastModifiedBy>LEGION</cp:lastModifiedBy>
  <dcterms:modified xsi:type="dcterms:W3CDTF">2017-07-06T06:30:33Z</dcterms:modified>
  <cp:revision>17</cp:revision>
  <dc:subject/>
  <dc:title>Algebra for ALL</dc:title>
</cp:coreProperties>
</file>