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0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B7E5-F678-42F7-AF2B-5168E3537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Signs are the same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given 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Signs are the different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the sign of the larger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: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these…  Find each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tiles can be used to add or subtract integers.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ntegers a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lgebra tiles to repres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 have a value of _____.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  Use algebra tiles to repres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 cross out any neutral p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 p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5AC-CFEE-459B-BA30-7F4A2A73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6B9-4B7C-4A97-B830-FDFAEA2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7C76-F529-46A9-96CA-0E4653A94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58F-D17F-47FC-B95F-16AF8D51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989A-547A-4F8C-9F8B-BD70D188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5982-3DF1-4425-BD4D-B50E7D31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C8F-B072-4A60-9110-F7101901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B1B6-F89B-460A-A598-0E7BCD0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8D5-C0AE-416C-97DD-9F30A039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34E5-B84B-46A6-9615-4DF3677A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1B0-80A7-497A-92C4-086637C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97C-8527-431D-9BEA-D4EF66C3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76A6-8438-457E-BEAC-4100145F9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1.wm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9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ING REAL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383760" y="304200"/>
            <a:ext cx="4962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F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5334120" y="304920"/>
          <a:ext cx="81108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04920"/>
                    <a:ext cx="81108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7"/>
          <p:cNvGraphicFramePr/>
          <p:nvPr/>
        </p:nvGraphicFramePr>
        <p:xfrm>
          <a:off x="1143000" y="1523880"/>
          <a:ext cx="3825720" cy="29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523880"/>
                    <a:ext cx="382572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AutoShape 8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518148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10"/>
          <p:cNvGraphicFramePr/>
          <p:nvPr/>
        </p:nvGraphicFramePr>
        <p:xfrm>
          <a:off x="6124680" y="2514600"/>
          <a:ext cx="85716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4680" y="2514600"/>
                    <a:ext cx="8571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538200" y="304200"/>
            <a:ext cx="7483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les For Adding Two Signed Number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838440" y="1143000"/>
            <a:ext cx="372672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027440" y="175320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362320" y="18288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Add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213372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give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626400" y="3581280"/>
            <a:ext cx="41824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gns are the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1040040" y="4191480"/>
            <a:ext cx="6321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1905120" y="426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Subtract th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752480" y="48006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Take the sign of the larger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8"/>
          <p:cNvGraphicFramePr/>
          <p:nvPr/>
        </p:nvGraphicFramePr>
        <p:xfrm>
          <a:off x="685800" y="1371600"/>
          <a:ext cx="1295280" cy="53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12952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3276720" y="1295280"/>
          <a:ext cx="1600200" cy="62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295280"/>
                    <a:ext cx="160020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6"/>
          <p:cNvGraphicFramePr/>
          <p:nvPr/>
        </p:nvGraphicFramePr>
        <p:xfrm>
          <a:off x="6248520" y="1295280"/>
          <a:ext cx="1258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1295280"/>
                    <a:ext cx="1258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9"/>
          <p:cNvSpPr/>
          <p:nvPr/>
        </p:nvSpPr>
        <p:spPr>
          <a:xfrm>
            <a:off x="230400" y="13708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2819520" y="7610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5715000" y="7614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088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the sam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048120" y="182880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5867280" y="1752480"/>
            <a:ext cx="2057400" cy="1371600"/>
          </a:xfrm>
          <a:prstGeom prst="flowChartPunchedTape">
            <a:avLst/>
          </a:prstGeom>
          <a:noFill/>
          <a:ln w="63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Signs a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Arial Black"/>
              </a:rPr>
              <a:t>differ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5"/>
          <p:cNvGraphicFramePr/>
          <p:nvPr/>
        </p:nvGraphicFramePr>
        <p:xfrm>
          <a:off x="762120" y="2209680"/>
          <a:ext cx="1066680" cy="66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209680"/>
                    <a:ext cx="10666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6"/>
          <p:cNvGraphicFramePr/>
          <p:nvPr/>
        </p:nvGraphicFramePr>
        <p:xfrm>
          <a:off x="3657600" y="2133720"/>
          <a:ext cx="776160" cy="66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133720"/>
                    <a:ext cx="77616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17"/>
          <p:cNvGraphicFramePr/>
          <p:nvPr/>
        </p:nvGraphicFramePr>
        <p:xfrm>
          <a:off x="6726240" y="2033640"/>
          <a:ext cx="436680" cy="668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26240" y="2033640"/>
                    <a:ext cx="4366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18"/>
          <p:cNvSpPr/>
          <p:nvPr/>
        </p:nvSpPr>
        <p:spPr>
          <a:xfrm>
            <a:off x="384480" y="3832920"/>
            <a:ext cx="434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ry these…    Find each su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28"/>
          <p:cNvGraphicFramePr/>
          <p:nvPr/>
        </p:nvGraphicFramePr>
        <p:xfrm>
          <a:off x="1001880" y="4572000"/>
          <a:ext cx="1427040" cy="538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Object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01880" y="4572000"/>
                    <a:ext cx="14270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29"/>
          <p:cNvGraphicFramePr/>
          <p:nvPr/>
        </p:nvGraphicFramePr>
        <p:xfrm>
          <a:off x="3657600" y="4495680"/>
          <a:ext cx="1631880" cy="625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7" name="Object 2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57600" y="4495680"/>
                    <a:ext cx="1631880" cy="6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30"/>
          <p:cNvGraphicFramePr/>
          <p:nvPr/>
        </p:nvGraphicFramePr>
        <p:xfrm>
          <a:off x="6532560" y="4495680"/>
          <a:ext cx="1452600" cy="507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9" name="Object 3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32560" y="4495680"/>
                    <a:ext cx="145260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31"/>
          <p:cNvSpPr/>
          <p:nvPr/>
        </p:nvSpPr>
        <p:spPr>
          <a:xfrm>
            <a:off x="611280" y="457128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2"/>
          <p:cNvSpPr/>
          <p:nvPr/>
        </p:nvSpPr>
        <p:spPr>
          <a:xfrm>
            <a:off x="3124080" y="403740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3"/>
          <p:cNvSpPr/>
          <p:nvPr/>
        </p:nvSpPr>
        <p:spPr>
          <a:xfrm>
            <a:off x="6019920" y="396180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Object 34"/>
          <p:cNvGraphicFramePr/>
          <p:nvPr/>
        </p:nvGraphicFramePr>
        <p:xfrm>
          <a:off x="1295280" y="5257800"/>
          <a:ext cx="914400" cy="5731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44" name="Object 3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952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35"/>
          <p:cNvGraphicFramePr/>
          <p:nvPr/>
        </p:nvGraphicFramePr>
        <p:xfrm>
          <a:off x="4038480" y="5257800"/>
          <a:ext cx="914400" cy="5731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46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038480" y="5257800"/>
                    <a:ext cx="9144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Object 36"/>
          <p:cNvGraphicFramePr/>
          <p:nvPr/>
        </p:nvGraphicFramePr>
        <p:xfrm>
          <a:off x="7126200" y="5257800"/>
          <a:ext cx="374760" cy="5731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48" name="Object 36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126200" y="5257800"/>
                    <a:ext cx="3747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2057400" y="304560"/>
            <a:ext cx="43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5"/>
          <p:cNvGraphicFramePr/>
          <p:nvPr/>
        </p:nvGraphicFramePr>
        <p:xfrm>
          <a:off x="1523880" y="1600200"/>
          <a:ext cx="132084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132084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6"/>
          <p:cNvGraphicFramePr/>
          <p:nvPr/>
        </p:nvGraphicFramePr>
        <p:xfrm>
          <a:off x="5791320" y="1201680"/>
          <a:ext cx="16002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201680"/>
                    <a:ext cx="16002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1371600" y="4243320"/>
          <a:ext cx="1981080" cy="5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1600" y="4243320"/>
                    <a:ext cx="198108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11"/>
          <p:cNvGraphicFramePr/>
          <p:nvPr/>
        </p:nvGraphicFramePr>
        <p:xfrm>
          <a:off x="6019920" y="4114800"/>
          <a:ext cx="1384200" cy="871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114800"/>
                    <a:ext cx="138420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Rectangle 14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Object 18"/>
          <p:cNvGraphicFramePr/>
          <p:nvPr/>
        </p:nvGraphicFramePr>
        <p:xfrm>
          <a:off x="990720" y="2362320"/>
          <a:ext cx="2114280" cy="430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362320"/>
                    <a:ext cx="211428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AutoShape 21"/>
          <p:cNvSpPr/>
          <p:nvPr/>
        </p:nvSpPr>
        <p:spPr>
          <a:xfrm>
            <a:off x="1523880" y="2971800"/>
            <a:ext cx="1295640" cy="6094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1.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22"/>
          <p:cNvGraphicFramePr/>
          <p:nvPr/>
        </p:nvGraphicFramePr>
        <p:xfrm>
          <a:off x="5486400" y="2209680"/>
          <a:ext cx="1930320" cy="833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2209680"/>
                    <a:ext cx="193032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23"/>
          <p:cNvSpPr/>
          <p:nvPr/>
        </p:nvSpPr>
        <p:spPr>
          <a:xfrm>
            <a:off x="6019920" y="3124080"/>
            <a:ext cx="129528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4"/>
          <p:cNvGraphicFramePr/>
          <p:nvPr/>
        </p:nvGraphicFramePr>
        <p:xfrm>
          <a:off x="6248520" y="3200400"/>
          <a:ext cx="711000" cy="88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2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3200400"/>
                    <a:ext cx="71100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5"/>
          <p:cNvGraphicFramePr/>
          <p:nvPr/>
        </p:nvGraphicFramePr>
        <p:xfrm>
          <a:off x="1143000" y="4952880"/>
          <a:ext cx="2300400" cy="430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2" name="Object 2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43000" y="4952880"/>
                    <a:ext cx="230040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AutoShape 26"/>
          <p:cNvSpPr/>
          <p:nvPr/>
        </p:nvSpPr>
        <p:spPr>
          <a:xfrm>
            <a:off x="1523880" y="5486400"/>
            <a:ext cx="1600200" cy="83808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ff"/>
                </a:solidFill>
                <a:latin typeface="Arial Black"/>
              </a:rPr>
              <a:t>-12.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27"/>
          <p:cNvGraphicFramePr/>
          <p:nvPr/>
        </p:nvGraphicFramePr>
        <p:xfrm>
          <a:off x="5867280" y="4876920"/>
          <a:ext cx="1692360" cy="833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5" name="Object 2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867280" y="4876920"/>
                    <a:ext cx="169236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8"/>
          <p:cNvSpPr/>
          <p:nvPr/>
        </p:nvSpPr>
        <p:spPr>
          <a:xfrm>
            <a:off x="6095880" y="5638680"/>
            <a:ext cx="1295640" cy="990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29"/>
          <p:cNvGraphicFramePr/>
          <p:nvPr/>
        </p:nvGraphicFramePr>
        <p:xfrm>
          <a:off x="6553080" y="5638680"/>
          <a:ext cx="341280" cy="8827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78" name="Object 29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5638680"/>
                    <a:ext cx="34128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4"/>
          <p:cNvSpPr/>
          <p:nvPr/>
        </p:nvSpPr>
        <p:spPr>
          <a:xfrm>
            <a:off x="2056320" y="304560"/>
            <a:ext cx="4431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y these…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Find each su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5"/>
          <p:cNvGraphicFramePr/>
          <p:nvPr/>
        </p:nvGraphicFramePr>
        <p:xfrm>
          <a:off x="1628640" y="1600200"/>
          <a:ext cx="110988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8640" y="1600200"/>
                    <a:ext cx="110988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6"/>
          <p:cNvGraphicFramePr/>
          <p:nvPr/>
        </p:nvGraphicFramePr>
        <p:xfrm>
          <a:off x="5918040" y="1201680"/>
          <a:ext cx="134640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18040" y="1201680"/>
                    <a:ext cx="1346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7"/>
          <p:cNvGraphicFramePr/>
          <p:nvPr/>
        </p:nvGraphicFramePr>
        <p:xfrm>
          <a:off x="1386000" y="4243320"/>
          <a:ext cx="1814400" cy="54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86000" y="4243320"/>
                    <a:ext cx="1814400" cy="5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Rectangle 8"/>
          <p:cNvSpPr/>
          <p:nvPr/>
        </p:nvSpPr>
        <p:spPr>
          <a:xfrm>
            <a:off x="763920" y="1523160"/>
            <a:ext cx="56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5257800" y="989640"/>
            <a:ext cx="565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0"/>
          <p:cNvSpPr/>
          <p:nvPr/>
        </p:nvSpPr>
        <p:spPr>
          <a:xfrm>
            <a:off x="685800" y="3809160"/>
            <a:ext cx="6746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11"/>
          <p:cNvGraphicFramePr/>
          <p:nvPr/>
        </p:nvGraphicFramePr>
        <p:xfrm>
          <a:off x="5840280" y="4073400"/>
          <a:ext cx="1744920" cy="95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1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40280" y="4073400"/>
                    <a:ext cx="1744920" cy="9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Rectangle 12"/>
          <p:cNvSpPr/>
          <p:nvPr/>
        </p:nvSpPr>
        <p:spPr>
          <a:xfrm>
            <a:off x="5183640" y="4266360"/>
            <a:ext cx="583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17"/>
          <p:cNvGraphicFramePr/>
          <p:nvPr/>
        </p:nvGraphicFramePr>
        <p:xfrm>
          <a:off x="6095880" y="2133720"/>
          <a:ext cx="887400" cy="144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4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5880" y="2133720"/>
                    <a:ext cx="88740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22"/>
          <p:cNvGraphicFramePr/>
          <p:nvPr/>
        </p:nvGraphicFramePr>
        <p:xfrm>
          <a:off x="6172200" y="5257800"/>
          <a:ext cx="1179360" cy="1219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72200" y="5257800"/>
                    <a:ext cx="117936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23"/>
          <p:cNvGraphicFramePr/>
          <p:nvPr/>
        </p:nvGraphicFramePr>
        <p:xfrm>
          <a:off x="1295280" y="2209680"/>
          <a:ext cx="1371600" cy="768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295280" y="2209680"/>
                    <a:ext cx="1371600" cy="7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24"/>
          <p:cNvGraphicFramePr/>
          <p:nvPr/>
        </p:nvGraphicFramePr>
        <p:xfrm>
          <a:off x="1689120" y="5197320"/>
          <a:ext cx="1166760" cy="6541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89120" y="5197320"/>
                    <a:ext cx="1166760" cy="6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62120" y="532800"/>
            <a:ext cx="7869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gebra tiles can be used to add or subtract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5"/>
          <p:cNvGraphicFramePr/>
          <p:nvPr/>
        </p:nvGraphicFramePr>
        <p:xfrm>
          <a:off x="3962520" y="1447920"/>
          <a:ext cx="44193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447920"/>
                    <a:ext cx="44193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Object 6"/>
          <p:cNvGraphicFramePr/>
          <p:nvPr/>
        </p:nvGraphicFramePr>
        <p:xfrm>
          <a:off x="3733920" y="1447920"/>
          <a:ext cx="480060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47920"/>
                    <a:ext cx="4800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7"/>
          <p:cNvSpPr/>
          <p:nvPr/>
        </p:nvSpPr>
        <p:spPr>
          <a:xfrm>
            <a:off x="155520" y="1447200"/>
            <a:ext cx="3661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Remember 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644920" y="3656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"/>
          <p:cNvGraphicFramePr/>
          <p:nvPr/>
        </p:nvGraphicFramePr>
        <p:xfrm>
          <a:off x="1219320" y="2895480"/>
          <a:ext cx="1242720" cy="1676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895480"/>
                    <a:ext cx="124272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9"/>
          <p:cNvGraphicFramePr/>
          <p:nvPr/>
        </p:nvGraphicFramePr>
        <p:xfrm>
          <a:off x="3922560" y="2895480"/>
          <a:ext cx="3659400" cy="1725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2560" y="2895480"/>
                    <a:ext cx="36594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11"/>
          <p:cNvSpPr/>
          <p:nvPr/>
        </p:nvSpPr>
        <p:spPr>
          <a:xfrm>
            <a:off x="0" y="23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3"/>
          <p:cNvSpPr/>
          <p:nvPr/>
        </p:nvSpPr>
        <p:spPr>
          <a:xfrm>
            <a:off x="720" y="42462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14"/>
          <p:cNvGraphicFramePr/>
          <p:nvPr/>
        </p:nvGraphicFramePr>
        <p:xfrm>
          <a:off x="7543800" y="2819520"/>
          <a:ext cx="838080" cy="680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43800" y="2819520"/>
                    <a:ext cx="83808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15"/>
          <p:cNvGraphicFramePr/>
          <p:nvPr/>
        </p:nvGraphicFramePr>
        <p:xfrm>
          <a:off x="6705720" y="3936960"/>
          <a:ext cx="838080" cy="733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705720" y="3936960"/>
                    <a:ext cx="8380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610920" y="327960"/>
            <a:ext cx="192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6"/>
          <p:cNvGraphicFramePr/>
          <p:nvPr/>
        </p:nvGraphicFramePr>
        <p:xfrm>
          <a:off x="4267080" y="1295280"/>
          <a:ext cx="83844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295280"/>
                    <a:ext cx="838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5"/>
          <p:cNvGraphicFramePr/>
          <p:nvPr/>
        </p:nvGraphicFramePr>
        <p:xfrm>
          <a:off x="228600" y="2057400"/>
          <a:ext cx="4495680" cy="606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057400"/>
                    <a:ext cx="449568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7"/>
          <p:cNvSpPr/>
          <p:nvPr/>
        </p:nvSpPr>
        <p:spPr>
          <a:xfrm>
            <a:off x="605160" y="1370520"/>
            <a:ext cx="35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4229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10"/>
          <p:cNvGraphicFramePr/>
          <p:nvPr/>
        </p:nvGraphicFramePr>
        <p:xfrm>
          <a:off x="5181480" y="1828800"/>
          <a:ext cx="2076480" cy="114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1480" y="1828800"/>
                    <a:ext cx="2076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Rectangle 11"/>
          <p:cNvSpPr/>
          <p:nvPr/>
        </p:nvSpPr>
        <p:spPr>
          <a:xfrm>
            <a:off x="6937560" y="2133000"/>
            <a:ext cx="87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12"/>
          <p:cNvGraphicFramePr/>
          <p:nvPr/>
        </p:nvGraphicFramePr>
        <p:xfrm>
          <a:off x="8001000" y="1905120"/>
          <a:ext cx="53496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0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01000" y="1905120"/>
                    <a:ext cx="5349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14"/>
          <p:cNvGraphicFramePr/>
          <p:nvPr/>
        </p:nvGraphicFramePr>
        <p:xfrm>
          <a:off x="4495680" y="3886200"/>
          <a:ext cx="1524240" cy="558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5680" y="3886200"/>
                    <a:ext cx="15242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13"/>
          <p:cNvGraphicFramePr/>
          <p:nvPr/>
        </p:nvGraphicFramePr>
        <p:xfrm>
          <a:off x="228600" y="4648320"/>
          <a:ext cx="4608360" cy="68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8600" y="4648320"/>
                    <a:ext cx="460836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Rectangle 15"/>
          <p:cNvSpPr/>
          <p:nvPr/>
        </p:nvSpPr>
        <p:spPr>
          <a:xfrm>
            <a:off x="528840" y="3961440"/>
            <a:ext cx="35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 algebra tiles to repres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7"/>
          <p:cNvSpPr/>
          <p:nvPr/>
        </p:nvSpPr>
        <p:spPr>
          <a:xfrm>
            <a:off x="449568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18"/>
          <p:cNvGraphicFramePr/>
          <p:nvPr/>
        </p:nvGraphicFramePr>
        <p:xfrm>
          <a:off x="5181480" y="4495680"/>
          <a:ext cx="1905120" cy="106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8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81480" y="4495680"/>
                    <a:ext cx="190512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Rectangle 19"/>
          <p:cNvSpPr/>
          <p:nvPr/>
        </p:nvSpPr>
        <p:spPr>
          <a:xfrm>
            <a:off x="6705720" y="4799880"/>
            <a:ext cx="1371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0"/>
          <p:cNvGraphicFramePr/>
          <p:nvPr/>
        </p:nvGraphicFramePr>
        <p:xfrm>
          <a:off x="7543800" y="4572000"/>
          <a:ext cx="95076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1" name="Object 2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543800" y="4572000"/>
                    <a:ext cx="9507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228600" y="1005120"/>
            <a:ext cx="86104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utral pairs have a value of _____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7086600" y="11430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7"/>
          <p:cNvGraphicFramePr/>
          <p:nvPr/>
        </p:nvGraphicFramePr>
        <p:xfrm>
          <a:off x="1371600" y="2895480"/>
          <a:ext cx="3352680" cy="10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3526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9"/>
          <p:cNvSpPr/>
          <p:nvPr/>
        </p:nvSpPr>
        <p:spPr>
          <a:xfrm>
            <a:off x="5029200" y="2437560"/>
            <a:ext cx="91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5791320" y="2895480"/>
            <a:ext cx="121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ff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34960" y="4564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85800" y="1523160"/>
            <a:ext cx="533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5562720" y="1447920"/>
          <a:ext cx="137160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447920"/>
                    <a:ext cx="137160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7"/>
          <p:cNvSpPr/>
          <p:nvPr/>
        </p:nvSpPr>
        <p:spPr>
          <a:xfrm>
            <a:off x="1068120" y="2003400"/>
            <a:ext cx="5458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8"/>
          <p:cNvGraphicFramePr/>
          <p:nvPr/>
        </p:nvGraphicFramePr>
        <p:xfrm>
          <a:off x="1371600" y="2590920"/>
          <a:ext cx="736560" cy="36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590920"/>
                    <a:ext cx="736560" cy="36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Rectangle 11"/>
          <p:cNvSpPr/>
          <p:nvPr/>
        </p:nvSpPr>
        <p:spPr>
          <a:xfrm>
            <a:off x="2212200" y="4190400"/>
            <a:ext cx="45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0"/>
          <p:cNvGraphicFramePr/>
          <p:nvPr/>
        </p:nvGraphicFramePr>
        <p:xfrm>
          <a:off x="2666880" y="2590920"/>
          <a:ext cx="698760" cy="373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2590920"/>
                    <a:ext cx="698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12"/>
          <p:cNvSpPr/>
          <p:nvPr/>
        </p:nvSpPr>
        <p:spPr>
          <a:xfrm>
            <a:off x="2745360" y="4190400"/>
            <a:ext cx="310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V="1">
            <a:off x="11430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1143000" y="35053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1143000" y="41911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16"/>
          <p:cNvGraphicFramePr/>
          <p:nvPr/>
        </p:nvGraphicFramePr>
        <p:xfrm>
          <a:off x="1371600" y="4800600"/>
          <a:ext cx="770040" cy="377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800600"/>
                    <a:ext cx="7700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7"/>
          <p:cNvGraphicFramePr/>
          <p:nvPr/>
        </p:nvGraphicFramePr>
        <p:xfrm>
          <a:off x="4267080" y="3505320"/>
          <a:ext cx="735120" cy="370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67080" y="3505320"/>
                    <a:ext cx="73512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8"/>
          <p:cNvGraphicFramePr/>
          <p:nvPr/>
        </p:nvGraphicFramePr>
        <p:xfrm>
          <a:off x="6019920" y="4114800"/>
          <a:ext cx="761760" cy="622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Object 1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19920" y="4114800"/>
                    <a:ext cx="76176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22222E-006 1.15607E-006 L 0.31667 -0.18867 E">
                                      <p:cBhvr>
                                        <p:cTn id="151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07440" y="303840"/>
            <a:ext cx="440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.  Use algebra tiles to represent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4648320" y="228600"/>
          <a:ext cx="1242720" cy="53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8600"/>
                    <a:ext cx="1242720" cy="53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6"/>
          <p:cNvSpPr/>
          <p:nvPr/>
        </p:nvSpPr>
        <p:spPr>
          <a:xfrm>
            <a:off x="536400" y="837360"/>
            <a:ext cx="5004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7"/>
          <p:cNvGraphicFramePr/>
          <p:nvPr/>
        </p:nvGraphicFramePr>
        <p:xfrm>
          <a:off x="838080" y="1981080"/>
          <a:ext cx="155736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981080"/>
                    <a:ext cx="155736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2438280" y="3504600"/>
            <a:ext cx="5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345200" y="350460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380880" y="2057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457200" y="2590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3"/>
          <p:cNvSpPr/>
          <p:nvPr/>
        </p:nvSpPr>
        <p:spPr>
          <a:xfrm flipV="1">
            <a:off x="304920" y="327672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4"/>
          <p:cNvSpPr/>
          <p:nvPr/>
        </p:nvSpPr>
        <p:spPr>
          <a:xfrm flipV="1">
            <a:off x="228600" y="3886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15"/>
          <p:cNvGraphicFramePr/>
          <p:nvPr/>
        </p:nvGraphicFramePr>
        <p:xfrm>
          <a:off x="838080" y="4419720"/>
          <a:ext cx="587520" cy="354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419720"/>
                    <a:ext cx="587520" cy="35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6"/>
          <p:cNvGraphicFramePr/>
          <p:nvPr/>
        </p:nvGraphicFramePr>
        <p:xfrm>
          <a:off x="3200400" y="3048120"/>
          <a:ext cx="636480" cy="4000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048120"/>
                    <a:ext cx="63648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9"/>
          <p:cNvGraphicFramePr/>
          <p:nvPr/>
        </p:nvGraphicFramePr>
        <p:xfrm>
          <a:off x="4800600" y="3429000"/>
          <a:ext cx="914400" cy="75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3429000"/>
                    <a:ext cx="914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8.55491E-006 L 0.25834 -0.19976 E">
                                      <p:cBhvr>
                                        <p:cTn id="197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5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C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5257800" y="304920"/>
          <a:ext cx="1114560" cy="48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04920"/>
                    <a:ext cx="111456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762120" y="1752480"/>
          <a:ext cx="2805120" cy="419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28051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Line 8"/>
          <p:cNvSpPr/>
          <p:nvPr/>
        </p:nvSpPr>
        <p:spPr>
          <a:xfrm flipV="1">
            <a:off x="762120" y="19810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 flipV="1">
            <a:off x="914400" y="27432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0"/>
          <p:cNvSpPr/>
          <p:nvPr/>
        </p:nvSpPr>
        <p:spPr>
          <a:xfrm flipV="1">
            <a:off x="914400" y="37339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1"/>
          <p:cNvSpPr/>
          <p:nvPr/>
        </p:nvSpPr>
        <p:spPr>
          <a:xfrm flipV="1">
            <a:off x="914400" y="441972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12"/>
          <p:cNvGraphicFramePr/>
          <p:nvPr/>
        </p:nvGraphicFramePr>
        <p:xfrm>
          <a:off x="4122720" y="3362400"/>
          <a:ext cx="3366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2720" y="336240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3"/>
          <p:cNvGraphicFramePr/>
          <p:nvPr/>
        </p:nvGraphicFramePr>
        <p:xfrm>
          <a:off x="4419720" y="3124080"/>
          <a:ext cx="977760" cy="633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3124080"/>
                    <a:ext cx="97776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4"/>
          <p:cNvGraphicFramePr/>
          <p:nvPr/>
        </p:nvGraphicFramePr>
        <p:xfrm>
          <a:off x="5181480" y="3352680"/>
          <a:ext cx="336600" cy="309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8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3352680"/>
                    <a:ext cx="3366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5"/>
          <p:cNvGraphicFramePr/>
          <p:nvPr/>
        </p:nvGraphicFramePr>
        <p:xfrm>
          <a:off x="5562720" y="2971800"/>
          <a:ext cx="838080" cy="72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0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62720" y="2971800"/>
                    <a:ext cx="838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383760" y="304200"/>
            <a:ext cx="4998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D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5"/>
          <p:cNvGraphicFramePr/>
          <p:nvPr/>
        </p:nvGraphicFramePr>
        <p:xfrm>
          <a:off x="5410080" y="228600"/>
          <a:ext cx="141948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28600"/>
                    <a:ext cx="141948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7"/>
          <p:cNvGraphicFramePr/>
          <p:nvPr/>
        </p:nvGraphicFramePr>
        <p:xfrm>
          <a:off x="762120" y="1371600"/>
          <a:ext cx="2805120" cy="502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371600"/>
                    <a:ext cx="28051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Line 8"/>
          <p:cNvSpPr/>
          <p:nvPr/>
        </p:nvSpPr>
        <p:spPr>
          <a:xfrm flipV="1">
            <a:off x="762120" y="1523880"/>
            <a:ext cx="259056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914400" y="22860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V="1">
            <a:off x="838080" y="320040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914400" y="4038480"/>
            <a:ext cx="2590920" cy="4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2362320" y="4648320"/>
            <a:ext cx="1371600" cy="19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3886200" y="320040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4"/>
          <p:cNvGraphicFramePr/>
          <p:nvPr/>
        </p:nvGraphicFramePr>
        <p:xfrm>
          <a:off x="4343400" y="3048120"/>
          <a:ext cx="781200" cy="64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3048120"/>
                    <a:ext cx="78120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25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383400" y="304200"/>
            <a:ext cx="4981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E.  Use algebra tiles to represent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5308560" y="228600"/>
          <a:ext cx="1622520" cy="68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08560" y="228600"/>
                    <a:ext cx="1622520" cy="68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6"/>
          <p:cNvSpPr/>
          <p:nvPr/>
        </p:nvSpPr>
        <p:spPr>
          <a:xfrm>
            <a:off x="839520" y="761400"/>
            <a:ext cx="536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and then cross out any neutral pai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7"/>
          <p:cNvGraphicFramePr/>
          <p:nvPr/>
        </p:nvGraphicFramePr>
        <p:xfrm>
          <a:off x="2286000" y="1295280"/>
          <a:ext cx="2768760" cy="313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1295280"/>
                    <a:ext cx="2768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9"/>
          <p:cNvSpPr/>
          <p:nvPr/>
        </p:nvSpPr>
        <p:spPr>
          <a:xfrm>
            <a:off x="685800" y="4191120"/>
            <a:ext cx="4724280" cy="2286000"/>
          </a:xfrm>
          <a:prstGeom prst="irregularSeal1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There are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 </a:t>
            </a:r>
            <a:r>
              <a:rPr b="0" lang="en-US" sz="2200" spc="-1" strike="noStrike">
                <a:solidFill>
                  <a:srgbClr val="6666ff"/>
                </a:solidFill>
                <a:latin typeface="Arial Black"/>
              </a:rPr>
              <a:t>neutral pa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5334120" y="28195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11"/>
          <p:cNvGraphicFramePr/>
          <p:nvPr/>
        </p:nvGraphicFramePr>
        <p:xfrm>
          <a:off x="5791320" y="2514600"/>
          <a:ext cx="1523880" cy="13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2514600"/>
                    <a:ext cx="15238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12"/>
          <p:cNvSpPr/>
          <p:nvPr/>
        </p:nvSpPr>
        <p:spPr>
          <a:xfrm>
            <a:off x="243828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2362320" y="281952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4343400" y="19810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267080" y="28195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267080" y="373392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Black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03:16Z</dcterms:created>
  <dc:creator>Plainview Schools</dc:creator>
  <dc:description/>
  <dc:language>en-US</dc:language>
  <cp:lastModifiedBy>LEGION</cp:lastModifiedBy>
  <dcterms:modified xsi:type="dcterms:W3CDTF">2017-07-06T06:30:20Z</dcterms:modified>
  <cp:revision>26</cp:revision>
  <dc:subject/>
  <dc:title>ADDING REAL NUMBERS</dc:title>
</cp:coreProperties>
</file>