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38EF-C0C2-4382-A4E1-EE8650E8A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ustafson and F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view of Basic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(b + c) = ab +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per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soci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t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(b + c) = ab + 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oppo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recipr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z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vers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oppos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reciproc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: repeated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the base and n is the ex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 are NO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s to multiply “a” n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: repeated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is the base and n is the expon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 are NOT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s to multiply “a” n ti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up any grou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ex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ddition and subtract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RDER OF OPERAT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ear up any group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aluate expon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addition and subtract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ic Expression vs.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gebraic Expression vs.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nly add like term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ike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an only add like term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EQUATION IN ONE VARIAB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results by evalu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O SOLVE AN EQUATION IN ONE VARIABL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eck your results by evalua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YPES OF EQUA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6 &amp; 1.7: Solving Problems,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(forc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‘ole common sens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: Basic Algebr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ze the processes and the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provide formulas for your re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questions if you are un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apter 1: Basic Algebra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MMAR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morize the processes and the propert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 will provide formulas for your refere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k questions if you are un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: collections of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TS: collections of obje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atur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ol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r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g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si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ega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en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dd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numbers are d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not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ion (the same as adding a number with the opposite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(the same as multiplying by the recipro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opposit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the sam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opposit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btract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the sam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y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posi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neg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: measures of central tend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TISTICS: measures of central tendenc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di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9A7D-A723-4045-B11F-99DBB4B9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7069-5ECD-43A4-8EAB-F04472E4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ADA1-E2B7-4E9F-9D1F-C310D1EF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EB72-20BF-46C1-B677-69739FA3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3480-3D16-447D-88AA-22A478EF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D9D3-67CA-48D1-94CA-67F10AAE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35E4-09A5-4D05-9551-DED95027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B532-013F-4960-919B-23D9C30A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4257-50E1-474F-8279-150B3D63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8047-E77C-4721-834B-F9DFE993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92A1-6BC3-4B47-B0CC-57B6CE5D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A56A-B076-4566-A5A0-3C3A5E26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D43D-8F9E-4AED-A25A-DF87CF2D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0DEC-1ACB-40CB-9137-1BAD91E2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1C9F-0699-4492-8C85-F87467A0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89B6-3232-4B4E-8457-80EA62CB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B166-CF54-4ADF-913C-311F025E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A0B1-90C4-4482-8633-62919D62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7182-51D0-4319-92F0-E9BEF2CB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4153-C137-425D-829F-58EA3CFE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02CB-7EB4-4C5F-AABC-FD255D18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2399-8683-49D6-B46B-ADF7BB04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A8CF-3C6F-4D2D-BBFA-D162C9D1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1084-12EE-4BCF-9497-2DBDC3D4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5CD6-2823-444B-80C0-2CB5E34CDA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2961-1C4E-4639-A753-4734299495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ermediate Algebra</a:t>
            </a:r>
            <a:br>
              <a:rPr sz="44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by Gustafson and Frisk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view of Basic Algeb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3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oper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2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t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1066680" y="41148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ive – multiplication is distributed over addi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(b + c) = ab + 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denti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Placeholder 26"/>
          <p:cNvSpPr/>
          <p:nvPr/>
        </p:nvSpPr>
        <p:spPr>
          <a:xfrm>
            <a:off x="914400" y="358128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vers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914400" y="434340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oppo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reciproc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ONEN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ated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914400" y="2286000"/>
            <a:ext cx="754380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expression: 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is the base and n is the ex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onents ar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s to multiply “a” n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RDER OF 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914400" y="1905120"/>
            <a:ext cx="75438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an algebraic expression has more than one operation, the following order appl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r up any group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ex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multiplication and divis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addition and subtract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lgebraic Expression vs.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914400" y="2286000"/>
            <a:ext cx="754380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ressions: a combination of numbers and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tion: a statement that two expressions are eq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RESS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914400" y="2286000"/>
            <a:ext cx="75438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multiplying, the terms do not need to be a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an only add like term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O SOLVE AN EQUATION IN ONE VARI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914400" y="1905120"/>
            <a:ext cx="784872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see fractions,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ultiply both sides by the LC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This will eliminate the fr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implif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algebraic expressions on each side of the equal sign (eliminate parentheses and combine like term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addition property of equality to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solat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variable terms from the constant term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opposite sides of the equal 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multiplication property to make the coefficient  of the variable equal to 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your results by evalu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29" dur="indefinite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0" dur="indefinite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1" dur="indefinite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5" dur="indefinite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6" dur="indefinite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7" dur="indefinite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2" dur="indefinite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3" dur="indefinite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8" dur="indefinite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9" dur="indefinite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53" dur="indefinite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indefinite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indefinite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YPES OF EQU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DITIONAL: if x equals this, then y equals th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TY: always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ADICTION: never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ULAS: conditional equations that model a relationship between the vari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6 &amp; 1.7: Solving Problems,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YPES OF PROBLEM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914400" y="1905120"/>
            <a:ext cx="754380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om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s (for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form 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‘ole common sense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20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Chapter 1: Basic Algebra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UMMAR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 YOUR VOCABULARY!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’t follow directions if you don’t know what the words in the instructions me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orize the processes and the proper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provide formulas for your refer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questions if you are un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check your work to make sure that you answered the question, and that your answer is reason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1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E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ions of obj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7720" y="2209680"/>
            <a:ext cx="35053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ur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l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76560" y="2209680"/>
            <a:ext cx="3431880" cy="27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ga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d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Content Placeholder 25"/>
          <p:cNvSpPr/>
          <p:nvPr/>
        </p:nvSpPr>
        <p:spPr>
          <a:xfrm>
            <a:off x="914400" y="4800600"/>
            <a:ext cx="731520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8800" indent="-182880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{  }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{x | x &gt; 5}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read “the set of all x such that x is greater than 5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828800" indent="-1828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1600200" y="4038480"/>
            <a:ext cx="6324480" cy="1178640"/>
            <a:chOff x="1600200" y="4038480"/>
            <a:chExt cx="6324480" cy="1178640"/>
          </a:xfrm>
        </p:grpSpPr>
        <p:sp>
          <p:nvSpPr>
            <p:cNvPr id="128" name="Rectangle 6"/>
            <p:cNvSpPr/>
            <p:nvPr/>
          </p:nvSpPr>
          <p:spPr>
            <a:xfrm>
              <a:off x="3701160" y="45720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440856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8"/>
            <p:cNvSpPr/>
            <p:nvPr/>
          </p:nvSpPr>
          <p:spPr>
            <a:xfrm>
              <a:off x="630288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9"/>
            <p:cNvSpPr/>
            <p:nvPr/>
          </p:nvSpPr>
          <p:spPr>
            <a:xfrm>
              <a:off x="504000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693432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1"/>
            <p:cNvSpPr/>
            <p:nvPr/>
          </p:nvSpPr>
          <p:spPr>
            <a:xfrm>
              <a:off x="567144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2"/>
            <p:cNvSpPr/>
            <p:nvPr/>
          </p:nvSpPr>
          <p:spPr>
            <a:xfrm>
              <a:off x="284112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5"/>
            <p:cNvSpPr/>
            <p:nvPr/>
          </p:nvSpPr>
          <p:spPr>
            <a:xfrm>
              <a:off x="1600200" y="426708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6"/>
            <p:cNvSpPr/>
            <p:nvPr/>
          </p:nvSpPr>
          <p:spPr>
            <a:xfrm>
              <a:off x="243828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7"/>
            <p:cNvSpPr/>
            <p:nvPr/>
          </p:nvSpPr>
          <p:spPr>
            <a:xfrm>
              <a:off x="32220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400572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9"/>
            <p:cNvSpPr/>
            <p:nvPr/>
          </p:nvSpPr>
          <p:spPr>
            <a:xfrm>
              <a:off x="467532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20"/>
            <p:cNvSpPr/>
            <p:nvPr/>
          </p:nvSpPr>
          <p:spPr>
            <a:xfrm>
              <a:off x="530676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21"/>
            <p:cNvSpPr/>
            <p:nvPr/>
          </p:nvSpPr>
          <p:spPr>
            <a:xfrm>
              <a:off x="59382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656964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9"/>
            <p:cNvSpPr/>
            <p:nvPr/>
          </p:nvSpPr>
          <p:spPr>
            <a:xfrm>
              <a:off x="720108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205740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TextBox 46"/>
          <p:cNvSpPr/>
          <p:nvPr/>
        </p:nvSpPr>
        <p:spPr>
          <a:xfrm>
            <a:off x="1523880" y="24382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47"/>
          <p:cNvSpPr/>
          <p:nvPr/>
        </p:nvSpPr>
        <p:spPr>
          <a:xfrm>
            <a:off x="518148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7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49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31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169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TextBox 49"/>
          <p:cNvSpPr/>
          <p:nvPr/>
        </p:nvSpPr>
        <p:spPr>
          <a:xfrm>
            <a:off x="1371600" y="22096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5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70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71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traight Connector 73"/>
          <p:cNvSpPr/>
          <p:nvPr/>
        </p:nvSpPr>
        <p:spPr>
          <a:xfrm>
            <a:off x="4572000" y="4800600"/>
            <a:ext cx="129528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94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22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214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TextBox 40"/>
          <p:cNvSpPr/>
          <p:nvPr/>
        </p:nvSpPr>
        <p:spPr>
          <a:xfrm>
            <a:off x="1219320" y="2209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4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42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43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Straight Connector 44"/>
          <p:cNvSpPr/>
          <p:nvPr/>
        </p:nvSpPr>
        <p:spPr>
          <a:xfrm>
            <a:off x="4572000" y="4800600"/>
            <a:ext cx="137160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63"/>
          <p:cNvSpPr/>
          <p:nvPr/>
        </p:nvSpPr>
        <p:spPr>
          <a:xfrm>
            <a:off x="762120" y="3803760"/>
            <a:ext cx="701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ion (the same as adding a number with the opposite sig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vision (the same as multiplying by the reciproc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DDI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Content Placeholder 19"/>
          <p:cNvSpPr/>
          <p:nvPr/>
        </p:nvSpPr>
        <p:spPr>
          <a:xfrm>
            <a:off x="914400" y="3962520"/>
            <a:ext cx="7543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opposit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 with the largest absolute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914400" y="189072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the sam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ULTIPLICA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914400" y="2286000"/>
            <a:ext cx="754380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y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factors have the sam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is 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factors have opposit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duct is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TATISTICS: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easures of central tendency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914400" y="228600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22:41:36Z</dcterms:created>
  <dc:creator>melissa.marshall</dc:creator>
  <dc:description/>
  <dc:language>en-US</dc:language>
  <cp:lastModifiedBy>LEGION</cp:lastModifiedBy>
  <dcterms:modified xsi:type="dcterms:W3CDTF">2017-09-18T07:58:11Z</dcterms:modified>
  <cp:revision>170</cp:revision>
  <dc:subject/>
  <dc:title>Inequalities and their Graphs</dc:title>
</cp:coreProperties>
</file>