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4A10-3D3B-4B4C-80E4-929907E3F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480-4948-429F-A5A4-1DE21D22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55E-410D-483F-9715-22AAD947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824-C163-407D-A255-53867181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2C8-47E1-4F73-8FB0-C80C5BA8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007-E26C-45C5-9A8A-9F726A19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2C4-C94D-4217-919C-7E14465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729-2D12-48BD-8BFB-677ED588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AB3-6727-4770-B6CF-350AA313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CE7-080C-4A56-960B-63F43871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153-AABB-4028-886B-4368CABD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263-4543-45E3-8384-25B0A61C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F34-6519-435C-97C2-F569B6B6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A9AD-C945-4ECA-B406-1118FAF84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rdonn.org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60948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Sylfaen"/>
              </a:rPr>
              <a:t>Child of Water &amp; Little Blue 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ylfaen"/>
              </a:rPr>
              <a:t>A Native American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Loosely based on an Apache My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28800" y="28954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ll Apache children know, it is a wise thing to hunt for turquoise blue rocks. This myth explains why.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8800" y="5029200"/>
            <a:ext cx="623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Retold by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Sylfaen"/>
                <a:hlinkClick r:id="rId1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llustrated by Phillip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rock1.gif"/>
          <p:cNvPicPr/>
          <p:nvPr/>
        </p:nvPicPr>
        <p:blipFill>
          <a:blip r:embed="rId2"/>
          <a:stretch/>
        </p:blipFill>
        <p:spPr>
          <a:xfrm>
            <a:off x="5486400" y="1295280"/>
            <a:ext cx="333072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1295280" y="2133720"/>
            <a:ext cx="358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ll Apache children know, it is a wise thing to hunt for turquoise blue r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 find one, you too might find yourself some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rock1.gif"/>
          <p:cNvPicPr/>
          <p:nvPr/>
        </p:nvPicPr>
        <p:blipFill>
          <a:blip r:embed="rId1"/>
          <a:stretch/>
        </p:blipFill>
        <p:spPr>
          <a:xfrm>
            <a:off x="4952880" y="762120"/>
            <a:ext cx="3330720" cy="53146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6094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0082"/>
                </a:solidFill>
                <a:latin typeface="Sylfaen"/>
              </a:rPr>
              <a:t>To Learn M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0" y="185724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aaaam.gif"/>
          <p:cNvPicPr/>
          <p:nvPr/>
        </p:nvPicPr>
        <p:blipFill>
          <a:blip r:embed="rId1"/>
          <a:stretch/>
        </p:blipFill>
        <p:spPr>
          <a:xfrm>
            <a:off x="357120" y="1285920"/>
            <a:ext cx="3971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8" descr="BANNER 2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322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62120" y="4191120"/>
            <a:ext cx="7772400" cy="155628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is brought to you by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Pete’s Power Point Statio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7e4e99"/>
                </a:solidFill>
                <a:latin typeface="Times New Roman"/>
              </a:rPr>
              <a:t>Visit us on the web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p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5880" y="164304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55" name="Picture 5" descr="rock2.gif"/>
          <p:cNvPicPr/>
          <p:nvPr/>
        </p:nvPicPr>
        <p:blipFill>
          <a:blip r:embed="rId1"/>
          <a:stretch/>
        </p:blipFill>
        <p:spPr>
          <a:xfrm>
            <a:off x="5581800" y="990720"/>
            <a:ext cx="3562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41911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48320" y="16430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Here are the rules," said Child of Water. He carefully explained that he would be on one side of the cliff and the monster would be on the oth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0" name="Picture 3" descr="rock3.gif"/>
          <p:cNvPicPr/>
          <p:nvPr/>
        </p:nvPicPr>
        <p:blipFill>
          <a:blip r:embed="rId1"/>
          <a:stretch/>
        </p:blipFill>
        <p:spPr>
          <a:xfrm>
            <a:off x="380880" y="163836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733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85880" y="1917720"/>
            <a:ext cx="428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o you accept these rules and promise to follow them?" chanted Child of Water, in the way of the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 was only a very small boy. But he knew the chant was binding. It was a promise that must be k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5" name="Picture 4" descr="rock5.gif"/>
          <p:cNvPicPr/>
          <p:nvPr/>
        </p:nvPicPr>
        <p:blipFill>
          <a:blip r:embed="rId1"/>
          <a:stretch/>
        </p:blipFill>
        <p:spPr>
          <a:xfrm>
            <a:off x="5000760" y="1143000"/>
            <a:ext cx="34718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000760" y="164304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I'll play your silly game," laughed the mon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First I'll shoot you full of arrows. Then I'll eat you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mothe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fo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9" name="Picture 3" descr="rock4a.gif"/>
          <p:cNvPicPr/>
          <p:nvPr/>
        </p:nvPicPr>
        <p:blipFill>
          <a:blip r:embed="rId1"/>
          <a:stretch/>
        </p:blipFill>
        <p:spPr>
          <a:xfrm>
            <a:off x="642960" y="0"/>
            <a:ext cx="40910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57200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thinking about this satisfying treat had the monster smacking his l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85880" y="1643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85880" y="442908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shot four arrows at Child of Water. To his surprise, all his arrows missed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rock6.gif"/>
          <p:cNvPicPr/>
          <p:nvPr/>
        </p:nvPicPr>
        <p:blipFill>
          <a:blip r:embed="rId1"/>
          <a:stretch/>
        </p:blipFill>
        <p:spPr>
          <a:xfrm>
            <a:off x="3714840" y="3124080"/>
            <a:ext cx="5429160" cy="31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85880" y="3214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nster did not care about the rules. He did not wait for the sig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71960" y="16430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80" name="Picture 3" descr="rock8A.gif"/>
          <p:cNvPicPr/>
          <p:nvPr/>
        </p:nvPicPr>
        <p:blipFill>
          <a:blip r:embed="rId1"/>
          <a:stretch/>
        </p:blipFill>
        <p:spPr>
          <a:xfrm>
            <a:off x="214200" y="1571760"/>
            <a:ext cx="4011840" cy="481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572000" y="41911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n, everyone had gathered around. What a noise they made that night rejoic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85880" y="164304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3680" y="316872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ime went on, and as Child of Water grew taller, each of the other monsters in the land  came to challenge him, one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ock7.gif"/>
          <p:cNvPicPr/>
          <p:nvPr/>
        </p:nvPicPr>
        <p:blipFill>
          <a:blip r:embed="rId1"/>
          <a:stretch/>
        </p:blipFill>
        <p:spPr>
          <a:xfrm>
            <a:off x="857160" y="2857680"/>
            <a:ext cx="4214880" cy="3882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85880" y="2057400"/>
            <a:ext cx="393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ime, wearing his lucky blue rock, each monster's arrows missed Child of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Child of Water's arrows killed each monster, every time, until all the monsters were go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90" name="Picture 3" descr="rock8.gif"/>
          <p:cNvPicPr/>
          <p:nvPr/>
        </p:nvPicPr>
        <p:blipFill>
          <a:blip r:embed="rId1"/>
          <a:stretch/>
        </p:blipFill>
        <p:spPr>
          <a:xfrm>
            <a:off x="4648320" y="1219320"/>
            <a:ext cx="4011480" cy="4814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19:36Z</dcterms:created>
  <dc:creator>Lin Donn</dc:creator>
  <dc:description>Illustrated by Phillip Martin</dc:description>
  <cp:keywords>Native American Myth</cp:keywords>
  <dc:language>en-US</dc:language>
  <cp:lastModifiedBy>Legion</cp:lastModifiedBy>
  <dcterms:modified xsi:type="dcterms:W3CDTF">2017-07-05T07:36:29Z</dcterms:modified>
  <cp:revision>55</cp:revision>
  <dc:subject/>
  <dc:title>Child of Water &amp; Little Blue Rock</dc:title>
</cp:coreProperties>
</file>