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1653-2D26-4EBC-971C-FFA75EF97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&amp; Little Blue R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ative American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sely based on an Apache My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This myth explains why.  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old by Lin Don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llustrated by Phillip Mar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ll Apache children know, it is a wise thing to hunt for turquoise blue rock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 find one, you too might find yourself some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is brought to you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ete’s Power Point Station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sit us on the web at ppps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Here are the rules," said Child of Water. He carefully explained that he would be on one side of the cliff and the monster would be on the other. 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Do you accept these rules and promise to follow them?" chanted Child of Water, in the way of the peop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 was only a very small boy. But he knew the chant was binding. It was a promise that must be kep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I'll play your silly game," laughed the mons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"First I'll shoot you full of arrows. Then I'll eat you, and your mother and all your food!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ing about this satisfying treat had the monster smacking his lip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hot four arrows at Child of Water. To his surprise, all his arrows missed!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nster did not care about the rules. He did not wait for the sign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n, everyone had gathered around. What a noise they made that night rejoic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time went on, and as Child of Water grew taller, each of the other monsters in the land  came to challenge him, one by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time, wearing his lucky blue rock, each monster's arrows missed Child of Wat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Child of Water's arrows killed each monster, every time, until all the monsters were gone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ld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F3BC-C977-4363-A0B0-AF5BE13E7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7BCA-E426-4DB9-9D55-981F3FEAD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503D-A782-4F3C-BC03-AAB4CB0F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19E7-FBE7-4474-960E-ED0488520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D7E-4739-4DFD-951E-CB2DC947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530-E124-4130-8A3D-D79F602F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C2C-1A11-4096-A25B-4D16F1F5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764-C515-4A73-AA34-85063B0C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26FA-A9BC-40AB-AA91-7F147644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555-5E0C-4E98-8BC5-22CB572C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13E6-AA39-4610-9186-5EB4C24D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A7D8-9B99-4F0A-91BE-19EEADE8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76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151C-F7D8-44C7-92DD-312FB54CD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rdonn.org/index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838080" y="609480"/>
            <a:ext cx="7696440" cy="21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10082"/>
                </a:solidFill>
                <a:latin typeface="Sylfaen"/>
              </a:rPr>
              <a:t>Child of Water &amp; Little Blue Ro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Sylfaen"/>
              </a:rPr>
              <a:t>A Native American St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Loosely based on an Apache My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928800" y="2895480"/>
            <a:ext cx="471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s all Apache children know, it is a wise thing to hunt for turquoise blue rocks. This myth explains why.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928800" y="5029200"/>
            <a:ext cx="623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Retold by </a:t>
            </a:r>
            <a:r>
              <a:rPr b="0" lang="en-US" sz="2000" spc="-1" strike="noStrike" u="sng">
                <a:solidFill>
                  <a:srgbClr val="410082"/>
                </a:solidFill>
                <a:uFillTx/>
                <a:latin typeface="Sylfaen"/>
                <a:hlinkClick r:id="rId1"/>
              </a:rPr>
              <a:t>Lin Don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lfaen"/>
              </a:rPr>
              <a:t>Illustrated by Phillip Mart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rock1.gif"/>
          <p:cNvPicPr/>
          <p:nvPr/>
        </p:nvPicPr>
        <p:blipFill>
          <a:blip r:embed="rId2"/>
          <a:stretch/>
        </p:blipFill>
        <p:spPr>
          <a:xfrm>
            <a:off x="5486400" y="1295280"/>
            <a:ext cx="3330720" cy="53150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93" name="Text Box 1029"/>
          <p:cNvSpPr/>
          <p:nvPr/>
        </p:nvSpPr>
        <p:spPr>
          <a:xfrm>
            <a:off x="1295280" y="2133720"/>
            <a:ext cx="3581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all Apache children know, it is a wise thing to hunt for turquoise blue rock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you find one, you too might find yourself some lu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6" descr="rock1.gif"/>
          <p:cNvPicPr/>
          <p:nvPr/>
        </p:nvPicPr>
        <p:blipFill>
          <a:blip r:embed="rId1"/>
          <a:stretch/>
        </p:blipFill>
        <p:spPr>
          <a:xfrm>
            <a:off x="4952880" y="762120"/>
            <a:ext cx="3330720" cy="531468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1143000" y="609480"/>
            <a:ext cx="742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10082"/>
                </a:solidFill>
                <a:latin typeface="Sylfaen"/>
              </a:rPr>
              <a:t>To Learn Mo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4572000" y="1857240"/>
            <a:ext cx="4143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the Southwest Indians – go here: Southwest Indian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learn more about Native Americans - go here: Native America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free clipart, go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Cli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4" descr="aaaam.gif"/>
          <p:cNvPicPr/>
          <p:nvPr/>
        </p:nvPicPr>
        <p:blipFill>
          <a:blip r:embed="rId1"/>
          <a:stretch/>
        </p:blipFill>
        <p:spPr>
          <a:xfrm>
            <a:off x="357120" y="1285920"/>
            <a:ext cx="3971880" cy="457200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28" descr="BANNER 2"/>
          <p:cNvPicPr/>
          <p:nvPr/>
        </p:nvPicPr>
        <p:blipFill>
          <a:blip r:embed="rId1"/>
          <a:stretch/>
        </p:blipFill>
        <p:spPr>
          <a:xfrm>
            <a:off x="1295280" y="228600"/>
            <a:ext cx="6477120" cy="39211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2322720" y="3244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9c2d1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"/>
          <p:cNvSpPr/>
          <p:nvPr/>
        </p:nvSpPr>
        <p:spPr>
          <a:xfrm>
            <a:off x="762120" y="4191120"/>
            <a:ext cx="7772400" cy="155628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This presentation is brought to you by</a:t>
            </a:r>
            <a:br>
              <a:rPr sz="3200"/>
            </a:b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Times New Roman"/>
              </a:rPr>
              <a:t>Pete’s Power Point Station</a:t>
            </a:r>
            <a:r>
              <a:rPr b="0" lang="en-US" sz="3200" spc="-1" strike="noStrike">
                <a:solidFill>
                  <a:srgbClr val="002060"/>
                </a:solidFill>
                <a:latin typeface="Times New Roman"/>
              </a:rPr>
              <a:t>. </a:t>
            </a:r>
            <a:br>
              <a:rPr sz="3200"/>
            </a:br>
            <a:r>
              <a:rPr b="1" lang="en-US" sz="3200" spc="-1" strike="noStrike">
                <a:solidFill>
                  <a:srgbClr val="7e4e99"/>
                </a:solidFill>
                <a:latin typeface="Times New Roman"/>
              </a:rPr>
              <a:t>Visit us on the web a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ppst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785880" y="164304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upon a time, a long time ago, four horrible monsters lived on the earth. They loved to catch the People and eat them. Whenever the monsters approached, all the People ran awa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55" name="Picture 5" descr="rock2.gif"/>
          <p:cNvPicPr/>
          <p:nvPr/>
        </p:nvPicPr>
        <p:blipFill>
          <a:blip r:embed="rId1"/>
          <a:stretch/>
        </p:blipFill>
        <p:spPr>
          <a:xfrm>
            <a:off x="5581800" y="990720"/>
            <a:ext cx="3562200" cy="502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762120" y="4191120"/>
            <a:ext cx="525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night, a monster stomped up to the wickiup of Child of Water and his mother. Before his mother could stop him, Child of Water challenged the monster to a cont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4648320" y="1643040"/>
            <a:ext cx="41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Here are the rules," said Child of Water. He carefully explained that he would be on one side of the cliff and the monster would be on the oth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0" name="Picture 3" descr="rock3.gif"/>
          <p:cNvPicPr/>
          <p:nvPr/>
        </p:nvPicPr>
        <p:blipFill>
          <a:blip r:embed="rId1"/>
          <a:stretch/>
        </p:blipFill>
        <p:spPr>
          <a:xfrm>
            <a:off x="380880" y="1638360"/>
            <a:ext cx="4357800" cy="52196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733920" y="4038480"/>
            <a:ext cx="487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n the signal was given, both sides would have a chance to shoot four arrows at each other, at the same time. Whoever killed the other would get all the foo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785880" y="1917720"/>
            <a:ext cx="42861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Do you accept these rules and promise to follow them?" chanted Child of Water, in the way of the peop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 was only a very small boy. But he knew the chant was binding. It was a promise that must be kep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5" name="Picture 4" descr="rock5.gif"/>
          <p:cNvPicPr/>
          <p:nvPr/>
        </p:nvPicPr>
        <p:blipFill>
          <a:blip r:embed="rId1"/>
          <a:stretch/>
        </p:blipFill>
        <p:spPr>
          <a:xfrm>
            <a:off x="5000760" y="1143000"/>
            <a:ext cx="3471840" cy="51721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5000760" y="1643040"/>
            <a:ext cx="3929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I'll play your silly game," laughed the mons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"First I'll shoot you full of arrows. Then I'll eat you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mother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our food!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69" name="Picture 3" descr="rock4a.gif"/>
          <p:cNvPicPr/>
          <p:nvPr/>
        </p:nvPicPr>
        <p:blipFill>
          <a:blip r:embed="rId1"/>
          <a:stretch/>
        </p:blipFill>
        <p:spPr>
          <a:xfrm>
            <a:off x="642960" y="0"/>
            <a:ext cx="40910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4572000" y="4876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ust thinking about this satisfying treat had the monster smacking his lip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785880" y="164304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both fighters took their positions, Child of Water noticed a blue rock. He pick it up curiously. The rock was a gift from the gods, a thing of protection. But Child of Water did not know tha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785880" y="4429080"/>
            <a:ext cx="307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e shot four arrows at Child of Water. To his surprise, all his arrows missed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rock6.gif"/>
          <p:cNvPicPr/>
          <p:nvPr/>
        </p:nvPicPr>
        <p:blipFill>
          <a:blip r:embed="rId1"/>
          <a:stretch/>
        </p:blipFill>
        <p:spPr>
          <a:xfrm>
            <a:off x="3714840" y="3124080"/>
            <a:ext cx="5429160" cy="31845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85880" y="321480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monster did not care about the rules. He did not wait for the sign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4071960" y="1643040"/>
            <a:ext cx="4714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fore the monster could do anything else against the rules, Child of Water shot an arrow at the monster. The arrow pierced the monster's heart and killed him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80" name="Picture 3" descr="rock8A.gif"/>
          <p:cNvPicPr/>
          <p:nvPr/>
        </p:nvPicPr>
        <p:blipFill>
          <a:blip r:embed="rId1"/>
          <a:stretch/>
        </p:blipFill>
        <p:spPr>
          <a:xfrm>
            <a:off x="214200" y="1571760"/>
            <a:ext cx="4011840" cy="481464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4572000" y="4191120"/>
            <a:ext cx="3352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then, everyone had gathered around. What a noise they made that night rejoic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785880" y="1643040"/>
            <a:ext cx="8072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ild of Water's mother bore a hole in that lucky blue rock. She strung it into a necklace. Ever after, Child of Water wore the blue rock around his neck for love and lu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5143680" y="3168720"/>
            <a:ext cx="3500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 time went on, and as Child of Water grew taller, each of the other monsters in the land  came to challenge him, one by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4" descr="rock7.gif"/>
          <p:cNvPicPr/>
          <p:nvPr/>
        </p:nvPicPr>
        <p:blipFill>
          <a:blip r:embed="rId1"/>
          <a:stretch/>
        </p:blipFill>
        <p:spPr>
          <a:xfrm>
            <a:off x="857160" y="2857680"/>
            <a:ext cx="4214880" cy="38829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785880" y="2057400"/>
            <a:ext cx="3938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time, wearing his lucky blue rock, each monster's arrows missed Child of Wat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t Child of Water's arrows killed each monster, every time, until all the monsters were go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2060"/>
                </a:solidFill>
                <a:latin typeface="Sylfaen"/>
              </a:rPr>
              <a:t>Child of Water</a:t>
            </a:r>
            <a:endParaRPr b="0" lang="en-US" sz="5400" spc="-1" strike="noStrike">
              <a:solidFill>
                <a:srgbClr val="69676d"/>
              </a:solidFill>
              <a:latin typeface="Times New Roman"/>
            </a:endParaRPr>
          </a:p>
        </p:txBody>
      </p:sp>
      <p:pic>
        <p:nvPicPr>
          <p:cNvPr id="90" name="Picture 3" descr="rock8.gif"/>
          <p:cNvPicPr/>
          <p:nvPr/>
        </p:nvPicPr>
        <p:blipFill>
          <a:blip r:embed="rId1"/>
          <a:stretch/>
        </p:blipFill>
        <p:spPr>
          <a:xfrm>
            <a:off x="4648320" y="1219320"/>
            <a:ext cx="4011480" cy="48146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20:19:36Z</dcterms:created>
  <dc:creator>Lin Donn</dc:creator>
  <dc:description>Illustrated by Phillip Martin</dc:description>
  <cp:keywords>Native American Myth</cp:keywords>
  <dc:language>en-US</dc:language>
  <cp:lastModifiedBy>Legion</cp:lastModifiedBy>
  <dcterms:modified xsi:type="dcterms:W3CDTF">2017-07-05T07:36:29Z</dcterms:modified>
  <cp:revision>55</cp:revision>
  <dc:subject/>
  <dc:title>Child of Water &amp; Little Blue Rock</dc:title>
</cp:coreProperties>
</file>