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C8F3-D0C6-4638-99B6-57C53A1D3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! You should wear GOGGLES and LAB-COATS at all times during this prac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 a dropping 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few drops of each of the solutions to individual ‘holes’ in the dropping tile. Make sure you know which solution i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one piece of that metal to each of th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 – you will need to watch carefully for any evidence of a reaction taking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put a tick into the relevant box. If no reaction takes place, put a cr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try and describe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all the reactions into a large beaker – do NOT put any solids into the s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for each metal using fresh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! You should wear GOGGLES and LAB-COATS at all times during this prac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 a dropping 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few drops of each of the solutions to individual ‘holes’ in the dropping tile. Make sure you know which solution i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one piece of that metal to each of th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 – you will need to watch carefully for any evidence of a reaction taking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put a tick into the relevant box. If no reaction takes place, put a cr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try and describe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all the reactions into a large beaker – do NOT put any solids into the s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for each metal using fresh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ano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not more reactive than l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not more reactive than l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 +  Acid    Salt  + 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  +  Acid    Salt  +  Hydrog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ano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685800" y="1659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Chemical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838080" y="1143000"/>
            <a:ext cx="228600" cy="502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7620120" y="6324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Times New Roman"/>
              </a:rPr>
              <a:t>gala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o Re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alc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alc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7280" y="1397160"/>
          <a:ext cx="7201080" cy="4410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10292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447920" y="1219320"/>
            <a:ext cx="665316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Care! You should wear GOGGLES and LAB-COATS at all times during this 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Obtain a dropping t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dd a few drops of each of the solutions to individual ‘holes’ in the dropping tile. Make sure you know which solution is 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Choose a 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dd one piece of that metal to each of the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Observe – you will need to watch carefully for any evidence of a reaction taking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If a reaction takes place, put a tick into the relevant box. If no reaction takes place, put a cro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If a reaction takes place, try and describe what is happ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Wash all the reactions into a large beaker – do NOT put any solids into the sin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Repeat for each metal using fresh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447920" y="1219320"/>
            <a:ext cx="6653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447920" y="1219320"/>
            <a:ext cx="66531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447920" y="1219320"/>
            <a:ext cx="665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447920" y="1219320"/>
            <a:ext cx="665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447920" y="1219320"/>
            <a:ext cx="665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447920" y="1219320"/>
            <a:ext cx="665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447920" y="1219320"/>
            <a:ext cx="66531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076720" y="121284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ulphu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Nit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Eth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447920" y="1219320"/>
            <a:ext cx="6653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447920" y="1219320"/>
            <a:ext cx="6653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no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1447920" y="1219320"/>
            <a:ext cx="66531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no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bbe0e3"/>
                </a:solidFill>
                <a:latin typeface="Times New Roman"/>
              </a:rPr>
              <a:t>copper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bbe0e3"/>
                </a:solidFill>
                <a:latin typeface="Times New Roman"/>
              </a:rPr>
              <a:t>is not more reactive than l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258920" y="436572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Metal  +  Acid  </a:t>
            </a:r>
            <a:r>
              <a:rPr b="1" lang="en-US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  Salt  +  Hyd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076720" y="121284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ulphu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Nit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Eth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FORMING SA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2T00:25:46Z</dcterms:created>
  <dc:creator>Gavin Lazaro</dc:creator>
  <dc:description/>
  <dc:language>en-US</dc:language>
  <cp:lastModifiedBy>RomaK</cp:lastModifiedBy>
  <dcterms:modified xsi:type="dcterms:W3CDTF">2015-09-02T05:57:24Z</dcterms:modified>
  <cp:revision>22</cp:revision>
  <dc:subject/>
  <dc:title>chemical reactions metals and acids</dc:title>
</cp:coreProperties>
</file>