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Times New Roman"/>
              </a:rPr>
              <a:t>Click to move the slide</a:t>
            </a: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0D13-38D4-42D2-B389-BAC2DF27D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AND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S AND ACI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! You should wear GOGGLES and LAB-COATS at all times during this prac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ain a dropping t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a few drops of each of the solutions to individual ‘holes’ in the dropping tile. Make sure you know which solution is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ose a 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one piece of that metal to each of the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e – you will need to watch carefully for any evidence of a reaction taking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reaction takes place, put a tick into the relevant box. If no reaction takes place, put a cro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reaction takes place, try and describe what is happ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all the reactions into a large beaker – do NOT put any solids into the sin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 for each metal using fresh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! You should wear GOGGLES and LAB-COATS at all times during this prac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ain a dropping t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a few drops of each of the solutions to individual ‘holes’ in the dropping tile. Make sure you know which solution is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ose a 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one piece of that metal to each of the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e – you will need to watch carefully for any evidence of a reaction taking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reaction takes place, put a tick into the relevant box. If no reaction takes place, put a cro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reaction takes place, try and describe what is happ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all the reactions into a large beaker – do NOT put any solids into the sin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 for each metal using fresh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AND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S AND ACI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AND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phu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h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S AND ACI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itr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thano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+ lead (II) sulphate  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+ lead (II) sulphate  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+ lead (II) sulphate    no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+ lead (II) sulphate    no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+ lead (II) sulphate    no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is not more reactive than lea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+ lead (II) sulphate    no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is not more reactive than lea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AND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  +  Acid    Salt  + 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phu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h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S AND ACI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  +  Acid    Salt  +  Hydrog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itr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thano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685800" y="16596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Times New Roman"/>
              </a:rPr>
              <a:t>Chemical Re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838080" y="1143000"/>
            <a:ext cx="228600" cy="5029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7620120" y="63244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e0e3"/>
                </a:solidFill>
                <a:latin typeface="Times New Roman"/>
              </a:rPr>
              <a:t>gala/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1219320" y="6094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c7d4"/>
                </a:solidFill>
                <a:latin typeface="Trebuchet MS"/>
              </a:rPr>
              <a:t>METALS AND AC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o Re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copper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copper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copper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calc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copper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calc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187280" y="1397160"/>
          <a:ext cx="7201080" cy="4410000"/>
        </p:xfrm>
        <a:graphic>
          <a:graphicData uri="http://schemas.openxmlformats.org/drawingml/2006/table">
            <a:tbl>
              <a:tblPr/>
              <a:tblGrid>
                <a:gridCol w="1424160"/>
                <a:gridCol w="952560"/>
                <a:gridCol w="1295280"/>
                <a:gridCol w="1224000"/>
                <a:gridCol w="1081080"/>
                <a:gridCol w="1224000"/>
              </a:tblGrid>
              <a:tr h="102924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so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 (I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 (II)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 (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1447920" y="1219320"/>
            <a:ext cx="6653160" cy="54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Care! You should wear GOGGLES and LAB-COATS at all times during this prac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Obtain a dropping t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dd a few drops of each of the solutions to individual ‘holes’ in the dropping tile. Make sure you know which solution is wh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Choose a me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dd one piece of that metal to each of the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Observe – you will need to watch carefully for any evidence of a reaction taking 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If a reaction takes place, put a tick into the relevant box. If no reaction takes place, put a cro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If a reaction takes place, try and describe what is happe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Wash all the reactions into a large beaker – do NOT put any solids into the sink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Repeat for each metal using fresh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187280" y="1397160"/>
          <a:ext cx="7201080" cy="4356000"/>
        </p:xfrm>
        <a:graphic>
          <a:graphicData uri="http://schemas.openxmlformats.org/drawingml/2006/table">
            <a:tbl>
              <a:tblPr/>
              <a:tblGrid>
                <a:gridCol w="1424160"/>
                <a:gridCol w="952560"/>
                <a:gridCol w="1295280"/>
                <a:gridCol w="1224000"/>
                <a:gridCol w="1081080"/>
                <a:gridCol w="1224000"/>
              </a:tblGrid>
              <a:tr h="9720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 ion so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 (I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 (II)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 (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187280" y="1397160"/>
          <a:ext cx="7201080" cy="4356000"/>
        </p:xfrm>
        <a:graphic>
          <a:graphicData uri="http://schemas.openxmlformats.org/drawingml/2006/table">
            <a:tbl>
              <a:tblPr/>
              <a:tblGrid>
                <a:gridCol w="1424160"/>
                <a:gridCol w="952560"/>
                <a:gridCol w="1295280"/>
                <a:gridCol w="1224000"/>
                <a:gridCol w="1081080"/>
                <a:gridCol w="1224000"/>
              </a:tblGrid>
              <a:tr h="9720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 ion so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 (I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 (II)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 (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187280" y="1397160"/>
          <a:ext cx="7201080" cy="4356000"/>
        </p:xfrm>
        <a:graphic>
          <a:graphicData uri="http://schemas.openxmlformats.org/drawingml/2006/table">
            <a:tbl>
              <a:tblPr/>
              <a:tblGrid>
                <a:gridCol w="1424160"/>
                <a:gridCol w="952560"/>
                <a:gridCol w="1295280"/>
                <a:gridCol w="1224000"/>
                <a:gridCol w="1081080"/>
                <a:gridCol w="1224000"/>
              </a:tblGrid>
              <a:tr h="9720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 ion so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 (I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 (II)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 (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219320" y="6094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c7d4"/>
                </a:solidFill>
                <a:latin typeface="Trebuchet MS"/>
              </a:rPr>
              <a:t>METALS AND AC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1476360" y="1197000"/>
            <a:ext cx="2590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Me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Magnes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So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Calc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187280" y="1397160"/>
          <a:ext cx="7201080" cy="4356000"/>
        </p:xfrm>
        <a:graphic>
          <a:graphicData uri="http://schemas.openxmlformats.org/drawingml/2006/table">
            <a:tbl>
              <a:tblPr/>
              <a:tblGrid>
                <a:gridCol w="1424160"/>
                <a:gridCol w="952560"/>
                <a:gridCol w="1295280"/>
                <a:gridCol w="1224000"/>
                <a:gridCol w="1081080"/>
                <a:gridCol w="1224000"/>
              </a:tblGrid>
              <a:tr h="9720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 ion so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 (I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 (II)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 (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187280" y="1397160"/>
          <a:ext cx="7201080" cy="4356000"/>
        </p:xfrm>
        <a:graphic>
          <a:graphicData uri="http://schemas.openxmlformats.org/drawingml/2006/table">
            <a:tbl>
              <a:tblPr/>
              <a:tblGrid>
                <a:gridCol w="1424160"/>
                <a:gridCol w="952560"/>
                <a:gridCol w="1295280"/>
                <a:gridCol w="1224000"/>
                <a:gridCol w="1081080"/>
                <a:gridCol w="1224000"/>
              </a:tblGrid>
              <a:tr h="9720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 ion so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 (I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 (II)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 (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187280" y="1397160"/>
          <a:ext cx="7201080" cy="4356000"/>
        </p:xfrm>
        <a:graphic>
          <a:graphicData uri="http://schemas.openxmlformats.org/drawingml/2006/table">
            <a:tbl>
              <a:tblPr/>
              <a:tblGrid>
                <a:gridCol w="1424160"/>
                <a:gridCol w="952560"/>
                <a:gridCol w="1295280"/>
                <a:gridCol w="1224000"/>
                <a:gridCol w="1081080"/>
                <a:gridCol w="1224000"/>
              </a:tblGrid>
              <a:tr h="9720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 ion so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 (I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 (II)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 (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1447920" y="1219320"/>
            <a:ext cx="66531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1447920" y="1219320"/>
            <a:ext cx="66531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1447920" y="1219320"/>
            <a:ext cx="6653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1447920" y="1219320"/>
            <a:ext cx="6653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magnesium is more reactive than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1447920" y="1219320"/>
            <a:ext cx="6653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magnesium is more reactive than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lead  +  copper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1447920" y="1219320"/>
            <a:ext cx="6653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magnesium is more reactive than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lead  +  copper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lead (II) sulphate  + 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1447920" y="1219320"/>
            <a:ext cx="665316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magnesium is more reactive than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lead  +  copper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lead (II) sulphate  + 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lead is more reactive than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219320" y="6094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c7d4"/>
                </a:solidFill>
                <a:latin typeface="Trebuchet MS"/>
              </a:rPr>
              <a:t>METALS AND AC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1476360" y="1197000"/>
            <a:ext cx="2590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Me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Magnes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So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Calc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5076720" y="1212840"/>
            <a:ext cx="2590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Ac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Hydrochlor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Sulphur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Nitr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Ethano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1447920" y="1219320"/>
            <a:ext cx="66531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magnesium is more reactive than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lead  +  copper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lead (II) sulphate  + 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lead is more reactive than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b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copper + lead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1447920" y="1219320"/>
            <a:ext cx="66531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magnesium is more reactive than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lead  +  copper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lead (II) sulphate  + 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lead is more reactive than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b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copper + lead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 no re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1447920" y="1219320"/>
            <a:ext cx="665316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magnesium is more reactive than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lead  +  copper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lead (II) sulphate  + 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lead is more reactive than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b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copper + lead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 no re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bbe0e3"/>
                </a:solidFill>
                <a:latin typeface="Times New Roman"/>
              </a:rPr>
              <a:t>copper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bbe0e3"/>
                </a:solidFill>
                <a:latin typeface="Times New Roman"/>
              </a:rPr>
              <a:t>is not more reactive than lea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219320" y="6094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c7d4"/>
                </a:solidFill>
                <a:latin typeface="Trebuchet MS"/>
              </a:rPr>
              <a:t>METALS AND AC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1258920" y="436572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Metal  +  Acid  </a:t>
            </a:r>
            <a:r>
              <a:rPr b="1" lang="en-US" sz="24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  Salt  +  Hydr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1476360" y="1197000"/>
            <a:ext cx="2590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Me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Magnes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So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Calc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5076720" y="1212840"/>
            <a:ext cx="2590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Ac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Hydrochlor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Sulphur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Nitr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Ethano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219320" y="6094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c7d4"/>
                </a:solidFill>
                <a:latin typeface="Trebuchet MS"/>
              </a:rPr>
              <a:t>FORMING SA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02T00:25:46Z</dcterms:created>
  <dc:creator>Gavin Lazaro</dc:creator>
  <dc:description/>
  <dc:language>en-US</dc:language>
  <cp:lastModifiedBy>RomaK</cp:lastModifiedBy>
  <dcterms:modified xsi:type="dcterms:W3CDTF">2015-09-02T05:57:24Z</dcterms:modified>
  <cp:revision>22</cp:revision>
  <dc:subject/>
  <dc:title>chemical reactions metals and acids</dc:title>
</cp:coreProperties>
</file>