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526E-9139-4D8B-A7F4-6E02B5FF9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Lithographic View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California Gold 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50-18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ictorial Letter Sheets and Lithographs produc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ton &amp; Rey Company, San Francisc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4 Lithographic Views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f the California Gold Rush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850-1857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rom Pictorial Letter Sheets and Lithographs produced b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Britton &amp; Rey Company, San Francisco,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nd other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REAM OF A PROSPECTING M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DREAM OF A PROSPECTING MINER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ESTIAL EMPIRE IN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ELESTIAL EMPIRE IN CALIFORNIA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INER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ESTIAL EMPIRE IN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B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ELESTIAL EMPIRE IN CALIFORNIA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AMBLER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upont Street) SAN-FRANCISCO, 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bourne &amp; Co. Lith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NESE LIFE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Dupont Street) SAN-FRANCISCO, CAL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ishbourne &amp; Co. Lithograph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HINESE LIFE!!!!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ograph by Britton &amp; Rey San Francisc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BLING IN THE M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ograph by Britton &amp; Rey San Francisco.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AMBLING IN THE MINE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NTE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ograph by Britton &amp; Rey San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BLING IN THE M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ograph by Britton &amp; Rey San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AMBLING IN THE MINE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ARO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useum of the City of San Francis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0 Gladys Cox Han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epared b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Museum of the City of San Francisco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©2000 Gladys Cox Hansen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d at the WIDE WEST OFFICE, 184 Clay Street,San Francis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 CALIFORNIA MINES ARE WOR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ublished at the WIDE WEST OFFICE, 184 Clay Street,San Francisco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HOW THE CALIFORNIA MINES ARE WORKED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N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MINERS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S AT WORK WITH LONG 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INERS AT WORK WITH LONG TOM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ONG TOM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and Published  by  Britton &amp; R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and Published  by  Britton &amp; Rey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LUME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and Published by  Britton &amp; R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NG WATER WH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and Published by  Britton &amp; Rey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LEVATING WATER WHEEL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S WEIGHING THEIR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INERS WEIGHING THEIR GOLD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ING THE P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IVIDING THE PILE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25A3-759E-45CC-A90C-CBB3ABC7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2937-C293-41B4-AC11-3B339BFD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F599-A8B9-4F7F-8FB8-50E5A2067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C578-1EE0-4178-894E-715C349E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83E5-4325-411D-81B2-4F616969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E90B-BDB6-4196-A1ED-BBBC8479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BF85-F138-4ADA-BE5D-262BE493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AF7A-8DE4-4898-A7A1-FBCC222F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2E00-04BA-49B5-9024-DB96D4E7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9A8C-8A78-4530-963F-8E0C9306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05CB-A3F9-4B6E-B2E7-FC99DF06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4D22-5A7A-46AB-8BDA-99278992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D911-08CB-47BE-9F76-AD2F08EBD628}" type="slidenum">
              <a:rPr b="0" lang="en-US" sz="14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434960" y="1660680"/>
            <a:ext cx="6275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14 Lithographic Views 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of the California Gold Rush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1850-1857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240280" y="4191120"/>
            <a:ext cx="4758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From Pictorial Letter Sheets and Lithographs produced by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Britton &amp; Rey Company, San Francisco,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and others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754200" y="5867280"/>
            <a:ext cx="585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4" name="Picture 5" descr="&#9;gold1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155600"/>
            <a:ext cx="7621560" cy="45468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470160" y="334800"/>
            <a:ext cx="829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DREAM OF A PROSPECTING MINER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1010520" y="304920"/>
            <a:ext cx="72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ELESTIAL EMPIRE IN CALIFORNI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52280" y="64152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9" name="Picture 5" descr="&#10;GOLD13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022400"/>
            <a:ext cx="7621560" cy="48132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3888720" y="586728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INER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&#10;GOLD14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996840"/>
            <a:ext cx="7621560" cy="48643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1010520" y="304920"/>
            <a:ext cx="72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ELESTIAL EMPIRE IN CALIFORNI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52280" y="64152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660480" y="586728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AMBLER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2057400" y="6110280"/>
            <a:ext cx="5105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(Dupont Street) </a:t>
            </a: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SAN-FRANCISCO, CAL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ishbourne &amp; Co. Lithography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8" name="Picture 4" descr="&#10;GOLD10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914400" y="861840"/>
            <a:ext cx="7392960" cy="52340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2971080" y="228600"/>
            <a:ext cx="352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HINESE LIFE!!!!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680400" y="6248520"/>
            <a:ext cx="513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ograph by Britton &amp; Rey San Francisco.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979640" y="168120"/>
            <a:ext cx="52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GAMBLING IN THE MIN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3" name="Picture 5" descr="&#9;gold8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774720"/>
            <a:ext cx="7621560" cy="48639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3930840" y="56386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ONT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&#9;GOLD9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838080"/>
            <a:ext cx="7621560" cy="45468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669600" y="6248520"/>
            <a:ext cx="50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ograph by Britton &amp; Rey San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979640" y="168120"/>
            <a:ext cx="52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GAMBLING IN THE MIN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057920" y="55627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ARO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53160" y="2319480"/>
            <a:ext cx="84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Prepared by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the Museum of the City of San Francisco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398760" y="4191120"/>
            <a:ext cx="23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©2000 Gladys Cox Hansen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5000">
    <p:wipe dir="u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advTm="2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380880" y="5745240"/>
            <a:ext cx="746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Published at the WIDE WEST OFFICE, 184 Clay Street,San Francisco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2" name="Picture 4" descr="&#9;gold7.gif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457200" y="1066680"/>
            <a:ext cx="8153280" cy="42134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HOW THE CALIFORNIA MINES ARE WORKED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609480" y="586728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6" name="Picture 4" descr="&#9;GOLD6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270080"/>
            <a:ext cx="7621560" cy="43178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3140640" y="357120"/>
            <a:ext cx="28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MINERS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836280" y="457200"/>
            <a:ext cx="754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INERS AT WORK WITH LONG TOM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0" name="Picture 4" descr="&#9;GOLD3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486080"/>
            <a:ext cx="7621560" cy="38862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677880" y="5692680"/>
            <a:ext cx="585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609480" y="6004080"/>
            <a:ext cx="674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4" name="Picture 4" descr="&#10;GOLD16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015920"/>
            <a:ext cx="7621560" cy="48261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3327840" y="304920"/>
            <a:ext cx="24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LONG TOM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683280" y="6095880"/>
            <a:ext cx="44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and Published  by  Britton &amp; Rey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8" name="Picture 4" descr="&#10;gold11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022400"/>
            <a:ext cx="7621560" cy="48132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3828240" y="30492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LUM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759600" y="6095880"/>
            <a:ext cx="43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and Published by  Britton &amp; Rey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2" name="Picture 4" descr="&#10;gold12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035000"/>
            <a:ext cx="7621560" cy="478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1751760" y="304920"/>
            <a:ext cx="569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LEVATING WATER WHE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685800" y="6080040"/>
            <a:ext cx="666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6" name="Picture 4" descr="&#9;gold2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824040"/>
            <a:ext cx="7621560" cy="52084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1213560" y="152280"/>
            <a:ext cx="67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INERS WEIGHING THEIR GOLD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678960" y="5715000"/>
            <a:ext cx="589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0" name="Picture 4" descr="&#10;GOLD15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467000"/>
            <a:ext cx="7621560" cy="3924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2549160" y="457200"/>
            <a:ext cx="40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IVIDING THE PILE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9T21:37:03Z</dcterms:created>
  <dc:creator>Museum of the City of San Francisco</dc:creator>
  <dc:description/>
  <dc:language>en-US</dc:language>
  <cp:lastModifiedBy>Legion</cp:lastModifiedBy>
  <dcterms:modified xsi:type="dcterms:W3CDTF">2017-07-05T08:02:03Z</dcterms:modified>
  <cp:revision>21</cp:revision>
  <dc:subject/>
  <dc:title>No Slide Title</dc:title>
</cp:coreProperties>
</file>