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D928F-296B-4E0F-8986-F85D5D5FC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 Lithographic View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California Gold Ru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50-18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Pictorial Letter Sheets and Lithographs produced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ton &amp; Rey Company, San Francisc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4 Lithographic Views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of the California Gold Rush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850-1857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rom Pictorial Letter Sheets and Lithographs produced b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Britton &amp; Rey Company, San Francisco,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and others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. &amp; Published by Britton &amp; Re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er Montgomery &amp; California sts. S. Francis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REAM OF A PROSPECTING MI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ith. &amp; Published by Britton &amp; Rey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rner Montgomery &amp; California sts. S. Francisco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HE DREAM OF A PROSPECTING MINER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ESTIAL EMPIRE IN CALIFOR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. &amp; Published by Britton &amp; Rey Corner Montgomery &amp; California sts. S. Francis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ELESTIAL EMPIRE IN CALIFORNIA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ith. &amp; Published by Britton &amp; Rey Corner Montgomery &amp; California sts. S. Francisco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INERS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ESTIAL EMPIRE IN CALIFOR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. &amp; Published by Britton &amp; Rey Corner Montgomery &amp; California sts. S. Francis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BL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ELESTIAL EMPIRE IN CALIFORNIA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ith. &amp; Published by Britton &amp; Rey Corner Montgomery &amp; California sts. S. Francisco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GAMBLERS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upont Street) SAN-FRANCISCO, C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bourne &amp; Co. Lith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NESE LIFE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(Dupont Street) SAN-FRANCISCO, CAL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ishbourne &amp; Co. Lithograph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HINESE LIFE!!!!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ograph by Britton &amp; Rey San Francisc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BLING IN THE M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ithograph by Britton &amp; Rey San Francisco.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GAMBLING IN THE MINES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ONTE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ograph by Britton &amp; Rey San Francis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BLING IN THE M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ithograph by Britton &amp; Rey San Francisco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GAMBLING IN THE MINES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ARO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ed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useum of the City of San Francis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2000 Gladys Cox Hans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Prepared by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he Museum of the City of San Francisco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©2000 Gladys Cox Hansen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shed at the WIDE WEST OFFICE, 184 Clay Street,San Francis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HE CALIFORNIA MINES ARE WOR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Published at the WIDE WEST OFFICE, 184 Clay Street,San Francisco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HOW THE CALIFORNIA MINES ARE WORKED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. &amp; Published by Britton &amp; Re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er Montgomery &amp; California sts. S. Francis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N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ith. &amp; Published by Britton &amp; Rey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rner Montgomery &amp; California sts. S. Francisco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HE MINERS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S AT WORK WITH LONG 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. &amp; Published by Britton &amp; Re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er Montgomery &amp; California sts. S. Francis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INERS AT WORK WITH LONG TOMS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ith. &amp; Published by Britton &amp; Rey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rner Montgomery &amp; California sts. S. Francisco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. &amp; Published by Britton &amp; Re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er Montgomery &amp; California Sts. S. Francis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 T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ith. &amp; Published by Britton &amp; Rey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rner Montgomery &amp; California Sts. S. Francisco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ONG TOM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. and Published  by  Britton &amp; R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ith. and Published  by  Britton &amp; Rey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LUME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. and Published by  Britton &amp; R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VATING WATER WHE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ith. and Published by  Britton &amp; Rey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LEVATING WATER WHEEL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. &amp; Published by Britton &amp; Re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er Montgomery &amp; California sts. S. Francis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S WEIGHING THEIR G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ith. &amp; Published by Britton &amp; Rey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rner Montgomery &amp; California sts. S. Francisco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INERS WEIGHING THEIR GOLD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. &amp; Published by Britton &amp; Re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er Montgomery &amp; California Sts. S. Francis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ING THE P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ith. &amp; Published by Britton &amp; Rey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rner Montgomery &amp; California Sts. S. Francisco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IVIDING THE PILE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3A09-88A5-41DA-9034-83FF963DC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33B1-47AC-4567-BA35-DCED3B9B7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617A-E3BF-4C36-8CC9-EE919DE98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9DE0-52E2-4B8E-8771-5E5961E7C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A1BC-CC67-4DDD-91B0-0AD9D29CC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93D3-C7ED-4E0A-B3DA-ACCF9F0C7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E6B0-1BAC-458D-8999-01EFC73A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3F51-F6CB-46B0-9822-4D2E23D06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34CE-B0A7-4B43-8EAC-10E7613F8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9E08-4D59-4FDB-AE4C-3DF2005E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2F4D-E667-4E24-A6F4-9B3ED489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2E39-1727-4A4B-AF3D-8E29F831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95D14-CE5A-4D7D-90FF-80100807EC69}" type="slidenum">
              <a:rPr b="0" lang="en-US" sz="14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434960" y="1660680"/>
            <a:ext cx="6275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14 Lithographic Views 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of the California Gold Rush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1850-1857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2240280" y="4191120"/>
            <a:ext cx="4758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From Pictorial Letter Sheets and Lithographs produced by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Britton &amp; Rey Company, San Francisco,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and others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8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754200" y="5867280"/>
            <a:ext cx="585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Lith. &amp; Published by Britton &amp; Rey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orner Montgomery &amp; California sts. S. Francisco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84" name="Picture 5" descr="&#9;gold1.jpg 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760320" y="1155600"/>
            <a:ext cx="7621560" cy="45468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6"/>
          <p:cNvSpPr/>
          <p:nvPr/>
        </p:nvSpPr>
        <p:spPr>
          <a:xfrm>
            <a:off x="470160" y="334800"/>
            <a:ext cx="829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HE DREAM OF A PROSPECTING MINER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3"/>
          <p:cNvSpPr/>
          <p:nvPr/>
        </p:nvSpPr>
        <p:spPr>
          <a:xfrm>
            <a:off x="1010520" y="304920"/>
            <a:ext cx="725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ELESTIAL EMPIRE IN CALIFORNIA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152280" y="641520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Lith. &amp; Published by Britton &amp; Rey Corner Montgomery &amp; California sts. S. Francisco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89" name="Picture 5" descr="&#10;GOLD13.jpg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760320" y="1022400"/>
            <a:ext cx="7621560" cy="48132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3888720" y="586728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MINER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&#10;GOLD14.jpg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760320" y="996840"/>
            <a:ext cx="7621560" cy="48643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"/>
          <p:cNvSpPr/>
          <p:nvPr/>
        </p:nvSpPr>
        <p:spPr>
          <a:xfrm>
            <a:off x="1010520" y="304920"/>
            <a:ext cx="725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ELESTIAL EMPIRE IN CALIFORNIA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52280" y="641520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Lith. &amp; Published by Britton &amp; Rey Corner Montgomery &amp; California sts. S. Francisco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3660480" y="5867280"/>
            <a:ext cx="18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AMBLER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3"/>
          <p:cNvSpPr/>
          <p:nvPr/>
        </p:nvSpPr>
        <p:spPr>
          <a:xfrm>
            <a:off x="2057400" y="6110280"/>
            <a:ext cx="5105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(Dupont Street) </a:t>
            </a:r>
            <a:r>
              <a:rPr b="0" i="1" lang="en-US" sz="2000" spc="-1" strike="noStrike">
                <a:solidFill>
                  <a:srgbClr val="ffcc00"/>
                </a:solidFill>
                <a:latin typeface="Arial"/>
              </a:rPr>
              <a:t>SAN-FRANCISCO, CAL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Fishbourne &amp; Co. Lithography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98" name="Picture 4" descr="&#10;GOLD10.jpg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914400" y="861840"/>
            <a:ext cx="7392960" cy="523404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5"/>
          <p:cNvSpPr/>
          <p:nvPr/>
        </p:nvSpPr>
        <p:spPr>
          <a:xfrm>
            <a:off x="2971080" y="228600"/>
            <a:ext cx="352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HINESE LIFE!!!!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3"/>
          <p:cNvSpPr/>
          <p:nvPr/>
        </p:nvSpPr>
        <p:spPr>
          <a:xfrm>
            <a:off x="680400" y="6248520"/>
            <a:ext cx="513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Lithograph by Britton &amp; Rey San Francisco.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979640" y="168120"/>
            <a:ext cx="52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GAMBLING IN THE MINE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03" name="Picture 5" descr="&#9;gold8.jpg 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760320" y="774720"/>
            <a:ext cx="7621560" cy="486396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6"/>
          <p:cNvSpPr/>
          <p:nvPr/>
        </p:nvSpPr>
        <p:spPr>
          <a:xfrm>
            <a:off x="3930840" y="56386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MONTE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3" descr="&#9;GOLD9.jpg 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760320" y="838080"/>
            <a:ext cx="7621560" cy="45468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"/>
          <p:cNvSpPr/>
          <p:nvPr/>
        </p:nvSpPr>
        <p:spPr>
          <a:xfrm>
            <a:off x="669600" y="6248520"/>
            <a:ext cx="50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Lithograph by Britton &amp; Rey San Francisco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979640" y="168120"/>
            <a:ext cx="52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GAMBLING IN THE MINE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4057920" y="556272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ARO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353160" y="2319480"/>
            <a:ext cx="843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Prepared by 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the Museum of the City of San Francisco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3398760" y="4191120"/>
            <a:ext cx="23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©2000 Gladys Cox Hansen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5000">
    <p:wipe dir="u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advTm="2000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380880" y="5745240"/>
            <a:ext cx="746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Published at the WIDE WEST OFFICE, 184 Clay Street,San Francisco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2" name="Picture 4" descr="&#9;gold7.gif 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457200" y="1066680"/>
            <a:ext cx="8153280" cy="42134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HOW THE CALIFORNIA MINES ARE WORKED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"/>
          <p:cNvSpPr/>
          <p:nvPr/>
        </p:nvSpPr>
        <p:spPr>
          <a:xfrm>
            <a:off x="609480" y="5867280"/>
            <a:ext cx="594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Lith. &amp; Published by Britton &amp; Rey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orner Montgomery &amp; California sts. S. Francisco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6" name="Picture 4" descr="&#9;GOLD6.jpg 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760320" y="1270080"/>
            <a:ext cx="7621560" cy="43178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5"/>
          <p:cNvSpPr/>
          <p:nvPr/>
        </p:nvSpPr>
        <p:spPr>
          <a:xfrm>
            <a:off x="3140640" y="357120"/>
            <a:ext cx="280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HE MINERS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836280" y="457200"/>
            <a:ext cx="754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MINERS AT WORK WITH LONG TOM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0" name="Picture 4" descr="&#9;GOLD3.jpg 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760320" y="1486080"/>
            <a:ext cx="7621560" cy="38862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677880" y="5692680"/>
            <a:ext cx="585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Lith. &amp; Published by Britton &amp; Rey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orner Montgomery &amp; California sts. S. Francisco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609480" y="6004080"/>
            <a:ext cx="674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Lith. &amp; Published by Britton &amp; Rey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orner Montgomery &amp; California Sts. S. Francisco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4" name="Picture 4" descr="&#10;GOLD16.jpg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760320" y="1015920"/>
            <a:ext cx="7621560" cy="482616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3327840" y="304920"/>
            <a:ext cx="24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LONG TOM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683280" y="6095880"/>
            <a:ext cx="446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Lith. and Published  by  Britton &amp; Rey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8" name="Picture 4" descr="&#10;gold11.jpg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760320" y="1022400"/>
            <a:ext cx="7621560" cy="48132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"/>
          <p:cNvSpPr/>
          <p:nvPr/>
        </p:nvSpPr>
        <p:spPr>
          <a:xfrm>
            <a:off x="3828240" y="304920"/>
            <a:ext cx="158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FLUME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759600" y="6095880"/>
            <a:ext cx="43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Lith. and Published by  Britton &amp; Rey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2" name="Picture 4" descr="&#10;gold12.jpg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760320" y="1035000"/>
            <a:ext cx="7621560" cy="4788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5"/>
          <p:cNvSpPr/>
          <p:nvPr/>
        </p:nvSpPr>
        <p:spPr>
          <a:xfrm>
            <a:off x="1751760" y="304920"/>
            <a:ext cx="569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LEVATING WATER WHE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685800" y="6080040"/>
            <a:ext cx="666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Lith. &amp; Published by Britton &amp; Rey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orner Montgomery &amp; California sts. S. Francisco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6" name="Picture 4" descr="&#9;gold2.jpg 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760320" y="824040"/>
            <a:ext cx="7621560" cy="520848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5"/>
          <p:cNvSpPr/>
          <p:nvPr/>
        </p:nvSpPr>
        <p:spPr>
          <a:xfrm>
            <a:off x="1213560" y="152280"/>
            <a:ext cx="67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MINERS WEIGHING THEIR GOLD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3"/>
          <p:cNvSpPr/>
          <p:nvPr/>
        </p:nvSpPr>
        <p:spPr>
          <a:xfrm>
            <a:off x="678960" y="5715000"/>
            <a:ext cx="589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Lith. &amp; Published by Britton &amp; Rey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orner Montgomery &amp; California Sts. S. Francisco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80" name="Picture 4" descr="&#10;GOLD15.jpg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760320" y="1467000"/>
            <a:ext cx="7621560" cy="3924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5"/>
          <p:cNvSpPr/>
          <p:nvPr/>
        </p:nvSpPr>
        <p:spPr>
          <a:xfrm>
            <a:off x="2549160" y="457200"/>
            <a:ext cx="40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DIVIDING THE PILE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9T21:37:03Z</dcterms:created>
  <dc:creator>Museum of the City of San Francisco</dc:creator>
  <dc:description/>
  <dc:language>en-US</dc:language>
  <cp:lastModifiedBy>Legion</cp:lastModifiedBy>
  <dcterms:modified xsi:type="dcterms:W3CDTF">2017-07-05T08:02:03Z</dcterms:modified>
  <cp:revision>21</cp:revision>
  <dc:subject/>
  <dc:title>No Slide Title</dc:title>
</cp:coreProperties>
</file>