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54FF3-E9E5-4C01-BB0C-FF4C9A7534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 Lithographic View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California Gold Ru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50-18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Pictorial Letter Sheets and Lithographs produced 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tton &amp; Rey Company, San Francisco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4 Lithographic Views 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of the California Gold Rush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850-1857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From Pictorial Letter Sheets and Lithographs produced by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Britton &amp; Rey Company, San Francisco,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and others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h. &amp; Published by Britton &amp; Re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ner Montgomery &amp; California sts. S. Francisc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REAM OF A PROSPECTING MIN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Lith. &amp; Published by Britton &amp; Rey 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Corner Montgomery &amp; California sts. S. Francisco.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THE DREAM OF A PROSPECTING MINER.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ESTIAL EMPIRE IN CALIFOR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h. &amp; Published by Britton &amp; Rey Corner Montgomery &amp; California sts. S. Francisc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CELESTIAL EMPIRE IN CALIFORNIA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Lith. &amp; Published by Britton &amp; Rey Corner Montgomery &amp; California sts. S. Francisco.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MINERS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ESTIAL EMPIRE IN CALIFOR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h. &amp; Published by Britton &amp; Rey Corner Montgomery &amp; California sts. S. Francisc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BL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CELESTIAL EMPIRE IN CALIFORNIA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Lith. &amp; Published by Britton &amp; Rey Corner Montgomery &amp; California sts. S. Francisco.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GAMBLERS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Dupont Street) SAN-FRANCISCO, C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shbourne &amp; Co. Lithograp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NESE LIFE!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(Dupont Street) SAN-FRANCISCO, CAL.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Fishbourne &amp; Co. Lithography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CHINESE LIFE!!!!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hograph by Britton &amp; Rey San Francisc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BLING IN THE M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Lithograph by Britton &amp; Rey San Francisco. 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GAMBLING IN THE MINES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MONTE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hograph by Britton &amp; Rey San Francisc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BLING IN THE M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Lithograph by Britton &amp; Rey San Francisco.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GAMBLING IN THE MINES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FARO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pared b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useum of the City of San Francis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2000 Gladys Cox Hans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Prepared by 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the Museum of the City of San Francisco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©2000 Gladys Cox Hansen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blished at the WIDE WEST OFFICE, 184 Clay Street,San Francis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HE CALIFORNIA MINES ARE WOR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Published at the WIDE WEST OFFICE, 184 Clay Street,San Francisco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HOW THE CALIFORNIA MINES ARE WORKED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h. &amp; Published by Britton &amp; Re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ner Montgomery &amp; California sts. S. Francisc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N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Lith. &amp; Published by Britton &amp; Rey 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Corner Montgomery &amp; California sts. S. Francisco.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THE MINERS.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ERS AT WORK WITH LONG 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h. &amp; Published by Britton &amp; Re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ner Montgomery &amp; California sts. S. Francisc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MINERS AT WORK WITH LONG TOMS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Lith. &amp; Published by Britton &amp; Rey 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Corner Montgomery &amp; California sts. S. Francisco.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h. &amp; Published by Britton &amp; Re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ner Montgomery &amp; California Sts. S. Francisc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G TO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Lith. &amp; Published by Britton &amp; Rey 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Corner Montgomery &amp; California Sts. S. Francisco.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LONG TOM.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h. and Published  by  Britton &amp; Re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U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Lith. and Published  by  Britton &amp; Rey.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FLUME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h. and Published by  Britton &amp; Re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VATING WATER WHE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Lith. and Published by  Britton &amp; Rey.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ELEVATING WATER WHEEL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h. &amp; Published by Britton &amp; Re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ner Montgomery &amp; California sts. S. Francisc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ERS WEIGHING THEIR GO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Lith. &amp; Published by Britton &amp; Rey 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Corner Montgomery &amp; California sts. S. Francisco.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MINERS WEIGHING THEIR GOLD.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h. &amp; Published by Britton &amp; Re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ner Montgomery &amp; California Sts. S. Francisc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VIDING THE P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Lith. &amp; Published by Britton &amp; Rey 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Corner Montgomery &amp; California Sts. S. Francisco.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DIVIDING THE PILE.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16E1-79C8-4F7C-8503-37AE47517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F60D-0B35-44E0-891F-84AF3082D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FF43-0FCA-4A1A-8CDB-53D42B732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4965-1D99-4286-8641-FA7CB25E3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1E15-080B-4F10-9314-BE45ABA64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51E1-71AB-4724-A951-2B64ADE13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A942-86EC-4063-BC20-44E0FD39D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C3FA-A34B-4E39-8145-C196BFCB3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88A5-0E92-4275-BDEA-EE90AA163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C0A7-845D-4DAA-BDF6-6CF33FF61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3DC2-9441-479A-BECD-49E4235F0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CD2A-E86C-4C7F-89C8-CE7E70995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9AEA0-09B7-422F-9145-41BE5150ED6C}" type="slidenum">
              <a:rPr b="0" lang="en-US" sz="14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1434960" y="1660680"/>
            <a:ext cx="62751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14 Lithographic Views 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of the California Gold Rush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1850-1857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2240280" y="4191120"/>
            <a:ext cx="4758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From Pictorial Letter Sheets and Lithographs produced by</a:t>
            </a: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Britton &amp; Rey Company, San Francisco,</a:t>
            </a: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and others</a:t>
            </a: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slow" advTm="10000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8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4"/>
          <p:cNvSpPr/>
          <p:nvPr/>
        </p:nvSpPr>
        <p:spPr>
          <a:xfrm>
            <a:off x="754200" y="5867280"/>
            <a:ext cx="585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Lith. &amp; Published by Britton &amp; Rey 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Corner Montgomery &amp; California sts. S. Francisco.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84" name="Picture 5" descr="&#9;gold1.jpg                                                      000799CA_x000c_macintosh HD                   ABA78158:"/>
          <p:cNvPicPr/>
          <p:nvPr/>
        </p:nvPicPr>
        <p:blipFill>
          <a:blip r:embed="rId1"/>
          <a:stretch/>
        </p:blipFill>
        <p:spPr>
          <a:xfrm>
            <a:off x="760320" y="1155600"/>
            <a:ext cx="7621560" cy="454680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6"/>
          <p:cNvSpPr/>
          <p:nvPr/>
        </p:nvSpPr>
        <p:spPr>
          <a:xfrm>
            <a:off x="470160" y="334800"/>
            <a:ext cx="829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HE DREAM OF A PROSPECTING MINER.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slow" advTm="10000">
    <p:wipe dir="d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3"/>
          <p:cNvSpPr/>
          <p:nvPr/>
        </p:nvSpPr>
        <p:spPr>
          <a:xfrm>
            <a:off x="1010520" y="304920"/>
            <a:ext cx="725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CELESTIAL EMPIRE IN CALIFORNIA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152280" y="6415200"/>
            <a:ext cx="89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Lith. &amp; Published by Britton &amp; Rey Corner Montgomery &amp; California sts. S. Francisco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89" name="Picture 5" descr="&#10;GOLD13.jpg                                                     000799CA_x000c_macintosh HD                   ABA78158:"/>
          <p:cNvPicPr/>
          <p:nvPr/>
        </p:nvPicPr>
        <p:blipFill>
          <a:blip r:embed="rId1"/>
          <a:stretch/>
        </p:blipFill>
        <p:spPr>
          <a:xfrm>
            <a:off x="760320" y="1022400"/>
            <a:ext cx="7621560" cy="481320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6"/>
          <p:cNvSpPr/>
          <p:nvPr/>
        </p:nvSpPr>
        <p:spPr>
          <a:xfrm>
            <a:off x="3888720" y="5867280"/>
            <a:ext cx="136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MINERS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slow" advTm="10000">
    <p:wipe dir="d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5" descr="&#10;GOLD14.jpg                                                     000799CA_x000c_macintosh HD                   ABA78158:"/>
          <p:cNvPicPr/>
          <p:nvPr/>
        </p:nvPicPr>
        <p:blipFill>
          <a:blip r:embed="rId1"/>
          <a:stretch/>
        </p:blipFill>
        <p:spPr>
          <a:xfrm>
            <a:off x="760320" y="996840"/>
            <a:ext cx="7621560" cy="4864320"/>
          </a:xfrm>
          <a:prstGeom prst="rect">
            <a:avLst/>
          </a:prstGeom>
          <a:ln w="0">
            <a:noFill/>
          </a:ln>
        </p:spPr>
      </p:pic>
      <p:sp>
        <p:nvSpPr>
          <p:cNvPr id="93" name="Text Box 6"/>
          <p:cNvSpPr/>
          <p:nvPr/>
        </p:nvSpPr>
        <p:spPr>
          <a:xfrm>
            <a:off x="1010520" y="304920"/>
            <a:ext cx="725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CELESTIAL EMPIRE IN CALIFORNIA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152280" y="6415200"/>
            <a:ext cx="89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Lith. &amp; Published by Britton &amp; Rey Corner Montgomery &amp; California sts. S. Francisco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3660480" y="5867280"/>
            <a:ext cx="18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GAMBLERS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slow" advTm="10000">
    <p:wipe dir="d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19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3"/>
          <p:cNvSpPr/>
          <p:nvPr/>
        </p:nvSpPr>
        <p:spPr>
          <a:xfrm>
            <a:off x="2057400" y="6110280"/>
            <a:ext cx="51055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(Dupont Street) </a:t>
            </a:r>
            <a:r>
              <a:rPr b="0" i="1" lang="en-US" sz="2000" spc="-1" strike="noStrike">
                <a:solidFill>
                  <a:srgbClr val="ffcc00"/>
                </a:solidFill>
                <a:latin typeface="Arial"/>
              </a:rPr>
              <a:t>SAN-FRANCISCO, CAL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Fishbourne &amp; Co. Lithography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98" name="Picture 4" descr="&#10;GOLD10.jpg                                                     000799CA_x000c_macintosh HD                   ABA78158:"/>
          <p:cNvPicPr/>
          <p:nvPr/>
        </p:nvPicPr>
        <p:blipFill>
          <a:blip r:embed="rId1"/>
          <a:stretch/>
        </p:blipFill>
        <p:spPr>
          <a:xfrm>
            <a:off x="914400" y="861840"/>
            <a:ext cx="7392960" cy="523404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5"/>
          <p:cNvSpPr/>
          <p:nvPr/>
        </p:nvSpPr>
        <p:spPr>
          <a:xfrm>
            <a:off x="2971080" y="228600"/>
            <a:ext cx="352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CHINESE LIFE!!!!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slow" advTm="10000">
    <p:wipe dir="d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0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1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15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20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3"/>
          <p:cNvSpPr/>
          <p:nvPr/>
        </p:nvSpPr>
        <p:spPr>
          <a:xfrm>
            <a:off x="680400" y="6248520"/>
            <a:ext cx="513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Lithograph by Britton &amp; Rey San Francisco. 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1979640" y="168120"/>
            <a:ext cx="52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GAMBLING IN THE MINES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03" name="Picture 5" descr="&#9;gold8.jpg                                                      000799CA_x000c_macintosh HD                   ABA78158:"/>
          <p:cNvPicPr/>
          <p:nvPr/>
        </p:nvPicPr>
        <p:blipFill>
          <a:blip r:embed="rId1"/>
          <a:stretch/>
        </p:blipFill>
        <p:spPr>
          <a:xfrm>
            <a:off x="760320" y="774720"/>
            <a:ext cx="7621560" cy="486396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6"/>
          <p:cNvSpPr/>
          <p:nvPr/>
        </p:nvSpPr>
        <p:spPr>
          <a:xfrm>
            <a:off x="3930840" y="5638680"/>
            <a:ext cx="12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MONTE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slow" advTm="10000">
    <p:wipe dir="d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0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2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3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3" descr="&#9;GOLD9.jpg                                                      000799CA_x000c_macintosh HD                   ABA78158:"/>
          <p:cNvPicPr/>
          <p:nvPr/>
        </p:nvPicPr>
        <p:blipFill>
          <a:blip r:embed="rId1"/>
          <a:stretch/>
        </p:blipFill>
        <p:spPr>
          <a:xfrm>
            <a:off x="760320" y="838080"/>
            <a:ext cx="7621560" cy="454680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4"/>
          <p:cNvSpPr/>
          <p:nvPr/>
        </p:nvSpPr>
        <p:spPr>
          <a:xfrm>
            <a:off x="669600" y="6248520"/>
            <a:ext cx="50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Lithograph by Britton &amp; Rey San Francisco.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1979640" y="168120"/>
            <a:ext cx="52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GAMBLING IN THE MINES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4057920" y="556272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ARO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slow" advTm="10000">
    <p:wipe dir="d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0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4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5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353160" y="2319480"/>
            <a:ext cx="843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Prepared by 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the Museum of the City of San Francisco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3398760" y="4191120"/>
            <a:ext cx="23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©2000 Gladys Cox Hansen</a:t>
            </a: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slow" advTm="5000">
    <p:wipe dir="u"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0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6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Місце для нижнього колонтитула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advTm="2000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3"/>
          <p:cNvSpPr/>
          <p:nvPr/>
        </p:nvSpPr>
        <p:spPr>
          <a:xfrm>
            <a:off x="380880" y="5745240"/>
            <a:ext cx="746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"/>
              </a:rPr>
              <a:t>Published at the WIDE WEST OFFICE, 184 Clay Street,San Francisco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52" name="Picture 4" descr="&#9;gold7.gif                                                      000799CA_x000c_macintosh HD                   ABA78158:"/>
          <p:cNvPicPr/>
          <p:nvPr/>
        </p:nvPicPr>
        <p:blipFill>
          <a:blip r:embed="rId1"/>
          <a:stretch/>
        </p:blipFill>
        <p:spPr>
          <a:xfrm>
            <a:off x="457200" y="1066680"/>
            <a:ext cx="8153280" cy="421344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5"/>
          <p:cNvSpPr/>
          <p:nvPr/>
        </p:nvSpPr>
        <p:spPr>
          <a:xfrm>
            <a:off x="0" y="2286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HOW THE CALIFORNIA MINES ARE WORKED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slow" advTm="10000">
    <p:wipe dir="d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3"/>
          <p:cNvSpPr/>
          <p:nvPr/>
        </p:nvSpPr>
        <p:spPr>
          <a:xfrm>
            <a:off x="609480" y="5867280"/>
            <a:ext cx="5943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Lith. &amp; Published by Britton &amp; Rey 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Corner Montgomery &amp; California sts. S. Francisco.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56" name="Picture 4" descr="&#9;GOLD6.jpg                                                      000799CA_x000c_macintosh HD                   ABA78158:"/>
          <p:cNvPicPr/>
          <p:nvPr/>
        </p:nvPicPr>
        <p:blipFill>
          <a:blip r:embed="rId1"/>
          <a:stretch/>
        </p:blipFill>
        <p:spPr>
          <a:xfrm>
            <a:off x="760320" y="1270080"/>
            <a:ext cx="7621560" cy="431784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5"/>
          <p:cNvSpPr/>
          <p:nvPr/>
        </p:nvSpPr>
        <p:spPr>
          <a:xfrm>
            <a:off x="3140640" y="357120"/>
            <a:ext cx="280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HE MINERS.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slow" advTm="10000">
    <p:wipe dir="d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3"/>
          <p:cNvSpPr/>
          <p:nvPr/>
        </p:nvSpPr>
        <p:spPr>
          <a:xfrm>
            <a:off x="836280" y="457200"/>
            <a:ext cx="754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MINERS AT WORK WITH LONG TOMS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60" name="Picture 4" descr="&#9;GOLD3.jpg                                                      000799CA_x000c_macintosh HD                   ABA78158:"/>
          <p:cNvPicPr/>
          <p:nvPr/>
        </p:nvPicPr>
        <p:blipFill>
          <a:blip r:embed="rId1"/>
          <a:stretch/>
        </p:blipFill>
        <p:spPr>
          <a:xfrm>
            <a:off x="760320" y="1486080"/>
            <a:ext cx="7621560" cy="388620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5"/>
          <p:cNvSpPr/>
          <p:nvPr/>
        </p:nvSpPr>
        <p:spPr>
          <a:xfrm>
            <a:off x="677880" y="5692680"/>
            <a:ext cx="585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Lith. &amp; Published by Britton &amp; Rey 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Corner Montgomery &amp; California sts. S. Francisco.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slow" advTm="10000">
    <p:wipe dir="d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609480" y="6004080"/>
            <a:ext cx="674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Lith. &amp; Published by Britton &amp; Rey 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Corner Montgomery &amp; California Sts. S. Francisco.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64" name="Picture 4" descr="&#10;GOLD16.jpg                                                     000799CA_x000c_macintosh HD                   ABA78158:"/>
          <p:cNvPicPr/>
          <p:nvPr/>
        </p:nvPicPr>
        <p:blipFill>
          <a:blip r:embed="rId1"/>
          <a:stretch/>
        </p:blipFill>
        <p:spPr>
          <a:xfrm>
            <a:off x="760320" y="1015920"/>
            <a:ext cx="7621560" cy="482616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5"/>
          <p:cNvSpPr/>
          <p:nvPr/>
        </p:nvSpPr>
        <p:spPr>
          <a:xfrm>
            <a:off x="3327840" y="304920"/>
            <a:ext cx="248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LONG TOM.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slow" advTm="10000">
    <p:wipe dir="d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3"/>
          <p:cNvSpPr/>
          <p:nvPr/>
        </p:nvSpPr>
        <p:spPr>
          <a:xfrm>
            <a:off x="683280" y="6095880"/>
            <a:ext cx="446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Lith. and Published  by  Britton &amp; Rey.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68" name="Picture 4" descr="&#10;gold11.jpg                                                     000799CA_x000c_macintosh HD                   ABA78158:"/>
          <p:cNvPicPr/>
          <p:nvPr/>
        </p:nvPicPr>
        <p:blipFill>
          <a:blip r:embed="rId1"/>
          <a:stretch/>
        </p:blipFill>
        <p:spPr>
          <a:xfrm>
            <a:off x="760320" y="1022400"/>
            <a:ext cx="7621560" cy="481320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5"/>
          <p:cNvSpPr/>
          <p:nvPr/>
        </p:nvSpPr>
        <p:spPr>
          <a:xfrm>
            <a:off x="3828240" y="304920"/>
            <a:ext cx="158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FLUME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slow" advTm="10000">
    <p:wipe dir="d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759600" y="6095880"/>
            <a:ext cx="43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Lith. and Published by  Britton &amp; Rey.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72" name="Picture 4" descr="&#10;gold12.jpg                                                     000799CA_x000c_macintosh HD                   ABA78158:"/>
          <p:cNvPicPr/>
          <p:nvPr/>
        </p:nvPicPr>
        <p:blipFill>
          <a:blip r:embed="rId1"/>
          <a:stretch/>
        </p:blipFill>
        <p:spPr>
          <a:xfrm>
            <a:off x="760320" y="1035000"/>
            <a:ext cx="7621560" cy="478800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5"/>
          <p:cNvSpPr/>
          <p:nvPr/>
        </p:nvSpPr>
        <p:spPr>
          <a:xfrm>
            <a:off x="1751760" y="304920"/>
            <a:ext cx="569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ELEVATING WATER WHEEL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slow" advTm="10000">
    <p:wipe dir="d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2"/>
          <p:cNvSpPr/>
          <p:nvPr/>
        </p:nvSpPr>
        <p:spPr>
          <a:xfrm>
            <a:off x="685800" y="6080040"/>
            <a:ext cx="6667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Lith. &amp; Published by Britton &amp; Rey 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Corner Montgomery &amp; California sts. S. Francisco.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76" name="Picture 4" descr="&#9;gold2.jpg                                                      000799CA_x000c_macintosh HD                   ABA78158:"/>
          <p:cNvPicPr/>
          <p:nvPr/>
        </p:nvPicPr>
        <p:blipFill>
          <a:blip r:embed="rId1"/>
          <a:stretch/>
        </p:blipFill>
        <p:spPr>
          <a:xfrm>
            <a:off x="760320" y="824040"/>
            <a:ext cx="7621560" cy="520848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5"/>
          <p:cNvSpPr/>
          <p:nvPr/>
        </p:nvSpPr>
        <p:spPr>
          <a:xfrm>
            <a:off x="1213560" y="152280"/>
            <a:ext cx="67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MINERS WEIGHING THEIR GOLD.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slow" advTm="10000">
    <p:wipe dir="d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4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3"/>
          <p:cNvSpPr/>
          <p:nvPr/>
        </p:nvSpPr>
        <p:spPr>
          <a:xfrm>
            <a:off x="678960" y="5715000"/>
            <a:ext cx="5895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Lith. &amp; Published by Britton &amp; Rey 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Corner Montgomery &amp; California Sts. S. Francisco.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80" name="Picture 4" descr="&#10;GOLD15.jpg                                                     000799CA_x000c_macintosh HD                   ABA78158:"/>
          <p:cNvPicPr/>
          <p:nvPr/>
        </p:nvPicPr>
        <p:blipFill>
          <a:blip r:embed="rId1"/>
          <a:stretch/>
        </p:blipFill>
        <p:spPr>
          <a:xfrm>
            <a:off x="760320" y="1467000"/>
            <a:ext cx="7621560" cy="39240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5"/>
          <p:cNvSpPr/>
          <p:nvPr/>
        </p:nvSpPr>
        <p:spPr>
          <a:xfrm>
            <a:off x="2549160" y="457200"/>
            <a:ext cx="404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DIVIDING THE PILE.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slow" advTm="10000">
    <p:wipe dir="d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0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9T21:37:03Z</dcterms:created>
  <dc:creator>Museum of the City of San Francisco</dc:creator>
  <dc:description/>
  <dc:language>en-US</dc:language>
  <cp:lastModifiedBy>Legion</cp:lastModifiedBy>
  <dcterms:modified xsi:type="dcterms:W3CDTF">2017-07-05T08:02:03Z</dcterms:modified>
  <cp:revision>21</cp:revision>
  <dc:subject/>
  <dc:title>No Slide Title</dc:title>
</cp:coreProperties>
</file>