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10.png" ContentType="image/png"/>
  <Override PartName="/ppt/media/image2.gif" ContentType="image/gif"/>
  <Override PartName="/ppt/media/image5.wmf" ContentType="image/x-wmf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1.wmf" ContentType="image/x-wmf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163F-052A-4959-8414-DE40879AF2B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ople of Mountains and Pl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anc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of Mountains and Pl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an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are they today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1875 Comanches no longer controlled the pla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Comanches were moved to a reservation in Oklahom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day about 10,000 Comanche live in the United St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are they today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1875 Comanches no longer controlled the pl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omanches were moved to a reservation in Oklahom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about 10,000 Comanche live in the United St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an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anches were fierce warriors who lived on the Southern Plai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anches controlled the Great Plains and Central Plains of Tex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anc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anches were fierce warriors who lived on the Southern Plai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anches controlled the Great Plains and Central Plains of Tex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l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anches were noma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lived in tepe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pees- large tents made of long poles covered with buffalo hid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anches were noma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lived in tepe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pees- large tents made of long poles covered with buffalo hi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ffa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anche got nearly everything they needed from the buffalo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Clo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Blank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Shel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ffa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anche got nearly everything they needed from the buffal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Clo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Blan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She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panish brought horses to North Americ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anches became experts at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ibe quickly became known as the Lords of the Southern Plains, and they by far were the most powerful of all the Indian Tribes in the state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nish brought horses to North Americ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anches became experts at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ibe quickly became known as the Lords of the Southern Plains, and they by far were the most powerful of all the Indian Tribes in the state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ring times of peace, Comanches traded horses and buffalo goods with the Caddo and the Wichi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imes of peace, Comanches traded horses and buffalo goods with the Caddo and the Wichi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anche were good traders and often went to trade f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anche leaders often wore fine European clothes, with many silver conchos and fine leather boo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oup always had a leader who was very skilled as a trader and diploma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anche were good traders and often went to trade fai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anche leaders often wore fine European clothes, with many silver conchos and fine leather boo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up always had a leader who was very skilled as a trader and diplom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ding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blem was most of what they had to sell or trade was stuff they had stol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sold the stolen horses and women and children they had kidnapp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kidnapping for ransom would later get the Comanche in big trouble with the American settle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ing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 was most of what they had to sell or trade was stuff they had stol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sold the stolen horses and women and children they had kidnapp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kidnapping for ransom would later get the Comanche in big trouble with the American settl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ershi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anche traveled in bands and each band had a lea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ring wars and raids, bands united and chose a war chief to lead th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anche traveled in bands and each band had a lea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wars and raids, bands united and chose a war chief to lea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C309-B67D-4C4F-8399-C9248F939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1AEB-8A2C-45C5-9344-AD051BC2A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B8A2-8F70-4F80-B3C2-1A52C5E5B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8868-38CD-4407-9A73-755B971B3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6DE9-6DFD-4E0B-B076-55EE0A6A8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2C01-36C2-4B3B-BBB3-B298956D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71D2-F486-4320-8BD3-92C610D93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61CB-6029-47CE-9237-28E8A9D88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170B-BCD2-494F-8476-B017571A1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273D-D2D6-4354-8F9E-CE703F3E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C089-4D2E-42BC-9137-2C078E97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8F72-9888-480F-837A-02A76ED0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15487-78E3-4F78-BDE8-6B723532B2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8000"/>
                </a:solidFill>
                <a:latin typeface="Times New Roman"/>
              </a:rPr>
              <a:t>People of Mountains and Plai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9933"/>
                </a:solidFill>
                <a:latin typeface="Times New Roman"/>
              </a:rPr>
              <a:t>Comanch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C:\Program Files\Microsoft Office\Clipart\homeanim\AG00213_.gif"/>
          <p:cNvPicPr/>
          <p:nvPr/>
        </p:nvPicPr>
        <p:blipFill>
          <a:blip r:embed="rId1"/>
          <a:stretch/>
        </p:blipFill>
        <p:spPr>
          <a:xfrm>
            <a:off x="533520" y="4267080"/>
            <a:ext cx="2514600" cy="1622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C:\Program Files\Microsoft Office\Clipart\homeanim\AG00213_.gif"/>
          <p:cNvPicPr/>
          <p:nvPr/>
        </p:nvPicPr>
        <p:blipFill>
          <a:blip r:embed="rId2"/>
          <a:stretch/>
        </p:blipFill>
        <p:spPr>
          <a:xfrm>
            <a:off x="6324480" y="4343400"/>
            <a:ext cx="2362320" cy="152568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6">
            <a:hlinkClick r:id="" action="ppaction://hlinkshowjump?jump=nextslide"/>
          </p:cNvPr>
          <p:cNvSpPr/>
          <p:nvPr/>
        </p:nvSpPr>
        <p:spPr>
          <a:xfrm>
            <a:off x="8558280" y="5867280"/>
            <a:ext cx="585720" cy="609840"/>
          </a:xfrm>
          <a:custGeom>
            <a:avLst/>
            <a:gdLst>
              <a:gd name="textAreaLeft" fmla="*/ 37800 w 585720"/>
              <a:gd name="textAreaRight" fmla="*/ 547920 w 585720"/>
              <a:gd name="textAreaTop" fmla="*/ 37800 h 609840"/>
              <a:gd name="textAreaBottom" fmla="*/ 572040 h 609840"/>
            </a:gdLst>
            <a:ahLst/>
            <a:rect l="textAreaLeft" t="textAreaTop" r="textAreaRight" b="textAreaBottom"/>
            <a:pathLst>
              <a:path w="21600" h="22489">
                <a:moveTo>
                  <a:pt x="0" y="0"/>
                </a:moveTo>
                <a:lnTo>
                  <a:pt x="21600" y="0"/>
                </a:lnTo>
                <a:lnTo>
                  <a:pt x="21600" y="22489"/>
                </a:lnTo>
                <a:lnTo>
                  <a:pt x="0" y="22489"/>
                </a:lnTo>
                <a:close/>
              </a:path>
              <a:path fill="lightenLess" w="21600" h="224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489">
                <a:moveTo>
                  <a:pt x="21600" y="0"/>
                </a:moveTo>
                <a:lnTo>
                  <a:pt x="21600" y="22489"/>
                </a:lnTo>
                <a:lnTo>
                  <a:pt x="20200" y="21089"/>
                </a:lnTo>
                <a:lnTo>
                  <a:pt x="20200" y="1400"/>
                </a:lnTo>
                <a:close/>
              </a:path>
              <a:path fill="darkenLess" w="21600" h="22489">
                <a:moveTo>
                  <a:pt x="21600" y="22489"/>
                </a:moveTo>
                <a:lnTo>
                  <a:pt x="0" y="22489"/>
                </a:lnTo>
                <a:lnTo>
                  <a:pt x="1400" y="21089"/>
                </a:lnTo>
                <a:lnTo>
                  <a:pt x="20200" y="21089"/>
                </a:lnTo>
                <a:close/>
              </a:path>
              <a:path fill="lighten" w="21600" h="22489">
                <a:moveTo>
                  <a:pt x="0" y="224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089"/>
                </a:lnTo>
                <a:close/>
              </a:path>
              <a:path fill="darken" w="21600" h="22489">
                <a:moveTo>
                  <a:pt x="3794" y="4238"/>
                </a:moveTo>
                <a:lnTo>
                  <a:pt x="17806" y="11244"/>
                </a:lnTo>
                <a:lnTo>
                  <a:pt x="3794" y="18251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are they today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y 1875 Comanches no longer controlled the plai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anches were moved to a reservation in Oklahom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day about 10,000 Comanche live in the United Stat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anch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Comanches were fierce warriors who lived on the Southern Plai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Comanches controlled the Great Plains and Central Plains of Tex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9" descr="C:\Program Files\Microsoft Office\Clipart\WebArt\BD13728_.GIF"/>
          <p:cNvPicPr/>
          <p:nvPr/>
        </p:nvPicPr>
        <p:blipFill>
          <a:blip r:embed="rId1"/>
          <a:stretch/>
        </p:blipFill>
        <p:spPr>
          <a:xfrm>
            <a:off x="5867280" y="2286000"/>
            <a:ext cx="2819520" cy="380988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10">
            <a:hlinkClick r:id="" action="ppaction://hlinkshowjump?jump=nextslide"/>
          </p:cNvPr>
          <p:cNvSpPr/>
          <p:nvPr/>
        </p:nvSpPr>
        <p:spPr>
          <a:xfrm>
            <a:off x="838188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3794"/>
                </a:moveTo>
                <a:lnTo>
                  <a:pt x="22431" y="10800"/>
                </a:lnTo>
                <a:lnTo>
                  <a:pt x="8418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2" descr="Texas Indians"/>
          <p:cNvPicPr/>
          <p:nvPr/>
        </p:nvPicPr>
        <p:blipFill>
          <a:blip r:embed="rId2"/>
          <a:stretch/>
        </p:blipFill>
        <p:spPr>
          <a:xfrm>
            <a:off x="1219320" y="1523880"/>
            <a:ext cx="6476760" cy="362160"/>
          </a:xfrm>
          <a:prstGeom prst="rect">
            <a:avLst/>
          </a:prstGeom>
          <a:ln w="0">
            <a:noFill/>
          </a:ln>
        </p:spPr>
      </p:pic>
      <p:pic>
        <p:nvPicPr>
          <p:cNvPr id="59" name="JNGLE_01.mi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el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anches were noma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lived in tep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pees- large tents made of long poles covered with buffalo hi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7" descr="C:\Program Files\Microsoft Office\Clipart\standard\stddir1\BD06437_.WMF"/>
          <p:cNvPicPr/>
          <p:nvPr/>
        </p:nvPicPr>
        <p:blipFill>
          <a:blip r:embed="rId1"/>
          <a:stretch/>
        </p:blipFill>
        <p:spPr>
          <a:xfrm>
            <a:off x="4648320" y="1676520"/>
            <a:ext cx="3809880" cy="44193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8">
            <a:hlinkClick r:id="" action="ppaction://hlinkshowjump?jump=nextslide"/>
          </p:cNvPr>
          <p:cNvSpPr/>
          <p:nvPr/>
        </p:nvSpPr>
        <p:spPr>
          <a:xfrm>
            <a:off x="8381880" y="5943600"/>
            <a:ext cx="762120" cy="662040"/>
          </a:xfrm>
          <a:custGeom>
            <a:avLst/>
            <a:gdLst>
              <a:gd name="textAreaLeft" fmla="*/ 42840 w 762120"/>
              <a:gd name="textAreaRight" fmla="*/ 719280 w 7621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4863" h="21600">
                <a:moveTo>
                  <a:pt x="0" y="0"/>
                </a:moveTo>
                <a:lnTo>
                  <a:pt x="24863" y="0"/>
                </a:lnTo>
                <a:lnTo>
                  <a:pt x="24863" y="21600"/>
                </a:lnTo>
                <a:lnTo>
                  <a:pt x="0" y="21600"/>
                </a:lnTo>
                <a:close/>
              </a:path>
              <a:path fill="lightenLess" w="24863" h="21600">
                <a:moveTo>
                  <a:pt x="0" y="0"/>
                </a:moveTo>
                <a:lnTo>
                  <a:pt x="24863" y="0"/>
                </a:lnTo>
                <a:lnTo>
                  <a:pt x="23463" y="1400"/>
                </a:lnTo>
                <a:lnTo>
                  <a:pt x="1400" y="1400"/>
                </a:lnTo>
                <a:close/>
              </a:path>
              <a:path fill="darken" w="24863" h="21600">
                <a:moveTo>
                  <a:pt x="24863" y="0"/>
                </a:moveTo>
                <a:lnTo>
                  <a:pt x="24863" y="21600"/>
                </a:lnTo>
                <a:lnTo>
                  <a:pt x="23463" y="20200"/>
                </a:lnTo>
                <a:lnTo>
                  <a:pt x="23463" y="1400"/>
                </a:lnTo>
                <a:close/>
              </a:path>
              <a:path fill="darkenLess" w="24863" h="21600">
                <a:moveTo>
                  <a:pt x="248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63" y="20200"/>
                </a:lnTo>
                <a:close/>
              </a:path>
              <a:path fill="lighten" w="248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63" h="21600">
                <a:moveTo>
                  <a:pt x="5425" y="3794"/>
                </a:moveTo>
                <a:lnTo>
                  <a:pt x="19438" y="10800"/>
                </a:lnTo>
                <a:lnTo>
                  <a:pt x="5425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0" descr="Texas Indians"/>
          <p:cNvPicPr/>
          <p:nvPr/>
        </p:nvPicPr>
        <p:blipFill>
          <a:blip r:embed="rId2"/>
          <a:stretch/>
        </p:blipFill>
        <p:spPr>
          <a:xfrm>
            <a:off x="1371600" y="1219320"/>
            <a:ext cx="6477120" cy="36180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ffa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3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anche got nearly everything they needed from the buffa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Clo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F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Blan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Shel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0" y="2378160"/>
            <a:ext cx="7292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6" descr="Comanche Indian"/>
          <p:cNvPicPr/>
          <p:nvPr/>
        </p:nvPicPr>
        <p:blipFill>
          <a:blip r:embed="rId1"/>
          <a:stretch/>
        </p:blipFill>
        <p:spPr>
          <a:xfrm>
            <a:off x="1981080" y="1600200"/>
            <a:ext cx="5121360" cy="285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" descr="Comanche Indian Village"/>
          <p:cNvPicPr/>
          <p:nvPr/>
        </p:nvPicPr>
        <p:blipFill>
          <a:blip r:embed="rId2"/>
          <a:stretch/>
        </p:blipFill>
        <p:spPr>
          <a:xfrm>
            <a:off x="0" y="2057400"/>
            <a:ext cx="5334120" cy="380988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15">
            <a:hlinkClick r:id="" action="ppaction://hlinkshowjump?jump=nextslide"/>
          </p:cNvPr>
          <p:cNvSpPr/>
          <p:nvPr/>
        </p:nvSpPr>
        <p:spPr>
          <a:xfrm>
            <a:off x="8229600" y="5943600"/>
            <a:ext cx="662040" cy="66204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r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800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panish brought horses to North Amer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anches became experts at th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ibe quickly became known as th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ords of the Southern Plains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they by far were the most powerful of all the Indian Tribes in the state. </a:t>
            </a:r>
            <a:br>
              <a:rPr sz="32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7" descr="Comanche Indian Warrior"/>
          <p:cNvPicPr/>
          <p:nvPr/>
        </p:nvPicPr>
        <p:blipFill>
          <a:blip r:embed="rId1"/>
          <a:stretch/>
        </p:blipFill>
        <p:spPr>
          <a:xfrm>
            <a:off x="5334120" y="2133720"/>
            <a:ext cx="3809880" cy="338616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8">
            <a:hlinkClick r:id="" action="ppaction://hlinkshowjump?jump=nextslide"/>
          </p:cNvPr>
          <p:cNvSpPr/>
          <p:nvPr/>
        </p:nvSpPr>
        <p:spPr>
          <a:xfrm>
            <a:off x="8153280" y="5943600"/>
            <a:ext cx="738360" cy="662040"/>
          </a:xfrm>
          <a:custGeom>
            <a:avLst/>
            <a:gdLst>
              <a:gd name="textAreaLeft" fmla="*/ 42840 w 738360"/>
              <a:gd name="textAreaRight" fmla="*/ 695520 w 73836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4089" h="21600">
                <a:moveTo>
                  <a:pt x="0" y="0"/>
                </a:moveTo>
                <a:lnTo>
                  <a:pt x="24089" y="0"/>
                </a:lnTo>
                <a:lnTo>
                  <a:pt x="24089" y="21600"/>
                </a:lnTo>
                <a:lnTo>
                  <a:pt x="0" y="21600"/>
                </a:lnTo>
                <a:close/>
              </a:path>
              <a:path fill="lightenLess" w="24089" h="21600">
                <a:moveTo>
                  <a:pt x="0" y="0"/>
                </a:moveTo>
                <a:lnTo>
                  <a:pt x="24089" y="0"/>
                </a:lnTo>
                <a:lnTo>
                  <a:pt x="22689" y="1400"/>
                </a:lnTo>
                <a:lnTo>
                  <a:pt x="1400" y="1400"/>
                </a:lnTo>
                <a:close/>
              </a:path>
              <a:path fill="darken" w="24089" h="21600">
                <a:moveTo>
                  <a:pt x="24089" y="0"/>
                </a:moveTo>
                <a:lnTo>
                  <a:pt x="24089" y="21600"/>
                </a:lnTo>
                <a:lnTo>
                  <a:pt x="22689" y="20200"/>
                </a:lnTo>
                <a:lnTo>
                  <a:pt x="22689" y="1400"/>
                </a:lnTo>
                <a:close/>
              </a:path>
              <a:path fill="darkenLess" w="24089" h="21600">
                <a:moveTo>
                  <a:pt x="24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89" y="20200"/>
                </a:lnTo>
                <a:close/>
              </a:path>
              <a:path fill="lighten" w="24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89" h="21600">
                <a:moveTo>
                  <a:pt x="5038" y="3794"/>
                </a:moveTo>
                <a:lnTo>
                  <a:pt x="19051" y="10800"/>
                </a:lnTo>
                <a:lnTo>
                  <a:pt x="5038" y="17806"/>
                </a:lnTo>
                <a:close/>
              </a:path>
            </a:pathLst>
          </a:cu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9" descr="Texas Indians"/>
          <p:cNvPicPr/>
          <p:nvPr/>
        </p:nvPicPr>
        <p:blipFill>
          <a:blip r:embed="rId2"/>
          <a:stretch/>
        </p:blipFill>
        <p:spPr>
          <a:xfrm>
            <a:off x="1219320" y="838080"/>
            <a:ext cx="6476760" cy="36216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uring times of peace, Comanches traded horses and buffalo goods with the Caddo and the Wichit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0" y="3813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8" descr="Texas Indians"/>
          <p:cNvPicPr/>
          <p:nvPr/>
        </p:nvPicPr>
        <p:blipFill>
          <a:blip r:embed="rId1"/>
          <a:stretch/>
        </p:blipFill>
        <p:spPr>
          <a:xfrm>
            <a:off x="1905120" y="1523880"/>
            <a:ext cx="5121000" cy="285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Texas Buffalo"/>
          <p:cNvPicPr/>
          <p:nvPr/>
        </p:nvPicPr>
        <p:blipFill>
          <a:blip r:embed="rId2"/>
          <a:stretch/>
        </p:blipFill>
        <p:spPr>
          <a:xfrm>
            <a:off x="4648320" y="2776680"/>
            <a:ext cx="3809880" cy="252396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11">
            <a:hlinkClick r:id="" action="ppaction://hlinkshowjump?jump=nextslide"/>
          </p:cNvPr>
          <p:cNvSpPr/>
          <p:nvPr/>
        </p:nvSpPr>
        <p:spPr>
          <a:xfrm>
            <a:off x="8077320" y="6019920"/>
            <a:ext cx="662040" cy="585720"/>
          </a:xfrm>
          <a:custGeom>
            <a:avLst/>
            <a:gdLst>
              <a:gd name="textAreaLeft" fmla="*/ 37800 w 662040"/>
              <a:gd name="textAreaRight" fmla="*/ 624240 w 66204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24413" h="21600">
                <a:moveTo>
                  <a:pt x="0" y="0"/>
                </a:moveTo>
                <a:lnTo>
                  <a:pt x="24413" y="0"/>
                </a:lnTo>
                <a:lnTo>
                  <a:pt x="24413" y="21600"/>
                </a:lnTo>
                <a:lnTo>
                  <a:pt x="0" y="21600"/>
                </a:lnTo>
                <a:close/>
              </a:path>
              <a:path fill="lightenLess" w="24413" h="21600">
                <a:moveTo>
                  <a:pt x="0" y="0"/>
                </a:moveTo>
                <a:lnTo>
                  <a:pt x="24413" y="0"/>
                </a:lnTo>
                <a:lnTo>
                  <a:pt x="23013" y="1400"/>
                </a:lnTo>
                <a:lnTo>
                  <a:pt x="1400" y="1400"/>
                </a:lnTo>
                <a:close/>
              </a:path>
              <a:path fill="darken" w="24413" h="21600">
                <a:moveTo>
                  <a:pt x="24413" y="0"/>
                </a:moveTo>
                <a:lnTo>
                  <a:pt x="24413" y="21600"/>
                </a:lnTo>
                <a:lnTo>
                  <a:pt x="23013" y="20200"/>
                </a:lnTo>
                <a:lnTo>
                  <a:pt x="23013" y="1400"/>
                </a:lnTo>
                <a:close/>
              </a:path>
              <a:path fill="darkenLess" w="24413" h="21600">
                <a:moveTo>
                  <a:pt x="24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13" y="20200"/>
                </a:lnTo>
                <a:close/>
              </a:path>
              <a:path fill="lighten" w="24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13" h="21600">
                <a:moveTo>
                  <a:pt x="5200" y="3794"/>
                </a:moveTo>
                <a:lnTo>
                  <a:pt x="19213" y="10800"/>
                </a:lnTo>
                <a:lnTo>
                  <a:pt x="5200" y="17806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6172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Comanche were good traders and often went to trade fai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Comanche leaders often wore fine European clothes, with many silver conchos and fine leather boo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group always had a leader who was very skilled as a trader and diploma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C:\Program Files\Microsoft Office\Clipart\WebArt\BS00005A.gif"/>
          <p:cNvPicPr/>
          <p:nvPr/>
        </p:nvPicPr>
        <p:blipFill>
          <a:blip r:embed="rId1"/>
          <a:stretch/>
        </p:blipFill>
        <p:spPr>
          <a:xfrm>
            <a:off x="6629400" y="2209680"/>
            <a:ext cx="1981080" cy="227196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6">
            <a:hlinkClick r:id="" action="ppaction://hlinkshowjump?jump=nextslide"/>
          </p:cNvPr>
          <p:cNvSpPr/>
          <p:nvPr/>
        </p:nvSpPr>
        <p:spPr>
          <a:xfrm>
            <a:off x="8077320" y="5867280"/>
            <a:ext cx="738000" cy="662040"/>
          </a:xfrm>
          <a:custGeom>
            <a:avLst/>
            <a:gdLst>
              <a:gd name="textAreaLeft" fmla="*/ 42840 w 738000"/>
              <a:gd name="textAreaRight" fmla="*/ 695160 w 73800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4077" h="21600">
                <a:moveTo>
                  <a:pt x="0" y="0"/>
                </a:moveTo>
                <a:lnTo>
                  <a:pt x="24077" y="0"/>
                </a:lnTo>
                <a:lnTo>
                  <a:pt x="24077" y="21600"/>
                </a:lnTo>
                <a:lnTo>
                  <a:pt x="0" y="21600"/>
                </a:lnTo>
                <a:close/>
              </a:path>
              <a:path fill="lightenLess" w="24077" h="21600">
                <a:moveTo>
                  <a:pt x="0" y="0"/>
                </a:moveTo>
                <a:lnTo>
                  <a:pt x="24077" y="0"/>
                </a:lnTo>
                <a:lnTo>
                  <a:pt x="22677" y="1400"/>
                </a:lnTo>
                <a:lnTo>
                  <a:pt x="1400" y="1400"/>
                </a:lnTo>
                <a:close/>
              </a:path>
              <a:path fill="darken" w="24077" h="21600">
                <a:moveTo>
                  <a:pt x="24077" y="0"/>
                </a:moveTo>
                <a:lnTo>
                  <a:pt x="24077" y="21600"/>
                </a:lnTo>
                <a:lnTo>
                  <a:pt x="22677" y="20200"/>
                </a:lnTo>
                <a:lnTo>
                  <a:pt x="22677" y="1400"/>
                </a:lnTo>
                <a:close/>
              </a:path>
              <a:path fill="darkenLess" w="24077" h="21600">
                <a:moveTo>
                  <a:pt x="240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77" y="20200"/>
                </a:lnTo>
                <a:close/>
              </a:path>
              <a:path fill="lighten" w="240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77" h="21600">
                <a:moveTo>
                  <a:pt x="5032" y="3794"/>
                </a:moveTo>
                <a:lnTo>
                  <a:pt x="19045" y="10800"/>
                </a:lnTo>
                <a:lnTo>
                  <a:pt x="5032" y="17806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ding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50292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problem was most of what they had to sell or trade was stuff they had stolen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y sold the stolen horses and women and children they had kidnapp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kidnapping for ransom would later get the Comanche in big trouble with the American settler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8" descr="Palo Duro Canyon Texas"/>
          <p:cNvPicPr/>
          <p:nvPr/>
        </p:nvPicPr>
        <p:blipFill>
          <a:blip r:embed="rId1"/>
          <a:stretch/>
        </p:blipFill>
        <p:spPr>
          <a:xfrm>
            <a:off x="5105520" y="2590920"/>
            <a:ext cx="4038480" cy="258768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9">
            <a:hlinkClick r:id="" action="ppaction://hlinkshowjump?jump=nextslide"/>
          </p:cNvPr>
          <p:cNvSpPr/>
          <p:nvPr/>
        </p:nvSpPr>
        <p:spPr>
          <a:xfrm>
            <a:off x="8077320" y="5638680"/>
            <a:ext cx="662040" cy="609840"/>
          </a:xfrm>
          <a:custGeom>
            <a:avLst/>
            <a:gdLst>
              <a:gd name="textAreaLeft" fmla="*/ 39240 w 662040"/>
              <a:gd name="textAreaRight" fmla="*/ 622800 w 6620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3448" h="21600">
                <a:moveTo>
                  <a:pt x="0" y="0"/>
                </a:moveTo>
                <a:lnTo>
                  <a:pt x="23448" y="0"/>
                </a:lnTo>
                <a:lnTo>
                  <a:pt x="23448" y="21600"/>
                </a:lnTo>
                <a:lnTo>
                  <a:pt x="0" y="21600"/>
                </a:lnTo>
                <a:close/>
              </a:path>
              <a:path fill="lightenLess" w="23448" h="21600">
                <a:moveTo>
                  <a:pt x="0" y="0"/>
                </a:moveTo>
                <a:lnTo>
                  <a:pt x="23448" y="0"/>
                </a:lnTo>
                <a:lnTo>
                  <a:pt x="22048" y="1400"/>
                </a:lnTo>
                <a:lnTo>
                  <a:pt x="1400" y="1400"/>
                </a:lnTo>
                <a:close/>
              </a:path>
              <a:path fill="darken" w="23448" h="21600">
                <a:moveTo>
                  <a:pt x="23448" y="0"/>
                </a:moveTo>
                <a:lnTo>
                  <a:pt x="23448" y="21600"/>
                </a:lnTo>
                <a:lnTo>
                  <a:pt x="22048" y="20200"/>
                </a:lnTo>
                <a:lnTo>
                  <a:pt x="22048" y="1400"/>
                </a:lnTo>
                <a:close/>
              </a:path>
              <a:path fill="darkenLess" w="23448" h="21600">
                <a:moveTo>
                  <a:pt x="234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48" y="20200"/>
                </a:lnTo>
                <a:close/>
              </a:path>
              <a:path fill="lighten" w="234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48" h="21600">
                <a:moveTo>
                  <a:pt x="4717" y="3794"/>
                </a:moveTo>
                <a:lnTo>
                  <a:pt x="18730" y="10800"/>
                </a:lnTo>
                <a:lnTo>
                  <a:pt x="4717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0" descr="Texas Indians"/>
          <p:cNvPicPr/>
          <p:nvPr/>
        </p:nvPicPr>
        <p:blipFill>
          <a:blip r:embed="rId2"/>
          <a:stretch/>
        </p:blipFill>
        <p:spPr>
          <a:xfrm>
            <a:off x="1295280" y="990720"/>
            <a:ext cx="6477120" cy="361800"/>
          </a:xfrm>
          <a:prstGeom prst="rect">
            <a:avLst/>
          </a:prstGeom>
          <a:ln w="0">
            <a:noFill/>
          </a:ln>
        </p:spPr>
      </p:pic>
      <p:pic>
        <p:nvPicPr>
          <p:cNvPr id="97" name="WNTER_01.mid" descr=""/>
          <p:cNvPicPr/>
          <p:nvPr/>
        </p:nvPicPr>
        <p:blipFill>
          <a:blip r:embed="rId3"/>
          <a:stretch/>
        </p:blipFill>
        <p:spPr>
          <a:xfrm>
            <a:off x="7543800" y="5791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er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anche traveled in bands and each band had a lea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ring wars and raids, bands united and chose a war chief to lead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5" descr="C:\Program Files\Microsoft Office\Clipart\standard\stddir1\AN01642_.wmf"/>
          <p:cNvPicPr/>
          <p:nvPr/>
        </p:nvPicPr>
        <p:blipFill>
          <a:blip r:embed="rId1"/>
          <a:stretch/>
        </p:blipFill>
        <p:spPr>
          <a:xfrm>
            <a:off x="4648320" y="2617920"/>
            <a:ext cx="3809880" cy="2840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Texas Indians"/>
          <p:cNvPicPr/>
          <p:nvPr/>
        </p:nvPicPr>
        <p:blipFill>
          <a:blip r:embed="rId2"/>
          <a:stretch/>
        </p:blipFill>
        <p:spPr>
          <a:xfrm>
            <a:off x="1219320" y="1523880"/>
            <a:ext cx="6476760" cy="36216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7">
            <a:hlinkClick r:id="" action="ppaction://hlinkshowjump?jump=nextslide"/>
          </p:cNvPr>
          <p:cNvSpPr/>
          <p:nvPr/>
        </p:nvSpPr>
        <p:spPr>
          <a:xfrm>
            <a:off x="7848720" y="5867280"/>
            <a:ext cx="814320" cy="662040"/>
          </a:xfrm>
          <a:custGeom>
            <a:avLst/>
            <a:gdLst>
              <a:gd name="textAreaLeft" fmla="*/ 42840 w 814320"/>
              <a:gd name="textAreaRight" fmla="*/ 771480 w 8143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6566" h="21600">
                <a:moveTo>
                  <a:pt x="0" y="0"/>
                </a:moveTo>
                <a:lnTo>
                  <a:pt x="26566" y="0"/>
                </a:lnTo>
                <a:lnTo>
                  <a:pt x="26566" y="21600"/>
                </a:lnTo>
                <a:lnTo>
                  <a:pt x="0" y="21600"/>
                </a:lnTo>
                <a:close/>
              </a:path>
              <a:path fill="lightenLess" w="26566" h="21600">
                <a:moveTo>
                  <a:pt x="0" y="0"/>
                </a:moveTo>
                <a:lnTo>
                  <a:pt x="26566" y="0"/>
                </a:lnTo>
                <a:lnTo>
                  <a:pt x="25166" y="1400"/>
                </a:lnTo>
                <a:lnTo>
                  <a:pt x="1400" y="1400"/>
                </a:lnTo>
                <a:close/>
              </a:path>
              <a:path fill="darken" w="26566" h="21600">
                <a:moveTo>
                  <a:pt x="26566" y="0"/>
                </a:moveTo>
                <a:lnTo>
                  <a:pt x="26566" y="21600"/>
                </a:lnTo>
                <a:lnTo>
                  <a:pt x="25166" y="20200"/>
                </a:lnTo>
                <a:lnTo>
                  <a:pt x="25166" y="1400"/>
                </a:lnTo>
                <a:close/>
              </a:path>
              <a:path fill="darkenLess" w="26566" h="21600">
                <a:moveTo>
                  <a:pt x="26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66" y="20200"/>
                </a:lnTo>
                <a:close/>
              </a:path>
              <a:path fill="lighten" w="26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66" h="21600">
                <a:moveTo>
                  <a:pt x="6276" y="3794"/>
                </a:moveTo>
                <a:lnTo>
                  <a:pt x="20289" y="10800"/>
                </a:lnTo>
                <a:lnTo>
                  <a:pt x="627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6T23:37:49Z</dcterms:created>
  <dc:creator>BISD</dc:creator>
  <dc:description/>
  <dc:language>en-US</dc:language>
  <cp:lastModifiedBy>Legion</cp:lastModifiedBy>
  <dcterms:modified xsi:type="dcterms:W3CDTF">2017-07-05T08:42:44Z</dcterms:modified>
  <cp:revision>5</cp:revision>
  <dc:subject/>
  <dc:title>People of Mountains and Plains</dc:title>
</cp:coreProperties>
</file>