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sm and the Cold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7 Truman announces that US will aid any country resisting “outside pressur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learned from appeasing Hit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hall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 provides 13 billion to western Europe (then Japan, Korea, and Taiwan) to rebui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War intensif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8 Berlin blockade and airl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9 Soviets test the atomic bo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 “goes communis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erica “goes McCarthyit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--since 19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8-60 “Great Leap Forwar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o orders collectivization, backyard found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-30 million die through sta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2 break with Soviet Union obvi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6-76 “Cultural Revolu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ies close, Red Guards run amok, “counter-revolutionaries” k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8 period of (economic) liberalization begins under Deng Xiao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y w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r conflicts” around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learner.org/channel/courses/worldhistory/unit_video_22-2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troop deploy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0-53 Ko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5-73 Vietn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9-89 Afghanist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call for World War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ban missile crisis 19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su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of European commu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0s and 80s religious and cultural dis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ling econom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gan’s ro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blood at the Krem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5 Mikhail Gorbachev becomes General Secre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tes reforms--glasnost and perestro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8 allows contested elections within the Communist 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ment in Easter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0s rise of “Solidarity”--sup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8 illegal “Solidarity” shipworkers, with encouragement from the Pope, go on str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9 Polish Communist party (and Gorbachev) allows Solidarity to compete in national el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arity victo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little reform--the Sta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rbachev calls for change in East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 German tourists go through Hungary to Austria--at first a few, then 10,00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rlin Wall is torn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0 Germany reun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 in US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1 hardliners in the military wage a coup against Gorbachev, coup f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st Party is abolished in 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viet Union is dissolved by dec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 is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Soviet Union under commu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in comes to power by means of a disciplined hierarchical party, soon including what would become the KG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four years, civil war with Czar supporters, aided by U.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1 Introduced the New Econom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4 Lenin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new n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ssia--backsliding under Putin since 2000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stalgia for “good old days”, and Chines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 control over media--especially T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est of oligarchs on trumped up charges--Khodorkov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Chechen war to make governorships appointed, not el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ing rev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 revolutions” in Georgia, Ukraine, and Kyrgist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news.bbc.co.uk/1/hi/world/europe/4459224.stm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is left among Communis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countr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, Vietnam, Laos, North Korea, Cu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everal post Communist societies have changed litt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hina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9--crackdown at Tiananmen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90s, some signs of loosening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 contested el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reedom to criticize local gover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0s of NGOs allowed to organ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ther hand, since 1999 Falun Gong outlawed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ral Secretary em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in’s test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1927 Stalin emerges as most powerful fig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9 rejects NEP, begins forced industri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ountryside, collectiv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sta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30s, purges and show t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,000s executed, maybe 5 million died in gu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tsky and Kamenev disapp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Patriotic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SR was probably most responsible for Allied vi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uffered the most--over 20 million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lative) th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3 Stalin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6 Krushchev gives “secret speech” denouncing Stalin and the cult of person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orients economy more towards consumer goods, hou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 war peri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ded soviet sphere--in defiance of Yalta Ac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buffer or expansionis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cur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72D0-DA18-4004-BDE6-E1DA8AE04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EC05-BB89-4665-98B7-8A07C322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12F5-58C5-41DF-93F5-E659FE017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0EFA-50E6-431A-882F-B0E26C2B5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94BE-6C06-4F31-B545-0C52E876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8C29-F48B-41E6-8162-58DC2E98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AEC9-ACA1-490B-9544-36051176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EA92-D66E-4DE0-ACE0-FD9D4F10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BD2F-4A83-46A6-95D2-9FF4168F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8167-5272-463C-8CBD-D9AF1B50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8391-3E94-4DE2-B476-E74A019D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424E-ED49-4D0E-B1AE-98A7C672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B8E6-913A-45AB-AF90-AB7DCB237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sm and the Cold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3981600" y="3429000"/>
            <a:ext cx="1482480" cy="2200320"/>
          </a:xfrm>
          <a:prstGeom prst="rect">
            <a:avLst/>
          </a:prstGeom>
          <a:ln w="0">
            <a:noFill/>
          </a:ln>
        </p:spPr>
      </p:pic>
      <p:sp>
        <p:nvSpPr>
          <p:cNvPr id="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 respo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47 Truman announces that US will aid any country resisting “outside pressur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son learned from appeasing Hit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shal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 provides 13 billion to western Europe (then Japan, Korea, and Taiwan) to rebu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d War intensif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48 Berlin blockade and airl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49 Soviets test the atomic bo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na “goes communis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erica “goes McCarthyit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647640" y="4002120"/>
            <a:ext cx="2019240" cy="2550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6049800" y="4191120"/>
            <a:ext cx="3092760" cy="2357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3124080" y="4656240"/>
            <a:ext cx="2362320" cy="1431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4"/>
          <a:stretch/>
        </p:blipFill>
        <p:spPr>
          <a:xfrm>
            <a:off x="6880320" y="1500120"/>
            <a:ext cx="2111400" cy="25844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na--since 19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58-60 “Great Leap Forwar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o orders collectivization, backyard found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-30 million die through sta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62 break with Soviet Union obv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66-76 “Cultural Revolut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ies close, Red Guards run amok, “counter-revolutionaries” ki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78 period of (economic) liberalization begins under Deng Xiao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6276960" y="5057640"/>
            <a:ext cx="2371680" cy="17622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xy w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or conflicts” around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earner.org/channel/courses/worldhistory/unit_video_22-2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troop deploy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50-53 Ko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65-73 Viet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79-89 Afghanist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199120" y="4352760"/>
            <a:ext cx="3487680" cy="23004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e call for World War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ban missile crisis 19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709560" y="2895480"/>
            <a:ext cx="2637000" cy="330516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ig surpr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nd of European commu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70s and 80s religious and cultural dis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ling econom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gan’s ro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blood at the Kreml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5 Mikhail Gorbachev becomes General Secre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tes reforms-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lasno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erestro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8 allows contested elections within the Communist P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ment in Eastern Eur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0s rise of “Solidarity”--suppres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8 illegal “Solidarity” shipworkers, with encouragement from the Pope, go on str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9 Polish Communist party (and Gorbachev) allows Solidarity to compete in national el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idarity victo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886360" y="4762440"/>
            <a:ext cx="2086200" cy="15908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st Germ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little reform--the St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rbachev calls for change in East 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t German tourists go through Hungary to Austria--at first a few, then 10,000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rlin Wall is torn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0 Germany reuni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629400" y="4232160"/>
            <a:ext cx="2205000" cy="2502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 in USS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1 hardliners in the military wage a coup against Gorbachev, coup f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st Party is abolished in Rus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viet Union is dissolved by dec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S is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ly Soviet Union under commu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in comes to power by means of a disciplined hierarchical party, soon including what would become the KG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four years, civil war with Czar supporters, aided by U.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21 Introduced the New Economic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24 Lenin 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57680" y="5334120"/>
            <a:ext cx="2214720" cy="146196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 new nation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2017800" y="1981080"/>
            <a:ext cx="5099040" cy="410544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ssia--backsliding under Putin since 2000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stalgia for “good old days”, and Chines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ing control over media--especially T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est of oligarchs on trumped up charges--Khodorkov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Chechen war to make governorships appointed, not el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372280" y="5334120"/>
            <a:ext cx="2095200" cy="13968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ing revol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r revolutions” in Georgia, Ukraine, and Kyrgist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news.bbc.co.uk/1/hi/world/europe/4459224.stm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6438960" y="4314960"/>
            <a:ext cx="2200320" cy="1419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2619360" y="3962520"/>
            <a:ext cx="3181320" cy="2447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590400" y="4400640"/>
            <a:ext cx="1704960" cy="170496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left among Communis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countr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na, Vietnam, Laos, North Korea, Cu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several post Communist societies have changed litt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hina . .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9--crackdown at Tiananmen Squ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90s, some signs of loosening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contested el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freedom to criticize local govern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0s of NGOs allowed to organ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the other hand, since 1999 Falun Gong outlawed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33200" y="4129200"/>
            <a:ext cx="4753080" cy="2705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6172200" y="4667400"/>
            <a:ext cx="2733840" cy="178092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eneral Secretary emer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in’s testa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1927 Stalin emerges as most powerful fig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29 rejects NEP, begins forced industri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countryside, collectiv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llions sta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30s, purges and show t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,000s executed, maybe 5 million died in gul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6796080" y="4776840"/>
            <a:ext cx="2247840" cy="186696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otsky and Kamenev disapp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Patriotic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SR was probably most responsible for Allied vi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suffered the most--over 20 million d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2695680" y="4419720"/>
            <a:ext cx="2371680" cy="16668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lative) th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53 Stalin 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56 Krushchev gives “secret speech” denouncing Stalin and the cult of person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orients economy more towards consumer goods, hou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862440" y="5019840"/>
            <a:ext cx="2309760" cy="1519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7569360" y="4419720"/>
            <a:ext cx="1573200" cy="24368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D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 war peri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anded soviet sphere--in defiance of Yalta Acc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buffer or expansionis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on curt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1530360" y="1981080"/>
            <a:ext cx="6073920" cy="41054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3T01:03:13Z</dcterms:created>
  <dc:creator>Jeff</dc:creator>
  <dc:description/>
  <dc:language>en-US</dc:language>
  <cp:lastModifiedBy>Legion</cp:lastModifiedBy>
  <dcterms:modified xsi:type="dcterms:W3CDTF">2017-07-05T08:45:55Z</dcterms:modified>
  <cp:revision>22</cp:revision>
  <dc:subject/>
  <dc:title>Communism and the Cold War</dc:title>
</cp:coreProperties>
</file>