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D0B7A-01DE-4DF4-AF8F-6E6FE8629BC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04840" y="696960"/>
            <a:ext cx="4648320" cy="3486240"/>
          </a:xfrm>
          <a:prstGeom prst="rect">
            <a:avLst/>
          </a:prstGeom>
          <a:ln w="0">
            <a:noFill/>
          </a:ln>
        </p:spPr>
      </p:sp>
      <p:sp>
        <p:nvSpPr>
          <p:cNvPr id="8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eation of American Indian Heritage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started at the turn of the century as an effort to gain a day of recognition for the significant contributions the first Americans made to the establishment and growth of the U.S., has resulted in a whole month being designated for that purpos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eation of American Indian Heritage Mon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tarted at the turn of the century as an effort to gain a day of recognition for the significant contributions the first Americans made to the establishment and growth of the U.S., has resulted in a whole month being designated for that purpos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 in the Pacif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wo Jima, Major Howard Connor, 5th Marine Division signal officer, declared, "Were it not for the Navajos, the Marines would never have taken Iwo Ji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or had six Navajo code talkers working around the clock during the first two days of the battle. Those six sent and received more than 800 messages, all without e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Japanese chief of intelligence, Lieutenant General Seizo Arisue, said that while they were able to decipher the codes used by the U.S. Army and Army Air Corps, they never cracked the code used by the Mari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 in the Pacif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Iwo Jima, Major Howard Connor, 5th Marine Division signal officer, declared, "Were it not for the Navajos, the Marines would never have taken Iwo Ji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or had six Navajo code talkers working around the clock during the first two days of the battle. Those six sent and received more than 800 messages, all without err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apanese chief of intelligence, Lieutenant General Seizo Arisue, said that while they were able to decipher the codes used by the U.S. Army and Army Air Corps, they never cracked the code used by the Marin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rtment of Defense Honors Navajo Veter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 unrecognized because of the continued value of their language as a security classified code, the Navajo code talkers of World War II were honored for their contributions to defense on Sept. 17, 1992, at the Pentagon, Washington, D.C.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ty-five code talkers, all veterans of the U.S. Marine Corps, attended the dedication of the Navajo code talker exhibit. The exhibit includes a display of photographs, equipment and the original code, along with an explanation of how the code work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ment of Defense Honors Navajo Veter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unrecognized because of the continued value of their language as a security classified code, the Navajo code talkers of World War II were honored for their contributions to defense on Sept. 17, 1992, at the Pentagon, Washington, D.C.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ty-five code talkers, all veterans of the U.S. Marine Corps, attended the dedication of the Navajo code talker exhibit. The exhibit includes a display of photographs, equipment and the original code, along with an explanation of how the code work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Proponent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dge issued a proclamation on Sept. 28, 1915, which declared the second Saturday of each May as an American Indian Day and contained the first formal appeal for recognition of Indians as citiz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ar before this proclamation was issued, Red Fox James, a Blackfoot Indian, rode horseback from state to state seeking approval for a day to honor Indians. On December 14, 1915, he presented the endorsements of 24 state governments at the White House. There is no record, however, of such a national day being proclai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roponents-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idge issued a proclamation on Sept. 28, 1915, which declared the second Saturday of each May as an American Indian Day and contained the first formal appeal for recognition of Indians as citiz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ear before this proclamation was issued, Red Fox James, a Blackfoot Indian, rode horseback from state to state seeking approval for a day to honor Indians. On December 14, 1915, he presented the endorsements of 24 state governments at the White House. There is no record, however, of such a national day being proclaim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04840" y="696960"/>
            <a:ext cx="4648320" cy="3486240"/>
          </a:xfrm>
          <a:prstGeom prst="rect">
            <a:avLst/>
          </a:prstGeom>
          <a:ln w="0">
            <a:noFill/>
          </a:ln>
        </p:spPr>
      </p:sp>
      <p:sp>
        <p:nvSpPr>
          <p:cNvPr id="12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pared by Andrew Jones—Purchase Colle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information provided by infople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d by Andrew Jones—Purchase Colle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nformation provided by infople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04840" y="696960"/>
            <a:ext cx="4648320" cy="3486240"/>
          </a:xfrm>
          <a:prstGeom prst="rect">
            <a:avLst/>
          </a:prstGeom>
          <a:ln w="0">
            <a:noFill/>
          </a:ln>
        </p:spPr>
      </p:sp>
      <p:sp>
        <p:nvSpPr>
          <p:cNvPr id="9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Propon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very proponents of an American Indian Day was Dr. Arthur C. Parker, a Seneca Indian, who was the director of the Museum of Arts and Science in Rochester, N.Y. He persuaded the Boy Scouts of America to set aside a day for the "First Americans" and for three years they adopted such a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15, the annual Congress of the American Indian Association meeting, formally approved a plan concerning American Indian Day. It directed its president, Rev. Sherman Coolidge, an Arapahoe, to call upon the country to observe such a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ropon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very proponents of an American Indian Day was Dr. Arthur C. Parker, a Seneca Indian, who was the director of the Museum of Arts and Science in Rochester, N.Y. He persuaded the Boy Scouts of America to set aside a day for the "First Americans" and for three years they adopted such a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15, the annual Congress of the American Indian Association meeting, formally approved a plan concerning American Indian Day. It directed its president, Rev. Sherman Coolidge, an Arapahoe, to call upon the country to observe such a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04840" y="696960"/>
            <a:ext cx="4648320" cy="3486240"/>
          </a:xfrm>
          <a:prstGeom prst="rect">
            <a:avLst/>
          </a:prstGeom>
          <a:ln w="0">
            <a:noFill/>
          </a:ln>
        </p:spPr>
      </p:sp>
      <p:sp>
        <p:nvSpPr>
          <p:cNvPr id="9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Celeb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merican Indian Day in a state was declared on the second Saturday in May 1916 by the governor of N.Y. Several states celebrate the fourth Friday in Sept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Illinois, for example, legislators enacted such a day in 19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ly, several states have designated Columbus Day as Native American Day, but it continues to be a day we observe without any recognition as a national legal holi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Celebr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merican Indian Day in a state was declared on the second Saturday in May 1916 by the governor of N.Y. Several states celebrate the fourth Friday in Septe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llinois, for example, legislators enacted such a day in 191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ly, several states have designated Columbus Day as Native American Day, but it continues to be a day we observe without any recognition as a national legal hol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4840" y="696960"/>
            <a:ext cx="4648320" cy="3486240"/>
          </a:xfrm>
          <a:prstGeom prst="rect">
            <a:avLst/>
          </a:prstGeom>
          <a:ln w="0">
            <a:noFill/>
          </a:ln>
        </p:spPr>
      </p:sp>
      <p:sp>
        <p:nvSpPr>
          <p:cNvPr id="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 Place N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 places have been named after Indian words. In fact, about half of the states got their names from Indian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Indian Place Na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merican places have been named after Indian words. In fact, about half of the states got their names from Indian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04840" y="696960"/>
            <a:ext cx="4648320" cy="3486240"/>
          </a:xfrm>
          <a:prstGeom prst="rect">
            <a:avLst/>
          </a:prstGeom>
          <a:ln w="0">
            <a:noFill/>
          </a:ln>
        </p:spPr>
      </p:sp>
      <p:sp>
        <p:nvSpPr>
          <p:cNvPr id="1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 Place Names—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tucky comes from an Iroquoian word (Kentahten), which means "land of tomorr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icut's name comes from the Mohican word (Quinnehtukqut), which means "beside the long tidal ri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hattan (NY)--Algonquian, believed to mean "isolated thing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zona-- from the Indian "Arizonac," meaning "little spring" or "young spring."</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nsas--from a Sioux word meaning "people of the south wind."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tah--from the Ute tribe, meaning "people of the mountains."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Indian Place Names—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tucky comes from an Iroquoian word (Kentahten), which means "land of tomorr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cut's name comes from the Mohican word (Quinnehtukqut), which means "beside the long tidal ri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hattan (NY)--Algonquian, believed to mean "isolated thing in wa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zona-- from the Indian "Arizonac," meaning "little spring" or "young spring."</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nsas--from a Sioux word meaning "people of the south wind."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ah--from the Ute tribe, meaning "people of the mountain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04840" y="696960"/>
            <a:ext cx="4648320" cy="3486240"/>
          </a:xfrm>
          <a:prstGeom prst="rect">
            <a:avLst/>
          </a:prstGeom>
          <a:ln w="0">
            <a:noFill/>
          </a:ln>
        </p:spPr>
      </p:sp>
      <p:sp>
        <p:nvSpPr>
          <p:cNvPr id="1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vajo Code Tal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vajo code talkers took part in every assault the U.S. Marines conducted in the Pacific from 1942 to 1945. They served in all Marine divisions, transmitting messages by telephone and radio in their native language—a code that the Japanese never bro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ajo Code Talk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ajo code talkers took part in every assault the U.S. Marines conducted in the Pacific from 1942 to 1945. They served in all Marine divisions, transmitting messages by telephone and radio in their native language—a code that the Japanese never bro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avaj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 to use Navajo for secure communications came from Philip Johnston, the son of a missionary to the Navajos and one of the few non-Navajos who spoke their language flu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also knew that Native American languages—notably Choctaw—had been used in World War I to encode mess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ston believed Navajo answered the military requirement for an undecipherable code because Navajo is an unwritten language of extreme complex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syntax and tonal qualities, not to mention dialects, make it unintelligible to anyone without extensive exposure and trai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no alphabet or symbols, and is spoken only on the Navajo lands of the American South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Navaj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to use Navajo for secure communications came from Philip Johnston, the son of a missionary to the Navajos and one of the few non-Navajos who spoke their language fluen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lso knew that Native American languages—notably Choctaw—had been used in World War I to encode messag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ston believed Navajo answered the military requirement for an undecipherable code because Navajo is an unwritten language of extreme complex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syntax and tonal qualities, not to mention dialects, make it unintelligible to anyone without extensive exposure and trai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no alphabet or symbols, and is spoken only on the Navajo lands of the American Southw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04840" y="696960"/>
            <a:ext cx="4648320" cy="3486240"/>
          </a:xfrm>
          <a:prstGeom prst="rect">
            <a:avLst/>
          </a:prstGeom>
          <a:ln w="0">
            <a:noFill/>
          </a:ln>
        </p:spPr>
      </p:sp>
      <p:sp>
        <p:nvSpPr>
          <p:cNvPr id="11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vajo Code Talker's Diction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avajo code talker received a message, what he heard was a string of seemingly unrelated Navajo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talker first had to translate each Navajo word into its English equivalent. Then he used only the first letter of the English equivalent in spel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Navajo words "wol-la-chee" (ant), "be-la-sana" (apple) and "tse-nill" (axe) all stood for the letter "a." One way to say the word "Navy" in Navajo code would be "tsah (needle) wol-la-chee (ant) ah-keh-di-glini (victor) tsah-ah-dzoh (yucca)."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ajo Code Talker's Diction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Navajo code talker received a message, what he heard was a string of seemingly unrelated Navajo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de talker first had to translate each Navajo word into its English equivalent. Then he used only the first letter of the English equivalent in spel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Navajo words "wol-la-chee" (ant), "be-la-sana" (apple) and "tse-nill" (axe) all stood for the letter "a." One way to say the word "Navy" in Navajo code would be "tsah (needle) wol-la-chee (ant) ah-keh-di-glini (victor) tsah-ah-dzoh (yucca)."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vajo Code Talker’s Dictionary—continued</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ll words had to be spelled out letter by let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ers of the original code assigned Navajo words to represent about 450 frequently used military terms that did not exist in the Navajo langu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examples: "besh-lo" (iron fish) meant "submarine," "dah-he-tih-hi" (hummingbird) meant "fighter plane" and "debeh-li-zine" (black street) meant "squ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ajo Code Talker’s Dictionary—continued</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words had to be spelled out letter by le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ers of the original code assigned Navajo words to represent about 450 frequently used military terms that did not exist in the Navajo langua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examples: "besh-lo" (iron fish) meant "submarine," "dah-he-tih-hi" (hummingbird) meant "fighter plane" and "debeh-li-zine" (black street) meant "squ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B4112-ACAB-4FB7-91D1-67E4D4C1C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3AA13-9198-4D4A-8F3C-5F7D72F86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1FECCD-132D-4A4C-BB60-600310F37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E6CC5-54C4-4A96-9296-849726A60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E27C6-525B-407E-B427-1C8D2DAAA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0D9F8-4933-4E29-BED4-26FCDF931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1F613-08D1-4FEB-9E5C-723548329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7D8BF-80E7-45E2-B06E-DFBBCAD0C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EFCE4-8C78-4D5A-A7EE-3FB6D2B67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E32F2-C3C9-47D4-B2E8-7BA67E098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0CDEF-F65B-4FB0-8C4B-EA9258084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8B0CA-DEC5-4FDC-8609-BD450CB46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1DB43-4678-41CC-BE32-37036E6703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990360"/>
            <a:ext cx="77724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Creation of American Indian Heritage Month</a:t>
            </a:r>
            <a:endParaRPr b="0" lang="en-US" sz="48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What started at the turn of the century as an effort to gain a day of recognition for the significant contributions the first Americans made to the establishment and growth of the U.S., has resulted in a whole month being designated for that purpose.</a:t>
            </a:r>
            <a:br>
              <a:rPr sz="2400"/>
            </a:b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 in the Pacific</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t Iwo Jima, Major Howard Connor, 5th Marine Division signal officer, declared, "Were it not for the Navajos, the Marines would never have taken Iwo Jima.“</a:t>
            </a:r>
            <a:endParaRPr b="0" lang="en-US" sz="2400" spc="-1" strike="noStrike">
              <a:solidFill>
                <a:srgbClr val="000000"/>
              </a:solidFill>
              <a:latin typeface="Times New Roman"/>
            </a:endParaRPr>
          </a:p>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nnor had six Navajo code talkers working around the clock during the first two days of the battle. Those six sent and received more than 800 messages, all without error.</a:t>
            </a:r>
            <a:endParaRPr b="0" lang="en-US" sz="2400" spc="-1" strike="noStrike">
              <a:solidFill>
                <a:srgbClr val="000000"/>
              </a:solidFill>
              <a:latin typeface="Times New Roman"/>
            </a:endParaRPr>
          </a:p>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Japanese chief of intelligence, Lieutenant General Seizo Arisue, said that while they were able to decipher the codes used by the U.S. Army and Army Air Corps, they never cracked the code used by the Marine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partment of Defense Honors Navajo Veteran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ong unrecognized because of the continued value of their language as a security classified code, the Navajo code talkers of World War II were honored for their contributions to defense on Sept. 17, 1992, at the Pentagon, Washington, D.C. </a:t>
            </a:r>
            <a:br>
              <a:rPr sz="2400"/>
            </a:br>
            <a:r>
              <a:rPr b="0" lang="en-US" sz="2400" spc="-1" strike="noStrike">
                <a:solidFill>
                  <a:srgbClr val="000000"/>
                </a:solidFill>
                <a:latin typeface="Garamond"/>
              </a:rPr>
              <a:t>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ty-five code talkers, all veterans of the U.S. Marine Corps, attended the dedication of the Navajo code talker exhibit. The exhibit includes a display of photographs, equipment and the original code, along with an explanation of how the code worked.</a:t>
            </a:r>
            <a:endParaRPr b="0" lang="en-US" sz="2400" spc="-1" strike="noStrike">
              <a:solidFill>
                <a:srgbClr val="000000"/>
              </a:solidFill>
              <a:latin typeface="Times New Roman"/>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ly Proponents- continued</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olidge issued a proclamation on Sept. 28, 1915, which declared the second Saturday of each May as an American Indian Day and contained the first formal appeal for recognition of Indians as citizens.</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year before this proclamation was issued, Red Fox James, a Blackfoot Indian, rode horseback from state to state seeking approval for a day to honor Indians. On December 14, 1915, he presented the endorsements of 24 state governments at the White House. There is no record, however, of such a national day being proclaimed.</a:t>
            </a:r>
            <a:endParaRPr b="0" lang="en-US" sz="24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pared by Andrew Jones—Purchase College</a:t>
            </a:r>
            <a:endParaRPr b="0" lang="en-US" sz="4400" spc="-1" strike="noStrike">
              <a:solidFill>
                <a:srgbClr val="000000"/>
              </a:solidFill>
              <a:latin typeface="Times New Roman"/>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information provided by infoplease.com</a:t>
            </a:r>
            <a:endParaRPr b="0" lang="en-US" sz="3200" spc="-1" strike="noStrike">
              <a:solidFill>
                <a:srgbClr val="000000"/>
              </a:solidFill>
              <a:latin typeface="Times New Roman"/>
            </a:endParaRPr>
          </a:p>
        </p:txBody>
      </p:sp>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arly Proponents</a:t>
            </a:r>
            <a:endParaRPr b="0" lang="en-US" sz="4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ne of the very proponents of an American Indian Day was Dr. Arthur C. Parker, a Seneca Indian, who was the director of the Museum of Arts and Science in Rochester, N.Y. He persuaded the Boy Scouts of America to set aside a day for the "First Americans" and for three years they adopted such a day.</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 1915, the annual Congress of the American Indian Association meeting, formally approved a plan concerning American Indian Day. It directed its president, Rev. Sherman Coolidge, an Arapahoe, to call upon the country to observe such a day.</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e Celebrations</a:t>
            </a:r>
            <a:endParaRPr b="0" lang="en-US" sz="48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first American Indian Day in a state was declared on the second Saturday in May 1916 by the governor of N.Y. Several states celebrate the fourth Friday in September.</a:t>
            </a: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 Illinois, for example, legislators enacted such a day in 1919.</a:t>
            </a: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esently, several states have designated Columbus Day as Native American Day, but it continues to be a day we observe without any recognition as a national legal holiday.</a:t>
            </a:r>
            <a:endParaRPr b="0" lang="en-US" sz="24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2120"/>
            <a:ext cx="7772400" cy="26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merican Indian Place Names</a:t>
            </a:r>
            <a:endParaRPr b="0" lang="en-US" sz="4800" spc="-1" strike="noStrike">
              <a:solidFill>
                <a:srgbClr val="000000"/>
              </a:solidFill>
              <a:latin typeface="Times New Roman"/>
            </a:endParaRPr>
          </a:p>
        </p:txBody>
      </p:sp>
      <p:sp>
        <p:nvSpPr>
          <p:cNvPr id="58" name="PlaceHolder 2"/>
          <p:cNvSpPr>
            <a:spLocks noGrp="1"/>
          </p:cNvSpPr>
          <p:nvPr>
            <p:ph type="subTitle"/>
          </p:nvPr>
        </p:nvSpPr>
        <p:spPr>
          <a:xfrm>
            <a:off x="1371600" y="3123720"/>
            <a:ext cx="6400800" cy="25146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any American places have been named after Indian words. In fact, about half of the states got their names from Indian words.</a:t>
            </a:r>
            <a:endParaRPr b="0" lang="en-US" sz="3200" spc="-1" strike="noStrike">
              <a:solidFill>
                <a:srgbClr val="000000"/>
              </a:solidFill>
              <a:latin typeface="Times New Roman"/>
            </a:endParaRPr>
          </a:p>
        </p:txBody>
      </p:sp>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merican</a:t>
            </a:r>
            <a:r>
              <a:rPr b="0" lang="en-US" sz="4400" spc="-1" strike="noStrike">
                <a:solidFill>
                  <a:srgbClr val="000000"/>
                </a:solidFill>
                <a:latin typeface="Times New Roman"/>
              </a:rPr>
              <a:t> </a:t>
            </a:r>
            <a:r>
              <a:rPr b="0" lang="en-US" sz="4800" spc="-1" strike="noStrike">
                <a:solidFill>
                  <a:srgbClr val="000000"/>
                </a:solidFill>
                <a:latin typeface="Times New Roman"/>
              </a:rPr>
              <a:t>Indian Place Names—continued</a:t>
            </a:r>
            <a:endParaRPr b="0" lang="en-US" sz="48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fontScale="98000"/>
          </a:bodyPr>
          <a:p>
            <a:pPr marL="335880" indent="-3358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ntucky</a:t>
            </a:r>
            <a:r>
              <a:rPr b="0" lang="en-US" sz="2000" spc="-1" strike="noStrike">
                <a:solidFill>
                  <a:srgbClr val="000000"/>
                </a:solidFill>
                <a:latin typeface="Arial"/>
              </a:rPr>
              <a:t> comes from an Iroquoian word (Kentahten), which means "land of tomorrow.“</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ecticut's</a:t>
            </a:r>
            <a:r>
              <a:rPr b="0" lang="en-US" sz="2000" spc="-1" strike="noStrike">
                <a:solidFill>
                  <a:srgbClr val="000000"/>
                </a:solidFill>
                <a:latin typeface="Arial"/>
              </a:rPr>
              <a:t> name comes from the Mohican word (Quinnehtukqut), which means "beside the long tidal river." </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hattan</a:t>
            </a:r>
            <a:r>
              <a:rPr b="0" lang="en-US" sz="2000" spc="-1" strike="noStrike">
                <a:solidFill>
                  <a:srgbClr val="000000"/>
                </a:solidFill>
                <a:latin typeface="Arial"/>
              </a:rPr>
              <a:t> (NY)--Algonquian, believed to mean "isolated thing in water." </a:t>
            </a:r>
            <a:endParaRPr b="0" lang="en-US" sz="2000" spc="-1" strike="noStrike">
              <a:solidFill>
                <a:srgbClr val="000000"/>
              </a:solidFill>
              <a:latin typeface="Times New Roman"/>
            </a:endParaRPr>
          </a:p>
        </p:txBody>
      </p:sp>
      <p:sp>
        <p:nvSpPr>
          <p:cNvPr id="62"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izona</a:t>
            </a:r>
            <a:r>
              <a:rPr b="0" lang="en-US" sz="2000" spc="-1" strike="noStrike">
                <a:solidFill>
                  <a:srgbClr val="000000"/>
                </a:solidFill>
                <a:latin typeface="Arial"/>
              </a:rPr>
              <a:t>-- from the Indian "Arizonac," meaning "little spring" or "young spring."</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nsas</a:t>
            </a:r>
            <a:r>
              <a:rPr b="0" lang="en-US" sz="2000" spc="-1" strike="noStrike">
                <a:solidFill>
                  <a:srgbClr val="000000"/>
                </a:solidFill>
                <a:latin typeface="Arial"/>
              </a:rPr>
              <a:t>--from a Sioux word meaning "people of the south wind." </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tah</a:t>
            </a:r>
            <a:r>
              <a:rPr b="0" lang="en-US" sz="2000" spc="-1" strike="noStrike">
                <a:solidFill>
                  <a:srgbClr val="000000"/>
                </a:solidFill>
                <a:latin typeface="Arial"/>
              </a:rPr>
              <a:t>--from the Ute tribe, meaning "people of the mountains." </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914040"/>
            <a:ext cx="77724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Navajo Code Talkers</a:t>
            </a:r>
            <a:endParaRPr b="0" lang="en-US" sz="5400" spc="-1" strike="noStrike">
              <a:solidFill>
                <a:srgbClr val="000000"/>
              </a:solidFill>
              <a:latin typeface="Times New Roman"/>
            </a:endParaRPr>
          </a:p>
        </p:txBody>
      </p:sp>
      <p:sp>
        <p:nvSpPr>
          <p:cNvPr id="65" name="PlaceHolder 2"/>
          <p:cNvSpPr>
            <a:spLocks noGrp="1"/>
          </p:cNvSpPr>
          <p:nvPr>
            <p:ph type="subTitle"/>
          </p:nvPr>
        </p:nvSpPr>
        <p:spPr>
          <a:xfrm>
            <a:off x="1371600" y="3123720"/>
            <a:ext cx="6400800" cy="2514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Navajo code talkers took part in every assault the U.S. Marines conducted in the Pacific from 1942 to 1945. They served in all Marine divisions, transmitting messages by telephone and radio in their native language—a code that the Japanese never broke.</a:t>
            </a:r>
            <a:endParaRPr b="0" lang="en-US" sz="24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y Navajo?</a:t>
            </a:r>
            <a:endParaRPr b="0" lang="en-US" sz="48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 idea to use Navajo for secure communications came from Philip Johnston, the son of a missionary to the Navajos and one of the few non-Navajos who spoke their language fluently.</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He also knew that Native American languages—notably Choctaw—had been used in World War I to encode messages. </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Johnston believed Navajo answered the military requirement for an undecipherable code because Navajo is an unwritten language of extreme complexity.</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ts syntax and tonal qualities, not to mention dialects, make it unintelligible to anyone without extensive exposure and training.</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t has no alphabet or symbols, and is spoken only on the Navajo lands of the American Southwest. </a:t>
            </a:r>
            <a:endParaRPr b="0" lang="en-US" sz="2000" spc="-1" strike="noStrike">
              <a:solidFill>
                <a:srgbClr val="000000"/>
              </a:solidFill>
              <a:latin typeface="Times New Roman"/>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Navajo Code Talker's Dictionary</a:t>
            </a:r>
            <a:endParaRPr b="0" lang="en-US" sz="48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When a Navajo code talker received a message, what he heard was a string of seemingly unrelated Navajo words.</a:t>
            </a:r>
            <a:endParaRPr b="0" lang="en-US" sz="2400" spc="-1" strike="noStrike">
              <a:solidFill>
                <a:srgbClr val="000000"/>
              </a:solidFill>
              <a:latin typeface="Times New Roman"/>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code talker first had to translate each Navajo word into its English equivalent. Then he used only the first letter of the English equivalent in spelling.</a:t>
            </a:r>
            <a:endParaRPr b="0" lang="en-US" sz="2400" spc="-1" strike="noStrike">
              <a:solidFill>
                <a:srgbClr val="000000"/>
              </a:solidFill>
              <a:latin typeface="Times New Roman"/>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us, the Navajo words "wol-la-chee" (ant), "be-la-sana" (apple) and "tse-nill" (axe) all stood for the letter "a." One way to say the word "Navy" in Navajo code would be "tsah (needle) wol-la-chee (ant) ah-keh-di-glini (victor) tsah-ah-dzoh (yucca)."</a:t>
            </a:r>
            <a:r>
              <a:rPr b="0" lang="en-US" sz="1800" spc="-1" strike="noStrike">
                <a:solidFill>
                  <a:srgbClr val="000000"/>
                </a:solidFill>
                <a:latin typeface="Garamond"/>
              </a:rPr>
              <a:t> </a:t>
            </a:r>
            <a:br>
              <a:rPr sz="1800"/>
            </a:br>
            <a:r>
              <a:rPr b="0" lang="en-US" sz="1800" spc="-1" strike="noStrike">
                <a:solidFill>
                  <a:srgbClr val="000000"/>
                </a:solidFill>
                <a:latin typeface="Garamond"/>
              </a:rPr>
              <a:t> </a:t>
            </a:r>
            <a:endParaRPr b="0" lang="en-US" sz="1800" spc="-1" strike="noStrike">
              <a:solidFill>
                <a:srgbClr val="000000"/>
              </a:solidFill>
              <a:latin typeface="Times New Roman"/>
            </a:endParaRPr>
          </a:p>
          <a:p>
            <a:pPr marL="301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Navajo Code Talker’s Dictionary—continued</a:t>
            </a:r>
            <a:br>
              <a:rPr sz="4800"/>
            </a:br>
            <a:endParaRPr b="0" lang="en-US" sz="48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ot all words had to be spelled out letter by letter. </a:t>
            </a:r>
            <a:endParaRPr b="0" lang="en-US" sz="2400" spc="-1" strike="noStrike">
              <a:solidFill>
                <a:srgbClr val="000000"/>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developers of the original code assigned Navajo words to represent about 450 frequently used military terms that did not exist in the Navajo language. </a:t>
            </a:r>
            <a:endParaRPr b="0" lang="en-US" sz="2400" spc="-1" strike="noStrike">
              <a:solidFill>
                <a:srgbClr val="000000"/>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ral examples: "besh-lo" (iron fish) meant "submarine," "dah-he-tih-hi" (hummingbird) meant "fighter plane" and "debeh-li-zine" (black street) meant "squad."</a:t>
            </a:r>
            <a:endParaRPr b="0" lang="en-US" sz="2400" spc="-1" strike="noStrike">
              <a:solidFill>
                <a:srgbClr val="000000"/>
              </a:solidFill>
              <a:latin typeface="Times New Roman"/>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21:06:32Z</dcterms:created>
  <dc:creator>Guest</dc:creator>
  <dc:description/>
  <dc:language>en-US</dc:language>
  <cp:lastModifiedBy>Legion</cp:lastModifiedBy>
  <dcterms:modified xsi:type="dcterms:W3CDTF">2017-07-05T08:50:13Z</dcterms:modified>
  <cp:revision>7</cp:revision>
  <dc:subject/>
  <dc:title>The Creation of American Indian Heritage Month</dc:title>
</cp:coreProperties>
</file>