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8B19-B45F-4AB1-8270-D1A541C15E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y Inven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canized Rub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Charles Good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working with rubber easier (sticking when hot and hard when col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d sulfur and then heated so it would retained its elast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canize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Charles Good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working with rubber easier (sticking when hot and hard when c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d sulfur and then heated so it would retained its elast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d-Spinning M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Samuel Sl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entice in one of Arkwright’s Factories (Great Brita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cotton th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rate of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-Spinning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Samuel S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entice in one of Arkwright’s Factories (Great Brit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cotton th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rate of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Robert Ful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practical steamboat was called the Clermo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traveling on river easier and f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trade and the moving of raw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oceangoing steamship wouldn’t be produced until 1850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Robert Fu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practical steamboat was called the Clerm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ing on river easi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trade and the moving of raw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oceangoing steamship wouldn’t be produced until 1850 in 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Eli Whit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7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otton by factories in the No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ker could produce fifty time more cotton fi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of slave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tton Kingdom:” owners of large plan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Eli Whit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7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cotton by factories in the N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ker could produce fifty time more cotton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slave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 Kingdom:” owners of large pla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Samuel Mo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olutioniz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se C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es in the East coul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communicate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kets in the 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Samuel M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iz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in the East cou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municat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s i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 P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John De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sm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gh plains soil could not be plowed by cast iron plows (stick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sted farmers grea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John De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m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gh plains soil could not be plowed by cast iron plows (stic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sted farmers grea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l Re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Cyrus McCormi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wheat many times fas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 human worker c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abled farmers to cultiv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land with fewer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 for the prairies of the Mid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Cyrus McCorm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wheat many times fa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 human worker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farmers to cultiv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land with fewer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for the prairies of the Mid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L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Francis Lo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versions of English mach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ught spinning and weav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ed textile work to be done a lot f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Francis Lo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versions of English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spinning and weav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textile work to be done a lot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wing Mach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Elias How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producing clothing 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cloths less expensive so even the lower and middle classes could dress like the wealthier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es back to cot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w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Elias H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producing clothing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cloths less expensive so even the lower and middle classes could dress like the wealthier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back to co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227-4FA3-436E-9420-02892E84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D5E-0F20-4DF8-B292-0CC2F621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49AC-C0F2-4D49-9039-3CD5622B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5ABC-7DB2-413D-8A4A-07F1747B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228B-93B2-45F3-A299-E6FF786B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4C7-53CF-48A5-AEDF-5D81C06D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E6A-AAE0-451E-9F53-8AFCCE26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924-3E82-4FA1-874D-D4B48D0F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0FF-D50F-4F95-B52E-C99B2404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EFF1-7359-47C5-A210-98AA8C91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553-2B2E-48ED-A990-1C8F37D9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C8C-6256-4755-B6A0-1D28ADFD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8231-6779-46D1-8CEA-2CE74F721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arly Inven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aveman"/>
          <p:cNvPicPr/>
          <p:nvPr/>
        </p:nvPicPr>
        <p:blipFill>
          <a:blip r:embed="rId1"/>
          <a:stretch/>
        </p:blipFill>
        <p:spPr>
          <a:xfrm>
            <a:off x="1523880" y="1689120"/>
            <a:ext cx="5762880" cy="50166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ulcanized Rub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Charles Good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working with rubber easier (sticking when hot and hard when c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sulfur and then heated so it would retained its elas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harles_goodyear"/>
          <p:cNvPicPr/>
          <p:nvPr/>
        </p:nvPicPr>
        <p:blipFill>
          <a:blip r:embed="rId1"/>
          <a:stretch/>
        </p:blipFill>
        <p:spPr>
          <a:xfrm>
            <a:off x="6934320" y="990720"/>
            <a:ext cx="1904760" cy="18558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d-Spinning M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er: Samuel S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7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entice in one of Arkwright’s Factories (Great Brit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cotton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rate of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"/>
          <p:cNvPicPr/>
          <p:nvPr/>
        </p:nvPicPr>
        <p:blipFill>
          <a:blip r:embed="rId1"/>
          <a:stretch/>
        </p:blipFill>
        <p:spPr>
          <a:xfrm>
            <a:off x="5562720" y="3352680"/>
            <a:ext cx="3147840" cy="3322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er: Robert Fu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: 18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practical steamboat was called the Cler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traveling on river easier and f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trade and the moving of raw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ceangoing steamship wouldn’t be produced until 1850 in 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image?id=62145&amp;rendTypeId=4"/>
          <p:cNvPicPr/>
          <p:nvPr/>
        </p:nvPicPr>
        <p:blipFill>
          <a:blip r:embed="rId1"/>
          <a:stretch/>
        </p:blipFill>
        <p:spPr>
          <a:xfrm>
            <a:off x="5181480" y="106668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tton 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Eli Whit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7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cotton by factories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er could produce fifty time more cotton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of slave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tton Kingdom:” owners of large pla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ottongin"/>
          <p:cNvPicPr/>
          <p:nvPr/>
        </p:nvPicPr>
        <p:blipFill>
          <a:blip r:embed="rId1"/>
          <a:stretch/>
        </p:blipFill>
        <p:spPr>
          <a:xfrm>
            <a:off x="6019920" y="422280"/>
            <a:ext cx="2971800" cy="22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eli_whitney"/>
          <p:cNvPicPr/>
          <p:nvPr/>
        </p:nvPicPr>
        <p:blipFill>
          <a:blip r:embed="rId2"/>
          <a:stretch/>
        </p:blipFill>
        <p:spPr>
          <a:xfrm>
            <a:off x="7086600" y="4648320"/>
            <a:ext cx="1859040" cy="19508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Samuel M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iz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s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ies in the East c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ommunicat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s in the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Morse_telegraph"/>
          <p:cNvPicPr/>
          <p:nvPr/>
        </p:nvPicPr>
        <p:blipFill>
          <a:blip r:embed="rId1"/>
          <a:stretch/>
        </p:blipFill>
        <p:spPr>
          <a:xfrm>
            <a:off x="6324480" y="380880"/>
            <a:ext cx="2743200" cy="5743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 P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John De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gh plains soil could not be plowed by cast iron plows (stic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ed farmers grea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john-deere-first-plow"/>
          <p:cNvPicPr/>
          <p:nvPr/>
        </p:nvPicPr>
        <p:blipFill>
          <a:blip r:embed="rId1"/>
          <a:stretch/>
        </p:blipFill>
        <p:spPr>
          <a:xfrm>
            <a:off x="5562720" y="4114800"/>
            <a:ext cx="3219480" cy="2333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al Re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Cyrus McCorm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wheat many times fa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a human worker 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d farmers to cultiv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land with fewer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for the prairies of the Mid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reaper_ad"/>
          <p:cNvPicPr/>
          <p:nvPr/>
        </p:nvPicPr>
        <p:blipFill>
          <a:blip r:embed="rId1"/>
          <a:stretch/>
        </p:blipFill>
        <p:spPr>
          <a:xfrm>
            <a:off x="6095880" y="1828800"/>
            <a:ext cx="2895840" cy="2266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L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er: Francis Lo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versions of English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spinning and wea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ed textile work to be done a lot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IM"/>
          <p:cNvPicPr/>
          <p:nvPr/>
        </p:nvPicPr>
        <p:blipFill>
          <a:blip r:embed="rId1"/>
          <a:stretch/>
        </p:blipFill>
        <p:spPr>
          <a:xfrm>
            <a:off x="2514600" y="4495680"/>
            <a:ext cx="3581280" cy="2311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wing 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Elias H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producing clothing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cloths less expensive so even the lower and middle classes could dress like the wealthier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s back to co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4808-1z"/>
          <p:cNvPicPr/>
          <p:nvPr/>
        </p:nvPicPr>
        <p:blipFill>
          <a:blip r:embed="rId1"/>
          <a:stretch/>
        </p:blipFill>
        <p:spPr>
          <a:xfrm>
            <a:off x="5715000" y="4448160"/>
            <a:ext cx="2254320" cy="23335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3:17:42Z</dcterms:created>
  <dc:creator>PUSD</dc:creator>
  <dc:description/>
  <dc:language>en-US</dc:language>
  <cp:lastModifiedBy>Legion</cp:lastModifiedBy>
  <dcterms:modified xsi:type="dcterms:W3CDTF">2017-07-05T09:25:19Z</dcterms:modified>
  <cp:revision>6</cp:revision>
  <dc:subject/>
  <dc:title>Inventions</dc:title>
</cp:coreProperties>
</file>