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1289-6D7B-414C-96DA-14C1BC2DF9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esidential Election of 186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idential Election of 18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mocr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George McClellan was popular with the troops and promised to put an end to the war if he w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cr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George McClellan was popular with the troops and promised to put an end to the war if he w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ublicans (Un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ncoln/Johnson ticket ran with the slogan "Don't change horses in the middle of the stream," and over time a series of Union victories culminating in the capture of Atlanta, Georgia by forces led by General William Tecumseh Sherman restored his popular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blicans (Un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ncoln/Johnson ticket ran with the slogan "Don't change horses in the middle of the stream," and over time a series of Union victories culminating in the capture of Atlanta, Georgia by forces led by General William Tecumseh Sherman restored his popular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6011-FB0D-405C-9FBB-FDBB129FB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81C5-F3B6-4087-8452-0A4F13A4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C6DA-90F2-43F7-B48B-948044323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EAE8-2FCB-4A4D-AE54-D48391B98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4FAC-6CDC-4720-AAE3-946F2445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54F4-52F1-4A25-8E6F-7A8D6A96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7CBB-AC96-4E1A-B940-89797161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A795-8BA3-4B34-B3B4-39FE77C9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9CA7-4F93-4AA2-84D0-8EFB1CF3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A3FD-8EA2-4551-9967-E534C55A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8F31-6962-4BD3-8DB7-5AFA2D14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F5AC-089C-4EB2-A8A2-07DB4EA8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9E48-B8D5-4096-8EB9-5965ADA54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onofthesouth.net/Thomas_Nast/Election_Day_1865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"/>
              </a:rPr>
              <a:t>The Presidential Election of 186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mcclellan_5b"/>
          <p:cNvPicPr/>
          <p:nvPr/>
        </p:nvPicPr>
        <p:blipFill>
          <a:blip r:embed="rId2"/>
          <a:stretch/>
        </p:blipFill>
        <p:spPr>
          <a:xfrm>
            <a:off x="4800600" y="1752480"/>
            <a:ext cx="3795840" cy="4876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Lincoln"/>
          <p:cNvPicPr/>
          <p:nvPr/>
        </p:nvPicPr>
        <p:blipFill>
          <a:blip r:embed="rId3"/>
          <a:stretch/>
        </p:blipFill>
        <p:spPr>
          <a:xfrm>
            <a:off x="685800" y="1752480"/>
            <a:ext cx="3637080" cy="48006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Democra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 George McClellan was popular with the troops and promised to put an end to the war if he w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Election"/>
          <p:cNvPicPr/>
          <p:nvPr/>
        </p:nvPicPr>
        <p:blipFill>
          <a:blip r:embed="rId2"/>
          <a:stretch/>
        </p:blipFill>
        <p:spPr>
          <a:xfrm>
            <a:off x="2057400" y="2514600"/>
            <a:ext cx="5562720" cy="408456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Republicans (Union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incoln/Johnson ticket ran with the slogan "Don't change horses in the middle of the stream," and over time a series of Union victories culminating in the capture of Atlanta, Georgia by forces led by General William Tecumseh Sherman restored his populari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Election Day 186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76760" y="1600200"/>
            <a:ext cx="3567240" cy="502920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5T18:49:13Z</dcterms:created>
  <dc:creator>dgreenberg</dc:creator>
  <dc:description/>
  <dc:language>en-US</dc:language>
  <cp:lastModifiedBy>Legion</cp:lastModifiedBy>
  <dcterms:modified xsi:type="dcterms:W3CDTF">2017-07-05T09:28:59Z</dcterms:modified>
  <cp:revision>7</cp:revision>
  <dc:subject/>
  <dc:title>The Presidential Election of 1864</dc:title>
</cp:coreProperties>
</file>