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F5B1-FB61-4914-9226-BE8B7985E8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ial Election of 18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ial Election of 1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eorge McClellan was popular with the troops and promised to put an end to the war if he w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eorge McClellan was popular with the troops and promised to put an end to the war if he w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ublicans (Un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s (Un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8B9-58DF-415D-A885-4DA55A9C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1FB-B15E-447E-8661-FB010281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3BF-93AA-46F8-A5C3-8C518283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C8B-0489-4323-B29C-A8FC3906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D29-FC6D-42BD-BEA1-D5E06B21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48F-D24F-4E88-AC5E-E949A571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320E-37D2-4817-8065-50B9E8C5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4864-C72D-4C63-A27A-3D031BB3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2A5-DFD3-400C-9886-BFF32550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7334-2D7F-40D6-97D3-F0511C3B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E7E-A3D3-47B7-813D-A82E1EC6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3C4-8386-420B-A15C-364CF8FC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4B00-C29E-4E1F-8C5B-A84E3DBD5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onofthesouth.net/Thomas_Nast/Election_Day_1865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The Presidential Election of 18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mcclellan_5b"/>
          <p:cNvPicPr/>
          <p:nvPr/>
        </p:nvPicPr>
        <p:blipFill>
          <a:blip r:embed="rId2"/>
          <a:stretch/>
        </p:blipFill>
        <p:spPr>
          <a:xfrm>
            <a:off x="4800600" y="1752480"/>
            <a:ext cx="3795840" cy="487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Lincoln"/>
          <p:cNvPicPr/>
          <p:nvPr/>
        </p:nvPicPr>
        <p:blipFill>
          <a:blip r:embed="rId3"/>
          <a:stretch/>
        </p:blipFill>
        <p:spPr>
          <a:xfrm>
            <a:off x="685800" y="1752480"/>
            <a:ext cx="3637080" cy="4800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Democra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George McClellan was popular with the troops and promised to put an end to the war if he w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Election"/>
          <p:cNvPicPr/>
          <p:nvPr/>
        </p:nvPicPr>
        <p:blipFill>
          <a:blip r:embed="rId2"/>
          <a:stretch/>
        </p:blipFill>
        <p:spPr>
          <a:xfrm>
            <a:off x="2057400" y="2514600"/>
            <a:ext cx="5562720" cy="40845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Republicans (Unio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Election Day 18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76760" y="1600200"/>
            <a:ext cx="3567240" cy="50292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8:49:13Z</dcterms:created>
  <dc:creator>dgreenberg</dc:creator>
  <dc:description/>
  <dc:language>en-US</dc:language>
  <cp:lastModifiedBy>Legion</cp:lastModifiedBy>
  <dcterms:modified xsi:type="dcterms:W3CDTF">2017-07-05T09:28:59Z</dcterms:modified>
  <cp:revision>7</cp:revision>
  <dc:subject/>
  <dc:title>The Presidential Election of 1864</dc:title>
</cp:coreProperties>
</file>