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5A2D-C8DA-495C-9197-7B7812889B3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ial Election of 18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cr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ublicans (Un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9A35-42CE-4791-8075-537105DC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2C70-F642-468F-A696-AE9D07EE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59EA8-6532-40CC-BB8F-3E9C1A473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71FC-1744-4FE4-BED1-06B1C23C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D3BC-9C3B-4F93-8230-8B6A0CB9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9979-7F73-4368-850E-EE37FD01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A95-A088-43F2-8B9D-8F8209FD9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94DE-65CF-4982-9DE0-D9A06B43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940F-B073-405A-9406-24D247FF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E9C9-59BD-455F-8412-E33225A57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DEF9-9FF4-44C1-859D-309EF528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C2D-EE67-4E88-8451-004F0FBD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5FC75-D731-4A3C-B828-4B653B9B16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onofthesouth.net/Thomas_Nast/Election_Day_186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The Presidential Election of 18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mcclellan_5b"/>
          <p:cNvPicPr/>
          <p:nvPr/>
        </p:nvPicPr>
        <p:blipFill>
          <a:blip r:embed="rId2"/>
          <a:stretch/>
        </p:blipFill>
        <p:spPr>
          <a:xfrm>
            <a:off x="4800600" y="1752480"/>
            <a:ext cx="3795840" cy="4876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0" descr="Lincoln"/>
          <p:cNvPicPr/>
          <p:nvPr/>
        </p:nvPicPr>
        <p:blipFill>
          <a:blip r:embed="rId3"/>
          <a:stretch/>
        </p:blipFill>
        <p:spPr>
          <a:xfrm>
            <a:off x="685800" y="1752480"/>
            <a:ext cx="3637080" cy="48006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Democra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ral George McClellan was popular with the troops and promised to put an end to the war if he w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Election"/>
          <p:cNvPicPr/>
          <p:nvPr/>
        </p:nvPicPr>
        <p:blipFill>
          <a:blip r:embed="rId2"/>
          <a:stretch/>
        </p:blipFill>
        <p:spPr>
          <a:xfrm>
            <a:off x="2057400" y="2514600"/>
            <a:ext cx="5562720" cy="408456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Republicans (Union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incoln/Johnson ticket ran with the slogan "Don't change horses in the middle of the stream," and over time a series of Union victories culminating in the capture of Atlanta, Georgia by forces led by General William Tecumseh Sherman restored his popularit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Election Day 186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76760" y="1600200"/>
            <a:ext cx="3567240" cy="5029200"/>
          </a:xfrm>
          <a:prstGeom prst="rect">
            <a:avLst/>
          </a:prstGeom>
          <a:ln w="0">
            <a:noFill/>
          </a:ln>
        </p:spPr>
      </p:pic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5T18:49:13Z</dcterms:created>
  <dc:creator>dgreenberg</dc:creator>
  <dc:description/>
  <dc:language>en-US</dc:language>
  <cp:lastModifiedBy>Legion</cp:lastModifiedBy>
  <dcterms:modified xsi:type="dcterms:W3CDTF">2017-07-05T09:28:59Z</dcterms:modified>
  <cp:revision>7</cp:revision>
  <dc:subject/>
  <dc:title>The Presidential Election of 1864</dc:title>
</cp:coreProperties>
</file>