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2E4C-DC2B-4C47-B3AE-DF9F3C0CAB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idential Election of 18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idential Election of 18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cr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George McClellan was popular with the troops and promised to put an end to the war if he w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George McClellan was popular with the troops and promised to put an end to the war if he w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ublicans (Un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ncoln/Johnson ticket ran with the slogan "Don't change horses in the middle of the stream," and over time a series of Union victories culminating in the capture of Atlanta, Georgia by forces led by General William Tecumseh Sherman restored his popular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s (Un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coln/Johnson ticket ran with the slogan "Don't change horses in the middle of the stream," and over time a series of Union victories culminating in the capture of Atlanta, Georgia by forces led by General William Tecumseh Sherman restored his popular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AADD-DBF1-462F-A2C6-3AD70A43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98C6-4E5F-467B-A872-CA10196E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3CA2-B592-4FBD-8001-D61AC56DD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5A42-8439-40A6-8B28-3C9453719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D96F-7594-4C9E-9D2E-809CC906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A2DD-A6DE-4360-82FE-BDBB470B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FE1D-C834-4CD7-8442-B8EFAD04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8A40-FFFC-44E0-9AFB-81EFE0EC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15D2-83D6-4D67-BEF1-CA8C610A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C8FB-E816-4F35-8C88-B8AFD471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2055-27BB-445B-8ACB-4ED3947E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A0C9-225B-4657-945B-95E9FD47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150E-4725-45FC-AFF7-0D6709F48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onofthesouth.net/Thomas_Nast/Election_Day_1865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The Presidential Election of 186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mcclellan_5b"/>
          <p:cNvPicPr/>
          <p:nvPr/>
        </p:nvPicPr>
        <p:blipFill>
          <a:blip r:embed="rId2"/>
          <a:stretch/>
        </p:blipFill>
        <p:spPr>
          <a:xfrm>
            <a:off x="4800600" y="1752480"/>
            <a:ext cx="3795840" cy="487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Lincoln"/>
          <p:cNvPicPr/>
          <p:nvPr/>
        </p:nvPicPr>
        <p:blipFill>
          <a:blip r:embed="rId3"/>
          <a:stretch/>
        </p:blipFill>
        <p:spPr>
          <a:xfrm>
            <a:off x="685800" y="1752480"/>
            <a:ext cx="3637080" cy="48006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Democra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George McClellan was popular with the troops and promised to put an end to the war if he w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Election"/>
          <p:cNvPicPr/>
          <p:nvPr/>
        </p:nvPicPr>
        <p:blipFill>
          <a:blip r:embed="rId2"/>
          <a:stretch/>
        </p:blipFill>
        <p:spPr>
          <a:xfrm>
            <a:off x="2057400" y="2514600"/>
            <a:ext cx="5562720" cy="408456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Republicans (Union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incoln/Johnson ticket ran with the slogan "Don't change horses in the middle of the stream," and over time a series of Union victories culminating in the capture of Atlanta, Georgia by forces led by General William Tecumseh Sherman restored his popular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Election Day 186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76760" y="1600200"/>
            <a:ext cx="3567240" cy="50292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18:49:13Z</dcterms:created>
  <dc:creator>dgreenberg</dc:creator>
  <dc:description/>
  <dc:language>en-US</dc:language>
  <cp:lastModifiedBy>Legion</cp:lastModifiedBy>
  <dcterms:modified xsi:type="dcterms:W3CDTF">2017-07-05T09:28:59Z</dcterms:modified>
  <cp:revision>7</cp:revision>
  <dc:subject/>
  <dc:title>The Presidential Election of 1864</dc:title>
</cp:coreProperties>
</file>