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applause.wav" ContentType="audio/x-wav"/>
  <Override PartName="/ppt/media/image5.png" ContentType="image/png"/>
  <Override PartName="/ppt/media/image8.jpeg" ContentType="image/jpeg"/>
  <Override PartName="/ppt/media/image10.jpeg" ContentType="image/jpeg"/>
  <Override PartName="/ppt/media/image2.png" ContentType="image/png"/>
  <Override PartName="/ppt/media/image4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cashreg.wav" ContentType="audio/x-wav"/>
  <Override PartName="/ppt/media/image13.jpeg" ContentType="image/jpeg"/>
  <Override PartName="/ppt/media/image3.jpeg" ContentType="image/jpeg"/>
  <Override PartName="/ppt/media/drumroll.wav" ContentType="audio/x-wav"/>
  <Override PartName="/ppt/media/image1.jpeg" ContentType="image/jpeg"/>
  <Override PartName="/ppt/media/image14.jpeg" ContentType="image/jpeg"/>
  <Override PartName="/ppt/media/image16.wmf" ContentType="image/x-wmf"/>
  <Override PartName="/ppt/media/image26.wmf" ContentType="image/x-wmf"/>
  <Override PartName="/ppt/media/image25.wmf" ContentType="image/x-wmf"/>
  <Override PartName="/ppt/media/image15.jpeg" ContentType="image/jpeg"/>
  <Override PartName="/ppt/media/image17.wmf" ContentType="image/x-wmf"/>
  <Override PartName="/ppt/media/image18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0.jpeg" ContentType="image/jpeg"/>
  <Override PartName="/ppt/media/image22.wmf" ContentType="image/x-wmf"/>
  <Override PartName="/ppt/media/image23.gif" ContentType="image/gi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6BCE-650D-49F1-AD34-25143CBAB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People of the California Gold Rush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People of the California Gold R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llie Chap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ried a dentist and studied dentistry from h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practiced as a dentist with her own pat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also wrote and composed: a talented lad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llie Chapman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ried a dentist and studied dentistry from hi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practiced as a dentist with her own patient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also wrote and composed: a talented lady!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za Farn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 young widow, she was matron of Sing Sing pr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ved women would “civilize” the mi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ocated social 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za Farnha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 young widow, she was matron of Sing Sing prison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ved women would “civilize” the miner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ocated social reform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iana Kir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ioneer of Santa Cruz during the Gold R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ocated education, freedom, and equal rights for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private school named for 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iana Kirby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ioneer of Santa Cruz during the Gold Rush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ocated education, freedom, and equal rights for all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private school named for her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 credits: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lipArt from Microsoft Clip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 Brannan, William Fargo, James Marshall, Levis Strauss, John Sutter, &amp; Henry Wells from en.wikipedia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Twain: www.marktwainhouse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za Farnham &amp; Georgiana Kirby: www.goldrush.com/~joan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llie Chapman: www.ncgold.com/goldrushtown/people/ht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ta Crabtree: www.ncgold.com/History/LottaCrabtree/lott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information regarding the men came from the PBS movie “The Gold Rush”, directed by Boettcher &amp; Trinklein, 199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za Farnham &amp; Georgiana Kirby: www.goldrush.com/~joann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ta Crabtree: www.ncgold.com/History/LottaCrabtree/lott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llie Chapman: www.ncgold.com/goldrushtown/people/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Clips from United Streaming:chp890500 and chp9059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t sites for the Gold Rus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historichwy49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museumca.org/goldrush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ncgold.com/goldrushtow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 credits: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lipArt from Microsoft ClipArt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 Brannan, William Fargo, James Marshall, Levis Strauss, John Sutter, &amp; Henry Wells from en.wikipedia.org 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Twain: www.marktwainhouse.org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za Farnham &amp; Georgiana Kirby: www.goldrush.com/~joann/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llie Chapman: www.ncgold.com/goldrushtown/people/html.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ta Crabtree: www.ncgold.com/History/LottaCrabtree/lotta.html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: 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information regarding the men came from the PBS movie “The Gold Rush”, directed by Boettcher &amp; Trinklein, 1996.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za Farnham &amp; Georgiana Kirby: www.goldrush.com/~joann/ 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ta Crabtree: www.ncgold.com/History/LottaCrabtree/lotta.html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llie Chapman: www.ncgold.com/goldrushtown/people/html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Clips from United Streaming:chp890500 and chp905920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t sites for the Gold Rush: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historichwy49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museumca.org/goldrush/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ncgold.com/goldrushtown/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ere all people who became famous without mining for gold!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recognize any of these people?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ere all people who became famous without mining for gol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recognize any of these peo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utter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sioned an agricultural empire near the American River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discovery of gold kept secret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did appreciate the opportunities of the Gold Rush, and left California penniles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u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sioned an agricultural empire near the American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discovery of gold kept secr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did appreciate the opportunities of the Gold Rush, and left California penni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rs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gold pebbles while building Sutter’s M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ed the effects of potential prospectors, who eventually forced him off hi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died nearly penni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rshall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gold pebbles while building Sutter’s Mill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ed the effects of potential prospectors, who eventually forced him off his land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died nearly penniles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ry Wells and William Far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d to profit from Gold Rush by providing services to mi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Wells, Fargo &amp; Co. for banking, mail, and stage coach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d tremendous wealth as entrepren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ry Wells and William Fargo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d to profit from Gold Rush by providing services to miner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Wells, Fargo &amp; Co. for banking, mail, and stage coach service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d tremendous wealth as entrepreneur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i Strau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 a successful dry-goods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ented canvas pants with riveted po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alled Lev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i Straus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 a successful dry-goods store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ented canvas pants with riveted pocket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alled Levi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Twain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Samuel Clemen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d West for the Gold Rush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famous writer of his experience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Tw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Samuel Clem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d West for the Gold R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famous writer of his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 Brann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ght all mining tools in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ounced gold was f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 fortune selling tools, then other necessities, to mi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milliona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 Brannan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ght all mining tools in area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ounced gold was found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 fortune selling tools, then other necessities, to miner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millionaire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ta Crabt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acting on stages at ag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lots of money entertaining mi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traveled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ta Crabtree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acting on stages at age 6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lots of money entertaining miner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traveled the world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708D-51A8-40C7-9A93-A39EAC2C5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7667-1F07-4BFD-88EB-806A98CA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CFE4-A4A5-4D6A-B13E-E424BE8F7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54FB-4B57-4A83-B7C3-94AFB9F02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D35B-F6C6-4B27-9AB9-9B9F6118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2AE5-9D06-4F0E-BBEA-94B5C6FA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C920-771F-4FD1-920E-0BA0294B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4FE9-B8E9-45C6-B923-065F53B0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B527-1CA6-466F-ABDB-5414B164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EF97-848F-4672-9837-A7923EDD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EFFB-94AB-4D6D-B9C3-E3FBCF16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4B2B-E010-4A29-99FD-6875379B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2206-3708-481A-9738-4DDDE6D20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5.png"/><Relationship Id="rId3" Type="http://schemas.openxmlformats.org/officeDocument/2006/relationships/image" Target="../media/image22.wmf"/><Relationship Id="rId4" Type="http://schemas.openxmlformats.org/officeDocument/2006/relationships/image" Target="../media/image23.gif"/><Relationship Id="rId5" Type="http://schemas.openxmlformats.org/officeDocument/2006/relationships/image" Target="../media/image24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1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jpe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jpeg"/><Relationship Id="rId3" Type="http://schemas.openxmlformats.org/officeDocument/2006/relationships/slide" Target="slide5.xml"/><Relationship Id="rId4" Type="http://schemas.openxmlformats.org/officeDocument/2006/relationships/image" Target="../media/image4.jpeg"/><Relationship Id="rId5" Type="http://schemas.openxmlformats.org/officeDocument/2006/relationships/slide" Target="slide10.xml"/><Relationship Id="rId6" Type="http://schemas.openxmlformats.org/officeDocument/2006/relationships/image" Target="../media/image5.png"/><Relationship Id="rId7" Type="http://schemas.openxmlformats.org/officeDocument/2006/relationships/slide" Target="slide9.xml"/><Relationship Id="rId8" Type="http://schemas.openxmlformats.org/officeDocument/2006/relationships/image" Target="../media/image6.jpeg"/><Relationship Id="rId9" Type="http://schemas.openxmlformats.org/officeDocument/2006/relationships/slide" Target="slide4.xml"/><Relationship Id="rId10" Type="http://schemas.openxmlformats.org/officeDocument/2006/relationships/image" Target="../media/image7.jpeg"/><Relationship Id="rId11" Type="http://schemas.openxmlformats.org/officeDocument/2006/relationships/slide" Target="slide12.xml"/><Relationship Id="rId12" Type="http://schemas.openxmlformats.org/officeDocument/2006/relationships/image" Target="../media/image8.jpeg"/><Relationship Id="rId13" Type="http://schemas.openxmlformats.org/officeDocument/2006/relationships/slide" Target="slide6.xml"/><Relationship Id="rId14" Type="http://schemas.openxmlformats.org/officeDocument/2006/relationships/image" Target="../media/image9.jpeg"/><Relationship Id="rId15" Type="http://schemas.openxmlformats.org/officeDocument/2006/relationships/slide" Target="slide3.xml"/><Relationship Id="rId16" Type="http://schemas.openxmlformats.org/officeDocument/2006/relationships/image" Target="../media/image10.jpeg"/><Relationship Id="rId17" Type="http://schemas.openxmlformats.org/officeDocument/2006/relationships/slide" Target="slide11.xml"/><Relationship Id="rId18" Type="http://schemas.openxmlformats.org/officeDocument/2006/relationships/image" Target="../media/image11.jpeg"/><Relationship Id="rId19" Type="http://schemas.openxmlformats.org/officeDocument/2006/relationships/slide" Target="slide7.xml"/><Relationship Id="rId20" Type="http://schemas.openxmlformats.org/officeDocument/2006/relationships/image" Target="../media/image12.jpeg"/><Relationship Id="rId21" Type="http://schemas.openxmlformats.org/officeDocument/2006/relationships/slide" Target="slide8.xml"/><Relationship Id="rId22" Type="http://schemas.openxmlformats.org/officeDocument/2006/relationships/image" Target="../media/image13.jpe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0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.jpeg"/><Relationship Id="rId3" Type="http://schemas.openxmlformats.org/officeDocument/2006/relationships/slide" Target="slide2.xm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16.wmf"/><Relationship Id="rId5" Type="http://schemas.openxmlformats.org/officeDocument/2006/relationships/slide" Target="slide2.xml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jpeg"/><Relationship Id="rId3" Type="http://schemas.openxmlformats.org/officeDocument/2006/relationships/image" Target="../media/image17.wm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jpe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" Target="slide2.xml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6.jpeg"/><Relationship Id="rId3" Type="http://schemas.openxmlformats.org/officeDocument/2006/relationships/image" Target="../media/image21.wm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raw-nugget12-bi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pperplate Gothic Bold"/>
              </a:rPr>
              <a:t>Famous People of the </a:t>
            </a:r>
            <a:r>
              <a:rPr b="0" lang="en-US" sz="6000" spc="-1" strike="noStrike">
                <a:solidFill>
                  <a:srgbClr val="ffff00"/>
                </a:solidFill>
                <a:latin typeface="Copperplate Gothic Bold"/>
              </a:rPr>
              <a:t>California</a:t>
            </a:r>
            <a:r>
              <a:rPr b="0" lang="en-US" sz="5400" spc="-1" strike="noStrike">
                <a:solidFill>
                  <a:srgbClr val="ffff00"/>
                </a:solidFill>
                <a:latin typeface="Copperplate Gothic Bold"/>
              </a:rPr>
              <a:t> Gold Ru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ohsusannah.wma" descr=""/>
          <p:cNvPicPr/>
          <p:nvPr/>
        </p:nvPicPr>
        <p:blipFill>
          <a:blip r:embed="rId2"/>
          <a:stretch/>
        </p:blipFill>
        <p:spPr>
          <a:xfrm>
            <a:off x="21337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916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llie Chap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ried a dentist and studied dentistry from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 practiced as a dentist with her own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also wrote and composed: a talented la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nelliechapman"/>
          <p:cNvPicPr/>
          <p:nvPr/>
        </p:nvPicPr>
        <p:blipFill>
          <a:blip r:embed="rId2"/>
          <a:stretch/>
        </p:blipFill>
        <p:spPr>
          <a:xfrm>
            <a:off x="5943600" y="1981080"/>
            <a:ext cx="2206800" cy="2895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MCj03053810000[1]"/>
          <p:cNvPicPr/>
          <p:nvPr/>
        </p:nvPicPr>
        <p:blipFill>
          <a:blip r:embed="rId3"/>
          <a:stretch/>
        </p:blipFill>
        <p:spPr>
          <a:xfrm>
            <a:off x="4572000" y="4495680"/>
            <a:ext cx="1224000" cy="1827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MMj02054010000[1]"/>
          <p:cNvPicPr/>
          <p:nvPr/>
        </p:nvPicPr>
        <p:blipFill>
          <a:blip r:embed="rId4"/>
          <a:stretch/>
        </p:blipFill>
        <p:spPr>
          <a:xfrm>
            <a:off x="7391520" y="5102280"/>
            <a:ext cx="1523880" cy="1222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MCj02979770000[1]"/>
          <p:cNvPicPr/>
          <p:nvPr/>
        </p:nvPicPr>
        <p:blipFill>
          <a:blip r:embed="rId5"/>
          <a:stretch/>
        </p:blipFill>
        <p:spPr>
          <a:xfrm>
            <a:off x="5943600" y="5181480"/>
            <a:ext cx="1641600" cy="838440"/>
          </a:xfrm>
          <a:prstGeom prst="rect">
            <a:avLst/>
          </a:prstGeom>
          <a:ln w="0">
            <a:noFill/>
          </a:ln>
        </p:spPr>
      </p:pic>
      <p:pic>
        <p:nvPicPr>
          <p:cNvPr id="118" name="MSj04310540000[1].wav" descr=""/>
          <p:cNvPicPr/>
          <p:nvPr/>
        </p:nvPicPr>
        <p:blipFill>
          <a:blip r:embed="rId6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14"/>
          <p:cNvSpPr/>
          <p:nvPr/>
        </p:nvSpPr>
        <p:spPr>
          <a:xfrm>
            <a:off x="457200" y="60958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493"/>
                </a:moveTo>
                <a:lnTo>
                  <a:pt x="9103" y="7493"/>
                </a:lnTo>
                <a:lnTo>
                  <a:pt x="9103" y="12828"/>
                </a:lnTo>
                <a:cubicBezTo>
                  <a:pt x="9103" y="13751"/>
                  <a:pt x="9903" y="14482"/>
                  <a:pt x="10939" y="14482"/>
                </a:cubicBezTo>
                <a:lnTo>
                  <a:pt x="12601" y="14482"/>
                </a:lnTo>
                <a:cubicBezTo>
                  <a:pt x="13637" y="14482"/>
                  <a:pt x="14438" y="13751"/>
                  <a:pt x="14438" y="12828"/>
                </a:cubicBezTo>
                <a:lnTo>
                  <a:pt x="14438" y="7493"/>
                </a:lnTo>
                <a:lnTo>
                  <a:pt x="12601" y="7493"/>
                </a:lnTo>
                <a:lnTo>
                  <a:pt x="16109" y="3985"/>
                </a:lnTo>
                <a:lnTo>
                  <a:pt x="19782" y="7493"/>
                </a:lnTo>
                <a:lnTo>
                  <a:pt x="17945" y="7493"/>
                </a:lnTo>
                <a:lnTo>
                  <a:pt x="17945" y="12828"/>
                </a:lnTo>
                <a:cubicBezTo>
                  <a:pt x="17945" y="15596"/>
                  <a:pt x="15369" y="18155"/>
                  <a:pt x="12601" y="18155"/>
                </a:cubicBezTo>
                <a:lnTo>
                  <a:pt x="10939" y="18155"/>
                </a:lnTo>
                <a:cubicBezTo>
                  <a:pt x="8171" y="18155"/>
                  <a:pt x="5595" y="15596"/>
                  <a:pt x="5595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zoom dir="ou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217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Eliza Farnh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As a  young widow, she was matron of Sing Sing pr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Believed women would “civilize” the m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Advocated social re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1" descr="Eliza"/>
          <p:cNvPicPr/>
          <p:nvPr/>
        </p:nvPicPr>
        <p:blipFill>
          <a:blip r:embed="rId2"/>
          <a:stretch/>
        </p:blipFill>
        <p:spPr>
          <a:xfrm>
            <a:off x="5334120" y="1600200"/>
            <a:ext cx="2143080" cy="3219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MCj01286410000[1]"/>
          <p:cNvPicPr/>
          <p:nvPr/>
        </p:nvPicPr>
        <p:blipFill>
          <a:blip r:embed="rId3"/>
          <a:stretch/>
        </p:blipFill>
        <p:spPr>
          <a:xfrm>
            <a:off x="7162920" y="4267080"/>
            <a:ext cx="1716120" cy="236232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15"/>
          <p:cNvSpPr/>
          <p:nvPr/>
        </p:nvSpPr>
        <p:spPr>
          <a:xfrm>
            <a:off x="457200" y="58672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3794" y="9036"/>
                </a:moveTo>
                <a:lnTo>
                  <a:pt x="7301" y="9036"/>
                </a:lnTo>
                <a:lnTo>
                  <a:pt x="7301" y="14372"/>
                </a:lnTo>
                <a:cubicBezTo>
                  <a:pt x="7301" y="15294"/>
                  <a:pt x="8102" y="16026"/>
                  <a:pt x="9138" y="16026"/>
                </a:cubicBezTo>
                <a:lnTo>
                  <a:pt x="10800" y="16026"/>
                </a:lnTo>
                <a:cubicBezTo>
                  <a:pt x="11836" y="16026"/>
                  <a:pt x="12636" y="15294"/>
                  <a:pt x="12636" y="14372"/>
                </a:cubicBezTo>
                <a:lnTo>
                  <a:pt x="12636" y="9036"/>
                </a:lnTo>
                <a:lnTo>
                  <a:pt x="10800" y="9036"/>
                </a:lnTo>
                <a:lnTo>
                  <a:pt x="14308" y="5529"/>
                </a:lnTo>
                <a:lnTo>
                  <a:pt x="17981" y="9036"/>
                </a:lnTo>
                <a:lnTo>
                  <a:pt x="16144" y="9036"/>
                </a:lnTo>
                <a:lnTo>
                  <a:pt x="16144" y="14372"/>
                </a:lnTo>
                <a:cubicBezTo>
                  <a:pt x="16144" y="17140"/>
                  <a:pt x="13568" y="19699"/>
                  <a:pt x="10800" y="19699"/>
                </a:cubicBezTo>
                <a:lnTo>
                  <a:pt x="9138" y="19699"/>
                </a:lnTo>
                <a:cubicBezTo>
                  <a:pt x="6370" y="19699"/>
                  <a:pt x="3794" y="17140"/>
                  <a:pt x="3794" y="14372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push dir="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Georgiana Kir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 2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pioneer of Santa Cruz during the Gold R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 2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vocated education, freedom, and equal rights for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 2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as a private school named for 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GeoKirby"/>
          <p:cNvPicPr/>
          <p:nvPr/>
        </p:nvPicPr>
        <p:blipFill>
          <a:blip r:embed="rId2"/>
          <a:stretch/>
        </p:blipFill>
        <p:spPr>
          <a:xfrm>
            <a:off x="5791320" y="1752480"/>
            <a:ext cx="2381040" cy="3638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MCj01286560000[1]"/>
          <p:cNvPicPr/>
          <p:nvPr/>
        </p:nvPicPr>
        <p:blipFill>
          <a:blip r:embed="rId3"/>
          <a:stretch/>
        </p:blipFill>
        <p:spPr>
          <a:xfrm>
            <a:off x="4419720" y="3809880"/>
            <a:ext cx="1025280" cy="251460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11"/>
          <p:cNvSpPr/>
          <p:nvPr/>
        </p:nvSpPr>
        <p:spPr>
          <a:xfrm>
            <a:off x="8153280" y="5943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7493"/>
                </a:moveTo>
                <a:lnTo>
                  <a:pt x="9463" y="7493"/>
                </a:lnTo>
                <a:lnTo>
                  <a:pt x="9463" y="12828"/>
                </a:lnTo>
                <a:cubicBezTo>
                  <a:pt x="9463" y="13751"/>
                  <a:pt x="10264" y="14482"/>
                  <a:pt x="11300" y="14482"/>
                </a:cubicBezTo>
                <a:lnTo>
                  <a:pt x="12962" y="14482"/>
                </a:lnTo>
                <a:cubicBezTo>
                  <a:pt x="13998" y="14482"/>
                  <a:pt x="14799" y="13751"/>
                  <a:pt x="14799" y="12828"/>
                </a:cubicBezTo>
                <a:lnTo>
                  <a:pt x="14799" y="7493"/>
                </a:lnTo>
                <a:lnTo>
                  <a:pt x="12962" y="7493"/>
                </a:lnTo>
                <a:lnTo>
                  <a:pt x="16470" y="3985"/>
                </a:lnTo>
                <a:lnTo>
                  <a:pt x="20143" y="7493"/>
                </a:lnTo>
                <a:lnTo>
                  <a:pt x="18306" y="7493"/>
                </a:lnTo>
                <a:lnTo>
                  <a:pt x="18306" y="12828"/>
                </a:lnTo>
                <a:cubicBezTo>
                  <a:pt x="18306" y="15596"/>
                  <a:pt x="15730" y="18155"/>
                  <a:pt x="12962" y="18155"/>
                </a:cubicBezTo>
                <a:lnTo>
                  <a:pt x="11300" y="18155"/>
                </a:lnTo>
                <a:cubicBezTo>
                  <a:pt x="8532" y="18155"/>
                  <a:pt x="5956" y="15596"/>
                  <a:pt x="5956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split dir="in" orient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1000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cture credits: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ClipArt from Microsoft Clip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 Brannan, William Fargo, James Marshall, Levis Strauss, John Sutter, &amp; Henry Wells from en.wikipedia.or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 Twain: www.marktwainhouse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za Farnham &amp; Georgiana Kirby: www.goldrush.com/~joann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llie Chapman: www.ncgold.com/goldrushtown/people/htm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tta Crabtree: www.ncgold.com/History/LottaCrabtree/lotta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tion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st of the information regarding the men came from the PBS movie “The Gold Rush”, directed by Boettcher &amp; Trinklein, 199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za Farnham &amp; Georgiana Kirby: www.goldrush.com/~joann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tta Crabtree: www.ncgold.com/History/LottaCrabtree/lotta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llie Chapman: www.ncgold.com/goldrushtown/people/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deo Clips from United Streaming:chp890500 and chp9059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sites for the Gold Rus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www.historichwy49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www.museumca.org/goldrush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www.ncgold.com/goldrushtown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williamfargo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1676520"/>
            <a:ext cx="1508400" cy="1981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henrywells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010280" y="1600200"/>
            <a:ext cx="1573200" cy="1981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nelliechapman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362320" y="3962520"/>
            <a:ext cx="1371600" cy="180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lotta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362320" y="1676520"/>
            <a:ext cx="1492200" cy="1981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111px-James_Marshall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114800" y="1676520"/>
            <a:ext cx="878040" cy="1218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GeoKirby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562720" y="1600200"/>
            <a:ext cx="1296720" cy="1981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Levi_Strauss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85800" y="3962520"/>
            <a:ext cx="1360440" cy="1828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sutter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572000" y="2971800"/>
            <a:ext cx="817560" cy="1066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Eliza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5715000" y="3886200"/>
            <a:ext cx="121608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photo_theman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7086600" y="3886200"/>
            <a:ext cx="1447920" cy="17524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4"/>
          <p:cNvSpPr/>
          <p:nvPr/>
        </p:nvSpPr>
        <p:spPr>
          <a:xfrm>
            <a:off x="746280" y="6208560"/>
            <a:ext cx="771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441360" y="605628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se were all people who became famous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withou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mining for gold!</a:t>
            </a:r>
            <a:endParaRPr b="0" lang="en-US" sz="24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65" name="WordArt 16"/>
          <p:cNvSpPr txBox="1"/>
          <p:nvPr/>
        </p:nvSpPr>
        <p:spPr>
          <a:xfrm>
            <a:off x="914400" y="609480"/>
            <a:ext cx="74674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o you recognize any of these people?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6" name="Picture 17" descr="180px-Samuel_Brannan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4114800" y="4191120"/>
            <a:ext cx="1219320" cy="15238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slow">
    <p:push dir="u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7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John Su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" descr="sutter"/>
          <p:cNvPicPr/>
          <p:nvPr/>
        </p:nvPicPr>
        <p:blipFill>
          <a:blip r:embed="rId2"/>
          <a:stretch/>
        </p:blipFill>
        <p:spPr>
          <a:xfrm>
            <a:off x="1219320" y="1752480"/>
            <a:ext cx="2743200" cy="3581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 3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Envisioned an agricultural empire near the American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 3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Wanted discovery of gold kept secr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 3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Never did appreciate the opportunities of the Gold Rush, and left California penni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5"/>
          <p:cNvSpPr/>
          <p:nvPr/>
        </p:nvSpPr>
        <p:spPr>
          <a:xfrm>
            <a:off x="5335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72" name="AutoShape 20">
            <a:hlinkClick r:id="rId3" action="ppaction://hlinksldjump"/>
          </p:cNvPr>
          <p:cNvSpPr/>
          <p:nvPr/>
        </p:nvSpPr>
        <p:spPr>
          <a:xfrm>
            <a:off x="8153280" y="58672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493"/>
                </a:moveTo>
                <a:lnTo>
                  <a:pt x="9103" y="7493"/>
                </a:lnTo>
                <a:lnTo>
                  <a:pt x="9103" y="12828"/>
                </a:lnTo>
                <a:cubicBezTo>
                  <a:pt x="9103" y="13751"/>
                  <a:pt x="9903" y="14482"/>
                  <a:pt x="10939" y="14482"/>
                </a:cubicBezTo>
                <a:lnTo>
                  <a:pt x="12601" y="14482"/>
                </a:lnTo>
                <a:cubicBezTo>
                  <a:pt x="13637" y="14482"/>
                  <a:pt x="14438" y="13751"/>
                  <a:pt x="14438" y="12828"/>
                </a:cubicBezTo>
                <a:lnTo>
                  <a:pt x="14438" y="7493"/>
                </a:lnTo>
                <a:lnTo>
                  <a:pt x="12601" y="7493"/>
                </a:lnTo>
                <a:lnTo>
                  <a:pt x="16109" y="3985"/>
                </a:lnTo>
                <a:lnTo>
                  <a:pt x="19782" y="7493"/>
                </a:lnTo>
                <a:lnTo>
                  <a:pt x="17945" y="7493"/>
                </a:lnTo>
                <a:lnTo>
                  <a:pt x="17945" y="12828"/>
                </a:lnTo>
                <a:cubicBezTo>
                  <a:pt x="17945" y="15596"/>
                  <a:pt x="15369" y="18155"/>
                  <a:pt x="12601" y="18155"/>
                </a:cubicBezTo>
                <a:lnTo>
                  <a:pt x="10939" y="18155"/>
                </a:lnTo>
                <a:cubicBezTo>
                  <a:pt x="8171" y="18155"/>
                  <a:pt x="5595" y="15596"/>
                  <a:pt x="5595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checker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James Marsh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Discovered gold pebbles while building Sutter’s M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Feared the effects of potential prospectors, who eventually forced him off his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Also died nearly penni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111px-James_Marshall2"/>
          <p:cNvPicPr/>
          <p:nvPr/>
        </p:nvPicPr>
        <p:blipFill>
          <a:blip r:embed="rId2"/>
          <a:stretch/>
        </p:blipFill>
        <p:spPr>
          <a:xfrm>
            <a:off x="838080" y="1295280"/>
            <a:ext cx="2625840" cy="365760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10">
            <a:hlinkClick r:id="rId3" action="ppaction://hlinksldjump"/>
          </p:cNvPr>
          <p:cNvSpPr/>
          <p:nvPr/>
        </p:nvSpPr>
        <p:spPr>
          <a:xfrm>
            <a:off x="8077320" y="57913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7493"/>
                </a:moveTo>
                <a:lnTo>
                  <a:pt x="8653" y="7493"/>
                </a:lnTo>
                <a:lnTo>
                  <a:pt x="8653" y="12828"/>
                </a:lnTo>
                <a:cubicBezTo>
                  <a:pt x="8653" y="13751"/>
                  <a:pt x="9453" y="14482"/>
                  <a:pt x="10489" y="14482"/>
                </a:cubicBezTo>
                <a:lnTo>
                  <a:pt x="12152" y="14482"/>
                </a:lnTo>
                <a:cubicBezTo>
                  <a:pt x="13187" y="14482"/>
                  <a:pt x="13988" y="13751"/>
                  <a:pt x="13988" y="12828"/>
                </a:cubicBezTo>
                <a:lnTo>
                  <a:pt x="13988" y="7493"/>
                </a:lnTo>
                <a:lnTo>
                  <a:pt x="12152" y="7493"/>
                </a:lnTo>
                <a:lnTo>
                  <a:pt x="15659" y="3985"/>
                </a:lnTo>
                <a:lnTo>
                  <a:pt x="19332" y="7493"/>
                </a:lnTo>
                <a:lnTo>
                  <a:pt x="17496" y="7493"/>
                </a:lnTo>
                <a:lnTo>
                  <a:pt x="17496" y="12828"/>
                </a:lnTo>
                <a:cubicBezTo>
                  <a:pt x="17496" y="15596"/>
                  <a:pt x="14919" y="18155"/>
                  <a:pt x="12152" y="18155"/>
                </a:cubicBezTo>
                <a:lnTo>
                  <a:pt x="10489" y="18155"/>
                </a:lnTo>
                <a:cubicBezTo>
                  <a:pt x="7721" y="18155"/>
                  <a:pt x="5145" y="15596"/>
                  <a:pt x="5145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pic>
        <p:nvPicPr>
          <p:cNvPr id="78" name="Picture 11" descr="MPj04011070000[1]"/>
          <p:cNvPicPr/>
          <p:nvPr/>
        </p:nvPicPr>
        <p:blipFill>
          <a:blip r:embed="rId4"/>
          <a:stretch/>
        </p:blipFill>
        <p:spPr>
          <a:xfrm>
            <a:off x="2286000" y="5105520"/>
            <a:ext cx="2209680" cy="141768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cover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Henry Wells and William Far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Decided to profit from Gold Rush by providing services to m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Created Wells, Fargo &amp; Co. for banking, mail, and stage coach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Generated tremendous wealth as entrepren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henrywells"/>
          <p:cNvPicPr/>
          <p:nvPr/>
        </p:nvPicPr>
        <p:blipFill>
          <a:blip r:embed="rId2"/>
          <a:stretch/>
        </p:blipFill>
        <p:spPr>
          <a:xfrm>
            <a:off x="609480" y="1828800"/>
            <a:ext cx="1905120" cy="2400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williamfargo"/>
          <p:cNvPicPr/>
          <p:nvPr/>
        </p:nvPicPr>
        <p:blipFill>
          <a:blip r:embed="rId3"/>
          <a:stretch/>
        </p:blipFill>
        <p:spPr>
          <a:xfrm>
            <a:off x="2666880" y="3048120"/>
            <a:ext cx="1905120" cy="2450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MCBD07856_0000[1]"/>
          <p:cNvPicPr/>
          <p:nvPr/>
        </p:nvPicPr>
        <p:blipFill>
          <a:blip r:embed="rId4"/>
          <a:stretch/>
        </p:blipFill>
        <p:spPr>
          <a:xfrm>
            <a:off x="609480" y="4800600"/>
            <a:ext cx="1779840" cy="162720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2">
            <a:hlinkClick r:id="rId5" action="ppaction://hlinksldjump"/>
          </p:cNvPr>
          <p:cNvSpPr/>
          <p:nvPr/>
        </p:nvSpPr>
        <p:spPr>
          <a:xfrm>
            <a:off x="8229600" y="60199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7493"/>
                </a:moveTo>
                <a:lnTo>
                  <a:pt x="10391" y="7493"/>
                </a:lnTo>
                <a:lnTo>
                  <a:pt x="10391" y="12828"/>
                </a:lnTo>
                <a:cubicBezTo>
                  <a:pt x="10391" y="13751"/>
                  <a:pt x="11192" y="14482"/>
                  <a:pt x="12227" y="14482"/>
                </a:cubicBezTo>
                <a:lnTo>
                  <a:pt x="13890" y="14482"/>
                </a:lnTo>
                <a:cubicBezTo>
                  <a:pt x="14926" y="14482"/>
                  <a:pt x="15726" y="13751"/>
                  <a:pt x="15726" y="12828"/>
                </a:cubicBezTo>
                <a:lnTo>
                  <a:pt x="15726" y="7493"/>
                </a:lnTo>
                <a:lnTo>
                  <a:pt x="13890" y="7493"/>
                </a:lnTo>
                <a:lnTo>
                  <a:pt x="17397" y="3985"/>
                </a:lnTo>
                <a:lnTo>
                  <a:pt x="21070" y="7493"/>
                </a:lnTo>
                <a:lnTo>
                  <a:pt x="19234" y="7493"/>
                </a:lnTo>
                <a:lnTo>
                  <a:pt x="19234" y="12828"/>
                </a:lnTo>
                <a:cubicBezTo>
                  <a:pt x="19234" y="15596"/>
                  <a:pt x="16658" y="18155"/>
                  <a:pt x="13890" y="18155"/>
                </a:cubicBezTo>
                <a:lnTo>
                  <a:pt x="12227" y="18155"/>
                </a:lnTo>
                <a:cubicBezTo>
                  <a:pt x="9460" y="18155"/>
                  <a:pt x="6883" y="15596"/>
                  <a:pt x="6883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cover dir="ru"/>
    <p:sndAc>
      <p:stSnd>
        <p:snd r:embed="rId6" name="cashreg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i Stra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 a successful dry-goods 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ented canvas pants with riveted po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Levi_Strauss"/>
          <p:cNvPicPr/>
          <p:nvPr/>
        </p:nvPicPr>
        <p:blipFill>
          <a:blip r:embed="rId2"/>
          <a:stretch/>
        </p:blipFill>
        <p:spPr>
          <a:xfrm>
            <a:off x="1371600" y="1828800"/>
            <a:ext cx="2305080" cy="2971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MCj01133040000[1]"/>
          <p:cNvPicPr/>
          <p:nvPr/>
        </p:nvPicPr>
        <p:blipFill>
          <a:blip r:embed="rId3"/>
          <a:stretch/>
        </p:blipFill>
        <p:spPr>
          <a:xfrm>
            <a:off x="5257800" y="4876920"/>
            <a:ext cx="2362320" cy="155556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9">
            <a:hlinkClick r:id="rId4" action="ppaction://hlinksldjump"/>
          </p:cNvPr>
          <p:cNvSpPr/>
          <p:nvPr/>
        </p:nvSpPr>
        <p:spPr>
          <a:xfrm>
            <a:off x="304920" y="57913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7493"/>
                </a:moveTo>
                <a:lnTo>
                  <a:pt x="9998" y="7493"/>
                </a:lnTo>
                <a:lnTo>
                  <a:pt x="9998" y="12828"/>
                </a:lnTo>
                <a:cubicBezTo>
                  <a:pt x="9998" y="13751"/>
                  <a:pt x="10799" y="14482"/>
                  <a:pt x="11834" y="14482"/>
                </a:cubicBezTo>
                <a:lnTo>
                  <a:pt x="13497" y="14482"/>
                </a:lnTo>
                <a:cubicBezTo>
                  <a:pt x="14533" y="14482"/>
                  <a:pt x="15333" y="13751"/>
                  <a:pt x="15333" y="12828"/>
                </a:cubicBezTo>
                <a:lnTo>
                  <a:pt x="15333" y="7493"/>
                </a:lnTo>
                <a:lnTo>
                  <a:pt x="13497" y="7493"/>
                </a:lnTo>
                <a:lnTo>
                  <a:pt x="17004" y="3985"/>
                </a:lnTo>
                <a:lnTo>
                  <a:pt x="20677" y="7493"/>
                </a:lnTo>
                <a:lnTo>
                  <a:pt x="18841" y="7493"/>
                </a:lnTo>
                <a:lnTo>
                  <a:pt x="18841" y="12828"/>
                </a:lnTo>
                <a:cubicBezTo>
                  <a:pt x="18841" y="15596"/>
                  <a:pt x="16265" y="18155"/>
                  <a:pt x="13497" y="18155"/>
                </a:cubicBezTo>
                <a:lnTo>
                  <a:pt x="11834" y="18155"/>
                </a:lnTo>
                <a:cubicBezTo>
                  <a:pt x="9067" y="18155"/>
                  <a:pt x="6490" y="15596"/>
                  <a:pt x="6490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diamond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 Tw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n Samuel Clem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ed West for the Gold R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me a famous writer of his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photo_theman"/>
          <p:cNvPicPr/>
          <p:nvPr/>
        </p:nvPicPr>
        <p:blipFill>
          <a:blip r:embed="rId2"/>
          <a:stretch/>
        </p:blipFill>
        <p:spPr>
          <a:xfrm>
            <a:off x="990720" y="1752480"/>
            <a:ext cx="2633400" cy="289584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8"/>
          <p:cNvSpPr/>
          <p:nvPr/>
        </p:nvSpPr>
        <p:spPr>
          <a:xfrm>
            <a:off x="99072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pic>
        <p:nvPicPr>
          <p:cNvPr id="97" name="Picture 9" descr="MCj03710640000[1]"/>
          <p:cNvPicPr/>
          <p:nvPr/>
        </p:nvPicPr>
        <p:blipFill>
          <a:blip r:embed="rId3"/>
          <a:stretch/>
        </p:blipFill>
        <p:spPr>
          <a:xfrm>
            <a:off x="6477120" y="5029200"/>
            <a:ext cx="1371600" cy="1206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MCj04040590000[1]"/>
          <p:cNvPicPr/>
          <p:nvPr/>
        </p:nvPicPr>
        <p:blipFill>
          <a:blip r:embed="rId4"/>
          <a:stretch/>
        </p:blipFill>
        <p:spPr>
          <a:xfrm>
            <a:off x="4724280" y="4876920"/>
            <a:ext cx="1524240" cy="15174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13">
            <a:hlinkClick r:id="rId5" action="ppaction://hlinksldjump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7493"/>
                </a:moveTo>
                <a:lnTo>
                  <a:pt x="8846" y="7493"/>
                </a:lnTo>
                <a:lnTo>
                  <a:pt x="8846" y="12828"/>
                </a:lnTo>
                <a:cubicBezTo>
                  <a:pt x="8846" y="13751"/>
                  <a:pt x="9647" y="14482"/>
                  <a:pt x="10683" y="14482"/>
                </a:cubicBezTo>
                <a:lnTo>
                  <a:pt x="12345" y="14482"/>
                </a:lnTo>
                <a:cubicBezTo>
                  <a:pt x="13381" y="14482"/>
                  <a:pt x="14181" y="13751"/>
                  <a:pt x="14181" y="12828"/>
                </a:cubicBezTo>
                <a:lnTo>
                  <a:pt x="14181" y="7493"/>
                </a:lnTo>
                <a:lnTo>
                  <a:pt x="12345" y="7493"/>
                </a:lnTo>
                <a:lnTo>
                  <a:pt x="15853" y="3985"/>
                </a:lnTo>
                <a:lnTo>
                  <a:pt x="19525" y="7493"/>
                </a:lnTo>
                <a:lnTo>
                  <a:pt x="17689" y="7493"/>
                </a:lnTo>
                <a:lnTo>
                  <a:pt x="17689" y="12828"/>
                </a:lnTo>
                <a:cubicBezTo>
                  <a:pt x="17689" y="15596"/>
                  <a:pt x="15113" y="18155"/>
                  <a:pt x="12345" y="18155"/>
                </a:cubicBezTo>
                <a:lnTo>
                  <a:pt x="10683" y="18155"/>
                </a:lnTo>
                <a:cubicBezTo>
                  <a:pt x="7915" y="18155"/>
                  <a:pt x="5338" y="15596"/>
                  <a:pt x="5338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newsflash/>
    <p:sndAc>
      <p:stSnd>
        <p:snd r:embed="rId6" name="drumroll.wav"/>
      </p:stSnd>
    </p:sndAc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am Brann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ought all mining tools in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nnounced gold was f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de a fortune selling tools, then other necessities, to m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came a million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180px-Samuel_Brannan"/>
          <p:cNvPicPr/>
          <p:nvPr/>
        </p:nvPicPr>
        <p:blipFill>
          <a:blip r:embed="rId2"/>
          <a:stretch/>
        </p:blipFill>
        <p:spPr>
          <a:xfrm>
            <a:off x="1143000" y="1752480"/>
            <a:ext cx="2171880" cy="28288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8">
            <a:hlinkClick r:id="rId3" action="ppaction://hlinksldjump"/>
          </p:cNvPr>
          <p:cNvSpPr/>
          <p:nvPr/>
        </p:nvSpPr>
        <p:spPr>
          <a:xfrm>
            <a:off x="7696080" y="5791320"/>
            <a:ext cx="838440" cy="76176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3773" h="21600">
                <a:moveTo>
                  <a:pt x="0" y="0"/>
                </a:moveTo>
                <a:lnTo>
                  <a:pt x="23773" y="0"/>
                </a:lnTo>
                <a:lnTo>
                  <a:pt x="23773" y="21600"/>
                </a:lnTo>
                <a:lnTo>
                  <a:pt x="0" y="21600"/>
                </a:lnTo>
                <a:close/>
              </a:path>
              <a:path fill="lightenLess" w="23773" h="21600">
                <a:moveTo>
                  <a:pt x="0" y="0"/>
                </a:moveTo>
                <a:lnTo>
                  <a:pt x="23773" y="0"/>
                </a:lnTo>
                <a:lnTo>
                  <a:pt x="22373" y="1400"/>
                </a:lnTo>
                <a:lnTo>
                  <a:pt x="1400" y="1400"/>
                </a:lnTo>
                <a:close/>
              </a:path>
              <a:path fill="darken" w="23773" h="21600">
                <a:moveTo>
                  <a:pt x="23773" y="0"/>
                </a:moveTo>
                <a:lnTo>
                  <a:pt x="23773" y="21600"/>
                </a:lnTo>
                <a:lnTo>
                  <a:pt x="22373" y="20200"/>
                </a:lnTo>
                <a:lnTo>
                  <a:pt x="22373" y="1400"/>
                </a:lnTo>
                <a:close/>
              </a:path>
              <a:path fill="darkenLess" w="23773" h="21600">
                <a:moveTo>
                  <a:pt x="237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73" y="20200"/>
                </a:lnTo>
                <a:close/>
              </a:path>
              <a:path fill="lighten" w="237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73" h="21600">
                <a:moveTo>
                  <a:pt x="4880" y="7493"/>
                </a:moveTo>
                <a:lnTo>
                  <a:pt x="8388" y="7493"/>
                </a:lnTo>
                <a:lnTo>
                  <a:pt x="8388" y="12828"/>
                </a:lnTo>
                <a:cubicBezTo>
                  <a:pt x="8388" y="13751"/>
                  <a:pt x="9188" y="14482"/>
                  <a:pt x="10224" y="14482"/>
                </a:cubicBezTo>
                <a:lnTo>
                  <a:pt x="11887" y="14482"/>
                </a:lnTo>
                <a:cubicBezTo>
                  <a:pt x="12922" y="14482"/>
                  <a:pt x="13723" y="13751"/>
                  <a:pt x="13723" y="12828"/>
                </a:cubicBezTo>
                <a:lnTo>
                  <a:pt x="13723" y="7493"/>
                </a:lnTo>
                <a:lnTo>
                  <a:pt x="11887" y="7493"/>
                </a:lnTo>
                <a:lnTo>
                  <a:pt x="15394" y="3985"/>
                </a:lnTo>
                <a:lnTo>
                  <a:pt x="19067" y="7493"/>
                </a:lnTo>
                <a:lnTo>
                  <a:pt x="17231" y="7493"/>
                </a:lnTo>
                <a:lnTo>
                  <a:pt x="17231" y="12828"/>
                </a:lnTo>
                <a:cubicBezTo>
                  <a:pt x="17231" y="15596"/>
                  <a:pt x="14654" y="18155"/>
                  <a:pt x="11887" y="18155"/>
                </a:cubicBezTo>
                <a:lnTo>
                  <a:pt x="10224" y="18155"/>
                </a:lnTo>
                <a:cubicBezTo>
                  <a:pt x="7456" y="18155"/>
                  <a:pt x="4880" y="15596"/>
                  <a:pt x="4880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pull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Lott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Crab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Web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Began acting on stages at age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Web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Made lots of money entertaining m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Web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Later traveled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lotta"/>
          <p:cNvPicPr/>
          <p:nvPr/>
        </p:nvPicPr>
        <p:blipFill>
          <a:blip r:embed="rId2"/>
          <a:stretch/>
        </p:blipFill>
        <p:spPr>
          <a:xfrm>
            <a:off x="5219640" y="1938240"/>
            <a:ext cx="2895840" cy="3848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MCj02171440000[1]"/>
          <p:cNvPicPr/>
          <p:nvPr/>
        </p:nvPicPr>
        <p:blipFill>
          <a:blip r:embed="rId3"/>
          <a:stretch/>
        </p:blipFill>
        <p:spPr>
          <a:xfrm>
            <a:off x="2133720" y="4267080"/>
            <a:ext cx="1807920" cy="165276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9"/>
          <p:cNvSpPr/>
          <p:nvPr/>
        </p:nvSpPr>
        <p:spPr>
          <a:xfrm>
            <a:off x="30492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7493"/>
                </a:moveTo>
                <a:lnTo>
                  <a:pt x="8838" y="7493"/>
                </a:lnTo>
                <a:lnTo>
                  <a:pt x="8838" y="12828"/>
                </a:lnTo>
                <a:cubicBezTo>
                  <a:pt x="8838" y="13751"/>
                  <a:pt x="9638" y="14482"/>
                  <a:pt x="10674" y="14482"/>
                </a:cubicBezTo>
                <a:lnTo>
                  <a:pt x="12337" y="14482"/>
                </a:lnTo>
                <a:cubicBezTo>
                  <a:pt x="13372" y="14482"/>
                  <a:pt x="14173" y="13751"/>
                  <a:pt x="14173" y="12828"/>
                </a:cubicBezTo>
                <a:lnTo>
                  <a:pt x="14173" y="7493"/>
                </a:lnTo>
                <a:lnTo>
                  <a:pt x="12337" y="7493"/>
                </a:lnTo>
                <a:lnTo>
                  <a:pt x="15844" y="3985"/>
                </a:lnTo>
                <a:lnTo>
                  <a:pt x="19517" y="7493"/>
                </a:lnTo>
                <a:lnTo>
                  <a:pt x="17681" y="7493"/>
                </a:lnTo>
                <a:lnTo>
                  <a:pt x="17681" y="12828"/>
                </a:lnTo>
                <a:cubicBezTo>
                  <a:pt x="17681" y="15596"/>
                  <a:pt x="15104" y="18155"/>
                  <a:pt x="12337" y="18155"/>
                </a:cubicBezTo>
                <a:lnTo>
                  <a:pt x="10674" y="18155"/>
                </a:lnTo>
                <a:cubicBezTo>
                  <a:pt x="7906" y="18155"/>
                  <a:pt x="5330" y="15596"/>
                  <a:pt x="5330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cover dir="ld"/>
    <p:sndAc>
      <p:stSnd>
        <p:snd r:embed="rId4" name="applause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03:13:59Z</dcterms:created>
  <dc:creator>Kimberley</dc:creator>
  <dc:description/>
  <dc:language>en-US</dc:language>
  <cp:lastModifiedBy>Legion</cp:lastModifiedBy>
  <dcterms:modified xsi:type="dcterms:W3CDTF">2017-07-05T09:41:20Z</dcterms:modified>
  <cp:revision>24</cp:revision>
  <dc:subject/>
  <dc:title>Famous People of the California Gold Rush</dc:title>
</cp:coreProperties>
</file>