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13.jpeg" ContentType="image/jpeg"/>
  <Override PartName="/ppt/media/image3.jpeg" ContentType="image/jpeg"/>
  <Override PartName="/ppt/media/drumroll.wav" ContentType="audio/x-wav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3.gif" ContentType="image/gi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230-09E2-4F64-8467-F64718DE4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496-4BB5-46AB-9E18-AB8054DF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EFE-F662-47D0-9C2B-1EE1455D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2BC-6314-4EE9-803A-D7AFFA2F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0FC-3502-4EF7-AED8-324876FF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C1B-41BB-48AB-A6BD-0C661411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BA4-A18E-4594-BEEA-F2824822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D98-E8A1-4ACA-A34C-486B498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680-18CB-45D2-B43D-8A6036E0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91F-E913-4808-B215-550B0C5F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4B8-745D-4FB6-983D-2DBE4CD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55E-8DD6-40E5-8F9E-E5FD71FA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AFB-55E9-45CE-A9B4-BD15C86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AEB-FD8E-4327-9D11-313FD841F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2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3.xml"/><Relationship Id="rId16" Type="http://schemas.openxmlformats.org/officeDocument/2006/relationships/image" Target="../media/image10.jpeg"/><Relationship Id="rId17" Type="http://schemas.openxmlformats.org/officeDocument/2006/relationships/slide" Target="slide11.xml"/><Relationship Id="rId18" Type="http://schemas.openxmlformats.org/officeDocument/2006/relationships/image" Target="../media/image11.jpeg"/><Relationship Id="rId19" Type="http://schemas.openxmlformats.org/officeDocument/2006/relationships/slide" Target="slide7.xml"/><Relationship Id="rId20" Type="http://schemas.openxmlformats.org/officeDocument/2006/relationships/image" Target="../media/image12.jpeg"/><Relationship Id="rId21" Type="http://schemas.openxmlformats.org/officeDocument/2006/relationships/slide" Target="slide8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wmf"/><Relationship Id="rId5" Type="http://schemas.openxmlformats.org/officeDocument/2006/relationships/slide" Target="slide2.xml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21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w-nugget12-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Famous People of the </a:t>
            </a:r>
            <a:r>
              <a:rPr b="0" lang="en-US" sz="6000" spc="-1" strike="noStrike">
                <a:solidFill>
                  <a:srgbClr val="ffff00"/>
                </a:solidFill>
                <a:latin typeface="Copperplate Gothic Bold"/>
              </a:rPr>
              <a:t>California</a:t>
            </a: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 Gold R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hsusannah.wma" descr=""/>
          <p:cNvPicPr/>
          <p:nvPr/>
        </p:nvPicPr>
        <p:blipFill>
          <a:blip r:embed="rId2"/>
          <a:stretch/>
        </p:blipFill>
        <p:spPr>
          <a:xfrm>
            <a:off x="21337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nelliechapman"/>
          <p:cNvPicPr/>
          <p:nvPr/>
        </p:nvPicPr>
        <p:blipFill>
          <a:blip r:embed="rId2"/>
          <a:stretch/>
        </p:blipFill>
        <p:spPr>
          <a:xfrm>
            <a:off x="5943600" y="1981080"/>
            <a:ext cx="220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MCj03053810000[1]"/>
          <p:cNvPicPr/>
          <p:nvPr/>
        </p:nvPicPr>
        <p:blipFill>
          <a:blip r:embed="rId3"/>
          <a:stretch/>
        </p:blipFill>
        <p:spPr>
          <a:xfrm>
            <a:off x="4572000" y="4495680"/>
            <a:ext cx="12240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MMj02054010000[1]"/>
          <p:cNvPicPr/>
          <p:nvPr/>
        </p:nvPicPr>
        <p:blipFill>
          <a:blip r:embed="rId4"/>
          <a:stretch/>
        </p:blipFill>
        <p:spPr>
          <a:xfrm>
            <a:off x="7391520" y="510228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MCj02979770000[1]"/>
          <p:cNvPicPr/>
          <p:nvPr/>
        </p:nvPicPr>
        <p:blipFill>
          <a:blip r:embed="rId5"/>
          <a:stretch/>
        </p:blipFill>
        <p:spPr>
          <a:xfrm>
            <a:off x="5943600" y="5181480"/>
            <a:ext cx="1641600" cy="838440"/>
          </a:xfrm>
          <a:prstGeom prst="rect">
            <a:avLst/>
          </a:prstGeom>
          <a:ln w="0">
            <a:noFill/>
          </a:ln>
        </p:spPr>
      </p:pic>
      <p:pic>
        <p:nvPicPr>
          <p:cNvPr id="118" name="MSj04310540000[1].wav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4572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1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Eliza Farn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s a  young widow, she was matron of Sing Sing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elieved women would “civilize” the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vocated 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Eliza"/>
          <p:cNvPicPr/>
          <p:nvPr/>
        </p:nvPicPr>
        <p:blipFill>
          <a:blip r:embed="rId2"/>
          <a:stretch/>
        </p:blipFill>
        <p:spPr>
          <a:xfrm>
            <a:off x="5334120" y="1600200"/>
            <a:ext cx="21430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MCj01286410000[1]"/>
          <p:cNvPicPr/>
          <p:nvPr/>
        </p:nvPicPr>
        <p:blipFill>
          <a:blip r:embed="rId3"/>
          <a:stretch/>
        </p:blipFill>
        <p:spPr>
          <a:xfrm>
            <a:off x="7162920" y="42670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45720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9036"/>
                </a:moveTo>
                <a:lnTo>
                  <a:pt x="7301" y="9036"/>
                </a:lnTo>
                <a:lnTo>
                  <a:pt x="7301" y="14372"/>
                </a:lnTo>
                <a:cubicBezTo>
                  <a:pt x="7301" y="15294"/>
                  <a:pt x="8102" y="16026"/>
                  <a:pt x="9138" y="16026"/>
                </a:cubicBezTo>
                <a:lnTo>
                  <a:pt x="10800" y="16026"/>
                </a:lnTo>
                <a:cubicBezTo>
                  <a:pt x="11836" y="16026"/>
                  <a:pt x="12636" y="15294"/>
                  <a:pt x="12636" y="14372"/>
                </a:cubicBezTo>
                <a:lnTo>
                  <a:pt x="12636" y="9036"/>
                </a:lnTo>
                <a:lnTo>
                  <a:pt x="10800" y="9036"/>
                </a:lnTo>
                <a:lnTo>
                  <a:pt x="14308" y="5529"/>
                </a:lnTo>
                <a:lnTo>
                  <a:pt x="17981" y="9036"/>
                </a:lnTo>
                <a:lnTo>
                  <a:pt x="16144" y="9036"/>
                </a:lnTo>
                <a:lnTo>
                  <a:pt x="16144" y="14372"/>
                </a:lnTo>
                <a:cubicBezTo>
                  <a:pt x="16144" y="17140"/>
                  <a:pt x="13568" y="19699"/>
                  <a:pt x="10800" y="19699"/>
                </a:cubicBezTo>
                <a:lnTo>
                  <a:pt x="9138" y="19699"/>
                </a:lnTo>
                <a:cubicBezTo>
                  <a:pt x="6370" y="19699"/>
                  <a:pt x="3794" y="17140"/>
                  <a:pt x="3794" y="1437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Georgiana Ki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pioneer of Santa Cruz during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ocated education, freedom, and equal rights for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a private school named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GeoKirby"/>
          <p:cNvPicPr/>
          <p:nvPr/>
        </p:nvPicPr>
        <p:blipFill>
          <a:blip r:embed="rId2"/>
          <a:stretch/>
        </p:blipFill>
        <p:spPr>
          <a:xfrm>
            <a:off x="5791320" y="1752480"/>
            <a:ext cx="2381040" cy="36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1286560000[1]"/>
          <p:cNvPicPr/>
          <p:nvPr/>
        </p:nvPicPr>
        <p:blipFill>
          <a:blip r:embed="rId3"/>
          <a:stretch/>
        </p:blipFill>
        <p:spPr>
          <a:xfrm>
            <a:off x="4419720" y="3809880"/>
            <a:ext cx="102528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/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historichwy49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museumca.org/goldrush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ww.ncgold.com/goldrushtow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illiamfar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1508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enrywell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1600200"/>
            <a:ext cx="157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lliechapma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39625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ot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1676520"/>
            <a:ext cx="1492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11px-James_Marshall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114800" y="1676520"/>
            <a:ext cx="8780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GeoKirby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16002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Levi_Strauss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" y="3962520"/>
            <a:ext cx="13604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utte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0" y="2971800"/>
            <a:ext cx="8175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Eliza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15000" y="3886200"/>
            <a:ext cx="12160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photo_theman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086600" y="38862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46280" y="6208560"/>
            <a:ext cx="771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1360" y="6056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were all people who became famou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ining for gold!</a:t>
            </a:r>
            <a:endParaRPr b="0" lang="en-US" sz="2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914400" y="609480"/>
            <a:ext cx="7467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 you recognize any of these people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7" descr="180px-Samuel_Brannan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14800" y="41911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ohn S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utter"/>
          <p:cNvPicPr/>
          <p:nvPr/>
        </p:nvPicPr>
        <p:blipFill>
          <a:blip r:embed="rId2"/>
          <a:stretch/>
        </p:blipFill>
        <p:spPr>
          <a:xfrm>
            <a:off x="1219320" y="1752480"/>
            <a:ext cx="2743200" cy="358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visioned an agricultural empire near the American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anted discovery of gold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5335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2" name="AutoShape 20">
            <a:hlinkClick r:id="rId3" action="ppaction://hlinksldjump"/>
          </p:cNvPr>
          <p:cNvSpPr/>
          <p:nvPr/>
        </p:nvSpPr>
        <p:spPr>
          <a:xfrm>
            <a:off x="81532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mes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iscovered gold pebbles while building Sutter’s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so died nearly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11px-James_Marshall2"/>
          <p:cNvPicPr/>
          <p:nvPr/>
        </p:nvPicPr>
        <p:blipFill>
          <a:blip r:embed="rId2"/>
          <a:stretch/>
        </p:blipFill>
        <p:spPr>
          <a:xfrm>
            <a:off x="838080" y="1295280"/>
            <a:ext cx="262584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>
            <a:hlinkClick r:id="rId3" action="ppaction://hlinksldjump"/>
          </p:cNvPr>
          <p:cNvSpPr/>
          <p:nvPr/>
        </p:nvSpPr>
        <p:spPr>
          <a:xfrm>
            <a:off x="80773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78" name="Picture 11" descr="MPj04011070000[1]"/>
          <p:cNvPicPr/>
          <p:nvPr/>
        </p:nvPicPr>
        <p:blipFill>
          <a:blip r:embed="rId4"/>
          <a:stretch/>
        </p:blipFill>
        <p:spPr>
          <a:xfrm>
            <a:off x="2286000" y="5105520"/>
            <a:ext cx="2209680" cy="1417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Henry Wells and William F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cided to profit from Gold Rush by providing services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reated Wells, Fargo &amp; Co. for banking, mail, and stage coac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enerated tremendous wealth as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enrywells"/>
          <p:cNvPicPr/>
          <p:nvPr/>
        </p:nvPicPr>
        <p:blipFill>
          <a:blip r:embed="rId2"/>
          <a:stretch/>
        </p:blipFill>
        <p:spPr>
          <a:xfrm>
            <a:off x="609480" y="18288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williamfargo"/>
          <p:cNvPicPr/>
          <p:nvPr/>
        </p:nvPicPr>
        <p:blipFill>
          <a:blip r:embed="rId3"/>
          <a:stretch/>
        </p:blipFill>
        <p:spPr>
          <a:xfrm>
            <a:off x="2666880" y="3048120"/>
            <a:ext cx="1905120" cy="245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CBD07856_0000[1]"/>
          <p:cNvPicPr/>
          <p:nvPr/>
        </p:nvPicPr>
        <p:blipFill>
          <a:blip r:embed="rId4"/>
          <a:stretch/>
        </p:blipFill>
        <p:spPr>
          <a:xfrm>
            <a:off x="609480" y="4800600"/>
            <a:ext cx="17798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5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ru"/>
    <p:sndAc>
      <p:stSnd>
        <p:snd r:embed="rId6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Levi_Strauss"/>
          <p:cNvPicPr/>
          <p:nvPr/>
        </p:nvPicPr>
        <p:blipFill>
          <a:blip r:embed="rId2"/>
          <a:stretch/>
        </p:blipFill>
        <p:spPr>
          <a:xfrm>
            <a:off x="1371600" y="182880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1133040000[1]"/>
          <p:cNvPicPr/>
          <p:nvPr/>
        </p:nvPicPr>
        <p:blipFill>
          <a:blip r:embed="rId3"/>
          <a:stretch/>
        </p:blipFill>
        <p:spPr>
          <a:xfrm>
            <a:off x="5257800" y="4876920"/>
            <a:ext cx="2362320" cy="1555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rId4" action="ppaction://hlinksldjump"/>
          </p:cNvPr>
          <p:cNvSpPr/>
          <p:nvPr/>
        </p:nvSpPr>
        <p:spPr>
          <a:xfrm>
            <a:off x="3049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photo_theman"/>
          <p:cNvPicPr/>
          <p:nvPr/>
        </p:nvPicPr>
        <p:blipFill>
          <a:blip r:embed="rId2"/>
          <a:stretch/>
        </p:blipFill>
        <p:spPr>
          <a:xfrm>
            <a:off x="990720" y="1752480"/>
            <a:ext cx="26334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990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97" name="Picture 9" descr="MCj03710640000[1]"/>
          <p:cNvPicPr/>
          <p:nvPr/>
        </p:nvPicPr>
        <p:blipFill>
          <a:blip r:embed="rId3"/>
          <a:stretch/>
        </p:blipFill>
        <p:spPr>
          <a:xfrm>
            <a:off x="6477120" y="5029200"/>
            <a:ext cx="1371600" cy="120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040590000[1]"/>
          <p:cNvPicPr/>
          <p:nvPr/>
        </p:nvPicPr>
        <p:blipFill>
          <a:blip r:embed="rId4"/>
          <a:stretch/>
        </p:blipFill>
        <p:spPr>
          <a:xfrm>
            <a:off x="4724280" y="4876920"/>
            <a:ext cx="1524240" cy="1517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>
            <a:hlinkClick r:id="rId5" action="ppaction://hlinksldjump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  <p:sndAc>
      <p:stSnd>
        <p:snd r:embed="rId6" name="drumroll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 Bran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ught all mining tool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nounced gold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de a fortune selling tools, then other necessities,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m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80px-Samuel_Brannan"/>
          <p:cNvPicPr/>
          <p:nvPr/>
        </p:nvPicPr>
        <p:blipFill>
          <a:blip r:embed="rId2"/>
          <a:stretch/>
        </p:blipFill>
        <p:spPr>
          <a:xfrm>
            <a:off x="1143000" y="1752480"/>
            <a:ext cx="2171880" cy="2828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rId3" action="ppaction://hlinksldjump"/>
          </p:cNvPr>
          <p:cNvSpPr/>
          <p:nvPr/>
        </p:nvSpPr>
        <p:spPr>
          <a:xfrm>
            <a:off x="7696080" y="57913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Lot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rab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gan acting on stages at ag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ade lots of money entertaining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ater travele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lotta"/>
          <p:cNvPicPr/>
          <p:nvPr/>
        </p:nvPicPr>
        <p:blipFill>
          <a:blip r:embed="rId2"/>
          <a:stretch/>
        </p:blipFill>
        <p:spPr>
          <a:xfrm>
            <a:off x="5219640" y="1938240"/>
            <a:ext cx="2895840" cy="384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2171440000[1]"/>
          <p:cNvPicPr/>
          <p:nvPr/>
        </p:nvPicPr>
        <p:blipFill>
          <a:blip r:embed="rId3"/>
          <a:stretch/>
        </p:blipFill>
        <p:spPr>
          <a:xfrm>
            <a:off x="2133720" y="4267080"/>
            <a:ext cx="1807920" cy="1652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ld"/>
    <p:sndAc>
      <p:stSnd>
        <p:snd r:embed="rId4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13:59Z</dcterms:created>
  <dc:creator>Kimberley</dc:creator>
  <dc:description/>
  <dc:language>en-US</dc:language>
  <cp:lastModifiedBy>Legion</cp:lastModifiedBy>
  <dcterms:modified xsi:type="dcterms:W3CDTF">2017-07-05T09:41:20Z</dcterms:modified>
  <cp:revision>24</cp:revision>
  <dc:subject/>
  <dc:title>Famous People of the California Gold Rush</dc:title>
</cp:coreProperties>
</file>