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3.jpeg" ContentType="image/jpeg"/>
  <Override PartName="/ppt/media/image8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9.png" ContentType="image/png"/>
  <Override PartName="/ppt/media/cashreg.wav" ContentType="audio/x-wav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D490-3C9C-4E1D-AFCA-5959A70D68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ey L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R was NOT doing enough for the po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pushed his “Share Our Wealth” progra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all income over $1,000,000 to g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ual Sal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ll Americ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ey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was NOT doing enough for the po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pushed his “Share Our Wealth”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ll income over $1,000,000 to g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Sa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Americ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. Francis Townsh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R was NOT doing enough for old peo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posed a $200 a month pension to everyone over 6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was good for (2) reas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$$ to boost ec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a job up for a younger Ameri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. Francis Townsh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was NOT doing enough for old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sed a $200 a month pension to everyone over 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as good for (2) reas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$$ to boost ec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a job up for a younger Amer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les Cough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R had NOT done enough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. Coughlin felt that FDR did not take on the powerful bankers in the United St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he radio to blast FDR and became known as the “Radio Pries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les Cough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had NOT done enough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. Coughlin felt that FDR did not take on the powerful bankers in the United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he radio to blast FDR and became known as the “Radio Priest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berty Leag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DR had gone TO FAR with the New De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fering with business and people’s l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vernment was taking away freedoms from Americ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erty Le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R had gone TO FAR with the New D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ing with business and people’s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 was taking away freedoms from Americ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cial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ct of 19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t of 19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Social Security fund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ocial Security fun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110C-9A1A-46B6-8934-2B58319DA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87DF-4A2C-4FF8-AB78-E2EEE1B9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B94B-19F7-4D35-BEA4-137DA31E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A7F2-9DC1-465E-9720-0D4A16B7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81B1-62B2-4783-84CD-BA6EFC8E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7463-F1E2-439E-9AD7-8F910CF0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C926-B17A-4BB7-AFB7-C65065809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D9FE-9D6B-4258-B3EC-13D9B5FE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54C8-BAA7-4EEC-9C25-DE7F32B0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7FB6-D7EF-40D6-8914-19094955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EE6E-E25D-4590-A876-2AFC66D6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066E-46DA-4B49-9588-2D1A100D5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94E6-D490-43A0-AC17-7263DB0DF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0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one2.com/tc/mp/ss-pics/ssa-seal2.gif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bone2.com/tc/mp/ss-pics/ssa-seal2.gif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Schoolbook"/>
              </a:rPr>
              <a:t>Huey Lo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190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as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ing enough for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o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pushed his “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Sh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Our Weal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e all income over $1,000,000 to g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nual 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ll Americ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lect5_1"/>
          <p:cNvPicPr/>
          <p:nvPr/>
        </p:nvPicPr>
        <p:blipFill>
          <a:blip r:embed="rId1"/>
          <a:stretch/>
        </p:blipFill>
        <p:spPr>
          <a:xfrm>
            <a:off x="5164200" y="1600200"/>
            <a:ext cx="3979800" cy="4876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entury Schoolbook"/>
              </a:rPr>
              <a:t>Dr. Francis Townsh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 wa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ing enough for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old peop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d a $200 a month pension to everyone over 6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was good for (2) reas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$ to boost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en a job up for a younger Americ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townsend"/>
          <p:cNvPicPr/>
          <p:nvPr/>
        </p:nvPicPr>
        <p:blipFill>
          <a:blip r:embed="rId2"/>
          <a:stretch/>
        </p:blipFill>
        <p:spPr>
          <a:xfrm>
            <a:off x="4952880" y="1447920"/>
            <a:ext cx="3889440" cy="510516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9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9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Schoolbook"/>
              </a:rPr>
              <a:t>Charles Coughli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 ha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ne enough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. Coughlin felt that FDR did not take on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owerful banker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 United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the radio to blast FDR and became known as the “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adio Priest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Americanist_Vision_Coughlin"/>
          <p:cNvPicPr/>
          <p:nvPr/>
        </p:nvPicPr>
        <p:blipFill>
          <a:blip r:embed="rId2"/>
          <a:stretch/>
        </p:blipFill>
        <p:spPr>
          <a:xfrm>
            <a:off x="4419720" y="1905120"/>
            <a:ext cx="4724280" cy="45194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Schoolbook"/>
              </a:rPr>
              <a:t>Liberty Leagu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DR had gon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O F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 the New D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ering with business and people’s l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 was taking away freedoms from Americ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liberty_league"/>
          <p:cNvPicPr/>
          <p:nvPr/>
        </p:nvPicPr>
        <p:blipFill>
          <a:blip r:embed="rId2"/>
          <a:stretch/>
        </p:blipFill>
        <p:spPr>
          <a:xfrm>
            <a:off x="4495680" y="2133720"/>
            <a:ext cx="4648320" cy="414468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Social Security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Bookman Old Style"/>
              </a:rPr>
              <a:t> Act of 19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Social Security poster from 1936-1937: A monthly check for you--for the rest of your life, beginning when you are 65"/>
          <p:cNvPicPr/>
          <p:nvPr/>
        </p:nvPicPr>
        <p:blipFill>
          <a:blip r:embed="rId1"/>
          <a:stretch/>
        </p:blipFill>
        <p:spPr>
          <a:xfrm>
            <a:off x="1066680" y="2057400"/>
            <a:ext cx="3071880" cy="4800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Social Security poster of mother with child: More Security for the American Family"/>
          <p:cNvPicPr/>
          <p:nvPr/>
        </p:nvPicPr>
        <p:blipFill>
          <a:blip r:embed="rId2"/>
          <a:stretch/>
        </p:blipFill>
        <p:spPr>
          <a:xfrm>
            <a:off x="5029200" y="2133720"/>
            <a:ext cx="3603600" cy="4724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Ssi_card"/>
          <p:cNvPicPr/>
          <p:nvPr/>
        </p:nvPicPr>
        <p:blipFill>
          <a:blip r:embed="rId3"/>
          <a:stretch/>
        </p:blipFill>
        <p:spPr>
          <a:xfrm>
            <a:off x="0" y="0"/>
            <a:ext cx="2428920" cy="1557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Ssi_card"/>
          <p:cNvPicPr/>
          <p:nvPr/>
        </p:nvPicPr>
        <p:blipFill>
          <a:blip r:embed="rId4"/>
          <a:stretch/>
        </p:blipFill>
        <p:spPr>
          <a:xfrm>
            <a:off x="6715080" y="0"/>
            <a:ext cx="2428920" cy="15573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How is Social Security fund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dollars-42"/>
          <p:cNvPicPr/>
          <p:nvPr/>
        </p:nvPicPr>
        <p:blipFill>
          <a:blip r:embed="rId1"/>
          <a:stretch/>
        </p:blipFill>
        <p:spPr>
          <a:xfrm>
            <a:off x="6400800" y="914400"/>
            <a:ext cx="1981080" cy="792000"/>
          </a:xfrm>
          <a:prstGeom prst="rect">
            <a:avLst/>
          </a:prstGeom>
          <a:ln w="0">
            <a:noFill/>
          </a:ln>
        </p:spPr>
      </p:pic>
      <p:grpSp>
        <p:nvGrpSpPr>
          <p:cNvPr id="75" name="Organization Chart 9"/>
          <p:cNvGrpSpPr/>
          <p:nvPr/>
        </p:nvGrpSpPr>
        <p:grpSpPr>
          <a:xfrm>
            <a:off x="457200" y="1614600"/>
            <a:ext cx="8228520" cy="4494600"/>
            <a:chOff x="457200" y="1614600"/>
            <a:chExt cx="8228520" cy="4494600"/>
          </a:xfrm>
        </p:grpSpPr>
        <p:cxnSp>
          <p:nvCxnSpPr>
            <p:cNvPr id="76" name="_s1028"/>
            <p:cNvCxnSpPr>
              <a:stCxn id="77" idx="0"/>
              <a:endCxn id="78" idx="2"/>
            </p:cNvCxnSpPr>
            <p:nvPr/>
          </p:nvCxnSpPr>
          <p:spPr>
            <a:xfrm flipV="1" rot="16200000">
              <a:off x="5229360" y="2753640"/>
              <a:ext cx="899640" cy="221544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029"/>
            <p:cNvCxnSpPr>
              <a:stCxn id="80" idx="0"/>
              <a:endCxn id="78" idx="2"/>
            </p:cNvCxnSpPr>
            <p:nvPr/>
          </p:nvCxnSpPr>
          <p:spPr>
            <a:xfrm flipH="1" flipV="1" rot="5400000">
              <a:off x="3013560" y="2753640"/>
              <a:ext cx="899640" cy="2216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8" name="_s1030"/>
            <p:cNvSpPr/>
            <p:nvPr/>
          </p:nvSpPr>
          <p:spPr>
            <a:xfrm>
              <a:off x="2673000" y="161460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9900"/>
                  </a:solidFill>
                  <a:latin typeface="Arial"/>
                </a:rPr>
                <a:t>Social Securit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9900"/>
                  </a:solidFill>
                  <a:latin typeface="Arial"/>
                </a:rPr>
                <a:t>Trust Fund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_s1031"/>
            <p:cNvSpPr/>
            <p:nvPr/>
          </p:nvSpPr>
          <p:spPr>
            <a:xfrm>
              <a:off x="457200" y="43113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000000"/>
                  </a:solidFill>
                  <a:latin typeface="Book Antiqua"/>
                </a:rPr>
                <a:t>Workers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1032"/>
            <p:cNvSpPr/>
            <p:nvPr/>
          </p:nvSpPr>
          <p:spPr>
            <a:xfrm>
              <a:off x="4888080" y="4311360"/>
              <a:ext cx="3797640" cy="17978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0" spc="-1" strike="noStrike">
                  <a:solidFill>
                    <a:srgbClr val="000000"/>
                  </a:solidFill>
                  <a:latin typeface="Book Antiqua"/>
                </a:rPr>
                <a:t>Employers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" name="Picture 17" descr="dollars-40"/>
          <p:cNvPicPr/>
          <p:nvPr/>
        </p:nvPicPr>
        <p:blipFill>
          <a:blip r:embed="rId2"/>
          <a:stretch/>
        </p:blipFill>
        <p:spPr>
          <a:xfrm>
            <a:off x="0" y="0"/>
            <a:ext cx="1295280" cy="9334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dollars-40"/>
          <p:cNvPicPr/>
          <p:nvPr/>
        </p:nvPicPr>
        <p:blipFill>
          <a:blip r:embed="rId3"/>
          <a:stretch/>
        </p:blipFill>
        <p:spPr>
          <a:xfrm>
            <a:off x="7848720" y="0"/>
            <a:ext cx="1295280" cy="933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9" descr="dollars-42"/>
          <p:cNvPicPr/>
          <p:nvPr/>
        </p:nvPicPr>
        <p:blipFill>
          <a:blip r:embed="rId4"/>
          <a:stretch/>
        </p:blipFill>
        <p:spPr>
          <a:xfrm>
            <a:off x="1066680" y="838080"/>
            <a:ext cx="1978200" cy="793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8" descr="Dollar sign - (Money)"/>
          <p:cNvPicPr/>
          <p:nvPr/>
        </p:nvPicPr>
        <p:blipFill>
          <a:blip r:embed="rId5"/>
          <a:stretch/>
        </p:blipFill>
        <p:spPr>
          <a:xfrm>
            <a:off x="685800" y="2209680"/>
            <a:ext cx="1244520" cy="1676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0" descr="Dollar sign - (Money)"/>
          <p:cNvPicPr/>
          <p:nvPr/>
        </p:nvPicPr>
        <p:blipFill>
          <a:blip r:embed="rId6"/>
          <a:stretch/>
        </p:blipFill>
        <p:spPr>
          <a:xfrm>
            <a:off x="7010280" y="2133720"/>
            <a:ext cx="1246320" cy="16761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Organization Chart 7"/>
          <p:cNvGrpSpPr/>
          <p:nvPr/>
        </p:nvGrpSpPr>
        <p:grpSpPr>
          <a:xfrm>
            <a:off x="457200" y="380880"/>
            <a:ext cx="8457480" cy="6246360"/>
            <a:chOff x="457200" y="380880"/>
            <a:chExt cx="8457480" cy="6246360"/>
          </a:xfrm>
        </p:grpSpPr>
        <p:cxnSp>
          <p:nvCxnSpPr>
            <p:cNvPr id="88" name="_s2052"/>
            <p:cNvCxnSpPr>
              <a:stCxn id="89" idx="0"/>
              <a:endCxn id="90" idx="2"/>
            </p:cNvCxnSpPr>
            <p:nvPr/>
          </p:nvCxnSpPr>
          <p:spPr>
            <a:xfrm flipV="1" rot="16200000">
              <a:off x="5544360" y="2023200"/>
              <a:ext cx="1243440" cy="2960640"/>
            </a:xfrm>
            <a:prstGeom prst="bentConnector3">
              <a:avLst>
                <a:gd name="adj1" fmla="val 91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1" name="_s2053"/>
            <p:cNvCxnSpPr>
              <a:stCxn id="92" idx="0"/>
              <a:endCxn id="90" idx="2"/>
            </p:cNvCxnSpPr>
            <p:nvPr/>
          </p:nvCxnSpPr>
          <p:spPr>
            <a:xfrm flipV="1">
              <a:off x="4685760" y="2882160"/>
              <a:ext cx="3240" cy="1243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2054"/>
            <p:cNvCxnSpPr>
              <a:stCxn id="94" idx="0"/>
              <a:endCxn id="90" idx="2"/>
            </p:cNvCxnSpPr>
            <p:nvPr/>
          </p:nvCxnSpPr>
          <p:spPr>
            <a:xfrm flipH="1" flipV="1" rot="5400000">
              <a:off x="2584080" y="2023560"/>
              <a:ext cx="1243440" cy="2960640"/>
            </a:xfrm>
            <a:prstGeom prst="bentConnector3">
              <a:avLst>
                <a:gd name="adj1" fmla="val 918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0" name="_s2055"/>
            <p:cNvSpPr/>
            <p:nvPr/>
          </p:nvSpPr>
          <p:spPr>
            <a:xfrm>
              <a:off x="3417120" y="380880"/>
              <a:ext cx="2537280" cy="250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Bookman Old Style"/>
                </a:rPr>
                <a:t>Social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000000"/>
                  </a:solidFill>
                  <a:latin typeface="Bookman Old Style"/>
                </a:rPr>
                <a:t>Securit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56"/>
            <p:cNvSpPr/>
            <p:nvPr/>
          </p:nvSpPr>
          <p:spPr>
            <a:xfrm>
              <a:off x="457200" y="4125600"/>
              <a:ext cx="2537280" cy="250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660066"/>
                  </a:solidFill>
                  <a:latin typeface="Arial"/>
                </a:rPr>
                <a:t>Unemployment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660066"/>
                  </a:solidFill>
                  <a:latin typeface="Arial"/>
                </a:rPr>
                <a:t>Insurance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2057"/>
            <p:cNvSpPr/>
            <p:nvPr/>
          </p:nvSpPr>
          <p:spPr>
            <a:xfrm>
              <a:off x="3417120" y="4125600"/>
              <a:ext cx="2537280" cy="250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Old Ag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0000"/>
                  </a:solidFill>
                  <a:latin typeface="Arial"/>
                </a:rPr>
                <a:t>Pensio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_s2058"/>
            <p:cNvSpPr/>
            <p:nvPr/>
          </p:nvSpPr>
          <p:spPr>
            <a:xfrm>
              <a:off x="6377400" y="4125600"/>
              <a:ext cx="2537280" cy="2501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Dependen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Famili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99"/>
                  </a:solidFill>
                  <a:latin typeface="Arial"/>
                </a:rPr>
                <a:t>Disable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Picture 20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675800" y="2291760"/>
              <a:ext cx="1676880" cy="166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1" descr="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019200" y="2291760"/>
              <a:ext cx="1674000" cy="1678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Picture 17" descr="Ssi_card"/>
          <p:cNvPicPr/>
          <p:nvPr/>
        </p:nvPicPr>
        <p:blipFill>
          <a:blip r:embed="rId5"/>
          <a:stretch/>
        </p:blipFill>
        <p:spPr>
          <a:xfrm>
            <a:off x="0" y="0"/>
            <a:ext cx="3124080" cy="2001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8" descr="Ssi_card"/>
          <p:cNvPicPr/>
          <p:nvPr/>
        </p:nvPicPr>
        <p:blipFill>
          <a:blip r:embed="rId6"/>
          <a:stretch/>
        </p:blipFill>
        <p:spPr>
          <a:xfrm>
            <a:off x="6019920" y="0"/>
            <a:ext cx="3124080" cy="20034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21:12:25Z</dcterms:created>
  <dc:creator>Daniel J. Greenberg</dc:creator>
  <dc:description/>
  <dc:language>en-US</dc:language>
  <cp:lastModifiedBy>Legion</cp:lastModifiedBy>
  <dcterms:modified xsi:type="dcterms:W3CDTF">2017-07-05T09:44:54Z</dcterms:modified>
  <cp:revision>29</cp:revision>
  <dc:subject/>
  <dc:title>Huey Long</dc:title>
</cp:coreProperties>
</file>