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BFE0-42C1-44C0-A0E9-0D82A896171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90577-3909-4059-BB6B-3FD06B745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F5184-164D-4EC0-9452-EB75E33FA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FA046-0947-4542-BC49-D46EDB09DB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06CCA5-204F-4340-8302-5361625216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3C6972-B012-4E4F-9619-FDD449B76D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80C65-7336-4C02-AD94-AFDF80EF8C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88D29F-2A7F-43E3-8113-EEEBFBB392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758E35-E40C-4789-BD91-71010988C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02846C-CC11-473D-8C5B-E383E05B01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FD80CC-BA6C-4F52-8899-8841F1E63E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7EE04C-DB14-4319-BC7C-8CE7D32C41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ED3E25-C927-475A-B799-0BD29380D6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9A8C8-68AA-4DE7-A670-0A778D843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0E2771-22F9-4404-A262-8C3A602B4E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66BCE7-E46B-44AB-869A-5F2907F15C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CC13A1-DC66-4B35-96D7-483216B4F7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F14CCA-F44C-4395-8E56-7409AEA051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C820DF-2A66-4E29-86CD-39EEDE9F08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4DB7BA-2539-4EDB-A92D-0C47FAE528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42C59C-CD0D-4DB5-B0F3-5D58EDCDA6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D62A5D-9BA2-4094-9428-87FAA5D0E8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A8BA67-7D76-4C57-A5C4-3F251732F4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9A7525-7A30-4EC9-86D0-D90BD1088B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66832-409A-490F-AEB2-14F114E65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AF9B1D-4BCB-435E-A498-E60C248BED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E92D0-0152-4922-93CF-EC2357C9A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6E743-ABA3-42C6-BBD6-BFFB14C0C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3D29B-04D2-4017-88AB-B3F5EE981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715CE-C05C-4880-AFF1-26D7585AB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9C09F-E527-4821-8B5A-B2B5860A5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50EA5-34F3-40C6-8AA2-0138F915D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C82F3-5900-4709-AD15-1370FE26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CB4C8-7E65-4EF8-B14F-025FF7D25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D16AF-B5BE-4C57-9DF4-A17ADDDFF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E4E3D-D082-468F-866F-1747045A7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27D10-9C59-48FB-8FCA-B74BC6A3C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388BA-2456-4094-8855-128B1B532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D297D-2957-4173-AEA5-528565383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442362-7835-439E-866A-7506118840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850903-1108-403B-8D84-B4AD3B7A2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12927E-D729-4C1A-A454-E2D37CC88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C5F98-9F17-4006-89C1-2465DF10E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F7742F-63CB-496A-BB6C-F847807E7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15CFF-B406-4BDC-8CF3-2479B2015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2F377-0702-4FED-A832-8301C5220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CDF4A-76E7-4BD2-934E-573C9D990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8D517-293F-4765-9B1A-CB09772C2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C2A92-7A9D-4034-BBFC-89685CF21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79992F-23F9-47AB-B302-1405206E6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811155-3F2E-45DE-BE1F-0084C4561B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940568-5769-49AF-9EFE-C023E7D04B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6AEBDA-3130-4869-B1CB-F927532EE4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E9235-EEDD-4CC8-8A69-3891AC46DF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F821CA-899E-428E-B0F2-47682E5F4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913D-4FD8-46E1-87C1-3BCDF2180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6AA84-5E87-4B0A-8B90-EB244845E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BFBB0-2C0A-49D7-9199-1F0251AC5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DC315-13D9-4A06-AD2B-E5091C6AC8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6CBE9-C34D-4DA7-839E-DA9116DA4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18ADD8-685D-418A-924B-2BF9A6DFB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52F08-FD82-4450-9503-C77C7DD60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631D9-457A-4B78-BCA1-721F09AB65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EC1F9-CAFC-47FA-8E9B-AC6A0EEE68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A5D732-A87C-44A4-9A0F-A5E7C68A4F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B9DE07-7384-46F4-AC95-44B8B1209C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F37F0-5509-4349-B1CE-0BE6F5CF1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6BB1FC-0BC4-46C1-9E6D-904CE0F4F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6C263C-FE7B-4714-A67F-569B43628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56945-C12E-4A1B-B8C3-7159DCB95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C8B02-2FCF-4765-8A1A-1C16F8706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9C395F-145B-4CF3-99F2-C52138BE3A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C54DB-BF81-489D-BFBF-015D3D1C6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3BEC6-F0E8-4D08-A3B8-ACF1EDFA5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4EECAC-3A69-46BC-B214-6EB8F63AA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B0FB5B-9F7E-4AED-AF5F-77C261FF0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DDAF66-A72A-4FB1-B5D5-90BEEDD522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8427-79EB-43FC-B361-D04D0E825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4ECF59-6870-44AF-B70F-C5E13B2ADB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D9FA33-06DB-4E37-B07D-B7E6C52CAA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4C0769-E244-49F0-9F0A-6B7CF619A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BA727-95C0-4357-88C7-9D6FFF075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502256-160E-4FA4-95D5-A928DE301D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FE27D7-0FF0-4EC2-93BA-6BD9F7D979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88C25-113D-4344-8504-7D84E0CFBD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D08EF-5883-4792-B117-A8AFABC0C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050077-BCD3-4F01-90A6-F7890DD55E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DA11E-8E46-4FF4-9A9F-0CCF61ACD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C0ED-C57D-44AE-B73E-CC0AD1AA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C8F7F7-EBCE-41F5-9D73-AF43C3BD1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0A3E9B-44DC-4713-ACAC-7A5B93BB12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E6606E-9CB4-4C3F-B1DD-38BA48BEF7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2C93B3-BC70-488F-8AAD-BA3A0D684D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5372EA-A647-472D-A3EB-13C8A1B0C2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CE97DF-D9A9-4D60-A23A-5A82D00AB5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C9ADFC-570B-4BC0-BF5B-F0BCDABBCC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53D5D4-BADB-4A18-AE49-7B877D20F0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712BAB-85BD-4305-849B-897FC6729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EDCF0-BE38-44D1-97D5-8D8F8DAD4D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FA4E-6AB0-4E6F-ACB7-33C96C4DC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F7FFB9-5088-45B1-960D-2B82DEADB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69E54-452D-4655-9AC7-0A617ABC7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6A30D0-87E2-4782-9C10-9C3C8DA1FA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BE4971-1DF9-4946-AD85-1963F0C6BD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F9F3FA-0E9E-46FF-9E58-70D7A6B993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5E74DE-AFF5-4868-9156-C0E1EDEBC9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F790B-6C66-4F3B-B339-94543B0F8C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BC7ED6-5C6E-4F4F-BDDF-C6CB931E98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0E1D30-1E05-4B3C-952D-69F12C01BC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2503B4-F73A-42E5-AD7B-414D1F9F10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A287D-E20F-43F8-9291-114D53CCD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313302-00DB-4F24-9890-D1DBD0B805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FD072-760A-40F6-80BC-3FC0B659F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98F77-07B0-4FBE-ACBF-05A723917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1C3FF-20A6-4685-9FD9-2E15D76AC4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E06B2C-05B3-4849-AA07-908D9CFFC8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A08899-A21F-429D-A48F-9D7387BE03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3C2705-3364-4C17-A2C7-3253BD738F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F72298-3DB0-4620-AA4D-411612C95F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A7B1E4-35F3-4FAB-880A-E9862432C9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9665AE-D31E-477F-B44F-9DF5E20D7C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9CA3-596D-4332-A802-6B110CC1C2A0}" type="datetime">
              <a:rPr b="0" lang="it-IT" sz="1200" spc="-1" strike="noStrike">
                <a:solidFill>
                  <a:srgbClr val="0d0d0d"/>
                </a:solidFill>
                <a:latin typeface="Bell MT"/>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77B9-2EF1-4A81-8D06-814430090831}"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F00D-01EB-47D9-86C0-CA4B3FF1E9E1}" type="datetime">
              <a:rPr b="0" lang="it-IT" sz="2400" spc="-1" strike="noStrike">
                <a:solidFill>
                  <a:srgbClr val="ffffff"/>
                </a:solidFill>
                <a:latin typeface="Bell MT"/>
              </a:rPr>
              <a:t>31/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6EE2-D3D9-4A9C-BEDC-CA86744E8F09}"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1C4F-6B02-44A3-BFA5-DDD8C6EAAAD0}" type="datetime">
              <a:rPr b="0" lang="it-IT"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5F6C-B845-4956-ACF2-394F7C15E50A}"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247F-83AF-4CEC-879B-BD7F7F22F101}" type="datetime">
              <a:rPr b="0" lang="it-IT"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BD62-5DB2-4DCA-B1AE-519D84405472}"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624C-97B9-4E3D-B4F2-A52DF6B79A04}" type="datetime">
              <a:rPr b="0" lang="it-IT"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57E3-9AB8-44B6-83B0-7F14C025E1E2}"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C78A-CD3B-4D59-AEC9-8C52EFC4D998}" type="datetime">
              <a:rPr b="0" lang="it-IT" sz="1200" spc="-1" strike="noStrike">
                <a:solidFill>
                  <a:srgbClr val="ffffff"/>
                </a:solidFill>
                <a:latin typeface="Bell MT"/>
              </a:rPr>
              <a:t>31/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3173-718F-46D6-994C-DC1BB9E7D2AD}"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ADFF-E126-44F5-9258-9480A8C0C043}" type="datetime">
              <a:rPr b="0" lang="it-IT"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0983-11E2-4EA2-BE46-995625354C1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080C-50C0-4E68-AB35-A0EE0FF11613}" type="datetime">
              <a:rPr b="0" lang="it-IT"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7F53-10A9-4E79-926D-118BB0F4B1F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F52C-C12D-49FB-8833-C027E4C86A61}" type="datetime">
              <a:rPr b="0" lang="it-IT"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D12A-08FA-43A3-B3A6-B932AEA4BAF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6C93-D78A-4C8D-B5B3-BE0CDA52D0DB}" type="datetime">
              <a:rPr b="0" lang="it-IT" sz="2400" spc="-1" strike="noStrike">
                <a:solidFill>
                  <a:srgbClr val="0d0d0d"/>
                </a:solidFill>
                <a:latin typeface="Bell MT"/>
              </a:rPr>
              <a:t>31/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1BA8-E253-49AF-B416-4B5CD0C52F9B}"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