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2"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move the slide</a:t>
            </a:r>
            <a:endParaRPr b="0" lang="en-US" sz="4400" spc="-1" strike="noStrike">
              <a:solidFill>
                <a:srgbClr val="0d0d0d"/>
              </a:solidFill>
              <a:latin typeface="Bell MT"/>
            </a:endParaRPr>
          </a:p>
        </p:txBody>
      </p:sp>
      <p:sp>
        <p:nvSpPr>
          <p:cNvPr id="4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5"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6"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9DCAF-714C-4E3B-B8AE-009E6CD24A6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Mary Grace Cavalla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Università degli Studi di Mila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FLAG DAY JUNE 14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ry Grace Cavalla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Università degli Studi di Mil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FLAG DAY JUNE 14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fl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Flag had 13 stripes: red and wh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lors  represented the 13 original colonies and it was first flown on New Year’s Day in 1776 to celebrate the Army’s  formatio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iginal fla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iginal Flag had 13 stripes: red and whi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colors  represented the 13 original colonies and it was first flown on New Year’s Day in 1776 to celebrate the Army’s  formation.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tsy Ross made (actually sewed) the original flag with 13 stars and 13 stripes bann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nding fathers did not offically adopt the flag until June 14, 1777, almost a year after the signing of the Declaration of Independ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etsy Ross made (actually sewed) the original flag with 13 stars and 13 stripes bann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unding fathers did not offically adopt the flag until June 14, 1777, almost a year after the signing of the Declaration of Independan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flag had 13 white stars in a circle on a blue background with 13 red and white stri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represented the constellation of the State rising in the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background stood for the virtues of vigilance, perseverance and just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were in a circle to represent the Un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3 stripes stood for the 13 original colon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red symbolizes the newly formed country’s defiance  towards England and cou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symbolized purity and lib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 flag had 13 white stars in a circle on a blue background with 13 red and white stri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represented the constellation of the State rising in the W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ue background stood for the virtues of vigilance, perseverance and justi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were in a circle to represent the Un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13 stripes stood for the 13 original colon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lor red symbolizes the newly formed country’s defiance  towards England and cour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symbolized purity and libe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Flag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official Flag Day celebration was June 14th, 1861 Later in history, President Woodrow Wilson proclaimed June 14th as “Flag Day” in 19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Flag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official Flag Day celebration was June 14th, 1861 Later in history, President Woodrow Wilson proclaimed June 14th as “Flag Day” in 1916.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questions for follow up exerci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a synonym for ‘re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the colors represent, along with the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as the first flag created and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questions for follow up exercise:</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 a synonym for ‘repres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he colors represent, along with the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was the first flag created and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something about your countr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the colors of your flag re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e US flag have in common with your fl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s your flag flown in your country and w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have any type of similar patriotism in your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now something about your country:</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he colors of your flag repres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es the US flag have in common with your fla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is your flag flown in your country and wh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you have any type of similar patriotism in your count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A13D8-8233-4887-B30D-437E68E30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9C9FC-4CC1-486C-83AE-CA9D10EEA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4A46EF-22C2-4D6B-807F-AE298634C0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BF15DA-6C30-4159-8A50-604C76AD38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1AF5FF-1611-40B3-977E-F4D9C60F72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B1ECFC-A920-4FDD-B1FE-0A9BCF9EDE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7D052D-0A60-4F82-8925-8C05A628A0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C05ECC-AF4E-46FF-9968-632DE60F24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F4664B-841D-483B-A576-CBE29322BF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05EC51-AED1-42CB-A875-21AF265091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DB4B7C-2848-4B82-B248-6FD978521C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A7C5EBD-A447-4D3A-A295-7B11C992A4D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AAE21-CE6B-4BE5-8823-7A2828E27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D55A72-8CA5-4328-B244-BF00AC1DAEC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2CB7F48-C5BF-4D7F-988C-4DCA3F59D7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086384A-E1EC-45C6-AF7C-C428C0D79E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22E8E5-1743-4320-A76D-8F482A611A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E1964E-ABFF-42D5-BC6D-5162EC3C25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F62932-D8EB-4BE8-ACE6-088BC54BAD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BEB9CA-F81C-4332-B410-B0BEF27E7D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1EA8C6-6CDB-4DF8-842E-D4A285AE54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3507DF-3942-4597-9BE3-B9E378E312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7BBCF24-A243-4359-8E9C-B29862E46C4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AE1EB-4A78-4410-B53F-9C04156C0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A666DFD-5B42-4D1C-8D18-21224B17E9E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D66B5-2FFD-479B-96D1-5F32B75A2F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3F9D0-16EE-4D81-B10D-28CB89BBA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B1F80-E0CC-4691-97EE-5B61D85F8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A0DD5-1735-4BF2-95DE-BBCF88126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ECAA2-2C60-4158-8932-6D7465DE5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C79E6-1D06-43CA-9DF2-DC7EC48D1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BAA86-62F8-43BE-9780-F0120EF5B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BD4FB-9E06-4A5A-B70E-9FE4B12B1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89671-20E4-4E43-92CC-1B299FD9F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B41A4-A6D0-45BF-9A18-3DE5BAAD6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CFFC0-F0A8-4489-B272-026D1A0C7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CEF31C-7D8A-4CCB-9491-1BB4351C12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A72B58-F766-4629-95D9-752069A041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866491-BAF9-4853-81A0-318F81855B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8B4D14-A741-4596-AB21-A436CE3D02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ACDB7E-C258-4AD1-B846-D23B890513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A038E7-BAB1-475A-8620-C472D330E4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4353DB-401D-4995-B1A8-4598631ADF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76FFF-7730-498B-A05B-0F1EBC54A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D81E57-1911-4F18-A405-37C90BD0D8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080953-B114-40E7-BAAF-B9A822EBF6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CD2782-D818-4E6A-AF9E-061171DA05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781CD5-CB4E-41ED-AA05-C73827EDE9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966CF2-6BFC-4094-AB5A-248AFC4CE1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10AD59-1CDE-4D72-B938-E0862A8113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93475D-0DAC-45D9-BFC6-D24099DBB8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AAE14E-1F3E-42F9-BEF8-B4174BE7F7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13D209-EDBE-42F7-A320-446C7347E9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109CF4-6F82-4457-B832-F4DDB0444F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94D90-5F09-413F-BF18-8198B340A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6CFD77-20A8-4CD5-9B9F-D3C627C2E8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C6A10D-0AC7-42F4-A395-0AE5174B52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D5F7D2-7D3B-43FE-AB2B-B49B549B90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17AED6-A10E-4B1F-B2F7-BF1F7820C3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E1ADBE-0160-49E0-8065-2E8224E19E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4E14D4-E180-44EA-9C0E-0B77D36E4C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5F2839-C96F-4E7F-8958-360075C384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8A70F5-38F8-4CFC-BC44-65A6DE5D9E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2F8B25-4AF4-4F14-9A9A-2FF040CFFB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FF581A-CAC0-4D63-A612-10305F2F86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BF8FE-AD1E-432E-A40D-0D3F69F7C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7FCD9A-C908-477E-A3C8-6A07F3C643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7680CE-4593-409B-B6C2-9DF07C5DCB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78B180-9C68-478E-B8B1-EACFBA869C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D5002C-947C-4204-8338-F0FA50292C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B28800-6C5F-4212-BB3E-13B5B289C5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41BF72-D698-4A0E-93A7-AABB574DCC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0F9009-D16C-4ADF-AA3B-1357877C2C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6827B3-6D75-4863-A719-1E509F2DFB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28F508-6E7C-4FDD-8C38-C5D2C08E02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12DB19-A3F8-4475-A088-0A1797701E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15261-0D26-4EA8-96D0-D396BE588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A2CC72-CF85-4BB3-BC48-52AC62D0B1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68E42D-1600-4B79-A017-D8EB0A33E2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1597FF-FE80-45CD-B7CF-53F7616FCB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5B3D35-5B53-4159-A5C1-C0F831F827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B948A8-C527-482A-A4E6-D992695FBF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7DF868-C846-4CEB-A6EC-F2CF3355E9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378ED6-14DD-4BF6-9707-B2BC8CB399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03F5B8-B04E-4F16-8F14-7B00DE9963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269B4E-B7A6-4D17-B3CC-FA14704668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849D95-E1A8-4E79-B530-DBA4EF612F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2B1FE-F519-4692-B046-153487BD1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ECF5DB-9AFC-4E44-890F-A55F2BD805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1FF88D-DA25-4B2E-826A-0942E3E65D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4A2F4B-CA5B-43F5-9883-8A7A94AE78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0934B4-31B0-4FB2-A549-64F40E9145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763509-98C7-43FE-B0F5-D0D42211BF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A54AA9-C11C-45A4-87E1-C6E48F69ED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7E774B-2935-4EF5-8E0C-8B4EFB876E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E195B1-077A-4369-A35C-48E1A5E2B5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0CF7E1-122F-440A-9E99-5C8D0FC3B2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8A6CF3-3CB4-45A2-ACD6-1394C56BAE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03142-F837-477E-84AA-C52BB43FF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6FCA0D-104A-4F1A-B6C9-E107A2FFC7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28786C-D4A3-4299-BB48-D73AB46732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B92605-DA01-4CF9-B456-4BEF62AA2E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1E3B90-45DD-4362-8325-5CC533EC4E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DB1B1A-EDD6-4883-83C2-D143C42CD2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9F221B-99EC-41BA-9ABE-AD59E9157A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6EA0CB-EC84-428F-A8A4-2C398C598A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2F6DDA-3F96-4239-AE8D-C6D9AA657B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1821C5-38CF-4E8A-9AAF-406BE7BD54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A58A3B-98EA-45BE-8826-891E99AB46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A6F04-97FD-41C4-B561-DD13CE97D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51141F-D16F-4942-9615-51BA182F41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405167-3110-4F94-BCB4-458C24CB53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5629CC-E636-4B9B-BD4D-FFAFB5BA06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C8AF6C-0748-4E83-81B7-A7795E9825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B28B06-97E9-4FFF-9DAF-80547119D0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E0AD16-B3F1-4B6D-9FFB-F922E5F9CF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95060E-4D3C-4FC2-83A2-FFC0C2DC98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34B13F-BE94-4169-B759-B453DBE642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836403-AE59-4225-9BE4-84B021CDED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2E6228-2839-4248-92CE-69BCB47950F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7.jpeg"/><Relationship Id="rId5" Type="http://schemas.openxmlformats.org/officeDocument/2006/relationships/image" Target="../media/image6.jpeg"/><Relationship Id="rId6" Type="http://schemas.openxmlformats.org/officeDocument/2006/relationships/image" Target="../media/image2.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2" name="PlaceHolder 3"/>
          <p:cNvSpPr>
            <a:spLocks noGrp="1"/>
          </p:cNvSpPr>
          <p:nvPr>
            <p:ph type="dt" idx="1"/>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421A9-6BB1-423C-B61D-6BF58A13522A}" type="datetime">
              <a:rPr b="0" lang="it-IT" sz="1200" spc="-1" strike="noStrike">
                <a:solidFill>
                  <a:srgbClr val="0d0d0d"/>
                </a:solidFill>
                <a:latin typeface="Bell MT"/>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d0d0d"/>
                </a:solidFill>
                <a:latin typeface="Bell MT"/>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37C71-0C5D-4CE4-8AC9-CACF91163A48}" type="slidenum">
              <a:rPr b="0" lang="it-IT" sz="1200" spc="-1" strike="noStrike">
                <a:solidFill>
                  <a:srgbClr val="0d0d0d"/>
                </a:solidFill>
                <a:latin typeface="Bell MT"/>
              </a:rPr>
              <a:t>&lt;number&gt;</a:t>
            </a:fld>
            <a:endParaRPr b="0" lang="en-US" sz="1200" spc="-1" strike="noStrike">
              <a:solidFill>
                <a:srgbClr val="000000"/>
              </a:solidFill>
              <a:latin typeface="Times New Roman"/>
            </a:endParaRPr>
          </a:p>
        </p:txBody>
      </p:sp>
      <p:pic>
        <p:nvPicPr>
          <p:cNvPr id="5" name="Picture 8" descr="D:\tutti-dati\back up\pc\logo1_mod1\logo trasparente.gif"/>
          <p:cNvPicPr/>
          <p:nvPr/>
        </p:nvPicPr>
        <p:blipFill>
          <a:blip r:embed="rId3"/>
          <a:stretch/>
        </p:blipFill>
        <p:spPr>
          <a:xfrm>
            <a:off x="8028000" y="5446800"/>
            <a:ext cx="668160" cy="11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8" descr="D:\tutti-dati\back up\pc\logo1_mod1\logo trasparente.gif"/>
          <p:cNvPicPr/>
          <p:nvPr/>
        </p:nvPicPr>
        <p:blipFill>
          <a:blip r:embed="rId2"/>
          <a:stretch/>
        </p:blipFill>
        <p:spPr>
          <a:xfrm>
            <a:off x="8244000" y="5445000"/>
            <a:ext cx="668160" cy="1148040"/>
          </a:xfrm>
          <a:prstGeom prst="rect">
            <a:avLst/>
          </a:prstGeom>
          <a:ln w="0">
            <a:noFill/>
          </a:ln>
        </p:spPr>
      </p:pic>
      <p:pic>
        <p:nvPicPr>
          <p:cNvPr id="375" name="Picture 8" descr="C:\Documents and Settings\roby\Desktop\Inserire Titolo\Diapositiva5.JPG"/>
          <p:cNvPicPr/>
          <p:nvPr/>
        </p:nvPicPr>
        <p:blipFill>
          <a:blip r:embed="rId3"/>
          <a:stretch/>
        </p:blipFill>
        <p:spPr>
          <a:xfrm>
            <a:off x="0" y="5135400"/>
            <a:ext cx="2843280" cy="1722600"/>
          </a:xfrm>
          <a:prstGeom prst="rect">
            <a:avLst/>
          </a:prstGeom>
          <a:ln w="0">
            <a:noFill/>
          </a:ln>
        </p:spPr>
      </p:pic>
      <p:pic>
        <p:nvPicPr>
          <p:cNvPr id="376" name="Picture 2" descr="C:\Documents and Settings\roby\Desktop\Inserire Titolo\Diapositiva1.JPG"/>
          <p:cNvPicPr/>
          <p:nvPr/>
        </p:nvPicPr>
        <p:blipFill>
          <a:blip r:embed="rId4"/>
          <a:stretch/>
        </p:blipFill>
        <p:spPr>
          <a:xfrm>
            <a:off x="0" y="4495680"/>
            <a:ext cx="9144000" cy="2362320"/>
          </a:xfrm>
          <a:prstGeom prst="rect">
            <a:avLst/>
          </a:prstGeom>
          <a:ln w="0">
            <a:noFill/>
          </a:ln>
        </p:spPr>
      </p:pic>
      <p:pic>
        <p:nvPicPr>
          <p:cNvPr id="377" name="Picture 4" descr="C:\tutti-dati\back up\pc\logo1_mod1\intestazione.jpg"/>
          <p:cNvPicPr/>
          <p:nvPr/>
        </p:nvPicPr>
        <p:blipFill>
          <a:blip r:embed="rId5"/>
          <a:stretch/>
        </p:blipFill>
        <p:spPr>
          <a:xfrm>
            <a:off x="3995640" y="260280"/>
            <a:ext cx="4807080" cy="1285920"/>
          </a:xfrm>
          <a:prstGeom prst="rect">
            <a:avLst/>
          </a:prstGeom>
          <a:ln w="0">
            <a:noFill/>
          </a:ln>
        </p:spPr>
      </p:pic>
      <p:pic>
        <p:nvPicPr>
          <p:cNvPr id="378" name="Picture 8" descr="D:\tutti-dati\back up\pc\logo1_mod1\logo trasparente.gif"/>
          <p:cNvPicPr/>
          <p:nvPr/>
        </p:nvPicPr>
        <p:blipFill>
          <a:blip r:embed="rId6"/>
          <a:stretch/>
        </p:blipFill>
        <p:spPr>
          <a:xfrm>
            <a:off x="8244000" y="5445000"/>
            <a:ext cx="668160" cy="114804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381" name="PlaceHolder 3"/>
          <p:cNvSpPr>
            <a:spLocks noGrp="1"/>
          </p:cNvSpPr>
          <p:nvPr>
            <p:ph type="dt" idx="28"/>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7428-221C-4D8A-AA72-3AD767E57E1B}" type="datetime">
              <a:rPr b="0" lang="it-IT" sz="2400" spc="-1" strike="noStrike">
                <a:solidFill>
                  <a:srgbClr val="ffffff"/>
                </a:solidFill>
                <a:latin typeface="Bell MT"/>
              </a:rPr>
              <a:t>29/07/26</a:t>
            </a:fld>
            <a:endParaRPr b="0" lang="en-US" sz="2400" spc="-1" strike="noStrike">
              <a:solidFill>
                <a:srgbClr val="000000"/>
              </a:solidFill>
              <a:latin typeface="Times New Roman"/>
            </a:endParaRPr>
          </a:p>
        </p:txBody>
      </p:sp>
      <p:sp>
        <p:nvSpPr>
          <p:cNvPr id="382" name="PlaceHolder 4"/>
          <p:cNvSpPr>
            <a:spLocks noGrp="1"/>
          </p:cNvSpPr>
          <p:nvPr>
            <p:ph type="ftr" idx="29"/>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Bell MT"/>
              </a:rPr>
              <a:t>www.sliderbase.com</a:t>
            </a:r>
            <a:endParaRPr b="0" lang="en-US" sz="2400" spc="-1" strike="noStrike">
              <a:solidFill>
                <a:srgbClr val="000000"/>
              </a:solidFill>
              <a:latin typeface="Times New Roman"/>
            </a:endParaRPr>
          </a:p>
        </p:txBody>
      </p:sp>
      <p:sp>
        <p:nvSpPr>
          <p:cNvPr id="383" name="PlaceHolder 5"/>
          <p:cNvSpPr>
            <a:spLocks noGrp="1"/>
          </p:cNvSpPr>
          <p:nvPr>
            <p:ph type="sldNum" idx="30"/>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33DAF-D4F3-4533-B491-24B3EB6D0D6F}" type="slidenum">
              <a:rPr b="0" lang="it-IT" sz="2400" spc="-1" strike="noStrike">
                <a:solidFill>
                  <a:srgbClr val="ffffff"/>
                </a:solidFill>
                <a:latin typeface="Bell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08E91-E661-4694-98C8-E38551512295}" type="datetime">
              <a:rPr b="0" lang="it-IT"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F514A-1876-4CBC-B1B0-B8E73C157B7F}"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20FAE-8814-41FF-B9B3-DBD8EE8E8ABD}" type="datetime">
              <a:rPr b="0" lang="it-IT"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9C4DF-BE16-440A-91CA-3FEEBE5B0E69}"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E09F4-01FA-4EF1-AFC5-EA4C5C04BC8A}" type="datetime">
              <a:rPr b="0" lang="it-IT"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7BB40-0FBC-40EF-9BA5-520364093AEB}"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167" name="PlaceHolder 3"/>
          <p:cNvSpPr>
            <a:spLocks noGrp="1"/>
          </p:cNvSpPr>
          <p:nvPr>
            <p:ph type="dt" idx="13"/>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192C-0D65-4368-9839-209CDBB7D4DE}" type="datetime">
              <a:rPr b="0" lang="it-IT" sz="1200" spc="-1" strike="noStrike">
                <a:solidFill>
                  <a:srgbClr val="ffffff"/>
                </a:solidFill>
                <a:latin typeface="Bell MT"/>
              </a:rPr>
              <a:t>29/07/26</a:t>
            </a:fld>
            <a:endParaRPr b="0" lang="en-US" sz="1200" spc="-1" strike="noStrike">
              <a:solidFill>
                <a:srgbClr val="000000"/>
              </a:solidFill>
              <a:latin typeface="Times New Roman"/>
            </a:endParaRPr>
          </a:p>
        </p:txBody>
      </p:sp>
      <p:sp>
        <p:nvSpPr>
          <p:cNvPr id="168" name="PlaceHolder 4"/>
          <p:cNvSpPr>
            <a:spLocks noGrp="1"/>
          </p:cNvSpPr>
          <p:nvPr>
            <p:ph type="ftr" idx="14"/>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000000"/>
              </a:solidFill>
              <a:latin typeface="Times New Roman"/>
            </a:endParaRPr>
          </a:p>
        </p:txBody>
      </p:sp>
      <p:sp>
        <p:nvSpPr>
          <p:cNvPr id="169" name="PlaceHolder 5"/>
          <p:cNvSpPr>
            <a:spLocks noGrp="1"/>
          </p:cNvSpPr>
          <p:nvPr>
            <p:ph type="sldNum" idx="15"/>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0DF24-7B55-4C2B-BECD-4082A52B249F}" type="slidenum">
              <a:rPr b="0" lang="it-IT" sz="1200" spc="-1" strike="noStrike">
                <a:solidFill>
                  <a:srgbClr val="ffffff"/>
                </a:solidFill>
                <a:latin typeface="Bell MT"/>
              </a:rPr>
              <a:t>&lt;number&gt;</a:t>
            </a:fld>
            <a:endParaRPr b="0" lang="en-US" sz="1200" spc="-1" strike="noStrike">
              <a:solidFill>
                <a:srgbClr val="000000"/>
              </a:solidFill>
              <a:latin typeface="Times New Roman"/>
            </a:endParaRPr>
          </a:p>
        </p:txBody>
      </p:sp>
      <p:pic>
        <p:nvPicPr>
          <p:cNvPr id="170" name="Picture 8" descr="D:\tutti-dati\back up\pc\logo1_mod1\logo trasparente.gif"/>
          <p:cNvPicPr/>
          <p:nvPr/>
        </p:nvPicPr>
        <p:blipFill>
          <a:blip r:embed="rId2"/>
          <a:stretch/>
        </p:blipFill>
        <p:spPr>
          <a:xfrm>
            <a:off x="8244000" y="5445000"/>
            <a:ext cx="668160" cy="1148040"/>
          </a:xfrm>
          <a:prstGeom prst="rect">
            <a:avLst/>
          </a:prstGeom>
          <a:ln w="0">
            <a:noFill/>
          </a:ln>
        </p:spPr>
      </p:pic>
      <p:pic>
        <p:nvPicPr>
          <p:cNvPr id="171" name="Picture 8" descr="C:\Documents and Settings\roby\Desktop\Inserire Titolo\Diapositiva5.JPG"/>
          <p:cNvPicPr/>
          <p:nvPr/>
        </p:nvPicPr>
        <p:blipFill>
          <a:blip r:embed="rId3"/>
          <a:stretch/>
        </p:blipFill>
        <p:spPr>
          <a:xfrm>
            <a:off x="0" y="5135400"/>
            <a:ext cx="2843280" cy="172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C52C1-E954-4870-A765-6EBC47914CF8}"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0C39-EAFF-4C99-89B9-76E20078A09F}"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775C2-7B0E-4D2C-BCAD-A49671688663}"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5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5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6592-58C6-4659-BB68-59A76BBBC33F}"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15937-EAF5-4FEB-8700-7121310C4294}"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9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9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C7102-1471-4778-843A-875534CD9F37}"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1" name="Picture 8" descr="D:\tutti-dati\back up\pc\logo1_mod1\logo trasparente.gif"/>
          <p:cNvPicPr/>
          <p:nvPr/>
        </p:nvPicPr>
        <p:blipFill>
          <a:blip r:embed="rId3"/>
          <a:stretch/>
        </p:blipFill>
        <p:spPr>
          <a:xfrm>
            <a:off x="8028000" y="5446800"/>
            <a:ext cx="668160" cy="1147680"/>
          </a:xfrm>
          <a:prstGeom prst="rect">
            <a:avLst/>
          </a:prstGeom>
          <a:ln w="0">
            <a:noFill/>
          </a:ln>
        </p:spPr>
      </p:pic>
      <p:pic>
        <p:nvPicPr>
          <p:cNvPr id="332" name="Picture 4" descr="C:\tutti-dati\back up\pc\logo1_mod1\intestazione.jpg"/>
          <p:cNvPicPr/>
          <p:nvPr/>
        </p:nvPicPr>
        <p:blipFill>
          <a:blip r:embed="rId4"/>
          <a:stretch/>
        </p:blipFill>
        <p:spPr>
          <a:xfrm>
            <a:off x="3995640" y="260280"/>
            <a:ext cx="4807080" cy="1285920"/>
          </a:xfrm>
          <a:prstGeom prst="rect">
            <a:avLst/>
          </a:prstGeom>
          <a:ln w="0">
            <a:noFill/>
          </a:ln>
        </p:spPr>
      </p:pic>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335" name="PlaceHolder 3"/>
          <p:cNvSpPr>
            <a:spLocks noGrp="1"/>
          </p:cNvSpPr>
          <p:nvPr>
            <p:ph type="dt" idx="25"/>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ED085-4C64-4E25-B2E9-1A45AF002B28}" type="datetime">
              <a:rPr b="0" lang="it-IT" sz="2400" spc="-1" strike="noStrike">
                <a:solidFill>
                  <a:srgbClr val="0d0d0d"/>
                </a:solidFill>
                <a:latin typeface="Bell MT"/>
              </a:rPr>
              <a:t>29/07/26</a:t>
            </a:fld>
            <a:endParaRPr b="0" lang="en-US" sz="2400" spc="-1" strike="noStrike">
              <a:solidFill>
                <a:srgbClr val="000000"/>
              </a:solidFill>
              <a:latin typeface="Times New Roman"/>
            </a:endParaRPr>
          </a:p>
        </p:txBody>
      </p:sp>
      <p:sp>
        <p:nvSpPr>
          <p:cNvPr id="336" name="PlaceHolder 4"/>
          <p:cNvSpPr>
            <a:spLocks noGrp="1"/>
          </p:cNvSpPr>
          <p:nvPr>
            <p:ph type="ftr" idx="26"/>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www.sliderbase.com</a:t>
            </a:r>
            <a:endParaRPr b="0" lang="en-US" sz="2400" spc="-1" strike="noStrike">
              <a:solidFill>
                <a:srgbClr val="000000"/>
              </a:solidFill>
              <a:latin typeface="Times New Roman"/>
            </a:endParaRPr>
          </a:p>
        </p:txBody>
      </p:sp>
      <p:sp>
        <p:nvSpPr>
          <p:cNvPr id="337" name="PlaceHolder 5"/>
          <p:cNvSpPr>
            <a:spLocks noGrp="1"/>
          </p:cNvSpPr>
          <p:nvPr>
            <p:ph type="sldNum" idx="27"/>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1EEEE-33EA-4E59-8C72-C2587FC20A99}" type="slidenum">
              <a:rPr b="0" lang="it-IT" sz="2400" spc="-1" strike="noStrike">
                <a:solidFill>
                  <a:srgbClr val="0d0d0d"/>
                </a:solidFill>
                <a:latin typeface="Bell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Bell MT"/>
              </a:rPr>
              <a:t>Mary Grace Cavallaro</a:t>
            </a:r>
            <a:endParaRPr b="0" lang="en-US" sz="3600" spc="-1" strike="noStrike">
              <a:solidFill>
                <a:srgbClr val="0d0d0d"/>
              </a:solidFill>
              <a:latin typeface="Bell MT"/>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Bell MT"/>
              </a:rPr>
              <a:t>Università degli Studi di Milano</a:t>
            </a:r>
            <a:endParaRPr b="0" lang="en-US" sz="3600" spc="-1" strike="noStrike">
              <a:solidFill>
                <a:srgbClr val="0d0d0d"/>
              </a:solidFill>
              <a:latin typeface="Bell MT"/>
            </a:endParaRPr>
          </a:p>
        </p:txBody>
      </p:sp>
      <p:sp>
        <p:nvSpPr>
          <p:cNvPr id="428"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11651b"/>
                </a:solidFill>
                <a:latin typeface="Bell MT"/>
              </a:rPr>
              <a:t>FLAG DAY JUNE 14TH</a:t>
            </a:r>
            <a:endParaRPr b="0" lang="en-US" sz="4800" spc="-1" strike="noStrike">
              <a:solidFill>
                <a:srgbClr val="0d0d0d"/>
              </a:solidFill>
              <a:latin typeface="Bell MT"/>
            </a:endParaRPr>
          </a:p>
        </p:txBody>
      </p:sp>
      <p:sp>
        <p:nvSpPr>
          <p:cNvPr id="429"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Bell MT"/>
              </a:rPr>
              <a:t>www.sliderbase.c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d0d0d"/>
                </a:solidFill>
                <a:latin typeface="Bell MT"/>
              </a:rPr>
              <a:t>The original flag</a:t>
            </a:r>
            <a:endParaRPr b="0" lang="en-US" sz="4400" spc="-1" strike="noStrike">
              <a:solidFill>
                <a:srgbClr val="0d0d0d"/>
              </a:solidFill>
              <a:latin typeface="Bell MT"/>
            </a:endParaRPr>
          </a:p>
        </p:txBody>
      </p:sp>
      <p:sp>
        <p:nvSpPr>
          <p:cNvPr id="431" name=""/>
          <p:cNvSpPr txBox="1"/>
          <p:nvPr/>
        </p:nvSpPr>
        <p:spPr>
          <a:xfrm>
            <a:off x="324000" y="1197000"/>
            <a:ext cx="4319280" cy="49291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 original Flag had 13 stripes: red and white.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se colors  represented the 13 original colonies and it was first flown on New Year’s Day in 1776 to celebrate the Army’s  formation. . </a:t>
            </a:r>
            <a:endParaRPr b="0" lang="en-US" sz="2800" spc="-1" strike="noStrike">
              <a:solidFill>
                <a:srgbClr val="0d0d0d"/>
              </a:solidFill>
              <a:latin typeface="Bell MT"/>
            </a:endParaRPr>
          </a:p>
        </p:txBody>
      </p:sp>
      <p:pic>
        <p:nvPicPr>
          <p:cNvPr id="432" name="Segnaposto contenuto 4" descr="34flag.jpg"/>
          <p:cNvPicPr/>
          <p:nvPr/>
        </p:nvPicPr>
        <p:blipFill>
          <a:blip r:embed="rId1"/>
          <a:stretch/>
        </p:blipFill>
        <p:spPr>
          <a:xfrm>
            <a:off x="4648320" y="2043000"/>
            <a:ext cx="4038480" cy="3640320"/>
          </a:xfrm>
          <a:prstGeom prst="rect">
            <a:avLst/>
          </a:prstGeom>
          <a:ln w="0">
            <a:noFill/>
          </a:ln>
        </p:spPr>
      </p:pic>
      <p:sp>
        <p:nvSpPr>
          <p:cNvPr id="433"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404280"/>
            <a:ext cx="4038480" cy="572148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 </a:t>
            </a:r>
            <a:r>
              <a:rPr b="0" lang="it-IT" sz="2800" spc="-1" strike="noStrike">
                <a:solidFill>
                  <a:srgbClr val="0d0d0d"/>
                </a:solidFill>
                <a:latin typeface="Bell MT"/>
              </a:rPr>
              <a:t>Betsy Ross made (actually sewed) the original flag with 13 stars and 13 stripes banner.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 founding fathers did not offically adopt the flag until June 14, 1777, almost a year after the signing of the Declaration of Independance.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pic>
        <p:nvPicPr>
          <p:cNvPr id="435" name="Segnaposto contenuto 4" descr="history flag.jpg"/>
          <p:cNvPicPr/>
          <p:nvPr/>
        </p:nvPicPr>
        <p:blipFill>
          <a:blip r:embed="rId1"/>
          <a:stretch/>
        </p:blipFill>
        <p:spPr>
          <a:xfrm>
            <a:off x="4643280" y="2060640"/>
            <a:ext cx="4038840" cy="3132000"/>
          </a:xfrm>
          <a:prstGeom prst="rect">
            <a:avLst/>
          </a:prstGeom>
          <a:ln w="0">
            <a:noFill/>
          </a:ln>
        </p:spPr>
      </p:pic>
      <p:sp>
        <p:nvSpPr>
          <p:cNvPr id="436"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250560" y="260280"/>
            <a:ext cx="7489800" cy="5832720"/>
          </a:xfrm>
          <a:prstGeom prst="rect">
            <a:avLst/>
          </a:prstGeom>
          <a:noFill/>
          <a:ln w="0">
            <a:noFill/>
          </a:ln>
        </p:spPr>
        <p:txBody>
          <a:bodyPr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new flag had 13 white stars in a circle on a blue background with 13 red and white stripes.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stars represented the constellation of the State rising in the West.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blue background stood for the virtues of vigilance, perseverance and justice.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stars were in a circle to represent the Union.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13 stripes stood for the 13 original colonies.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color red symbolizes the newly formed country’s defiance  towards England and courage.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White symbolized purity and liberty.</a:t>
            </a:r>
            <a:endParaRPr b="0" lang="en-US" sz="2400" spc="-1" strike="noStrike">
              <a:solidFill>
                <a:srgbClr val="0d0d0d"/>
              </a:solidFill>
              <a:latin typeface="Bell MT"/>
            </a:endParaRPr>
          </a:p>
        </p:txBody>
      </p:sp>
      <p:pic>
        <p:nvPicPr>
          <p:cNvPr id="438" name="Picture 2" descr="F:\civilwar flag.jpg"/>
          <p:cNvPicPr/>
          <p:nvPr/>
        </p:nvPicPr>
        <p:blipFill>
          <a:blip r:embed="rId1"/>
          <a:stretch/>
        </p:blipFill>
        <p:spPr>
          <a:xfrm>
            <a:off x="4356000" y="5084640"/>
            <a:ext cx="2313000" cy="1489320"/>
          </a:xfrm>
          <a:prstGeom prst="rect">
            <a:avLst/>
          </a:prstGeom>
          <a:ln w="0">
            <a:noFill/>
          </a:ln>
        </p:spPr>
      </p:pic>
      <p:sp>
        <p:nvSpPr>
          <p:cNvPr id="439"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d0d0d"/>
                </a:solidFill>
                <a:latin typeface="Bell MT"/>
              </a:rPr>
              <a:t>The first Flag Day</a:t>
            </a:r>
            <a:endParaRPr b="0" lang="en-US" sz="4400" spc="-1" strike="noStrike">
              <a:solidFill>
                <a:srgbClr val="0d0d0d"/>
              </a:solidFill>
              <a:latin typeface="Bell MT"/>
            </a:endParaRPr>
          </a:p>
        </p:txBody>
      </p:sp>
      <p:sp>
        <p:nvSpPr>
          <p:cNvPr id="441" name=""/>
          <p:cNvSpPr txBox="1"/>
          <p:nvPr/>
        </p:nvSpPr>
        <p:spPr>
          <a:xfrm>
            <a:off x="755280" y="1773360"/>
            <a:ext cx="6553080" cy="4597200"/>
          </a:xfrm>
          <a:prstGeom prst="rect">
            <a:avLst/>
          </a:prstGeom>
          <a:noFill/>
          <a:ln w="0">
            <a:noFill/>
          </a:ln>
        </p:spPr>
        <p:txBody>
          <a:bodyPr anchor="t">
            <a:normAutofit fontScale="94000"/>
          </a:bodyPr>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d0d0d"/>
                </a:solidFill>
                <a:latin typeface="Bell MT"/>
              </a:rPr>
              <a:t>The first official Flag Day celebration was June 14th, 1861 Later in history, President Woodrow Wilson proclaimed June 14th as “Flag Day” in 1916. </a:t>
            </a:r>
            <a:endParaRPr b="0" lang="en-US" sz="2200" spc="-1" strike="noStrike">
              <a:solidFill>
                <a:srgbClr val="0d0d0d"/>
              </a:solidFill>
              <a:latin typeface="Bell MT"/>
            </a:endParaRPr>
          </a:p>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d0d0d"/>
                </a:solidFill>
                <a:latin typeface="Bell MT"/>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2200" spc="-1" strike="noStrike">
              <a:solidFill>
                <a:srgbClr val="0d0d0d"/>
              </a:solidFill>
              <a:latin typeface="Bell MT"/>
            </a:endParaRPr>
          </a:p>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d0d0d"/>
              </a:solidFill>
              <a:latin typeface="Bell MT"/>
            </a:endParaRPr>
          </a:p>
        </p:txBody>
      </p:sp>
      <p:pic>
        <p:nvPicPr>
          <p:cNvPr id="442" name="Picture 1" descr="F:\american-flag-clip-art-waving-waves.png"/>
          <p:cNvPicPr/>
          <p:nvPr/>
        </p:nvPicPr>
        <p:blipFill>
          <a:blip r:embed="rId1"/>
          <a:stretch/>
        </p:blipFill>
        <p:spPr>
          <a:xfrm>
            <a:off x="7272360" y="1341360"/>
            <a:ext cx="1871640" cy="1871640"/>
          </a:xfrm>
          <a:prstGeom prst="rect">
            <a:avLst/>
          </a:prstGeom>
          <a:ln w="0">
            <a:noFill/>
          </a:ln>
        </p:spPr>
      </p:pic>
      <p:sp>
        <p:nvSpPr>
          <p:cNvPr id="443"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Bell MT"/>
              </a:rPr>
              <a:t>Some questions for follow up exercise:</a:t>
            </a:r>
            <a:br>
              <a:rPr sz="3600"/>
            </a:br>
            <a:endParaRPr b="0" lang="en-US" sz="3600" spc="-1" strike="noStrike">
              <a:solidFill>
                <a:srgbClr val="0d0d0d"/>
              </a:solidFill>
              <a:latin typeface="Bell MT"/>
            </a:endParaRPr>
          </a:p>
        </p:txBody>
      </p:sp>
      <p:sp>
        <p:nvSpPr>
          <p:cNvPr id="44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Find a synonym for ‘represent’.</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 the colors represent, along with the stars?</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en was the first flag created and why?</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pic>
        <p:nvPicPr>
          <p:cNvPr id="446" name="Segnaposto contenuto 5" descr="civilwar flag.jpg"/>
          <p:cNvPicPr/>
          <p:nvPr/>
        </p:nvPicPr>
        <p:blipFill>
          <a:blip r:embed="rId1"/>
          <a:stretch/>
        </p:blipFill>
        <p:spPr>
          <a:xfrm>
            <a:off x="5292720" y="2205000"/>
            <a:ext cx="3139920" cy="2022480"/>
          </a:xfrm>
          <a:prstGeom prst="rect">
            <a:avLst/>
          </a:prstGeom>
          <a:ln w="0">
            <a:noFill/>
          </a:ln>
        </p:spPr>
      </p:pic>
      <p:sp>
        <p:nvSpPr>
          <p:cNvPr id="447"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Bell MT"/>
              </a:rPr>
              <a:t>And now something about your country:</a:t>
            </a:r>
            <a:br>
              <a:rPr sz="3600"/>
            </a:br>
            <a:endParaRPr b="0" lang="en-US" sz="3600" spc="-1" strike="noStrike">
              <a:solidFill>
                <a:srgbClr val="0d0d0d"/>
              </a:solidFill>
              <a:latin typeface="Bell MT"/>
            </a:endParaRPr>
          </a:p>
        </p:txBody>
      </p:sp>
      <p:sp>
        <p:nvSpPr>
          <p:cNvPr id="449" name=""/>
          <p:cNvSpPr txBox="1"/>
          <p:nvPr/>
        </p:nvSpPr>
        <p:spPr>
          <a:xfrm>
            <a:off x="1258560" y="1773000"/>
            <a:ext cx="6132600" cy="428148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 the colors of your flag represent?</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es the US flag have in common with your flag?</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en is your flag flown in your country and why?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Do you have any type of similar patriotism in your country?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sp>
        <p:nvSpPr>
          <p:cNvPr id="45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51"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15:59:33Z</dcterms:created>
  <dc:creator>Your User Name</dc:creator>
  <dc:description/>
  <dc:language>en-US</dc:language>
  <cp:lastModifiedBy>Legion</cp:lastModifiedBy>
  <dcterms:modified xsi:type="dcterms:W3CDTF">2017-07-05T09:49:01Z</dcterms:modified>
  <cp:revision>20</cp:revision>
  <dc:subject/>
  <dc:title>FLAG DAY JUNE 14TH</dc:title>
</cp:coreProperties>
</file>