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move the slide</a:t>
            </a:r>
            <a:endParaRPr b="0" lang="en-US" sz="4400" spc="-1" strike="noStrike">
              <a:solidFill>
                <a:srgbClr val="0d0d0d"/>
              </a:solidFill>
              <a:latin typeface="Bell MT"/>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C58A-50B0-494D-9DEC-8BBC5ED867A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Mary Grace Cavalla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Università degli Studi di Mila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LAG DAY JUNE 14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Mary Grace Cavalla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Università degli Studi di Mila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FLAG DAY JUNE 14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Flag had 13 stripes: red and wh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lors  represented the 13 original colonies and it was first flown on New Year’s Day in 1776 to celebrate the Army’s  formatio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riginal Flag had 13 stripes: red and whi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rs  represented the 13 original colonies and it was first flown on New Year’s Day in 1776 to celebrate the Army’s  formation.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tsy Ross made (actually sewed) the original flag with 13 stars and 13 stripes ba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nding fathers did not offically adopt the flag until June 14, 1777, almost a year after the signing of the Declaration of Independ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tsy Ross made (actually sewed) the original flag with 13 stars and 13 stripes bann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ing fathers did not offically adopt the flag until June 14, 1777, almost a year after the signing of the Declaration of Independan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flag had 13 white stars in a circle on a blue background with 13 red and white stri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represented the constellation of the State rising in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background stood for the virtues of vigilance, perseverance and jus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were in a circle to represent the Un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3 stripes stood for the 13 original colon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red symbolizes the newly formed country’s defiance  towards England and cou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symbolized purity and lib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flag had 13 white stars in a circle on a blue background with 13 red and white stri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represented the constellation of the State rising in the W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ue background stood for the virtues of vigilance, perseverance and justi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were in a circle to represent the Un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13 stripes stood for the 13 original colon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lor red symbolizes the newly formed country’s defiance  towards England and cour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te symbolized purity and libe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Flag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ficial Flag Day celebration was June 14th, 1861 Later in history, President Woodrow Wilson proclaimed June 14th as “Flag Day” in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Flag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official Flag Day celebration was June 14th, 1861 Later in history, President Woodrow Wilson proclaimed June 14th as “Flag Day” in 191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questions for follow up exerci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 synonym for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represent, along with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the first flag created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questions for follow up exercis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 a synonym for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represent, along with the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was the first flag created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something about your countr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the colors of your flag re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S flag have in common with your fl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s your flag flown in your country and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have any type of similar patriotism in your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now something about your country:</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he colors of your flag repres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es the US flag have in common with your fla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is your flag flown in your country and wh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you have any type of similar patriotism in your countr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0012C-9978-45A3-BB64-093745B7A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34924-7CE5-4A12-887D-1C77329E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6D116-A82A-49F0-9925-FB06378884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1B536-B2D2-46A9-BB75-00FEE7835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2A569A-97C1-4F4C-B2C9-4E6DA53993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D18035-9901-4F0E-BB16-FB8AB1D31A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8F9F2-5766-4AD8-A0CD-13F9518267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A5688-3EF3-4657-BCFB-C58E33B1B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2B90D8-A55A-420D-8D92-C84C364400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359A83-A131-4F86-941F-F79C1A730D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BEBFEF-85DF-4AE0-9E52-83F76ECD40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9E8527-0766-49FA-A015-5F8C2A0530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A640C-5D4B-4B33-ACD2-B293B7844F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BC5A1A-4F18-4B65-9749-66D615CCC9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5D9B91-D8DA-4CA7-892E-26E6A8FB67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02D9C3-B176-43BC-AA21-9D7EEEF620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397F19-C01D-4338-826F-6F68AFD848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C37DEBA-EDB6-4F47-B311-7126191477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3F9FD6-9DC9-44B9-98E3-347269C3E6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BEFA87-098B-4438-90AD-52D952D0FD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0DA8C3-D3E6-4334-868B-28CD1409AD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5C8C28-A2CB-4B1D-8D55-B6F59B6E9A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5CB917E-AFCC-4C36-99D6-B7D824E5905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36FEC-CA20-40FC-A930-8752ED32F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88E8E8-4C22-4A26-B308-C00474804C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9D921-9460-4B3A-9BD7-E82D7E242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6FE1A-3916-4E8C-9A2F-319F73D50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05563-A9A1-432B-A33E-F38939983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6536-8FFD-4639-ADC9-C91D4AC51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6004C-D27F-4DF7-90F0-9C67D5AE9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118A9-B7B5-4FAE-AC11-B930A1E73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5005-29D0-4CA6-869B-B297FADDA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C3C4-95E2-4491-A836-9B6F6430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0EA90-0FF0-4C32-A485-F4A3FB235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FA088-2971-4145-90DB-0B78349AD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E324A-FC78-4B69-9C24-11CC88EB7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1E3E5-E345-41B7-92A0-C4EF617BB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FBB23-8FE4-4860-A23B-254A0B67C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253141-74E4-40B9-A1B4-9025B9C88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B1DC4-0E15-42F8-87A8-C1D8F4793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DBAA4-7B5B-4FB6-86EC-4A4A6382F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341FA2-6710-484E-9A1C-77869140C8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042262-3D3E-4115-BAA7-7C4F5FD7AB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4DF5-147B-4751-877E-C404EF165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784B94-E2D6-4A0F-9BC5-DB161B6CB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DC7CD-2402-4F83-A9CB-A0CC9A703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9EA2A-A771-4191-9AE3-51AC6F07C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ABD5CA-858D-4298-BE71-36E26772C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BB416-B48E-4A75-85D2-5AB5FD333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2894A2-BE4D-481C-944A-AF3924100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A7346-5269-4ADD-955E-4D62148738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FDE778-7E08-4AB6-957A-46C1EEC862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EBB9A8-5A09-405A-A8A5-FD3DABB715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E19DE-D5AB-40B1-B1C9-04DD867C6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B3531-B8C6-4B02-A2F9-CC9961F8D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71E347-2BB4-4DC7-AD9F-ED0BD7A3D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9148A-F28C-423B-8FB6-7413D018E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CA9609-3052-4FB6-B631-CDB6E1D9E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A34DB-AB4D-4472-B48D-5AEEDC36B7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5C7BB-BBDD-401E-BBB3-07444FDAC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2C6323-1AC6-4660-8089-9136251EB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442CA-1F5A-41B3-A36D-3DAD5D4EA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BC677A-577D-4F77-9774-0B7BA6F8FA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240DE4-87D2-42AF-8466-43702870D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E321DC-939A-4653-AD17-A918CA1A96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B5270-B88D-4705-92FD-C5FE09EE8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BCBA79-9E93-47C2-B886-EBA6C3546B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D97747-CCA4-43F4-A4D1-EDB712729D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B60CC-F8E0-44AD-820A-5DDE3B963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496C4-AEB5-4967-A6C7-E17A797E5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8DC2D1-AB4F-4E73-83C1-2F9C2FDE7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D7ED6-B6C6-443A-B582-71F17284C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0E2151-3CA5-44A8-B2E7-B8E1EC280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E0409-9B8B-4122-AA46-D0170B8C7C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90EA61-D076-4461-8E65-AF60B055E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3C345B-D688-4D94-AC6D-48DE7754EA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CA2F4-B063-413A-A2A2-A1B0A0D14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5533B7-21E1-4C46-B4BD-8B11DEA86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647C2E-3566-440D-8265-BB4A6B0F3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4EC774-DA08-4D84-870D-CD994B6FA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4FEAFC-739F-4532-B7CD-9C844E48D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9FAB6F-40F8-42A6-A0D6-34010EB482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1A48C-FE91-4C61-94D9-C9355CD9DC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D86687-2E68-4F84-845D-E14CFD2832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FB4EB-E4D7-4201-B6D1-23737723C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3E097-7EE5-49E6-A92D-254917201E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231EB-7E89-441F-AC61-1C5DBF64F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D9BE6-EB3F-4739-BE00-DEE20027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3EA5C-0A4E-45A3-BB1F-F266330F5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DB4E2D-5737-4791-B30A-A1B9DCB32C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15D238-7FDE-4D6E-8A20-F4528E8C74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E82211-16CD-4B2D-A0F1-CE8FFD3FD0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D85B7-3A61-4D1F-A90D-2CA1C13A57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C75903-7723-4766-898C-843C892003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1BA6C0-28C9-475B-90D0-2C5E9B687D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70BBBC-9593-40D3-A8A0-CEA7DFFABD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59E929-D2B6-4254-A8A8-D0DBC54B4E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C4085-B070-476D-8E61-50A46B984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F5FB-F35B-44B5-8837-C96958EF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7BEB1-A9EE-4A28-9997-B9F694BA6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4BE5B-FB69-46D1-BF8A-8C66E40E8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6078E-BBE9-4D1E-99B4-BC658FB54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42D83C-32D7-42C8-9B44-0F2FF3F313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42D3EC-3508-4D7F-9D0D-7513671206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F3600D-9452-4E55-A6E8-E014F9B7AF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96B158-EA55-415F-945D-477D613E13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DB6B1-2159-4A74-9233-FA82E4F65E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9FFB6B-353A-4B78-AE45-D10D3CDA2E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7D25A3-3062-4379-9100-8B118553B6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6D48C-1C67-4EF8-A6E3-D9EEFD87B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BE5E86-269B-4B67-9863-D123FB33F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07BF1F-4E66-48C9-B646-CFBFD7B93C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D881B-F90F-45E2-A2C1-44F407515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37360E-230A-4553-B333-DCD9DE6DA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F8D43B-2324-4629-A4C4-F0AE7530B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5C7C7D-6D42-4077-9EC0-64440EF9AF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117355-3299-4CA8-8E96-B5654D871A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DF003F-6904-42CE-9CB7-B48986FF88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EDC312-EAD1-475B-B5DF-B6A79C6094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Bell MT"/>
            </a:endParaRPr>
          </a:p>
        </p:txBody>
      </p:sp>
      <p:sp>
        <p:nvSpPr>
          <p:cNvPr id="3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7D1D21-F4C0-4728-9394-3BCF9DAEDA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7.jpeg"/><Relationship Id="rId5" Type="http://schemas.openxmlformats.org/officeDocument/2006/relationships/image" Target="../media/image6.jpeg"/><Relationship Id="rId6" Type="http://schemas.openxmlformats.org/officeDocument/2006/relationships/image" Target="../media/image2.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2" name="PlaceHolder 3"/>
          <p:cNvSpPr>
            <a:spLocks noGrp="1"/>
          </p:cNvSpPr>
          <p:nvPr>
            <p:ph type="dt" idx="1"/>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2E4F5-7E05-495F-91A3-5F2D5E759612}" type="datetime">
              <a:rPr b="0" lang="it-IT" sz="1200" spc="-1" strike="noStrike">
                <a:solidFill>
                  <a:srgbClr val="0d0d0d"/>
                </a:solidFill>
                <a:latin typeface="Bell MT"/>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d0d0d"/>
                </a:solidFill>
                <a:latin typeface="Bell MT"/>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2A3A-D002-4546-AEE6-A466FCD0E2A9}" type="slidenum">
              <a:rPr b="0" lang="it-IT" sz="1200" spc="-1" strike="noStrike">
                <a:solidFill>
                  <a:srgbClr val="0d0d0d"/>
                </a:solidFill>
                <a:latin typeface="Bell MT"/>
              </a:rPr>
              <a:t>&lt;number&gt;</a:t>
            </a:fld>
            <a:endParaRPr b="0" lang="en-US" sz="1200" spc="-1" strike="noStrike">
              <a:solidFill>
                <a:srgbClr val="000000"/>
              </a:solidFill>
              <a:latin typeface="Times New Roman"/>
            </a:endParaRPr>
          </a:p>
        </p:txBody>
      </p:sp>
      <p:pic>
        <p:nvPicPr>
          <p:cNvPr id="5" name="Picture 8" descr="D:\tutti-dati\back up\pc\logo1_mod1\logo trasparente.gif"/>
          <p:cNvPicPr/>
          <p:nvPr/>
        </p:nvPicPr>
        <p:blipFill>
          <a:blip r:embed="rId3"/>
          <a:stretch/>
        </p:blipFill>
        <p:spPr>
          <a:xfrm>
            <a:off x="8028000" y="5446800"/>
            <a:ext cx="668160" cy="11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375"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pic>
        <p:nvPicPr>
          <p:cNvPr id="376" name="Picture 2" descr="C:\Documents and Settings\roby\Desktop\Inserire Titolo\Diapositiva1.JPG"/>
          <p:cNvPicPr/>
          <p:nvPr/>
        </p:nvPicPr>
        <p:blipFill>
          <a:blip r:embed="rId4"/>
          <a:stretch/>
        </p:blipFill>
        <p:spPr>
          <a:xfrm>
            <a:off x="0" y="4495680"/>
            <a:ext cx="9144000" cy="2362320"/>
          </a:xfrm>
          <a:prstGeom prst="rect">
            <a:avLst/>
          </a:prstGeom>
          <a:ln w="0">
            <a:noFill/>
          </a:ln>
        </p:spPr>
      </p:pic>
      <p:pic>
        <p:nvPicPr>
          <p:cNvPr id="377" name="Picture 4" descr="C:\tutti-dati\back up\pc\logo1_mod1\intestazione.jpg"/>
          <p:cNvPicPr/>
          <p:nvPr/>
        </p:nvPicPr>
        <p:blipFill>
          <a:blip r:embed="rId5"/>
          <a:stretch/>
        </p:blipFill>
        <p:spPr>
          <a:xfrm>
            <a:off x="3995640" y="260280"/>
            <a:ext cx="4807080" cy="1285920"/>
          </a:xfrm>
          <a:prstGeom prst="rect">
            <a:avLst/>
          </a:prstGeom>
          <a:ln w="0">
            <a:noFill/>
          </a:ln>
        </p:spPr>
      </p:pic>
      <p:pic>
        <p:nvPicPr>
          <p:cNvPr id="378" name="Picture 8" descr="D:\tutti-dati\back up\pc\logo1_mod1\logo trasparente.gif"/>
          <p:cNvPicPr/>
          <p:nvPr/>
        </p:nvPicPr>
        <p:blipFill>
          <a:blip r:embed="rId6"/>
          <a:stretch/>
        </p:blipFill>
        <p:spPr>
          <a:xfrm>
            <a:off x="8244000" y="5445000"/>
            <a:ext cx="668160" cy="114804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81" name="PlaceHolder 3"/>
          <p:cNvSpPr>
            <a:spLocks noGrp="1"/>
          </p:cNvSpPr>
          <p:nvPr>
            <p:ph type="dt" idx="28"/>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5258-68E2-4AA3-9BB3-23B8E6CB0A17}" type="datetime">
              <a:rPr b="0" lang="it-IT" sz="2400" spc="-1" strike="noStrike">
                <a:solidFill>
                  <a:srgbClr val="ffffff"/>
                </a:solidFill>
                <a:latin typeface="Bell MT"/>
              </a:rPr>
              <a:t>28/07/26</a:t>
            </a:fld>
            <a:endParaRPr b="0" lang="en-US" sz="2400" spc="-1" strike="noStrike">
              <a:solidFill>
                <a:srgbClr val="000000"/>
              </a:solidFill>
              <a:latin typeface="Times New Roman"/>
            </a:endParaRPr>
          </a:p>
        </p:txBody>
      </p:sp>
      <p:sp>
        <p:nvSpPr>
          <p:cNvPr id="382" name="PlaceHolder 4"/>
          <p:cNvSpPr>
            <a:spLocks noGrp="1"/>
          </p:cNvSpPr>
          <p:nvPr>
            <p:ph type="ftr" idx="29"/>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000000"/>
              </a:solidFill>
              <a:latin typeface="Times New Roman"/>
            </a:endParaRPr>
          </a:p>
        </p:txBody>
      </p:sp>
      <p:sp>
        <p:nvSpPr>
          <p:cNvPr id="383" name="PlaceHolder 5"/>
          <p:cNvSpPr>
            <a:spLocks noGrp="1"/>
          </p:cNvSpPr>
          <p:nvPr>
            <p:ph type="sldNum" idx="30"/>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0FA8-CD0B-47E8-94E9-82A5AA3AD16B}" type="slidenum">
              <a:rPr b="0" lang="it-IT" sz="2400" spc="-1" strike="noStrike">
                <a:solidFill>
                  <a:srgbClr val="ffffff"/>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8D26-19D2-4B85-8397-A6F22BA632F0}" type="datetime">
              <a:rPr b="0" lang="it-IT"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8108-24D4-4246-A225-E97BA197B4BC}"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CC66-8250-44B8-A86F-368239427167}" type="datetime">
              <a:rPr b="0" lang="it-IT"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7526-7D05-4585-9214-1D83733DB3AC}"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8BDE-249A-43AC-81CD-7F34B20DE0A5}" type="datetime">
              <a:rPr b="0" lang="it-IT"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www.sliderbase.com</a:t>
            </a:r>
            <a:endParaRPr b="0" lang="en-US" sz="12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12BD-6FC8-450E-AD73-19E020D30F2D}"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167" name="PlaceHolder 3"/>
          <p:cNvSpPr>
            <a:spLocks noGrp="1"/>
          </p:cNvSpPr>
          <p:nvPr>
            <p:ph type="dt" idx="13"/>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6B5B-6B73-44DC-AFF0-399F1E05CC7A}" type="datetime">
              <a:rPr b="0" lang="it-IT" sz="1200" spc="-1" strike="noStrike">
                <a:solidFill>
                  <a:srgbClr val="ffffff"/>
                </a:solidFill>
                <a:latin typeface="Bell MT"/>
              </a:rPr>
              <a:t>28/07/26</a:t>
            </a:fld>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000000"/>
              </a:solidFill>
              <a:latin typeface="Times New Roman"/>
            </a:endParaRPr>
          </a:p>
        </p:txBody>
      </p:sp>
      <p:sp>
        <p:nvSpPr>
          <p:cNvPr id="169" name="PlaceHolder 5"/>
          <p:cNvSpPr>
            <a:spLocks noGrp="1"/>
          </p:cNvSpPr>
          <p:nvPr>
            <p:ph type="sldNum" idx="15"/>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DA81-ED45-4703-B445-7747265BBD63}" type="slidenum">
              <a:rPr b="0" lang="it-IT" sz="1200" spc="-1" strike="noStrike">
                <a:solidFill>
                  <a:srgbClr val="ffffff"/>
                </a:solidFill>
                <a:latin typeface="Bell MT"/>
              </a:rPr>
              <a:t>&lt;number&gt;</a:t>
            </a:fld>
            <a:endParaRPr b="0" lang="en-US" sz="1200" spc="-1" strike="noStrike">
              <a:solidFill>
                <a:srgbClr val="000000"/>
              </a:solidFill>
              <a:latin typeface="Times New Roman"/>
            </a:endParaRPr>
          </a:p>
        </p:txBody>
      </p:sp>
      <p:pic>
        <p:nvPicPr>
          <p:cNvPr id="170" name="Picture 8" descr="D:\tutti-dati\back up\pc\logo1_mod1\logo trasparente.gif"/>
          <p:cNvPicPr/>
          <p:nvPr/>
        </p:nvPicPr>
        <p:blipFill>
          <a:blip r:embed="rId2"/>
          <a:stretch/>
        </p:blipFill>
        <p:spPr>
          <a:xfrm>
            <a:off x="8244000" y="5445000"/>
            <a:ext cx="668160" cy="1148040"/>
          </a:xfrm>
          <a:prstGeom prst="rect">
            <a:avLst/>
          </a:prstGeom>
          <a:ln w="0">
            <a:noFill/>
          </a:ln>
        </p:spPr>
      </p:pic>
      <p:pic>
        <p:nvPicPr>
          <p:cNvPr id="171" name="Picture 8" descr="C:\Documents and Settings\roby\Desktop\Inserire Titolo\Diapositiva5.JPG"/>
          <p:cNvPicPr/>
          <p:nvPr/>
        </p:nvPicPr>
        <p:blipFill>
          <a:blip r:embed="rId3"/>
          <a:stretch/>
        </p:blipFill>
        <p:spPr>
          <a:xfrm>
            <a:off x="0" y="5135400"/>
            <a:ext cx="2843280" cy="172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BD6C-3158-4DB1-8DB1-1512DA2F2F20}"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11"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12"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4BF1-6530-4FDC-9863-0AD22E7B4E5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324F-A251-494B-8A0E-D132A1F72108}"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5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5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A5AB-AB58-482A-BC82-887AAFEF5967}"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23D3-B32B-4745-B147-550EED8F52EB}"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9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Times New Roman"/>
              </a:rPr>
              <a:t>www.sliderbase.com</a:t>
            </a:r>
            <a:endParaRPr b="0" lang="en-US" sz="1200" spc="-1" strike="noStrike">
              <a:solidFill>
                <a:srgbClr val="000000"/>
              </a:solidFill>
              <a:latin typeface="Times New Roman"/>
            </a:endParaRPr>
          </a:p>
        </p:txBody>
      </p:sp>
      <p:sp>
        <p:nvSpPr>
          <p:cNvPr id="29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BF38-A332-4494-99D0-165408D32FF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1" name="Picture 8" descr="D:\tutti-dati\back up\pc\logo1_mod1\logo trasparente.gif"/>
          <p:cNvPicPr/>
          <p:nvPr/>
        </p:nvPicPr>
        <p:blipFill>
          <a:blip r:embed="rId3"/>
          <a:stretch/>
        </p:blipFill>
        <p:spPr>
          <a:xfrm>
            <a:off x="8028000" y="5446800"/>
            <a:ext cx="668160" cy="1147680"/>
          </a:xfrm>
          <a:prstGeom prst="rect">
            <a:avLst/>
          </a:prstGeom>
          <a:ln w="0">
            <a:noFill/>
          </a:ln>
        </p:spPr>
      </p:pic>
      <p:pic>
        <p:nvPicPr>
          <p:cNvPr id="332" name="Picture 4" descr="C:\tutti-dati\back up\pc\logo1_mod1\intestazione.jpg"/>
          <p:cNvPicPr/>
          <p:nvPr/>
        </p:nvPicPr>
        <p:blipFill>
          <a:blip r:embed="rId4"/>
          <a:stretch/>
        </p:blipFill>
        <p:spPr>
          <a:xfrm>
            <a:off x="3995640" y="260280"/>
            <a:ext cx="4807080" cy="12859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Bell MT"/>
              </a:rPr>
              <a:t>Click to edit the title text format</a:t>
            </a:r>
            <a:endParaRPr b="0" lang="en-US" sz="4400" spc="-1" strike="noStrike">
              <a:solidFill>
                <a:srgbClr val="0d0d0d"/>
              </a:solidFill>
              <a:latin typeface="Bell MT"/>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Click to edit the outline text format</a:t>
            </a:r>
            <a:endParaRPr b="0" lang="en-US" sz="3200" spc="-1" strike="noStrike">
              <a:solidFill>
                <a:srgbClr val="0d0d0d"/>
              </a:solidFill>
              <a:latin typeface="Bell MT"/>
            </a:endParaRPr>
          </a:p>
          <a:p>
            <a:pPr lvl="1" marL="743040" indent="-28584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cond Outline Level</a:t>
            </a:r>
            <a:endParaRPr b="0" lang="en-US" sz="3200" spc="-1" strike="noStrike">
              <a:solidFill>
                <a:srgbClr val="0d0d0d"/>
              </a:solidFill>
              <a:latin typeface="Bell MT"/>
            </a:endParaRPr>
          </a:p>
          <a:p>
            <a:pPr lvl="2" marL="11430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Third Outline Level</a:t>
            </a:r>
            <a:endParaRPr b="0" lang="en-US" sz="3200" spc="-1" strike="noStrike">
              <a:solidFill>
                <a:srgbClr val="0d0d0d"/>
              </a:solidFill>
              <a:latin typeface="Bell MT"/>
            </a:endParaRPr>
          </a:p>
          <a:p>
            <a:pPr lvl="3" marL="16002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ourth Outline Level</a:t>
            </a:r>
            <a:endParaRPr b="0" lang="en-US" sz="3200" spc="-1" strike="noStrike">
              <a:solidFill>
                <a:srgbClr val="0d0d0d"/>
              </a:solidFill>
              <a:latin typeface="Bell MT"/>
            </a:endParaRPr>
          </a:p>
          <a:p>
            <a:pPr lvl="4" marL="2057400" indent="-22860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Fifth Outline Level</a:t>
            </a:r>
            <a:endParaRPr b="0" lang="en-US" sz="3200" spc="-1" strike="noStrike">
              <a:solidFill>
                <a:srgbClr val="0d0d0d"/>
              </a:solidFill>
              <a:latin typeface="Bell MT"/>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ixth Outline Level</a:t>
            </a:r>
            <a:endParaRPr b="0" lang="en-US" sz="3200" spc="-1" strike="noStrike">
              <a:solidFill>
                <a:srgbClr val="0d0d0d"/>
              </a:solidFill>
              <a:latin typeface="Bell MT"/>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Bell MT"/>
              </a:rPr>
              <a:t>Seventh Outline Level</a:t>
            </a:r>
            <a:endParaRPr b="0" lang="en-US" sz="3200" spc="-1" strike="noStrike">
              <a:solidFill>
                <a:srgbClr val="0d0d0d"/>
              </a:solidFill>
              <a:latin typeface="Bell MT"/>
            </a:endParaRPr>
          </a:p>
        </p:txBody>
      </p:sp>
      <p:sp>
        <p:nvSpPr>
          <p:cNvPr id="335" name="PlaceHolder 3"/>
          <p:cNvSpPr>
            <a:spLocks noGrp="1"/>
          </p:cNvSpPr>
          <p:nvPr>
            <p:ph type="dt" idx="25"/>
          </p:nvPr>
        </p:nvSpPr>
        <p:spPr>
          <a:xfrm>
            <a:off x="539280" y="62373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37B8-86E1-4248-9D6E-6258BF4A7F6A}" type="datetime">
              <a:rPr b="0" lang="it-IT" sz="2400" spc="-1" strike="noStrike">
                <a:solidFill>
                  <a:srgbClr val="0d0d0d"/>
                </a:solidFill>
                <a:latin typeface="Bell MT"/>
              </a:rPr>
              <a:t>28/07/26</a:t>
            </a:fld>
            <a:endParaRPr b="0" lang="en-US" sz="2400" spc="-1" strike="noStrike">
              <a:solidFill>
                <a:srgbClr val="000000"/>
              </a:solidFill>
              <a:latin typeface="Times New Roman"/>
            </a:endParaRPr>
          </a:p>
        </p:txBody>
      </p:sp>
      <p:sp>
        <p:nvSpPr>
          <p:cNvPr id="336" name="PlaceHolder 4"/>
          <p:cNvSpPr>
            <a:spLocks noGrp="1"/>
          </p:cNvSpPr>
          <p:nvPr>
            <p:ph type="ftr" idx="26"/>
          </p:nvPr>
        </p:nvSpPr>
        <p:spPr>
          <a:xfrm>
            <a:off x="2916000" y="6237360"/>
            <a:ext cx="28954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ww.sliderbase.com</a:t>
            </a:r>
            <a:endParaRPr b="0" lang="en-US" sz="2400" spc="-1" strike="noStrike">
              <a:solidFill>
                <a:srgbClr val="000000"/>
              </a:solidFill>
              <a:latin typeface="Times New Roman"/>
            </a:endParaRPr>
          </a:p>
        </p:txBody>
      </p:sp>
      <p:sp>
        <p:nvSpPr>
          <p:cNvPr id="337" name="PlaceHolder 5"/>
          <p:cNvSpPr>
            <a:spLocks noGrp="1"/>
          </p:cNvSpPr>
          <p:nvPr>
            <p:ph type="sldNum" idx="27"/>
          </p:nvPr>
        </p:nvSpPr>
        <p:spPr>
          <a:xfrm>
            <a:off x="6012000" y="62373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d0d0d"/>
                </a:solidFill>
                <a:latin typeface="Bell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AAAB-EA50-4432-A102-AEE477EABC95}" type="slidenum">
              <a:rPr b="0" lang="it-IT" sz="2400" spc="-1" strike="noStrike">
                <a:solidFill>
                  <a:srgbClr val="0d0d0d"/>
                </a:solidFill>
                <a:latin typeface="Bell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Mary Grace Cavallaro</a:t>
            </a:r>
            <a:endParaRPr b="0" lang="en-US" sz="3600" spc="-1" strike="noStrike">
              <a:solidFill>
                <a:srgbClr val="0d0d0d"/>
              </a:solidFill>
              <a:latin typeface="Bell MT"/>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Bell MT"/>
              </a:rPr>
              <a:t>Università degli Studi di Milano</a:t>
            </a:r>
            <a:endParaRPr b="0" lang="en-US" sz="3600" spc="-1" strike="noStrike">
              <a:solidFill>
                <a:srgbClr val="0d0d0d"/>
              </a:solidFill>
              <a:latin typeface="Bell MT"/>
            </a:endParaRPr>
          </a:p>
        </p:txBody>
      </p:sp>
      <p:sp>
        <p:nvSpPr>
          <p:cNvPr id="428"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11651b"/>
                </a:solidFill>
                <a:latin typeface="Bell MT"/>
              </a:rPr>
              <a:t>FLAG DAY JUNE 14TH</a:t>
            </a:r>
            <a:endParaRPr b="0" lang="en-US" sz="4800" spc="-1" strike="noStrike">
              <a:solidFill>
                <a:srgbClr val="0d0d0d"/>
              </a:solidFill>
              <a:latin typeface="Bell MT"/>
            </a:endParaRPr>
          </a:p>
        </p:txBody>
      </p:sp>
      <p:sp>
        <p:nvSpPr>
          <p:cNvPr id="42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ell MT"/>
              </a:rPr>
              <a:t>www.sliderbase.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original flag</a:t>
            </a:r>
            <a:endParaRPr b="0" lang="en-US" sz="4400" spc="-1" strike="noStrike">
              <a:solidFill>
                <a:srgbClr val="0d0d0d"/>
              </a:solidFill>
              <a:latin typeface="Bell MT"/>
            </a:endParaRPr>
          </a:p>
        </p:txBody>
      </p:sp>
      <p:sp>
        <p:nvSpPr>
          <p:cNvPr id="431" name=""/>
          <p:cNvSpPr txBox="1"/>
          <p:nvPr/>
        </p:nvSpPr>
        <p:spPr>
          <a:xfrm>
            <a:off x="324000" y="1197000"/>
            <a:ext cx="4319280" cy="49291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original Flag had 13 stripes: red and whit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se colors  represented the 13 original colonies and it was first flown on New Year’s Day in 1776 to celebrate the Army’s  formation. . </a:t>
            </a:r>
            <a:endParaRPr b="0" lang="en-US" sz="2800" spc="-1" strike="noStrike">
              <a:solidFill>
                <a:srgbClr val="0d0d0d"/>
              </a:solidFill>
              <a:latin typeface="Bell MT"/>
            </a:endParaRPr>
          </a:p>
        </p:txBody>
      </p:sp>
      <p:pic>
        <p:nvPicPr>
          <p:cNvPr id="432" name="Segnaposto contenuto 4" descr="34flag.jpg"/>
          <p:cNvPicPr/>
          <p:nvPr/>
        </p:nvPicPr>
        <p:blipFill>
          <a:blip r:embed="rId1"/>
          <a:stretch/>
        </p:blipFill>
        <p:spPr>
          <a:xfrm>
            <a:off x="4648320" y="2043000"/>
            <a:ext cx="4038480" cy="3640320"/>
          </a:xfrm>
          <a:prstGeom prst="rect">
            <a:avLst/>
          </a:prstGeom>
          <a:ln w="0">
            <a:noFill/>
          </a:ln>
        </p:spPr>
      </p:pic>
      <p:sp>
        <p:nvSpPr>
          <p:cNvPr id="43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404280"/>
            <a:ext cx="4038480" cy="572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 </a:t>
            </a:r>
            <a:r>
              <a:rPr b="0" lang="it-IT" sz="2800" spc="-1" strike="noStrike">
                <a:solidFill>
                  <a:srgbClr val="0d0d0d"/>
                </a:solidFill>
                <a:latin typeface="Bell MT"/>
              </a:rPr>
              <a:t>Betsy Ross made (actually sewed) the original flag with 13 stars and 13 stripes banner.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d0d0d"/>
                </a:solidFill>
                <a:latin typeface="Bell MT"/>
              </a:rPr>
              <a:t>The founding fathers did not offically adopt the flag until June 14, 1777, almost a year after the signing of the Declaration of Independance.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35" name="Segnaposto contenuto 4" descr="history flag.jpg"/>
          <p:cNvPicPr/>
          <p:nvPr/>
        </p:nvPicPr>
        <p:blipFill>
          <a:blip r:embed="rId1"/>
          <a:stretch/>
        </p:blipFill>
        <p:spPr>
          <a:xfrm>
            <a:off x="4643280" y="2060640"/>
            <a:ext cx="4038840" cy="3132000"/>
          </a:xfrm>
          <a:prstGeom prst="rect">
            <a:avLst/>
          </a:prstGeom>
          <a:ln w="0">
            <a:noFill/>
          </a:ln>
        </p:spPr>
      </p:pic>
      <p:sp>
        <p:nvSpPr>
          <p:cNvPr id="436"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250560" y="260280"/>
            <a:ext cx="7489800" cy="5832720"/>
          </a:xfrm>
          <a:prstGeom prst="rect">
            <a:avLst/>
          </a:prstGeom>
          <a:noFill/>
          <a:ln w="0">
            <a:noFill/>
          </a:ln>
        </p:spPr>
        <p:txBody>
          <a:bodyPr anchor="t">
            <a:normAutofit/>
          </a:bodyPr>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new flag had 13 white stars in a circle on a blue background with 13 red and white strip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represented the constellation of the State rising in the West.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blue background stood for the virtues of vigilance, perseverance and justic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stars were in a circle to represent the Union.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13 stripes stood for the 13 original colonies.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The color red symbolizes the newly formed country’s defiance  towards England and courage. </a:t>
            </a:r>
            <a:endParaRPr b="0" lang="en-US" sz="2400" spc="-1" strike="noStrike">
              <a:solidFill>
                <a:srgbClr val="0d0d0d"/>
              </a:solidFill>
              <a:latin typeface="Bell MT"/>
            </a:endParaRPr>
          </a:p>
          <a:p>
            <a:pPr marL="343080" indent="-34308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d0d0d"/>
                </a:solidFill>
                <a:latin typeface="Bell MT"/>
              </a:rPr>
              <a:t>White symbolized purity and liberty.</a:t>
            </a:r>
            <a:endParaRPr b="0" lang="en-US" sz="2400" spc="-1" strike="noStrike">
              <a:solidFill>
                <a:srgbClr val="0d0d0d"/>
              </a:solidFill>
              <a:latin typeface="Bell MT"/>
            </a:endParaRPr>
          </a:p>
        </p:txBody>
      </p:sp>
      <p:pic>
        <p:nvPicPr>
          <p:cNvPr id="438" name="Picture 2" descr="F:\civilwar flag.jpg"/>
          <p:cNvPicPr/>
          <p:nvPr/>
        </p:nvPicPr>
        <p:blipFill>
          <a:blip r:embed="rId1"/>
          <a:stretch/>
        </p:blipFill>
        <p:spPr>
          <a:xfrm>
            <a:off x="4356000" y="5084640"/>
            <a:ext cx="2313000" cy="1489320"/>
          </a:xfrm>
          <a:prstGeom prst="rect">
            <a:avLst/>
          </a:prstGeom>
          <a:ln w="0">
            <a:noFill/>
          </a:ln>
        </p:spPr>
      </p:pic>
      <p:sp>
        <p:nvSpPr>
          <p:cNvPr id="439"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d0d0d"/>
                </a:solidFill>
                <a:latin typeface="Bell MT"/>
              </a:rPr>
              <a:t>The first Flag Day</a:t>
            </a:r>
            <a:endParaRPr b="0" lang="en-US" sz="4400" spc="-1" strike="noStrike">
              <a:solidFill>
                <a:srgbClr val="0d0d0d"/>
              </a:solidFill>
              <a:latin typeface="Bell MT"/>
            </a:endParaRPr>
          </a:p>
        </p:txBody>
      </p:sp>
      <p:sp>
        <p:nvSpPr>
          <p:cNvPr id="441" name=""/>
          <p:cNvSpPr txBox="1"/>
          <p:nvPr/>
        </p:nvSpPr>
        <p:spPr>
          <a:xfrm>
            <a:off x="755280" y="1773360"/>
            <a:ext cx="6553080" cy="4597200"/>
          </a:xfrm>
          <a:prstGeom prst="rect">
            <a:avLst/>
          </a:prstGeom>
          <a:noFill/>
          <a:ln w="0">
            <a:noFill/>
          </a:ln>
        </p:spPr>
        <p:txBody>
          <a:bodyPr anchor="t">
            <a:normAutofit fontScale="94000"/>
          </a:bodyPr>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The first official Flag Day celebration was June 14th, 1861 Later in history, President Woodrow Wilson proclaimed June 14th as “Flag Day” in 1916.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d0d0d"/>
                </a:solidFill>
                <a:latin typeface="Bell MT"/>
              </a:rPr>
              <a:t>Pennsylvania is the only state that observes “Flag Day” as a National holiday. This is probably due to  the fact that Pennsylvania was the actual place where the signing of the Declaration of Independance took place. All other states acknowledge the Flag by displaying it on homes and public  places. “Flag Day” is also observed by reciting the Pledge of Allegiance , by placing  your hand over your heart and by singing  “The Star-Spangled Banner” and other patriotic songs. </a:t>
            </a:r>
            <a:endParaRPr b="0" lang="en-US" sz="2200" spc="-1" strike="noStrike">
              <a:solidFill>
                <a:srgbClr val="0d0d0d"/>
              </a:solidFill>
              <a:latin typeface="Bell MT"/>
            </a:endParaRPr>
          </a:p>
          <a:p>
            <a:pPr marL="322200" indent="-322200">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d0d0d"/>
              </a:solidFill>
              <a:latin typeface="Bell MT"/>
            </a:endParaRPr>
          </a:p>
        </p:txBody>
      </p:sp>
      <p:pic>
        <p:nvPicPr>
          <p:cNvPr id="442" name="Picture 1" descr="F:\american-flag-clip-art-waving-waves.png"/>
          <p:cNvPicPr/>
          <p:nvPr/>
        </p:nvPicPr>
        <p:blipFill>
          <a:blip r:embed="rId1"/>
          <a:stretch/>
        </p:blipFill>
        <p:spPr>
          <a:xfrm>
            <a:off x="7272360" y="1341360"/>
            <a:ext cx="1871640" cy="1871640"/>
          </a:xfrm>
          <a:prstGeom prst="rect">
            <a:avLst/>
          </a:prstGeom>
          <a:ln w="0">
            <a:noFill/>
          </a:ln>
        </p:spPr>
      </p:pic>
      <p:sp>
        <p:nvSpPr>
          <p:cNvPr id="443"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Some questions for follow up exercise:</a:t>
            </a:r>
            <a:br>
              <a:rPr sz="3600"/>
            </a:br>
            <a:endParaRPr b="0" lang="en-US" sz="3600" spc="-1" strike="noStrike">
              <a:solidFill>
                <a:srgbClr val="0d0d0d"/>
              </a:solidFill>
              <a:latin typeface="Bell MT"/>
            </a:endParaRPr>
          </a:p>
        </p:txBody>
      </p:sp>
      <p:sp>
        <p:nvSpPr>
          <p:cNvPr id="4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Find a synonym for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represent, along with the stars?</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was the first flag created and why?</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pic>
        <p:nvPicPr>
          <p:cNvPr id="446" name="Segnaposto contenuto 5" descr="civilwar flag.jpg"/>
          <p:cNvPicPr/>
          <p:nvPr/>
        </p:nvPicPr>
        <p:blipFill>
          <a:blip r:embed="rId1"/>
          <a:stretch/>
        </p:blipFill>
        <p:spPr>
          <a:xfrm>
            <a:off x="5292720" y="2205000"/>
            <a:ext cx="3139920" cy="2022480"/>
          </a:xfrm>
          <a:prstGeom prst="rect">
            <a:avLst/>
          </a:prstGeom>
          <a:ln w="0">
            <a:noFill/>
          </a:ln>
        </p:spPr>
      </p:pic>
      <p:sp>
        <p:nvSpPr>
          <p:cNvPr id="447"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d0d0d"/>
                </a:solidFill>
                <a:latin typeface="Bell MT"/>
              </a:rPr>
              <a:t>And now something about your country:</a:t>
            </a:r>
            <a:br>
              <a:rPr sz="3600"/>
            </a:br>
            <a:endParaRPr b="0" lang="en-US" sz="3600" spc="-1" strike="noStrike">
              <a:solidFill>
                <a:srgbClr val="0d0d0d"/>
              </a:solidFill>
              <a:latin typeface="Bell MT"/>
            </a:endParaRPr>
          </a:p>
        </p:txBody>
      </p:sp>
      <p:sp>
        <p:nvSpPr>
          <p:cNvPr id="449" name=""/>
          <p:cNvSpPr txBox="1"/>
          <p:nvPr/>
        </p:nvSpPr>
        <p:spPr>
          <a:xfrm>
            <a:off x="1258560" y="1773000"/>
            <a:ext cx="6132600" cy="428148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 the colors of your flag represent?</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at does the US flag have in common with your flag?</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When is your flag flown in your country and wh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ll MT"/>
              </a:rPr>
              <a:t>Do you have any type of similar patriotism in your country? </a:t>
            </a:r>
            <a:endParaRPr b="0" lang="en-US" sz="2800" spc="-1" strike="noStrike">
              <a:solidFill>
                <a:srgbClr val="0d0d0d"/>
              </a:solidFill>
              <a:latin typeface="Bell MT"/>
            </a:endParaRPr>
          </a:p>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d0d0d"/>
              </a:solidFill>
              <a:latin typeface="Bell MT"/>
            </a:endParaRPr>
          </a:p>
        </p:txBody>
      </p:sp>
      <p:sp>
        <p:nvSpPr>
          <p:cNvPr id="45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d0d0d"/>
              </a:solidFill>
              <a:latin typeface="Bell MT"/>
            </a:endParaRPr>
          </a:p>
        </p:txBody>
      </p:sp>
      <p:sp>
        <p:nvSpPr>
          <p:cNvPr id="451" name="Місце для нижнього колонтитула 1"/>
          <p:cNvSpPr/>
          <p:nvPr/>
        </p:nvSpPr>
        <p:spPr>
          <a:xfrm>
            <a:off x="2916360" y="6237360"/>
            <a:ext cx="28954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Bell MT"/>
              </a:rPr>
              <a:t>www.sliderbase.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5:59:33Z</dcterms:created>
  <dc:creator>Your User Name</dc:creator>
  <dc:description/>
  <dc:language>en-US</dc:language>
  <cp:lastModifiedBy>Legion</cp:lastModifiedBy>
  <dcterms:modified xsi:type="dcterms:W3CDTF">2017-07-05T09:49:01Z</dcterms:modified>
  <cp:revision>20</cp:revision>
  <dc:subject/>
  <dc:title>FLAG DAY JUNE 14TH</dc:title>
</cp:coreProperties>
</file>