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7884-A2C1-480C-9692-98B975260E9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EC30F-6657-4A60-9D36-DF26A4593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CCE9E-DADB-409B-8061-78D2F8404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1502B0-A5CF-4A2A-9DE3-B79B1BA45C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8A96F2-F0E7-4379-9F0E-5289D5BAF9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2A6A2A-363C-42E0-9DA8-34303E397C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9735C-CE8B-4087-8AAC-11EA93C6DB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127A66-DA38-4E74-AA95-FC0000DA91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D76691-3061-40E2-88E0-03852FC344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33A083-BA9F-4EE2-999C-4D697EE4DD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81CDFB-C67C-45E6-BAF7-9768B7E4EE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6AAF70-CF13-4BC7-993B-18DC8F8B3E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789660-E7EC-41C6-A92F-637D57CB32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03B17-8094-4A15-9700-031A0F219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326D94-F70D-49CC-8DB3-51028B6705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B5C83B-99B1-4DAE-9C18-57BCA5864E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1CBD8C-AB8E-48E9-95B4-486F3A8FDE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F09594-876B-4775-9F7A-A3EF2BC7DC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E5D228-75B9-4237-9E49-7BC254B95C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84FF67-5697-47CB-B332-C8AA4B69C6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80B682-6B61-4AE4-9553-79D3FDF09D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518D11-C6F1-4D94-818F-4970D88A63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0CE007-6DE2-48CD-A882-22BDD60FB5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924A56-39D4-4B58-80D9-7DA478482F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09741-C5CB-448B-8C7F-9BC992FA1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CA45F6-A414-43FE-8ECD-CCAFC634E8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533F5-35D4-4FF9-B1BF-4B2E0FD26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3AC7D-7199-4336-BD39-E17AC6478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92B84-B89C-43FC-9883-494ECB975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5591A-9F83-4BEA-8731-A0BCF46D3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D2BFD-8C82-4A71-8237-2AC41E415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BFEC6-030C-409D-9647-533CBBBD8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E0F49-FB0E-4FB0-8866-582B88E67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EA52A-2860-4DBC-988F-4040DA3AE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86F45-DDDA-4EB6-B01A-98BC19584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9BD51-D829-4DBB-BDD3-912870EF6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68129-CB1C-4745-87BB-C61CB55E5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B664D-CD58-4FBF-B487-43F700103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4879A-EC20-4724-B412-0B243BABE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DB1C25-ADCF-43F7-AA68-8310AAFEA6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4A6BDB-2667-4331-9DFE-C10968223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FAF28-0D57-47D2-8556-35DACC78C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02143E-CFD1-4CF6-AC98-9A240AEAC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286D2-DC2F-47A5-B7F3-76FD448B37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F5EC7-A67F-4C19-96D3-C97FEC5F7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28E3FD-4872-4203-B271-0B88EC960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3354B-8254-462B-A4B5-CBE8583EE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06358-0654-4EDA-8625-5366CE652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10595-731D-4670-B493-1817B1323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FB8C18-49B3-4681-AB57-E156F0C71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39489-075B-4BBB-91DD-B923CC3C10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274693-FA18-487F-9E9B-0F564731DE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91BE11-6231-4EA9-97CB-42568BF21C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E1B28C-423E-4619-8E40-51C9CCF93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4B2FA-D2B0-4BD7-A3D9-DC752EC85D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B5001-C528-4608-9213-B14628BC0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9B016-ECAF-4B55-883B-FA8E00579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FCFE56-1AC7-4826-823C-41707350BC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A82B05-AF08-46F2-ABB8-FC6257410A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C114F-A168-4452-8EDF-DB1689A3A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C36B1-7BA7-4095-B99F-597FC2073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0F61A0-5FF5-40D2-B112-39B6EC632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444E5-D59D-4822-A9CF-4011BCC3C0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1BA2FC-45ED-4DE0-A062-20A586FE11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2E7EC2-7A23-4FF3-B974-8403A70076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9C23CA-8E21-4432-965C-0884FE8EFC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1488C-5057-4FD8-BB28-68ED01FBF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C8A1E5-F36A-4DBC-845B-2322D8444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68AFC6-008F-484E-8E58-736C3B2982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AD4FDF-EBA3-4F3C-9814-0388EDB5A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1FA65-A37D-43D1-B596-4B936C24B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0BB137-D750-42ED-8309-7BCE0F3D76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C8B7C-7C64-4F46-8621-2F245D993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5E2471-35C5-47FC-9653-56BA59DD4B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2E368-6AB4-4198-8F3D-C8BE5AA58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CB6F87-8C83-46C1-8059-D8550CB386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3D7949-4F03-46E5-810C-DCD5AC61CC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50014-6B8B-4B7F-8F43-61908E6C6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25B475-D108-40A6-AA5B-2C4811F934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35888A-A3EC-486A-AA08-9517DE2AA7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BA471-86D9-4477-989E-A8C85BB231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F6B189-9D5B-4FAE-B90B-4229C6CF7A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B61CDE-0AD5-4E89-A70C-D40D2C28F2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42874E-E5C5-4C73-BBF0-F67928B447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71880-9077-4DAB-95BC-500F218DCE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51B449-92D0-44C5-B2F1-92CC66343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59E0A-71AC-4B2C-AA7B-34A5264A0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2D137A-4787-46FA-B953-753482FF2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CE54A-9459-477F-87EF-D1520939C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EAD2F6-540F-4221-A16D-C346879238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9FEF77-65BA-42F7-86A1-93283F7624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3E6BD0-C19A-4CDF-9383-006D3410CE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C70CED-F31E-46CB-A0B4-D349FC207F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BDBCF6-B063-488F-A23C-CB686F62E0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ACF137-2CA4-4802-A57F-8BFECA95AD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A409DC-70AA-4E9E-9847-99A401A655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25DE4C-E3A0-4559-B293-834535C633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0BC9EA-7F86-42C1-B6C8-4874D82A1F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CCBDDA-BD3C-4165-9DB3-3AB73B44E6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C6CE9-5A6F-414A-81AA-04091D205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CDB2C-CF58-4AF3-B019-847BA23275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50B3A7-8D49-42D2-A9EF-65A8B9B951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124B89-BA14-4C92-80FC-721B6213E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6EDA49-0037-4B34-AF0A-6711177E36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B148FF-E09A-4A18-9F84-EB97D1D33C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A2D613-678F-4814-B14C-CA9BE8278F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72E234-4439-4047-85F8-343611829C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E1A1F6-2FC8-448E-98D7-584E01FB6D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B91517-E30D-4231-B1A6-93BC0C2803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54AEC2-60A1-4FBE-94B5-E80A455AEE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657A8-D333-42EB-AD6B-24CB6CC39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07C4DC-F494-4C05-8F2B-D6CB1220D4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A5FBD-FF3E-4000-AB04-34693E7D5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05F61-8977-4CAD-90C3-4418829FC1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78E5A2-649C-43A8-97D5-51FEBDEAD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25075F-5DF4-4547-AECC-65957940A7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6759C9-5463-4340-930C-73383D8523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120B61-3AF5-49DD-A57A-CFBD33F564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ABF965-3670-4F96-A3B3-6F40CEDD83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0DE751-45D2-4A68-ADC1-22EA177BCD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C6BF79-28E2-4190-99B2-5E7BACB8D1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1B7C-3CED-4FC4-9B55-93EF9CB71147}" type="datetime">
              <a:rPr b="0" lang="it-IT" sz="1200" spc="-1" strike="noStrike">
                <a:solidFill>
                  <a:srgbClr val="0d0d0d"/>
                </a:solidFill>
                <a:latin typeface="Bell MT"/>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B721-1E2A-42D0-B961-D243995B7DEE}"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13B7-4A68-4447-A36C-BFDA0FBFC9CA}" type="datetime">
              <a:rPr b="0" lang="it-IT" sz="2400" spc="-1" strike="noStrike">
                <a:solidFill>
                  <a:srgbClr val="ffffff"/>
                </a:solidFill>
                <a:latin typeface="Bell MT"/>
              </a:rPr>
              <a:t>29/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BA3C-9B25-4415-A094-5A5C6E09B543}"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FE93-B9D3-4D3F-95AC-82A580C2985E}"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8300-91D3-41CE-BF70-DC725CEDAB63}"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C1C1-66ED-4C77-A2AD-FF1AA572ACF3}"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82F1-5EF6-4613-B81C-13F8B9501748}"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48E4-D8EB-46E5-9A7C-E5630B598F3A}"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D7D2-49C4-4C78-9B42-2B033BC033DB}"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38B2-6F13-452B-802E-EA99291E3EE9}" type="datetime">
              <a:rPr b="0" lang="it-IT" sz="1200" spc="-1" strike="noStrike">
                <a:solidFill>
                  <a:srgbClr val="ffffff"/>
                </a:solidFill>
                <a:latin typeface="Bell MT"/>
              </a:rPr>
              <a:t>29/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6ADE-1575-460F-93B1-5679D499F904}"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5DB6-DA8C-4DB6-874E-5C0F2FE42AE6}"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E4CF-90CC-4EE9-8665-1DDC4A4B21F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7AEA-A710-42D1-B522-B5500643C28A}"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8FD6-E239-4E6C-9FBC-0EC8A45ABD4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D0D1-BEC9-428B-A1B5-D3CB2D3594F7}"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069A-BCE7-4297-BA89-6ED849188E0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816E-D064-4349-BBDB-EE7CB5A528F0}" type="datetime">
              <a:rPr b="0" lang="it-IT" sz="2400" spc="-1" strike="noStrike">
                <a:solidFill>
                  <a:srgbClr val="0d0d0d"/>
                </a:solidFill>
                <a:latin typeface="Bell MT"/>
              </a:rPr>
              <a:t>29/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388D-E35B-484C-87D3-7320F9E62311}"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