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FB87-862A-432E-8D42-A084EEBEC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ounding Fathers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Of the United States Constit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nd Our Country’s Early Histo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ing Fath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United States Constit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ur Country’s Early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uel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uel was cousin to John Adams and preferred to work “behind the scenes” of the Revolution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igned the Declaration of Independence and was part of the Boston Tea Part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was cousin to John Adams and preferred to work “behind the scenes” of the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igned the Declaration of Independence and was part of the Boston Tea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Paul Jon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nes was known as the Father of the American Nav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quoted as having said, “I have not yet begun to fight.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Paul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was known as the Father of the American N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quoted as having said, “I have not yet begun to figh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Hancock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ncock was known for his legible signature (shown below)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igned the Declaration of Independence first and said something to the effect of, “Let’s see if [King ] George can read that!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Hanc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cock was known for his legible signature (shown be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igned the Declaration of Independence first and said something to the effect of, “Let’s see if [King ] George can read tha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lly Pitcher—Mary Hays McCaul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lly Pitcher went to war with her husband and brought water to the soldiers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en her husband was wounded, she took his spot at the cannon and kept on fighting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esident Washington gave her an award for her courag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209.157.64.200/~mollypitcher/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y Pitcher—Mary Hays McCa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y Pitcher went to war with her husband and brought water to the soldier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r husband was wounded, she took his spot at the cannon and kept on f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 Washington gave her an award for her cour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209.157.64.200/~mollypitch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lexander Hamilt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milton was the nation’s first secretary of the treasu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 bold and creative thinker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is ideas greatly influence our government toda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Hami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milton was the nation’s first secretary of the treas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 bold and creative think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ideas greatly influence our government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eorge Washingt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Known as the “Father of Our Country”, he was really the 12th preside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deeply concerned with helping the fledgling republic flourish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n as the “Father of Our Country”, he was really the 12th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deeply concerned with helping the fledgling republic flour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olley Madi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olley is most noted for saving the painting of George Washington that hung in the White House when the British burned it during the War of 1812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ley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ley is most noted for saving the painting of George Washington that hung in the White House when the British burned it during the War of 18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mes Madi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mes is the “Father of the Constitution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received many ideas from those he associated with, but the final written copy was in his word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designed our system of checks and balan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is the “Father of the Constit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received many ideas from those he associated with, but the final written copy was in his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signed our system of checks and 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Frankli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ranklin was “a jack-of-all-trades and a master of many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only person who signed four of the most important documents in U.S. histo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was “a jack-of-all-trades and a master of man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only person who signed four of the most important documents in U.S.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Pa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ine met Benjamin Franklin who advised him to move to the colon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rote political tracts, his most famous being Common Sense, advocating independenc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P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e met Benjamin Franklin who advised him to move to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rote political tracts, his most famous being Common Sense, advocating independ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ul Rever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rtrait painted by John Singleton Cople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americanrevolution.org/revere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ul Rev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rait painted by John Singleton Cop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mericanrevolution.org/reve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borah Samp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pson fought in the Revolutionary War for over a year disguised as Robert Shurtliff, until she received a serious wound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he was discharged with honor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awm.lee.army.mil/Army_Women_Notable/gannett_deborah.ht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borah Samp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son fought in the Revolutionary War for over a year disguised as Robert Shurtliff, until she received a serious woun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ischarged with hon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wm.lee.army.mil/Army_Women_Notable/gannett_deborah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Bannek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was an astronomer, mathematician, farmer, and surveyor—and probably the best known black person during his tim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 clock he invented kept almost perfect time for 50 yea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inventors.about.com/library/inventors/blbanneker.ht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Banne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was an astronomer, mathematician, farmer, and surveyor—and probably the best known black person during his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ock he invented kept almost perfect time for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inventors.about.com/library/inventors/blbanneke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tsy Ro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egend has it that she designed the first U.S. flag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 story first came about 94 years after it was to have first happene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tsy Ross did sew flags and had an upholstery busines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usflag.org/about.betsy.ross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sy 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end has it that she designed the first U.S. 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ry first came about 94 years after it was to have first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sy Ross did sew flags and had an upholstery busi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usflag.org/about.betsy.ros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seph Bra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seph was a Mohawk Indian leader who fought in the British Army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lso a Christian missionary among his peopl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 leading member of the League of the Iroquoi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earlyamerica.com/review/1998/brant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Br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was a Mohawk Indian leader who fought in the British Arm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lso a Christian missionary among hi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 leading member of the League of the Iro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earlyamerica.com/review/1998/bran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athan Hal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le was the first CIA agent in the United State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quoted as saying, “ I only regret that I have but one life to lose for my country.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is picture is a sketch of his execution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han H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e was the first CIA agent in the United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quoted as saying, “ I only regret that I have but one life to lose for my countr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a sketch of his exec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Jeffer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efferson wrote the Declaration of Independence.  He was a gifted write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ent Lewis and Clark out to explore the Louisiana Purchase.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3rd president of the United States.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erson wrote the Declaration of Independence.  He was a gifted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ent Lewis and Clark out to explore the Louisiana Purch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3rd president of the United St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bigail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bigail had little formal schooling but a quick wit and was a colorful write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r son became the 6th U.S. preside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r letters give us an insight into her thoughts and contemporary attitude of the tim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gail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gail had little formal schooling but a quick wit and was a colorful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son became the 6th U.S.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letters give us an insight into her thoughts and contemporary attitude of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dams was often misunderstood—people thought he was cold and rud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and his cousin, Sam were leaders of the Sons of Libert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first to have his son serve as president also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is political ideas and policies lasted the test of tim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s was often misunderstood—people thought he was cold and r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and his cousin, Sam were leaders of the Sons of Li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first to have his son serve as president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political ideas and policies lasted the test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than All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llen was a patriot and soldier in the Revolutionary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led the Green Mountain Boys in the capture of Fort Ticonderoga—one of the most important battles of the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is statue is in the United States Capitol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virtualvermont.com/history/eallen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 A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n was a patriot and soldier in the Revolutionary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led the Green Mountain Boys in the capture of Fort Ticonderoga—one of the most important battles of the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atue is in the United States Capit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virtualvermont.com/history/ealle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edict Arnol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rnold was one of the most trusted American generals of the Revolutionary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turned traitor because he was passed over for military honors and accused of abusing his power and standing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dict Arn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nold was one of the most trusted American generals of the Revolutionary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urned traitor because he was passed over for military honors and accused of abusing his power and stand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hillis Wheatle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eatley was a slave to a prominent Boston family.  She was treated like family, educated, and wrote poetry that was published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he never had true freedom and died impoverished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uoregon.edu/~rbear/wheatley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lis Wheat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atley was a slave to a prominent Boston family.  She was treated like family, educated, and wrote poetry that was pu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never had true freedom and died impover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uoregon.edu/~rbear/wheatley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7514-DAAA-4E4E-ADFE-EC2C7C97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43DC-DCF7-4B64-B91A-28A3DEA6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EE0D-F64C-407B-BC48-0A9CA4AF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4BD7-29AA-4B99-B989-5A6B3D0E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5C27-2D08-45FE-87CB-B0A2761C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7748-20BC-4A2D-A90C-2EE20524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0566-0120-4562-90B9-CEB89047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AC25-EB16-49BA-A1D1-5B91C152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A89F-1E44-447A-ADB5-9E9F6098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239A-F2AA-4C1C-81E6-C9DA175F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51C8-931A-4C99-A4A5-A68545F9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B521-6504-4356-98A7-123D699A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B11C-EC6A-4A7F-B5A6-5C651616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3E52-9D41-4364-9C17-8CAFD28D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06E4-F897-4BD0-900B-2A1582F7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0D8D-79A5-4AC1-B713-07EBE488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68BE-79DA-4555-8DED-1F2CC022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2910-B21D-424C-B6B9-DCA8AD4C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E4A-9817-4BB2-B4E5-F27C702B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F7C5-2811-4C26-A620-3CEAA3FA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D18-4213-4B86-9453-6CC83C20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07AB-9200-4DB0-9330-B6B487DC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E96-370E-467C-BCAE-F0605D3D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6A13-446C-488F-BC40-3732FC36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E322-99C5-4D72-8316-389F49D5935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4B7F-FF9C-4953-B6AD-E01EE442941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209.157.64.200/~mollypitcher/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ventors.about.com/library/inventors/blbanneker.htm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usflag.org/about.betsy.ross.html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unding Fathers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United States Constitu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d Our Country’s Early Histo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amuel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muel was cousin to John Adams and preferred to work “behind the scenes” of the Revolu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signed the Declaration of Independence and was part of the Boston Tea Part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66696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5826240" y="1676520"/>
            <a:ext cx="2214360" cy="41148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Paul Jon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ones was known as the Father of the American Nav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quoted as having said, “I have not yet begun to fight.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Hancoc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ncock was known for his legible signature (shown below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signed the Declaration of Independence first and said something to the effect of, “Let’s see if [King ] George can read that!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55284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672160" y="1676520"/>
            <a:ext cx="2522520" cy="41148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9"/>
          <p:cNvSpPr/>
          <p:nvPr/>
        </p:nvSpPr>
        <p:spPr>
          <a:xfrm>
            <a:off x="24433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838080" y="5505480"/>
            <a:ext cx="4257720" cy="13525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lly Pitcher—Mary Hays McCaul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lly Pitcher went to war with her husband and brought water to the soldiers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n her husband was wounded, she took his spot at the cannon and kept on fight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sident Washington gave her an award for her courag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209.157.64.200/~mollypitcher/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0" name="Picture 6" descr="molly%20pitcher"/>
          <p:cNvPicPr/>
          <p:nvPr/>
        </p:nvPicPr>
        <p:blipFill>
          <a:blip r:embed="rId2"/>
          <a:stretch/>
        </p:blipFill>
        <p:spPr>
          <a:xfrm>
            <a:off x="5029200" y="2343240"/>
            <a:ext cx="3809880" cy="27813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lexander Hamilt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milton was the nation’s first secretary of the treasu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a bold and creative think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is ideas greatly influence our government tod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n as the “Father of Our Country”, he was really the 12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presid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deeply concerned with helping the fledgling republic flouris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6100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5703840" y="1676520"/>
            <a:ext cx="2459160" cy="41148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olley Madi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lley is most noted for saving the painting of George Washington that hung in the White House when the British burned it during the War of 181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7814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5889600" y="1676520"/>
            <a:ext cx="208908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ames Madi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ames is the “Father of the Constitution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received many ideas from those he associated with, but the final written copy was in his wor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designed our system of checks and balan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7184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1682640" y="1676520"/>
            <a:ext cx="2576520" cy="41148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jamin Frankli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anklin was “a jack-of-all-trades and a master of many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the only person who signed four of the most important documents in U.S. hist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73860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1"/>
          <a:stretch/>
        </p:blipFill>
        <p:spPr>
          <a:xfrm>
            <a:off x="2031840" y="1676520"/>
            <a:ext cx="1879920" cy="41148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omas Pain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ine met Benjamin Franklin who advised him to move to the colon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rote political tracts, his most famous being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Common Sens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advocating independen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355284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5389560" y="1676520"/>
            <a:ext cx="3089160" cy="41148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aul Reve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rtrait painted by John Singleton Cople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americanrevolution.org/revere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Picture 6" descr="revere"/>
          <p:cNvPicPr/>
          <p:nvPr/>
        </p:nvPicPr>
        <p:blipFill>
          <a:blip r:embed="rId1"/>
          <a:stretch/>
        </p:blipFill>
        <p:spPr>
          <a:xfrm>
            <a:off x="5292720" y="1676520"/>
            <a:ext cx="328140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borah Samp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mpson fought in the Revolutionary War for over a year disguised as Robert Shurtliff, until she received a serious wound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was discharged with hono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awm.lee.army.mil/Army_Women_Notable/gannett_deborah.ht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4" name="Picture 6" descr="GannettDeborah_Samson"/>
          <p:cNvPicPr/>
          <p:nvPr/>
        </p:nvPicPr>
        <p:blipFill>
          <a:blip r:embed="rId1"/>
          <a:stretch/>
        </p:blipFill>
        <p:spPr>
          <a:xfrm>
            <a:off x="5504040" y="1676520"/>
            <a:ext cx="2858760" cy="41148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jamin Bannek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njamin was an astronomer, mathematician, farmer, and surveyor—and probably the best known black person during his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clock he invented kept almost perfect time for 50 yea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inventors.about.com/library/inventors/blbanneker.htm</a:t>
            </a:r>
            <a:endParaRPr b="0" lang="en-US" sz="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8" name="Picture 6" descr="E:\banneker.jpg"/>
          <p:cNvPicPr/>
          <p:nvPr/>
        </p:nvPicPr>
        <p:blipFill>
          <a:blip r:embed="rId2"/>
          <a:stretch/>
        </p:blipFill>
        <p:spPr>
          <a:xfrm>
            <a:off x="5122800" y="1676520"/>
            <a:ext cx="3622680" cy="41148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tsy Ros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gend has it that she designed the first U.S. fla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story first came about 94 years after it was to have first happen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sy Ross did sew flags and had an upholstery busines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usflag.org/about.betsy.ross.html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2" name="Picture 9" descr="E:\weisgerber.jpg"/>
          <p:cNvPicPr/>
          <p:nvPr/>
        </p:nvPicPr>
        <p:blipFill>
          <a:blip r:embed="rId2"/>
          <a:stretch/>
        </p:blipFill>
        <p:spPr>
          <a:xfrm>
            <a:off x="1066680" y="2467080"/>
            <a:ext cx="3810240" cy="25336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seph Bran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oseph was a Mohawk Indian leader who fought in the British Army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also a Christian missionary among his peopl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a leading member of the League of the Iroquo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http://earlyamerica.com/review/1998/brant.html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Picture 6" descr="E:\chiefb.jpg"/>
          <p:cNvPicPr/>
          <p:nvPr/>
        </p:nvPicPr>
        <p:blipFill>
          <a:blip r:embed="rId1"/>
          <a:stretch/>
        </p:blipFill>
        <p:spPr>
          <a:xfrm>
            <a:off x="5403960" y="1676520"/>
            <a:ext cx="3058920" cy="41148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Nathan Hal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le was the first CIA agent in the United Stat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quoted as saying, “ I only regret that I have but one life to lose for my country.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s picture is a sketch of his execu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211560" y="2160720"/>
            <a:ext cx="272088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211560" y="2160720"/>
            <a:ext cx="272088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288612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0" name="Picture 14" descr=""/>
          <p:cNvPicPr/>
          <p:nvPr/>
        </p:nvPicPr>
        <p:blipFill>
          <a:blip r:embed="rId1"/>
          <a:stretch/>
        </p:blipFill>
        <p:spPr>
          <a:xfrm>
            <a:off x="5029200" y="2049480"/>
            <a:ext cx="3809880" cy="33685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omas Jeffer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efferson wrote the Declaration of Independence.  He was a gifted writ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sent Lewis and Clark out to explore the Louisiana Purchase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the 3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president of the United State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bigail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bigail had little formal schooling but a quick wit and was a colorful writ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r son became the 6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U.S. presid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r letters give us an insight into her thoughts and contemporary attitude of the tim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65760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03240" y="1676520"/>
            <a:ext cx="2683080" cy="472428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dams was often misunderstood—people thought he was cold and rud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and his cousin, Sam were leaders of the Sons of Liber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the first to have his son serve as president als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s political ideas and policies lasted the test of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Rectangle 1030"/>
          <p:cNvSpPr/>
          <p:nvPr/>
        </p:nvSpPr>
        <p:spPr>
          <a:xfrm>
            <a:off x="366228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5" name="Picture 1031" descr=""/>
          <p:cNvPicPr/>
          <p:nvPr/>
        </p:nvPicPr>
        <p:blipFill>
          <a:blip r:embed="rId1"/>
          <a:stretch/>
        </p:blipFill>
        <p:spPr>
          <a:xfrm>
            <a:off x="1716120" y="1676520"/>
            <a:ext cx="2511360" cy="41148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than Alle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len was a patriot and soldier in the Revolutionary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led the Green Mountain Boys in the capture of Fort Ticonderoga—one of the most important battles of the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s statue is in the United States Capito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virtualvermont.com/history/eallen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icture 6" descr="eallenstatue"/>
          <p:cNvPicPr/>
          <p:nvPr/>
        </p:nvPicPr>
        <p:blipFill>
          <a:blip r:embed="rId1"/>
          <a:stretch/>
        </p:blipFill>
        <p:spPr>
          <a:xfrm>
            <a:off x="6183360" y="1676520"/>
            <a:ext cx="150156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edict Arno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nold was one of the most trusted American generals of the Revolutionary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turned traitor because he was passed over for military honors and accused of abusing his power and standing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67200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1671480" y="1676520"/>
            <a:ext cx="260064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hillis Wheatle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atley was a slave to a prominent Boston family.  She was treated like family, educated, and wrote poetry that was publish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he never had true freedom and died impoverish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uoregon.edu/~rbear/wheatley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308124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9" name="Picture 10" descr=""/>
          <p:cNvPicPr/>
          <p:nvPr/>
        </p:nvPicPr>
        <p:blipFill>
          <a:blip r:embed="rId1"/>
          <a:stretch/>
        </p:blipFill>
        <p:spPr>
          <a:xfrm>
            <a:off x="1527120" y="1676520"/>
            <a:ext cx="288756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23:19:30Z</dcterms:created>
  <dc:creator>Melissa Moon</dc:creator>
  <dc:description/>
  <dc:language>en-US</dc:language>
  <cp:lastModifiedBy>Legion</cp:lastModifiedBy>
  <dcterms:modified xsi:type="dcterms:W3CDTF">2017-07-05T10:00:05Z</dcterms:modified>
  <cp:revision>58</cp:revision>
  <dc:subject/>
  <dc:title>Founding Fathers</dc:title>
</cp:coreProperties>
</file>