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DF8D-C987-4C7F-A46B-6D064F3C3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ding Fathers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Of the United States Constit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d Our Country’s Early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ing Fath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United States Co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ur Country’s Early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was cousin to John Adams and preferred to work “behind the scenes” of the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and was part of the Boston Tea Pa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Paul Jo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nes was known as the Father of the American Nav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Paul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was known as the Father of the American N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having said, “I have not yet begun to figh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Hancock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ncock was known for his legible signature (shown below)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anc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cock was known for his legible signature (shown be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igned the Declaration of Independence first and said something to the effect of, “Let’s see if [King ] George can read tha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—Mary Hays McCaul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sident Washington gave her an award for her courag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209.157.64.200/~mollypitcher/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—Mary Hays McCa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y Pitcher went to war with her husband and brought water to the soldi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r husband was wounded, she took his spot at the cannon and kept on f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Washington gave her an award for her cou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9.157.64.200/~mollypitch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exander Hamil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milton was the nation’s first secretary of the treasu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bold and creative thinker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ideas greatly influence our government toda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Hami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milton was the nation’s first secretary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bold and creative think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greatly influence our government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eorge Washingt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the “Father of Our Country”, he was really the 12th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deeply concerned with helping the fledgling republic flour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ley is most noted for saving the painting of George Washington that hung in the White House when the British burned it during the War of 18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Madi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mes is the “Father of the Constitution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designed our system of checks and bala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is the “Father of the Constit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received many ideas from those he associated with, but the final written copy was in his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signed our system of checks and 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Frankli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ranklin was “a jack-of-all-trades and a master of many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was “a jack-of-all-trades and a master of ma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only person who signed four of the most important documents in U.S.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Pa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P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e met Benjamin Franklin who advised him to move to the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rote political tracts, his most famous being Common Sense, advocating in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ul Rev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rtrait painted by John Singleton Cop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mericanrevolution.org/revere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Rev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rait painted by John Singleton Co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nrevolution.org/reve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borah Samp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was discharged with honor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Samp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son fought in the Revolutionary War for over a year disguised as Robert Shurtliff, until she received a serious woun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ischarged with hon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wm.lee.army.mil/Army_Women_Notable/gannett_debora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Bannek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clock he invented kept almost perfect time for 50 ye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inventors.about.com/library/inventors/blbanneker.ht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Banne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jamin was an astronomer, mathematician, farmer, and surveyor—and probably the best known black person during his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ock he invented kept almost perfect time for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inventors.about.com/library/inventors/blbannek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egend has it that she designed the first U.S. fla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tsy Ross did sew flags and had an upholstery busines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sflag.org/about.betsy.ross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end has it that she designed the first U.S. f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first came about 94 years after it was to have first hap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sy Ross did sew flags and had an upholstery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sflag.org/about.betsy.ros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Bra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lso a Christian missionary among his peopl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a leading member of the League of the Iroquoi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earlyamerica.com/review/1998/brant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B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as a Mohawk Indian leader who fought in the British Arm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lso a Christian missionary among hi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a leading member of the League of the Iro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arlyamerica.com/review/1998/bran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athan Ha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ale was the first CIA agent in the United States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picture is a sketch of his execution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han 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e was the first CIA agent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quoted as saying, “ I only regret that I have but one life to lose for my countr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a sketch of his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Jeffers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sent Lewis and Clark out to explore the Louisiana Purchase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3rd president of the United States.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fferson wrote the Declaration of Independence.  He was a gifted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ent Lewis and Clark out to explore the Louisiana Purch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3rd president of the United St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son became the 6th U.S. presiden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gail had little formal schooling but a quick wit and was a colorful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son became the 6th U.S.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letters give us an insight into her thoughts and contemporary attitude of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ohn Adam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and his cousin, Sam were leaders of the Sons of Libert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was the first to have his son serve as president also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is political ideas and policies lasted the test of tim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Ad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s was often misunderstood—people thought he was cold and r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and his cousin, Sam were leaders of the Sons of Lib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 the first to have his son serve as president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political ideas and policies lasted the test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than All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llen was a patriot and soldier in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is statue is in the United States Capitol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virtualvermont.com/history/eallen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 A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n was a patriot and soldier in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led the Green Mountain Boys in the capture of Fort Ticonderoga—one of the most important battles of the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atue is in the United States Capit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irtualvermont.com/history/eall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Benedict Arnol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dict Arn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nold was one of the most trusted American generals of the Revolutionary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urned traitor because he was passed over for military honors and accused of abusing his power and stan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hillis Wheatle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he never had true freedom and died impoverished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ttp://www.uoregon.edu/~rbear/wheatley.htm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s Wheat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atley was a slave to a prominent Boston family.  She was treated like family, educated, and wrote poetry that was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never had true freedom and died impover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uoregon.edu/~rbear/wheatle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663-A2D1-4F3C-8F6C-EB9423C5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16B-02D2-42BF-B442-2B111D47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AF7-E004-4B78-AA3B-6E55C89D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E6E-CD2B-4F38-98DB-2D361AAD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AED9-22A0-45FC-82C1-4F7E93AC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978A-AB9A-4C60-8520-292973EB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E921-C55B-4420-BAD4-E23311EA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2D35-9C92-419C-B10F-4631CBBF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5C51-4141-409A-B23B-17066967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D73C-134A-475D-AB48-41447790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BB87-C979-4081-8EA2-6E798284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E3E-7E29-4ECC-9CCE-B57338C8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DB99-A55D-414A-A727-951B458C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547C-F444-4C21-92B1-7FAA377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BE47-895A-4009-9C4D-ABD90BB1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6531-6E26-42D9-BA35-E6E368A3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C7B6-AD23-4F0D-B9B1-71115363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209-77B9-48C7-93D2-37328945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ACA-3C29-4C8F-9DB5-56C37321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845-4018-4F3D-A92D-9252850D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32F-B2F0-42C8-B78A-9612C87B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04F-799D-4429-9EB5-C2201734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C4B-8732-442D-901C-8F630C36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4182-2D80-49FE-86B9-5B7352FA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4AF6-7B6B-4EEA-8070-765D37DA50E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0A29-DE07-4763-800C-40DDCA27B23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9.157.64.200/~mollypitche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ventors.about.com/library/inventors/blbanneker.htm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usflag.org/about.betsy.ross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ounding Fathers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the United States Constit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Our Country’s Early Histo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mue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uel was cousin to John Adams and preferred to work “behind the scenes” of the Rev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signed the Declaration of Independence and was part of the Boston Tea Pa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66696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826240" y="1676520"/>
            <a:ext cx="2214360" cy="41148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Paul Jon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ones was known as the Father of the American Nav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having said, “I have not yet begun to fight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Hancoc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ncock was known for his legible signature (shown bel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igned the Declaration of Independence first and said something to the effect of, “Let’s see if [King ] George can read that!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55284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672160" y="1676520"/>
            <a:ext cx="2522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9"/>
          <p:cNvSpPr/>
          <p:nvPr/>
        </p:nvSpPr>
        <p:spPr>
          <a:xfrm>
            <a:off x="2443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838080" y="5505480"/>
            <a:ext cx="4257720" cy="135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lly Pitcher—Mary Hays McCaul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ly Pitcher went to war with her husband and brought water to the soldier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her husband was wounded, she took his spot at the cannon and kept on fight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ident Washington gave her an award for her coura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209.157.64.200/~mollypitcher/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Picture 6" descr="molly%20pitcher"/>
          <p:cNvPicPr/>
          <p:nvPr/>
        </p:nvPicPr>
        <p:blipFill>
          <a:blip r:embed="rId2"/>
          <a:stretch/>
        </p:blipFill>
        <p:spPr>
          <a:xfrm>
            <a:off x="5029200" y="2343240"/>
            <a:ext cx="3809880" cy="2781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lexander Hamil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milton was the nation’s first secretary of the treasu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a bold and creative think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is ideas greatly influence our government tod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n as the “Father of Our Country”, he was really the 12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deeply concerned with helping the fledgling republic flouri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610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5703840" y="1676520"/>
            <a:ext cx="2459160" cy="41148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olley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ley is most noted for saving the painting of George Washington that hung in the White House when the British burned it during the War of 181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78144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5889600" y="1676520"/>
            <a:ext cx="20890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ames Madi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ames is the “Father of the Constitution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received many ideas from those he associated with, but the final written copy was in his wor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designed our system of checks and bala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71840" y="16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682640" y="1676520"/>
            <a:ext cx="257652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Frankli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anklin was “a jack-of-all-trades and a master of many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the only person who signed four of the most important documents in U.S. his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73860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2031840" y="1676520"/>
            <a:ext cx="187992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Pain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ine met Benjamin Franklin who advised him to move to the colon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rote political tracts, his most famous being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mmon Sen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dvocating independ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55284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389560" y="1676520"/>
            <a:ext cx="3089160" cy="41148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aul Reve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rtrait painted by John Singleton Cople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vere was a master silversmith, which is why he is holding a silver teapot in the portrait.  It was also a symbol of the Boston Tea Party and the fact that he was a member of the Sons of Libert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mericanrevolution.org/revere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Picture 6" descr="revere"/>
          <p:cNvPicPr/>
          <p:nvPr/>
        </p:nvPicPr>
        <p:blipFill>
          <a:blip r:embed="rId1"/>
          <a:stretch/>
        </p:blipFill>
        <p:spPr>
          <a:xfrm>
            <a:off x="5292720" y="167652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borah Samp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mpson fought in the Revolutionary War for over a year disguised as Robert Shurtliff, until she received a serious wound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was discharged with hono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awm.lee.army.mil/Army_Women_Notable/gannett_deborah.ht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Picture 6" descr="GannettDeborah_Samson"/>
          <p:cNvPicPr/>
          <p:nvPr/>
        </p:nvPicPr>
        <p:blipFill>
          <a:blip r:embed="rId1"/>
          <a:stretch/>
        </p:blipFill>
        <p:spPr>
          <a:xfrm>
            <a:off x="5504040" y="1676520"/>
            <a:ext cx="285876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jamin Bannek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njamin was an astronomer, mathematician, farmer, and surveyor—and probably the best known black person during his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clock he invented kept almost perfect time for 50 ye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inventors.about.com/library/inventors/blbanneker.htm</a:t>
            </a:r>
            <a:endParaRPr b="0" lang="en-US" sz="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8" name="Picture 6" descr="E:\banneker.jpg"/>
          <p:cNvPicPr/>
          <p:nvPr/>
        </p:nvPicPr>
        <p:blipFill>
          <a:blip r:embed="rId2"/>
          <a:stretch/>
        </p:blipFill>
        <p:spPr>
          <a:xfrm>
            <a:off x="5122800" y="16765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tsy Ro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gend has it that she designed the first U.S. fla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tory first came about 94 years after it was to have first happen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sy Ross did sew flags and had an upholstery busines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usflag.org/about.betsy.ross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9" descr="E:\weisgerber.jpg"/>
          <p:cNvPicPr/>
          <p:nvPr/>
        </p:nvPicPr>
        <p:blipFill>
          <a:blip r:embed="rId2"/>
          <a:stretch/>
        </p:blipFill>
        <p:spPr>
          <a:xfrm>
            <a:off x="1066680" y="24670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seph Bra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oseph was a Mohawk Indian leader who fought in the British Army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lso a Christian missionary among his peop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a leading member of the League of the Iroquo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Arial"/>
              </a:rPr>
              <a:t>http://earlyamerica.com/review/1998/brant.html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E:\chiefb.jpg"/>
          <p:cNvPicPr/>
          <p:nvPr/>
        </p:nvPicPr>
        <p:blipFill>
          <a:blip r:embed="rId1"/>
          <a:stretch/>
        </p:blipFill>
        <p:spPr>
          <a:xfrm>
            <a:off x="5403960" y="1676520"/>
            <a:ext cx="3058920" cy="4114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athan Hal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le was the first CIA agent in the United Stat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 was quoted as saying, “ I only regret that I have but one life to lose for my country.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is picture is a sketch of his exec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11560" y="2160720"/>
            <a:ext cx="27208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88612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0" name="Picture 14" descr=""/>
          <p:cNvPicPr/>
          <p:nvPr/>
        </p:nvPicPr>
        <p:blipFill>
          <a:blip r:embed="rId1"/>
          <a:stretch/>
        </p:blipFill>
        <p:spPr>
          <a:xfrm>
            <a:off x="5029200" y="2049480"/>
            <a:ext cx="38098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omas Jeffers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fferson wrote the Declaration of Independence.  He was a gifted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sent Lewis and Clark out to explore the Louisiana Purchas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3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president of the United Stat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657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1709640" y="1676520"/>
            <a:ext cx="25243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bigail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gail had little formal schooling but a quick wit and was a colorful writ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son became the 6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U.S. presid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r letters give us an insight into her thoughts and contemporary attitude of the ti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6576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03240" y="1676520"/>
            <a:ext cx="268308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John Adam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ms was often misunderstood—people thought he was cold and rud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and his cousin, Sam were leaders of the Sons of Lib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was the first to have his son serve as president al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 political ideas and policies lasted the test of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Rectangle 1030"/>
          <p:cNvSpPr/>
          <p:nvPr/>
        </p:nvSpPr>
        <p:spPr>
          <a:xfrm>
            <a:off x="366228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35" name="Picture 1031" descr=""/>
          <p:cNvPicPr/>
          <p:nvPr/>
        </p:nvPicPr>
        <p:blipFill>
          <a:blip r:embed="rId1"/>
          <a:stretch/>
        </p:blipFill>
        <p:spPr>
          <a:xfrm>
            <a:off x="1716120" y="167652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than Alle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en was a patriot and soldier in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led the Green Mountain Boys in the capture of Fort Ticonderoga—one of the most important battles of the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statue is in the United States Capito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virtualvermont.com/history/eallen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6" descr="eallenstatue"/>
          <p:cNvPicPr/>
          <p:nvPr/>
        </p:nvPicPr>
        <p:blipFill>
          <a:blip r:embed="rId1"/>
          <a:stretch/>
        </p:blipFill>
        <p:spPr>
          <a:xfrm>
            <a:off x="6183360" y="1676520"/>
            <a:ext cx="150156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nedict Arnol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nold was one of the most trusted American generals of the Revolutionary W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e turned traitor because he was passed over for military honors and accused of abusing his power and standing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67200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1671480" y="1676520"/>
            <a:ext cx="260064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illis Wheatle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atley was a slave to a prominent Boston family.  She was treated like family, educated, and wrote poetry that was publ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e never had true freedom and died impoverishe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http://www.uoregon.edu/~rbear/wheatley.html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08124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49" name="Picture 10" descr=""/>
          <p:cNvPicPr/>
          <p:nvPr/>
        </p:nvPicPr>
        <p:blipFill>
          <a:blip r:embed="rId1"/>
          <a:stretch/>
        </p:blipFill>
        <p:spPr>
          <a:xfrm>
            <a:off x="1527120" y="1676520"/>
            <a:ext cx="288756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23:19:30Z</dcterms:created>
  <dc:creator>Melissa Moon</dc:creator>
  <dc:description/>
  <dc:language>en-US</dc:language>
  <cp:lastModifiedBy>Legion</cp:lastModifiedBy>
  <dcterms:modified xsi:type="dcterms:W3CDTF">2017-07-05T10:00:05Z</dcterms:modified>
  <cp:revision>58</cp:revision>
  <dc:subject/>
  <dc:title>Founding Fathers</dc:title>
</cp:coreProperties>
</file>