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55DE-C92B-42B2-AB7D-7AD41044C8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and Indian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nd the French are like two edges of a pair of shears, and we are the cloth that is cut to pieces between them.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to an English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Begins and Spre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British out of the valley, they destroy a British trading post (Pickawill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then built forts to protect the region linking their Canadian and Louisiana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ginia Re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d major George Washington to ask the French to le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build a fort close to present day Pittsbu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seize the fort before they were done and name it Fort Duques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 Neces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was on his way to Fort Duquesne when he heard of its surre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, he built a small fort but was attacked and forced to surrender (July 3, 175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lbany Plan of U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fighting was beginning, representatives were trying to get the Iroquois to fight with the colonists (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en Franklin was trying to get the colonists to join together for defensive purpo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ncil that could collect taxes, make treaties, raise an army, and make new sett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ddock’s Def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 9, 1755: Marched on Fort Duquesne with 2 regiments and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ambushed and destroy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0 English men were killed or wou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glish new it would take more to defeat the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itish Take Quebe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Pitt – Sec. of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Philosophy o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t more troops, nations top generals and more money to win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– cliff 300 feet above the St. Lawrence River loaded with cannons and tro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2 months sailed around looking for a way to capture it – eventually found an unguarded path up the cli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ing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night fall 4,000 British snuck up the cliff and wa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prised the French in the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real falls within the 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do you think Battle of Quebec is a turning point  in the w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of Paris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ain received all land east of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in received all land west of the Mississippi and New Orleans for its hel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Britain got Florida from Spain in exchange for Cuba and the Philipp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reaty ended the war as well as French power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 Claims Western 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exploring interior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1600’s – France had claimed the Ohio River Valley, the Mississippi River Valley, and the great lake reg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isiana (La Salle) stretched from the Appalachian Mountains to the Rocky Mount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132 and 1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ntiac’s Rebe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Proclamation of 1763 – forbid colonists to settle west of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/C new they couldn’t protect them against Natives or Fre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nists are not happy about this; feel it is their right to settle the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was kindly don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home to well over a thousand powerpoints submitted by teachers. This a free site. Please visit and I hope it will help in your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Main Sett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bec and Mont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along the St. Lawrence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Orleans – Mississippi R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are these settlements so import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60 – NEW FRANCE had about 80,000 people (England had over 1 mill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Why is their such a difference in popul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nch were mostly fur trappers who traded with the Na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, guns, knives, iron pots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English competed with the French for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Native American groups competed to supply Europeans with f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Alli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The fur trade created economic and military rivalries and alliances between the Native Americans and the Europe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lliances between the Natives and Europeans led to their involvement in the w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onquin and Huron sided with the French while the Iroquois became divi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Conflict in the Ohio River Vall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ds of war planted by when British fur traders moved into the Ohio River Valley in the 1750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land companies were also planning to settle colonists the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C58-7DE2-489E-B3F0-D40103DF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5FB-0656-412C-9306-615BAA42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DC2-C260-4C11-B747-E6D1A62C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E33-0B5A-4B18-A3A5-8077F353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7D7-5D0F-4824-B247-8329FA18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E31-A97B-4085-ACD3-72B603C6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C2F-0F17-4AAD-BC7B-D44F64FF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571-2369-456B-BCB7-F2CAE64F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608-466D-4858-A376-CED5D803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9D0-4D27-4D6B-9CA1-0E9C1A49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C0B-D51E-4A44-866A-A03F029B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A29-CDDF-4C44-BC6D-35722297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117E-E08D-4304-B6CE-98D1A62CC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http://www.lordnelsons.com/gallery/frontier/wright/images/Shawnee.jpg"/>
          <p:cNvPicPr/>
          <p:nvPr/>
        </p:nvPicPr>
        <p:blipFill>
          <a:blip r:embed="rId1"/>
          <a:stretch/>
        </p:blipFill>
        <p:spPr>
          <a:xfrm>
            <a:off x="0" y="4068720"/>
            <a:ext cx="2057400" cy="278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600200" y="220968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nd the French are like two edges of a pair of shears, and we are the cloth that is cut to pieces between them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American to an English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england indian france"/>
          <p:cNvPicPr/>
          <p:nvPr/>
        </p:nvPicPr>
        <p:blipFill>
          <a:blip r:embed="rId2"/>
          <a:stretch/>
        </p:blipFill>
        <p:spPr>
          <a:xfrm>
            <a:off x="5867280" y="3936960"/>
            <a:ext cx="3276720" cy="2921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 Begins and Sp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eep British out of the valley, they destroy a British trading post (Pickawill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then built forts to protect the region linking their Canadian and Louisiana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ginia Re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major George Washington to ask the French to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build a fort close to present day Pitt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seize the fort before they were done and nam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uquesne_diorama"/>
          <p:cNvPicPr/>
          <p:nvPr/>
        </p:nvPicPr>
        <p:blipFill>
          <a:blip r:embed="rId1"/>
          <a:stretch/>
        </p:blipFill>
        <p:spPr>
          <a:xfrm>
            <a:off x="4238640" y="3927600"/>
            <a:ext cx="4905360" cy="2930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457200" y="426708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me the Country belogn’d to them, that no English Man had a right to trade upon them Waters; &amp; that he had Orders to make every Person Prisoner that attempted it on the Ohio or the Waters on it.” – G.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Neces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 was on his way to Fort Duquesne when he heard of its sur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he built a small fort but was attacked and forced to surrender (July 3, 17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858"/>
          <p:cNvPicPr/>
          <p:nvPr/>
        </p:nvPicPr>
        <p:blipFill>
          <a:blip r:embed="rId1"/>
          <a:stretch/>
        </p:blipFill>
        <p:spPr>
          <a:xfrm>
            <a:off x="4314960" y="4667400"/>
            <a:ext cx="4829040" cy="2190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tNecessity"/>
          <p:cNvPicPr/>
          <p:nvPr/>
        </p:nvPicPr>
        <p:blipFill>
          <a:blip r:embed="rId2"/>
          <a:stretch/>
        </p:blipFill>
        <p:spPr>
          <a:xfrm>
            <a:off x="0" y="3581280"/>
            <a:ext cx="4876920" cy="2651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Albany Plan of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the fighting was beginning, representatives were trying to get the Iroquois to fight with the colonists (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en Frankl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 trying to get the colonists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oin together for defensive purp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cil that could collect taxes, make treaties, raise an army, and make new sett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benfranklin300.org/exhibition/_html/5_1/_images/a457.jpg"/>
          <p:cNvPicPr/>
          <p:nvPr/>
        </p:nvPicPr>
        <p:blipFill>
          <a:blip r:embed="rId1"/>
          <a:stretch/>
        </p:blipFill>
        <p:spPr>
          <a:xfrm>
            <a:off x="990720" y="4343400"/>
            <a:ext cx="312408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http://www.ben1776.com/images/Ben_ok2_sharp.jpg"/>
          <p:cNvPicPr/>
          <p:nvPr/>
        </p:nvPicPr>
        <p:blipFill>
          <a:blip r:embed="rId2"/>
          <a:stretch/>
        </p:blipFill>
        <p:spPr>
          <a:xfrm>
            <a:off x="6726240" y="4114800"/>
            <a:ext cx="2417760" cy="27432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ddock’s Defe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9, 1755: Marched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t Duques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2 regiments and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ambush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 English men were killed or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glish new it would take more to defeat the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age, Source: digital file from b&amp;w film copy neg."/>
          <p:cNvPicPr/>
          <p:nvPr/>
        </p:nvPicPr>
        <p:blipFill>
          <a:blip r:embed="rId1"/>
          <a:stretch/>
        </p:blipFill>
        <p:spPr>
          <a:xfrm>
            <a:off x="5486400" y="4132440"/>
            <a:ext cx="3657600" cy="272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uquesne_diorama"/>
          <p:cNvPicPr/>
          <p:nvPr/>
        </p:nvPicPr>
        <p:blipFill>
          <a:blip r:embed="rId2"/>
          <a:stretch/>
        </p:blipFill>
        <p:spPr>
          <a:xfrm>
            <a:off x="0" y="4719600"/>
            <a:ext cx="3581280" cy="21384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Take Queb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Pitt – Sec.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hilosophy on th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 more troops, nations top generals and more money to win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WilliamPittLg"/>
          <p:cNvPicPr/>
          <p:nvPr/>
        </p:nvPicPr>
        <p:blipFill>
          <a:blip r:embed="rId1"/>
          <a:stretch/>
        </p:blipFill>
        <p:spPr>
          <a:xfrm>
            <a:off x="0" y="3352680"/>
            <a:ext cx="267336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– cliff 300 feet above the St. Lawrence River loaded with cannons and tr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 months sailed around looking for a way to capture it – eventually found an unguarded path up the cl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600Map"/>
          <p:cNvPicPr/>
          <p:nvPr/>
        </p:nvPicPr>
        <p:blipFill>
          <a:blip r:embed="rId1"/>
          <a:stretch/>
        </p:blipFill>
        <p:spPr>
          <a:xfrm>
            <a:off x="5181480" y="3768840"/>
            <a:ext cx="3962520" cy="30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ower+156"/>
          <p:cNvPicPr/>
          <p:nvPr/>
        </p:nvPicPr>
        <p:blipFill>
          <a:blip r:embed="rId2"/>
          <a:stretch/>
        </p:blipFill>
        <p:spPr>
          <a:xfrm>
            <a:off x="0" y="3862440"/>
            <a:ext cx="4495680" cy="2995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ring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fall 4,000 British snuck up the cliff and wa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prised the French in the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falls within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do you think Battle of Quebec is a turning point  in the w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post-1374-1184537522"/>
          <p:cNvPicPr/>
          <p:nvPr/>
        </p:nvPicPr>
        <p:blipFill>
          <a:blip r:embed="rId1"/>
          <a:stretch/>
        </p:blipFill>
        <p:spPr>
          <a:xfrm>
            <a:off x="4419720" y="3959280"/>
            <a:ext cx="4724280" cy="289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c000355k"/>
          <p:cNvPicPr/>
          <p:nvPr/>
        </p:nvPicPr>
        <p:blipFill>
          <a:blip r:embed="rId1"/>
          <a:stretch/>
        </p:blipFill>
        <p:spPr>
          <a:xfrm>
            <a:off x="838080" y="733320"/>
            <a:ext cx="7620120" cy="52866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aty of Pari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ri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east of the Mississi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 west of the Mississipp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ew Orleans for its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Britain got Florida from Spain in exchange for Cuba and the Philipp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reat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ded the w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nch p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5562720" y="3797280"/>
            <a:ext cx="3581280" cy="3060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ce Claims Western 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exploring interior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600’s – France had claimed the Ohio River Valley, the Mississippi River Valley, and the great lak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isiana (La Salle) stretched from the Appalachian Mountains to the Rocky Mounta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E 132 and 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iac’s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Proclamation of 1763 – forbid colonists to settle west of Appalachian 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/C new they couldn’t protect them against Natives or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sts are not happy about this; feel it is their right to settle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map-british-north-america1775"/>
          <p:cNvPicPr/>
          <p:nvPr/>
        </p:nvPicPr>
        <p:blipFill>
          <a:blip r:embed="rId1"/>
          <a:stretch/>
        </p:blipFill>
        <p:spPr>
          <a:xfrm>
            <a:off x="5638680" y="3276720"/>
            <a:ext cx="3505320" cy="35812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2"/>
          <p:cNvSpPr/>
          <p:nvPr/>
        </p:nvSpPr>
        <p:spPr>
          <a:xfrm>
            <a:off x="1981080" y="1981080"/>
            <a:ext cx="56390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This powerpoint was kindly dona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www.worldofteach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eorgia"/>
              </a:rPr>
              <a:t>Is home to well over a thousand powerpoints submitted by teachers. This a free site. Please visit and I hope it will help in your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600Map"/>
          <p:cNvPicPr/>
          <p:nvPr/>
        </p:nvPicPr>
        <p:blipFill>
          <a:blip r:embed="rId1"/>
          <a:stretch/>
        </p:blipFill>
        <p:spPr>
          <a:xfrm>
            <a:off x="9907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Main Sett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ec and Mont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along the St. Lawrenc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rleans – Mississippi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are these settlements so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60 – NEW FRANCE had about 80,000 people (England had over 1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hy is their such a difference in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nch were mostly fur trappers who traded with the Nativ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s, guns, knives, iron pot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icture"/>
          <p:cNvPicPr/>
          <p:nvPr/>
        </p:nvPicPr>
        <p:blipFill>
          <a:blip r:embed="rId1"/>
          <a:stretch/>
        </p:blipFill>
        <p:spPr>
          <a:xfrm>
            <a:off x="0" y="2514600"/>
            <a:ext cx="4724280" cy="4343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al_mhc_mhm_birchbark_canoe_sm_93335_7"/>
          <p:cNvPicPr/>
          <p:nvPr/>
        </p:nvPicPr>
        <p:blipFill>
          <a:blip r:embed="rId2"/>
          <a:stretch/>
        </p:blipFill>
        <p:spPr>
          <a:xfrm>
            <a:off x="4876920" y="2438280"/>
            <a:ext cx="4267080" cy="4419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English competed with the French for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Native American groups competed to supply Europeans with f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marquette"/>
          <p:cNvPicPr/>
          <p:nvPr/>
        </p:nvPicPr>
        <p:blipFill>
          <a:blip r:embed="rId1"/>
          <a:stretch/>
        </p:blipFill>
        <p:spPr>
          <a:xfrm>
            <a:off x="1371600" y="3352680"/>
            <a:ext cx="6477120" cy="33037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ve American Alli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r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 and military rivalries and all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he Native Americans and the Europe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lliances between the Natives and Europeans led to their involvement in the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nquin and Huron sided with the French while the Iroquois became di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Conflict in the Ohio River Val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ds of war planted by when British fur traders moved into the Ohio River Valley in the 175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land companies were also planning to settle colonists t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6da20ecd-5b25-47ae-8a51-7030ade4b170"/>
          <p:cNvPicPr/>
          <p:nvPr/>
        </p:nvPicPr>
        <p:blipFill>
          <a:blip r:embed="rId1"/>
          <a:stretch/>
        </p:blipFill>
        <p:spPr>
          <a:xfrm>
            <a:off x="0" y="3362400"/>
            <a:ext cx="3809880" cy="3495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1600Map"/>
          <p:cNvPicPr/>
          <p:nvPr/>
        </p:nvPicPr>
        <p:blipFill>
          <a:blip r:embed="rId2"/>
          <a:stretch/>
        </p:blipFill>
        <p:spPr>
          <a:xfrm>
            <a:off x="4648320" y="3352680"/>
            <a:ext cx="4495680" cy="35053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3:50:12Z</dcterms:created>
  <dc:creator>M. Dexheimer</dc:creator>
  <dc:description/>
  <dc:language>en-US</dc:language>
  <cp:lastModifiedBy>Legion</cp:lastModifiedBy>
  <dcterms:modified xsi:type="dcterms:W3CDTF">2017-07-05T10:04:44Z</dcterms:modified>
  <cp:revision>22</cp:revision>
  <dc:subject/>
  <dc:title>The French and Indian War</dc:title>
</cp:coreProperties>
</file>