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1FDF-09D7-4786-A594-F6623858A1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was kindly donat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home to well over a thousand powerpoints submitted by teachers. This a free site. Please visit and I hope it will help in your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was kindly don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home to well over a thousand powerpoints submitted by teachers. This a free site. Please visit and I hope it will help in your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16C-1274-4769-ADEF-B1FCA6A3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49D-2E8E-4C94-A9FA-30E243A8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9164-2E51-4D0A-9298-492F68FA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0F3A-C6D6-4588-BFF6-1568FF82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D18-DA4A-442E-92DD-AF098113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BEA-6E72-4278-A92C-973275EB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8AA4-C475-4294-84C0-A30AFFB8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079F-B7E4-456F-9F40-95C8F88D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42E3-4D64-42C3-9596-D0C3C552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281-5D38-4072-B068-6E08996B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C583-62E6-4BA5-8E1F-8C77A768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23D-BCAA-474B-8464-7BC7B549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96BD-AD4B-4800-BB0D-DA55749BB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1981080" y="1981080"/>
            <a:ext cx="56390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is powerpoint was kindly dona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Is home to well over a thousand powerpoints submitted by teachers. This a free site. Please visit and I hope it will help in your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Legion</cp:lastModifiedBy>
  <dcterms:modified xsi:type="dcterms:W3CDTF">2017-07-05T10:04:44Z</dcterms:modified>
  <cp:revision>22</cp:revision>
  <dc:subject/>
  <dc:title>The French and Indian War</dc:title>
</cp:coreProperties>
</file>