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70CC-87C6-489F-BE1F-0E7705E63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32-179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32-17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QU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n war, first in peace, first in the hearts of his countrymen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MOUS QU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 in war, first in peace, first in the hearts of his countrymen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elcivic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s for watching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lcivics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was the first president of the United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erved two terms from 1789-17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is called the Father of Our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was the first president of the United Stat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served two terms from 1789-179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is called the Father of Our Count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ARY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ted States fought England in the Revolutionary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volutionary war was from 1775-178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OLUTIONARY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United States fought England in the Revolutionary Wa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volutionary war was from 1775-178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AN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monument of Washington on a ho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U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monument of Washington on a hor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HA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ld postage stamp has a picture of Martha Washington o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and George got married in 175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THA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old postage stamp has a picture of Martha Washington on i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 and George got married in 175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VER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and his wife Martha are buri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VERN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and his wife Martha are buried he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RUSH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Rushmore is in South Dako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RUSH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Rushmore is in South Dakot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INGTON MON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shington Monument is in Washington, D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tallest structure in the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rists can ride elevators to the t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SHINGTON MONU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ashington Monument is in Washington, D.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tallest structure in the c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urists can ride elevators to the top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C2E2-AFE2-44F9-A333-2D46A904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82B2-52F4-45EC-881C-A2CCCB44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C166-665C-4D0D-962D-C3AE91E8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7457-1AD7-45B0-88FE-4B2B05F8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5AE5-C301-4792-B9D5-5EEF2F9B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A72F-671F-4797-B394-1677C53B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F1EE-7472-416C-958D-D89ED216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F522-979B-4B90-923C-F0BB85F8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9D04-6D57-4159-9623-29321E44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AE83-9680-4ACC-8DCE-A7A20CF6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62D5-36D1-4B0A-86C1-0B4BE608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7782-2D16-40E2-9B2E-7CDE14F7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03DD-16FA-44C9-B006-9BA6CF6D2D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9684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32-17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MCj03979210000[1]"/>
          <p:cNvPicPr/>
          <p:nvPr/>
        </p:nvPicPr>
        <p:blipFill>
          <a:blip r:embed="rId1"/>
          <a:stretch/>
        </p:blipFill>
        <p:spPr>
          <a:xfrm>
            <a:off x="816120" y="655560"/>
            <a:ext cx="1622160" cy="193536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AMOUS QUOT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990720" y="29242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rst in war, first in peace, first in the hearts of his countrymen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715000" y="518148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anks for watching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ttp://www.elcivic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was the first president of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erved two terms from 1789-179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called the Father of Our Count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2" descr="george_washington_bust_el_civics_history_government"/>
          <p:cNvPicPr/>
          <p:nvPr/>
        </p:nvPicPr>
        <p:blipFill>
          <a:blip r:embed="rId1"/>
          <a:stretch/>
        </p:blipFill>
        <p:spPr>
          <a:xfrm>
            <a:off x="612720" y="1600200"/>
            <a:ext cx="342576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OLUTIONARY WA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Picture 7" descr="washington_taking control_american_army_july_1775_new"/>
          <p:cNvPicPr/>
          <p:nvPr/>
        </p:nvPicPr>
        <p:blipFill>
          <a:blip r:embed="rId1"/>
          <a:stretch/>
        </p:blipFill>
        <p:spPr>
          <a:xfrm>
            <a:off x="762120" y="1584360"/>
            <a:ext cx="3427200" cy="24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nited States fought England in the Revolutionary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volutionary war was from 1775-178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1" descr="washington_crossing_delaware"/>
          <p:cNvPicPr/>
          <p:nvPr/>
        </p:nvPicPr>
        <p:blipFill>
          <a:blip r:embed="rId2"/>
          <a:stretch/>
        </p:blipFill>
        <p:spPr>
          <a:xfrm>
            <a:off x="762120" y="4267080"/>
            <a:ext cx="3427200" cy="201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MMAND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2" name="Picture 8" descr="washington_revolutionary_war"/>
          <p:cNvPicPr/>
          <p:nvPr/>
        </p:nvPicPr>
        <p:blipFill>
          <a:blip r:embed="rId1"/>
          <a:stretch/>
        </p:blipFill>
        <p:spPr>
          <a:xfrm>
            <a:off x="762120" y="1676520"/>
            <a:ext cx="3427200" cy="420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NU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monument of Washington on a ho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7" descr="george_washington_horseback_citizenship"/>
          <p:cNvPicPr/>
          <p:nvPr/>
        </p:nvPicPr>
        <p:blipFill>
          <a:blip r:embed="rId1"/>
          <a:stretch/>
        </p:blipFill>
        <p:spPr>
          <a:xfrm>
            <a:off x="838080" y="1646280"/>
            <a:ext cx="3427560" cy="475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THA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0" name="Picture 6" descr="martha_washington_stamp"/>
          <p:cNvPicPr/>
          <p:nvPr/>
        </p:nvPicPr>
        <p:blipFill>
          <a:blip r:embed="rId1"/>
          <a:stretch/>
        </p:blipFill>
        <p:spPr>
          <a:xfrm>
            <a:off x="838080" y="1938240"/>
            <a:ext cx="3427560" cy="40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old postage stamp has a picture of Martha Washington on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and George got married in 175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UNT VERN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Picture 7" descr="shed_mount_vernon"/>
          <p:cNvPicPr/>
          <p:nvPr/>
        </p:nvPicPr>
        <p:blipFill>
          <a:blip r:embed="rId1"/>
          <a:stretch/>
        </p:blipFill>
        <p:spPr>
          <a:xfrm>
            <a:off x="839880" y="4114800"/>
            <a:ext cx="3427200" cy="22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and his wife Martha are buried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11" descr="mount_vernon_estate"/>
          <p:cNvPicPr/>
          <p:nvPr/>
        </p:nvPicPr>
        <p:blipFill>
          <a:blip r:embed="rId2"/>
          <a:stretch/>
        </p:blipFill>
        <p:spPr>
          <a:xfrm>
            <a:off x="838080" y="1600200"/>
            <a:ext cx="3427560" cy="22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UNT RUSHMO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 Rushmore is in South Dako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7" descr="mount_rushmore_george_washington"/>
          <p:cNvPicPr/>
          <p:nvPr/>
        </p:nvPicPr>
        <p:blipFill>
          <a:blip r:embed="rId1"/>
          <a:stretch/>
        </p:blipFill>
        <p:spPr>
          <a:xfrm>
            <a:off x="639720" y="1646280"/>
            <a:ext cx="339876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ASHINGTON MONU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ashington Monument is in Washington, D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tallest structure in the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urists can ride elevators to the to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washington_monument"/>
          <p:cNvPicPr/>
          <p:nvPr/>
        </p:nvPicPr>
        <p:blipFill>
          <a:blip r:embed="rId1"/>
          <a:stretch/>
        </p:blipFill>
        <p:spPr>
          <a:xfrm>
            <a:off x="685800" y="1600200"/>
            <a:ext cx="3427560" cy="456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03:09:10Z</dcterms:created>
  <dc:creator>christina niven</dc:creator>
  <dc:description/>
  <dc:language>en-US</dc:language>
  <cp:lastModifiedBy>Legion</cp:lastModifiedBy>
  <dcterms:modified xsi:type="dcterms:W3CDTF">2017-07-05T10:39:57Z</dcterms:modified>
  <cp:revision>36</cp:revision>
  <dc:subject/>
  <dc:title>George Washington</dc:title>
</cp:coreProperties>
</file>