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4471-981C-4B39-BCAC-998256E14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32-17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32-17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n war, first in peace, first in the hearts of his countryme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OUS QU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in war, first in peace, first in the hearts of his countrymen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lcivic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s for watc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lcivics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was the first president of the United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erved two terms from 1789-17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s called the Father of Our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was the first president of the United Stat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served two terms from 1789-179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is called the Father of Our Coun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ARY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ted States fought England in the Revolutionary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olutionary war was from 1775-17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OLUTIONARY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United States fought England in the Revolutionary Wa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volutionary war was from 1775-178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monument of Washington on a ho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monument of Washington on a ho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HA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ld postage stamp has a picture of Martha Washington o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nd George got married in 17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THA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old postage stamp has a picture of Martha Washington on i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 and George got married in 175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VER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and his wife Martha are buri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VER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and his wife Martha are buried he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RUSH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Rushmore is in South Dako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RUSH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Rushmore is in South Dakot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INGTON MON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shington Monument is in Washington, D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tallest structure in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rists can ride elevators to the t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SHINGTON MON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ashington Monument is in Washington, D.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tallest structure in the c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urists can ride elevators to the to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6193-6DD3-4F55-B4E0-9637ED98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7E21-0172-44E1-AE90-CC7CFBCC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293-480B-4DD3-A9E6-70230096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CD12-C77C-4124-BECC-516E876D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5B9-5A20-4207-B0C3-A0A5A8BB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746-9AFB-43C1-BA7A-1578F54F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6C34-0648-4718-B9E0-05A2E7BD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9CE4-FBE3-44B6-8663-B2688513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D28D-C1FB-47E0-B04A-C30A9194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402-4DC1-40D3-A5DB-017C31B0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A817-7C9E-4937-AF15-C06DD5EA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FA4-9860-4FC7-89DF-607276FC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C715-BB27-4843-92C5-EF7334B3A0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9684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32-17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MCj03979210000[1]"/>
          <p:cNvPicPr/>
          <p:nvPr/>
        </p:nvPicPr>
        <p:blipFill>
          <a:blip r:embed="rId1"/>
          <a:stretch/>
        </p:blipFill>
        <p:spPr>
          <a:xfrm>
            <a:off x="816120" y="655560"/>
            <a:ext cx="1622160" cy="1935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AMOUS QUO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90720" y="29242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st in war, first in peace, first in the hearts of his countrymen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715000" y="518148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anks for watching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ttp://www.elcivic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was the first president of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erved two terms from 1789-17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called the Father of Our Count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2" descr="george_washington_bust_el_civics_history_government"/>
          <p:cNvPicPr/>
          <p:nvPr/>
        </p:nvPicPr>
        <p:blipFill>
          <a:blip r:embed="rId1"/>
          <a:stretch/>
        </p:blipFill>
        <p:spPr>
          <a:xfrm>
            <a:off x="612720" y="1600200"/>
            <a:ext cx="342576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OLUTIONARY WA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7" descr="washington_taking control_american_army_july_1775_new"/>
          <p:cNvPicPr/>
          <p:nvPr/>
        </p:nvPicPr>
        <p:blipFill>
          <a:blip r:embed="rId1"/>
          <a:stretch/>
        </p:blipFill>
        <p:spPr>
          <a:xfrm>
            <a:off x="762120" y="1584360"/>
            <a:ext cx="342720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ited States fought England in the Revolutionary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volutionary war was from 1775-178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1" descr="washington_crossing_delaware"/>
          <p:cNvPicPr/>
          <p:nvPr/>
        </p:nvPicPr>
        <p:blipFill>
          <a:blip r:embed="rId2"/>
          <a:stretch/>
        </p:blipFill>
        <p:spPr>
          <a:xfrm>
            <a:off x="762120" y="4267080"/>
            <a:ext cx="3427200" cy="20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MMAND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2" name="Picture 8" descr="washington_revolutionary_war"/>
          <p:cNvPicPr/>
          <p:nvPr/>
        </p:nvPicPr>
        <p:blipFill>
          <a:blip r:embed="rId1"/>
          <a:stretch/>
        </p:blipFill>
        <p:spPr>
          <a:xfrm>
            <a:off x="762120" y="1676520"/>
            <a:ext cx="3427200" cy="420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NU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monument of Washington on a ho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george_washington_horseback_citizenship"/>
          <p:cNvPicPr/>
          <p:nvPr/>
        </p:nvPicPr>
        <p:blipFill>
          <a:blip r:embed="rId1"/>
          <a:stretch/>
        </p:blipFill>
        <p:spPr>
          <a:xfrm>
            <a:off x="838080" y="1646280"/>
            <a:ext cx="3427560" cy="475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THA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0" name="Picture 6" descr="martha_washington_stamp"/>
          <p:cNvPicPr/>
          <p:nvPr/>
        </p:nvPicPr>
        <p:blipFill>
          <a:blip r:embed="rId1"/>
          <a:stretch/>
        </p:blipFill>
        <p:spPr>
          <a:xfrm>
            <a:off x="838080" y="1938240"/>
            <a:ext cx="3427560" cy="40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old postage stamp has a picture of Martha Washington o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and George got married in 175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UNT VERN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Picture 7" descr="shed_mount_vernon"/>
          <p:cNvPicPr/>
          <p:nvPr/>
        </p:nvPicPr>
        <p:blipFill>
          <a:blip r:embed="rId1"/>
          <a:stretch/>
        </p:blipFill>
        <p:spPr>
          <a:xfrm>
            <a:off x="839880" y="4114800"/>
            <a:ext cx="342720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and his wife Martha are buried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1" descr="mount_vernon_estate"/>
          <p:cNvPicPr/>
          <p:nvPr/>
        </p:nvPicPr>
        <p:blipFill>
          <a:blip r:embed="rId2"/>
          <a:stretch/>
        </p:blipFill>
        <p:spPr>
          <a:xfrm>
            <a:off x="838080" y="1600200"/>
            <a:ext cx="342756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UNT RUSHMO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 Rushmore is in South Dako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mount_rushmore_george_washington"/>
          <p:cNvPicPr/>
          <p:nvPr/>
        </p:nvPicPr>
        <p:blipFill>
          <a:blip r:embed="rId1"/>
          <a:stretch/>
        </p:blipFill>
        <p:spPr>
          <a:xfrm>
            <a:off x="639720" y="1646280"/>
            <a:ext cx="339876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ASHINGTON MONU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ashington Monument is in Washington, D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allest structure in the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urists can ride elevators to the to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washington_monument"/>
          <p:cNvPicPr/>
          <p:nvPr/>
        </p:nvPicPr>
        <p:blipFill>
          <a:blip r:embed="rId1"/>
          <a:stretch/>
        </p:blipFill>
        <p:spPr>
          <a:xfrm>
            <a:off x="685800" y="1600200"/>
            <a:ext cx="3427560" cy="456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3:09:10Z</dcterms:created>
  <dc:creator>christina niven</dc:creator>
  <dc:description/>
  <dc:language>en-US</dc:language>
  <cp:lastModifiedBy>Legion</cp:lastModifiedBy>
  <dcterms:modified xsi:type="dcterms:W3CDTF">2017-07-05T10:39:57Z</dcterms:modified>
  <cp:revision>36</cp:revision>
  <dc:subject/>
  <dc:title>George Washington</dc:title>
</cp:coreProperties>
</file>