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A3B6-A0DC-41B6-B4D1-A7B26C383E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n History – Henrichs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dustrial Revol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merican History – Henrichs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sapplication of Darwin’s theories on evolution to areas of society such as money and inherited wealth and la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ually referred specifically to those of a different ethnic and/or religious backgroun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 to Social Darwi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good works to the people of the US based on reli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e Addams – Hull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Gosp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action to Social Darwinis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ovides good works to the people of the US based on relig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cludes ideas such as settlement houses, aid to single mothers, immigrant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Jane Addams – Hull Hous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embly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educate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job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ngin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ea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a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aso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thing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ood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ssembly Lin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neducate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jobs availabl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ss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ed rail c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wr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dak cam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v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le and Electric street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tain 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llette Raz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h Regi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inventions has most affected our lives tod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nvent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efrigerated rail ca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ypewri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Kodak camer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levat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ble and Electric streetca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Fountain P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Gillette Raz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ash Regist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acuum Cleane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ich of these inventions has most affected our lives toda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hat do you think you could invent that would affect future society?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source of lab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and easy to fit inside the machin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troyed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hild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 new source of labor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mall and easy to fit inside the machine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stroyed the bod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ong hou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-immigrant ideas used to support many of the anti-union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bor Union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got together to encourage safety, better pay, as well as continued jobs when the government and society were pro-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Laws were created to specifically ban unions as they were seen as anti-business and possibly communi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nti-immigrant ideas used to support many of the anti-union law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Wo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 to vo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ill not t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in fac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 is always less then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e ties to the garment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Infl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men Worker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Right to vote 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till not ther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orkers in factor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ay is always less then me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referred for some jobs as they were smaller and easier to fit in the small spa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Definite ties to the garment industry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Educ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Social Influenc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al Machines – Boss Tw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u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ties to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een as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N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Political Machines – Boss Tweed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rrup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lose ties to busines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seen as a proble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omas Nas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unified group as many seem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Immigra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Not a unified group as many seem today.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any divisions and hatred especially to those who were from either the poorer and/or Catholic areas of Europe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There were specific rules against immigration from Asia based on racism and cultural differenc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A move to send Black Americans back to Africa was led by Marcus Garvey and eventually started the country of Liberia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pol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Ste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onopolies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Vertic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every aspect of a single product from production to the final sales and distribu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Oi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US Stee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Horizontal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Control a single level of a product ie all distribution, sales or production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Microsoft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 Narrow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52A-B840-4CC0-866D-2840B494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E2A-B7A0-4430-963A-AE2EC861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5864-B747-443D-BF09-8A815264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2AA-154C-4166-A550-80B12612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16FA-DE22-4BD0-8CB0-ACA85ECF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84F6-3053-4D92-9BF6-7CBD88CE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AA60-E730-4C11-B36A-61DA4A8D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4EE3-844B-4243-BC5F-3DC3423A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E7D7-9C5E-446A-8CD3-FF33BB12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9177-E3CF-4A7F-A23E-42D24EE5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0570-402F-4255-9CC9-800F01AE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D2F-A624-4141-89B5-4EA51389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7794-9A64-4B4A-8A8F-C9E69F68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6F8F-9092-4EB5-94D3-51780E3A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8DD2-C72C-45F4-A5B7-9B35462F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7616-4178-4FFD-B70D-03A6D855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797C-6365-4C58-A0D1-2A2F0F7F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F36-670D-42F7-8060-E4B9EA21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94B-ED52-4052-BAF9-3775F958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85D-F3D8-426B-993C-C16EF7E4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592-CEDB-47B5-B83E-93F51F3B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EE7-EE48-44F6-86E4-83C5C1EB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8DCC-AFA2-46C7-8F1E-26C74968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CAC-A968-4B52-8BC5-D488BBBC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E2D4-5B0A-4B2F-93FF-9B9F369893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8AD6-49D4-4AD0-945E-8C409CBA4F0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 History – Henrichse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Darwinis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application of Darwin’s theories on evolution to areas of society such as money and inherited wealth and 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referred specifically to those of a different ethnic and/or religious backgrou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cial Gosp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ction to Social Darwin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vides good works to the people of the US based on relig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ludes ideas such as settlement houses, aid to single mothers,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ne Addams – Hull Hou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chine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g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solin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oth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embly 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 lab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ny jobs avail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ss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nven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frigerated rail ca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ewri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dak camer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lev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ble and Electric streetca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untain P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illette Raz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sh Regist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cuum Clea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ich of these inventions has most affected our lives toda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o you think you could invent that would affect future society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ild Lab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new source of lab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mall and easy to fit inside the machine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troyed the b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got together to encourage safety, better pay, as well as continued jobs when the government and society were pro-busine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ws were created to specifically ban unions as they were seen as anti-business and possibly communi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ti-immigrant ideas used to support many of the anti-union la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omen Worke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ght to vo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not t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rkers in factor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y is always less then m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erred for some jobs as they were smaller and easier to fit in the small spa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finite ties to the garment industr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Influ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tic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tical Machines – Boss Twe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rrup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ose ties to busi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seen as a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omas Nas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a unified group as many seem toda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divisions and hatred especially to those who were from either the poorer and/or Catholic areas of Eur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re were specific rules against immigration from Asia based on racism and cultural differenc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ve to send Black Americans back to Africa was led by Marcus Garvey and eventually started the country of Libe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nopoli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ertic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every aspect of a single product from production to the final sales and distrib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Oi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 Ste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rol a single level of a product ie all distribution, sales or produc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icrosof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5053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1:41:18Z</dcterms:created>
  <dc:creator>Cody Henrichsen</dc:creator>
  <dc:description/>
  <dc:language>en-US</dc:language>
  <cp:lastModifiedBy>Legion</cp:lastModifiedBy>
  <dcterms:modified xsi:type="dcterms:W3CDTF">2017-07-05T10:53:08Z</dcterms:modified>
  <cp:revision>22</cp:revision>
  <dc:subject/>
  <dc:title>Industrial Revolution</dc:title>
</cp:coreProperties>
</file>