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DF27-DC10-4476-95F8-5BFF9F81A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30B-44DF-4A80-A487-C0D4638C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9A3-84EA-417A-9824-B463364C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D79-B22D-48A0-8085-560FF2BE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DA4-A8F2-4FFC-BD2A-006D6D74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DC66-3182-4C24-A986-573EE5A4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653A-E89A-4B09-9679-47B3B7FC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DCF0-37DD-40F3-9739-FAEB6AD4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2B00-40BE-42E3-B4AD-16F1C76F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701D-BADB-4B7D-8E21-13C41B63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6BAB-FA4C-461E-8BDE-E5045EC6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3BA7-826F-4F0E-BDCF-8B50C95A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001-49A0-43DA-AA75-4FFFABB0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2A5-0B42-425B-9D9C-2C222CF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7096-A1BE-48FD-B9A1-727530C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EC37-8A49-4E62-AFA2-17561FBD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3BC0-D676-4317-8E73-9C4C6438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0120-4052-440B-B4D6-74AE8C80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5C7-076D-48C1-A669-8FE88CA0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2CC-0CF0-4C69-8A88-DDC08634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8B8-E2DA-4482-9C69-0DAEB9AB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A7C-AE6B-4A6E-8518-6FD2258A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0FD-74C7-408B-9F67-621DB406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E74-C01C-46E1-A5A1-ACDBDF67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A78-4E20-4F18-AA03-125480E1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7AF9-C6B6-4578-B7B1-9844C03A378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DC72-4E24-484B-8CBE-5BF993E45420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ndustry and I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stanton012s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le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r818a"/>
          <p:cNvPicPr/>
          <p:nvPr/>
        </p:nvPicPr>
        <p:blipFill>
          <a:blip r:embed="rId1"/>
          <a:stretch/>
        </p:blipFill>
        <p:spPr>
          <a:xfrm>
            <a:off x="4267080" y="182880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hn Deere and the p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john_deere_plow_3"/>
          <p:cNvPicPr/>
          <p:nvPr/>
        </p:nvPicPr>
        <p:blipFill>
          <a:blip r:embed="rId1"/>
          <a:stretch/>
        </p:blipFill>
        <p:spPr>
          <a:xfrm>
            <a:off x="4572000" y="2606760"/>
            <a:ext cx="4267080" cy="320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McCormick and the re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reaper"/>
          <p:cNvPicPr/>
          <p:nvPr/>
        </p:nvPicPr>
        <p:blipFill>
          <a:blip r:embed="rId1"/>
          <a:stretch/>
        </p:blipFill>
        <p:spPr>
          <a:xfrm>
            <a:off x="4495680" y="19051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6820_jpg"/>
          <p:cNvPicPr/>
          <p:nvPr/>
        </p:nvPicPr>
        <p:blipFill>
          <a:blip r:embed="rId2"/>
          <a:stretch/>
        </p:blipFill>
        <p:spPr>
          <a:xfrm>
            <a:off x="5316480" y="4041720"/>
            <a:ext cx="282276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hreshing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2 threshing machine"/>
          <p:cNvPicPr/>
          <p:nvPr/>
        </p:nvPicPr>
        <p:blipFill>
          <a:blip r:embed="rId1"/>
          <a:stretch/>
        </p:blipFill>
        <p:spPr>
          <a:xfrm>
            <a:off x="3809880" y="1828800"/>
            <a:ext cx="4343400" cy="225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50px-Koeh-274"/>
          <p:cNvPicPr/>
          <p:nvPr/>
        </p:nvPicPr>
        <p:blipFill>
          <a:blip r:embed="rId2"/>
          <a:stretch/>
        </p:blipFill>
        <p:spPr>
          <a:xfrm>
            <a:off x="5562720" y="4038480"/>
            <a:ext cx="23097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Technologies help nation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otton_gin"/>
          <p:cNvPicPr/>
          <p:nvPr/>
        </p:nvPicPr>
        <p:blipFill>
          <a:blip r:embed="rId1"/>
          <a:stretch/>
        </p:blipFill>
        <p:spPr>
          <a:xfrm>
            <a:off x="4686480" y="1995480"/>
            <a:ext cx="4076640" cy="3933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ning Jenny and Power L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Spinning Jenny"/>
          <p:cNvPicPr/>
          <p:nvPr/>
        </p:nvPicPr>
        <p:blipFill>
          <a:blip r:embed="rId1"/>
          <a:srcRect l="0" t="0" r="0" b="12173"/>
          <a:stretch/>
        </p:blipFill>
        <p:spPr>
          <a:xfrm>
            <a:off x="4572000" y="160020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75990~Power-Loom-Weaving-1834-Posters"/>
          <p:cNvPicPr/>
          <p:nvPr/>
        </p:nvPicPr>
        <p:blipFill>
          <a:blip r:embed="rId2"/>
          <a:srcRect l="0" t="0" r="2127" b="14209"/>
          <a:stretch/>
        </p:blipFill>
        <p:spPr>
          <a:xfrm>
            <a:off x="4572000" y="41767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es Come to New 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well-factory"/>
          <p:cNvPicPr/>
          <p:nvPr/>
        </p:nvPicPr>
        <p:blipFill>
          <a:blip r:embed="rId1"/>
          <a:stretch/>
        </p:blipFill>
        <p:spPr>
          <a:xfrm>
            <a:off x="4691160" y="2801880"/>
            <a:ext cx="4071960" cy="2319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Picture 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Mills Hir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Gi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owell"/>
          <p:cNvPicPr/>
          <p:nvPr/>
        </p:nvPicPr>
        <p:blipFill>
          <a:blip r:embed="rId1"/>
          <a:stretch/>
        </p:blipFill>
        <p:spPr>
          <a:xfrm>
            <a:off x="5181480" y="182880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hangeable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gunpart1"/>
          <p:cNvPicPr/>
          <p:nvPr/>
        </p:nvPicPr>
        <p:blipFill>
          <a:blip r:embed="rId1"/>
          <a:stretch/>
        </p:blipFill>
        <p:spPr>
          <a:xfrm>
            <a:off x="609480" y="5345280"/>
            <a:ext cx="77724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3:23:53Z</dcterms:created>
  <dc:creator>Madison Middle School</dc:creator>
  <dc:description/>
  <dc:language>en-US</dc:language>
  <cp:lastModifiedBy>Legion</cp:lastModifiedBy>
  <dcterms:modified xsi:type="dcterms:W3CDTF">2017-07-05T10:56:16Z</dcterms:modified>
  <cp:revision>25</cp:revision>
  <dc:subject/>
  <dc:title>PowerPoint Presentation  -  Early Industry and Inventions</dc:title>
</cp:coreProperties>
</file>