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move the slide</a:t>
            </a:r>
            <a:endParaRPr b="0" i="1" lang="en-US" sz="4400" spc="-1" strike="noStrike">
              <a:solidFill>
                <a:srgbClr val="984c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1B8C-D0C9-4F74-B88E-0FC18FF6704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conomic Revolution</a:t>
            </a:r>
            <a:br>
              <a:rPr sz="1200"/>
            </a:br>
            <a:r>
              <a:rPr b="0" lang="en-US" sz="1200" spc="-1" strike="noStrike">
                <a:solidFill>
                  <a:srgbClr val="000000"/>
                </a:solidFill>
                <a:latin typeface="Calibri"/>
              </a:rPr>
              <a:t>1820–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 Revolution</a:t>
            </a:r>
            <a:br>
              <a:rPr sz="1200"/>
            </a:br>
            <a:r>
              <a:rPr b="0" lang="en-US" sz="1200" spc="-1" strike="noStrike">
                <a:solidFill>
                  <a:srgbClr val="000000"/>
                </a:solidFill>
                <a:latin typeface="Times New Roman"/>
              </a:rPr>
              <a:t>1820–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volutions in industrial production and the market system transformed the nation’s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ing sector produced an ever-increasing share of the country’s wealth: from less than 5 percent in 1820 to more than 30 percent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volutions in industrial production and the market system transformed the nation’s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ing sector produced an ever-increasing share of the country’s wealth: from less than 5 percent in 1820 to more than 30 percent in 187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f Industry: Northeaster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20 and 1860, the United States experienced an industrial and a market revolution that created a new economic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ing of Industry: Northeaster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20 and 1860, the United States experienced an industrial and a market revolution that created a new economic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abor and the Fa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ialization came to the United States after 1790 as merchants and manufacturers increased output of goods by reorganizing work and building fac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work system” was a more efficient division of labor and lowered the price of goods, but it eroded workers’ control over the pace and condition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asks not suited to outwork, factories were created where work was concentrated under one roof and divided into specialized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Labor and the Fac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ization came to the United States after 1790 as merchants and manufacturers increased output of goods by reorganizing work and building fac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work system” was a more efficient division of labor and lowered the price of goods, but it eroded workers’ control over the pace and conditions of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asks not suited to outwork, factories were created where work was concentrated under one roof and divided into specialized tas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itons feared that American manufacturers would become exporters not only to foreign countries but even to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ritons feared that American manufacturers would become exporters not only to foreign countries but even to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able to out-compete American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able to out-compete American manufactu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ile Industry and British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and British Compet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ustrialization affect 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did a transportation revolution occur before 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Americans both migrate westward and move to cities during the first half of the nineteen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rise of factories affect the social relationships of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ndustrialization affect the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did a transportation revolution occur before 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Americans both migrate westward and move to cities during the first half of the nineteen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rise of factories affect the social relationships of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pying the machines of British textile mills, Francis Cabot Lowell’s Bosto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pying the machines of British textile mills, Francis Cabot Lowell’s Bosto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mbining improved technology, female labor, and tariff protection, the Boston Manufacturing Company sold textiles more cheaply than did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mproved technology, female labor, and tariff protection, the Boston Manufacturing Company sold textiles more cheaply than did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and Technological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20s, American-born craftsmen had replaced British immigrants at the cutting edge of technological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inventors in the Philadelphia region were members of the Sellars family, who helped found the Franklin Institute of Philadelphia i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and Technological Innov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20s, American-born craftsmen had replaced British immigrants at the cutting edge of technological innov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inventors in the Philadelphia region were members of the Sellars family, who helped found the Franklin Institute of Philadelphia i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pioneered the development of machine tools, thus fueling the spread of the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earms industry, Eli Whitney and others developed interchangeable and precision-crafted parts that enabled largescal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1851 Crystal Palace Exhibition in London, Americans built factories in Britain and soon dominated many European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pioneered the development of machine tools, thus fueling the spread of the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earms industry, Eli Whitney and others developed interchangeable and precision-crafted parts that enabled largescale 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1851 Crystal Palace Exhibition in London, Americans built factories in Britain and soon dominated many European mar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 Workers and the Labor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journeymen formed unions and bargained with their employers, particularly in hopes of setting a ten-hour work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ing Men’s Party, founded in 1828, called for the abolition of banks, equal taxation, and a system of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 Workers and the Labor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ourneymen formed unions and bargained with their employers, particularly in hopes of setting a ten-hour work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n’s Party, founded in 1828, called for the abolition of banks, equal taxation, and a system of public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mid-1830s, building-trades workers had won a ten-hour workday from many employers and from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ndustrial system divided the traditional artisan class into two groups: self-employed craftsmen and wage-earning crafts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830s, building-trades workers had won a ten-hour workday from many employers and from the feder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industrial system divided the traditional artisan class into two groups: self-employed craftsmen and wage-earning crafts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leaders devised a “labor theory of value” and organized strikes for higher wages; similar labor actions were taken by women textile worker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50s, labor supply exceeded demand, and unemployment rose to 10 percent, resulting in a major recession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leaders devised a “labor theory of value” and organized strikes for higher wages; similar labor actions were taken by women textile workers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50s, labor supply exceeded demand, and unemployment rose to 10 percent, resulting in a major recession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to the Southwest and the Mid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igrated to the West for several reasons; some were looking for land for their children, others hoped for greater profits from the western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40, about 5 million people lived west of the Appalach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to the Southwest and the Mid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igrated to the West for several reasons; some were looking for land for their children, others hoped for greater profits from the western so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0, about 5 million people lived west of the Appalach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reduced the price of federal land in 1820, and by 1860 the population center of America had shifted significantly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reduced the price of federal land in 1820, and by 1860 the population center of America had shifted significantly to the 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portation Revolution Forges Regional 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Road and other interregional, government-funded highways were too slow and expensive to transport goods and crops ef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developed a water-borne transportation system of unprecedented size, beginning with the government-subsidized Erie Ca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l had three things in its favor: the support of city merchants, the backing of the governor, and the gentleness of the terrain west of Alb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ation Revolution Forges Regional 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Road and other interregional, government-funded highways were too slow and expensive to transport goods and crops effici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developed a water-borne transportation system of unprecedented size, beginning with the government-subsidized Erie Ca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 had three things in its favor: the support of city merchants, the backing of the governor, and the gentleness of the terrain west of Alb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altered the ecology and economy of the entir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brought prosperity to central and western New York, linked the economies of the Northeast and Midwest, and prompted a national canal b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ntion of the steamboat by Robert Fulton ensured the success of the waterborne transporta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altered the ecology and economy of the entire 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brought prosperity to central and western New York, linked the economies of the Northeast and Midwest, and prompted a national canal bo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ntion of the steamboat by Robert Fulton ensured the success of the waterborne transportation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railroad created ties between the Northeast and the Midwest, and by the 1850s, railroads became the main carriers of fr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 railroad created ties between the Northeast and the Midwest, and by the 1850s, railroads became the main carriers of fr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McCorm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rus McCormi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Cormick Re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ormick Re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 P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 P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investors concentrated their resources in cotton and slaves, preferring to buy manufactures from the Northeast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economy remained predominantly agricultural and generated less per capita income for Southerners than did the more industrial Northern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investors concentrated their resources in cotton and slaves, preferring to buy manufactures from the Northeast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economy remained predominantly agricultural and generated less per capita income for Southerners than did the more industrial Northern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 of Cities and Tow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expansion of industry and trade, the urban population grew fourfold between 1820 and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Cities and Tow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xpansion of industry and trade, the urban population grew fourfold between 1820 and 18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largest cities in the United States were New York, Philadelphia, St. Louis, and Chicago, in that 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largest cities in the United States were New York, Philadelphia, St. Louis, and Chicago, in that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the Social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Social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shattered the traditional rural social order and created a society composed of distinct regions, classes, and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rge cities, the richest 1 percent of the population owned 40 percent of all tangible property and an even larger share of the stocks and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shattered the traditional rural social order and created a society composed of distinct regions, classes, and cul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rge cities, the richest 1 percent of the population owned 40 percent of all tangible property and an even larger share of the stocks and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inct middle-class culture emerged as the per capita income of Americans rose about 2.5 percent per year between 1830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Americans secured material comfort for themselves and education for their children, and they stressed discipline, morality, and har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inct middle-class culture emerged as the per capita income of Americans rose about 2.5 percent per year between 1830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class Americans secured material comfort for themselves and education for their children, and they stressed discipline, morality, and hard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nd the middle class celebrated work as the key to a higher standard of living for the nation and social mobility for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l of the “self-made man” became a central theme of America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nd the middle class celebrated work as the key to a higher standard of living for the nation and social mobility for the individ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 of the “self-made man” became a central theme of American popular 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Workers and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10 percent of the labor force, the casual workers, owned little or no property, and their jobs were unpredictable, seasonal, and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Workers and the Po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10 percent of the labor force, the casual workers, owned little or no property, and their jobs were unpredictable, seasonal, and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820s, Congregational and Presbyterian ministers linked with merchants and their wives to launch a program of social reform and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targeted drunkenness and other social ills, but it also set out to institutionalize charity and combat evil in a systematic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820s, Congregational and Presbyterian ministers linked with merchants and their wives to launch a program of social reform and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targeted drunkenness and other social ills, but it also set out to institutionalize charity and combat evil in a systematic fash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class women were an important part of the Benevolent Empire through sponsorship of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formers believed that one of the greatest threats to morality was the decline of the traditional Sabb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resistance or indifference limited the success of the Benevolent Em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lass women were an important part of the Benevolent Empire through sponsorship of charitable organiz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ormers believed that one of the greatest threats to morality was the decline of the traditional Sabb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resistance or indifference limited the success of the Benevolent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m and Re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m and Re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evangelicalism heightened the cultural conflict between native-born Americans and millions of Catholic immigrants from Ireland and Germ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stant evangelicalism heightened the cultural conflict between native-born Americans and millions of Catholic immigrants from Ireland and German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United States was a more prosperous society than ever before, but also one exhibiting numerous social and economic div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United States was a more prosperous society than ever before, but also one exhibiting numerous social and economic divis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s message that man was able to choose salvation was particularly attractive to the middl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s message that man was able to choose salvation was particularly attractive to the middle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 wanted to humble the pride of the rich and relieve the shame of the poor by celebrating their common fellowship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joined the “Cold Water” movement, establishing savings banks and Sunday schools for the poor and helping to provide relief for the unemplo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 wanted to humble the pride of the rich and relieve the shame of the poor by celebrating their common fellowship in Ch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joined the “Cold Water” movement, establishing savings banks and Sunday schools for the poor and helping to provide relief for the unemploy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tion and Cultural Confl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40 and 1860, millions of immigrants— Irish, Germans, and Britons— poured into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voided the South, and many Germans moved to states in the Midwest, while other Germans and most of the Irish settled in the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prosperous immigrants were the British, followed by the Germans; the poorest were from Ire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and Cultural Confli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40 and 1860, millions of immigrants— Irish, Germans, and Britons— poured into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voided the South, and many Germans moved to states in the Midwest, while other Germans and most of the Irish settled in the North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osperous immigrants were the British, followed by the Germans; the poorest were from Ire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and most Irish were Catholics and fueled the growth of the Catholic Church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and most Irish were Catholics and fueled the growth of the Catholic Church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atholic sentiment intensified: mobs of unemployed workers attacked Catholics, and the Native American Clubs called for limits on im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atholic sentiment intensified: mobs of unemployed workers attacked Catholics, and the Native American Clubs called for limits on im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large northeastern cities, differences of class and culture led to violence and split the North in the same way that race and class divided the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large northeastern cities, differences of class and culture led to violence and split the North in the same way that race and class divided the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5"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6"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9"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1"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33"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4"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6"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7"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8"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320" y="304560"/>
            <a:ext cx="76201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1"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2"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81000"/>
          </a:bodyPr>
          <a:p>
            <a:pPr marL="277560" indent="-277560">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outline text format</a:t>
            </a:r>
            <a:endParaRPr b="0" lang="en-US" sz="3200" spc="-1" strike="noStrike">
              <a:solidFill>
                <a:srgbClr val="a50021"/>
              </a:solidFill>
              <a:latin typeface="Times New Roman"/>
            </a:endParaRPr>
          </a:p>
          <a:p>
            <a:pPr lvl="1" marL="601560" indent="-23148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cond Outline Level</a:t>
            </a:r>
            <a:endParaRPr b="0" lang="en-US" sz="3200" spc="-1" strike="noStrike">
              <a:solidFill>
                <a:srgbClr val="a50021"/>
              </a:solidFill>
              <a:latin typeface="Times New Roman"/>
            </a:endParaRPr>
          </a:p>
          <a:p>
            <a:pPr lvl="2" marL="92556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ird Outline Level</a:t>
            </a:r>
            <a:endParaRPr b="0" lang="en-US" sz="3200" spc="-1" strike="noStrike">
              <a:solidFill>
                <a:srgbClr val="a50021"/>
              </a:solidFill>
              <a:latin typeface="Times New Roman"/>
            </a:endParaRPr>
          </a:p>
          <a:p>
            <a:pPr lvl="3" marL="129600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urth Outline Level</a:t>
            </a:r>
            <a:endParaRPr b="0" lang="en-US" sz="3200" spc="-1" strike="noStrike">
              <a:solidFill>
                <a:srgbClr val="a50021"/>
              </a:solidFill>
              <a:latin typeface="Times New Roman"/>
            </a:endParaRPr>
          </a:p>
          <a:p>
            <a:pPr lvl="4" marL="166644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fth Outline Level</a:t>
            </a:r>
            <a:endParaRPr b="0" lang="en-US" sz="3200" spc="-1" strike="noStrike">
              <a:solidFill>
                <a:srgbClr val="a50021"/>
              </a:solidFill>
              <a:latin typeface="Times New Roman"/>
            </a:endParaRPr>
          </a:p>
          <a:p>
            <a:pPr lvl="5"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xth Outline Level</a:t>
            </a:r>
            <a:endParaRPr b="0" lang="en-US" sz="3200" spc="-1" strike="noStrike">
              <a:solidFill>
                <a:srgbClr val="a50021"/>
              </a:solidFill>
              <a:latin typeface="Times New Roman"/>
            </a:endParaRPr>
          </a:p>
          <a:p>
            <a:pPr lvl="6"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venth Outline Level</a:t>
            </a:r>
            <a:endParaRPr b="0" lang="en-US" sz="3200" spc="-1" strike="noStrike">
              <a:solidFill>
                <a:srgbClr val="a50021"/>
              </a:solidFill>
              <a:latin typeface="Times New Roman"/>
            </a:endParaRPr>
          </a:p>
        </p:txBody>
      </p:sp>
      <p:pic>
        <p:nvPicPr>
          <p:cNvPr id="1" name="Picture 3" descr=""/>
          <p:cNvPicPr/>
          <p:nvPr/>
        </p:nvPicPr>
        <p:blipFill>
          <a:blip r:embed="rId4"/>
          <a:stretch/>
        </p:blipFill>
        <p:spPr>
          <a:xfrm>
            <a:off x="0" y="9360"/>
            <a:ext cx="703440" cy="6848640"/>
          </a:xfrm>
          <a:prstGeom prst="rect">
            <a:avLst/>
          </a:prstGeom>
          <a:ln w="0">
            <a:noFill/>
          </a:ln>
        </p:spPr>
      </p:pic>
      <p:sp>
        <p:nvSpPr>
          <p:cNvPr id="2" name="PlaceHolder 2"/>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edit the title text format</a:t>
            </a:r>
            <a:endParaRPr b="0" i="1" lang="en-US" sz="4400" spc="-1" strike="noStrike">
              <a:solidFill>
                <a:srgbClr val="984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Boston_Manufacturing_Company.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mage:Mrjohndeere.gif"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2130120"/>
            <a:ext cx="7543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The Economic Revolution</a:t>
            </a:r>
            <a:br>
              <a:rPr sz="4400"/>
            </a:br>
            <a:r>
              <a:rPr b="1" i="1" lang="en-US" sz="4400" spc="-1" strike="noStrike">
                <a:solidFill>
                  <a:srgbClr val="984c00"/>
                </a:solidFill>
                <a:latin typeface="Times New Roman"/>
              </a:rPr>
              <a:t>1820–1860</a:t>
            </a:r>
            <a:endParaRPr b="0" i="1" lang="en-US" sz="4400" spc="-1" strike="noStrike">
              <a:solidFill>
                <a:srgbClr val="984c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67" name="Picture 4" descr="fulton"/>
          <p:cNvPicPr/>
          <p:nvPr/>
        </p:nvPicPr>
        <p:blipFill>
          <a:blip r:embed="rId1"/>
          <a:stretch/>
        </p:blipFill>
        <p:spPr>
          <a:xfrm>
            <a:off x="0" y="0"/>
            <a:ext cx="4065480" cy="6858000"/>
          </a:xfrm>
          <a:prstGeom prst="rect">
            <a:avLst/>
          </a:prstGeom>
          <a:ln w="0">
            <a:noFill/>
          </a:ln>
        </p:spPr>
      </p:pic>
      <p:pic>
        <p:nvPicPr>
          <p:cNvPr id="68" name="Picture 5" descr="fulton2"/>
          <p:cNvPicPr/>
          <p:nvPr/>
        </p:nvPicPr>
        <p:blipFill>
          <a:blip r:embed="rId2"/>
          <a:stretch/>
        </p:blipFill>
        <p:spPr>
          <a:xfrm>
            <a:off x="4114800" y="0"/>
            <a:ext cx="5029200" cy="285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Economy</a:t>
            </a:r>
            <a:endParaRPr b="0" i="1" lang="en-US" sz="4400" spc="-1" strike="noStrike">
              <a:solidFill>
                <a:srgbClr val="984c00"/>
              </a:solidFill>
              <a:latin typeface="Times New Roman"/>
            </a:endParaRPr>
          </a:p>
        </p:txBody>
      </p:sp>
      <p:sp>
        <p:nvSpPr>
          <p:cNvPr id="7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wo revolutions in industrial production and the market system transformed the nation’s economy</a:t>
            </a:r>
            <a:endParaRPr b="0" lang="en-US" sz="2800" spc="-1" strike="noStrike">
              <a:solidFill>
                <a:srgbClr val="a50021"/>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2400" spc="-1" strike="noStrike">
              <a:solidFill>
                <a:srgbClr val="984c00"/>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The manufacturing sector produced an ever-increasing share of the country’s wealth: from less than 5 percent in 1820 to more than 30 percent in 1877.</a:t>
            </a:r>
            <a:endParaRPr b="0" lang="en-US" sz="2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Coming of Industry: Northeastern Manufacturing</a:t>
            </a:r>
            <a:endParaRPr b="0" i="1" lang="en-US" sz="4000" spc="-1" strike="noStrike">
              <a:solidFill>
                <a:srgbClr val="984c00"/>
              </a:solidFill>
              <a:latin typeface="Times New Roman"/>
            </a:endParaRPr>
          </a:p>
        </p:txBody>
      </p:sp>
      <p:sp>
        <p:nvSpPr>
          <p:cNvPr id="74"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tween 1820 and 1860, the United States experienced an industrial and a market revolution that created a new economic structure.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rchants and manufacturers organized increasingly efficient systems of production and, aided by skilled mechanics, introduced water- and steam-powered machines to turn out huge quantities of good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Division of Labor and the Factory </a:t>
            </a:r>
            <a:endParaRPr b="0" i="1" lang="en-US" sz="4000" spc="-1" strike="noStrike">
              <a:solidFill>
                <a:srgbClr val="984c00"/>
              </a:solidFill>
              <a:latin typeface="Times New Roman"/>
            </a:endParaRPr>
          </a:p>
        </p:txBody>
      </p:sp>
      <p:sp>
        <p:nvSpPr>
          <p:cNvPr id="76"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dustrialization came to the United States after 1790 as merchants and manufacturers increased output of goods by reorganizing work and building factori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outwork system” was a more efficient division of labor and lowered the price of goods, but it eroded workers’ control over the pace and conditions of work.</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tasks not suited to outwork, factories were created where work was concentrated under one roof and divided into specialized task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nufacturers used newly improved stationary steam engines to power their mills and used power-driven machines and assembly lines to produce new types of products.</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Britons feared that American manufacturers would become exporters not only to foreign countries but even to Englan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37720" y="533160"/>
            <a:ext cx="80010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ritish textile manufacturers were able to out-compete American manufacturer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extile Industry and British Competition </a:t>
            </a:r>
            <a:endParaRPr b="0" i="1" lang="en-US" sz="4000" spc="-1" strike="noStrike">
              <a:solidFill>
                <a:srgbClr val="984c00"/>
              </a:solidFill>
              <a:latin typeface="Times New Roman"/>
            </a:endParaRPr>
          </a:p>
        </p:txBody>
      </p:sp>
      <p:sp>
        <p:nvSpPr>
          <p:cNvPr id="81" name="PlaceHolder 2"/>
          <p:cNvSpPr>
            <a:spLocks noGrp="1"/>
          </p:cNvSpPr>
          <p:nvPr>
            <p:ph/>
          </p:nvPr>
        </p:nvSpPr>
        <p:spPr>
          <a:xfrm>
            <a:off x="1066680" y="1752480"/>
            <a:ext cx="7772400" cy="464832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amuel Slater brought to America a design for an advanced cotton spinner; the opening of his factory in 1790 marked the advent of the American Industrial Revolution.</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0" y="304920"/>
            <a:ext cx="3657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84c00"/>
                </a:solidFill>
                <a:latin typeface="Times New Roman"/>
              </a:rPr>
              <a:t>Samuel Slater is a major figure in American history and has been called both the "Father of American Industry" and the "Founder of the American Industrial Revolution."</a:t>
            </a:r>
            <a:r>
              <a:rPr b="0" i="1" lang="en-US" sz="4000" spc="-1" strike="noStrike">
                <a:solidFill>
                  <a:srgbClr val="984c00"/>
                </a:solidFill>
                <a:latin typeface="Times New Roman"/>
              </a:rPr>
              <a:t> </a:t>
            </a:r>
            <a:endParaRPr b="0" i="1" lang="en-US" sz="4000" spc="-1" strike="noStrike">
              <a:solidFill>
                <a:srgbClr val="984c00"/>
              </a:solidFill>
              <a:latin typeface="Times New Roman"/>
            </a:endParaRPr>
          </a:p>
        </p:txBody>
      </p:sp>
      <p:sp>
        <p:nvSpPr>
          <p:cNvPr id="8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6" name="Picture 5" descr="slater"/>
          <p:cNvPicPr/>
          <p:nvPr/>
        </p:nvPicPr>
        <p:blipFill>
          <a:blip r:embed="rId1"/>
          <a:stretch/>
        </p:blipFill>
        <p:spPr>
          <a:xfrm>
            <a:off x="685800" y="0"/>
            <a:ext cx="4183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9" name="PlaceHolder 2"/>
          <p:cNvSpPr>
            <a:spLocks noGrp="1"/>
          </p:cNvSpPr>
          <p:nvPr>
            <p:ph/>
          </p:nvPr>
        </p:nvSpPr>
        <p:spPr>
          <a:xfrm>
            <a:off x="1066680" y="1752480"/>
            <a:ext cx="7772400" cy="4114800"/>
          </a:xfrm>
          <a:prstGeom prst="rect">
            <a:avLst/>
          </a:prstGeom>
          <a:noFill/>
          <a:ln w="0">
            <a:noFill/>
          </a:ln>
        </p:spPr>
        <p:txBody>
          <a:bodyPr anchor="t">
            <a:normAutofit/>
          </a:bodyPr>
          <a:p>
            <a:pPr marL="609480" indent="-609480">
              <a:lnSpc>
                <a:spcPct val="90000"/>
              </a:lnSpc>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industrialization affect the econom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and why did a transportation revolution occur before 1860?</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Why did Americans both migrate westward and move to cities during the first half of the nineteenth centur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the rise of factories affect the social relationships of Americans?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8"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9" name="Picture 5" descr="spools.gif"/>
          <p:cNvPicPr/>
          <p:nvPr/>
        </p:nvPicPr>
        <p:blipFill>
          <a:blip r:embed="rId1"/>
          <a:stretch/>
        </p:blipFill>
        <p:spPr>
          <a:xfrm>
            <a:off x="685800" y="0"/>
            <a:ext cx="8458200" cy="56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1" name="PlaceHolder 2"/>
          <p:cNvSpPr>
            <a:spLocks noGrp="1"/>
          </p:cNvSpPr>
          <p:nvPr>
            <p:ph/>
          </p:nvPr>
        </p:nvSpPr>
        <p:spPr>
          <a:xfrm>
            <a:off x="1066680" y="228600"/>
            <a:ext cx="7772400" cy="632448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ngress passed protective legislation in 1816 and 1824 levying high taxes on imported goods; tariffs were reduced again in 1833, and some textile firms went out of busines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producers used two other strategies to compete with their British rivals. First, they improved on British technology, and second, they found less expensive worker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pying the machines of British textile mills, Francis Cabot Lowell’s Boston Manufacturing</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mpany was able to build the Waltham factory, the first American factory to perform all the operations of cloth making under one roof at higher speeds than British mills and with fewer worker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94" name="Picture 5" descr="Boston Manufacturing Co., Waltham, Massachusetts">
            <a:hlinkClick r:id="rId1"/>
          </p:cNvPr>
          <p:cNvPicPr/>
          <p:nvPr/>
        </p:nvPicPr>
        <p:blipFill>
          <a:blip r:embed="rId2"/>
          <a:stretch/>
        </p:blipFill>
        <p:spPr>
          <a:xfrm>
            <a:off x="155520" y="46080"/>
            <a:ext cx="8988480" cy="67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6" name="PlaceHolder 2"/>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oston Manufacturing Company pioneered a labor system that became known as the “Waltham plan,” in which the company recruited farm women and girls as textile workers who would work for low wag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early 1830s, more than 40,000 New England women worked in textile mills; women often found this work oppressive, but many gained a new sense of freedom and autonomy.</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mbining improved technology, female labor, and tariff protection, the Boston Manufacturing Company sold textiles more cheaply than did the British.</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Productivity</a:t>
            </a:r>
            <a:endParaRPr b="0" i="1" lang="en-US" sz="4400" spc="-1" strike="noStrike">
              <a:solidFill>
                <a:srgbClr val="984c00"/>
              </a:solidFill>
              <a:latin typeface="Times New Roman"/>
            </a:endParaRPr>
          </a:p>
        </p:txBody>
      </p:sp>
      <p:sp>
        <p:nvSpPr>
          <p:cNvPr id="100" name="PlaceHolder 2"/>
          <p:cNvSpPr>
            <a:spLocks noGrp="1"/>
          </p:cNvSpPr>
          <p:nvPr>
            <p:ph/>
          </p:nvPr>
        </p:nvSpPr>
        <p:spPr>
          <a:xfrm>
            <a:off x="1066680" y="1295280"/>
            <a:ext cx="77724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American Mechanics and Technological Innovation </a:t>
            </a:r>
            <a:endParaRPr b="0" i="1" lang="en-US" sz="4000" spc="-1" strike="noStrike">
              <a:solidFill>
                <a:srgbClr val="984c00"/>
              </a:solidFill>
              <a:latin typeface="Times New Roman"/>
            </a:endParaRPr>
          </a:p>
        </p:txBody>
      </p:sp>
      <p:sp>
        <p:nvSpPr>
          <p:cNvPr id="102"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y the 1820s, American-born craftsmen had replaced British immigrants at the cutting edge of technological innovation.</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most important inventors in the Philadelphia region were members of the Sellars family, who helped found the Franklin Institute of Philadelphia in 1824.</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mechanics pioneered the development of machine tools, thus fueling the spread of the Industrial Revolu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the firearms industry, Eli Whitney and others developed interchangeable and precision-crafted parts that enabled largescale produc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fter the 1851 Crystal Palace Exhibition in London, Americans built factories in Britain and soon dominated many European market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Wage Workers and the Labor Movement </a:t>
            </a:r>
            <a:endParaRPr b="0" i="1" lang="en-US" sz="4000" spc="-1" strike="noStrike">
              <a:solidFill>
                <a:srgbClr val="984c00"/>
              </a:solidFill>
              <a:latin typeface="Times New Roman"/>
            </a:endParaRPr>
          </a:p>
        </p:txBody>
      </p:sp>
      <p:sp>
        <p:nvSpPr>
          <p:cNvPr id="1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ome journeymen formed unions and bargained with their employers, particularly in hopes of setting a ten-hour workday.</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Working Men’s Party, founded in 1828, called for the abolition of banks, equal taxation, and a system of public educ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America, a French visitor remarked in 1839, “all is circulation, motion, and boiling agitation. Enterprise follows enterprise [and] riches and poverty follow.” Indeed, society was changing in basic way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457200"/>
            <a:ext cx="7772400" cy="601992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mid-1830s, building-trades workers had won a ten-hour workday from many employers and from the federal governmen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rtisans whose occupations were threatened by industrialization—shoemakers, printers, etc.—were less successful, and some left their employers and set up specialized shop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ew industrial system divided the traditional artisan class into two groups: self-employed craftsmen and wage-earning craftsme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30, factory workers banded together to form the Mutual Benefit Society to seek higher pay and better conditions, and in 1834, the National Trades Union was founded.</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ion leaders devised a “labor theory of value” and organized strikes for higher wages; similar labor actions were taken by women textile workers as wel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1850s, labor supply exceeded demand, and unemployment rose to 10 percent, resulting in a major recession and the Panic of 1857.</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666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82400"/>
                </a:solidFill>
                <a:latin typeface="Times New Roman"/>
              </a:rPr>
              <a:t>The Market Revolution</a:t>
            </a:r>
            <a:r>
              <a:rPr b="0" i="1" lang="en-US" sz="4400" spc="-1" strike="noStrike">
                <a:solidFill>
                  <a:srgbClr val="984c00"/>
                </a:solidFill>
                <a:latin typeface="Times New Roman"/>
              </a:rPr>
              <a:t> </a:t>
            </a:r>
            <a:endParaRPr b="0" i="1" lang="en-US" sz="4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Migration to the Southwest and the Midwest </a:t>
            </a:r>
            <a:endParaRPr b="0" i="1" lang="en-US" sz="4000" spc="-1" strike="noStrike">
              <a:solidFill>
                <a:srgbClr val="984c00"/>
              </a:solidFill>
              <a:latin typeface="Times New Roman"/>
            </a:endParaRPr>
          </a:p>
        </p:txBody>
      </p:sp>
      <p:sp>
        <p:nvSpPr>
          <p:cNvPr id="113"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migrated to the West for several reasons; some were looking for land for their children, others hoped for greater profits from the western soi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40, about 5 million people lived west of the Appalachia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457200"/>
            <a:ext cx="7772400" cy="5943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ngress reduced the price of federal land in 1820, and by 1860 the population center of America had shifted significantly to the West.</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ransportation Revolution Forges Regional Ties </a:t>
            </a:r>
            <a:endParaRPr b="0" i="1" lang="en-US" sz="4000" spc="-1" strike="noStrike">
              <a:solidFill>
                <a:srgbClr val="984c00"/>
              </a:solidFill>
              <a:latin typeface="Times New Roman"/>
            </a:endParaRPr>
          </a:p>
        </p:txBody>
      </p:sp>
      <p:sp>
        <p:nvSpPr>
          <p:cNvPr id="116"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ational Road and other interregional, government-funded highways were too slow and expensive to transport goods and crops efficiently.</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s developed a water-borne transportation system of unprecedented size, beginning with the government-subsidized Erie Cana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canal had three things in its favor: the support of city merchants, the backing of the governor, and the gentleness of the terrain west of Alban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18" name="PlaceHolder 2"/>
          <p:cNvSpPr>
            <a:spLocks noGrp="1"/>
          </p:cNvSpPr>
          <p:nvPr>
            <p:ph/>
          </p:nvPr>
        </p:nvSpPr>
        <p:spPr>
          <a:xfrm>
            <a:off x="1066680" y="990720"/>
            <a:ext cx="7772400" cy="487656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altered the ecology and economy of the entire reg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brought prosperity to central and western New York, linked the economies of the Northeast and Midwest, and prompted a national canal boom.</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vention of the steamboat by Robert Fulton ensured the success of the waterborne transportation system.</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2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a:t>
            </a:r>
            <a:r>
              <a:rPr b="0" i="1" lang="en-US" sz="3200" spc="-1" strike="noStrike">
                <a:solidFill>
                  <a:srgbClr val="a50021"/>
                </a:solidFill>
                <a:latin typeface="Times New Roman"/>
              </a:rPr>
              <a:t>Gibbons v. Ogden</a:t>
            </a:r>
            <a:r>
              <a:rPr b="0" lang="en-US" sz="3200" spc="-1" strike="noStrike">
                <a:solidFill>
                  <a:srgbClr val="a50021"/>
                </a:solidFill>
                <a:latin typeface="Times New Roman"/>
              </a:rPr>
              <a:t> (1824).</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66680" y="685440"/>
            <a:ext cx="7772400" cy="56386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the railroad created ties between the Northeast and the Midwest, and by the 1850s, railroads became the main carriers of freight.</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Midwestern entrepreneurs were producing goods that vastly increased output—John Deere plows,  McCormick and Hussey reapers—to replace the ones Americans had been importing from Britai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123" name="Picture 5" descr="John Deere">
            <a:hlinkClick r:id="rId1"/>
          </p:cNvPr>
          <p:cNvPicPr/>
          <p:nvPr/>
        </p:nvPicPr>
        <p:blipFill>
          <a:blip r:embed="rId2"/>
          <a:stretch/>
        </p:blipFill>
        <p:spPr>
          <a:xfrm>
            <a:off x="0" y="0"/>
            <a:ext cx="3525840" cy="5867280"/>
          </a:xfrm>
          <a:prstGeom prst="rect">
            <a:avLst/>
          </a:prstGeom>
          <a:ln w="0">
            <a:noFill/>
          </a:ln>
        </p:spPr>
      </p:pic>
      <p:pic>
        <p:nvPicPr>
          <p:cNvPr id="124" name="Picture 7" descr="Cyrus McCormick"/>
          <p:cNvPicPr/>
          <p:nvPr/>
        </p:nvPicPr>
        <p:blipFill>
          <a:blip r:embed="rId3"/>
          <a:stretch/>
        </p:blipFill>
        <p:spPr>
          <a:xfrm>
            <a:off x="5116680" y="228600"/>
            <a:ext cx="3811320" cy="4724280"/>
          </a:xfrm>
          <a:prstGeom prst="rect">
            <a:avLst/>
          </a:prstGeom>
          <a:ln w="0">
            <a:noFill/>
          </a:ln>
        </p:spPr>
      </p:pic>
      <p:sp>
        <p:nvSpPr>
          <p:cNvPr id="125" name="Text Box 8"/>
          <p:cNvSpPr/>
          <p:nvPr/>
        </p:nvSpPr>
        <p:spPr>
          <a:xfrm>
            <a:off x="838080" y="6172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Deere</a:t>
            </a:r>
            <a:endParaRPr b="0" lang="en-US" sz="1800" spc="-1" strike="noStrike">
              <a:solidFill>
                <a:srgbClr val="000000"/>
              </a:solidFill>
              <a:latin typeface="Times New Roman"/>
            </a:endParaRPr>
          </a:p>
        </p:txBody>
      </p:sp>
      <p:sp>
        <p:nvSpPr>
          <p:cNvPr id="126" name="Text Box 9"/>
          <p:cNvSpPr/>
          <p:nvPr/>
        </p:nvSpPr>
        <p:spPr>
          <a:xfrm>
            <a:off x="5257800" y="55627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rus McCormi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
          <p:cNvPicPr/>
          <p:nvPr/>
        </p:nvPicPr>
        <p:blipFill>
          <a:blip r:embed="rId1"/>
          <a:stretch/>
        </p:blipFill>
        <p:spPr>
          <a:xfrm>
            <a:off x="685800" y="0"/>
            <a:ext cx="8458200" cy="5659560"/>
          </a:xfrm>
          <a:prstGeom prst="rect">
            <a:avLst/>
          </a:prstGeom>
          <a:ln w="0">
            <a:noFill/>
          </a:ln>
        </p:spPr>
      </p:pic>
      <p:sp>
        <p:nvSpPr>
          <p:cNvPr id="128" name="Text Box 7"/>
          <p:cNvSpPr/>
          <p:nvPr/>
        </p:nvSpPr>
        <p:spPr>
          <a:xfrm>
            <a:off x="1219320" y="6172200"/>
            <a:ext cx="7391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Text Box 8"/>
          <p:cNvSpPr/>
          <p:nvPr/>
        </p:nvSpPr>
        <p:spPr>
          <a:xfrm>
            <a:off x="1219320" y="586728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Cormick Re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143000" y="533520"/>
            <a:ext cx="7467480" cy="3625560"/>
          </a:xfrm>
          <a:prstGeom prst="rect">
            <a:avLst/>
          </a:prstGeom>
          <a:ln w="0">
            <a:noFill/>
          </a:ln>
        </p:spPr>
      </p:pic>
      <p:sp>
        <p:nvSpPr>
          <p:cNvPr id="131" name="Text Box 10"/>
          <p:cNvSpPr/>
          <p:nvPr/>
        </p:nvSpPr>
        <p:spPr>
          <a:xfrm>
            <a:off x="1219320" y="44956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P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uthern investors concentrated their resources in cotton and slaves, preferring to buy manufactures from the Northeast and Brita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Southern economy remained predominantly agricultural and generated less per capita income for Southerners than did the more industrial Northern econom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Growth of Cities and Towns </a:t>
            </a:r>
            <a:endParaRPr b="0" i="1" lang="en-US" sz="4400" spc="-1" strike="noStrike">
              <a:solidFill>
                <a:srgbClr val="984c00"/>
              </a:solidFill>
              <a:latin typeface="Times New Roman"/>
            </a:endParaRPr>
          </a:p>
        </p:txBody>
      </p:sp>
      <p:sp>
        <p:nvSpPr>
          <p:cNvPr id="134" name="PlaceHolder 2"/>
          <p:cNvSpPr>
            <a:spLocks noGrp="1"/>
          </p:cNvSpPr>
          <p:nvPr>
            <p:ph/>
          </p:nvPr>
        </p:nvSpPr>
        <p:spPr>
          <a:xfrm>
            <a:off x="914400" y="1447920"/>
            <a:ext cx="82296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e to the expansion of industry and trade, the urban population grew fourfold between 1820 and 1840.</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rapid growth occurred in the new industrial towns that sprang up along the fall line; for example:  Lowell, Massachusetts; Hartford, Connecticut; Trenton, New Jersey; and Wilmington, Delawa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6" name="PlaceHolder 2"/>
          <p:cNvSpPr>
            <a:spLocks noGrp="1"/>
          </p:cNvSpPr>
          <p:nvPr>
            <p:ph/>
          </p:nvPr>
        </p:nvSpPr>
        <p:spPr>
          <a:xfrm>
            <a:off x="1066680" y="1752480"/>
            <a:ext cx="7772400" cy="4114800"/>
          </a:xfrm>
          <a:prstGeom prst="rect">
            <a:avLst/>
          </a:prstGeom>
          <a:noFill/>
          <a:ln w="0">
            <a:noFill/>
          </a:ln>
        </p:spPr>
        <p:txBody>
          <a:bodyPr anchor="t">
            <a:normAutofit fontScale="93000"/>
          </a:bodyPr>
          <a:p>
            <a:pPr marL="318960" indent="-31896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3200" spc="-1" strike="noStrike">
              <a:solidFill>
                <a:srgbClr val="a50021"/>
              </a:solidFill>
              <a:latin typeface="Times New Roman"/>
            </a:endParaRPr>
          </a:p>
          <a:p>
            <a:pPr marL="318960" indent="-31896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largest cities in the United States were New York, Philadelphia, St. Louis, and Chicago, in that order.</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8" name="PlaceHolder 2"/>
          <p:cNvSpPr>
            <a:spLocks noGrp="1"/>
          </p:cNvSpPr>
          <p:nvPr>
            <p:ph/>
          </p:nvPr>
        </p:nvSpPr>
        <p:spPr>
          <a:xfrm>
            <a:off x="1066680" y="1371600"/>
            <a:ext cx="7772400" cy="4495680"/>
          </a:xfrm>
          <a:prstGeom prst="rect">
            <a:avLst/>
          </a:prstGeom>
          <a:noFill/>
          <a:ln w="0">
            <a:noFill/>
          </a:ln>
        </p:spPr>
        <p:txBody>
          <a:bodyPr anchor="t">
            <a:normAutofit fontScale="93000"/>
          </a:bodyPr>
          <a:p>
            <a:pPr marL="318960" indent="-31896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old Atlantic seaports—Boston, Philadelphia, Baltimore, Charleston, and especially New York City—remained important for their foreign commerce and, increasingly, as centers of finance and manufacturing.</a:t>
            </a:r>
            <a:endParaRPr b="0" lang="en-US" sz="3200" spc="-1" strike="noStrike">
              <a:solidFill>
                <a:srgbClr val="a50021"/>
              </a:solidFill>
              <a:latin typeface="Times New Roman"/>
            </a:endParaRPr>
          </a:p>
          <a:p>
            <a:pPr marL="318960" indent="-31896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ew York’s growth stemmed primarily from its control of foreign trade; by 1840, New York handled almost two-thirds of foreign imports and almost half of all foreign trad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hanges in the Social Structure </a:t>
            </a:r>
            <a:endParaRPr b="0" i="1" lang="en-US" sz="4400" spc="-1" strike="noStrike">
              <a:solidFill>
                <a:srgbClr val="984c00"/>
              </a:solidFill>
              <a:latin typeface="Times New Roman"/>
            </a:endParaRPr>
          </a:p>
        </p:txBody>
      </p:sp>
      <p:sp>
        <p:nvSpPr>
          <p:cNvPr id="140" name="PlaceHolder 2"/>
          <p:cNvSpPr>
            <a:spLocks noGrp="1"/>
          </p:cNvSpPr>
          <p:nvPr>
            <p:ph/>
          </p:nvPr>
        </p:nvSpPr>
        <p:spPr>
          <a:xfrm>
            <a:off x="685800" y="1143000"/>
            <a:ext cx="8153280" cy="541008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usiness Elite </a:t>
            </a:r>
            <a:endParaRPr b="0" i="1" lang="en-US" sz="4400" spc="-1" strike="noStrike">
              <a:solidFill>
                <a:srgbClr val="984c00"/>
              </a:solidFill>
              <a:latin typeface="Times New Roman"/>
            </a:endParaRPr>
          </a:p>
        </p:txBody>
      </p:sp>
      <p:sp>
        <p:nvSpPr>
          <p:cNvPr id="14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dustrial Revolution shattered the traditional rural social order and created a society composed of distinct regions, classes, and cultur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the large cities, the richest 1 percent of the population owned 40 percent of all tangible property and an even larger share of the stocks and bond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680" y="838080"/>
            <a:ext cx="7772400" cy="50292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government taxed tangible property but almost never taxed stocks, bonds, or inheritances; thus government policies allowed the richest to accumulate even more wealth at the expense of poorer me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ealthiest families began to consciously set themselves apart, and many American cities became segregated communities divided geographically along the lines of class, race, and ethnic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56" name="Picture 5" descr="whitney2"/>
          <p:cNvPicPr/>
          <p:nvPr/>
        </p:nvPicPr>
        <p:blipFill>
          <a:blip r:embed="rId1"/>
          <a:stretch/>
        </p:blipFill>
        <p:spPr>
          <a:xfrm>
            <a:off x="119160" y="46080"/>
            <a:ext cx="3055680" cy="3459240"/>
          </a:xfrm>
          <a:prstGeom prst="rect">
            <a:avLst/>
          </a:prstGeom>
          <a:ln w="0">
            <a:noFill/>
          </a:ln>
        </p:spPr>
      </p:pic>
      <p:pic>
        <p:nvPicPr>
          <p:cNvPr id="57" name="Picture 7" descr="cottongin1s"/>
          <p:cNvPicPr/>
          <p:nvPr/>
        </p:nvPicPr>
        <p:blipFill>
          <a:blip r:embed="rId2"/>
          <a:stretch/>
        </p:blipFill>
        <p:spPr>
          <a:xfrm>
            <a:off x="3276720" y="896760"/>
            <a:ext cx="5867280" cy="459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Middle Class </a:t>
            </a:r>
            <a:endParaRPr b="0" i="1" lang="en-US" sz="4400" spc="-1" strike="noStrike">
              <a:solidFill>
                <a:srgbClr val="984c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distinct middle-class culture emerged as the per capita income of Americans rose about 2.5 percent per year between 1830 and the Panic of 1857.</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ddle-class Americans secured material comfort for themselves and education for their children, and they stressed discipline, morality, and hard work.</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usiness elite and the middle class celebrated work as the key to a higher standard of living for the nation and social mobility for the individua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deal of the “self-made man” became a central theme of American popular cultu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Urban Workers and the Poor </a:t>
            </a:r>
            <a:endParaRPr b="0" i="1" lang="en-US" sz="4400" spc="-1" strike="noStrike">
              <a:solidFill>
                <a:srgbClr val="984c00"/>
              </a:solidFill>
              <a:latin typeface="Times New Roman"/>
            </a:endParaRPr>
          </a:p>
        </p:txBody>
      </p:sp>
      <p:sp>
        <p:nvSpPr>
          <p:cNvPr id="149"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ottom 10 percent of the labor force, the casual workers, owned little or no property, and their jobs were unpredictable, seasonal, and dangerou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ther laborers had greater job security, but few prospered; many families sent their children out to work, and the death of one parent often sent the family into dire pover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 urban factory workers and unskilled laborers lived in well-defined neighborhoods of crowded boardinghouses or tiny apartments, often with filthy condition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enevolent Empire </a:t>
            </a:r>
            <a:endParaRPr b="0" i="1" lang="en-US" sz="4400" spc="-1" strike="noStrike">
              <a:solidFill>
                <a:srgbClr val="984c00"/>
              </a:solidFill>
              <a:latin typeface="Times New Roman"/>
            </a:endParaRPr>
          </a:p>
        </p:txBody>
      </p:sp>
      <p:sp>
        <p:nvSpPr>
          <p:cNvPr id="15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ring the 1820s, Congregational and Presbyterian ministers linked with merchants and their wives to launch a program of social reform and regulat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Empire targeted drunkenness and other social ills, but it also set out to institutionalize charity and combat evil in a systematic fash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66680" y="0"/>
            <a:ext cx="7772400" cy="68580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groups encouraged people to live well-disciplined lives, and they established institutions to assist those in need and to control people who were threats to society.</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Upper-class women were an important part of the Benevolent Empire through sponsorship of charitable organization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me reformers believed that one of the greatest threats to morality was the decline of the traditional Sabbath.</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opular resistance or indifference limited the success of the Benevolent Empi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Revivalism and Reform </a:t>
            </a:r>
            <a:endParaRPr b="0" i="1" lang="en-US" sz="4400" spc="-1" strike="noStrike">
              <a:solidFill>
                <a:srgbClr val="984c00"/>
              </a:solidFill>
              <a:latin typeface="Times New Roman"/>
            </a:endParaRPr>
          </a:p>
        </p:txBody>
      </p:sp>
      <p:sp>
        <p:nvSpPr>
          <p:cNvPr id="1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5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testant evangelicalism heightened the cultural conflict between native-born Americans and millions of Catholic immigrants from Ireland and Germany.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ativist writers attacked Irish Catholics as anti-republican, and American workers blamed immigrant labor for their economic woes—attitudes that led to ethnic riots in many northern cities.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United States was a more prosperous society than ever before, but also one exhibiting numerous social and economic divisions</a:t>
            </a:r>
            <a:endParaRPr b="0" lang="en-US" sz="3200" spc="-1" strike="noStrike">
              <a:solidFill>
                <a:srgbClr val="a50021"/>
              </a:solidFill>
              <a:latin typeface="Times New Roman"/>
            </a:endParaRPr>
          </a:p>
          <a:p>
            <a:pPr marL="34308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esbyterian minister Charles Grandison Finney conducted emotional revivals that stressed conversion rather than instruction; Finney’s ministry drew on and accelerated the Second Great Awakening.</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nney’s message that man was able to choose salvation was particularly attractive to the middle clas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680" y="76212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inney wanted to humble the pride of the rich and relieve the shame of the poor by celebrating their common fellowship in Chris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usiness elite joined the “Cold Water” movement, establishing savings banks and Sunday schools for the poor and helping to provide relief for the unemployed.</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vivalists from New England to the Midwest copied Finney’s evangelical message and techniques and the movement swept through Pennsylvania, North Carolina, Tennessee, and Indian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Immigration and Cultural Conflict </a:t>
            </a:r>
            <a:endParaRPr b="0" i="1" lang="en-US" sz="4000" spc="-1" strike="noStrike">
              <a:solidFill>
                <a:srgbClr val="984c00"/>
              </a:solidFill>
              <a:latin typeface="Times New Roman"/>
            </a:endParaRPr>
          </a:p>
        </p:txBody>
      </p:sp>
      <p:sp>
        <p:nvSpPr>
          <p:cNvPr id="166"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tween 1840 and 1860, millions of immigrants— Irish, Germans, and Britons— poured into the United Stat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ost avoided the South, and many Germans moved to states in the Midwest, while other Germans and most of the Irish settled in the Northeast.</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prosperous immigrants were the British, followed by the Germans; the poorest were from Irelan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Germans and most Irish were Catholics and fueled the growth of the Catholic Church in Americ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cause of the Protestant religious fervor stirred up by the Second Great Awakening, Catholic immigrants met with widespread hostility; in 1834, Samuel F. B.Morse published </a:t>
            </a:r>
            <a:r>
              <a:rPr b="0" i="1" lang="en-US" sz="3200" spc="-1" strike="noStrike">
                <a:solidFill>
                  <a:srgbClr val="a50021"/>
                </a:solidFill>
                <a:latin typeface="Times New Roman"/>
              </a:rPr>
              <a:t>Foreign Conspiracy against the Liberties</a:t>
            </a:r>
            <a:r>
              <a:rPr b="0" lang="en-US" sz="3200" spc="-1" strike="noStrike">
                <a:solidFill>
                  <a:srgbClr val="a50021"/>
                </a:solidFill>
                <a:latin typeface="Times New Roman"/>
              </a:rPr>
              <a:t> </a:t>
            </a:r>
            <a:r>
              <a:rPr b="0" i="1" lang="en-US" sz="3200" spc="-1" strike="noStrike">
                <a:solidFill>
                  <a:srgbClr val="a50021"/>
                </a:solidFill>
                <a:latin typeface="Times New Roman"/>
              </a:rPr>
              <a:t>of the United States</a:t>
            </a:r>
            <a:r>
              <a:rPr b="0" lang="en-US" sz="3200" spc="-1" strike="noStrike">
                <a:solidFill>
                  <a:srgbClr val="a50021"/>
                </a:solidFill>
                <a:latin typeface="Times New Roman"/>
              </a:rPr>
              <a:t>, which warned of a Catholic threat to American republican institutio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Catholic sentiment intensified: mobs of unemployed workers attacked Catholics, and the Native American Clubs called for limits on immigratio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cial reformers often supported the anti- Catholic movement because they wanted to prevent the diversion of tax resources to Catholic schools and to oppose alcohol abuse by Irish me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most large northeastern cities, differences of class and culture led to violence and split the North in the same way that race and class divided the South.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andard of living for it's people. Everyone was beginning to make money.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1800 Eli Whitney began to make muskets with the threat of war with France. He did this outside of Springfield on the Mill River which he used to power the plant. ) and Robert Fulton.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64" name="Picture 5" descr="factory"/>
          <p:cNvPicPr/>
          <p:nvPr/>
        </p:nvPicPr>
        <p:blipFill>
          <a:blip r:embed="rId1"/>
          <a:stretch/>
        </p:blipFill>
        <p:spPr>
          <a:xfrm>
            <a:off x="0" y="41904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02 he contracted to build a steamboat for Robert R. Livingston, who held a monopoly on steamboat navigation on the Hudson. In 1807 the </a:t>
            </a:r>
            <a:r>
              <a:rPr b="0" i="1" lang="en-US" sz="2800" spc="-1" strike="noStrike">
                <a:solidFill>
                  <a:srgbClr val="a50021"/>
                </a:solidFill>
                <a:latin typeface="Times New Roman"/>
              </a:rPr>
              <a:t>Clermont,</a:t>
            </a:r>
            <a:r>
              <a:rPr b="0" lang="en-US" sz="2800" spc="-1" strike="noStrike">
                <a:solidFill>
                  <a:srgbClr val="a50021"/>
                </a:solidFill>
                <a:latin typeface="Times New Roman"/>
              </a:rPr>
              <a:t> equipped with an English engine, was launched.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41:21Z</dcterms:created>
  <dc:creator>Silvano A. Wueschner</dc:creator>
  <dc:description/>
  <dc:language>en-US</dc:language>
  <cp:lastModifiedBy>Legion</cp:lastModifiedBy>
  <dcterms:modified xsi:type="dcterms:W3CDTF">2017-07-05T11:01:40Z</dcterms:modified>
  <cp:revision>28</cp:revision>
  <dc:subject/>
  <dc:title>Slide 1</dc:title>
</cp:coreProperties>
</file>