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lick to move the slide</a:t>
            </a:r>
            <a:endParaRPr b="0" i="1" lang="en-US" sz="4400" spc="-1" strike="noStrike">
              <a:solidFill>
                <a:srgbClr val="984c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13266-457F-40E6-A5BA-A50879935B6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conomic Revolution</a:t>
            </a:r>
            <a:br>
              <a:rPr sz="1200"/>
            </a:br>
            <a:r>
              <a:rPr b="0" lang="en-US" sz="1200" spc="-1" strike="noStrike">
                <a:solidFill>
                  <a:srgbClr val="000000"/>
                </a:solidFill>
                <a:latin typeface="Calibri"/>
              </a:rPr>
              <a:t>1820–18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onomic Revolution</a:t>
            </a:r>
            <a:br>
              <a:rPr sz="1200"/>
            </a:br>
            <a:r>
              <a:rPr b="0" lang="en-US" sz="1200" spc="-1" strike="noStrike">
                <a:solidFill>
                  <a:srgbClr val="000000"/>
                </a:solidFill>
                <a:latin typeface="Times New Roman"/>
              </a:rPr>
              <a:t>1820–18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we need to understand  technological innovation as a process of borrowing and creative adaptation, and in this vein we need to be aware of Britain’s contribution to America’s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we need to understand  technological innovation as a process of borrowing and creative adaptation, and in this vein we need to be aware of Britain’s contribution to America’s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volutions in industrial production and the market system transformed the nation’s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y owners used high-speed machines and a new system of labor discipline to boost production, and enterprising merchants employed a newly built network of canals and railroads to create a vast national mark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nufacturing sector produced an ever-increasing share of the country’s wealth: from less than 5 percent in 1820 to more than 30 percent in 18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volutions in industrial production and the market system transformed the nation’s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y owners used high-speed machines and a new system of labor discipline to boost production, and enterprising merchants employed a newly built network of canals and railroads to create a vast national mark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ufacturing sector produced an ever-increasing share of the country’s wealth: from less than 5 percent in 1820 to more than 30 percent in 187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ing of Industry: Northeastern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1820 and 1860, the United States experienced an industrial and a market revolution that created a new economic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 and manufacturers organized increasingly efficient systems of production and, aided by skilled mechanics, introduced water- and steam-powered machines to turn out huge quantities of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ultaneously, merchants, traders, and shopkeepers created a vast market system in which they exchanged these manufactures for grain, meat, cotton, leather, and wool produced by a rapidly growing and westward-moving farm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ing of Industry: Northeastern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820 and 1860, the United States experienced an industrial and a market revolution that created a new economic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hants and manufacturers organized increasingly efficient systems of production and, aided by skilled mechanics, introduced water- and steam-powered machines to turn out huge quantities of goo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ly, merchants, traders, and shopkeepers created a vast market system in which they exchanged these manufactures for grain, meat, cotton, leather, and wool produced by a rapidly growing and westward-moving farm pop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sion of Labor and the Fa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trialization came to the United States after 1790 as merchants and manufacturers increased output of goods by reorganizing work and building fac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work system” was a more efficient division of labor and lowered the price of goods, but it eroded workers’ control over the pace and conditions of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asks not suited to outwork, factories were created where work was concentrated under one roof and divided into specialized ta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Labor and the Fact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ialization came to the United States after 1790 as merchants and manufacturers increased output of goods by reorganizing work and building fac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work system” was a more efficient division of labor and lowered the price of goods, but it eroded workers’ control over the pace and conditions of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asks not suited to outwork, factories were created where work was concentrated under one roof and divided into specialized tas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used newly improved stationary steam engines to power their mills and used power-driven machines and assembly lines to produce new types of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ritons feared that American manufacturers would become exporters not only to foreign countries but even to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ers used newly improved stationary steam engines to power their mills and used power-driven machines and assembly lines to produce new types of 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Britons feared that American manufacturers would become exporters not only to foreign countries but even to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textile manufacturers were able to out-compete American manufactu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extile manufacturers were able to out-compete American manufactur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xtile Industry and British Compet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Slater brought to America a design for an advanced cotton spinner; the opening of his factory in 1790 marked the advent of the American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ile Industry and British Compet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Slater brought to America a design for an advanced cotton spinner; the opening of his factory in 1790 marked the advent of the American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Slater is a major figure in American history and has been called both the "Father of American Industry" and the "Founder of the American Industrial R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Slater is a major figure in American history and has been called both the "Father of American Industry" and the "Founder of the American Industrial Rev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ndustrialization affect the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nd why did a transportation revolution occur before 18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Americans both migrate westward and move to cities during the first half of the nineteen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rise of factories affect the social relationships of Americ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industrialization affect the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d why did a transportation revolution occur before 18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Americans both migrate westward and move to cities during the first half of the nineteen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the rise of factories affect the social relationships of Americ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assed protective legislation in 1816 and 1824 levying high taxes on imported goods; tariffs were reduced again in 1833, and some textile firms went out of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producers used two other strategies to compete with their British rivals. First, they improved on British technology, and second, they found less expensive wo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pying the machines of British textile mills, Francis Cabot Lowell’s Boston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y was able to build the Waltham factory, the first American factory to perform all the operations of cloth making under one roof at higher speeds than British mills and with fewer wo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passed protective legislation in 1816 and 1824 levying high taxes on imported goods; tariffs were reduced again in 1833, and some textile firms went out of busi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roducers used two other strategies to compete with their British rivals. First, they improved on British technology, and second, they found less expensive wor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pying the machines of British textile mills, Francis Cabot Lowell’s Boston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was able to build the Waltham factory, the first American factory to perform all the operations of cloth making under one roof at higher speeds than British mills and with fewer wor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Manufacturing Company pioneered a labor system that became known as the “Waltham plan,” in which the company recruited farm women and girls as textile workers who would work for low w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arly 1830s, more than 40,000 New England women worked in textile mills; women often found this work oppressive, but many gained a new sense of freedom and aut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mbining improved technology, female labor, and tariff protection, the Boston Manufacturing Company sold textiles more cheaply than did the Brit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nufacturing Company pioneered a labor system that became known as the “Waltham plan,” in which the company recruited farm women and girls as textile workers who would work for low w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arly 1830s, more than 40,000 New England women worked in textile mills; women often found this work oppressive, but many gained a new sense of freedom and aut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improved technology, female labor, and tariff protection, the Boston Manufacturing Company sold textiles more cheaply than did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Mechanics and Technological Inno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20s, American-born craftsmen had replaced British immigrants at the cutting edge of technological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inventors in the Philadelphia region were members of the Sellars family, who helped found the Franklin Institute of Philadelphia in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Mechanics and Technological Innov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20s, American-born craftsmen had replaced British immigrants at the cutting edge of technological innov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inventors in the Philadelphia region were members of the Sellars family, who helped found the Franklin Institute of Philadelphia in 182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mechanics pioneered the development of machine tools, thus fueling the spread of the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earms industry, Eli Whitney and others developed interchangeable and precision-crafted parts that enabled largescale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1851 Crystal Palace Exhibition in London, Americans built factories in Britain and soon dominated many European mark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mechanics pioneered the development of machine tools, thus fueling the spread of the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earms industry, Eli Whitney and others developed interchangeable and precision-crafted parts that enabled largescale 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1851 Crystal Palace Exhibition in London, Americans built factories in Britain and soon dominated many European mar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ge Workers and the Labor Mo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ustrial Revolution changed the nature of work and workers’ lives as more and more white Americans left self-employment and became wage earners though they had little job security or control over their working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journeymen formed unions and bargained with their employers, particularly in hopes of setting a ten-hour work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ing Men’s Party, founded in 1828, called for the abolition of banks, equal taxation, and a system of public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ge Workers and the Labor Move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Revolution changed the nature of work and workers’ lives as more and more white Americans left self-employment and became wage earners though they had little job security or control over their working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journeymen formed unions and bargained with their employers, particularly in hopes of setting a ten-hour work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ing Men’s Party, founded in 1828, called for the abolition of banks, equal taxation, and a system of public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merica, a French visitor remarked in 1839, “all is circulation, motion, and boiling agitation. Enterprise follows enterprise [and] riches and poverty follow.” Indeed, society was changing in basic 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merica, a French visitor remarked in 1839, “all is circulation, motion, and boiling agitation. Enterprise follows enterprise [and] riches and poverty follow.” Indeed, society was changing in basic way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mid-1830s, building-trades workers had won a ten-hour workday from many employers and from the feder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sans whose occupations were threatened by industrialization—shoemakers, printers, etc.—were less successful, and some left their employers and set up specialized sh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industrial system divided the traditional artisan class into two groups: self-employed craftsmen and wage-earning crafts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nglish and American common law, it was illegal for workers to organize themselves for the purpose of raising wages because they prevented other workers from hiring themselves out for whatever wages they w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mid-1830s, building-trades workers had won a ten-hour workday from many employers and from the federal gover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sans whose occupations were threatened by industrialization—shoemakers, printers, etc.—were less successful, and some left their employers and set up specialized sh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industrial system divided the traditional artisan class into two groups: self-employed craftsmen and wage-earning crafts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English and American common law, it was illegal for workers to organize themselves for the purpose of raising wages because they prevented other workers from hiring themselves out for whatever wages they wish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30, factory workers banded together to form the Mutual Benefit Society to seek higher pay and better conditions, and in 1834, the National Trades Union was f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leaders devised a “labor theory of value” and organized strikes for higher wages; similar labor actions were taken by women textile workers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50s, labor supply exceeded demand, and unemployment rose to 10 percent, resulting in a major recession and the Panic of 18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30, factory workers banded together to form the Mutual Benefit Society to seek higher pay and better conditions, and in 1834, the National Trades Union was f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on leaders devised a “labor theory of value” and organized strikes for higher wages; similar labor actions were taken by women textile workers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50s, labor supply exceeded demand, and unemployment rose to 10 percent, resulting in a major recession and the Panic of 185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 R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ket Rev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 to the Southwest and the Mid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migrated to the West for several reasons; some were looking for land for their children, others hoped for greater profits from the western s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40, about 5 million people lived west of the Appalach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to the Southwest and the Midw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migrated to the West for several reasons; some were looking for land for their children, others hoped for greater profits from the western so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40, about 5 million people lived west of the Appalach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reduced the price of federal land in 1820, and by 1860 the population center of America had shifted significantly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reduced the price of federal land in 1820, and by 1860 the population center of America had shifted significantly to the W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portation Revolution Forges Regional 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Road and other interregional, government-funded highways were too slow and expensive to transport goods and crops effici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developed a water-borne transportation system of unprecedented size, beginning with the government-subsidized Erie Ca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nal had three things in its favor: the support of city merchants, the backing of the governor, and the gentleness of the terrain west of Alb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portation Revolution Forges Regional T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Road and other interregional, government-funded highways were too slow and expensive to transport goods and crops efficie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developed a water-borne transportation system of unprecedented size, beginning with the government-subsidized Erie Ca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al had three things in its favor: the support of city merchants, the backing of the governor, and the gentleness of the terrain west of Alb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rie Canal altered the ecology and economy of the entire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rie Canal brought prosperity to central and western New York, linked the economies of the Northeast and Midwest, and prompted a national canal b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vention of the steamboat by Robert Fulton ensured the success of the waterborne transportation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ie Canal altered the ecology and economy of the entire 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ie Canal brought prosperity to central and western New York, linked the economies of the Northeast and Midwest, and prompted a national canal bo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ention of the steamboat by Robert Fulton ensured the success of the waterborne transportation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Gibbons v. Ogden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Gibbons v. Ogden (182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the railroad created ties between the Northeast and the Midwest, and by the 1850s, railroads became the main carriers of fr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30s,Midwestern entrepreneurs were producing goods that vastly increased output—John Deere plows,  McCormick and Hussey reapers—to replace the ones Americans had been importing from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the railroad created ties between the Northeast and the Midwest, and by the 1850s, railroads became the main carriers of fre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30s,Midwestern entrepreneurs were producing goods that vastly increased output—John Deere plows,  McCormick and Hussey reapers—to replace the ones Americans had been importing from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De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rus McCormi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e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rus McCormi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cCormick Re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Cormick Re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Deere P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eere P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investors concentrated their resources in cotton and slaves, preferring to buy manufactures from the Northeast and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economy remained predominantly agricultural and generated less per capita income for Southerners than did the more industrial Northern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ern investors concentrated their resources in cotton and slaves, preferring to buy manufactures from the Northeast and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thern economy remained predominantly agricultural and generated less per capita income for Southerners than did the more industrial Northern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th of Cities and Tow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to the expansion of industry and trade, the urban population grew fourfold between 1820 and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rapid growth occurred in the new industrial towns that sprang up along the fall line; for example:  Lowell, Massachusetts; Hartford, Connecticut; Trenton, New Jersey; and Wilmington, Delaw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owth of Cities and Tow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expansion of industry and trade, the urban population grew fourfold between 1820 and 18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rapid growth occurred in the new industrial towns that sprang up along the fall line; for example:  Lowell, Massachusetts; Hartford, Connecticut; Trenton, New Jersey; and Wilmington, Delaw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commercial cities such as New Orleans, Pittsburgh, Cincinnati, and Louisville grew almost as rapidly because of their location at points where goods were transferred from one mode of transport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60, the largest cities in the United States were New York, Philadelphia, St. Louis, and Chicago, in that 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ern commercial cities such as New Orleans, Pittsburgh, Cincinnati, and Louisville grew almost as rapidly because of their location at points where goods were transferred from one mode of transport to an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largest cities in the United States were New York, Philadelphia, St. Louis, and Chicago, in that or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 Atlantic seaports—Boston, Philadelphia, Baltimore, Charleston, and especially New York City—remained important for their foreign commerce and, increasingly, as centers of finance and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s growth stemmed primarily from its control of foreign trade; by 1840, New York handled almost two-thirds of foreign imports and almost half of all foreign t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Atlantic seaports—Boston, Philadelphia, Baltimore, Charleston, and especially New York City—remained important for their foreign commerce and, increasingly, as centers of finance and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s growth stemmed primarily from its control of foreign trade; by 1840, New York handled almost two-thirds of foreign imports and almost half of all foreign tr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the Social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artisans and workers formed trade unions in generally unsuccessful efforts to improve their economic welfare. Other working people, especially those without skills and those who could not obtain steady employment, lived in pov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the Social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rtisans and workers formed trade unions in generally unsuccessful efforts to improve their economic welfare. Other working people, especially those without skills and those who could not obtain steady employment, lived in pov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ustrial Revolution shattered the traditional rural social order and created a society composed of distinct regions, classes, and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rge cities, the richest 1 percent of the population owned 40 percent of all tangible property and an even larger share of the stocks and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Revolution shattered the traditional rural social order and created a society composed of distinct regions, classes, and cul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rge cities, the richest 1 percent of the population owned 40 percent of all tangible property and an even larger share of the stocks and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vernment taxed tangible property but almost never taxed stocks, bonds, or inheritances; thus government policies allowed the richest to accumulate even more wealth at the expense of poorer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althiest families began to consciously set themselves apart, and many American cities became segregated communities divided geographically along the lines of class, race, and ethni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vernment taxed tangible property but almost never taxed stocks, bonds, or inheritances; thus government policies allowed the richest to accumulate even more wealth at the expense of poorer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althiest families began to consciously set themselves apart, and many American cities became segregated communities divided geographically along the lines of class, race, and ethn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ddle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stinct middle-class culture emerged as the per capita income of Americans rose about 2.5 percent per year between 1830 and the Panic of 18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class Americans secured material comfort for themselves and education for their children, and they stressed discipline, morality, and hard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Cl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tinct middle-class culture emerged as the per capita income of Americans rose about 2.5 percent per year between 1830 and the Panic of 185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class Americans secured material comfort for themselves and education for their children, and they stressed discipline, morality, and hard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and the middle class celebrated work as the key to a higher standard of living for the nation and social mobility for the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l of the “self-made man” became a central theme of American popular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and the middle class celebrated work as the key to a higher standard of living for the nation and social mobility for the individ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l of the “self-made man” became a central theme of American popular 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ban Workers and the Po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ttom 10 percent of the labor force, the casual workers, owned little or no property, and their jobs were unpredictable, seasonal, and danger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laborers had greater job security, but few prospered; many families sent their children out to work, and the death of one parent often sent the family into dire pov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ban Workers and the Po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10 percent of the labor force, the casual workers, owned little or no property, and their jobs were unpredictable, seasonal, and danger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laborers had greater job security, but few prospered; many families sent their children out to work, and the death of one parent often sent the family into dire pov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30s, urban factory workers and unskilled laborers lived in well-defined neighborhoods of crowded boardinghouses or tiny apartments, often with filthy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age earners turned to alcohol as a form of solace; grogshops and tippling houses appeared on almost every block in working-class districts, and police were unable to contain the lawlessness that erup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30s, urban factory workers and unskilled laborers lived in well-defined neighborhoods of crowded boardinghouses or tiny apartments, often with filthy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age earners turned to alcohol as a form of solace; grogshops and tippling houses appeared on almost every block in working-class districts, and police were unable to contain the lawlessness that erup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Emp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1820s, Congregational and Presbyterian ministers linked with merchants and their wives to launch a program of social reform and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Empire targeted drunkenness and other social ills, but it also set out to institutionalize charity and combat evil in a systematic fash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Emp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820s, Congregational and Presbyterian ministers linked with merchants and their wives to launch a program of social reform and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Empire targeted drunkenness and other social ills, but it also set out to institutionalize charity and combat evil in a systematic fash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groups encouraged people to live well-disciplined lives, and they established institutions to assist those in need and to control people who were threats to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class women were an important part of the Benevolent Empire through sponsorship of charitable organiz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reformers believed that one of the greatest threats to morality was the decline of the traditional Sabb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resistance or indifference limited the success of the Benevolent Emp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groups encouraged people to live well-disciplined lives, and they established institutions to assist those in need and to control people who were threats to soci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class women were an important part of the Benevolent Empire through sponsorship of charitable organiz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ormers believed that one of the greatest threats to morality was the decline of the traditional Sabb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r resistance or indifference limited the success of the Benevolent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valism and Re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valism and Re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mprove the living conditions and to balance the vices of the poor, upper-class Americans formed benevolent reform societies that promoted temperance, dispensed charity, and encouraged respect for the Christian Sabba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ultaneously, Charles Grandison Finney and other evangelical clergymen gave new life to the Second Great Awakening, enlisting missions of propertied farmers and middle-class Americans in a massive religious revival mo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mprove the living conditions and to balance the vices of the poor, upper-class Americans formed benevolent reform societies that promoted temperance, dispensed charity, and encouraged respect for the Christian Sabba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ly, Charles Grandison Finney and other evangelical clergymen gave new life to the Second Great Awakening, enlisting missions of propertied farmers and middle-class Americans in a massive religious revival move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stant evangelicalism heightened the cultural conflict between native-born Americans and millions of Catholic immigrants from Ireland and Germa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stant evangelicalism heightened the cultural conflict between native-born Americans and millions of Catholic immigrants from Ireland and German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ist writers attacked Irish Catholics as anti-republican, and American workers blamed immigrant labor for their economic woes—attitudes that led to ethnic riots in many northern c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60, the United States was a more prosperous society than ever before, but also one exhibiting numerous social and economic div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ist writers attacked Irish Catholics as anti-republican, and American workers blamed immigrant labor for their economic woes—attitudes that led to ethnic riots in many northern cit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United States was a more prosperous society than ever before, but also one exhibiting numerous social and economic divis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byterian minister Charles Grandison Finney conducted emotional revivals that stressed conversion rather than instruction; Finney’s ministry drew on and accelerated the Second Great Awa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ney’s message that man was able to choose salvation was particularly attractive to the middle c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byterian minister Charles Grandison Finney conducted emotional revivals that stressed conversion rather than instruction; Finney’s ministry drew on and accelerated the Second Great Awake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ney’s message that man was able to choose salvation was particularly attractive to the middle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ney wanted to humble the pride of the rich and relieve the shame of the poor by celebrating their common fellowship in Chr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joined the “Cold Water” movement, establishing savings banks and Sunday schools for the poor and helping to provide relief for the unemplo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ney wanted to humble the pride of the rich and relieve the shame of the poor by celebrating their common fellowship in Ch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joined the “Cold Water” movement, establishing savings banks and Sunday schools for the poor and helping to provide relief for the unemploy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valists from New England to the Midwest copied Finney’s evangelical message and techniques and the movement swept through Pennsylvania, North Carolina, Tennessee, and Indi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nce movement proved to be the most effective arena for evangelical social reform; the American Temperance Society adapted methods that worked well in the revivals and helped the consumption of spirits to fall dra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valists from New England to the Midwest copied Finney’s evangelical message and techniques and the movement swept through Pennsylvania, North Carolina, Tennessee, and Indi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nce movement proved to be the most effective arena for evangelical social reform; the American Temperance Society adapted methods that worked well in the revivals and helped the consumption of spirits to fall dramat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tion and Cultural Confli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1840 and 1860, millions of immigrants— Irish, Germans, and Britons— poured into the United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voided the South, and many Germans moved to states in the Midwest, while other Germans and most of the Irish settled in the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prosperous immigrants were the British, followed by the Germans; the poorest were from Ire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and Cultural Confli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840 and 1860, millions of immigrants— Irish, Germans, and Britons— poured into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voided the South, and many Germans moved to states in the Midwest, while other Germans and most of the Irish settled in the Northe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prosperous immigrants were the British, followed by the Germans; the poorest were from Ire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and most Irish were Catholics and fueled the growth of the Catholic Church in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rotestant religious fervor stirred up by the Second Great Awakening, Catholic immigrants met with widespread hostility; in 1834, Samuel F. B.Morse published Foreign Conspiracy against the Liberties of the United States, which warned of a Catholic threat to American republican instit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Germans and most Irish were Catholics and fueled the growth of the Catholic Church in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otestant religious fervor stirred up by the Second Great Awakening, Catholic immigrants met with widespread hostility; in 1834, Samuel F. B.Morse published Foreign Conspiracy against the Liberties of the United States, which warned of a Catholic threat to American republican institu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Catholic sentiment intensified: mobs of unemployed workers attacked Catholics, and the Native American Clubs called for limits on immi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reformers often supported the anti- Catholic movement because they wanted to prevent the diversion of tax resources to Catholic schools and to oppose alcohol abuse by Irish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atholic sentiment intensified: mobs of unemployed workers attacked Catholics, and the Native American Clubs called for limits on immig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formers often supported the anti- Catholic movement because they wanted to prevent the diversion of tax resources to Catholic schools and to oppose alcohol abuse by Irish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large northeastern cities, differences of class and culture led to violence and split the North in the same way that race and class divided the Sou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large northeastern cities, differences of class and culture led to violence and split the North in the same way that race and class divided the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of living for it's people. Everyone was beginning to make m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00 Eli Whitney began to make muskets with the threat of war with France. He did this outside of Springfield on the Mill River which he used to power the plant. ) and Robert Ful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of living for it's people. Everyone was beginning to make m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0 Eli Whitney began to make muskets with the threat of war with France. He did this outside of Springfield on the Mill River which he used to power the plant. ) and Robert Ful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02 he contracted to build a steamboat for Robert R. Livingston, who held a monopoly on steamboat navigation on the Hudson. In 1807 the Clermont, equipped with an English engine, was launc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2 he contracted to build a steamboat for Robert R. Livingston, who held a monopoly on steamboat navigation on the Hudson. In 1807 the Clermont, equipped with an English engine, was launch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5" name="PlaceHolder 2"/>
          <p:cNvSpPr>
            <a:spLocks noGrp="1"/>
          </p:cNvSpPr>
          <p:nvPr>
            <p:ph/>
          </p:nvPr>
        </p:nvSpPr>
        <p:spPr>
          <a:xfrm>
            <a:off x="1066680" y="175248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6" name="PlaceHolder 3"/>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8"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9"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0"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1" name="PlaceHolder 5"/>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33" name="PlaceHolder 2"/>
          <p:cNvSpPr>
            <a:spLocks noGrp="1"/>
          </p:cNvSpPr>
          <p:nvPr>
            <p:ph/>
          </p:nvPr>
        </p:nvSpPr>
        <p:spPr>
          <a:xfrm>
            <a:off x="106668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4" name="PlaceHolder 3"/>
          <p:cNvSpPr>
            <a:spLocks noGrp="1"/>
          </p:cNvSpPr>
          <p:nvPr>
            <p:ph/>
          </p:nvPr>
        </p:nvSpPr>
        <p:spPr>
          <a:xfrm>
            <a:off x="369468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5" name="PlaceHolder 4"/>
          <p:cNvSpPr>
            <a:spLocks noGrp="1"/>
          </p:cNvSpPr>
          <p:nvPr>
            <p:ph/>
          </p:nvPr>
        </p:nvSpPr>
        <p:spPr>
          <a:xfrm>
            <a:off x="632232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6" name="PlaceHolder 5"/>
          <p:cNvSpPr>
            <a:spLocks noGrp="1"/>
          </p:cNvSpPr>
          <p:nvPr>
            <p:ph/>
          </p:nvPr>
        </p:nvSpPr>
        <p:spPr>
          <a:xfrm>
            <a:off x="106668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7" name="PlaceHolder 6"/>
          <p:cNvSpPr>
            <a:spLocks noGrp="1"/>
          </p:cNvSpPr>
          <p:nvPr>
            <p:ph/>
          </p:nvPr>
        </p:nvSpPr>
        <p:spPr>
          <a:xfrm>
            <a:off x="369468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8" name="PlaceHolder 7"/>
          <p:cNvSpPr>
            <a:spLocks noGrp="1"/>
          </p:cNvSpPr>
          <p:nvPr>
            <p:ph/>
          </p:nvPr>
        </p:nvSpPr>
        <p:spPr>
          <a:xfrm>
            <a:off x="632232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4" name="PlaceHolder 2"/>
          <p:cNvSpPr>
            <a:spLocks noGrp="1"/>
          </p:cNvSpPr>
          <p:nvPr>
            <p:ph type="subTitle"/>
          </p:nvPr>
        </p:nvSpPr>
        <p:spPr>
          <a:xfrm>
            <a:off x="1066680" y="1752480"/>
            <a:ext cx="77724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9"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320" y="304560"/>
            <a:ext cx="762012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4"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5"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7"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8"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9" name="PlaceHolder 4"/>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1"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2"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3" name="PlaceHolder 4"/>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fontScale="81000"/>
          </a:bodyPr>
          <a:p>
            <a:pPr marL="277560" indent="-277560">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lick to edit the outline text format</a:t>
            </a:r>
            <a:endParaRPr b="0" lang="en-US" sz="3200" spc="-1" strike="noStrike">
              <a:solidFill>
                <a:srgbClr val="a50021"/>
              </a:solidFill>
              <a:latin typeface="Times New Roman"/>
            </a:endParaRPr>
          </a:p>
          <a:p>
            <a:pPr lvl="1" marL="601560" indent="-23148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econd Outline Level</a:t>
            </a:r>
            <a:endParaRPr b="0" lang="en-US" sz="3200" spc="-1" strike="noStrike">
              <a:solidFill>
                <a:srgbClr val="a50021"/>
              </a:solidFill>
              <a:latin typeface="Times New Roman"/>
            </a:endParaRPr>
          </a:p>
          <a:p>
            <a:pPr lvl="2" marL="92556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ird Outline Level</a:t>
            </a:r>
            <a:endParaRPr b="0" lang="en-US" sz="3200" spc="-1" strike="noStrike">
              <a:solidFill>
                <a:srgbClr val="a50021"/>
              </a:solidFill>
              <a:latin typeface="Times New Roman"/>
            </a:endParaRPr>
          </a:p>
          <a:p>
            <a:pPr lvl="3" marL="129600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ourth Outline Level</a:t>
            </a:r>
            <a:endParaRPr b="0" lang="en-US" sz="3200" spc="-1" strike="noStrike">
              <a:solidFill>
                <a:srgbClr val="a50021"/>
              </a:solidFill>
              <a:latin typeface="Times New Roman"/>
            </a:endParaRPr>
          </a:p>
          <a:p>
            <a:pPr lvl="4" marL="166644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ifth Outline Level</a:t>
            </a:r>
            <a:endParaRPr b="0" lang="en-US" sz="3200" spc="-1" strike="noStrike">
              <a:solidFill>
                <a:srgbClr val="a50021"/>
              </a:solidFill>
              <a:latin typeface="Times New Roman"/>
            </a:endParaRPr>
          </a:p>
          <a:p>
            <a:pPr lvl="5" marL="1666440" indent="-18504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ixth Outline Level</a:t>
            </a:r>
            <a:endParaRPr b="0" lang="en-US" sz="3200" spc="-1" strike="noStrike">
              <a:solidFill>
                <a:srgbClr val="a50021"/>
              </a:solidFill>
              <a:latin typeface="Times New Roman"/>
            </a:endParaRPr>
          </a:p>
          <a:p>
            <a:pPr lvl="6" marL="1666440" indent="-18504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eventh Outline Level</a:t>
            </a:r>
            <a:endParaRPr b="0" lang="en-US" sz="3200" spc="-1" strike="noStrike">
              <a:solidFill>
                <a:srgbClr val="a50021"/>
              </a:solidFill>
              <a:latin typeface="Times New Roman"/>
            </a:endParaRPr>
          </a:p>
        </p:txBody>
      </p:sp>
      <p:pic>
        <p:nvPicPr>
          <p:cNvPr id="1" name="Picture 3" descr=""/>
          <p:cNvPicPr/>
          <p:nvPr/>
        </p:nvPicPr>
        <p:blipFill>
          <a:blip r:embed="rId4"/>
          <a:stretch/>
        </p:blipFill>
        <p:spPr>
          <a:xfrm>
            <a:off x="0" y="9360"/>
            <a:ext cx="703440" cy="6848640"/>
          </a:xfrm>
          <a:prstGeom prst="rect">
            <a:avLst/>
          </a:prstGeom>
          <a:ln w="0">
            <a:noFill/>
          </a:ln>
        </p:spPr>
      </p:pic>
      <p:sp>
        <p:nvSpPr>
          <p:cNvPr id="2" name="PlaceHolder 2"/>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lick to edit the title text format</a:t>
            </a:r>
            <a:endParaRPr b="0" i="1" lang="en-US" sz="4400" spc="-1" strike="noStrike">
              <a:solidFill>
                <a:srgbClr val="984c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Image:Boston_Manufacturing_Company.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en.wikipedia.org/wiki/Image:Mrjohndeere.gif"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2130120"/>
            <a:ext cx="7543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84c00"/>
                </a:solidFill>
                <a:latin typeface="Times New Roman"/>
              </a:rPr>
              <a:t>The Economic Revolution</a:t>
            </a:r>
            <a:br>
              <a:rPr sz="4400"/>
            </a:br>
            <a:r>
              <a:rPr b="1" i="1" lang="en-US" sz="4400" spc="-1" strike="noStrike">
                <a:solidFill>
                  <a:srgbClr val="984c00"/>
                </a:solidFill>
                <a:latin typeface="Times New Roman"/>
              </a:rPr>
              <a:t>1820–1860</a:t>
            </a:r>
            <a:endParaRPr b="0" i="1" lang="en-US" sz="4400" spc="-1" strike="noStrike">
              <a:solidFill>
                <a:srgbClr val="984c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pic>
        <p:nvPicPr>
          <p:cNvPr id="67" name="Picture 4" descr="fulton"/>
          <p:cNvPicPr/>
          <p:nvPr/>
        </p:nvPicPr>
        <p:blipFill>
          <a:blip r:embed="rId1"/>
          <a:stretch/>
        </p:blipFill>
        <p:spPr>
          <a:xfrm>
            <a:off x="0" y="0"/>
            <a:ext cx="4065480" cy="6858000"/>
          </a:xfrm>
          <a:prstGeom prst="rect">
            <a:avLst/>
          </a:prstGeom>
          <a:ln w="0">
            <a:noFill/>
          </a:ln>
        </p:spPr>
      </p:pic>
      <p:pic>
        <p:nvPicPr>
          <p:cNvPr id="68" name="Picture 5" descr="fulton2"/>
          <p:cNvPicPr/>
          <p:nvPr/>
        </p:nvPicPr>
        <p:blipFill>
          <a:blip r:embed="rId2"/>
          <a:stretch/>
        </p:blipFill>
        <p:spPr>
          <a:xfrm>
            <a:off x="4114800" y="0"/>
            <a:ext cx="5029200" cy="285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70"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Of course we need to understand  technological innovation as a process of borrowing and creative adaptation, and in this vein we need to be aware of Britain’s contribution to America’s Industrial Revolutio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84c00"/>
                </a:solidFill>
                <a:latin typeface="Times New Roman"/>
              </a:rPr>
              <a:t>Economy</a:t>
            </a:r>
            <a:endParaRPr b="0" i="1" lang="en-US" sz="4400" spc="-1" strike="noStrike">
              <a:solidFill>
                <a:srgbClr val="984c00"/>
              </a:solidFill>
              <a:latin typeface="Times New Roman"/>
            </a:endParaRPr>
          </a:p>
        </p:txBody>
      </p:sp>
      <p:sp>
        <p:nvSpPr>
          <p:cNvPr id="7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wo revolutions in industrial production and the market system transformed the nation’s economy</a:t>
            </a:r>
            <a:endParaRPr b="0" lang="en-US" sz="2800" spc="-1" strike="noStrike">
              <a:solidFill>
                <a:srgbClr val="a50021"/>
              </a:solidFill>
              <a:latin typeface="Times New Roman"/>
            </a:endParaRPr>
          </a:p>
          <a:p>
            <a:pPr lvl="1" marL="743040" indent="-285840">
              <a:spcAft>
                <a:spcPts val="1500"/>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c00"/>
                </a:solidFill>
                <a:latin typeface="Times New Roman"/>
              </a:rPr>
              <a:t>Factory owners used high-speed machines and a new system of labor discipline to boost production, and enterprising merchants employed a newly built network of canals and railroads to create a vast national market.  </a:t>
            </a:r>
            <a:endParaRPr b="0" lang="en-US" sz="2400" spc="-1" strike="noStrike">
              <a:solidFill>
                <a:srgbClr val="984c00"/>
              </a:solidFill>
              <a:latin typeface="Times New Roman"/>
            </a:endParaRPr>
          </a:p>
          <a:p>
            <a:pPr lvl="1" marL="743040" indent="-285840">
              <a:spcAft>
                <a:spcPts val="1500"/>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c00"/>
                </a:solidFill>
                <a:latin typeface="Times New Roman"/>
              </a:rPr>
              <a:t>The manufacturing sector produced an ever-increasing share of the country’s wealth: from less than 5 percent in 1820 to more than 30 percent in 1877.</a:t>
            </a:r>
            <a:endParaRPr b="0" lang="en-US" sz="2400" spc="-1" strike="noStrike">
              <a:solidFill>
                <a:srgbClr val="984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Coming of Industry: Northeastern Manufacturing</a:t>
            </a:r>
            <a:endParaRPr b="0" i="1" lang="en-US" sz="4000" spc="-1" strike="noStrike">
              <a:solidFill>
                <a:srgbClr val="984c00"/>
              </a:solidFill>
              <a:latin typeface="Times New Roman"/>
            </a:endParaRPr>
          </a:p>
        </p:txBody>
      </p:sp>
      <p:sp>
        <p:nvSpPr>
          <p:cNvPr id="74" name="PlaceHolder 2"/>
          <p:cNvSpPr>
            <a:spLocks noGrp="1"/>
          </p:cNvSpPr>
          <p:nvPr>
            <p:ph/>
          </p:nvPr>
        </p:nvSpPr>
        <p:spPr>
          <a:xfrm>
            <a:off x="1066680" y="1752120"/>
            <a:ext cx="7772400" cy="48006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Between 1820 and 1860, the United States experienced an industrial and a market revolution that created a new economic structure.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Merchants and manufacturers organized increasingly efficient systems of production and, aided by skilled mechanics, introduced water- and steam-powered machines to turn out huge quantities of goods.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Simultaneously, merchants, traders, and shopkeepers created a vast market system in which they exchanged these manufactures for grain, meat, cotton, leather, and wool produced by a rapidly growing and westward-moving farm population.</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Division of Labor and the Factory </a:t>
            </a:r>
            <a:endParaRPr b="0" i="1" lang="en-US" sz="4000" spc="-1" strike="noStrike">
              <a:solidFill>
                <a:srgbClr val="984c00"/>
              </a:solidFill>
              <a:latin typeface="Times New Roman"/>
            </a:endParaRPr>
          </a:p>
        </p:txBody>
      </p:sp>
      <p:sp>
        <p:nvSpPr>
          <p:cNvPr id="76"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dustrialization came to the United States after 1790 as merchants and manufacturers increased output of goods by reorganizing work and building factori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outwork system” was a more efficient division of labor and lowered the price of goods, but it eroded workers’ control over the pace and conditions of work.</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For tasks not suited to outwork, factories were created where work was concentrated under one roof and divided into specialized task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7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Manufacturers used newly improved stationary steam engines to power their mills and used power-driven machines and assembly lines to produce new types of products.</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me Britons feared that American manufacturers would become exporters not only to foreign countries but even to England.</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837720" y="533160"/>
            <a:ext cx="8001000" cy="60195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ritish textile manufacturers were able to out-compete American manufacturer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3200" spc="-1" strike="noStrike">
              <a:solidFill>
                <a:srgbClr val="a50021"/>
              </a:solidFill>
              <a:latin typeface="Times New Roman"/>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Textile Industry and British Competition </a:t>
            </a:r>
            <a:endParaRPr b="0" i="1" lang="en-US" sz="4000" spc="-1" strike="noStrike">
              <a:solidFill>
                <a:srgbClr val="984c00"/>
              </a:solidFill>
              <a:latin typeface="Times New Roman"/>
            </a:endParaRPr>
          </a:p>
        </p:txBody>
      </p:sp>
      <p:sp>
        <p:nvSpPr>
          <p:cNvPr id="81" name="PlaceHolder 2"/>
          <p:cNvSpPr>
            <a:spLocks noGrp="1"/>
          </p:cNvSpPr>
          <p:nvPr>
            <p:ph/>
          </p:nvPr>
        </p:nvSpPr>
        <p:spPr>
          <a:xfrm>
            <a:off x="1066680" y="1752480"/>
            <a:ext cx="7772400" cy="464832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amuel Slater brought to America a design for an advanced cotton spinner; the opening of his factory in 1790 marked the advent of the American Industrial Revolution.</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0" y="304920"/>
            <a:ext cx="3657600" cy="495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84c00"/>
                </a:solidFill>
                <a:latin typeface="Times New Roman"/>
              </a:rPr>
              <a:t>Samuel Slater is a major figure in American history and has been called both the "Father of American Industry" and the "Founder of the American Industrial Revolution."</a:t>
            </a:r>
            <a:r>
              <a:rPr b="0" i="1" lang="en-US" sz="4000" spc="-1" strike="noStrike">
                <a:solidFill>
                  <a:srgbClr val="984c00"/>
                </a:solidFill>
                <a:latin typeface="Times New Roman"/>
              </a:rPr>
              <a:t> </a:t>
            </a:r>
            <a:endParaRPr b="0" i="1" lang="en-US" sz="4000" spc="-1" strike="noStrike">
              <a:solidFill>
                <a:srgbClr val="984c00"/>
              </a:solidFill>
              <a:latin typeface="Times New Roman"/>
            </a:endParaRPr>
          </a:p>
        </p:txBody>
      </p:sp>
      <p:sp>
        <p:nvSpPr>
          <p:cNvPr id="8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86" name="Picture 5" descr="slater"/>
          <p:cNvPicPr/>
          <p:nvPr/>
        </p:nvPicPr>
        <p:blipFill>
          <a:blip r:embed="rId1"/>
          <a:stretch/>
        </p:blipFill>
        <p:spPr>
          <a:xfrm>
            <a:off x="685800" y="0"/>
            <a:ext cx="41832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49" name="PlaceHolder 2"/>
          <p:cNvSpPr>
            <a:spLocks noGrp="1"/>
          </p:cNvSpPr>
          <p:nvPr>
            <p:ph/>
          </p:nvPr>
        </p:nvSpPr>
        <p:spPr>
          <a:xfrm>
            <a:off x="1066680" y="1752480"/>
            <a:ext cx="7772400" cy="4114800"/>
          </a:xfrm>
          <a:prstGeom prst="rect">
            <a:avLst/>
          </a:prstGeom>
          <a:noFill/>
          <a:ln w="0">
            <a:noFill/>
          </a:ln>
        </p:spPr>
        <p:txBody>
          <a:bodyPr anchor="t">
            <a:normAutofit/>
          </a:bodyPr>
          <a:p>
            <a:pPr marL="609480" indent="-609480">
              <a:lnSpc>
                <a:spcPct val="90000"/>
              </a:lnSpc>
              <a:spcAft>
                <a:spcPts val="1749"/>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did industrialization affect the economy?</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and why did a transportation revolution occur before 1860?</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Why did Americans both migrate westward and move to cities during the first half of the nineteenth century?</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did the rise of factories affect the social relationships of Americans? </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8"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89" name="Picture 5" descr="spools.gif"/>
          <p:cNvPicPr/>
          <p:nvPr/>
        </p:nvPicPr>
        <p:blipFill>
          <a:blip r:embed="rId1"/>
          <a:stretch/>
        </p:blipFill>
        <p:spPr>
          <a:xfrm>
            <a:off x="685800" y="0"/>
            <a:ext cx="8458200" cy="568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1" name="PlaceHolder 2"/>
          <p:cNvSpPr>
            <a:spLocks noGrp="1"/>
          </p:cNvSpPr>
          <p:nvPr>
            <p:ph/>
          </p:nvPr>
        </p:nvSpPr>
        <p:spPr>
          <a:xfrm>
            <a:off x="1066680" y="228600"/>
            <a:ext cx="7772400" cy="632448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ongress passed protective legislation in 1816 and 1824 levying high taxes on imported goods; tariffs were reduced again in 1833, and some textile firms went out of busines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 producers used two other strategies to compete with their British rivals. First, they improved on British technology, and second, they found less expensive worker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copying the machines of British textile mills, Francis Cabot Lowell’s Boston Manufacturing</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ompany was able to build the Waltham factory, the first American factory to perform all the operations of cloth making under one roof at higher speeds than British mills and with fewer worker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94" name="Picture 5" descr="Boston Manufacturing Co., Waltham, Massachusetts">
            <a:hlinkClick r:id="rId1"/>
          </p:cNvPr>
          <p:cNvPicPr/>
          <p:nvPr/>
        </p:nvPicPr>
        <p:blipFill>
          <a:blip r:embed="rId2"/>
          <a:stretch/>
        </p:blipFill>
        <p:spPr>
          <a:xfrm>
            <a:off x="155520" y="46080"/>
            <a:ext cx="8988480" cy="67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6" name="PlaceHolder 2"/>
          <p:cNvSpPr>
            <a:spLocks noGrp="1"/>
          </p:cNvSpPr>
          <p:nvPr>
            <p:ph/>
          </p:nvPr>
        </p:nvSpPr>
        <p:spPr>
          <a:xfrm>
            <a:off x="1066680" y="380880"/>
            <a:ext cx="7772400" cy="548640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Boston Manufacturing Company pioneered a labor system that became known as the “Waltham plan,” in which the company recruited farm women and girls as textile workers who would work for low wag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early 1830s, more than 40,000 New England women worked in textile mills; women often found this work oppressive, but many gained a new sense of freedom and autonomy.</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combining improved technology, female labor, and tariff protection, the Boston Manufacturing Company sold textiles more cheaply than did the British.</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Productivity</a:t>
            </a:r>
            <a:endParaRPr b="0" i="1" lang="en-US" sz="4400" spc="-1" strike="noStrike">
              <a:solidFill>
                <a:srgbClr val="984c00"/>
              </a:solidFill>
              <a:latin typeface="Times New Roman"/>
            </a:endParaRPr>
          </a:p>
        </p:txBody>
      </p:sp>
      <p:sp>
        <p:nvSpPr>
          <p:cNvPr id="100" name="PlaceHolder 2"/>
          <p:cNvSpPr>
            <a:spLocks noGrp="1"/>
          </p:cNvSpPr>
          <p:nvPr>
            <p:ph/>
          </p:nvPr>
        </p:nvSpPr>
        <p:spPr>
          <a:xfrm>
            <a:off x="1066680" y="1295280"/>
            <a:ext cx="7772400" cy="50292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American Mechanics and Technological Innovation </a:t>
            </a:r>
            <a:endParaRPr b="0" i="1" lang="en-US" sz="4000" spc="-1" strike="noStrike">
              <a:solidFill>
                <a:srgbClr val="984c00"/>
              </a:solidFill>
              <a:latin typeface="Times New Roman"/>
            </a:endParaRPr>
          </a:p>
        </p:txBody>
      </p:sp>
      <p:sp>
        <p:nvSpPr>
          <p:cNvPr id="102"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By the 1820s, American-born craftsmen had replaced British immigrants at the cutting edge of technological innovation.</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most important inventors in the Philadelphia region were members of the Sellars family, who helped found the Franklin Institute of Philadelphia in 1824.</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 mechanics pioneered the development of machine tools, thus fueling the spread of the Industrial Revolutio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the firearms industry, Eli Whitney and others developed interchangeable and precision-crafted parts that enabled largescale productio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fter the 1851 Crystal Palace Exhibition in London, Americans built factories in Britain and soon dominated many European market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0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Wage Workers and the Labor Movement </a:t>
            </a:r>
            <a:endParaRPr b="0" i="1" lang="en-US" sz="4000" spc="-1" strike="noStrike">
              <a:solidFill>
                <a:srgbClr val="984c00"/>
              </a:solidFill>
              <a:latin typeface="Times New Roman"/>
            </a:endParaRPr>
          </a:p>
        </p:txBody>
      </p:sp>
      <p:sp>
        <p:nvSpPr>
          <p:cNvPr id="10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Industrial Revolution changed the nature of work and workers’ lives as more and more white Americans left self-employment and became wage earners though they had little job security or control over their working conditions.</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Some journeymen formed unions and bargained with their employers, particularly in hopes of setting a ten-hour workday.</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Working Men’s Party, founded in 1828, called for the abolition of banks, equal taxation, and a system of public education.</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In America, a French visitor remarked in 1839, “all is circulation, motion, and boiling agitation. Enterprise follows enterprise [and] riches and poverty follow.” Indeed, society was changing in basic ways.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066680" y="457200"/>
            <a:ext cx="7772400" cy="601992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mid-1830s, building-trades workers had won a ten-hour workday from many employers and from the federal government.</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rtisans whose occupations were threatened by industrialization—shoemakers, printers, etc.—were less successful, and some left their employers and set up specialized shop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new industrial system divided the traditional artisan class into two groups: self-employed craftsmen and wage-earning craftsme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Under English and American common law, it was illegal for workers to organize themselves for the purpose of raising wages because they prevented other workers from hiring themselves out for whatever wages they wished.</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1830, factory workers banded together to form the Mutual Benefit Society to seek higher pay and better conditions, and in 1834, the National Trades Union was founded.</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Union leaders devised a “labor theory of value” and organized strikes for higher wages; similar labor actions were taken by women textile workers as well.</a:t>
            </a:r>
            <a:endParaRPr b="0" lang="en-US" sz="2800" spc="-1" strike="noStrike">
              <a:solidFill>
                <a:srgbClr val="a50021"/>
              </a:solidFill>
              <a:latin typeface="Times New Roman"/>
            </a:endParaRPr>
          </a:p>
          <a:p>
            <a:pPr marL="343080" indent="-343080">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1850s, labor supply exceeded demand, and unemployment rose to 10 percent, resulting in a major recession and the Panic of 1857.</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666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482400"/>
                </a:solidFill>
                <a:latin typeface="Times New Roman"/>
              </a:rPr>
              <a:t>The Market Revolution</a:t>
            </a:r>
            <a:r>
              <a:rPr b="0" i="1" lang="en-US" sz="4400" spc="-1" strike="noStrike">
                <a:solidFill>
                  <a:srgbClr val="984c00"/>
                </a:solidFill>
                <a:latin typeface="Times New Roman"/>
              </a:rPr>
              <a:t> </a:t>
            </a:r>
            <a:endParaRPr b="0" i="1" lang="en-US" sz="4400" spc="-1" strike="noStrike">
              <a:solidFill>
                <a:srgbClr val="984c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066680" y="456840"/>
            <a:ext cx="7772400" cy="6095880"/>
          </a:xfrm>
          <a:prstGeom prst="rect">
            <a:avLst/>
          </a:prstGeom>
          <a:noFill/>
          <a:ln w="0">
            <a:noFill/>
          </a:ln>
        </p:spPr>
        <p:txBody>
          <a:bodyPr anchor="t">
            <a:normAutofit/>
          </a:bodyPr>
          <a:p>
            <a:pPr marL="343080" indent="-343080">
              <a:lnSpc>
                <a:spcPct val="9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2800" spc="-1" strike="noStrike">
              <a:solidFill>
                <a:srgbClr val="a50021"/>
              </a:solidFill>
              <a:latin typeface="Times New Roman"/>
            </a:endParaRPr>
          </a:p>
          <a:p>
            <a:pPr marL="343080" indent="-343080">
              <a:lnSpc>
                <a:spcPct val="9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Migration to the Southwest and the Midwest </a:t>
            </a:r>
            <a:endParaRPr b="0" i="1" lang="en-US" sz="4000" spc="-1" strike="noStrike">
              <a:solidFill>
                <a:srgbClr val="984c00"/>
              </a:solidFill>
              <a:latin typeface="Times New Roman"/>
            </a:endParaRPr>
          </a:p>
        </p:txBody>
      </p:sp>
      <p:sp>
        <p:nvSpPr>
          <p:cNvPr id="113"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eople migrated to the West for several reasons; some were looking for land for their children, others hoped for greater profits from the western soil.</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40, about 5 million people lived west of the Appalachian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066680" y="457200"/>
            <a:ext cx="7772400" cy="59436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ongress reduced the price of federal land in 1820, and by 1860 the population center of America had shifted significantly to the West.</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Transportation Revolution Forges Regional Ties </a:t>
            </a:r>
            <a:endParaRPr b="0" i="1" lang="en-US" sz="4000" spc="-1" strike="noStrike">
              <a:solidFill>
                <a:srgbClr val="984c00"/>
              </a:solidFill>
              <a:latin typeface="Times New Roman"/>
            </a:endParaRPr>
          </a:p>
        </p:txBody>
      </p:sp>
      <p:sp>
        <p:nvSpPr>
          <p:cNvPr id="116" name="PlaceHolder 2"/>
          <p:cNvSpPr>
            <a:spLocks noGrp="1"/>
          </p:cNvSpPr>
          <p:nvPr>
            <p:ph/>
          </p:nvPr>
        </p:nvSpPr>
        <p:spPr>
          <a:xfrm>
            <a:off x="1066680" y="1752480"/>
            <a:ext cx="7772400" cy="45720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National Road and other interregional, government-funded highways were too slow and expensive to transport goods and crops efficiently.</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s developed a water-borne transportation system of unprecedented size, beginning with the government-subsidized Erie Canal.</a:t>
            </a:r>
            <a:endParaRPr b="0" lang="en-US" sz="2800" spc="-1" strike="noStrike">
              <a:solidFill>
                <a:srgbClr val="a50021"/>
              </a:solidFill>
              <a:latin typeface="Times New Roman"/>
            </a:endParaRPr>
          </a:p>
          <a:p>
            <a:pPr marL="343080" indent="-343080">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canal had three things in its favor: the support of city merchants, the backing of the governor, and the gentleness of the terrain west of Albany.</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18" name="PlaceHolder 2"/>
          <p:cNvSpPr>
            <a:spLocks noGrp="1"/>
          </p:cNvSpPr>
          <p:nvPr>
            <p:ph/>
          </p:nvPr>
        </p:nvSpPr>
        <p:spPr>
          <a:xfrm>
            <a:off x="1066680" y="990720"/>
            <a:ext cx="7772400" cy="487656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rie Canal altered the ecology and economy of the entire regio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rie Canal brought prosperity to central and western New York, linked the economies of the Northeast and Midwest, and prompted a national canal boom.</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nvention of the steamboat by Robert Fulton ensured the success of the waterborne transportation system.</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20"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a:t>
            </a:r>
            <a:r>
              <a:rPr b="0" i="1" lang="en-US" sz="3200" spc="-1" strike="noStrike">
                <a:solidFill>
                  <a:srgbClr val="a50021"/>
                </a:solidFill>
                <a:latin typeface="Times New Roman"/>
              </a:rPr>
              <a:t>Gibbons v. Ogden</a:t>
            </a:r>
            <a:r>
              <a:rPr b="0" lang="en-US" sz="3200" spc="-1" strike="noStrike">
                <a:solidFill>
                  <a:srgbClr val="a50021"/>
                </a:solidFill>
                <a:latin typeface="Times New Roman"/>
              </a:rPr>
              <a:t> (1824).</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066680" y="685440"/>
            <a:ext cx="7772400" cy="56386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development of the railroad created ties between the Northeast and the Midwest, and by the 1850s, railroads became the main carriers of freight.</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the 1830s,Midwestern entrepreneurs were producing goods that vastly increased output—John Deere plows,  McCormick and Hussey reapers—to replace the ones Americans had been importing from Britai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pic>
        <p:nvPicPr>
          <p:cNvPr id="123" name="Picture 5" descr="John Deere">
            <a:hlinkClick r:id="rId1"/>
          </p:cNvPr>
          <p:cNvPicPr/>
          <p:nvPr/>
        </p:nvPicPr>
        <p:blipFill>
          <a:blip r:embed="rId2"/>
          <a:stretch/>
        </p:blipFill>
        <p:spPr>
          <a:xfrm>
            <a:off x="0" y="0"/>
            <a:ext cx="3525840" cy="5867280"/>
          </a:xfrm>
          <a:prstGeom prst="rect">
            <a:avLst/>
          </a:prstGeom>
          <a:ln w="0">
            <a:noFill/>
          </a:ln>
        </p:spPr>
      </p:pic>
      <p:pic>
        <p:nvPicPr>
          <p:cNvPr id="124" name="Picture 7" descr="Cyrus McCormick"/>
          <p:cNvPicPr/>
          <p:nvPr/>
        </p:nvPicPr>
        <p:blipFill>
          <a:blip r:embed="rId3"/>
          <a:stretch/>
        </p:blipFill>
        <p:spPr>
          <a:xfrm>
            <a:off x="5116680" y="228600"/>
            <a:ext cx="3811320" cy="4724280"/>
          </a:xfrm>
          <a:prstGeom prst="rect">
            <a:avLst/>
          </a:prstGeom>
          <a:ln w="0">
            <a:noFill/>
          </a:ln>
        </p:spPr>
      </p:pic>
      <p:sp>
        <p:nvSpPr>
          <p:cNvPr id="125" name="Text Box 8"/>
          <p:cNvSpPr/>
          <p:nvPr/>
        </p:nvSpPr>
        <p:spPr>
          <a:xfrm>
            <a:off x="838080" y="617220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Deere</a:t>
            </a:r>
            <a:endParaRPr b="0" lang="en-US" sz="1800" spc="-1" strike="noStrike">
              <a:solidFill>
                <a:srgbClr val="000000"/>
              </a:solidFill>
              <a:latin typeface="Times New Roman"/>
            </a:endParaRPr>
          </a:p>
        </p:txBody>
      </p:sp>
      <p:sp>
        <p:nvSpPr>
          <p:cNvPr id="126" name="Text Box 9"/>
          <p:cNvSpPr/>
          <p:nvPr/>
        </p:nvSpPr>
        <p:spPr>
          <a:xfrm>
            <a:off x="5257800" y="55627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rus McCormick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
          <p:cNvPicPr/>
          <p:nvPr/>
        </p:nvPicPr>
        <p:blipFill>
          <a:blip r:embed="rId1"/>
          <a:stretch/>
        </p:blipFill>
        <p:spPr>
          <a:xfrm>
            <a:off x="685800" y="0"/>
            <a:ext cx="8458200" cy="5659560"/>
          </a:xfrm>
          <a:prstGeom prst="rect">
            <a:avLst/>
          </a:prstGeom>
          <a:ln w="0">
            <a:noFill/>
          </a:ln>
        </p:spPr>
      </p:pic>
      <p:sp>
        <p:nvSpPr>
          <p:cNvPr id="128" name="Text Box 7"/>
          <p:cNvSpPr/>
          <p:nvPr/>
        </p:nvSpPr>
        <p:spPr>
          <a:xfrm>
            <a:off x="1219320" y="6172200"/>
            <a:ext cx="73911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Text Box 8"/>
          <p:cNvSpPr/>
          <p:nvPr/>
        </p:nvSpPr>
        <p:spPr>
          <a:xfrm>
            <a:off x="1219320" y="586728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Cormick Reap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1143000" y="533520"/>
            <a:ext cx="7467480" cy="3625560"/>
          </a:xfrm>
          <a:prstGeom prst="rect">
            <a:avLst/>
          </a:prstGeom>
          <a:ln w="0">
            <a:noFill/>
          </a:ln>
        </p:spPr>
      </p:pic>
      <p:sp>
        <p:nvSpPr>
          <p:cNvPr id="131" name="Text Box 10"/>
          <p:cNvSpPr/>
          <p:nvPr/>
        </p:nvSpPr>
        <p:spPr>
          <a:xfrm>
            <a:off x="1219320" y="4495680"/>
            <a:ext cx="7315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Deere P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066680" y="609120"/>
            <a:ext cx="7772400" cy="5257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uthern investors concentrated their resources in cotton and slaves, preferring to buy manufactures from the Northeast and Britai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Southern economy remained predominantly agricultural and generated less per capita income for Southerners than did the more industrial Northern econom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Growth of Cities and Towns </a:t>
            </a:r>
            <a:endParaRPr b="0" i="1" lang="en-US" sz="4400" spc="-1" strike="noStrike">
              <a:solidFill>
                <a:srgbClr val="984c00"/>
              </a:solidFill>
              <a:latin typeface="Times New Roman"/>
            </a:endParaRPr>
          </a:p>
        </p:txBody>
      </p:sp>
      <p:sp>
        <p:nvSpPr>
          <p:cNvPr id="134" name="PlaceHolder 2"/>
          <p:cNvSpPr>
            <a:spLocks noGrp="1"/>
          </p:cNvSpPr>
          <p:nvPr>
            <p:ph/>
          </p:nvPr>
        </p:nvSpPr>
        <p:spPr>
          <a:xfrm>
            <a:off x="914400" y="1447920"/>
            <a:ext cx="8229600" cy="50292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ue to the expansion of industry and trade, the urban population grew fourfold between 1820 and 1840.</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most rapid growth occurred in the new industrial towns that sprang up along the fall line; for example:  Lowell, Massachusetts; Hartford, Connecticut; Trenton, New Jersey; and Wilmington, Delawa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6" name="PlaceHolder 2"/>
          <p:cNvSpPr>
            <a:spLocks noGrp="1"/>
          </p:cNvSpPr>
          <p:nvPr>
            <p:ph/>
          </p:nvPr>
        </p:nvSpPr>
        <p:spPr>
          <a:xfrm>
            <a:off x="1066680" y="1752480"/>
            <a:ext cx="7772400" cy="4114800"/>
          </a:xfrm>
          <a:prstGeom prst="rect">
            <a:avLst/>
          </a:prstGeom>
          <a:noFill/>
          <a:ln w="0">
            <a:noFill/>
          </a:ln>
        </p:spPr>
        <p:txBody>
          <a:bodyPr anchor="t">
            <a:normAutofit fontScale="93000"/>
          </a:bodyPr>
          <a:p>
            <a:pPr marL="318960" indent="-31896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Western commercial cities such as New Orleans, Pittsburgh, Cincinnati, and Louisville grew almost as rapidly because of their location at points where goods were transferred from one mode of transport to another.</a:t>
            </a:r>
            <a:endParaRPr b="0" lang="en-US" sz="3200" spc="-1" strike="noStrike">
              <a:solidFill>
                <a:srgbClr val="a50021"/>
              </a:solidFill>
              <a:latin typeface="Times New Roman"/>
            </a:endParaRPr>
          </a:p>
          <a:p>
            <a:pPr marL="318960" indent="-31896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60, the largest cities in the United States were New York, Philadelphia, St. Louis, and Chicago, in that order.</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8" name="PlaceHolder 2"/>
          <p:cNvSpPr>
            <a:spLocks noGrp="1"/>
          </p:cNvSpPr>
          <p:nvPr>
            <p:ph/>
          </p:nvPr>
        </p:nvSpPr>
        <p:spPr>
          <a:xfrm>
            <a:off x="1066680" y="1371600"/>
            <a:ext cx="7772400" cy="4495680"/>
          </a:xfrm>
          <a:prstGeom prst="rect">
            <a:avLst/>
          </a:prstGeom>
          <a:noFill/>
          <a:ln w="0">
            <a:noFill/>
          </a:ln>
        </p:spPr>
        <p:txBody>
          <a:bodyPr anchor="t">
            <a:normAutofit fontScale="93000"/>
          </a:bodyPr>
          <a:p>
            <a:pPr marL="318960" indent="-31896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old Atlantic seaports—Boston, Philadelphia, Baltimore, Charleston, and especially New York City—remained important for their foreign commerce and, increasingly, as centers of finance and manufacturing.</a:t>
            </a:r>
            <a:endParaRPr b="0" lang="en-US" sz="3200" spc="-1" strike="noStrike">
              <a:solidFill>
                <a:srgbClr val="a50021"/>
              </a:solidFill>
              <a:latin typeface="Times New Roman"/>
            </a:endParaRPr>
          </a:p>
          <a:p>
            <a:pPr marL="318960" indent="-31896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New York’s growth stemmed primarily from its control of foreign trade; by 1840, New York handled almost two-thirds of foreign imports and almost half of all foreign trad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hanges in the Social Structure </a:t>
            </a:r>
            <a:endParaRPr b="0" i="1" lang="en-US" sz="4400" spc="-1" strike="noStrike">
              <a:solidFill>
                <a:srgbClr val="984c00"/>
              </a:solidFill>
              <a:latin typeface="Times New Roman"/>
            </a:endParaRPr>
          </a:p>
        </p:txBody>
      </p:sp>
      <p:sp>
        <p:nvSpPr>
          <p:cNvPr id="140" name="PlaceHolder 2"/>
          <p:cNvSpPr>
            <a:spLocks noGrp="1"/>
          </p:cNvSpPr>
          <p:nvPr>
            <p:ph/>
          </p:nvPr>
        </p:nvSpPr>
        <p:spPr>
          <a:xfrm>
            <a:off x="685800" y="1143000"/>
            <a:ext cx="8153280" cy="541008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me artisans and workers formed trade unions in generally unsuccessful efforts to improve their economic welfare. Other working people, especially those without skills and those who could not obtain steady employment, lived in poverty.</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Business Elite </a:t>
            </a:r>
            <a:endParaRPr b="0" i="1" lang="en-US" sz="4400" spc="-1" strike="noStrike">
              <a:solidFill>
                <a:srgbClr val="984c00"/>
              </a:solidFill>
              <a:latin typeface="Times New Roman"/>
            </a:endParaRPr>
          </a:p>
        </p:txBody>
      </p:sp>
      <p:sp>
        <p:nvSpPr>
          <p:cNvPr id="14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ndustrial Revolution shattered the traditional rural social order and created a society composed of distinct regions, classes, and culture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the large cities, the richest 1 percent of the population owned 40 percent of all tangible property and an even larger share of the stocks and bond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066680" y="838080"/>
            <a:ext cx="7772400" cy="50292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government taxed tangible property but almost never taxed stocks, bonds, or inheritances; thus government policies allowed the richest to accumulate even more wealth at the expense of poorer me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wealthiest families began to consciously set themselves apart, and many American cities became segregated communities divided geographically along the lines of class, race, and ethnici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56" name="Picture 5" descr="whitney2"/>
          <p:cNvPicPr/>
          <p:nvPr/>
        </p:nvPicPr>
        <p:blipFill>
          <a:blip r:embed="rId1"/>
          <a:stretch/>
        </p:blipFill>
        <p:spPr>
          <a:xfrm>
            <a:off x="119160" y="46080"/>
            <a:ext cx="3055680" cy="3459240"/>
          </a:xfrm>
          <a:prstGeom prst="rect">
            <a:avLst/>
          </a:prstGeom>
          <a:ln w="0">
            <a:noFill/>
          </a:ln>
        </p:spPr>
      </p:pic>
      <p:pic>
        <p:nvPicPr>
          <p:cNvPr id="57" name="Picture 7" descr="cottongin1s"/>
          <p:cNvPicPr/>
          <p:nvPr/>
        </p:nvPicPr>
        <p:blipFill>
          <a:blip r:embed="rId2"/>
          <a:stretch/>
        </p:blipFill>
        <p:spPr>
          <a:xfrm>
            <a:off x="3276720" y="896760"/>
            <a:ext cx="5867280" cy="4596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Middle Class </a:t>
            </a:r>
            <a:endParaRPr b="0" i="1" lang="en-US" sz="4400" spc="-1" strike="noStrike">
              <a:solidFill>
                <a:srgbClr val="984c00"/>
              </a:solidFill>
              <a:latin typeface="Times New Roman"/>
            </a:endParaRPr>
          </a:p>
        </p:txBody>
      </p:sp>
      <p:sp>
        <p:nvSpPr>
          <p:cNvPr id="14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 distinct middle-class culture emerged as the per capita income of Americans rose about 2.5 percent per year between 1830 and the Panic of 1857.</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iddle-class Americans secured material comfort for themselves and education for their children, and they stressed discipline, morality, and hard work.</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4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usiness elite and the middle class celebrated work as the key to a higher standard of living for the nation and social mobility for the individual.</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deal of the “self-made man” became a central theme of American popular cultu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Urban Workers and the Poor </a:t>
            </a:r>
            <a:endParaRPr b="0" i="1" lang="en-US" sz="4400" spc="-1" strike="noStrike">
              <a:solidFill>
                <a:srgbClr val="984c00"/>
              </a:solidFill>
              <a:latin typeface="Times New Roman"/>
            </a:endParaRPr>
          </a:p>
        </p:txBody>
      </p:sp>
      <p:sp>
        <p:nvSpPr>
          <p:cNvPr id="149" name="PlaceHolder 2"/>
          <p:cNvSpPr>
            <a:spLocks noGrp="1"/>
          </p:cNvSpPr>
          <p:nvPr>
            <p:ph/>
          </p:nvPr>
        </p:nvSpPr>
        <p:spPr>
          <a:xfrm>
            <a:off x="1066680" y="1752120"/>
            <a:ext cx="7772400" cy="48006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ottom 10 percent of the labor force, the casual workers, owned little or no property, and their jobs were unpredictable, seasonal, and dangerou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Other laborers had greater job security, but few prospered; many families sent their children out to work, and the death of one parent often sent the family into dire pover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the 1830s, urban factory workers and unskilled laborers lived in well-defined neighborhoods of crowded boardinghouses or tiny apartments, often with filthy condition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any wage earners turned to alcohol as a form of solace; grogshops and tippling houses appeared on almost every block in working-class districts, and police were unable to contain the lawlessness that erupted.</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Benevolent Empire </a:t>
            </a:r>
            <a:endParaRPr b="0" i="1" lang="en-US" sz="4400" spc="-1" strike="noStrike">
              <a:solidFill>
                <a:srgbClr val="984c00"/>
              </a:solidFill>
              <a:latin typeface="Times New Roman"/>
            </a:endParaRPr>
          </a:p>
        </p:txBody>
      </p:sp>
      <p:sp>
        <p:nvSpPr>
          <p:cNvPr id="15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uring the 1820s, Congregational and Presbyterian ministers linked with merchants and their wives to launch a program of social reform and regulatio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enevolent Empire targeted drunkenness and other social ills, but it also set out to institutionalize charity and combat evil in a systematic fashio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066680" y="0"/>
            <a:ext cx="7772400" cy="68580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enevolent groups encouraged people to live well-disciplined lives, and they established institutions to assist those in need and to control people who were threats to society.</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Upper-class women were an important part of the Benevolent Empire through sponsorship of charitable organization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me reformers believed that one of the greatest threats to morality was the decline of the traditional Sabbath.</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opular resistance or indifference limited the success of the Benevolent Empi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Revivalism and Reform </a:t>
            </a:r>
            <a:endParaRPr b="0" i="1" lang="en-US" sz="4400" spc="-1" strike="noStrike">
              <a:solidFill>
                <a:srgbClr val="984c00"/>
              </a:solidFill>
              <a:latin typeface="Times New Roman"/>
            </a:endParaRPr>
          </a:p>
        </p:txBody>
      </p:sp>
      <p:sp>
        <p:nvSpPr>
          <p:cNvPr id="1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066680" y="456840"/>
            <a:ext cx="7772400" cy="609588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o improve the living conditions and to balance the vices of the poor, upper-class Americans formed benevolent reform societies that promoted temperance, dispensed charity, and encouraged respect for the Christian Sabbath. </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imultaneously, Charles Grandison Finney and other evangelical clergymen gave new life to the Second Great Awakening, enlisting missions of propertied farmers and middle-class Americans in a massive religious revival movement.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5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otestant evangelicalism heightened the cultural conflict between native-born Americans and millions of Catholic immigrants from Ireland and Germany.  </a:t>
            </a:r>
            <a:endParaRPr b="0" lang="en-US" sz="3200" spc="-1" strike="noStrike">
              <a:solidFill>
                <a:srgbClr val="a50021"/>
              </a:solidFill>
              <a:latin typeface="Times New Roman"/>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066680" y="533520"/>
            <a:ext cx="7772400" cy="53337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Nativist writers attacked Irish Catholics as anti-republican, and American workers blamed immigrant labor for their economic woes—attitudes that led to ethnic riots in many northern cities. </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60, the United States was a more prosperous society than ever before, but also one exhibiting numerous social and economic divisions</a:t>
            </a:r>
            <a:endParaRPr b="0" lang="en-US" sz="3200" spc="-1" strike="noStrike">
              <a:solidFill>
                <a:srgbClr val="a50021"/>
              </a:solidFill>
              <a:latin typeface="Times New Roman"/>
            </a:endParaRPr>
          </a:p>
          <a:p>
            <a:pPr marL="343080"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9"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6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esbyterian minister Charles Grandison Finney conducted emotional revivals that stressed conversion rather than instruction; Finney’s ministry drew on and accelerated the Second Great Awakening.</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inney’s message that man was able to choose salvation was particularly attractive to the middle clas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066680" y="762120"/>
            <a:ext cx="7772400" cy="548640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Finney wanted to humble the pride of the rich and relieve the shame of the poor by celebrating their common fellowship in Christ.</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business elite joined the “Cold Water” movement, establishing savings banks and Sunday schools for the poor and helping to provide relief for the unemployed.</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66680" y="380880"/>
            <a:ext cx="7772400" cy="54864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Revivalists from New England to the Midwest copied Finney’s evangelical message and techniques and the movement swept through Pennsylvania, North Carolina, Tennessee, and Indiana.</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temperance movement proved to be the most effective arena for evangelical social reform; the American Temperance Society adapted methods that worked well in the revivals and helped the consumption of spirits to fall dramaticall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066680" y="609120"/>
            <a:ext cx="7772400" cy="5257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Immigration and Cultural Conflict </a:t>
            </a:r>
            <a:endParaRPr b="0" i="1" lang="en-US" sz="4000" spc="-1" strike="noStrike">
              <a:solidFill>
                <a:srgbClr val="984c00"/>
              </a:solidFill>
              <a:latin typeface="Times New Roman"/>
            </a:endParaRPr>
          </a:p>
        </p:txBody>
      </p:sp>
      <p:sp>
        <p:nvSpPr>
          <p:cNvPr id="166" name="PlaceHolder 2"/>
          <p:cNvSpPr>
            <a:spLocks noGrp="1"/>
          </p:cNvSpPr>
          <p:nvPr>
            <p:ph/>
          </p:nvPr>
        </p:nvSpPr>
        <p:spPr>
          <a:xfrm>
            <a:off x="1066680" y="1371600"/>
            <a:ext cx="7772400" cy="510552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etween 1840 and 1860, millions of immigrants— Irish, Germans, and Britons— poured into the United State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ost avoided the South, and many Germans moved to states in the Midwest, while other Germans and most of the Irish settled in the Northeast.</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most prosperous immigrants were the British, followed by the Germans; the poorest were from Ireland.</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any Germans and most Irish were Catholics and fueled the growth of the Catholic Church in America.</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ecause of the Protestant religious fervor stirred up by the Second Great Awakening, Catholic immigrants met with widespread hostility; in 1834, Samuel F. B.Morse published </a:t>
            </a:r>
            <a:r>
              <a:rPr b="0" i="1" lang="en-US" sz="3200" spc="-1" strike="noStrike">
                <a:solidFill>
                  <a:srgbClr val="a50021"/>
                </a:solidFill>
                <a:latin typeface="Times New Roman"/>
              </a:rPr>
              <a:t>Foreign Conspiracy against the Liberties</a:t>
            </a:r>
            <a:r>
              <a:rPr b="0" lang="en-US" sz="3200" spc="-1" strike="noStrike">
                <a:solidFill>
                  <a:srgbClr val="a50021"/>
                </a:solidFill>
                <a:latin typeface="Times New Roman"/>
              </a:rPr>
              <a:t> </a:t>
            </a:r>
            <a:r>
              <a:rPr b="0" i="1" lang="en-US" sz="3200" spc="-1" strike="noStrike">
                <a:solidFill>
                  <a:srgbClr val="a50021"/>
                </a:solidFill>
                <a:latin typeface="Times New Roman"/>
              </a:rPr>
              <a:t>of the United States</a:t>
            </a:r>
            <a:r>
              <a:rPr b="0" lang="en-US" sz="3200" spc="-1" strike="noStrike">
                <a:solidFill>
                  <a:srgbClr val="a50021"/>
                </a:solidFill>
                <a:latin typeface="Times New Roman"/>
              </a:rPr>
              <a:t>, which warned of a Catholic threat to American republican institution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nti-Catholic sentiment intensified: mobs of unemployed workers attacked Catholics, and the Native American Clubs called for limits on immigratio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cial reformers often supported the anti- Catholic movement because they wanted to prevent the diversion of tax resources to Catholic schools and to oppose alcohol abuse by Irish me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most large northeastern cities, differences of class and culture led to violence and split the North in the same way that race and class divided the South.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tandard of living for it's people. Everyone was beginning to make money. </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1800 Eli Whitney began to make muskets with the threat of war with France. He did this outside of Springfield on the Mill River which he used to power the plant. ) and Robert Fulton.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64" name="Picture 5" descr="factory"/>
          <p:cNvPicPr/>
          <p:nvPr/>
        </p:nvPicPr>
        <p:blipFill>
          <a:blip r:embed="rId1"/>
          <a:stretch/>
        </p:blipFill>
        <p:spPr>
          <a:xfrm>
            <a:off x="0" y="419040"/>
            <a:ext cx="9144000" cy="601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066680" y="533520"/>
            <a:ext cx="7772400" cy="5333760"/>
          </a:xfrm>
          <a:prstGeom prst="rect">
            <a:avLst/>
          </a:prstGeom>
          <a:noFill/>
          <a:ln w="0">
            <a:noFill/>
          </a:ln>
        </p:spPr>
        <p:txBody>
          <a:bodyPr anchor="t">
            <a:normAutofit/>
          </a:bodyPr>
          <a:p>
            <a:pPr marL="343080" indent="-343080">
              <a:lnSpc>
                <a:spcPct val="9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1802 he contracted to build a steamboat for Robert R. Livingston, who held a monopoly on steamboat navigation on the Hudson. In 1807 the </a:t>
            </a:r>
            <a:r>
              <a:rPr b="0" i="1" lang="en-US" sz="2800" spc="-1" strike="noStrike">
                <a:solidFill>
                  <a:srgbClr val="a50021"/>
                </a:solidFill>
                <a:latin typeface="Times New Roman"/>
              </a:rPr>
              <a:t>Clermont,</a:t>
            </a:r>
            <a:r>
              <a:rPr b="0" lang="en-US" sz="2800" spc="-1" strike="noStrike">
                <a:solidFill>
                  <a:srgbClr val="a50021"/>
                </a:solidFill>
                <a:latin typeface="Times New Roman"/>
              </a:rPr>
              <a:t> equipped with an English engine, was launched. </a:t>
            </a:r>
            <a:endParaRPr b="0" lang="en-US" sz="2800" spc="-1" strike="noStrike">
              <a:solidFill>
                <a:srgbClr val="a50021"/>
              </a:solidFill>
              <a:latin typeface="Times New Roman"/>
            </a:endParaRPr>
          </a:p>
          <a:p>
            <a:pPr marL="343080" indent="-343080">
              <a:lnSpc>
                <a:spcPct val="9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8:41:21Z</dcterms:created>
  <dc:creator>Silvano A. Wueschner</dc:creator>
  <dc:description/>
  <dc:language>en-US</dc:language>
  <cp:lastModifiedBy>Legion</cp:lastModifiedBy>
  <dcterms:modified xsi:type="dcterms:W3CDTF">2017-07-05T11:01:40Z</dcterms:modified>
  <cp:revision>28</cp:revision>
  <dc:subject/>
  <dc:title>Slide 1</dc:title>
</cp:coreProperties>
</file>