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6858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071F-4C50-4047-AEED-28A2C0B685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ek 3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ailroads: Pioneering in U.S.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“big business” in the U.S. – developed c. 183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arted the transportatio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had size and complex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quired a managemen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Association of American Railroads (AA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unicatio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, patented by Samuel Morse in 1837, started concurrent  revolution in communic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y 1860, about 50,000 miles of wires extended over the eastern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amatic effect on business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cilitated U.S. industry move from local markets to national mark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chard Sears used the telegraph to see gold watches – the first electronic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ge of Rail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 (1815-187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system of managing on the Erie Railro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pecific job 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curate performance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rit basis for pay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ational chart to show lines of authority, responsibility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of telegraph for dispatching trains and checking on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McCal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 of management relied on division of labor, personal responsibility, and orga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a formal organization ch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highest state of the art information manag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st his job when the locomotive engineers would not follow his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s were on strike for ten days in June 1854 then 6 months in 1857 in defiance of McCallum’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ccessful career building bridges and served as master of the Union’s railroads in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al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perhaps the first organizational chart ever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cCallum created the organizational chart to explain the Erie Railroad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 (1812-1905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Broader Managem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itor of the American Railroad Jou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ame “conscience” of first U.S. big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oked for broader principles of railroad operations (financing, regulation, and role of U.S. Railroad in lif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ed three principles based on McCallum’s ideas: organization, information, an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V.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later work, Poor felt the answer to problems of top management was through better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ty in th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lecting leaders on me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ing better informatio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Pics4Learning. http://pics.tech4learn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merging Governance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es were partnerships or sole proprietorsh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, requiring large amounts of capital, saw the growth of joint-stock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form, adequate laws in Great Britain, management malfeasance occur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Poor wrote about the need for government regulation but not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om independence to 1860, the U.S. grew and developed indus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iod was critical to development of the modern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 and the telegraph allowed firms to grow for economies of scale and 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rs were required for large, complex organiz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life for people wa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ustrial Revolution – 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ish mercantilism kept the U.S. as a colony which delayed economic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 prohibited the sale of manufacturing equipment and emigration of skilled labor to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influenced writing of the U.S. Constitution and economic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s. Hunt 184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dustrial Growth and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wth of enterprise was facilitated by transportation and communication revolutions as well as manufacture by interchangeable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ndler wrote about the evolution of U.S. Corporations in 1962 book Strategy and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developed his ideas from the study of U.S. corporations during this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Harvard Business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fred D. Chandler,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cribed the late 19th century as the accumulation of resources with growth occurring because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rizontal combinations of firms in small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 integration – forward and back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r firms and the growth of hierarchy of managers to coordinate and integrate operations were the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y to success was good management, not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(1835-191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ed McCallum’s system of management on the Pennsylvania Rail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he new Bessemer furnace technology to begin vertically and horizontally integrating his firm in the steel indust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cost accounting to guide his pricing strategy and drive costs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 increased the “throughput” velocity to gain economies of scale and to fully utilize his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sult was a declining price of steel for the consu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echanical engineers (especially Henry R. Towne) became important in improving factory operations – they often became the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erous others began to take an interest in man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dea that good management was critical in a firm gained credence with engineers and econom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naissance of Systematic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abor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 “Social Gospel” proponents felt that workers should join unions, share in profits, and have arbitration instead of stri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gineers and others felt that better work methods and systems were the answer, including pay for performance incentive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1895 Frederick W.Taylor proposed a rate setting and piece-rat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&amp;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tthew Josephson characterized the business leaders of this time as “Robber Baron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ir motivation was alleged to be “survival of the fittest” and desire for monopo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vation was also drive for economies of scale that led to lower p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ocial conscience of the 19th century entrepreneur gave rise to individual philanthrop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zra Cornell – his money founded Cornell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lliam Colgate – college changed its name to his as result of his genero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Hopkins –  founded John Hopkins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 – founded Vanderbilt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seph Wharton – grant enabled first business school at University of Pennsylv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dward Tuck – gift to Dartmouth started Amos Tuck School of Admin. &amp; Fi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land Stanford – honored his son with a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Stevens – provided for the Stevens Institute of Technolo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B. Duke – Trinity College (later renamed for the famil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niel Drew – promise of funds led to Drew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ses Brown – founded Rhode Island College; became Brown University in 18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dustrial Development– 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dustry at the time was tex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textile industry was the largest business, factories were still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” on the left depicts an early textile m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 – given half a billion dollars by the time of his death as well as establishing the Rockefeller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is pictured here in 1907 beside a build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D. Rockef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icago Daily News negatives collection, DN-0051595. Courtesy of the Chicago Historical Soc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g Business and Its Chang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ous Philanthro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– gave away $350 million by the time of his death in addition to his libraries, university, and the Carnegi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nd 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spite generosity by both individuals, the Congressional Committee on Industrial Relations in 1915 denounced both as “menaces to societ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ckefeller Archiv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Free Library &amp; Music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mmonwealth v. Hunt decision (1842) broke the British tradition of unions as conspiracies in restraint of t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craft unions and brotherhoods of railroad workers were successful in the late 19th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orts to organize other workers were generally un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violence in the late 1800s fueled public fear of un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La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merican Federation of Labor organized in 1886 under Samuel Gom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ithout unions, and despite growing numbers of immigrants, U.S. workers found their wages and real (purchasing power) wages rising during the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Gompers,                         courtesy of  Library of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ventive and Innovative Impul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lroads: made travel possible and pleasurable; fostered a retailing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legraph and telephone: aided growth of commerce and transportation through commun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industries developed and gr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ss mark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wing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arv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usiness and Government: The  Seeds of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elastic clause,” the commerce clause, of the U.S. Constitution expanded during this period with regulation of railro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Interstate Commerce Act and the Sherman Antitrust Act were attempts to regulate business but these laws were generally ineffect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 (then a college professor) advocated better management of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odrow Wilson, courtesy of        The Constitution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mmary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ined management thought prior to the scientific management era in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arly civilizations placed  a low value on economic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gure 6-1         Synopsis of early management thou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cademy of Management – Management History Division Webs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omhistory.baker.edu/departments/leadership/mgthistory/lin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st of Internet Resources compiled by Charles Booth http://www.jiscmail.ac.uk/files/MANAGEMENT-HISTORY/link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stern Libraries Business Library – Biographies of G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lib.uwo.ca/business/guru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from Ancient Histo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x Web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aculty.rsu.edu/~felwell/Theorists/Weber/Whom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icolo Machiavelli – Medieval Source Book – The Prince 1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basis/machiavelli-pri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hn Locke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blupete.com/Literature/Biographies/Philosophy/Lock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am Sm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socserv2.socsci.mcmaster.ca/~econ/ugcm/3ll3/smith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es Watt by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rochester.edu/steam/carneg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ments during the Industrial Revolu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ccel-team.com/scientific/scientific_0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 – “Rhode Island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rst to use steam-driven power l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sole proprietorship or partnership form of ownership ini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family for labor – with growth had to hire professional mana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tically integrated operations forward an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S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dditional Interne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bert Owen Muse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robert-owen.midwales.com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Babbage Instit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bi.umn.edu/exhibits/cb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Ure - The Philosophy of the Manufacturers 18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fordham.edu/halsall/mod/1835ur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rles Dupin Biogra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-groups.dcs.st-and.ac.uk/~history/Mathematicians/Dupin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yrus McCormick -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vaes.vt.edu/steeles/mccormick/bio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muel F.B. Mo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memory.loc.gov/ammem/atthtml/mrshom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nry R. Towne – Address delivered at Purdue University (19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slib.org/stamford/towne1905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americaslibrary.gov/cgi-bin/page.cgi/aa/carne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ckefellers – PBS Docu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pbs.org/wgbh/amex/rockefelle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amuel Gompers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history.umd.edu/Gompers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d of Part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ncis Lowell – “Waltham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water-power lo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red non-family supervisors &amp; managers with corporate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integrated spinning and weaving to manufacture goods in large quant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lied on adult female lab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aised by Charles Dickens for better treatment of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xtile Mill at Pawtucket, Rhode I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ill – present day re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piction of M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onwealth v. Hunt (18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combinations (unions) were no longer illegal unless their intent was cri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eking a closed shop and striking were no longer ille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ly applied to Massachusetts but discouraged prosecution of worker organizations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ufacture by interchangeable parts was not new – previously confined to making muskets and revol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pringfield (MA) Armory was an early factory prot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50 employees – largest factory in the U.S. until after the Civil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zed by Colonel Roswell Lee in 18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d piece rate incentive payments and accounting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bor was more special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form standards promoted interchangeability of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merican System of Manufa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deas spread to other areas of manufactu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: The reaper by Cyrus McCorm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“American System” received its name at the exposition of 1851 in Lond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.S. factories remained relatively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McLane report of 1832 found the firms were most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amily owned and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w corporations – unlimited 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ittle use of stea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milar to findings of Andrew Ure regarding English fi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B91-23F6-465E-85D5-BBC86B89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F12-7431-425F-8714-FB091736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C21-3CF7-4F1F-A897-087E411F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88E-9C27-4F34-B310-5C3698FB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7114-BB82-4B24-A2C4-64BC74BB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10C7-4516-4CAA-BCF1-707309A8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ABC1-EAEB-463B-8AB3-AC5CE3CC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6DFB-238B-4077-AE48-CEEE597C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22D5-1670-4051-85B0-022D429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33FD-1809-48DB-8E67-0FAADBDD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4A79-D906-49FA-9690-0E60042A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92C-AEBE-42C9-8EE5-415A39FC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BF81-0CC3-4B4F-866D-16861F89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8DDC-7E16-4B05-9833-655AC970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58C8-951A-45E0-B04F-54C50715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9021-2792-4D41-B779-CBD87095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65644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27080" y="120168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65644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4627080" y="2977920"/>
            <a:ext cx="18766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CE27-5A17-401D-A627-BE7E606A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6787-A573-4212-9F25-DC8C5FFD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022-7213-4D16-BA53-C3F41EF0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29E-0E4C-4DD9-8CD7-5E01DBA9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440" y="207720"/>
            <a:ext cx="58294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7D0-4C3F-460B-9FAA-112E3A94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FD5-31FC-4168-99A5-B4E7BA01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72720" y="297792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883-CCDF-4B65-870E-22CC0422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72720" y="1201680"/>
            <a:ext cx="284472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2977920"/>
            <a:ext cx="5829480" cy="1621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CEA-F09A-4DC2-B753-147C29D9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6514920" cy="3660840"/>
            <a:chOff x="0" y="0"/>
            <a:chExt cx="6514920" cy="3660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6840" cy="3660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285480" y="1064160"/>
              <a:ext cx="6229440" cy="136800"/>
              <a:chOff x="285480" y="1064160"/>
              <a:chExt cx="6229440" cy="13680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5143320" y="1064160"/>
                <a:ext cx="1371600" cy="136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285480" y="1121400"/>
                <a:ext cx="622944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4692240"/>
            <a:ext cx="14860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51424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E1A32546-4C82-455D-9B2C-CB8950832B6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3660840"/>
            <a:ext cx="45720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6571800" cy="4462200"/>
            <a:chOff x="0" y="0"/>
            <a:chExt cx="6571800" cy="44622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314000" cy="3661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2631600"/>
              <a:ext cx="6571800" cy="1830600"/>
              <a:chOff x="0" y="2631600"/>
              <a:chExt cx="6571800" cy="18306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742680" y="2631600"/>
                <a:ext cx="5829120" cy="18306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778320" y="2802960"/>
                <a:ext cx="5736240" cy="16052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3661200"/>
                <a:ext cx="74268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475920" y="400320"/>
              <a:ext cx="6057720" cy="228600"/>
              <a:chOff x="475920" y="400320"/>
              <a:chExt cx="6057720" cy="22860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4704480" y="400320"/>
                <a:ext cx="1828800" cy="228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8760" rIns="6876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475920" y="514440"/>
                <a:ext cx="60577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5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524"/>
              </a:spcBef>
              <a:buClr>
                <a:srgbClr val="cccc99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84360" y="4692240"/>
            <a:ext cx="1428480" cy="3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51568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5086080" y="4691160"/>
            <a:ext cx="1428840" cy="342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91C6C329-9AE8-478C-9D7E-392B3C9227A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aomhistory.baker.edu/departments/leadership/mgthistory/links.html" TargetMode="External"/><Relationship Id="rId2" Type="http://schemas.openxmlformats.org/officeDocument/2006/relationships/hyperlink" Target="http://www.jiscmail.ac.uk/files/MANAGEMENT-HISTORY/links.htm" TargetMode="External"/><Relationship Id="rId3" Type="http://schemas.openxmlformats.org/officeDocument/2006/relationships/hyperlink" Target="http://www.lib.uwo.ca/business/gurus.html" TargetMode="External"/><Relationship Id="rId4" Type="http://schemas.openxmlformats.org/officeDocument/2006/relationships/hyperlink" Target="http://www.accel-team.com/scientific/index.html" TargetMode="External"/><Relationship Id="rId5" Type="http://schemas.openxmlformats.org/officeDocument/2006/relationships/hyperlink" Target="http://www.faculty.rsu.edu/~felwell/Theorists/Weber/Whome.htm" TargetMode="External"/><Relationship Id="rId6" Type="http://schemas.openxmlformats.org/officeDocument/2006/relationships/hyperlink" Target="http://www.fordham.edu/halsall/basis/machiavelli-prince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Week 3 Note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ustrial Revolution 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ailroads: Pioneering in U.S.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742840"/>
            <a:ext cx="5829480" cy="1989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“big business” in the U.S. – developed c. 18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ed the transportation rev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roads had size and complex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 management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historybirthpict"/>
          <p:cNvPicPr/>
          <p:nvPr/>
        </p:nvPicPr>
        <p:blipFill>
          <a:blip r:embed="rId1"/>
          <a:stretch/>
        </p:blipFill>
        <p:spPr>
          <a:xfrm>
            <a:off x="914400" y="1447920"/>
            <a:ext cx="514368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95280" y="2514600"/>
            <a:ext cx="381024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of American Railroads (AAR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Communication Revolution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egraph, patented by Samuel Morse in 1837, started concurrent  revolution in communication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y 1860, about 50,000 miles of wires extended over the eastern U.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amatic effect on business communic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acilitated U.S. industry move from local markets to nation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-246600">
              <a:lnSpc>
                <a:spcPct val="90000"/>
              </a:lnSpc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chard Sears used the telegraph to see gold watches – the first electronic commerc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6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mrsimg"/>
          <p:cNvPicPr/>
          <p:nvPr/>
        </p:nvPicPr>
        <p:blipFill>
          <a:blip r:embed="rId1"/>
          <a:stretch/>
        </p:blipFill>
        <p:spPr>
          <a:xfrm>
            <a:off x="787320" y="1201680"/>
            <a:ext cx="263520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857960" y="4552920"/>
            <a:ext cx="1033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Samuel Mo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Age of Rails: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 (1815-1878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71320" y="1514160"/>
            <a:ext cx="33145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2000"/>
          </a:bodyPr>
          <a:p>
            <a:pPr marL="236160" indent="-236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a system of managing on the Erie Railroa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 job descrip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 performance repor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it basis for pay and promo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ational chart to show lines of authority, responsibility, and commun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elegraph for dispatching trains and checking on perform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aniel_mccallum"/>
          <p:cNvPicPr/>
          <p:nvPr/>
        </p:nvPicPr>
        <p:blipFill>
          <a:blip r:embed="rId1"/>
          <a:stretch/>
        </p:blipFill>
        <p:spPr>
          <a:xfrm>
            <a:off x="3855960" y="1201680"/>
            <a:ext cx="245736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iel McCallum, Circa 18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Daniel McCallu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 of management relied on division of labor, personal responsibility, and organiz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a formal organization char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veloped highest state of the art information manage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t his job when the locomotive engineers would not follow his ru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098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were on strike for ten days in June 1854 then 6 months in 1857 in defiance of McCallum’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ccessful career building bridges and served as master of the Union’s railroads in the Civil Wa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89080"/>
            <a:ext cx="5845320" cy="574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Erie Railroad Organizational Chart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rhaps the first organizational chart ev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allum created the organizational chart to explain the Erie Railroad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hoto0013"/>
          <p:cNvPicPr/>
          <p:nvPr/>
        </p:nvPicPr>
        <p:blipFill>
          <a:blip r:embed="rId1"/>
          <a:stretch/>
        </p:blipFill>
        <p:spPr>
          <a:xfrm>
            <a:off x="3962520" y="898560"/>
            <a:ext cx="2538360" cy="3781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9"/>
          <p:cNvSpPr/>
          <p:nvPr/>
        </p:nvSpPr>
        <p:spPr>
          <a:xfrm>
            <a:off x="2271240" y="4784760"/>
            <a:ext cx="45255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rie Railroad Organization Chart of 1855.  Library of Congress, Haer, N.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 (1812-1905)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 Broader Management View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erican Railroad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me “conscience” of first U.S. big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ed for broader principles of railroad operations (financing, regulation, and role of U.S. Railroad in li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three principles based on McCallum’s ideas: organization, information, and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enry_poor"/>
          <p:cNvPicPr/>
          <p:nvPr/>
        </p:nvPicPr>
        <p:blipFill>
          <a:blip r:embed="rId1"/>
          <a:stretch/>
        </p:blipFill>
        <p:spPr>
          <a:xfrm>
            <a:off x="3970440" y="1538280"/>
            <a:ext cx="2400120" cy="2727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4000680" y="4633920"/>
            <a:ext cx="262872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y Varnum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Henry V. Po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ater work, Poor felt the answer to problems of top management was through better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ity in the organiz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lecting leaders on mer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ing better information syste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054" descr="steamrrengine01"/>
          <p:cNvPicPr/>
          <p:nvPr/>
        </p:nvPicPr>
        <p:blipFill>
          <a:blip r:embed="rId1"/>
          <a:stretch/>
        </p:blipFill>
        <p:spPr>
          <a:xfrm>
            <a:off x="3676680" y="1728720"/>
            <a:ext cx="2838600" cy="2343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55"/>
          <p:cNvSpPr/>
          <p:nvPr/>
        </p:nvSpPr>
        <p:spPr>
          <a:xfrm>
            <a:off x="3809880" y="4191120"/>
            <a:ext cx="32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Pics4Learning. http://pics.tech4learning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merging Governance Issu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industries were partnerships or sole proprietorship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, requiring large amounts of capital, saw the growth of joint-stock compani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out uniform, adequate laws in Great Britain, management malfeasance occur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nry Poor wrote about the need for government regulation but not contro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independence to 1860, the U.S. grew and developed indus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iod was critical to development of the modern enterpr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ilroads and the telegraph allowed firms to grow for economies of scale and scop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agers were required for large, complex organizat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uality of life for people was improv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Chapter Six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ial Growth and Systematic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Industrial Revolution – in the United Stat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ritish mercantilism kept the U.S. as a colony which delayed economic develop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eat Britain prohibited the sale of manufacturing equipment and emigration of skilled labor to U.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am Smith influenced writing of the U.S. Constitution and economic system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ile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Commonwealth vs. Hu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1842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merican System of Manufact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dustrial Growth and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wth of enterprise was facilitated by transportation and communication revolutions as well as manufacture by interchangeable par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fred D. Chandler J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rew Carne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stematic 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hanging Environ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dler wrote about the evolution of U.S. Corporations in 1962 boo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ategy and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developed his ideas from the study of U.S. corporations during thi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33" descr="achandle 1r"/>
          <p:cNvPicPr/>
          <p:nvPr/>
        </p:nvPicPr>
        <p:blipFill>
          <a:blip r:embed="rId1"/>
          <a:stretch/>
        </p:blipFill>
        <p:spPr>
          <a:xfrm>
            <a:off x="685800" y="8153280"/>
            <a:ext cx="3017880" cy="3886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36" descr="achandle 1r"/>
          <p:cNvPicPr/>
          <p:nvPr/>
        </p:nvPicPr>
        <p:blipFill>
          <a:blip r:embed="rId2"/>
          <a:stretch/>
        </p:blipFill>
        <p:spPr>
          <a:xfrm>
            <a:off x="905040" y="1201680"/>
            <a:ext cx="2400120" cy="34005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37"/>
          <p:cNvSpPr/>
          <p:nvPr/>
        </p:nvSpPr>
        <p:spPr>
          <a:xfrm>
            <a:off x="838080" y="4572000"/>
            <a:ext cx="32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fred D. Chandler, J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urtesy of Harvard Business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lfred D. Chandler, Jr.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bed the late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entury as the accumulation of resources with growth occurring because of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combinations of firms in smaller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integration – forward and back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rger firms and the growth of hierarchy of managers to coordinate and integrate operations were the resul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 to success was good management, not siz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76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Andrew Carnegie (1835-1919)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8000"/>
          </a:bodyPr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arned McCallum’s system of management on the Pennsylvania Railroa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the new Bessemer furnace technology to begin vertically and horizontally integrating his firm in the steel industry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1640" indent="-251640">
              <a:lnSpc>
                <a:spcPct val="90000"/>
              </a:lnSpc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d cost accounting to guide his pricing strategy and drive costs dow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685800" y="459900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arnegie"/>
          <p:cNvPicPr/>
          <p:nvPr/>
        </p:nvPicPr>
        <p:blipFill>
          <a:blip r:embed="rId1"/>
          <a:stretch/>
        </p:blipFill>
        <p:spPr>
          <a:xfrm>
            <a:off x="1066680" y="1432080"/>
            <a:ext cx="1824120" cy="30891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ndrew Carnegie</a:t>
            </a:r>
            <a:br>
              <a:rPr sz="3200"/>
            </a:b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teel Industr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285732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reased the “throughput” velocity to gain economies of scale and to fully utilize his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as a declining price of steel for the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aa_carnegie_work_1_m"/>
          <p:cNvPicPr/>
          <p:nvPr/>
        </p:nvPicPr>
        <p:blipFill>
          <a:blip r:embed="rId1"/>
          <a:stretch/>
        </p:blipFill>
        <p:spPr>
          <a:xfrm>
            <a:off x="3913200" y="1460520"/>
            <a:ext cx="2602080" cy="2882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3943440" y="4403880"/>
            <a:ext cx="27432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w Carnegie’s  his first job was in a textile mill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chanical engineers (especially Henry R. Towne) became important in improving factory operations – they often became the mana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us others began to take an interest i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dea that good management was critical in a firm gained credence with engineers and economi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enry_towne"/>
          <p:cNvPicPr/>
          <p:nvPr/>
        </p:nvPicPr>
        <p:blipFill>
          <a:blip r:embed="rId1"/>
          <a:stretch/>
        </p:blipFill>
        <p:spPr>
          <a:xfrm>
            <a:off x="4199040" y="1201680"/>
            <a:ext cx="2009520" cy="34005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he Renaissance of Systematic Manage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abor Ques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“Social Gospel” proponents felt that workers should join unions, share in profits, and have arbitration instead of stri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s and others felt that better work methods and systems were the answer, including pay for performance incen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95 Frederick W.Taylor proposed a rate setting and piece-rat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 marL="246600" indent="-246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iness &amp; Socie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ew Josephson characterized the business leaders of this time as “Robber Bar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evidence that business leaders did engage in some corrupt practices: watering stock, bribery of government officials, manipulating stock, and conspi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motivation was alleged to be “survival of the fittest” and desire for monopo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 was also drive for economies of scale that led to lower p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283860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ocial conscience of the 19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entury entrepreneur gave rise to individual philanthro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zra Cornell – his money founded Cornell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lliam Colgate – college changed its name to his as result of his generosit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ohn Hopkins –  founded John Hopkins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23800" indent="-201240">
              <a:lnSpc>
                <a:spcPct val="9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rnelius Vanderbilt – founded Vanderbilt Universi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vanderbilt"/>
          <p:cNvPicPr/>
          <p:nvPr/>
        </p:nvPicPr>
        <p:blipFill>
          <a:blip r:embed="rId1"/>
          <a:stretch/>
        </p:blipFill>
        <p:spPr>
          <a:xfrm>
            <a:off x="3676680" y="1511280"/>
            <a:ext cx="2838600" cy="27813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3429000" y="4386240"/>
            <a:ext cx="34290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rnelius Vanderbi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hilanthrop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eph Wharton – grant enabled first business school at University of Pennsylva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ward Tuck – gift to Dartmouth started Amos Tuck School of Admin. &amp; Fin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land Stanford – honored his son with a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Stevens – provided for the Stevens Institute of Technolog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es B. Duke – Trinity College (later renamed for the famil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Drew – promise of funds led to Drew Univers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es Brown – founded Rhode Island College; became Brown University in 18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Early Industrial Development– 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2857680" cy="360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industry at the time was tex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though the textile industry was the largest business, factories were still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” on the left depicts an early textile m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textile_mill"/>
          <p:cNvPicPr/>
          <p:nvPr/>
        </p:nvPicPr>
        <p:blipFill>
          <a:blip r:embed="rId1"/>
          <a:stretch/>
        </p:blipFill>
        <p:spPr>
          <a:xfrm>
            <a:off x="685800" y="1936800"/>
            <a:ext cx="2857680" cy="192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2857680" cy="308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John D. Rockefeller – given half a billion dollars by the time of his death as well as establishing the Rockefeller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ckefeller is pictured here in 1907 beside a building.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962520" y="4267080"/>
            <a:ext cx="28954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John D. Rockefe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hicago Daily News negatives collection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, DN-0051595. Courtesy of the Chicago Historical Society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4" descr="Rockefeller"/>
          <p:cNvPicPr/>
          <p:nvPr/>
        </p:nvPicPr>
        <p:blipFill>
          <a:blip r:embed="rId1"/>
          <a:stretch/>
        </p:blipFill>
        <p:spPr>
          <a:xfrm>
            <a:off x="3608280" y="1212840"/>
            <a:ext cx="2838600" cy="2935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ig Business and Its Changing Environment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657600" y="1201680"/>
            <a:ext cx="28576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Philanthrop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rew Carnegie – gave away $350 million by the time of his death in addition to his libraries, university, and the Carnegie Foundat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andrew_carnegie"/>
          <p:cNvPicPr/>
          <p:nvPr/>
        </p:nvPicPr>
        <p:blipFill>
          <a:blip r:embed="rId1"/>
          <a:stretch/>
        </p:blipFill>
        <p:spPr>
          <a:xfrm>
            <a:off x="857160" y="1773360"/>
            <a:ext cx="2571840" cy="26175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762120" y="4495680"/>
            <a:ext cx="31240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ndrew Carneg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ourtesy of The General Libraries, The University of Texas at Austi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Rockefeller and Carnegi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generosity by both individuals, the Congressional Committee on Industrial Relations in 1915 denounced both as “menaces to societ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andrew carnegie free library and music hall"/>
          <p:cNvPicPr/>
          <p:nvPr/>
        </p:nvPicPr>
        <p:blipFill>
          <a:blip r:embed="rId1"/>
          <a:stretch/>
        </p:blipFill>
        <p:spPr>
          <a:xfrm>
            <a:off x="914400" y="2573280"/>
            <a:ext cx="3090960" cy="221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ockefeller_archive_center"/>
          <p:cNvPicPr/>
          <p:nvPr/>
        </p:nvPicPr>
        <p:blipFill>
          <a:blip r:embed="rId2"/>
          <a:stretch/>
        </p:blipFill>
        <p:spPr>
          <a:xfrm>
            <a:off x="4457880" y="2460600"/>
            <a:ext cx="2035080" cy="2335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7"/>
          <p:cNvSpPr/>
          <p:nvPr/>
        </p:nvSpPr>
        <p:spPr>
          <a:xfrm>
            <a:off x="4457880" y="4803840"/>
            <a:ext cx="211428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ckefeller Archiv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1200240" y="4803840"/>
            <a:ext cx="2343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rew Carnegie Free Library &amp; Music H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monwealth v. Hunt decision (1842) broke the British tradition of unions as conspiracies in restraint of t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.S. craft unions and brotherhoods of railroad workers were successful in the late 1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orts to organize other workers were generally unsuccess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violence in the late 1800s fueled public fear of 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Labor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76320" y="1201680"/>
            <a:ext cx="283860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erican Federation of Labor organized in 1886 under Samuel Gomp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4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out unions, and despite growing numbers of immigrants, U.S. workers found their wages and real (purchasing power) wages rising during the perio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Gompers"/>
          <p:cNvPicPr/>
          <p:nvPr/>
        </p:nvPicPr>
        <p:blipFill>
          <a:blip r:embed="rId1"/>
          <a:stretch/>
        </p:blipFill>
        <p:spPr>
          <a:xfrm>
            <a:off x="774720" y="1523880"/>
            <a:ext cx="2354400" cy="30895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7"/>
          <p:cNvSpPr/>
          <p:nvPr/>
        </p:nvSpPr>
        <p:spPr>
          <a:xfrm>
            <a:off x="838080" y="4724280"/>
            <a:ext cx="2114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muel Gompers,                         courtesy of  Library of Con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nventive and Innovative Impuls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3000"/>
          </a:bodyPr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ailroads: made travel possible and pleasurable; fostered a retailing revol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legraph and telephone: aided growth of commerce and transportation through communic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9040" indent="-239040">
              <a:lnSpc>
                <a:spcPct val="90000"/>
              </a:lnSpc>
              <a:spcBef>
                <a:spcPts val="4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ther industries developed and grew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mark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w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-19908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Business and Government: The  Seeds of Reform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3143160" cy="3205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“elastic clause,” the commerce clause, of the U.S. Constitution expanded during this period with regulation of railroa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terstate Commerce Act and the Sherman Antitrust Act were attempts to regulate business but these laws were generally ineffe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odrow Wilson (then a college professor) advocated better management of gover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woodrow_wilson"/>
          <p:cNvPicPr/>
          <p:nvPr/>
        </p:nvPicPr>
        <p:blipFill>
          <a:blip r:embed="rId1"/>
          <a:stretch/>
        </p:blipFill>
        <p:spPr>
          <a:xfrm>
            <a:off x="4191120" y="1201680"/>
            <a:ext cx="2031840" cy="34005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4229280" y="4691160"/>
            <a:ext cx="2114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odrow Wilson, courtesy of        The Constitution Soci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Summary of Part On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ined management thought prior to the scientific management era in the U.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ly civilizations placed  a low value on economic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echnical and cultural changes of the Industrial Revolution presented managerial problems in : organizing, motivating people, and fusing people and proces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flow chart"/>
          <p:cNvPicPr/>
          <p:nvPr/>
        </p:nvPicPr>
        <p:blipFill>
          <a:blip r:embed="rId1"/>
          <a:stretch/>
        </p:blipFill>
        <p:spPr>
          <a:xfrm>
            <a:off x="838080" y="304920"/>
            <a:ext cx="5486400" cy="45194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1676520" y="4800600"/>
            <a:ext cx="3657600" cy="2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gure 6-1         Synopsis of early management thou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422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ademy of Management – Management History Division Website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www.aomhistory.baker.edu/departments/leadership/mgthistory/link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st of Internet Resources compiled by Charles Boo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http://www.jiscmail.ac.uk/files/MANAGEMENT-HISTORY/links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estern Libraries Business Library – Biographies of Gur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http://www.lib.uwo.ca/business/gurus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from Ancient History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http://www.accel-team.com/scientific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x Weber </a:t>
            </a:r>
            <a:br>
              <a:rPr sz="1100"/>
            </a:b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http://www.faculty.rsu.edu/~felwell/Theorists/Weber/Whome.ht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icolo Machiavelli – Medieval Source Book – The Prince 15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http://www.fordham.edu/halsall/basis/machiavelli-prin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ohn Locke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blupete.com/Literature/Biographies/Philosophy/Locke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am Smit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socserv2.socsci.mcmaster.ca/~econ/ugcm/3ll3/smith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mes Watt by Carnegi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rochester.edu/steam/carneg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s during the Industrial Revolu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ccel-team.com/scientific/scientific_01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12560" y="1201680"/>
            <a:ext cx="340236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9000"/>
          </a:bodyPr>
          <a:p>
            <a:pPr marL="254160" indent="-25416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uel Slater – “Rhode Island Syste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rst to use steam-driven power loo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sole proprietorship or partnership form of ownership initia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lied on family for labor – with growth had to hire professional manager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-212040">
              <a:lnSpc>
                <a:spcPct val="9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rtically integrated operations forward and backw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51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30" descr="samuel_slater"/>
          <p:cNvPicPr/>
          <p:nvPr/>
        </p:nvPicPr>
        <p:blipFill>
          <a:blip r:embed="rId1"/>
          <a:stretch/>
        </p:blipFill>
        <p:spPr>
          <a:xfrm>
            <a:off x="712800" y="1212840"/>
            <a:ext cx="2286000" cy="3354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857160" y="4633920"/>
            <a:ext cx="222912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amuel Sla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Additional Internet Resourc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6411960" cy="3089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4000"/>
          </a:bodyPr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bert Owen Museu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robert-owen.midwales.com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Babbage Institu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bi.umn.edu/exhibits/cb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Ure - The Philosophy of the Manufacturers 1835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fordham.edu/halsall/mod/1835ur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arles Dupin Biography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-groups.dcs.st-and.ac.uk/~history/Mathematicians/Dupin.htm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rus McCormick - Biograp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vaes.vt.edu/steeles/mccormick/bio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muel F.B. Mor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memory.loc.gov/ammem/atthtml/mrshom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nry R. Towne – Address delivered at Purdue University (19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cslib.org/stamford/towne1905.h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drew Carnegi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americaslibrary.gov/cgi-bin/page.cgi/aa/carneg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Rockefellers – PBS Document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pbs.org/wgbh/amex/rockefelle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-241560">
              <a:lnSpc>
                <a:spcPct val="80000"/>
              </a:lnSpc>
              <a:spcBef>
                <a:spcPts val="27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e Samuel Gompers Pap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://www.history.umd.edu/Gompers/index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415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2960" y="858600"/>
            <a:ext cx="4972320" cy="1657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End of Part On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28520" y="2975040"/>
            <a:ext cx="5143320" cy="1200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2516040" y="4691160"/>
            <a:ext cx="2171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ncis Lowell – “Waltham Syste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ater-power l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red non-family supervisors &amp; managers with corporat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tegrated spinning and weaving to manufacture goods in large quant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d on adult female la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ised by Charles Dickens for better treatment of employ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52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Textile Mill at Pawtucket, Rhode Island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mill_pawtucket"/>
          <p:cNvPicPr/>
          <p:nvPr/>
        </p:nvPicPr>
        <p:blipFill>
          <a:blip r:embed="rId1"/>
          <a:stretch/>
        </p:blipFill>
        <p:spPr>
          <a:xfrm>
            <a:off x="399960" y="1601640"/>
            <a:ext cx="3086280" cy="206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mill_pawtucket_present"/>
          <p:cNvPicPr/>
          <p:nvPr/>
        </p:nvPicPr>
        <p:blipFill>
          <a:blip r:embed="rId2"/>
          <a:stretch/>
        </p:blipFill>
        <p:spPr>
          <a:xfrm>
            <a:off x="3714840" y="1601640"/>
            <a:ext cx="2905200" cy="197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200240" y="3946680"/>
            <a:ext cx="2514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943440" y="3660840"/>
            <a:ext cx="23432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 – present day 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43040" y="3718080"/>
            <a:ext cx="2343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iction of 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330033"/>
                </a:solidFill>
                <a:uFillTx/>
                <a:latin typeface="Times New Roman"/>
              </a:rPr>
              <a:t>Commonwealth v. Hunt (1842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orker combinations (unions) were no longer illegal unless their intent was crimin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eking a closed shop and striking were no longer illeg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applied to Massachusetts but discouraged prosecution of worker organizations elsewhe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 by interchangeable parts was not new – previously confined to making muskets and revol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ringfield (MA) Armory was an early factory proto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employees – largest factory in the U.S. until after the Civil W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d by Colonel Roswell Lee in 18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iece rate incentive payments and accoun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 was more special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standards promoted interchangeability of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07720"/>
            <a:ext cx="5829480" cy="858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The American System of Manufactures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201680"/>
            <a:ext cx="5829480" cy="34005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7000"/>
          </a:bodyPr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spread to other areas of manufactu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The reaper by Cyrus McCorm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American System” received its name at the exposition of 1851 in Lond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factories remained relatively sm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cLane report of 1832 found the firms were mos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 own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corporations – unlimited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use of steam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0360" indent="-20772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findings of Andrew Ure regarding English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2514600" y="4691160"/>
            <a:ext cx="222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9T17:19:21Z</dcterms:created>
  <dc:creator>Julia Teahen</dc:creator>
  <dc:description/>
  <dc:language>en-US</dc:language>
  <cp:lastModifiedBy>Legion</cp:lastModifiedBy>
  <dcterms:modified xsi:type="dcterms:W3CDTF">2017-07-05T11:05:51Z</dcterms:modified>
  <cp:revision>195</cp:revision>
  <dc:subject/>
  <dc:title>Seminar One</dc:title>
</cp:coreProperties>
</file>