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6858000" cy="51482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EE34A-AAC1-4EC8-AD64-DDE4013EACA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ek 3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Industrial Revolution in the United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ek 3 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dustrial Revolution in the Unit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ailroads: Pioneering in U.S.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“big business” in the U.S. – developed c. 183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ed the transportation rev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ilitated U.S. industry move from local markets to national mark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lroads had size and complex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ired a management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Association of American Railroads (AAR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Railroads: Pioneering in U.S.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rst “big business” in the U.S. – developed c. 183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tarted the transportation revol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acilitated U.S. industry move from local markets to national mark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ailroads had size and complex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quired a management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urtesy of Association of American Railroads (AAR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egraph, patented by Samuel Morse in 1837, started concurrent  revolution in communica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1860, about 50,000 miles of wires extended over the eastern 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matic effect on business commun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ilitated U.S. industry move from local markets to national mark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ard Sears used the telegraph to see gold watches – the first electronic commer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Mo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munication R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legraph, patented by Samuel Morse in 1837, started concurrent  revolution in communic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y 1860, about 50,000 miles of wires extended over the eastern U.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amatic effect on business commun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acilitated U.S. industry move from local markets to national mark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ichard Sears used the telegraph to see gold watches – the first electronic commer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amuel Mo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ge of Rail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iel McCallum (1815-187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ed a system of managing on the Erie Railroa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fic job descri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urate performance re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rit basis for pay and pro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zational chart to show lines of authority, responsibility, and 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telegraph for dispatching trains and checking on perform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iel McCallum, Circa 18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Age of Rail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aniel McCallum (1815-187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veloped a system of managing on the Erie Railroa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pecific job descri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ccurate performance re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erit basis for pay and pro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rganizational chart to show lines of authority, responsibility, and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 of telegraph for dispatching trains and checking on per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aniel McCallum, Circa 18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iel McCall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 of management relied on division of labor, personal responsibility, and organiz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ed a formal organization ch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ed highest state of the art information manageme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st his job when the locomotive engineers would not follow his r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ers were on strike for ten days in June 1854 then 6 months in 1857 in defiance of McCallum’s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ccessful career building bridges and served as master of the Union’s railroads in the Civil W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aniel McCal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ystem of management relied on division of labor, personal responsibility, and organ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veloped a formal organization ch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veloped highest state of the art information manage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st his job when the locomotive engineers would not follow his ru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orkers were on strike for ten days in June 1854 then 6 months in 1857 in defiance of McCallum’s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uccessful career building bridges and served as master of the Union’s railroads in the Civil W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ie Railroad Organizational Ch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perhaps the first organizational chart ever m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cCallum created the organizational chart to explain the Erie Railroad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ie Railroad Organization Chart of 1855.  Library of Congress, Haer, N.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rie Railroad Organizational Ch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is is perhaps the first organizational chart ever m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cCallum created the organizational chart to explain the Erie Railroad Op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rie Railroad Organization Chart of 1855.  Library of Congress, Haer, N.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nry V. Poor (1812-1905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oader Management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or of the American Railroad Jou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me “conscience” of first U.S. big 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ed for broader principles of railroad operations (financing, regulation, and role of U.S. Railroad in lif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ed three principles based on McCallum’s ideas: organization, information, and 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nry Varnum Po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enry V. Poor (1812-1905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 Broader Management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ditor of the American Railroad Jour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came “conscience” of first U.S. big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oked for broader principles of railroad operations (financing, regulation, and role of U.S. Railroad in lif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veloped three principles based on McCallum’s ideas: organization, information, and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enry Varnum P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nry V. Po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later work, Poor felt the answer to problems of top management was through better leader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y in the orga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ing leaders on mer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ing better information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Pics4Learning. http://pics.tech4learning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enry V. P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 later work, Poor felt the answer to problems of top management was through better lead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ity in the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lecting leaders on mer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veloping better information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urtesy of Pics4Learning. http://pics.tech4learn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erging Governance 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industries were partnerships or sole proprietorshi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lroads, requiring large amounts of capital, saw the growth of joint-stock compan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out uniform, adequate laws in Great Britain, management malfeasance occurr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nry Poor wrote about the need for government regulation but not contr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merging Governance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arly industries were partnerships or sole proprietorshi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ailroads, requiring large amounts of capital, saw the growth of joint-stock compan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ithout uniform, adequate laws in Great Britain, management malfeasance occurr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enry Poor wrote about the need for government regulation but not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independence to 1860, the U.S. grew and developed indus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 was critical to development of the modern enterpri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lroads and the telegraph allowed firms to grow for economies of scale and sco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s were required for large, complex organiz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lity of life for people was impro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rom independence to 1860, the U.S. grew and developed indus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eriod was critical to development of the modern enterpr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ailroads and the telegraph allowed firms to grow for economies of scale and sc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nagers were required for large, complex organiz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Quality of life for people was improv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S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 Growth and Systematic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S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dustrial Growth and Systematic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Industrial Revolution – in the United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ritish mercantilism kept the U.S. as a colony which delayed economic develop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reat Britain prohibited the sale of manufacturing equipment and emigration of skilled labor to U.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dam Smith influenced writing of the U.S. Constitution and economic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xtile Indu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monwealth vs. Hunt 184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merican System of Manufa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ailro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dustrial Revolution – in the Unit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ish mercantilism kept the U.S. as a colony which delayed economic develop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 Britain prohibited the sale of manufacturing equipment and emigration of skilled labor to 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m Smith influenced writing of the U.S. Constitution and economic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ile Indu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wealth vs. Hunt 184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erican System of Manufa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lro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 Growth and Systematic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th of enterprise was facilitated by transportation and communication revolutions as well as manufacture by interchangeable par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fred D. Chandler J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Carneg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atic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ng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dustrial Growth and Systematic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rowth of enterprise was facilitated by transportation and communication revolutions as well as manufacture by interchangeable p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fred D. Chandler J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drew Carneg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ystematic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Changing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fred D. Chandler, J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dler wrote about the evolution of U.S. Corporations in 1962 book Strategy and Stru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eveloped his ideas from the study of U.S. corporations during this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fred D. Chandler, J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Harvard Business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fred D. Chandler, J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ndler wrote about the evolution of U.S. Corporations in 1962 book Strategy and Stru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e developed his ideas from the study of U.S. corporations during this peri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fred D. Chandler, J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urtesy of Harvard Business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fred D. Chandler, J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d the late 19th century as the accumulation of resources with growth occurring because o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izontal combinations of firms in smaller fiel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 integration – forward and backw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r firms and the growth of hierarchy of managers to coordinate and integrate operations were the resu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 to success was good management, not si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fred D. Chandler, J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scribed the late 19th century as the accumulation of resources with growth occurring because of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orizontal combinations of firms in smaller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tical integration – forward and back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rger firms and the growth of hierarchy of managers to coordinate and integrate operations were the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Key to success was good management, not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drew Carnegie (1835-1919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teel Indu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earned McCallum’s system of management on the Pennsylvania Railro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d the new Bessemer furnace technology to begin vertically and horizontally integrating his firm in the steel indust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d cost accounting to guide his pricing strategy and drive costs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drew Carneg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urtesy of The General Libraries, The University of Texas at Aust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Carnegie (1835-1919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el Indu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ed McCallum’s system of management on the Pennsylvania Railro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he new Bessemer furnace technology to begin vertically and horizontally integrating his firm in the steel industr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cost accounting to guide his pricing strategy and drive costs d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Carneg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The General Libraries, The University of Texas at Aust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Carneg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el Indu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increased the “throughput” velocity to gain economies of scale and to fully utilize his resour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was a declining price of steel for the consum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Carnegie’s  his first job was in a textile mill like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drew Carneg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teel Indu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e increased the “throughput” velocity to gain economies of scale and to fully utilize his resou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result was a declining price of steel for the consum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drew Carnegie’s  his first job was in a textile mill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naissance of Systematic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 engineers (especially Henry R. Towne) became important in improving factory operations – they often became the manag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erous others began to take an interest in manag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dea that good management was critical in a firm gained credence with engineers and economi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Renaissance of Systematic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echanical engineers (especially Henry R. Towne) became important in improving factory operations – they often became the manag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umerous others began to take an interest in manag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idea that good management was critical in a firm gained credence with engineers and economi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naissance of Systematic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bor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“Social Gospel” proponents felt that workers should join unions, share in profits, and have arbitration instead of strik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ineers and others felt that better work methods and systems were the answer, including pay for performance incentive sys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895 Frederick W.Taylor proposed a rate setting and piece-rate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Renaissance of Systematic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Labor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ome “Social Gospel” proponents felt that workers should join unions, share in profits, and have arbitration instead of strik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ngineers and others felt that better work methods and systems were the answer, including pay for performance incentive 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 1895 Frederick W.Taylor proposed a rate setting and piece-rate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Business and Its Chang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 &amp;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hew Josephson characterized the business leaders of this time as “Robber Baron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evidence that business leaders did engage in some corrupt practices: watering stock, bribery of government officials, manipulating stock, and conspira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motivation was alleged to be “survival of the fittest” and desire for monopo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ion was also drive for economies of scale that led to lower pri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g Business and Its Changing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usiness &amp;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tthew Josephson characterized the business leaders of this time as “Robber Barons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re is evidence that business leaders did engage in some corrupt practices: watering stock, bribery of government officials, manipulating stock, and conspira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ir motivation was alleged to be “survival of the fittest” and desire for monopo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otivation was also drive for economies of scale that led to lower pr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Business and Its Chang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cial conscience of the 19th century entrepreneur gave rise to individual philanthrop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zra Cornell – his money founded Cornell Univer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iam Colgate – college changed its name to his as result of his generosit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Hopkins –  founded John Hopkins Univer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nelius Vanderbilt – founded Vanderbilt Univer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nelius Vanderbi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The General Libraries, The University of Texas at Aust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g Business and Its Changing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social conscience of the 19th century entrepreneur gave rise to individual philanthrop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zra Cornell – his money founded Cornell Un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illiam Colgate – college changed its name to his as result of his generos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ohn Hopkins –  founded John Hopkins Un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rnelius Vanderbilt – founded Vanderbilt Un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rnelius Vanderbi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urtesy of The General Libraries, The University of Texas at Aust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Business and Its Chang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Philanthropi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seph Wharton – grant enabled first business school at University of Pennsylvan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Tuck – gift to Dartmouth started Amos Tuck School of Admin. &amp; Fin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land Stanford – honored his son with a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Stevens – provided for the Stevens Institute of Technolo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B. Duke – Trinity College (later renamed for the famil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iel Drew – promise of funds led to Drew Univer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es Brown – founded Rhode Island College; became Brown University in 180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g Business and Its Changing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ore Philanthrop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oseph Wharton – grant enabled first business school at University of Pennsylva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dward Tuck – gift to Dartmouth started Amos Tuck School of Admin. &amp; Fin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eland Stanford – honored his son with a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ohn Stevens – provided for the Stevens Institute of Technolo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ames B. Duke – Trinity College (later renamed for the family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aniel Drew – promise of funds led to Drew Un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oses Brown – founded Rhode Island College; became Brown University in 180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arly Industrial Development– Textile M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rgest industry at the time was text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ven though the textile industry was the largest business, factories were still sm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oto” on the left depicts an early textile m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Industrial Development– Textile Mi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st industry at the time was text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though the textile industry was the largest business, factories were still sm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” on the left depicts an early textile mi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Business and Its Chang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ous Philanthropi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D. Rockefeller – given half a billion dollars by the time of his death as well as establishing the Rockefeller Found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efeller is pictured here in 1907 beside a building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D. Rockefe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cago Daily News negatives collection, DN-0051595. Courtesy of the Chicago Historical Socie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g Business and Its Changing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amous Philanthrop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ohn D. Rockefeller – given half a billion dollars by the time of his death as well as establishing the Rockefeller Found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ockefeller is pictured here in 1907 beside a building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ohn D. Rockefe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icago Daily News negatives collection, DN-0051595. Courtesy of the Chicago Historical Socie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Business and Its Chang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ous Philanthropi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Carnegie – gave away $350 million by the time of his death in addition to his libraries, university, and the Carnegie Found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Carnegi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The General Libraries, The University of Texas at Aust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g Business and Its Changing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amous Philanthrop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drew Carnegie – gave away $350 million by the time of his death in addition to his libraries, university, and the Carnegie Found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drew Carnegi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urtesy of The General Libraries, The University of Texas at Aust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efeller and Carneg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pite generosity by both individuals, the Congressional Committee on Industrial Relations in 1915 denounced both as “menaces to societ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efeller Archive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Carnegie Free Library &amp; Music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ockefeller and Carneg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spite generosity by both individuals, the Congressional Committee on Industrial Relations in 1915 denounced both as “menaces to society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ockefeller Archive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drew Carnegie Free Library &amp; Music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 and Lab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onwealth v. Hunt decision (1842) broke the British tradition of unions as conspiracies in restraint of tra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.S. craft unions and brotherhoods of railroad workers were successful in the late 19th centu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orts to organize other workers were generally unsuccessfu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or violence in the late 1800s fueled public fear of un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usiness and Lab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Commonwealth v. Hunt decision (1842) broke the British tradition of unions as conspiracies in restraint of tr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.S. craft unions and brotherhoods of railroad workers were successful in the late 19th centu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fforts to organize other workers were generally unsuccessfu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bor violence in the late 1800s fueled public fear of un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 and Lab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erican Federation of Labor organized in 1886 under Samuel Gomp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out unions, and despite growing numbers of immigrants, U.S. workers found their wages and real (purchasing power) wages rising during the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Gompers,                         courtesy of  Library of Cong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usiness and Lab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merican Federation of Labor organized in 1886 under Samuel Gomp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ithout unions, and despite growing numbers of immigrants, U.S. workers found their wages and real (purchasing power) wages rising during the peri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amuel Gompers,                         courtesy of  Library of Cong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ntive and Innovative Impul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lroads: made travel possible and pleasurable; fostered a retailing rev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egraph and telephone: aided growth of commerce and transportation through commun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industries developed and grew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mark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wing mach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ve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ventive and Innovative Impul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ailroads: made travel possible and pleasurable; fostered a retailing revol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legraph and telephone: aided growth of commerce and transportation through commun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ther industries developed and gre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ss marke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wing mach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arves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te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 and Government: The  Seeds of Re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elastic clause,” the commerce clause, of the U.S. Constitution expanded during this period with regulation of railroa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terstate Commerce Act and the Sherman Antitrust Act were attempts to regulate business but these laws were generally ineffectu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odrow Wilson (then a college professor) advocated better management of gover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odrow Wilson, courtesy of        The Constitution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usiness and Government: The  Seeds of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“elastic clause,” the commerce clause, of the U.S. Constitution expanded during this period with regulation of railroa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Interstate Commerce Act and the Sherman Antitrust Act were attempts to regulate business but these laws were generally ineffectu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oodrow Wilson (then a college professor) advocated better management of gover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oodrow Wilson, courtesy of        The Constitution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Part 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ined management thought prior to the scientific management era in the 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civilizations placed  a low value on economic activ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chnical and cultural changes of the Industrial Revolution presented managerial problems in : organizing, motivating people, and fusing people and proces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ummary of Part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amined management thought prior to the scientific management era in the U.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arly civilizations placed  a low value on economic 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technical and cultural changes of the Industrial Revolution presented managerial problems in : organizing, motivating people, and fusing people and proces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6-1         Synopsis of early management thou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gure 6-1         Synopsis of early management thou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Internet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ademy of Management – Management History Division Websi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omhistory.baker.edu/departments/leadership/mgthistory/link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of Internet Resources compiled by Charles Booth http://www.jiscmail.ac.uk/files/MANAGEMENT-HISTORY/links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stern Libraries Business Library – Biographies of Gu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lib.uwo.ca/business/guru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s from Ancient Histo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ccel-team.com/scientific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 Web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faculty.rsu.edu/~felwell/Theorists/Weber/Whome.ht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lo Machiavelli – Medieval Source Book – The Prince 15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fordham.edu/halsall/basis/machiavelli-princ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Locke Bi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blupete.com/Literature/Biographies/Philosophy/Locke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m Smi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socserv2.socsci.mcmaster.ca/~econ/ugcm/3ll3/smith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Watt by Carnegi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history.rochester.edu/steam/carneg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s during the Industrial Revolu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ccel-team.com/scientific/scientific_01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dditional Internet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cademy of Management – Management History Division Websi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aomhistory.baker.edu/departments/leadership/mgthistory/link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ist of Internet Resources compiled by Charles Booth http://www.jiscmail.ac.uk/files/MANAGEMENT-HISTORY/link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stern Libraries Business Library – Biographies of Gu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lib.uwo.ca/business/guru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velopments from Ancient Histo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accel-team.com/scientific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x Web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faculty.rsu.edu/~felwell/Theorists/Weber/Whome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icolo Machiavelli – Medieval Source Book – The Prince 15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fordham.edu/halsall/basis/machiavelli-princ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ohn Locke Bi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blupete.com/Literature/Biographies/Philosophy/Lock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dam Smi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socserv2.socsci.mcmaster.ca/~econ/ugcm/3ll3/smith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ames Watt by Carnegi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history.rochester.edu/steam/carneg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velopments during the Industrial Revolu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accel-team.com/scientific/scientific_01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ile Mi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Slater – “Rhode Island System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to use steam-driven power lo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ed on sole proprietorship or partnership form of ownership initi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ed on family for labor – with growth had to hire professional manag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ly integrated operations forward and backwa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S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xtile M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amuel Slater – “Rhode Island System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rst to use steam-driven power lo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lied on sole proprietorship or partnership form of ownership initi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lied on family for labor – with growth had to hire professional manag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tically integrated operations forward and backw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amuel S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Internet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bert Owen Muse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robert-owen.midwales.com/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les Babbage Institu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cbi.umn.edu/exhibits/cb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Ure - The Philosophy of the Manufacturers 183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fordham.edu/halsall/mod/1835ur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les Dupin Biograph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-groups.dcs.st-and.ac.uk/~history/Mathematicians/Dupin.htm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rus McCormick - Bi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vaes.vt.edu/steeles/mccormick/bio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F.B. Mor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memory.loc.gov/ammem/atthtml/mrshom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nry R. Towne – Address delivered at Purdue University (190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cslib.org/stamford/towne1905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Carnegi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mericaslibrary.gov/cgi-bin/page.cgi/aa/carneg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ckefellers – PBS Documen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pbs.org/wgbh/amex/rockefellers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muel Gompers Pa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history.umd.edu/Gompers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dditional Internet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Robert Owen Muse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robert-owen.midwales.com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rles Babbage Institu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cbi.umn.edu/exhibits/cb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drew Ure - The Philosophy of the Manufacturers 183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fordham.edu/halsall/mod/1835ur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rles Dupin Biograph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-groups.dcs.st-and.ac.uk/~history/Mathematicians/Dupin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yrus McCormick - Bi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vaes.vt.edu/steeles/mccormick/bio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amuel F.B. Mor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memory.loc.gov/ammem/atthtml/mrshom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enry R. Towne – Address delivered at Purdue University (19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cslib.org/stamford/towne1905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drew Carnegi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americaslibrary.gov/cgi-bin/page.cgi/aa/carneg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Rockefellers – PBS Documen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pbs.org/wgbh/amex/rockefeller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Samuel Gompers Pa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history.umd.edu/Gompers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of Part 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nd of Part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ile Mi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ncis Lowell – “Waltham System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water-power lo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red non-family supervisors &amp; managers with corporate mod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integrated spinning and weaving to manufacture goods in large quanti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ed on adult female lab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aised by Charles Dickens for better treatment of employe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xtile M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rancis Lowell – “Waltham System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d water-power lo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ired non-family supervisors &amp; managers with corporate mod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d integrated spinning and weaving to manufacture goods in large quant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lied on adult female lab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aised by Charles Dickens for better treatment of employe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ile Mill at Pawtucket, Rhode Is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 – present day reconstr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iction of M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xtile Mill at Pawtucket, Rhode I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ill – present day reco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piction of M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wealth v. Hunt (184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er combinations (unions) were no longer illegal unless their intent was crimin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king a closed shop and striking were no longer illeg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applied to Massachusetts but discouraged prosecution of worker organizations elsew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monwealth v. Hunt (18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orker combinations (unions) were no longer illegal unless their intent was crimi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eking a closed shop and striking were no longer illeg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nly applied to Massachusetts but discouraged prosecution of worker organizations elsew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erican System of Manufa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ufacture by interchangeable parts was not new – previously confined to making muskets and revolv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ringfield (MA) Armory was an early factory prototy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0 employees – largest factory in the U.S. until after the Civil W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zed by Colonel Roswell Lee in 181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piece rate incentive payments and accounting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or was more specializ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form standards promoted interchangeability of par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American System of Manufa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nufacture by interchangeable parts was not new – previously confined to making muskets and revolv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Springfield (MA) Armory was an early factory prototy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50 employees – largest factory in the U.S. until after the Civil W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rganized by Colonel Roswell Lee in 181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d piece rate incentive payments and accounting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bor was more specializ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iform standards promoted interchangeability of p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erican System of Manufa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s spread to other areas of manufactu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: The reaper by Cyrus McCorm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American System” received its name at the exposition of 1851 in Lond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.S. factories remained relatively sm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cLane report of 1832 found the firms were mostl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ily owned and mana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 corporations – unlimited li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ttle use of steam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 to findings of Andrew Ure regarding English fi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American System of Manufa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deas spread to other areas of manufactu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: The reaper by Cyrus McCorm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“American System” received its name at the exposition of 1851 in Lond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.S. factories remained relatively sm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McLane report of 1832 found the firms were most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amily owned and mana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ew corporations – unlimited li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ittle use of steam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imilar to findings of Andrew Ure regarding English fi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839F-F4EB-4A7E-BC0F-E334C4D15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440" y="2977920"/>
            <a:ext cx="58294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2E42-803B-4DA0-9327-272305A55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7272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440" y="297792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72720" y="297792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62AD-9625-4EE2-87BD-F1A84D767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656440" y="120168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27080" y="120168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440" y="297792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656440" y="297792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627080" y="297792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04F9-B813-4303-A422-68B0B4517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67CD3-506D-4C51-9CFD-BA4AFE6FC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F0609-8D1C-4253-A792-DDEC1F131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138AE-8EFB-41C3-BA56-2E11E9C7C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4472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672720" y="1201680"/>
            <a:ext cx="284472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154BB-D044-4839-8820-9FF1A3A46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2F43A-3946-4E66-9853-D7A022FBB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440" y="207720"/>
            <a:ext cx="582948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29254-542A-4BF0-85A3-8DD141D44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72720" y="1201680"/>
            <a:ext cx="284472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297792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02472-FD36-4806-89B0-D889A6BC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4599-2CF6-431B-B1E5-4556B4AA7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4472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7272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672720" y="297792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C89FF-DCD7-4A82-A6DB-558A6035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7272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440" y="2977920"/>
            <a:ext cx="58294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78468-8AED-47D6-949B-3FA092F0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440" y="2977920"/>
            <a:ext cx="58294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A9648-01BA-407C-82A8-149560C8A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67272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440" y="297792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672720" y="297792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8D0BB-8728-407B-B03E-59EAF1A09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2656440" y="120168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27080" y="120168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440" y="297792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2656440" y="297792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4627080" y="297792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E1704-17DC-41B8-A32F-92B49192E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BA43-DD50-4D52-A752-7A5AB286D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4472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72720" y="1201680"/>
            <a:ext cx="284472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5FEC-AD8C-4EEB-AB89-CEBBE5B48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0BC4-7CF1-4D96-B256-4D9F75C92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440" y="207720"/>
            <a:ext cx="582948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8B04-9F4D-4AB8-9B3E-B0C24B7E0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672720" y="1201680"/>
            <a:ext cx="284472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440" y="297792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B986-56FE-4663-8001-6437CF56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4472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67272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672720" y="297792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4623-F034-4F16-91ED-E5B570AA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67272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440" y="2977920"/>
            <a:ext cx="58294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844F-B261-419C-8EBE-218CD6F4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6514920" cy="3660840"/>
            <a:chOff x="0" y="0"/>
            <a:chExt cx="6514920" cy="366084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456840" cy="366084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285480" y="1064160"/>
              <a:ext cx="6229440" cy="136800"/>
              <a:chOff x="285480" y="1064160"/>
              <a:chExt cx="6229440" cy="13680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5143320" y="1064160"/>
                <a:ext cx="1371600" cy="1368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285480" y="1121400"/>
                <a:ext cx="622944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5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524"/>
              </a:spcBef>
              <a:buClr>
                <a:srgbClr val="cccc99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524"/>
              </a:spcBef>
              <a:buClr>
                <a:srgbClr val="cccc99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4692240"/>
            <a:ext cx="1486080" cy="3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251424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lstStyle>
            <a:lvl1pPr marL="216000"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5086080" y="4691160"/>
            <a:ext cx="1428840" cy="3427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lstStyle>
            <a:lvl1pPr marL="216000"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51440AA2-A05B-4E6E-B465-842D454FF0A1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3660840"/>
            <a:ext cx="45720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6571800" cy="4462200"/>
            <a:chOff x="0" y="0"/>
            <a:chExt cx="6571800" cy="44622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314000" cy="366156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2631600"/>
              <a:ext cx="6571800" cy="1830600"/>
              <a:chOff x="0" y="2631600"/>
              <a:chExt cx="6571800" cy="18306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742680" y="2631600"/>
                <a:ext cx="5829120" cy="18306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778320" y="2802960"/>
                <a:ext cx="5736240" cy="160524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3661200"/>
                <a:ext cx="74268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475920" y="400320"/>
              <a:ext cx="6057720" cy="228600"/>
              <a:chOff x="475920" y="400320"/>
              <a:chExt cx="6057720" cy="22860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4704480" y="400320"/>
                <a:ext cx="1828800" cy="2286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475920" y="514440"/>
                <a:ext cx="60577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5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524"/>
              </a:spcBef>
              <a:buClr>
                <a:srgbClr val="cccc99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524"/>
              </a:spcBef>
              <a:buClr>
                <a:srgbClr val="cccc99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684360" y="4692240"/>
            <a:ext cx="1428480" cy="3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2515680" y="4691160"/>
            <a:ext cx="2171880" cy="3427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lstStyle>
            <a:lvl1pPr marL="216000"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5086080" y="4691160"/>
            <a:ext cx="1428840" cy="3427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lstStyle>
            <a:lvl1pPr marL="216000"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C2664E01-B6AC-4D70-97A8-357833B8B876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aomhistory.baker.edu/departments/leadership/mgthistory/links.html" TargetMode="External"/><Relationship Id="rId2" Type="http://schemas.openxmlformats.org/officeDocument/2006/relationships/hyperlink" Target="http://www.jiscmail.ac.uk/files/MANAGEMENT-HISTORY/links.htm" TargetMode="External"/><Relationship Id="rId3" Type="http://schemas.openxmlformats.org/officeDocument/2006/relationships/hyperlink" Target="http://www.lib.uwo.ca/business/gurus.html" TargetMode="External"/><Relationship Id="rId4" Type="http://schemas.openxmlformats.org/officeDocument/2006/relationships/hyperlink" Target="http://www.accel-team.com/scientific/index.html" TargetMode="External"/><Relationship Id="rId5" Type="http://schemas.openxmlformats.org/officeDocument/2006/relationships/hyperlink" Target="http://www.faculty.rsu.edu/~felwell/Theorists/Weber/Whome.htm" TargetMode="External"/><Relationship Id="rId6" Type="http://schemas.openxmlformats.org/officeDocument/2006/relationships/hyperlink" Target="http://www.fordham.edu/halsall/basis/machiavelli-prince.html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42960" y="858600"/>
            <a:ext cx="4972320" cy="1657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Week 3 Notes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028520" y="2975040"/>
            <a:ext cx="5143320" cy="1200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dustrial Revolution in the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2516040" y="4691160"/>
            <a:ext cx="21718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The Railroads: Pioneering in U.S. Managemen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2742840"/>
            <a:ext cx="5829480" cy="19890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“big business” in the U.S. – developed c. 183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ed the transportation rev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ilitated U.S. industry move from local markets to national marke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ilroads had size and complex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d a management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historybirthpict"/>
          <p:cNvPicPr/>
          <p:nvPr/>
        </p:nvPicPr>
        <p:blipFill>
          <a:blip r:embed="rId1"/>
          <a:stretch/>
        </p:blipFill>
        <p:spPr>
          <a:xfrm>
            <a:off x="914400" y="1447920"/>
            <a:ext cx="5143680" cy="10508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1295280" y="2514600"/>
            <a:ext cx="381024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urtesy of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on of American Railroads (AAR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Communication Revolution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676320" y="1201680"/>
            <a:ext cx="283860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6000"/>
          </a:bodyPr>
          <a:p>
            <a:pPr marL="246600" indent="-246600">
              <a:lnSpc>
                <a:spcPct val="90000"/>
              </a:lnSpc>
              <a:spcBef>
                <a:spcPts val="3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elegraph, patented by Samuel Morse in 1837, started concurrent  revolution in communication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6600" indent="-246600">
              <a:lnSpc>
                <a:spcPct val="90000"/>
              </a:lnSpc>
              <a:spcBef>
                <a:spcPts val="3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y 1860, about 50,000 miles of wires extended over the eastern U.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6600" indent="-246600">
              <a:lnSpc>
                <a:spcPct val="90000"/>
              </a:lnSpc>
              <a:spcBef>
                <a:spcPts val="3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ramatic effect on business communicatio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6600" indent="-246600">
              <a:lnSpc>
                <a:spcPct val="90000"/>
              </a:lnSpc>
              <a:spcBef>
                <a:spcPts val="3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acilitated U.S. industry move from local markets to national marke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6600" indent="-246600">
              <a:lnSpc>
                <a:spcPct val="90000"/>
              </a:lnSpc>
              <a:spcBef>
                <a:spcPts val="3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ichard Sears used the telegraph to see gold watches – the first electronic commerc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6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6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mrsimg"/>
          <p:cNvPicPr/>
          <p:nvPr/>
        </p:nvPicPr>
        <p:blipFill>
          <a:blip r:embed="rId1"/>
          <a:stretch/>
        </p:blipFill>
        <p:spPr>
          <a:xfrm>
            <a:off x="787320" y="1201680"/>
            <a:ext cx="2635200" cy="34005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1857960" y="4552920"/>
            <a:ext cx="10339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amuel Mo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The Age of Rails:</a:t>
            </a:r>
            <a:br>
              <a:rPr sz="3200"/>
            </a:b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Daniel McCallum (1815-1878)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71320" y="1514160"/>
            <a:ext cx="3314520" cy="3089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2000"/>
          </a:bodyPr>
          <a:p>
            <a:pPr marL="236160" indent="-23616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ed a system of managing on the Erie Railroa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pecific job descrip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curate performance repor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erit basis for pay and promo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rganizational chart to show lines of authority, responsibility, and communic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 of telegraph for dispatching trains and checking on performa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daniel_mccallum"/>
          <p:cNvPicPr/>
          <p:nvPr/>
        </p:nvPicPr>
        <p:blipFill>
          <a:blip r:embed="rId1"/>
          <a:stretch/>
        </p:blipFill>
        <p:spPr>
          <a:xfrm>
            <a:off x="3855960" y="1201680"/>
            <a:ext cx="2457360" cy="34005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7"/>
          <p:cNvSpPr/>
          <p:nvPr/>
        </p:nvSpPr>
        <p:spPr>
          <a:xfrm>
            <a:off x="4000680" y="4633920"/>
            <a:ext cx="262872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iel McCallum, Circa 18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Daniel McCallum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8000"/>
          </a:bodyPr>
          <a:p>
            <a:pPr marL="251640" indent="-2516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ystem of management relied on division of labor, personal responsibility, and organizatio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1640" indent="-2516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veloped a formal organization char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1640" indent="-2516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veloped highest state of the art information management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1640" indent="-2516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ost his job when the locomotive engineers would not follow his rul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0988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ers were on strike for ten days in June 1854 then 6 months in 1857 in defiance of McCallum’s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640" indent="-2516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uccessful career building bridges and served as master of the Union’s railroads in the Civil Wa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89080"/>
            <a:ext cx="5845320" cy="574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Erie Railroad Organizational Chart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3860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perhaps the first organizational chart ever m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Callum created the organizational chart to explain the Erie Railroad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Photo0013"/>
          <p:cNvPicPr/>
          <p:nvPr/>
        </p:nvPicPr>
        <p:blipFill>
          <a:blip r:embed="rId1"/>
          <a:stretch/>
        </p:blipFill>
        <p:spPr>
          <a:xfrm>
            <a:off x="3962520" y="898560"/>
            <a:ext cx="2538360" cy="378144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9"/>
          <p:cNvSpPr/>
          <p:nvPr/>
        </p:nvSpPr>
        <p:spPr>
          <a:xfrm>
            <a:off x="2271240" y="4784760"/>
            <a:ext cx="45255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Erie Railroad Organization Chart of 1855.  Library of Congress, Haer, N.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Henry V. Poor (1812-1905)</a:t>
            </a:r>
            <a:br>
              <a:rPr sz="3200"/>
            </a:b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A Broader Management View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201680"/>
            <a:ext cx="28576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tor of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merican Railroad Jour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came “conscience” of first U.S. big busi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oked for broader principles of railroad operations (financing, regulation, and role of U.S. Railroad in lif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ed three principles based on McCallum’s ideas: organization, information, and commun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henry_poor"/>
          <p:cNvPicPr/>
          <p:nvPr/>
        </p:nvPicPr>
        <p:blipFill>
          <a:blip r:embed="rId1"/>
          <a:stretch/>
        </p:blipFill>
        <p:spPr>
          <a:xfrm>
            <a:off x="3970440" y="1538280"/>
            <a:ext cx="2400120" cy="272736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9"/>
          <p:cNvSpPr/>
          <p:nvPr/>
        </p:nvSpPr>
        <p:spPr>
          <a:xfrm>
            <a:off x="4000680" y="4633920"/>
            <a:ext cx="262872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nry Varnum P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Henry V. Poor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3860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later work, Poor felt the answer to problems of top management was through better lead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nity in the organiz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lecting leaders on meri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veloping better information system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2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054" descr="steamrrengine01"/>
          <p:cNvPicPr/>
          <p:nvPr/>
        </p:nvPicPr>
        <p:blipFill>
          <a:blip r:embed="rId1"/>
          <a:stretch/>
        </p:blipFill>
        <p:spPr>
          <a:xfrm>
            <a:off x="3676680" y="1728720"/>
            <a:ext cx="2838600" cy="234324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2055"/>
          <p:cNvSpPr/>
          <p:nvPr/>
        </p:nvSpPr>
        <p:spPr>
          <a:xfrm>
            <a:off x="3809880" y="4191120"/>
            <a:ext cx="32767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urtesy of Pics4Learning. http://pics.tech4learning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Emerging Governance Issue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arly industries were partnerships or sole proprietorship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ailroads, requiring large amounts of capital, saw the growth of joint-stock compani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ithout uniform, adequate laws in Great Britain, management malfeasance occurred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enry Poor wrote about the need for government regulation but not contro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Summary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rom independence to 1860, the U.S. grew and developed industr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eriod was critical to development of the modern enterpris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ailroads and the telegraph allowed firms to grow for economies of scale and scop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anagers were required for large, complex organization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uality of life for people was improving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42960" y="858600"/>
            <a:ext cx="4972320" cy="1657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Chapter Six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028520" y="2975040"/>
            <a:ext cx="5143320" cy="1200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strial Growth and Systematic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2516040" y="4691160"/>
            <a:ext cx="21718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The Industrial Revolution – in the United State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ritish mercantilism kept the U.S. as a colony which delayed economic developmen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Great Britain prohibited the sale of manufacturing equipment and emigration of skilled labor to U.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dam Smith influenced writing of the U.S. Constitution and economic system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extile Industr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Commonwealth vs. Hunt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1842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merican System of Manufactu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ailroad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Industrial Growth and Systematic Managemen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rowth of enterprise was facilitated by transportation and communication revolutions as well as manufacture by interchangeable part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fred D. Chandler Jr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ndrew Carnegi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ystematic Managem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Changing Environm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Alfred D. Chandler, Jr.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676320" y="1201680"/>
            <a:ext cx="283860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dler wrote about the evolution of U.S. Corporations in 1962 book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rategy and Struc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developed his ideas from the study of U.S. corporations during this peri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033" descr="achandle 1r"/>
          <p:cNvPicPr/>
          <p:nvPr/>
        </p:nvPicPr>
        <p:blipFill>
          <a:blip r:embed="rId1"/>
          <a:stretch/>
        </p:blipFill>
        <p:spPr>
          <a:xfrm>
            <a:off x="685800" y="8153280"/>
            <a:ext cx="3017880" cy="38862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36" descr="achandle 1r"/>
          <p:cNvPicPr/>
          <p:nvPr/>
        </p:nvPicPr>
        <p:blipFill>
          <a:blip r:embed="rId2"/>
          <a:stretch/>
        </p:blipFill>
        <p:spPr>
          <a:xfrm>
            <a:off x="905040" y="1201680"/>
            <a:ext cx="2400120" cy="340056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1037"/>
          <p:cNvSpPr/>
          <p:nvPr/>
        </p:nvSpPr>
        <p:spPr>
          <a:xfrm>
            <a:off x="838080" y="4572000"/>
            <a:ext cx="32767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fred D. Chandler, Jr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urtesy of Harvard Business Scho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Alfred D. Chandler, Jr.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scribed the late 19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century as the accumulation of resources with growth occurring because of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rizontal combinations of firms in smaller fie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tical integration – forward and back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arger firms and the growth of hierarchy of managers to coordinate and integrate operations were the resul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Key to success was good management, not siz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76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330033"/>
                </a:solidFill>
                <a:latin typeface="Times New Roman"/>
              </a:rPr>
              <a:t>Andrew Carnegie (1835-1919)</a:t>
            </a:r>
            <a:br>
              <a:rPr sz="3000"/>
            </a:br>
            <a:r>
              <a:rPr b="0" lang="en-US" sz="3000" spc="-1" strike="noStrike">
                <a:solidFill>
                  <a:srgbClr val="330033"/>
                </a:solidFill>
                <a:latin typeface="Times New Roman"/>
              </a:rPr>
              <a:t>Steel Industry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733560" y="1447560"/>
            <a:ext cx="2857320" cy="3089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8000"/>
          </a:bodyPr>
          <a:p>
            <a:pPr marL="251640" indent="-251640">
              <a:lnSpc>
                <a:spcPct val="90000"/>
              </a:lnSpc>
              <a:spcBef>
                <a:spcPts val="4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earned McCallum’s system of management on the Pennsylvania Railroa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51640" indent="-251640">
              <a:lnSpc>
                <a:spcPct val="90000"/>
              </a:lnSpc>
              <a:spcBef>
                <a:spcPts val="4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d the new Bessemer furnace technology to begin vertically and horizontally integrating his firm in the steel industry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51640" indent="-251640">
              <a:lnSpc>
                <a:spcPct val="90000"/>
              </a:lnSpc>
              <a:spcBef>
                <a:spcPts val="4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d cost accounting to guide his pricing strategy and drive costs dow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685800" y="4599000"/>
            <a:ext cx="281952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ndrew Carneg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urtesy of The General Libraries, The University of Texas at Austi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3" descr="carnegie"/>
          <p:cNvPicPr/>
          <p:nvPr/>
        </p:nvPicPr>
        <p:blipFill>
          <a:blip r:embed="rId1"/>
          <a:stretch/>
        </p:blipFill>
        <p:spPr>
          <a:xfrm>
            <a:off x="1066680" y="1432080"/>
            <a:ext cx="1824120" cy="308916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Andrew Carnegie</a:t>
            </a:r>
            <a:br>
              <a:rPr sz="3200"/>
            </a:b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Steel Industry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2857320" cy="3089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increased the “throughput” velocity to gain economies of scale and to fully utilize his resour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sult was a declining price of steel for the consu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7" descr="aa_carnegie_work_1_m"/>
          <p:cNvPicPr/>
          <p:nvPr/>
        </p:nvPicPr>
        <p:blipFill>
          <a:blip r:embed="rId1"/>
          <a:stretch/>
        </p:blipFill>
        <p:spPr>
          <a:xfrm>
            <a:off x="3913200" y="1460520"/>
            <a:ext cx="2602080" cy="288288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8"/>
          <p:cNvSpPr/>
          <p:nvPr/>
        </p:nvSpPr>
        <p:spPr>
          <a:xfrm>
            <a:off x="3943440" y="4403880"/>
            <a:ext cx="27432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Carnegie’s  his first job was in a textile mill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The Renaissance of Systematic Managemen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201680"/>
            <a:ext cx="28576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chanical engineers (especially Henry R. Towne) became important in improving factory operations – they often became the manag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erous others began to take an interest in manage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idea that good management was critical in a firm gained credence with engineers and economi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6" descr="henry_towne"/>
          <p:cNvPicPr/>
          <p:nvPr/>
        </p:nvPicPr>
        <p:blipFill>
          <a:blip r:embed="rId1"/>
          <a:stretch/>
        </p:blipFill>
        <p:spPr>
          <a:xfrm>
            <a:off x="4199040" y="1201680"/>
            <a:ext cx="2009520" cy="340056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The Renaissance of Systematic Managemen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Labor Ques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“Social Gospel” proponents felt that workers should join unions, share in profits, and have arbitration instead of strik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gineers and others felt that better work methods and systems were the answer, including pay for performance incentive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1895 Frederick W.Taylor proposed a rate setting and piece-rate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Big Business and Its Changing Environmen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6000"/>
          </a:bodyPr>
          <a:p>
            <a:pPr marL="246600" indent="-24660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usiness &amp; Societ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thew Josephson characterized the business leaders of this time as “Robber Baron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evidence that business leaders did engage in some corrupt practices: watering stock, bribery of government officials, manipulating stock, and conspira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ir motivation was alleged to be “survival of the fittest” and desire for monopo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ivation was also drive for economies of scale that led to lower pr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Big Business and Its Changing Environmen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2838600" cy="30895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4000"/>
          </a:bodyPr>
          <a:p>
            <a:pPr marL="241560" indent="-24156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ocial conscience of the 19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entury entrepreneur gave rise to individual philanthrop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3800" indent="-201240">
              <a:lnSpc>
                <a:spcPct val="9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zra Cornell – his money founded Cornell Universit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523800" indent="-201240">
              <a:lnSpc>
                <a:spcPct val="9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illiam Colgate – college changed its name to his as result of his generosity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523800" indent="-201240">
              <a:lnSpc>
                <a:spcPct val="9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John Hopkins –  founded John Hopkins Universit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523800" indent="-201240">
              <a:lnSpc>
                <a:spcPct val="9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rnelius Vanderbilt – founded Vanderbilt Universit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15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vanderbilt"/>
          <p:cNvPicPr/>
          <p:nvPr/>
        </p:nvPicPr>
        <p:blipFill>
          <a:blip r:embed="rId1"/>
          <a:stretch/>
        </p:blipFill>
        <p:spPr>
          <a:xfrm>
            <a:off x="3676680" y="1511280"/>
            <a:ext cx="2838600" cy="278136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5"/>
          <p:cNvSpPr/>
          <p:nvPr/>
        </p:nvSpPr>
        <p:spPr>
          <a:xfrm>
            <a:off x="3429000" y="4386240"/>
            <a:ext cx="3429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rnelius Vanderbi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urtesy of The General Libraries, The University of Texas at Austi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Big Business and Its Changing Environmen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Philanthrop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seph Wharton – grant enabled first business school at University of Pennsylvan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ward Tuck – gift to Dartmouth started Amos Tuck School of Admin. &amp; Finan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land Stanford – honored his son with a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hn Stevens – provided for the Stevens Institute of Technolog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mes B. Duke – Trinity College (later renamed for the family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Drew – promise of funds led to Drew Univers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ses Brown – founded Rhode Island College; became Brown University in 180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Early Industrial Development– Textile Mill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9880" y="1676520"/>
            <a:ext cx="2857680" cy="360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st industry at the time was text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 though the textile industry was the largest business, factories were still sm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” on the left depicts an early textile mi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textile_mill"/>
          <p:cNvPicPr/>
          <p:nvPr/>
        </p:nvPicPr>
        <p:blipFill>
          <a:blip r:embed="rId1"/>
          <a:stretch/>
        </p:blipFill>
        <p:spPr>
          <a:xfrm>
            <a:off x="685800" y="1936800"/>
            <a:ext cx="2857680" cy="192708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Big Business and Its Changing Environmen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2857680" cy="30895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mous Philanthrop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John D. Rockefeller – given half a billion dollars by the time of his death as well as establishing the Rockefeller Foundatio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ockefeller is pictured here in 1907 beside a building.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3962520" y="4267080"/>
            <a:ext cx="289548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John D. Rockefell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Chicago Daily News negatives collection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, DN-0051595. Courtesy of the Chicago Historical Society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4" descr="Rockefeller"/>
          <p:cNvPicPr/>
          <p:nvPr/>
        </p:nvPicPr>
        <p:blipFill>
          <a:blip r:embed="rId1"/>
          <a:stretch/>
        </p:blipFill>
        <p:spPr>
          <a:xfrm>
            <a:off x="3608280" y="1212840"/>
            <a:ext cx="2838600" cy="293544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Big Business and Its Changing Environmen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657600" y="1201680"/>
            <a:ext cx="28576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mous Philanthrop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ndrew Carnegie – gave away $350 million by the time of his death in addition to his libraries, university, and the Carnegie Foundatio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6" descr="andrew_carnegie"/>
          <p:cNvPicPr/>
          <p:nvPr/>
        </p:nvPicPr>
        <p:blipFill>
          <a:blip r:embed="rId1"/>
          <a:stretch/>
        </p:blipFill>
        <p:spPr>
          <a:xfrm>
            <a:off x="857160" y="1773360"/>
            <a:ext cx="2571840" cy="261756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7"/>
          <p:cNvSpPr/>
          <p:nvPr/>
        </p:nvSpPr>
        <p:spPr>
          <a:xfrm>
            <a:off x="762120" y="4495680"/>
            <a:ext cx="312408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ndrew Carnegi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urtesy of The General Libraries, The University of Texas at Austi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Rockefeller and Carnegie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lvl="1" marL="557280" indent="-214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pite generosity by both individuals, the Congressional Committee on Industrial Relations in 1915 denounced both as “menaces to society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andrew carnegie free library and music hall"/>
          <p:cNvPicPr/>
          <p:nvPr/>
        </p:nvPicPr>
        <p:blipFill>
          <a:blip r:embed="rId1"/>
          <a:stretch/>
        </p:blipFill>
        <p:spPr>
          <a:xfrm>
            <a:off x="914400" y="2573280"/>
            <a:ext cx="3090960" cy="22161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rockefeller_archive_center"/>
          <p:cNvPicPr/>
          <p:nvPr/>
        </p:nvPicPr>
        <p:blipFill>
          <a:blip r:embed="rId2"/>
          <a:stretch/>
        </p:blipFill>
        <p:spPr>
          <a:xfrm>
            <a:off x="4457880" y="2460600"/>
            <a:ext cx="2035080" cy="233532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7"/>
          <p:cNvSpPr/>
          <p:nvPr/>
        </p:nvSpPr>
        <p:spPr>
          <a:xfrm>
            <a:off x="4457880" y="4803840"/>
            <a:ext cx="2114280" cy="2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ckefeller Archive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1200240" y="4803840"/>
            <a:ext cx="234324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ndrew Carnegie Free Library &amp; Music H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Business and Labor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mmonwealth v. Hunt decision (1842) broke the British tradition of unions as conspiracies in restraint of tr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.S. craft unions and brotherhoods of railroad workers were successful in the late 1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entu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orts to organize other workers were generally unsuccessfu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or violence in the late 1800s fueled public fear of un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Business and Labor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676320" y="1201680"/>
            <a:ext cx="283860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merican Federation of Labor organized in 1886 under Samuel Gomper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thout unions, and despite growing numbers of immigrants, U.S. workers found their wages and real (purchasing power) wages rising during the perio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2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6" descr="Gompers"/>
          <p:cNvPicPr/>
          <p:nvPr/>
        </p:nvPicPr>
        <p:blipFill>
          <a:blip r:embed="rId1"/>
          <a:stretch/>
        </p:blipFill>
        <p:spPr>
          <a:xfrm>
            <a:off x="774720" y="1523880"/>
            <a:ext cx="2354400" cy="308952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7"/>
          <p:cNvSpPr/>
          <p:nvPr/>
        </p:nvSpPr>
        <p:spPr>
          <a:xfrm>
            <a:off x="838080" y="4724280"/>
            <a:ext cx="211464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amuel Gompers,                         courtesy of  Library of Congr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Inventive and Innovative Impulse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3000"/>
          </a:bodyPr>
          <a:p>
            <a:pPr marL="239040" indent="-2390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ailroads: made travel possible and pleasurable; fostered a retailing revolutio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39040" indent="-2390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elegraph and telephone: aided growth of commerce and transportation through communicatio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39040" indent="-2390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ther industries developed and grew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18040" indent="-19908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8040" indent="-19908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mark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8040" indent="-19908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wing mach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8040" indent="-19908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ve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8040" indent="-19908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8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8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Business and Government: The  Seeds of Reform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143160" cy="3205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9000"/>
          </a:bodyPr>
          <a:p>
            <a:pPr marL="254160" indent="-25416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“elastic clause,” the commerce clause, of the U.S. Constitution expanded during this period with regulation of railroa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Interstate Commerce Act and the Sherman Antitrust Act were attempts to regulate business but these laws were generally ineffectu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odrow Wilson (then a college professor) advocated better management of govern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6" descr="woodrow_wilson"/>
          <p:cNvPicPr/>
          <p:nvPr/>
        </p:nvPicPr>
        <p:blipFill>
          <a:blip r:embed="rId1"/>
          <a:stretch/>
        </p:blipFill>
        <p:spPr>
          <a:xfrm>
            <a:off x="4191120" y="1201680"/>
            <a:ext cx="2031840" cy="340056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7"/>
          <p:cNvSpPr/>
          <p:nvPr/>
        </p:nvSpPr>
        <p:spPr>
          <a:xfrm>
            <a:off x="4229280" y="4691160"/>
            <a:ext cx="21142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oodrow Wilson, courtesy of        The Constitution Socie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Summary of Part One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amined management thought prior to the scientific management era in the U.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arly civilizations placed  a low value on economic activit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technical and cultural changes of the Industrial Revolution presented managerial problems in : organizing, motivating people, and fusing people and process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3" descr="flow chart"/>
          <p:cNvPicPr/>
          <p:nvPr/>
        </p:nvPicPr>
        <p:blipFill>
          <a:blip r:embed="rId1"/>
          <a:stretch/>
        </p:blipFill>
        <p:spPr>
          <a:xfrm>
            <a:off x="838080" y="304920"/>
            <a:ext cx="5486400" cy="451944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4"/>
          <p:cNvSpPr/>
          <p:nvPr/>
        </p:nvSpPr>
        <p:spPr>
          <a:xfrm>
            <a:off x="1676520" y="4800600"/>
            <a:ext cx="3657600" cy="25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igure 6-1         Synopsis of early management though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Additional Internet Resource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560" y="1514160"/>
            <a:ext cx="6411960" cy="34225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ademy of Management – Management History Division Website</a:t>
            </a:r>
            <a:br>
              <a:rPr sz="1100"/>
            </a:br>
            <a:r>
              <a:rPr b="1" lang="en-US" sz="11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http://www.aomhistory.baker.edu/departments/leadership/mgthistory/links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ist of Internet Resources compiled by Charles Booth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http://www.jiscmail.ac.uk/files/MANAGEMENT-HISTORY/links.ht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estern Libraries Business Library – Biographies of Gur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http://www.lib.uwo.ca/business/gurus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velopments from Ancient History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100"/>
            </a:br>
            <a:r>
              <a:rPr b="0" lang="en-US" sz="1100" spc="-1" strike="noStrike" u="sng">
                <a:solidFill>
                  <a:srgbClr val="990033"/>
                </a:solidFill>
                <a:uFillTx/>
                <a:latin typeface="Arial"/>
                <a:hlinkClick r:id="rId4"/>
              </a:rPr>
              <a:t>http://www.accel-team.com/scientific/index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x Weber </a:t>
            </a:r>
            <a:br>
              <a:rPr sz="1100"/>
            </a:br>
            <a:r>
              <a:rPr b="1" lang="en-US" sz="1100" spc="-1" strike="noStrike" u="sng">
                <a:solidFill>
                  <a:srgbClr val="990033"/>
                </a:solidFill>
                <a:uFillTx/>
                <a:latin typeface="Arial"/>
                <a:hlinkClick r:id="rId5"/>
              </a:rPr>
              <a:t>http://www.faculty.rsu.edu/~felwell/Theorists/Weber/Whome.htm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icolo Machiavelli – Medieval Source Book – The Prince 15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 u="sng">
                <a:solidFill>
                  <a:srgbClr val="990033"/>
                </a:solidFill>
                <a:uFillTx/>
                <a:latin typeface="Arial"/>
                <a:hlinkClick r:id="rId6"/>
              </a:rPr>
              <a:t>http://www.fordham.edu/halsall/basis/machiavelli-prince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ohn Locke Biograph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blupete.com/Literature/Biographies/Philosophy/Locke.ht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dam Smith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socserv2.socsci.mcmaster.ca/~econ/ugcm/3ll3/smith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ames Watt by Carnegi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history.rochester.edu/steam/carnegie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velopments during the Industrial Revolution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accel-team.com/scientific/scientific_01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Textile Mill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112560" y="1201680"/>
            <a:ext cx="340236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9000"/>
          </a:bodyPr>
          <a:p>
            <a:pPr marL="254160" indent="-25416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uel Slater – “Rhode Island System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1520" indent="-212040">
              <a:lnSpc>
                <a:spcPct val="9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rst to use steam-driven power loom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51520" indent="-212040">
              <a:lnSpc>
                <a:spcPct val="9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lied on sole proprietorship or partnership form of ownership initially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51520" indent="-212040">
              <a:lnSpc>
                <a:spcPct val="9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lied on family for labor – with growth had to hire professional manager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51520" indent="-212040">
              <a:lnSpc>
                <a:spcPct val="9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Vertically integrated operations forward and backwar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5152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030" descr="samuel_slater"/>
          <p:cNvPicPr/>
          <p:nvPr/>
        </p:nvPicPr>
        <p:blipFill>
          <a:blip r:embed="rId1"/>
          <a:stretch/>
        </p:blipFill>
        <p:spPr>
          <a:xfrm>
            <a:off x="712800" y="1212840"/>
            <a:ext cx="2286000" cy="33544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031"/>
          <p:cNvSpPr/>
          <p:nvPr/>
        </p:nvSpPr>
        <p:spPr>
          <a:xfrm>
            <a:off x="857160" y="4633920"/>
            <a:ext cx="222912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amuel Sla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Additional Internet Resource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560" y="1514160"/>
            <a:ext cx="6411960" cy="3089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4000"/>
          </a:bodyPr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Robert Owen Museum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robert-owen.midwales.com/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arles Babbage Institut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cbi.umn.edu/exhibits/cb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drew Ure - The Philosophy of the Manufacturers 1835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fordham.edu/halsall/mod/1835ure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arles Dupin Biography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-groups.dcs.st-and.ac.uk/~history/Mathematicians/Dupin.html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yrus McCormick - Biograph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vaes.vt.edu/steeles/mccormick/bio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amuel F.B. Mors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memory.loc.gov/ammem/atthtml/mrshome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nry R. Towne – Address delivered at Purdue University (190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cslib.org/stamford/towne1905.ht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drew Carnegie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americaslibrary.gov/cgi-bin/page.cgi/aa/carnegi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Rockefellers – PBS Document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pbs.org/wgbh/amex/rockefellers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Samuel Gompers Pap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history.umd.edu/Gompers/index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42960" y="858600"/>
            <a:ext cx="4972320" cy="1657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End of Part One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028520" y="2975040"/>
            <a:ext cx="5143320" cy="1200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2516040" y="4691160"/>
            <a:ext cx="21718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Textile Mill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ncis Lowell – “Waltham System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water-power loo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red non-family supervisors &amp; managers with corporate mod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tegrated spinning and weaving to manufacture goods in large quant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ed on adult female lab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aised by Charles Dickens for better treatment of employe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Textile Mill at Pawtucket, Rhode Island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3" name="Picture 5" descr="mill_pawtucket"/>
          <p:cNvPicPr/>
          <p:nvPr/>
        </p:nvPicPr>
        <p:blipFill>
          <a:blip r:embed="rId1"/>
          <a:stretch/>
        </p:blipFill>
        <p:spPr>
          <a:xfrm>
            <a:off x="399960" y="1601640"/>
            <a:ext cx="3086280" cy="20671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mill_pawtucket_present"/>
          <p:cNvPicPr/>
          <p:nvPr/>
        </p:nvPicPr>
        <p:blipFill>
          <a:blip r:embed="rId2"/>
          <a:stretch/>
        </p:blipFill>
        <p:spPr>
          <a:xfrm>
            <a:off x="3714840" y="1601640"/>
            <a:ext cx="2905200" cy="19717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1200240" y="3946680"/>
            <a:ext cx="25146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3943440" y="3660840"/>
            <a:ext cx="23432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ll – present day re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743040" y="3718080"/>
            <a:ext cx="23432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iction of M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 u="sng">
                <a:solidFill>
                  <a:srgbClr val="330033"/>
                </a:solidFill>
                <a:uFillTx/>
                <a:latin typeface="Times New Roman"/>
              </a:rPr>
              <a:t>Commonwealth v. Hunt (1842)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orker combinations (unions) were no longer illegal unless their intent was crimina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eking a closed shop and striking were no longer illega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nly applied to Massachusetts but discouraged prosecution of worker organizations elsewher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The American System of Manufactures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ufacture by interchangeable parts was not new – previously confined to making muskets and revolv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pringfield (MA) Armory was an early factory prototy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0 employees – largest factory in the U.S. until after the Civil W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ed by Colonel Roswell Lee in 181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piece rate incentive payments and accounting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 was more specializ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form standards promoted interchangeability of pa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The American System of Manufactures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7000"/>
          </a:bodyPr>
          <a:p>
            <a:pPr marL="249120" indent="-24912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s spread to other areas of manufactu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0360" indent="-20772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: The reaper by Cyrus McCorm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“American System” received its name at the exposition of 1851 in Lond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.S. factories remained relatively sm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cLane report of 1832 found the firms were most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0360" indent="-20772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mily owned and mana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0360" indent="-20772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 corporations – unlimited li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0360" indent="-20772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use of steam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0360" indent="-20772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findings of Andrew Ure regarding English fi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9T17:19:21Z</dcterms:created>
  <dc:creator>Julia Teahen</dc:creator>
  <dc:description/>
  <dc:language>en-US</dc:language>
  <cp:lastModifiedBy>Legion</cp:lastModifiedBy>
  <dcterms:modified xsi:type="dcterms:W3CDTF">2017-07-05T11:05:51Z</dcterms:modified>
  <cp:revision>195</cp:revision>
  <dc:subject/>
  <dc:title>Seminar One</dc:title>
</cp:coreProperties>
</file>