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5C83-3A82-4D51-9886-0564CA32BA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C98-4783-41C2-90F1-BE6C355D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9D8-DDE4-4115-AF09-4791FB89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A46-1512-4A51-8D7D-FDD1190F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298-4D21-42F1-97C5-90F247CD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12D5-5B95-4499-AF04-D934861A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FC19-8D5E-4077-921F-85B99159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0C25-BECC-4FE2-81A0-96F129B4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2989-265D-4F4C-977B-DD346A8B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F8FF-8078-48E0-8800-34950C3A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9C1E-9EAA-434C-A93C-A79CBDB7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7991-0F8C-462A-B2AF-2F69C65B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E53-F08B-4130-B281-B143C9B7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ADD9-1A38-40DC-A9B5-E97BB9B4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25FA-6A8B-448B-881E-5ECC861D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FB70-E0B5-4E6E-81CE-6687F1A8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02AB-73D0-48CB-9C41-34EE45F5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5C9D-8E55-4459-BF42-A7746E29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DB7-55A8-44AB-B04F-F08C87CD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CD4-AE04-47AD-B788-B736F109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55B-72F4-4ECD-BA9F-4B52CD8E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146-A692-4DD8-9CB3-40BF2807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5ED-0F19-429E-93EE-65970847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C39-0073-45FD-A40A-44091A6E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A78-8901-4AD0-A7B7-92194B53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514920" cy="3660840"/>
            <a:chOff x="0" y="0"/>
            <a:chExt cx="6514920" cy="366084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6840" cy="3660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5480" y="1064160"/>
              <a:ext cx="6229440" cy="136800"/>
              <a:chOff x="285480" y="1064160"/>
              <a:chExt cx="6229440" cy="13680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5143320" y="1064160"/>
                <a:ext cx="1371600" cy="136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285480" y="1121400"/>
                <a:ext cx="622944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4692240"/>
            <a:ext cx="14860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24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8CA8C3A-1B7F-4257-B851-11BDA8038AA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366084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6571800" cy="4462200"/>
            <a:chOff x="0" y="0"/>
            <a:chExt cx="6571800" cy="44622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314000" cy="3661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2631600"/>
              <a:ext cx="6571800" cy="1830600"/>
              <a:chOff x="0" y="2631600"/>
              <a:chExt cx="6571800" cy="18306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742680" y="2631600"/>
                <a:ext cx="5829120" cy="1830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778320" y="2802960"/>
                <a:ext cx="5736240" cy="16052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3661200"/>
                <a:ext cx="7426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475920" y="400320"/>
              <a:ext cx="6057720" cy="228600"/>
              <a:chOff x="475920" y="400320"/>
              <a:chExt cx="6057720" cy="22860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4704480" y="400320"/>
                <a:ext cx="1828800" cy="22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475920" y="514440"/>
                <a:ext cx="60577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4360" y="4692240"/>
            <a:ext cx="14284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568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B338B00-6C4A-4990-8883-A6CE62CFD1C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omhistory.baker.edu/departments/leadership/mgthistory/links.html" TargetMode="External"/><Relationship Id="rId2" Type="http://schemas.openxmlformats.org/officeDocument/2006/relationships/hyperlink" Target="http://www.jiscmail.ac.uk/files/MANAGEMENT-HISTORY/links.htm" TargetMode="External"/><Relationship Id="rId3" Type="http://schemas.openxmlformats.org/officeDocument/2006/relationships/hyperlink" Target="http://www.lib.uwo.ca/business/gurus.html" TargetMode="External"/><Relationship Id="rId4" Type="http://schemas.openxmlformats.org/officeDocument/2006/relationships/hyperlink" Target="http://www.accel-team.com/scientific/index.html" TargetMode="External"/><Relationship Id="rId5" Type="http://schemas.openxmlformats.org/officeDocument/2006/relationships/hyperlink" Target="http://www.faculty.rsu.edu/~felwell/Theorists/Weber/Whome.htm" TargetMode="External"/><Relationship Id="rId6" Type="http://schemas.openxmlformats.org/officeDocument/2006/relationships/hyperlink" Target="http://www.fordham.edu/halsall/basis/machiavelli-prince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Week 3 Not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ustrial Revolution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ailroads: Pioneering in U.S.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5829480" cy="1989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“big business” in the U.S. – developed c.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the transportation rev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lroads had size and complex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 managemen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istorybirthpict"/>
          <p:cNvPicPr/>
          <p:nvPr/>
        </p:nvPicPr>
        <p:blipFill>
          <a:blip r:embed="rId1"/>
          <a:stretch/>
        </p:blipFill>
        <p:spPr>
          <a:xfrm>
            <a:off x="914400" y="1447920"/>
            <a:ext cx="5143680" cy="1050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95280" y="2514600"/>
            <a:ext cx="3810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of American Railroads (AAR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ommunication Revolu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egraph, patented by Samuel Morse in 1837, started concurrent  revolution in communicatio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1860, about 50,000 miles of wires extended over the eastern U.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matic effect on business communic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chard Sears used the telegraph to see gold watches – the first electronic commer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mrsimg"/>
          <p:cNvPicPr/>
          <p:nvPr/>
        </p:nvPicPr>
        <p:blipFill>
          <a:blip r:embed="rId1"/>
          <a:stretch/>
        </p:blipFill>
        <p:spPr>
          <a:xfrm>
            <a:off x="787320" y="1201680"/>
            <a:ext cx="263520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1857960" y="4552920"/>
            <a:ext cx="1033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Age of Rails: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 (1815-1878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1514160"/>
            <a:ext cx="33145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marL="236160" indent="-236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a system of managing on the Erie Railro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c job descrip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 performance re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rit basis for pay and promo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ational chart to show lines of authority, responsibility, and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elegraph for dispatching trains and checking on perform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aniel_mccallum"/>
          <p:cNvPicPr/>
          <p:nvPr/>
        </p:nvPicPr>
        <p:blipFill>
          <a:blip r:embed="rId1"/>
          <a:stretch/>
        </p:blipFill>
        <p:spPr>
          <a:xfrm>
            <a:off x="3855960" y="1201680"/>
            <a:ext cx="245736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of management relied on division of labor, personal responsibility, and organiz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a formal organization char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highest state of the art information manage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st his job when the locomotive engineers would not follow his ru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98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were on strike for ten days in June 1854 then 6 months in 1857 in defiance of McCallum’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ccessful career building bridges and served as master of the Union’s railroads in the Civil W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89080"/>
            <a:ext cx="5845320" cy="574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Erie Railroad Organizational Chart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rhaps the first organizational chart ever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llum created the organizational chart to explain the Erie Railroa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hoto0013"/>
          <p:cNvPicPr/>
          <p:nvPr/>
        </p:nvPicPr>
        <p:blipFill>
          <a:blip r:embed="rId1"/>
          <a:stretch/>
        </p:blipFill>
        <p:spPr>
          <a:xfrm>
            <a:off x="3962520" y="898560"/>
            <a:ext cx="2538360" cy="3781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2271240" y="4784760"/>
            <a:ext cx="45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 (1812-1905)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 Broader Management View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Railroa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me “conscience” of first U.S. big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ed for broader principles of railroad operations (financing, regulation, and role of U.S. Railroad in li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three principles based on McCallum’s ideas: organization, information, and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enry_poor"/>
          <p:cNvPicPr/>
          <p:nvPr/>
        </p:nvPicPr>
        <p:blipFill>
          <a:blip r:embed="rId1"/>
          <a:stretch/>
        </p:blipFill>
        <p:spPr>
          <a:xfrm>
            <a:off x="3970440" y="1538280"/>
            <a:ext cx="2400120" cy="272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ater work, Poor felt the answer to problems of top management was through better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ty in the organ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ing leaders on mer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eloping better information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054" descr="steamrrengine01"/>
          <p:cNvPicPr/>
          <p:nvPr/>
        </p:nvPicPr>
        <p:blipFill>
          <a:blip r:embed="rId1"/>
          <a:stretch/>
        </p:blipFill>
        <p:spPr>
          <a:xfrm>
            <a:off x="3676680" y="1728720"/>
            <a:ext cx="2838600" cy="2343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55"/>
          <p:cNvSpPr/>
          <p:nvPr/>
        </p:nvSpPr>
        <p:spPr>
          <a:xfrm>
            <a:off x="3809880" y="4191120"/>
            <a:ext cx="32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merging Governance Issu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industries were partnerships or sole proprietorship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, requiring large amounts of capital, saw the growth of joint-stock compani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out uniform, adequate laws in Great Britain, management malfeasance occurr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nry Poor wrote about the need for government regulation but not contr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independence to 1860, the U.S. grew and developed indust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iod was critical to development of the modern enterpri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 and the telegraph allowed firms to grow for economies of scale and scop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agers were required for large, complex organiz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lity of life for people was improv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hapter Six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Growth and Systemat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Industrial Revolution – in the United St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itish mercantilism kept the U.S. as a colony which delayed economic develop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at Britain prohibited the sale of manufacturing equipment and emigration of skilled labor to U.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am Smith influenced writing of the U.S. Constitution and economic syste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xtile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mmonwealth vs. Hu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1842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merican System of Manufac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dustrial Growth and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wth of enterprise was facilitated by transportation and communication revolutions as well as manufacture by interchangeable par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fred D. Chandler J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rew Carne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stematic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hanging Environ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dler wrote about the evolution of U.S. Corporations in 1962 boo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and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developed his ideas from the study of U.S. corporations during thi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33" descr="achandle 1r"/>
          <p:cNvPicPr/>
          <p:nvPr/>
        </p:nvPicPr>
        <p:blipFill>
          <a:blip r:embed="rId1"/>
          <a:stretch/>
        </p:blipFill>
        <p:spPr>
          <a:xfrm>
            <a:off x="685800" y="8153280"/>
            <a:ext cx="3017880" cy="388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36" descr="achandle 1r"/>
          <p:cNvPicPr/>
          <p:nvPr/>
        </p:nvPicPr>
        <p:blipFill>
          <a:blip r:embed="rId2"/>
          <a:stretch/>
        </p:blipFill>
        <p:spPr>
          <a:xfrm>
            <a:off x="905040" y="1201680"/>
            <a:ext cx="2400120" cy="3400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37"/>
          <p:cNvSpPr/>
          <p:nvPr/>
        </p:nvSpPr>
        <p:spPr>
          <a:xfrm>
            <a:off x="838080" y="4572000"/>
            <a:ext cx="32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bed the late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entury as the accumulation of resources with growth occurring because of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combinations of firms in small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integration – forward and back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rger firms and the growth of hierarchy of managers to coordinate and integrate operations were the resul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to success was good management, not siz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76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Andrew Carnegie (1835-1919)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ed McCallum’s system of management on the Pennsylvania Railro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the new Bessemer furnace technology to begin vertically and horizontally integrating his firm in the steel industr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cost accounting to guide his pricing strategy and drive costs dow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85800" y="4599000"/>
            <a:ext cx="2819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arnegie"/>
          <p:cNvPicPr/>
          <p:nvPr/>
        </p:nvPicPr>
        <p:blipFill>
          <a:blip r:embed="rId1"/>
          <a:stretch/>
        </p:blipFill>
        <p:spPr>
          <a:xfrm>
            <a:off x="1066680" y="1432080"/>
            <a:ext cx="1824120" cy="30891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ndrew Carnegie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ncreased the “throughput” velocity to gain economies of scale and to fully utilize his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as a declining price of steel for the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aa_carnegie_work_1_m"/>
          <p:cNvPicPr/>
          <p:nvPr/>
        </p:nvPicPr>
        <p:blipFill>
          <a:blip r:embed="rId1"/>
          <a:stretch/>
        </p:blipFill>
        <p:spPr>
          <a:xfrm>
            <a:off x="3913200" y="1460520"/>
            <a:ext cx="2602080" cy="2882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3943440" y="4403880"/>
            <a:ext cx="2743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al engineers (especially Henry R. Towne) became important in improving factory operations – they often became the mana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us others began to take an interest in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dea that good management was critical in a firm gained credence with engineers and econom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enry_towne"/>
          <p:cNvPicPr/>
          <p:nvPr/>
        </p:nvPicPr>
        <p:blipFill>
          <a:blip r:embed="rId1"/>
          <a:stretch/>
        </p:blipFill>
        <p:spPr>
          <a:xfrm>
            <a:off x="4199040" y="1201680"/>
            <a:ext cx="2009520" cy="34005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Labor Ques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“Social Gospel” proponents felt that workers should join unions, share in profits, and have arbitration instead of stri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and others felt that better work methods and systems were the answer, including pay for performance incentiv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95 Frederick W.Taylor proposed a rate setting and piece-rat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iness &amp; Soc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ew Josephson characterized the business leaders of this time as “Robber Bar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was alleged to be “survival of the fittest” and desire for monop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 was also drive for economies of scale that led to lower p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83860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cial conscience of the 1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entrepreneur gave rise to individual philanthrop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zra Cornell – his money founded Cornell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lliam Colgate – college changed its name to his as result of his generosit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ohn Hopkins –  founded John Hopkins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nelius Vanderbilt – founded Vanderbilt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vanderbilt"/>
          <p:cNvPicPr/>
          <p:nvPr/>
        </p:nvPicPr>
        <p:blipFill>
          <a:blip r:embed="rId1"/>
          <a:stretch/>
        </p:blipFill>
        <p:spPr>
          <a:xfrm>
            <a:off x="3676680" y="1511280"/>
            <a:ext cx="2838600" cy="2781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3429000" y="4386240"/>
            <a:ext cx="3429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hilanthrop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eph Wharton – grant enabled first business school at University of Pennsylv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ward Tuck – gift to Dartmouth started Amos Tuck School of Admin. &amp; Fin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land Stanford – honored his son with a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Stevens – provided for the Stevens Institute of Technolo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B. Duke – Trinity College (later renamed for the famil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Drew – promise of funds led to Drew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es Brown – founded Rhode Island College; became Brown University in 18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arly Industrial Development– 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2857680" cy="360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industry at the time was tex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the textile industry was the largest business, factories were still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” on the left depicts an early textile m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extile_mill"/>
          <p:cNvPicPr/>
          <p:nvPr/>
        </p:nvPicPr>
        <p:blipFill>
          <a:blip r:embed="rId1"/>
          <a:stretch/>
        </p:blipFill>
        <p:spPr>
          <a:xfrm>
            <a:off x="685800" y="1936800"/>
            <a:ext cx="2857680" cy="192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85768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ohn D. Rockefeller – given half a billion dollars by the time of his death as well as establishing the Rockefeller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ckefeller is pictured here in 1907 beside a building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962520" y="4267080"/>
            <a:ext cx="28954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John D. Rockefe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hicago Daily News negatives collec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DN-0051595. Courtesy of the Chicago Historical Societ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Rockefeller"/>
          <p:cNvPicPr/>
          <p:nvPr/>
        </p:nvPicPr>
        <p:blipFill>
          <a:blip r:embed="rId1"/>
          <a:stretch/>
        </p:blipFill>
        <p:spPr>
          <a:xfrm>
            <a:off x="3608280" y="1212840"/>
            <a:ext cx="2838600" cy="2935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rew Carnegie – gave away $350 million by the time of his death in addition to his libraries, university, and the Carnegie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drew_carnegie"/>
          <p:cNvPicPr/>
          <p:nvPr/>
        </p:nvPicPr>
        <p:blipFill>
          <a:blip r:embed="rId1"/>
          <a:stretch/>
        </p:blipFill>
        <p:spPr>
          <a:xfrm>
            <a:off x="857160" y="1773360"/>
            <a:ext cx="2571840" cy="2617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762120" y="4495680"/>
            <a:ext cx="3124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Rockefeller and Carnegi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generosity by both individuals, the Congressional Committee on Industrial Relations in 1915 denounced both as “menaces to socie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andrew carnegie free library and music hall"/>
          <p:cNvPicPr/>
          <p:nvPr/>
        </p:nvPicPr>
        <p:blipFill>
          <a:blip r:embed="rId1"/>
          <a:stretch/>
        </p:blipFill>
        <p:spPr>
          <a:xfrm>
            <a:off x="914400" y="2573280"/>
            <a:ext cx="3090960" cy="221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rockefeller_archive_center"/>
          <p:cNvPicPr/>
          <p:nvPr/>
        </p:nvPicPr>
        <p:blipFill>
          <a:blip r:embed="rId2"/>
          <a:stretch/>
        </p:blipFill>
        <p:spPr>
          <a:xfrm>
            <a:off x="4457880" y="2460600"/>
            <a:ext cx="2035080" cy="23353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4457880" y="4803840"/>
            <a:ext cx="211428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200240" y="4803840"/>
            <a:ext cx="2343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wealth v. Hunt decision (1842) broke the British tradition of unions as conspiracies in restraint of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craft unions and brotherhoods of railroad workers were successful in the lat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s to organize other workers were generally un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violence in the late 1800s fueled public fear of u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erican Federation of Labor organized in 1886 under Samuel Gom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thout unions, and despite growing numbers of immigrants, U.S. workers found their wages and real (purchasing power) wages rising during the peri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Gompers"/>
          <p:cNvPicPr/>
          <p:nvPr/>
        </p:nvPicPr>
        <p:blipFill>
          <a:blip r:embed="rId1"/>
          <a:stretch/>
        </p:blipFill>
        <p:spPr>
          <a:xfrm>
            <a:off x="774720" y="1523880"/>
            <a:ext cx="2354400" cy="30895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838080" y="4724280"/>
            <a:ext cx="2114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ventive and Innovative Impuls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3000"/>
          </a:bodyPr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: made travel possible and pleasurable; fostered a retailing revol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legraph and telephone: aided growth of commerce and transportation through communic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ther industries developed and grew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ark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w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Government: The  Seeds of Refor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143160" cy="3205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“elastic clause,” the commerce clause, of the U.S. Constitution expanded during this period with regulation of railro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state Commerce Act and the Sherman Antitrust Act were attempts to regulate business but these laws were generally ineffe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row Wilson (then a college professor) advocated better management of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woodrow_wilson"/>
          <p:cNvPicPr/>
          <p:nvPr/>
        </p:nvPicPr>
        <p:blipFill>
          <a:blip r:embed="rId1"/>
          <a:stretch/>
        </p:blipFill>
        <p:spPr>
          <a:xfrm>
            <a:off x="4191120" y="1201680"/>
            <a:ext cx="2031840" cy="3400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4229280" y="4691160"/>
            <a:ext cx="2114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 of Part On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ined management thought prior to the scientific management era in the U.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civilizations placed  a low value on economic ac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flow chart"/>
          <p:cNvPicPr/>
          <p:nvPr/>
        </p:nvPicPr>
        <p:blipFill>
          <a:blip r:embed="rId1"/>
          <a:stretch/>
        </p:blipFill>
        <p:spPr>
          <a:xfrm>
            <a:off x="838080" y="304920"/>
            <a:ext cx="5486400" cy="45194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676520" y="4800600"/>
            <a:ext cx="36576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gure 6-1         Synopsis of early management thou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42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ademy of Management – Management History Division Website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aomhistory.baker.edu/departments/leadership/mgthistory/link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st of Internet Resources compiled by Charles Boo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jiscmail.ac.uk/files/MANAGEMENT-HISTORY/links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stern Libraries Business Library – Biographies of Gu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www.lib.uwo.ca/business/guru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from Ancient Histor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accel-team.com/scientific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 Weber 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faculty.rsu.edu/~felwell/Theorists/Weber/Whome.ht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olo Machiavelli – Medieval Source Book – The Prince 15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fordham.edu/halsall/basis/machiavelli-princ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 Locke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blupete.com/Literature/Biographies/Philosophy/Locke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socserv2.socsci.mcmaster.ca/~econ/ugcm/3ll3/smith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mes Watt by Carnegi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rochester.edu/steam/carneg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during the Industrial Revolu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ccel-team.com/scientific/scientific_01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12560" y="1201680"/>
            <a:ext cx="340236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uel Slater – “Rhode Island Syst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rst to use steam-driven power loo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sole proprietorship or partnership form of ownership initial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family for labor – with growth had to hire professional manag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rtically integrated operations forward and backwa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30" descr="samuel_slater"/>
          <p:cNvPicPr/>
          <p:nvPr/>
        </p:nvPicPr>
        <p:blipFill>
          <a:blip r:embed="rId1"/>
          <a:stretch/>
        </p:blipFill>
        <p:spPr>
          <a:xfrm>
            <a:off x="712800" y="1212840"/>
            <a:ext cx="2286000" cy="3354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31"/>
          <p:cNvSpPr/>
          <p:nvPr/>
        </p:nvSpPr>
        <p:spPr>
          <a:xfrm>
            <a:off x="857160" y="4633920"/>
            <a:ext cx="22291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bert Owen Museu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robert-owen.midwales.com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Babbage Institu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bi.umn.edu/exhibits/cb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Ure - The Philosophy of the Manufacturers 18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fordham.edu/halsall/mod/1835ur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Dupin Biograph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-groups.dcs.st-and.ac.uk/~history/Mathematicians/Dupin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rus McCormick -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vaes.vt.edu/steeles/mccormick/bio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muel F.B. Mor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memory.loc.gov/ammem/atthtml/mrshom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nry R. Towne – Address delivered at Purdue University (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slib.org/stamford/towne1905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Carnegi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mericaslibrary.gov/cgi-bin/page.cgi/aa/carne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ckefellers – PBS Documen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pbs.org/wgbh/amex/rockefeller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amuel Gompers Pap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umd.edu/Gompers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End of Part On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is Lowell – “Waltham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ater-power l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ed non-family supervisors &amp; managers with corporat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tegrated spinning and weaving to manufacture goods in large quant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d on adult female la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ised by Charles Dickens for better treatment of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 at Pawtucket, Rhode Island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mill_pawtucket"/>
          <p:cNvPicPr/>
          <p:nvPr/>
        </p:nvPicPr>
        <p:blipFill>
          <a:blip r:embed="rId1"/>
          <a:stretch/>
        </p:blipFill>
        <p:spPr>
          <a:xfrm>
            <a:off x="399960" y="1601640"/>
            <a:ext cx="3086280" cy="2067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mill_pawtucket_present"/>
          <p:cNvPicPr/>
          <p:nvPr/>
        </p:nvPicPr>
        <p:blipFill>
          <a:blip r:embed="rId2"/>
          <a:stretch/>
        </p:blipFill>
        <p:spPr>
          <a:xfrm>
            <a:off x="3714840" y="1601640"/>
            <a:ext cx="2905200" cy="197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200240" y="3946680"/>
            <a:ext cx="2514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43440" y="3660840"/>
            <a:ext cx="2343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43040" y="3718080"/>
            <a:ext cx="2343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Times New Roman"/>
              </a:rPr>
              <a:t>Commonwealth v. Hunt (1842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er combinations (unions) were no longer illegal unless their intent was crim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king a closed shop and striking were no longer illeg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applied to Massachusetts but discouraged prosecution of worker organizations elsewh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 by interchangeable parts was not new – previously confined to making muskets and revol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ringfield (MA) Armory was an early factory proto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employees – largest factory in the U.S. until after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d by Colonel Roswell Lee in 18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iece rate incentive payments and accoun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was more speci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standards promoted interchangeability of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spread to other areas of manufactu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The reaper by Cyrus McCorm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American System” received its name at the exposition of 1851 in Lond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factories remained relatively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cLane report of 1832 found the firms were mos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owned and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corporations – unlimited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use of steam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findings of Andrew Ure regarding English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7:19:21Z</dcterms:created>
  <dc:creator>Julia Teahen</dc:creator>
  <dc:description/>
  <dc:language>en-US</dc:language>
  <cp:lastModifiedBy>Legion</cp:lastModifiedBy>
  <dcterms:modified xsi:type="dcterms:W3CDTF">2017-07-05T11:05:51Z</dcterms:modified>
  <cp:revision>195</cp:revision>
  <dc:subject/>
  <dc:title>Seminar One</dc:title>
</cp:coreProperties>
</file>