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10.jpeg" ContentType="image/jpeg"/>
  <Override PartName="/ppt/media/image11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dt" idx="37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sldImg"/>
          </p:nvPr>
        </p:nvSpPr>
        <p:spPr>
          <a:xfrm>
            <a:off x="1174320" y="695160"/>
            <a:ext cx="4635720" cy="347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Click to move the slide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ftr" idx="38"/>
          </p:nvPr>
        </p:nvSpPr>
        <p:spPr>
          <a:xfrm>
            <a:off x="-360" y="88074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 type="sldNum" idx="39"/>
          </p:nvPr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9743A18-E743-4DD0-87B2-21E6233BB4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Unit on the Industrial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United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Unit on the Industrial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United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ialization Came Late to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came to America for the plentiful l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ere primarily farmers prior to 175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didn’t want to be confined to a fac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was a shortage of labor to run machi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ialization Came Late to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came to America for the plentiful l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ere primarily farmers prior to 175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didn’t want to be confined to a fac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was a shortage of labor to run machi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ialization Came Late to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was little money for invest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rket for manufactured goods was sm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at Britain guarded her manufacturing secre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ialization Came Late to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was little money for invest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rket for manufactured goods was sm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at Britain guarded her manufacturing secre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s for the Industrial Revolution in the U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 Whitney started the proc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 considered the father of manufactu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invented a machine that started the Industrial Revolution in Americ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, he invented one that continued the rev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s for the Industrial Revolution in the U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 Whitney started the proc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 considered the father of manufactu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invented a machine that started the Industrial Revolution in Americ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, he invented one that continued the rev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s for the Industrial Revolution in the U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industrial espionage brought textile machines to the U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tton 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cotton production profi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d raw material for textile factor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s for the Industrial Revolution in the U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industrial espionage brought textile machines to the U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tton 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cotton production profi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d raw material for textile factor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Industry-Lo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rst factories were textile mills in New England for several reas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or soil encouraged manufacturing not farm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nse population provided work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Industry-Lo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rst factories were textile mills in New England for several reas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or soil encouraged manufacturing not farm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nse population provided work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Industry-Lo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ports were available to import raw materi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vers provided a source of po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hortage of goods from England inspired new mi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Industry-Lo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ports were available to import raw materi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vers provided a source of po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hortage of goods from England inspired new mi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Industries Flouris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earms manufacture was an important indus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Eli Whitne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invented interchangeable parts for g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aved the way for mass produc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gave the North superiority in weaponry for the militar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Industries Flouris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earms manufacture was an important indus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Eli Whitne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invented interchangeable parts for g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aved the way for mass produc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gave the North superiority in weaponry for the militar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ll’s Rol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invention led to an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0 patents were issued between 1790-180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8,000 patents were issued between 1850-186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ll’s Rol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invention led to an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0 patents were issued between 1790-180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8,000 patents were issued between 1850-186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siness of Indu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gal status chang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inciple of limited liability was establish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ies sold shares in a business (incorporation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share is like buying a small part of the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reholders are liable for only their own sha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siness of Indu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gal status chang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inciple of limited liability was establish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ies sold shares in a business (incorporation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share is like buying a small part of the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reholders are liable for only their own sha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siness of Indu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s of “free incorporation” were pas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inesses could incorporate without legislative approv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llowed for more capital for industries to exp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siness of Indu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s of “free incorporation” were pas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inesses could incorporate without legislative approv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llowed for more capital for industries to exp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S.A.5.4.1: The student knows the causes of the Industrial Revolution and its economic, political, and cultural effects on American Soc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S.A.5.4.1: The student knows the causes of the Industrial Revolution and its economic, political, and cultural effects on American Soc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litics of Indu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male landowners could vo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factory workers did not qualif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itics were run by the “upper” cl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fought efforts to improve working condi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litics of Indu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male landowners could vo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factory workers did not qualif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itics were run by the “upper” cl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fought efforts to improve working condi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b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bor was scarce before 1840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ing conditions were po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men and children were important sources for lab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b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bor was scarce before 1840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ing conditions were po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men and children were important sources for lab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ing Cond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ing conditions were poor in the facto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ere poorly ventilated, lighted, and he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urs were lo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ges were 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ing Cond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ing conditions were poor in the facto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ere poorly ventilated, lighted, and he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urs were lo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ges were 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Lab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rce labor made factories turn to using childr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 of the factory laborers were children under ten years old in 182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itions caused children to be mentally, emotionally, and physically stun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Lab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rce labor made factories turn to using childr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 of the factory laborers were children under ten years old in 182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itions caused children to be mentally, emotionally, and physically stun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ing Wo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men in the work force were uncomm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ly single women work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about 20% of women worked in 183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ing Wo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men in the work force were uncomm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ly single women work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about 20% of women worked in 183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ing Wo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portunities to be self-supporting were scar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ing a nurse, domestic servant, or teacher were the only opportunities available outside the fac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ing Wo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portunities to be self-supporting were scar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ing a nurse, domestic servant, or teacher were the only opportunities available outside the fac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men in the Fa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factory work was in the textile indus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women worked six days a wee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orked from twelve to thirteen hours a day (from dawn to dark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female factory workers came from the fa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men in the Fa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factory work was in the textile indus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women worked six days a wee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orked from twelve to thirteen hours a day (from dawn to dark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female factory workers came from the fa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ell, Mass. as an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men workers came from the fa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ere supervised by company ma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lived in company boarding hou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women provided a disciplined and docile work for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ell, Mass. as an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men workers came from the fa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ere supervised by company ma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lived in company boarding hou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women provided a disciplined and docile work for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ntrast, How the Rest Li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y owners became part of the upper cl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joined the landowners and mercha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reaped the benefits of lab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tunes were amass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fits were rarely passed on to the work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ntrast, How the Rest Li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y owners became part of the upper cl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joined the landowners and mercha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reaped the benefits of lab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tunes were amass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fits were rarely passed on to the work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ntrast, How the Rest Li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iddle class expan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now included factory managers and supervis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ntrast, How the Rest Li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iddle class expan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now included factory managers and supervis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g “Why?” for the 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societies have winners and losers at the same tim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societal groups win and lose at the same tim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the winners and losers reconcil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g “Why?” for the 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societies have winners and losers at the same tim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societal groups win and lose at the same tim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the winners and losers reconcil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roving Lif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s were passed to improve working condi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ote was extended to working me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s finally passed that limited the work day to ten h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roving Lif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s were passed to improve working condi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ote was extended to working me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s finally passed that limited the work day to ten h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roving Lif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labor laws were being conside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public education was beginning to be offe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roving Lif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labor laws were being conside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public education was beginning to be offe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roving Lif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ndard of living impro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ers got better w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ailability of cheaper products provided more and varied it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p between the rich and poor was somewhat offset by these f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roving Lif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ndard of living impro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ers got better w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ailability of cheaper products provided more and varied it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p between the rich and poor was somewhat offset by these f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ther Against Brother, the Civil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rst part of the Industrial Revolution ends at this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ufacturing increased in the Nor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 of this conflict brought the second part of the Industrial Rev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ther Against Brother, the Civil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rst part of the Industrial Revolution ends at this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ufacturing increased in the Nor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 of this conflict brought the second part of the Industrial Rev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ting T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1: From the Farm to the Facto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2: Big Business—Monkey Busine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3: Labor Pai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4: Inventing a New Lif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t Project: Presenting to the Brooking Institu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ting T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1: From the Farm to the Facto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2: Big Business—Monkey Busine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3: Labor Pai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4: Inventing a New Lif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t Project: Presenting to the Brooking Institu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ong the 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work to improve…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ening ski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ing ski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ing ski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ong the 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work to improve…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ening ski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ing ski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ing ski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Farm to the Fac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ginnings of the Industrial Revolution in the United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Farm to the Fac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ginnings of the Industrial Revolution in the United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1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re people’s lives better or worse after this period in United States history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progress goo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1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re people’s lives better or worse after this period in United States history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progress goo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you k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being in the eighth grad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anything from eighth grade social studi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hat do you k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member being in the eighth grad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member anything from eighth grade social studi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Beginning, Before 18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Beginning, Before 18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2D7F-E8C5-424E-A50E-AC5060B90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F098-46E0-432F-A09F-6ED7EAF70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FF53B3-FC72-4B34-95FB-4A944E69B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EDA587-C31B-4B61-8CA9-5F96A1AB0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AFCC75-FA93-430C-860E-B2618F417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ADDDD3-3120-4CDE-A74B-6478FB976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CE27C7-B734-4ED5-B554-5536FA4AC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4A2D3D-C59C-417A-910A-10A4CE874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FE0872-4803-4706-948D-61612CA09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4199E0-6EFF-4197-A974-062838DF8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5709E3-2CE2-4F1B-BEF3-99CC88F2F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B6204C-A233-48B5-9B7F-81CAC8A3D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2139-A537-40C9-96D1-894B4FFFB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F1558C-5F9B-430F-9552-4D2270015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CC89C2-03CC-46C6-AA02-5A72624EC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8A195C-DD11-4354-A297-8496059C1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A18155-134F-4226-869C-48A751D7F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02B870-552C-4646-99B1-FE508CEDB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B8F27D-3946-43AD-A044-A4FA318B5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7C638A-D88A-47EF-9049-053EB15A8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6538D5-537E-463B-9CFE-B55C043B6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CADE8E-A352-4C1E-B5CF-FAC389401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CF73DC-9660-4AB6-A475-5C3B72604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3A04-0FE1-4CF4-8AE1-5A1630878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18CB9D-D6DD-4B76-BFF0-D48D72187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E5FB4E-3D22-40D3-BFD5-CD3EB2797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A3B944-3A23-4C2A-BAF6-C74288C34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A459B4-735B-453B-916C-BDB2FB7C5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89CC53-9267-4F96-ABBB-0E8CD2DBA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295A88-8E67-4E77-B2FD-181F70DE6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BB7A11-E2A5-4517-B4D9-5E1132C76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C6DEC3-BFB1-431B-9D87-4BCA7D9A6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4BFED4-61DB-4E09-A7F2-76C3B10C2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CD05CB-23FE-45A1-AB17-DA73EC409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BA79E-7944-4259-A03E-A43065C14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CEA31D-BFDF-4564-91A2-6CB31667A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6A1A66-E9EC-46EB-B1A8-F842C86F2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338BA1-58C6-4EA9-87BD-BE25D2F81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7CCB24-D924-4273-AD62-2280749DA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C7DA76-CFC9-4CCD-9091-833F04610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CBFE08-E65B-460C-AA77-E27AD9E3F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A70AFB-09C0-49EE-8D35-284DFD695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ACAFAD-079F-41B8-9147-3648F7E20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F288DB-A2D3-45DB-8BF0-F7E41847E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12E297-3DC8-4A48-A16B-DC655005E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07BBA-0ABE-4515-951C-44726B0EB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0C5328-E5B6-4CE0-B1D4-8E91A03F1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9FAAC4-3FEB-41ED-8E54-05A519744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5DA478-8C30-4FD1-A579-BDDC4CC88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DD21B4-8DDF-4761-8A3E-C1FBCE3DA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9D485C-E66B-404F-AD65-CF8F7B994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3AFDE-69EF-4A0B-8E68-9264F9DA5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8E299-8D17-4E06-B7E8-36A88E1D8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0EB2A-2FB7-4F57-8B0E-55176B613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5B943-D763-4F3D-A0DD-3BBB52131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8ABC3-81D7-4EC9-8E6E-0358F946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FAA7-A038-4B13-A617-3869D42B6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C0AE6-ED8C-442F-90CB-DEE1D83D3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02A95-DF4E-424F-BA26-C45994EBE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4A82F-F092-4CA0-B0E8-D46FF4409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30AA4-ABC3-45FF-A1C9-2331A4238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0231F-A84F-4FB9-8933-74EDD7CF8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6B400-3A0B-412B-BE32-6B11DA05E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A0ECE-3FF7-49ED-983E-EFD373E74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FFED3-6E1C-4956-9172-F7D73345A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23312-6A06-4A58-A38E-6DF655E58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2DF90-DE1B-44E1-8AD8-957BF65CC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FC57-7AEB-426D-BB5D-526ADFB65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1BA15-2187-4468-A85B-1E1DA75AC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C488F-FCE9-4A2D-9DDC-3DB36A4B8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F1142-23C9-4BA6-BAD8-6A86E19FC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346D2-9107-4504-8CA1-43A42CBCD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CF6C0-46BC-42FF-A286-66035A968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9BD63-5567-49CD-A841-8BBFA0C49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4B172-4E1F-436D-AF0C-91845B68D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A9165-2CC1-434B-97EC-42AA6845B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A1469-27E4-4EF0-9A40-696D14B9B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410E6-F222-4CE3-A908-E1B5CE375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8C42-540B-4DDC-82D2-3A04CFC7A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E8033-F03A-443A-9BCE-EBDD5348C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F6D06-A8F2-4140-A9BB-FAC937A69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3366F-A53C-4E17-BACB-3A05385F3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632D6-55DB-4B5A-9096-F030C1C2C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9F867-742D-41AF-A77C-599F1E0A3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D5027-2CFB-4421-9E47-A6EBA95F9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AD1BD-2B5D-4CBF-BEF1-9E6BA883A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03CF1-BBE7-475A-A695-2AEBC6846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5D06F-43FE-41C6-8BB6-006FD7146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37B21A-13BF-432E-A155-27C99850A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B937-4E4D-4B00-8402-8C7D182F0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593336-EF8F-4F2C-9659-9888458C9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0962E4-4FF5-47E4-B2D9-7EF7E0D00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A5F216-000D-44A9-8B33-72D264981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EAB817-ABAD-4E31-A878-08CE763AF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4DAB5F-0AE2-44A9-8E5F-142AC3C8D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73F887-E4AB-483D-9FE4-423788374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9E3287-6D75-4D92-BDB5-1DD5BB60D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C55E36-4AFD-4F39-A801-FAB88EEBE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4EDF2B-E4A8-449D-A6E8-2C1ECEA92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75C081-9CE3-4225-9D43-5DE5DD208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9CC1-7D09-4FA4-9041-8A2DE2165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C12297-CE3F-4895-B3B6-926D59DAA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FB8ACA-624E-4C83-B36D-2994429CC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F275F5-E281-461E-9B12-65497E366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37720E-F536-4478-9737-91423A7A0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119A3B-C529-4258-BEF1-FE427F9AE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B7B9BE-56FA-42B6-B138-D08A3305D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347630-266D-4578-BF7B-EF0E8ABFD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4AF0E9-10A6-43F7-AF4C-4F98DAF83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E14B57-5A04-4808-AF97-27C23A78F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BD041D-A93A-4F92-B9D1-041DD77B3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E27F-5299-4CAE-B2CD-78E28A599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34E8D3-EC9E-43D7-8541-9A6B020E1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028EC8-4D23-42A0-BA48-DAD51FE37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68A044-232E-45B3-AF91-2B333B15D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47DF60-C4EC-4C36-8926-FDCA99549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2930DC-8F29-410C-A30A-6B47A009F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D44E64-05C8-4DB7-9748-D2F87A830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312246-1E8B-4811-9766-2302C1F31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E42E43-31D6-4E28-ABCE-026AE6131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69C4DC-0F0C-41BC-B882-A46CF134B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3E2849-70A1-4ACB-88C3-26F095109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F4C7-3260-40FE-8025-4AC5085F8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55B4DD-68F2-4E3E-98EE-BF21F18C7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232349-6210-46EA-8D78-A1FB4FFEA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C95263-6EF4-448D-B345-33556A481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02E9A6-8B8A-45C7-AFF9-9FF7BBB3F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73CBD6-DEAF-48D1-90AE-13EAC3C1A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8A5AB0-588B-4B0B-9E83-99FB63972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12EACB-9F58-4CF7-A938-470A8D4E0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AC7B65-F2A1-4AE9-92ED-52DAABA85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C71C94-3A4A-4C83-9E3F-826735193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8100CF-72AA-4B57-B3A8-3F083BE62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6174-3E4B-418E-819C-ADF56194C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FDC2F5-05EF-4F79-8339-9E224BAB3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59E9D8-2106-40D5-8406-BDB679E72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53CA56-1D69-45E8-B935-52858D471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6BDA3B-8DC9-46D3-882F-ED67405A6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1B6BF7-9DCE-45D4-8CBB-D7411F79E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5A68E1-39F3-404C-A801-8740DB715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10DC0A-9CCE-4572-96B2-C93A1BC37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5D6E2D-3A36-4640-ADA5-9D5EF349C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00499C-5096-4BD9-80C4-8490D2978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233370-EED9-47B3-8106-782564121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C:\Documents and Settings\rjohnson\Desktop\Beacon\Units\America Gears Up Unit\Misc images\PPbackground3.jpg"/>
          <p:cNvPicPr/>
          <p:nvPr/>
        </p:nvPicPr>
        <p:blipFill>
          <a:blip r:embed="rId2"/>
          <a:stretch/>
        </p:blipFill>
        <p:spPr>
          <a:xfrm>
            <a:off x="0" y="-103320"/>
            <a:ext cx="9144000" cy="7064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1" marL="594360" indent="-22860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1828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3" marL="1280160" indent="-18288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4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705360" y="6629040"/>
            <a:ext cx="2361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DF8C4-AA73-4277-8350-4142EC5ED9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10" descr="C:\Documents and Settings\rjohnson\Desktop\Beacon\Units\America Gears Up Unit\Misc images\PPbackground3.jpg"/>
          <p:cNvPicPr/>
          <p:nvPr/>
        </p:nvPicPr>
        <p:blipFill>
          <a:blip r:embed="rId2"/>
          <a:stretch/>
        </p:blipFill>
        <p:spPr>
          <a:xfrm>
            <a:off x="0" y="-103320"/>
            <a:ext cx="9144000" cy="706464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1" marL="594360" indent="-22860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1828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3" marL="1280160" indent="-18288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4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6705360" y="6629040"/>
            <a:ext cx="2361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E0B83-9147-4242-A7F0-54B80DE807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10" descr="C:\Documents and Settings\rjohnson\Desktop\Beacon\Units\America Gears Up Unit\Misc images\PPbackground3.jpg"/>
          <p:cNvPicPr/>
          <p:nvPr/>
        </p:nvPicPr>
        <p:blipFill>
          <a:blip r:embed="rId2"/>
          <a:stretch/>
        </p:blipFill>
        <p:spPr>
          <a:xfrm>
            <a:off x="0" y="-103320"/>
            <a:ext cx="9144000" cy="706464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1" marL="594360" indent="-22860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1828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3" marL="1280160" indent="-18288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4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6705360" y="6629040"/>
            <a:ext cx="2361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35164-ACA1-447A-BEDC-AF0073337A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10" descr="C:\Documents and Settings\rjohnson\Desktop\Beacon\Units\America Gears Up Unit\Misc images\PPbackground3.jpg"/>
          <p:cNvPicPr/>
          <p:nvPr/>
        </p:nvPicPr>
        <p:blipFill>
          <a:blip r:embed="rId2"/>
          <a:stretch/>
        </p:blipFill>
        <p:spPr>
          <a:xfrm>
            <a:off x="0" y="-103320"/>
            <a:ext cx="9144000" cy="706464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1" marL="594360" indent="-22860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1828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3" marL="1280160" indent="-18288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4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6705360" y="6629040"/>
            <a:ext cx="2361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8D7BC-E9B6-4FEF-A707-7D9CD030CA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0" descr="C:\Documents and Settings\rjohnson\Desktop\Beacon\Units\America Gears Up Unit\Misc images\PPbackground3.jpg"/>
          <p:cNvPicPr/>
          <p:nvPr/>
        </p:nvPicPr>
        <p:blipFill>
          <a:blip r:embed="rId2"/>
          <a:stretch/>
        </p:blipFill>
        <p:spPr>
          <a:xfrm>
            <a:off x="0" y="-103320"/>
            <a:ext cx="9144000" cy="70646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1" marL="594360" indent="-22860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1828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3" marL="1280160" indent="-18288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4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6705360" y="6629040"/>
            <a:ext cx="2361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CEBA8-7099-427A-BC18-33E772052B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0" descr="C:\Documents and Settings\rjohnson\Desktop\Beacon\Units\America Gears Up Unit\Misc images\PPbackground3.jpg"/>
          <p:cNvPicPr/>
          <p:nvPr/>
        </p:nvPicPr>
        <p:blipFill>
          <a:blip r:embed="rId2"/>
          <a:stretch/>
        </p:blipFill>
        <p:spPr>
          <a:xfrm>
            <a:off x="0" y="-103320"/>
            <a:ext cx="9144000" cy="7064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1" marL="594360" indent="-22860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1828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3" marL="1280160" indent="-18288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4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6705360" y="6629040"/>
            <a:ext cx="2361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27C17-714A-42DB-95DC-5D4F84F50D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0" descr="C:\Documents and Settings\rjohnson\Desktop\Beacon\Units\America Gears Up Unit\Misc images\PPbackground3.jpg"/>
          <p:cNvPicPr/>
          <p:nvPr/>
        </p:nvPicPr>
        <p:blipFill>
          <a:blip r:embed="rId2"/>
          <a:stretch/>
        </p:blipFill>
        <p:spPr>
          <a:xfrm>
            <a:off x="0" y="-103320"/>
            <a:ext cx="9144000" cy="70646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1" marL="594360" indent="-22860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1828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3" marL="1280160" indent="-18288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4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6705360" y="6629040"/>
            <a:ext cx="2361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48265-D612-4009-B1C9-A1B894356F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10" descr="C:\Documents and Settings\rjohnson\Desktop\Beacon\Units\America Gears Up Unit\Misc images\PPbackground3.jpg"/>
          <p:cNvPicPr/>
          <p:nvPr/>
        </p:nvPicPr>
        <p:blipFill>
          <a:blip r:embed="rId2"/>
          <a:stretch/>
        </p:blipFill>
        <p:spPr>
          <a:xfrm>
            <a:off x="0" y="-103320"/>
            <a:ext cx="9144000" cy="706464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1" marL="594360" indent="-22860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1828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3" marL="1280160" indent="-18288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4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6705360" y="6629040"/>
            <a:ext cx="2361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5BC26-2DFC-4ED5-8421-7CF702C6D6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10" descr="C:\Documents and Settings\rjohnson\Desktop\Beacon\Units\America Gears Up Unit\Misc images\PPbackground3.jpg"/>
          <p:cNvPicPr/>
          <p:nvPr/>
        </p:nvPicPr>
        <p:blipFill>
          <a:blip r:embed="rId2"/>
          <a:stretch/>
        </p:blipFill>
        <p:spPr>
          <a:xfrm>
            <a:off x="0" y="-103320"/>
            <a:ext cx="9144000" cy="706464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1" marL="594360" indent="-22860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1828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3" marL="1280160" indent="-18288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4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6705360" y="6629040"/>
            <a:ext cx="2361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253A2-98CF-4964-92A5-68CF56DCC7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10" descr="C:\Documents and Settings\rjohnson\Desktop\Beacon\Units\America Gears Up Unit\Misc images\PPbackground3.jpg"/>
          <p:cNvPicPr/>
          <p:nvPr/>
        </p:nvPicPr>
        <p:blipFill>
          <a:blip r:embed="rId2"/>
          <a:stretch/>
        </p:blipFill>
        <p:spPr>
          <a:xfrm>
            <a:off x="0" y="-103320"/>
            <a:ext cx="9144000" cy="706464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1" marL="594360" indent="-22860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1828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3" marL="1280160" indent="-18288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4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6705360" y="6629040"/>
            <a:ext cx="2361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B6A92-EA58-491B-8E64-27C6AAC4BB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10" descr="C:\Documents and Settings\rjohnson\Desktop\Beacon\Units\America Gears Up Unit\Misc images\PPbackground3.jpg"/>
          <p:cNvPicPr/>
          <p:nvPr/>
        </p:nvPicPr>
        <p:blipFill>
          <a:blip r:embed="rId2"/>
          <a:stretch/>
        </p:blipFill>
        <p:spPr>
          <a:xfrm>
            <a:off x="0" y="-103320"/>
            <a:ext cx="9144000" cy="706464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1" marL="594360" indent="-22860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1828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3" marL="1280160" indent="-18288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4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6705360" y="6629040"/>
            <a:ext cx="2361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B0AB8-01A0-43EE-A6B1-E2F5178EF7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10" descr="C:\Documents and Settings\rjohnson\Desktop\Beacon\Units\America Gears Up Unit\Misc images\PPbackground3.jpg"/>
          <p:cNvPicPr/>
          <p:nvPr/>
        </p:nvPicPr>
        <p:blipFill>
          <a:blip r:embed="rId2"/>
          <a:stretch/>
        </p:blipFill>
        <p:spPr>
          <a:xfrm>
            <a:off x="0" y="-103320"/>
            <a:ext cx="9144000" cy="706464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1" marL="594360" indent="-22860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1828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3" marL="1280160" indent="-18288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4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6705360" y="6629040"/>
            <a:ext cx="2361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41D8B-2B3D-41E5-BD55-565295D173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7"/>
          <p:cNvSpPr/>
          <p:nvPr/>
        </p:nvSpPr>
        <p:spPr>
          <a:xfrm>
            <a:off x="458640" y="4676760"/>
            <a:ext cx="832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A Unit on the Industrial Revol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in the United Sta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3" name="Picture 11" descr="C:\Documents and Settings\rjohnson\Desktop\Beacon\Units\America Gears Up Unit\Misc images\Logo.gif"/>
          <p:cNvPicPr/>
          <p:nvPr/>
        </p:nvPicPr>
        <p:blipFill>
          <a:blip r:embed="rId1"/>
          <a:stretch/>
        </p:blipFill>
        <p:spPr>
          <a:xfrm>
            <a:off x="2133720" y="152280"/>
            <a:ext cx="4800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00"/>
                </a:solidFill>
                <a:latin typeface="Georgia"/>
              </a:rPr>
              <a:t>Industrialization Came Late to America</a:t>
            </a:r>
            <a:endParaRPr b="1" lang="en-US" sz="5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People came to America for the plentiful land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They were primarily farmers prior to 1750.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They didn’t want to be confined to a factory.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There was a shortage of labor to run machines.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00"/>
                </a:solidFill>
                <a:latin typeface="Georgia"/>
              </a:rPr>
              <a:t>Industrialization Came Late to America</a:t>
            </a:r>
            <a:endParaRPr b="1" lang="en-US" sz="5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There was little money for investment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The market for manufactured goods was small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Great Britain guarded her manufacturing secrets. 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Causes for the Industrial Revolution in the U.S.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pic>
        <p:nvPicPr>
          <p:cNvPr id="571" name="Picture 5" descr="C:\Documents and Settings\rjohnson\Desktop\Beacon\Units\America Gears Up Unit\Misc images\eliW.gif"/>
          <p:cNvPicPr/>
          <p:nvPr/>
        </p:nvPicPr>
        <p:blipFill>
          <a:blip r:embed="rId1"/>
          <a:stretch/>
        </p:blipFill>
        <p:spPr>
          <a:xfrm>
            <a:off x="4419720" y="1447920"/>
            <a:ext cx="3954240" cy="4952880"/>
          </a:xfrm>
          <a:prstGeom prst="rect">
            <a:avLst/>
          </a:prstGeom>
          <a:ln w="0">
            <a:noFill/>
          </a:ln>
        </p:spPr>
      </p:pic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Eli Whitney started the process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705600" indent="-271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He was considered the father of manufacturing.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05600" indent="-271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He invented a machine that started the Industrial Revolution in America. 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05600" indent="-271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Next, he invented one that continued the revolution.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Causes for the Industrial Revolution in the U.S.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79246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Early industrial espionage brought textile machines to the U.S.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76" name="Picture 6" descr="C:\Documents and Settings\rjohnson\Desktop\Beacon\Units\America Gears Up Unit\Misc images\Cotton-gin.gif"/>
          <p:cNvPicPr/>
          <p:nvPr/>
        </p:nvPicPr>
        <p:blipFill>
          <a:blip r:embed="rId1"/>
          <a:stretch/>
        </p:blipFill>
        <p:spPr>
          <a:xfrm>
            <a:off x="6477120" y="3429000"/>
            <a:ext cx="2347920" cy="3429000"/>
          </a:xfrm>
          <a:prstGeom prst="rect">
            <a:avLst/>
          </a:prstGeom>
          <a:ln w="0">
            <a:noFill/>
          </a:ln>
        </p:spPr>
      </p:pic>
      <p:sp>
        <p:nvSpPr>
          <p:cNvPr id="577" name="Text Box 7"/>
          <p:cNvSpPr/>
          <p:nvPr/>
        </p:nvSpPr>
        <p:spPr>
          <a:xfrm>
            <a:off x="457200" y="3753000"/>
            <a:ext cx="6721560" cy="30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Cotton g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Made cotton production profi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Provided raw material for textile factori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Types of Industry-Location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pic>
        <p:nvPicPr>
          <p:cNvPr id="580" name="Picture 4" descr="C:\Documents and Settings\rjohnson\Desktop\Beacon\Units\America Gears Up Unit\Misc images\SlaterMill.gif"/>
          <p:cNvPicPr/>
          <p:nvPr/>
        </p:nvPicPr>
        <p:blipFill>
          <a:blip r:embed="rId1"/>
          <a:stretch/>
        </p:blipFill>
        <p:spPr>
          <a:xfrm>
            <a:off x="5029200" y="1535040"/>
            <a:ext cx="3884760" cy="49420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e first factories were textile mills in New England for several reasons.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Poor soil encouraged manufacturing not farming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The dense population provided workers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Types of Industry-Location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Seaports were available to import raw materials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Rivers provided a source of power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A shortage of goods from England inspired new mills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New Industries Flourished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pic>
        <p:nvPicPr>
          <p:cNvPr id="587" name="Picture 1029" descr="C:\Documents and Settings\rjohnson\Desktop\Beacon\Units\America Gears Up Unit\Misc images\musket.gif"/>
          <p:cNvPicPr/>
          <p:nvPr/>
        </p:nvPicPr>
        <p:blipFill>
          <a:blip r:embed="rId1"/>
          <a:stretch/>
        </p:blipFill>
        <p:spPr>
          <a:xfrm>
            <a:off x="457200" y="990720"/>
            <a:ext cx="7772400" cy="1376280"/>
          </a:xfrm>
          <a:prstGeom prst="rect">
            <a:avLst/>
          </a:prstGeom>
          <a:ln w="0">
            <a:noFill/>
          </a:ln>
        </p:spPr>
      </p:pic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Firearms manufacture was an important industry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01680" indent="-301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Remember Eli Whitney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653760" indent="-25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He invented interchangeable parts for guns.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653760" indent="-25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This paved the way for mass production. 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653760" indent="-25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This gave the North superiority in weaponry for the military. 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 </a:t>
            </a: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The Ball’s Rolling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One invention led to another.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360 patents were issued between 1790-1800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28,000 patents were issued between 1850-1860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The Business of Industry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Legal status changed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01680" indent="-301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The principle of limited liability was established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653760" indent="-25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Companies sold shares in a business (incorporation). 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653760" indent="-25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Each share is like buying a small part of the company.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653760" indent="-25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Shareholders are liable for only their own shares.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The Business of Industry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Laws of “free incorporation” were passed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Businesses could incorporate without legislative approval.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This allowed for more capital for industries to expand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Why?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  <a:ea typeface="Arial"/>
              </a:rPr>
              <a:t>SS.A.5.4.1: The student knows the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Georgia"/>
                <a:ea typeface="Arial"/>
              </a:rPr>
              <a:t>causes</a:t>
            </a:r>
            <a:r>
              <a:rPr b="1" lang="en-US" sz="4000" spc="-1" strike="noStrike">
                <a:solidFill>
                  <a:srgbClr val="000000"/>
                </a:solidFill>
                <a:latin typeface="Georgia"/>
                <a:ea typeface="Arial"/>
              </a:rPr>
              <a:t> of the Industrial Revolution and its economic, political, and cultural effects on American Society.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The Politics of Industry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Only male landowners could vote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Most factory workers did not qualify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Politics were run by the “upper” class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They fought efforts to improve working conditions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Labor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Labor was scarce before 1840. 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Working conditions were poor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Women and children were important sources for labor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Working Conditions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Working conditions were poor in the factories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They were poorly ventilated, lighted, and heated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Hours were long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Wages were low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Child Labor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pic>
        <p:nvPicPr>
          <p:cNvPr id="609" name="Picture 5" descr="C:\Documents and Settings\rjohnson\Desktop\Beacon\Units\America Gears Up Unit\Misc images\childlabor.gif"/>
          <p:cNvPicPr/>
          <p:nvPr/>
        </p:nvPicPr>
        <p:blipFill>
          <a:blip r:embed="rId1"/>
          <a:stretch/>
        </p:blipFill>
        <p:spPr>
          <a:xfrm>
            <a:off x="762120" y="1219320"/>
            <a:ext cx="7467480" cy="54576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Scarce labor made factories turn to using children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Half of the factory laborers were children under ten years old in 1820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Conditions caused children to be mentally, emotionally, and physically stunted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5" dur="1" fill="hold"/>
                                  <p:tgtEl>
                                    <p:spTgt spid="6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Working Women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pic>
        <p:nvPicPr>
          <p:cNvPr id="613" name="Picture 6" descr="C:\Documents and Settings\rjohnson\Desktop\Beacon\Units\America Gears Up Unit\Misc images\womanteacher.jpg"/>
          <p:cNvPicPr/>
          <p:nvPr/>
        </p:nvPicPr>
        <p:blipFill>
          <a:blip r:embed="rId1"/>
          <a:stretch/>
        </p:blipFill>
        <p:spPr>
          <a:xfrm>
            <a:off x="4419720" y="1314360"/>
            <a:ext cx="4505040" cy="5086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Women in the work force were uncommon.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Mostly single women worked.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Only about 20% of women worked in 1830.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Working Women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Opportunities to be self-supporting were scarce.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Being a nurse, domestic servant, or teacher were the only opportunities available outside the factory.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Women in the Factories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Most factory work was in the textile industry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Most women worked six days a week.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They worked from twelve to thirteen hours a day (from dawn to dark).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Most female factory workers came from the farm.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Lowell, Mass. as an Example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pic>
        <p:nvPicPr>
          <p:cNvPr id="623" name="Picture 4" descr="C:\Documents and Settings\rjohnson\Desktop\Beacon\Units\America Gears Up Unit\Misc images\lowellfactory.jpg"/>
          <p:cNvPicPr/>
          <p:nvPr/>
        </p:nvPicPr>
        <p:blipFill>
          <a:blip r:embed="rId1"/>
          <a:stretch/>
        </p:blipFill>
        <p:spPr>
          <a:xfrm>
            <a:off x="0" y="1563840"/>
            <a:ext cx="9144000" cy="4684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Women workers came from the farm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They were supervised by company matrons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They lived in company boarding houses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These women provided a disciplined and docile work force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6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A Contrast, How the Rest Lived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Factory owners became part of the upper class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They joined the landowners and merchants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71316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They reaped the benefits of labor.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1316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Fortunes were amassed. 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1316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The profits were rarely passed on to the workers.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A Contrast, How the Rest Lived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e middle class expanded.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It now included factory managers and supervisors.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The Big “Why?” for the Unit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Can societies have winners and losers at the same time?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Can societal groups win and lose at the same time?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How are the winners and losers reconciled?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Improving Life?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Laws were passed to improve working conditions.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The vote was extended to working men. 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Laws finally passed that limited the work day to ten hours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Improving Life?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pic>
        <p:nvPicPr>
          <p:cNvPr id="636" name="Picture 4" descr="C:\Documents and Settings\rjohnson\Desktop\Beacon\Units\America Gears Up Unit\Misc images\schoolhouse.jpg"/>
          <p:cNvPicPr/>
          <p:nvPr/>
        </p:nvPicPr>
        <p:blipFill>
          <a:blip r:embed="rId1"/>
          <a:stretch/>
        </p:blipFill>
        <p:spPr>
          <a:xfrm>
            <a:off x="762120" y="1279440"/>
            <a:ext cx="7696080" cy="5121360"/>
          </a:xfrm>
          <a:prstGeom prst="rect">
            <a:avLst/>
          </a:prstGeom>
          <a:ln w="0">
            <a:noFill/>
          </a:ln>
        </p:spPr>
      </p:pic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Child labor laws were being considered.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ree public education was beginning to be offered.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Improving Life?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The standard of living improved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Workers got better wages.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Availability of cheaper products provided more and varied items.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The gap between the rich and poor was somewhat offset by these factors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Brother Against Brother, the Civil War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pic>
        <p:nvPicPr>
          <p:cNvPr id="643" name="Picture 5" descr="C:\Documents and Settings\rjohnson\Desktop\Beacon\Units\America Gears Up Unit\Misc images\civilwarbattle.jpg"/>
          <p:cNvPicPr/>
          <p:nvPr/>
        </p:nvPicPr>
        <p:blipFill>
          <a:blip r:embed="rId1"/>
          <a:stretch/>
        </p:blipFill>
        <p:spPr>
          <a:xfrm>
            <a:off x="762120" y="1789200"/>
            <a:ext cx="7619760" cy="4473360"/>
          </a:xfrm>
          <a:prstGeom prst="rect">
            <a:avLst/>
          </a:prstGeom>
          <a:ln w="0">
            <a:noFill/>
          </a:ln>
        </p:spPr>
      </p:pic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The first part of the Industrial Revolution ends at this point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Manufacturing increased in the North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The end of this conflict brought the second part of the Industrial Revolution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Getting There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522" name="Rectangle 4"/>
          <p:cNvSpPr/>
          <p:nvPr/>
        </p:nvSpPr>
        <p:spPr>
          <a:xfrm>
            <a:off x="571680" y="1295280"/>
            <a:ext cx="8153280" cy="6858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bbbbb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b2b2b2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Lesson 1: From the Farm to the Factory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Rectangle 9"/>
          <p:cNvSpPr/>
          <p:nvPr/>
        </p:nvSpPr>
        <p:spPr>
          <a:xfrm>
            <a:off x="571680" y="2343240"/>
            <a:ext cx="8153280" cy="6858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bbbbb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b2b2b2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Lesson 2: Big Business—Monkey Business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13"/>
          <p:cNvSpPr/>
          <p:nvPr/>
        </p:nvSpPr>
        <p:spPr>
          <a:xfrm>
            <a:off x="571680" y="3390840"/>
            <a:ext cx="8153280" cy="6858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bbbbb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b2b2b2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Lesson 3: Labor Pains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Rectangle 14"/>
          <p:cNvSpPr/>
          <p:nvPr/>
        </p:nvSpPr>
        <p:spPr>
          <a:xfrm>
            <a:off x="571680" y="4438800"/>
            <a:ext cx="8153280" cy="6858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bbbbb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b2b2b2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Lesson 4: Inventing a New Life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15"/>
          <p:cNvSpPr/>
          <p:nvPr/>
        </p:nvSpPr>
        <p:spPr>
          <a:xfrm>
            <a:off x="571680" y="5486400"/>
            <a:ext cx="8153280" cy="9144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bbbbb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b2b2b2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Unit Project: Presenting to the Brooking Institu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Along the Way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Georgia"/>
              </a:rPr>
              <a:t>We’ll work to improve… </a:t>
            </a:r>
            <a:endParaRPr b="1" lang="en-US" sz="4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11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listening skills.</a:t>
            </a:r>
            <a:endParaRPr b="1" lang="en-US" sz="4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11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reading skills.</a:t>
            </a:r>
            <a:endParaRPr b="1" lang="en-US" sz="4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11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writing skills.</a:t>
            </a:r>
            <a:endParaRPr b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80520" y="1371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3300"/>
                </a:solidFill>
                <a:latin typeface="Georgia"/>
              </a:rPr>
              <a:t>From the Farm to the Factory</a:t>
            </a:r>
            <a:endParaRPr b="1" lang="en-US" sz="72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137160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e Beginnings of the Industrial Revolution in the United States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Lesson 1 Questions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Were people’s lives better or worse after this period in United States history? 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s progress good?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  <a:ea typeface="Arial"/>
              </a:rPr>
              <a:t>What do you know?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grpSp>
        <p:nvGrpSpPr>
          <p:cNvPr id="538" name="Group 106"/>
          <p:cNvGrpSpPr/>
          <p:nvPr/>
        </p:nvGrpSpPr>
        <p:grpSpPr>
          <a:xfrm>
            <a:off x="2819520" y="1406520"/>
            <a:ext cx="3233160" cy="5222520"/>
            <a:chOff x="2819520" y="1406520"/>
            <a:chExt cx="3233160" cy="5222520"/>
          </a:xfrm>
        </p:grpSpPr>
        <p:sp>
          <p:nvSpPr>
            <p:cNvPr id="539" name="Freeform 70"/>
            <p:cNvSpPr/>
            <p:nvPr/>
          </p:nvSpPr>
          <p:spPr>
            <a:xfrm>
              <a:off x="3820680" y="5199480"/>
              <a:ext cx="1239840" cy="1341360"/>
            </a:xfrm>
            <a:custGeom>
              <a:avLst/>
              <a:gdLst/>
              <a:ahLst/>
              <a:rect l="l" t="t" r="r" b="b"/>
              <a:pathLst>
                <a:path w="557" h="716">
                  <a:moveTo>
                    <a:pt x="109" y="0"/>
                  </a:moveTo>
                  <a:lnTo>
                    <a:pt x="100" y="2"/>
                  </a:lnTo>
                  <a:lnTo>
                    <a:pt x="84" y="17"/>
                  </a:lnTo>
                  <a:lnTo>
                    <a:pt x="67" y="40"/>
                  </a:lnTo>
                  <a:lnTo>
                    <a:pt x="49" y="68"/>
                  </a:lnTo>
                  <a:lnTo>
                    <a:pt x="33" y="102"/>
                  </a:lnTo>
                  <a:lnTo>
                    <a:pt x="27" y="137"/>
                  </a:lnTo>
                  <a:lnTo>
                    <a:pt x="29" y="173"/>
                  </a:lnTo>
                  <a:lnTo>
                    <a:pt x="47" y="204"/>
                  </a:lnTo>
                  <a:lnTo>
                    <a:pt x="42" y="208"/>
                  </a:lnTo>
                  <a:lnTo>
                    <a:pt x="33" y="217"/>
                  </a:lnTo>
                  <a:lnTo>
                    <a:pt x="22" y="233"/>
                  </a:lnTo>
                  <a:lnTo>
                    <a:pt x="11" y="255"/>
                  </a:lnTo>
                  <a:lnTo>
                    <a:pt x="4" y="279"/>
                  </a:lnTo>
                  <a:lnTo>
                    <a:pt x="4" y="310"/>
                  </a:lnTo>
                  <a:lnTo>
                    <a:pt x="11" y="343"/>
                  </a:lnTo>
                  <a:lnTo>
                    <a:pt x="33" y="379"/>
                  </a:lnTo>
                  <a:lnTo>
                    <a:pt x="29" y="381"/>
                  </a:lnTo>
                  <a:lnTo>
                    <a:pt x="20" y="390"/>
                  </a:lnTo>
                  <a:lnTo>
                    <a:pt x="9" y="406"/>
                  </a:lnTo>
                  <a:lnTo>
                    <a:pt x="2" y="423"/>
                  </a:lnTo>
                  <a:lnTo>
                    <a:pt x="0" y="448"/>
                  </a:lnTo>
                  <a:lnTo>
                    <a:pt x="7" y="474"/>
                  </a:lnTo>
                  <a:lnTo>
                    <a:pt x="29" y="508"/>
                  </a:lnTo>
                  <a:lnTo>
                    <a:pt x="67" y="543"/>
                  </a:lnTo>
                  <a:lnTo>
                    <a:pt x="64" y="547"/>
                  </a:lnTo>
                  <a:lnTo>
                    <a:pt x="58" y="561"/>
                  </a:lnTo>
                  <a:lnTo>
                    <a:pt x="51" y="581"/>
                  </a:lnTo>
                  <a:lnTo>
                    <a:pt x="47" y="603"/>
                  </a:lnTo>
                  <a:lnTo>
                    <a:pt x="44" y="632"/>
                  </a:lnTo>
                  <a:lnTo>
                    <a:pt x="49" y="661"/>
                  </a:lnTo>
                  <a:lnTo>
                    <a:pt x="64" y="689"/>
                  </a:lnTo>
                  <a:lnTo>
                    <a:pt x="89" y="716"/>
                  </a:lnTo>
                  <a:lnTo>
                    <a:pt x="102" y="716"/>
                  </a:lnTo>
                  <a:lnTo>
                    <a:pt x="138" y="714"/>
                  </a:lnTo>
                  <a:lnTo>
                    <a:pt x="189" y="709"/>
                  </a:lnTo>
                  <a:lnTo>
                    <a:pt x="248" y="705"/>
                  </a:lnTo>
                  <a:lnTo>
                    <a:pt x="308" y="698"/>
                  </a:lnTo>
                  <a:lnTo>
                    <a:pt x="364" y="692"/>
                  </a:lnTo>
                  <a:lnTo>
                    <a:pt x="408" y="683"/>
                  </a:lnTo>
                  <a:lnTo>
                    <a:pt x="433" y="674"/>
                  </a:lnTo>
                  <a:lnTo>
                    <a:pt x="446" y="663"/>
                  </a:lnTo>
                  <a:lnTo>
                    <a:pt x="459" y="647"/>
                  </a:lnTo>
                  <a:lnTo>
                    <a:pt x="473" y="630"/>
                  </a:lnTo>
                  <a:lnTo>
                    <a:pt x="484" y="610"/>
                  </a:lnTo>
                  <a:lnTo>
                    <a:pt x="492" y="590"/>
                  </a:lnTo>
                  <a:lnTo>
                    <a:pt x="499" y="574"/>
                  </a:lnTo>
                  <a:lnTo>
                    <a:pt x="499" y="559"/>
                  </a:lnTo>
                  <a:lnTo>
                    <a:pt x="495" y="550"/>
                  </a:lnTo>
                  <a:lnTo>
                    <a:pt x="492" y="543"/>
                  </a:lnTo>
                  <a:lnTo>
                    <a:pt x="499" y="534"/>
                  </a:lnTo>
                  <a:lnTo>
                    <a:pt x="512" y="523"/>
                  </a:lnTo>
                  <a:lnTo>
                    <a:pt x="528" y="510"/>
                  </a:lnTo>
                  <a:lnTo>
                    <a:pt x="539" y="490"/>
                  </a:lnTo>
                  <a:lnTo>
                    <a:pt x="546" y="465"/>
                  </a:lnTo>
                  <a:lnTo>
                    <a:pt x="539" y="432"/>
                  </a:lnTo>
                  <a:lnTo>
                    <a:pt x="519" y="390"/>
                  </a:lnTo>
                  <a:lnTo>
                    <a:pt x="524" y="386"/>
                  </a:lnTo>
                  <a:lnTo>
                    <a:pt x="532" y="372"/>
                  </a:lnTo>
                  <a:lnTo>
                    <a:pt x="543" y="352"/>
                  </a:lnTo>
                  <a:lnTo>
                    <a:pt x="555" y="326"/>
                  </a:lnTo>
                  <a:lnTo>
                    <a:pt x="557" y="297"/>
                  </a:lnTo>
                  <a:lnTo>
                    <a:pt x="550" y="268"/>
                  </a:lnTo>
                  <a:lnTo>
                    <a:pt x="528" y="237"/>
                  </a:lnTo>
                  <a:lnTo>
                    <a:pt x="490" y="210"/>
                  </a:lnTo>
                  <a:lnTo>
                    <a:pt x="495" y="204"/>
                  </a:lnTo>
                  <a:lnTo>
                    <a:pt x="501" y="184"/>
                  </a:lnTo>
                  <a:lnTo>
                    <a:pt x="510" y="155"/>
                  </a:lnTo>
                  <a:lnTo>
                    <a:pt x="519" y="122"/>
                  </a:lnTo>
                  <a:lnTo>
                    <a:pt x="521" y="86"/>
                  </a:lnTo>
                  <a:lnTo>
                    <a:pt x="517" y="53"/>
                  </a:lnTo>
                  <a:lnTo>
                    <a:pt x="501" y="22"/>
                  </a:lnTo>
                  <a:lnTo>
                    <a:pt x="473" y="0"/>
                  </a:lnTo>
                  <a:lnTo>
                    <a:pt x="468" y="0"/>
                  </a:lnTo>
                  <a:lnTo>
                    <a:pt x="459" y="2"/>
                  </a:lnTo>
                  <a:lnTo>
                    <a:pt x="444" y="2"/>
                  </a:lnTo>
                  <a:lnTo>
                    <a:pt x="421" y="4"/>
                  </a:lnTo>
                  <a:lnTo>
                    <a:pt x="397" y="6"/>
                  </a:lnTo>
                  <a:lnTo>
                    <a:pt x="370" y="9"/>
                  </a:lnTo>
                  <a:lnTo>
                    <a:pt x="339" y="11"/>
                  </a:lnTo>
                  <a:lnTo>
                    <a:pt x="308" y="13"/>
                  </a:lnTo>
                  <a:lnTo>
                    <a:pt x="277" y="15"/>
                  </a:lnTo>
                  <a:lnTo>
                    <a:pt x="246" y="15"/>
                  </a:lnTo>
                  <a:lnTo>
                    <a:pt x="215" y="15"/>
                  </a:lnTo>
                  <a:lnTo>
                    <a:pt x="186" y="15"/>
                  </a:lnTo>
                  <a:lnTo>
                    <a:pt x="160" y="13"/>
                  </a:lnTo>
                  <a:lnTo>
                    <a:pt x="138" y="11"/>
                  </a:lnTo>
                  <a:lnTo>
                    <a:pt x="120" y="6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dd9e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Freeform 71"/>
            <p:cNvSpPr/>
            <p:nvPr/>
          </p:nvSpPr>
          <p:spPr>
            <a:xfrm>
              <a:off x="2819520" y="1406520"/>
              <a:ext cx="3233160" cy="3776400"/>
            </a:xfrm>
            <a:custGeom>
              <a:avLst/>
              <a:gdLst/>
              <a:ahLst/>
              <a:rect l="l" t="t" r="r" b="b"/>
              <a:pathLst>
                <a:path w="1453" h="2016">
                  <a:moveTo>
                    <a:pt x="450" y="1617"/>
                  </a:moveTo>
                  <a:lnTo>
                    <a:pt x="452" y="1639"/>
                  </a:lnTo>
                  <a:lnTo>
                    <a:pt x="457" y="1681"/>
                  </a:lnTo>
                  <a:lnTo>
                    <a:pt x="461" y="1736"/>
                  </a:lnTo>
                  <a:lnTo>
                    <a:pt x="468" y="1798"/>
                  </a:lnTo>
                  <a:lnTo>
                    <a:pt x="477" y="1861"/>
                  </a:lnTo>
                  <a:lnTo>
                    <a:pt x="490" y="1914"/>
                  </a:lnTo>
                  <a:lnTo>
                    <a:pt x="510" y="1956"/>
                  </a:lnTo>
                  <a:lnTo>
                    <a:pt x="534" y="1976"/>
                  </a:lnTo>
                  <a:lnTo>
                    <a:pt x="552" y="1980"/>
                  </a:lnTo>
                  <a:lnTo>
                    <a:pt x="574" y="1987"/>
                  </a:lnTo>
                  <a:lnTo>
                    <a:pt x="601" y="1994"/>
                  </a:lnTo>
                  <a:lnTo>
                    <a:pt x="632" y="2000"/>
                  </a:lnTo>
                  <a:lnTo>
                    <a:pt x="665" y="2007"/>
                  </a:lnTo>
                  <a:lnTo>
                    <a:pt x="701" y="2014"/>
                  </a:lnTo>
                  <a:lnTo>
                    <a:pt x="736" y="2016"/>
                  </a:lnTo>
                  <a:lnTo>
                    <a:pt x="774" y="2016"/>
                  </a:lnTo>
                  <a:lnTo>
                    <a:pt x="807" y="2011"/>
                  </a:lnTo>
                  <a:lnTo>
                    <a:pt x="840" y="2005"/>
                  </a:lnTo>
                  <a:lnTo>
                    <a:pt x="871" y="1991"/>
                  </a:lnTo>
                  <a:lnTo>
                    <a:pt x="900" y="1974"/>
                  </a:lnTo>
                  <a:lnTo>
                    <a:pt x="923" y="1949"/>
                  </a:lnTo>
                  <a:lnTo>
                    <a:pt x="940" y="1918"/>
                  </a:lnTo>
                  <a:lnTo>
                    <a:pt x="954" y="1878"/>
                  </a:lnTo>
                  <a:lnTo>
                    <a:pt x="958" y="1832"/>
                  </a:lnTo>
                  <a:lnTo>
                    <a:pt x="962" y="1736"/>
                  </a:lnTo>
                  <a:lnTo>
                    <a:pt x="967" y="1656"/>
                  </a:lnTo>
                  <a:lnTo>
                    <a:pt x="974" y="1592"/>
                  </a:lnTo>
                  <a:lnTo>
                    <a:pt x="982" y="1539"/>
                  </a:lnTo>
                  <a:lnTo>
                    <a:pt x="996" y="1497"/>
                  </a:lnTo>
                  <a:lnTo>
                    <a:pt x="1009" y="1461"/>
                  </a:lnTo>
                  <a:lnTo>
                    <a:pt x="1027" y="1437"/>
                  </a:lnTo>
                  <a:lnTo>
                    <a:pt x="1047" y="1415"/>
                  </a:lnTo>
                  <a:lnTo>
                    <a:pt x="1062" y="1401"/>
                  </a:lnTo>
                  <a:lnTo>
                    <a:pt x="1082" y="1384"/>
                  </a:lnTo>
                  <a:lnTo>
                    <a:pt x="1111" y="1357"/>
                  </a:lnTo>
                  <a:lnTo>
                    <a:pt x="1142" y="1326"/>
                  </a:lnTo>
                  <a:lnTo>
                    <a:pt x="1180" y="1288"/>
                  </a:lnTo>
                  <a:lnTo>
                    <a:pt x="1218" y="1246"/>
                  </a:lnTo>
                  <a:lnTo>
                    <a:pt x="1255" y="1200"/>
                  </a:lnTo>
                  <a:lnTo>
                    <a:pt x="1293" y="1146"/>
                  </a:lnTo>
                  <a:lnTo>
                    <a:pt x="1331" y="1089"/>
                  </a:lnTo>
                  <a:lnTo>
                    <a:pt x="1366" y="1029"/>
                  </a:lnTo>
                  <a:lnTo>
                    <a:pt x="1395" y="962"/>
                  </a:lnTo>
                  <a:lnTo>
                    <a:pt x="1422" y="891"/>
                  </a:lnTo>
                  <a:lnTo>
                    <a:pt x="1439" y="818"/>
                  </a:lnTo>
                  <a:lnTo>
                    <a:pt x="1450" y="740"/>
                  </a:lnTo>
                  <a:lnTo>
                    <a:pt x="1453" y="661"/>
                  </a:lnTo>
                  <a:lnTo>
                    <a:pt x="1446" y="576"/>
                  </a:lnTo>
                  <a:lnTo>
                    <a:pt x="1428" y="494"/>
                  </a:lnTo>
                  <a:lnTo>
                    <a:pt x="1404" y="421"/>
                  </a:lnTo>
                  <a:lnTo>
                    <a:pt x="1373" y="354"/>
                  </a:lnTo>
                  <a:lnTo>
                    <a:pt x="1337" y="295"/>
                  </a:lnTo>
                  <a:lnTo>
                    <a:pt x="1295" y="241"/>
                  </a:lnTo>
                  <a:lnTo>
                    <a:pt x="1251" y="193"/>
                  </a:lnTo>
                  <a:lnTo>
                    <a:pt x="1202" y="153"/>
                  </a:lnTo>
                  <a:lnTo>
                    <a:pt x="1151" y="117"/>
                  </a:lnTo>
                  <a:lnTo>
                    <a:pt x="1100" y="86"/>
                  </a:lnTo>
                  <a:lnTo>
                    <a:pt x="1049" y="62"/>
                  </a:lnTo>
                  <a:lnTo>
                    <a:pt x="996" y="42"/>
                  </a:lnTo>
                  <a:lnTo>
                    <a:pt x="947" y="24"/>
                  </a:lnTo>
                  <a:lnTo>
                    <a:pt x="900" y="13"/>
                  </a:lnTo>
                  <a:lnTo>
                    <a:pt x="856" y="4"/>
                  </a:lnTo>
                  <a:lnTo>
                    <a:pt x="816" y="2"/>
                  </a:lnTo>
                  <a:lnTo>
                    <a:pt x="781" y="0"/>
                  </a:lnTo>
                  <a:lnTo>
                    <a:pt x="745" y="0"/>
                  </a:lnTo>
                  <a:lnTo>
                    <a:pt x="701" y="2"/>
                  </a:lnTo>
                  <a:lnTo>
                    <a:pt x="652" y="2"/>
                  </a:lnTo>
                  <a:lnTo>
                    <a:pt x="599" y="6"/>
                  </a:lnTo>
                  <a:lnTo>
                    <a:pt x="541" y="13"/>
                  </a:lnTo>
                  <a:lnTo>
                    <a:pt x="479" y="26"/>
                  </a:lnTo>
                  <a:lnTo>
                    <a:pt x="417" y="42"/>
                  </a:lnTo>
                  <a:lnTo>
                    <a:pt x="355" y="66"/>
                  </a:lnTo>
                  <a:lnTo>
                    <a:pt x="295" y="97"/>
                  </a:lnTo>
                  <a:lnTo>
                    <a:pt x="235" y="135"/>
                  </a:lnTo>
                  <a:lnTo>
                    <a:pt x="179" y="184"/>
                  </a:lnTo>
                  <a:lnTo>
                    <a:pt x="131" y="244"/>
                  </a:lnTo>
                  <a:lnTo>
                    <a:pt x="86" y="315"/>
                  </a:lnTo>
                  <a:lnTo>
                    <a:pt x="49" y="399"/>
                  </a:lnTo>
                  <a:lnTo>
                    <a:pt x="20" y="494"/>
                  </a:lnTo>
                  <a:lnTo>
                    <a:pt x="0" y="607"/>
                  </a:lnTo>
                  <a:lnTo>
                    <a:pt x="0" y="627"/>
                  </a:lnTo>
                  <a:lnTo>
                    <a:pt x="0" y="680"/>
                  </a:lnTo>
                  <a:lnTo>
                    <a:pt x="6" y="763"/>
                  </a:lnTo>
                  <a:lnTo>
                    <a:pt x="22" y="862"/>
                  </a:lnTo>
                  <a:lnTo>
                    <a:pt x="51" y="975"/>
                  </a:lnTo>
                  <a:lnTo>
                    <a:pt x="100" y="1091"/>
                  </a:lnTo>
                  <a:lnTo>
                    <a:pt x="168" y="1204"/>
                  </a:lnTo>
                  <a:lnTo>
                    <a:pt x="266" y="1306"/>
                  </a:lnTo>
                  <a:lnTo>
                    <a:pt x="341" y="1375"/>
                  </a:lnTo>
                  <a:lnTo>
                    <a:pt x="392" y="1432"/>
                  </a:lnTo>
                  <a:lnTo>
                    <a:pt x="423" y="1481"/>
                  </a:lnTo>
                  <a:lnTo>
                    <a:pt x="441" y="1519"/>
                  </a:lnTo>
                  <a:lnTo>
                    <a:pt x="448" y="1550"/>
                  </a:lnTo>
                  <a:lnTo>
                    <a:pt x="448" y="1577"/>
                  </a:lnTo>
                  <a:lnTo>
                    <a:pt x="448" y="1599"/>
                  </a:lnTo>
                  <a:lnTo>
                    <a:pt x="450" y="1617"/>
                  </a:lnTo>
                  <a:close/>
                </a:path>
              </a:pathLst>
            </a:custGeom>
            <a:solidFill>
              <a:srgbClr val="ffff7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Freeform 72"/>
            <p:cNvSpPr/>
            <p:nvPr/>
          </p:nvSpPr>
          <p:spPr>
            <a:xfrm>
              <a:off x="3006000" y="1676160"/>
              <a:ext cx="2881800" cy="1445760"/>
            </a:xfrm>
            <a:custGeom>
              <a:avLst/>
              <a:gdLst/>
              <a:ahLst/>
              <a:rect l="l" t="t" r="r" b="b"/>
              <a:pathLst>
                <a:path w="1295" h="772">
                  <a:moveTo>
                    <a:pt x="776" y="9"/>
                  </a:moveTo>
                  <a:lnTo>
                    <a:pt x="770" y="9"/>
                  </a:lnTo>
                  <a:lnTo>
                    <a:pt x="754" y="6"/>
                  </a:lnTo>
                  <a:lnTo>
                    <a:pt x="728" y="4"/>
                  </a:lnTo>
                  <a:lnTo>
                    <a:pt x="694" y="2"/>
                  </a:lnTo>
                  <a:lnTo>
                    <a:pt x="652" y="0"/>
                  </a:lnTo>
                  <a:lnTo>
                    <a:pt x="606" y="0"/>
                  </a:lnTo>
                  <a:lnTo>
                    <a:pt x="555" y="2"/>
                  </a:lnTo>
                  <a:lnTo>
                    <a:pt x="501" y="4"/>
                  </a:lnTo>
                  <a:lnTo>
                    <a:pt x="446" y="11"/>
                  </a:lnTo>
                  <a:lnTo>
                    <a:pt x="388" y="20"/>
                  </a:lnTo>
                  <a:lnTo>
                    <a:pt x="333" y="31"/>
                  </a:lnTo>
                  <a:lnTo>
                    <a:pt x="277" y="46"/>
                  </a:lnTo>
                  <a:lnTo>
                    <a:pt x="226" y="68"/>
                  </a:lnTo>
                  <a:lnTo>
                    <a:pt x="180" y="93"/>
                  </a:lnTo>
                  <a:lnTo>
                    <a:pt x="138" y="124"/>
                  </a:lnTo>
                  <a:lnTo>
                    <a:pt x="104" y="162"/>
                  </a:lnTo>
                  <a:lnTo>
                    <a:pt x="78" y="199"/>
                  </a:lnTo>
                  <a:lnTo>
                    <a:pt x="53" y="241"/>
                  </a:lnTo>
                  <a:lnTo>
                    <a:pt x="33" y="284"/>
                  </a:lnTo>
                  <a:lnTo>
                    <a:pt x="18" y="328"/>
                  </a:lnTo>
                  <a:lnTo>
                    <a:pt x="7" y="375"/>
                  </a:lnTo>
                  <a:lnTo>
                    <a:pt x="0" y="419"/>
                  </a:lnTo>
                  <a:lnTo>
                    <a:pt x="2" y="463"/>
                  </a:lnTo>
                  <a:lnTo>
                    <a:pt x="9" y="508"/>
                  </a:lnTo>
                  <a:lnTo>
                    <a:pt x="22" y="550"/>
                  </a:lnTo>
                  <a:lnTo>
                    <a:pt x="44" y="590"/>
                  </a:lnTo>
                  <a:lnTo>
                    <a:pt x="75" y="627"/>
                  </a:lnTo>
                  <a:lnTo>
                    <a:pt x="115" y="661"/>
                  </a:lnTo>
                  <a:lnTo>
                    <a:pt x="166" y="692"/>
                  </a:lnTo>
                  <a:lnTo>
                    <a:pt x="226" y="718"/>
                  </a:lnTo>
                  <a:lnTo>
                    <a:pt x="297" y="741"/>
                  </a:lnTo>
                  <a:lnTo>
                    <a:pt x="382" y="756"/>
                  </a:lnTo>
                  <a:lnTo>
                    <a:pt x="475" y="767"/>
                  </a:lnTo>
                  <a:lnTo>
                    <a:pt x="577" y="772"/>
                  </a:lnTo>
                  <a:lnTo>
                    <a:pt x="681" y="769"/>
                  </a:lnTo>
                  <a:lnTo>
                    <a:pt x="785" y="763"/>
                  </a:lnTo>
                  <a:lnTo>
                    <a:pt x="890" y="747"/>
                  </a:lnTo>
                  <a:lnTo>
                    <a:pt x="987" y="725"/>
                  </a:lnTo>
                  <a:lnTo>
                    <a:pt x="1078" y="696"/>
                  </a:lnTo>
                  <a:lnTo>
                    <a:pt x="1156" y="661"/>
                  </a:lnTo>
                  <a:lnTo>
                    <a:pt x="1220" y="614"/>
                  </a:lnTo>
                  <a:lnTo>
                    <a:pt x="1267" y="561"/>
                  </a:lnTo>
                  <a:lnTo>
                    <a:pt x="1293" y="499"/>
                  </a:lnTo>
                  <a:lnTo>
                    <a:pt x="1295" y="428"/>
                  </a:lnTo>
                  <a:lnTo>
                    <a:pt x="1273" y="346"/>
                  </a:lnTo>
                  <a:lnTo>
                    <a:pt x="1220" y="255"/>
                  </a:lnTo>
                  <a:lnTo>
                    <a:pt x="1136" y="153"/>
                  </a:lnTo>
                  <a:lnTo>
                    <a:pt x="1014" y="40"/>
                  </a:lnTo>
                  <a:lnTo>
                    <a:pt x="776" y="9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Freeform 73"/>
            <p:cNvSpPr/>
            <p:nvPr/>
          </p:nvSpPr>
          <p:spPr>
            <a:xfrm>
              <a:off x="3529440" y="1866960"/>
              <a:ext cx="1815480" cy="963000"/>
            </a:xfrm>
            <a:custGeom>
              <a:avLst/>
              <a:gdLst/>
              <a:ahLst/>
              <a:rect l="l" t="t" r="r" b="b"/>
              <a:pathLst>
                <a:path w="816" h="514">
                  <a:moveTo>
                    <a:pt x="402" y="0"/>
                  </a:moveTo>
                  <a:lnTo>
                    <a:pt x="397" y="0"/>
                  </a:lnTo>
                  <a:lnTo>
                    <a:pt x="382" y="0"/>
                  </a:lnTo>
                  <a:lnTo>
                    <a:pt x="357" y="2"/>
                  </a:lnTo>
                  <a:lnTo>
                    <a:pt x="326" y="4"/>
                  </a:lnTo>
                  <a:lnTo>
                    <a:pt x="291" y="9"/>
                  </a:lnTo>
                  <a:lnTo>
                    <a:pt x="251" y="15"/>
                  </a:lnTo>
                  <a:lnTo>
                    <a:pt x="211" y="24"/>
                  </a:lnTo>
                  <a:lnTo>
                    <a:pt x="169" y="33"/>
                  </a:lnTo>
                  <a:lnTo>
                    <a:pt x="129" y="46"/>
                  </a:lnTo>
                  <a:lnTo>
                    <a:pt x="91" y="62"/>
                  </a:lnTo>
                  <a:lnTo>
                    <a:pt x="58" y="80"/>
                  </a:lnTo>
                  <a:lnTo>
                    <a:pt x="31" y="102"/>
                  </a:lnTo>
                  <a:lnTo>
                    <a:pt x="11" y="128"/>
                  </a:lnTo>
                  <a:lnTo>
                    <a:pt x="0" y="157"/>
                  </a:lnTo>
                  <a:lnTo>
                    <a:pt x="0" y="193"/>
                  </a:lnTo>
                  <a:lnTo>
                    <a:pt x="11" y="230"/>
                  </a:lnTo>
                  <a:lnTo>
                    <a:pt x="38" y="270"/>
                  </a:lnTo>
                  <a:lnTo>
                    <a:pt x="78" y="313"/>
                  </a:lnTo>
                  <a:lnTo>
                    <a:pt x="131" y="350"/>
                  </a:lnTo>
                  <a:lnTo>
                    <a:pt x="193" y="388"/>
                  </a:lnTo>
                  <a:lnTo>
                    <a:pt x="262" y="423"/>
                  </a:lnTo>
                  <a:lnTo>
                    <a:pt x="337" y="452"/>
                  </a:lnTo>
                  <a:lnTo>
                    <a:pt x="413" y="479"/>
                  </a:lnTo>
                  <a:lnTo>
                    <a:pt x="488" y="497"/>
                  </a:lnTo>
                  <a:lnTo>
                    <a:pt x="564" y="510"/>
                  </a:lnTo>
                  <a:lnTo>
                    <a:pt x="630" y="514"/>
                  </a:lnTo>
                  <a:lnTo>
                    <a:pt x="692" y="510"/>
                  </a:lnTo>
                  <a:lnTo>
                    <a:pt x="743" y="497"/>
                  </a:lnTo>
                  <a:lnTo>
                    <a:pt x="783" y="470"/>
                  </a:lnTo>
                  <a:lnTo>
                    <a:pt x="808" y="432"/>
                  </a:lnTo>
                  <a:lnTo>
                    <a:pt x="816" y="383"/>
                  </a:lnTo>
                  <a:lnTo>
                    <a:pt x="805" y="319"/>
                  </a:lnTo>
                  <a:lnTo>
                    <a:pt x="783" y="253"/>
                  </a:lnTo>
                  <a:lnTo>
                    <a:pt x="757" y="197"/>
                  </a:lnTo>
                  <a:lnTo>
                    <a:pt x="730" y="151"/>
                  </a:lnTo>
                  <a:lnTo>
                    <a:pt x="701" y="113"/>
                  </a:lnTo>
                  <a:lnTo>
                    <a:pt x="672" y="82"/>
                  </a:lnTo>
                  <a:lnTo>
                    <a:pt x="641" y="57"/>
                  </a:lnTo>
                  <a:lnTo>
                    <a:pt x="612" y="40"/>
                  </a:lnTo>
                  <a:lnTo>
                    <a:pt x="581" y="26"/>
                  </a:lnTo>
                  <a:lnTo>
                    <a:pt x="552" y="15"/>
                  </a:lnTo>
                  <a:lnTo>
                    <a:pt x="524" y="11"/>
                  </a:lnTo>
                  <a:lnTo>
                    <a:pt x="497" y="6"/>
                  </a:lnTo>
                  <a:lnTo>
                    <a:pt x="473" y="4"/>
                  </a:lnTo>
                  <a:lnTo>
                    <a:pt x="450" y="4"/>
                  </a:lnTo>
                  <a:lnTo>
                    <a:pt x="431" y="4"/>
                  </a:lnTo>
                  <a:lnTo>
                    <a:pt x="415" y="2"/>
                  </a:lnTo>
                  <a:lnTo>
                    <a:pt x="402" y="0"/>
                  </a:lnTo>
                  <a:close/>
                </a:path>
              </a:pathLst>
            </a:custGeom>
            <a:solidFill>
              <a:srgbClr val="ffd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Freeform 80"/>
            <p:cNvSpPr/>
            <p:nvPr/>
          </p:nvSpPr>
          <p:spPr>
            <a:xfrm>
              <a:off x="4112280" y="4708800"/>
              <a:ext cx="157680" cy="507600"/>
            </a:xfrm>
            <a:custGeom>
              <a:avLst/>
              <a:gdLst/>
              <a:ahLst/>
              <a:rect l="l" t="t" r="r" b="b"/>
              <a:pathLst>
                <a:path w="71" h="271">
                  <a:moveTo>
                    <a:pt x="42" y="271"/>
                  </a:moveTo>
                  <a:lnTo>
                    <a:pt x="40" y="262"/>
                  </a:lnTo>
                  <a:lnTo>
                    <a:pt x="38" y="237"/>
                  </a:lnTo>
                  <a:lnTo>
                    <a:pt x="33" y="202"/>
                  </a:lnTo>
                  <a:lnTo>
                    <a:pt x="31" y="157"/>
                  </a:lnTo>
                  <a:lnTo>
                    <a:pt x="31" y="111"/>
                  </a:lnTo>
                  <a:lnTo>
                    <a:pt x="38" y="66"/>
                  </a:lnTo>
                  <a:lnTo>
                    <a:pt x="51" y="29"/>
                  </a:lnTo>
                  <a:lnTo>
                    <a:pt x="71" y="0"/>
                  </a:lnTo>
                  <a:lnTo>
                    <a:pt x="64" y="0"/>
                  </a:lnTo>
                  <a:lnTo>
                    <a:pt x="51" y="4"/>
                  </a:lnTo>
                  <a:lnTo>
                    <a:pt x="33" y="15"/>
                  </a:lnTo>
                  <a:lnTo>
                    <a:pt x="15" y="38"/>
                  </a:lnTo>
                  <a:lnTo>
                    <a:pt x="4" y="71"/>
                  </a:lnTo>
                  <a:lnTo>
                    <a:pt x="0" y="117"/>
                  </a:lnTo>
                  <a:lnTo>
                    <a:pt x="11" y="184"/>
                  </a:lnTo>
                  <a:lnTo>
                    <a:pt x="42" y="27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Freeform 81"/>
            <p:cNvSpPr/>
            <p:nvPr/>
          </p:nvSpPr>
          <p:spPr>
            <a:xfrm>
              <a:off x="4626360" y="4708800"/>
              <a:ext cx="162360" cy="519120"/>
            </a:xfrm>
            <a:custGeom>
              <a:avLst/>
              <a:gdLst/>
              <a:ahLst/>
              <a:rect l="l" t="t" r="r" b="b"/>
              <a:pathLst>
                <a:path w="73" h="277">
                  <a:moveTo>
                    <a:pt x="0" y="0"/>
                  </a:moveTo>
                  <a:lnTo>
                    <a:pt x="6" y="0"/>
                  </a:lnTo>
                  <a:lnTo>
                    <a:pt x="22" y="0"/>
                  </a:lnTo>
                  <a:lnTo>
                    <a:pt x="42" y="7"/>
                  </a:lnTo>
                  <a:lnTo>
                    <a:pt x="62" y="24"/>
                  </a:lnTo>
                  <a:lnTo>
                    <a:pt x="73" y="55"/>
                  </a:lnTo>
                  <a:lnTo>
                    <a:pt x="73" y="104"/>
                  </a:lnTo>
                  <a:lnTo>
                    <a:pt x="55" y="177"/>
                  </a:lnTo>
                  <a:lnTo>
                    <a:pt x="15" y="277"/>
                  </a:lnTo>
                  <a:lnTo>
                    <a:pt x="17" y="266"/>
                  </a:lnTo>
                  <a:lnTo>
                    <a:pt x="26" y="237"/>
                  </a:lnTo>
                  <a:lnTo>
                    <a:pt x="35" y="195"/>
                  </a:lnTo>
                  <a:lnTo>
                    <a:pt x="42" y="146"/>
                  </a:lnTo>
                  <a:lnTo>
                    <a:pt x="46" y="98"/>
                  </a:lnTo>
                  <a:lnTo>
                    <a:pt x="42" y="53"/>
                  </a:lnTo>
                  <a:lnTo>
                    <a:pt x="26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Freeform 82"/>
            <p:cNvSpPr/>
            <p:nvPr/>
          </p:nvSpPr>
          <p:spPr>
            <a:xfrm>
              <a:off x="4610880" y="4218120"/>
              <a:ext cx="117360" cy="432360"/>
            </a:xfrm>
            <a:custGeom>
              <a:avLst/>
              <a:gdLst/>
              <a:ahLst/>
              <a:rect l="l" t="t" r="r" b="b"/>
              <a:pathLst>
                <a:path w="53" h="231">
                  <a:moveTo>
                    <a:pt x="0" y="231"/>
                  </a:moveTo>
                  <a:lnTo>
                    <a:pt x="4" y="222"/>
                  </a:lnTo>
                  <a:lnTo>
                    <a:pt x="18" y="198"/>
                  </a:lnTo>
                  <a:lnTo>
                    <a:pt x="31" y="162"/>
                  </a:lnTo>
                  <a:lnTo>
                    <a:pt x="47" y="122"/>
                  </a:lnTo>
                  <a:lnTo>
                    <a:pt x="53" y="80"/>
                  </a:lnTo>
                  <a:lnTo>
                    <a:pt x="53" y="42"/>
                  </a:lnTo>
                  <a:lnTo>
                    <a:pt x="40" y="13"/>
                  </a:lnTo>
                  <a:lnTo>
                    <a:pt x="7" y="0"/>
                  </a:lnTo>
                  <a:lnTo>
                    <a:pt x="9" y="5"/>
                  </a:lnTo>
                  <a:lnTo>
                    <a:pt x="15" y="16"/>
                  </a:lnTo>
                  <a:lnTo>
                    <a:pt x="24" y="36"/>
                  </a:lnTo>
                  <a:lnTo>
                    <a:pt x="33" y="60"/>
                  </a:lnTo>
                  <a:lnTo>
                    <a:pt x="35" y="93"/>
                  </a:lnTo>
                  <a:lnTo>
                    <a:pt x="33" y="133"/>
                  </a:lnTo>
                  <a:lnTo>
                    <a:pt x="22" y="180"/>
                  </a:lnTo>
                  <a:lnTo>
                    <a:pt x="0" y="23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Freeform 83"/>
            <p:cNvSpPr/>
            <p:nvPr/>
          </p:nvSpPr>
          <p:spPr>
            <a:xfrm>
              <a:off x="4165920" y="4218120"/>
              <a:ext cx="124560" cy="432360"/>
            </a:xfrm>
            <a:custGeom>
              <a:avLst/>
              <a:gdLst/>
              <a:ahLst/>
              <a:rect l="l" t="t" r="r" b="b"/>
              <a:pathLst>
                <a:path w="56" h="231">
                  <a:moveTo>
                    <a:pt x="56" y="231"/>
                  </a:moveTo>
                  <a:lnTo>
                    <a:pt x="51" y="222"/>
                  </a:lnTo>
                  <a:lnTo>
                    <a:pt x="38" y="198"/>
                  </a:lnTo>
                  <a:lnTo>
                    <a:pt x="25" y="162"/>
                  </a:lnTo>
                  <a:lnTo>
                    <a:pt x="9" y="122"/>
                  </a:lnTo>
                  <a:lnTo>
                    <a:pt x="0" y="80"/>
                  </a:lnTo>
                  <a:lnTo>
                    <a:pt x="3" y="42"/>
                  </a:lnTo>
                  <a:lnTo>
                    <a:pt x="16" y="13"/>
                  </a:lnTo>
                  <a:lnTo>
                    <a:pt x="47" y="0"/>
                  </a:lnTo>
                  <a:lnTo>
                    <a:pt x="45" y="5"/>
                  </a:lnTo>
                  <a:lnTo>
                    <a:pt x="38" y="16"/>
                  </a:lnTo>
                  <a:lnTo>
                    <a:pt x="29" y="36"/>
                  </a:lnTo>
                  <a:lnTo>
                    <a:pt x="23" y="60"/>
                  </a:lnTo>
                  <a:lnTo>
                    <a:pt x="18" y="93"/>
                  </a:lnTo>
                  <a:lnTo>
                    <a:pt x="23" y="133"/>
                  </a:lnTo>
                  <a:lnTo>
                    <a:pt x="34" y="180"/>
                  </a:lnTo>
                  <a:lnTo>
                    <a:pt x="56" y="23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Freeform 84"/>
            <p:cNvSpPr/>
            <p:nvPr/>
          </p:nvSpPr>
          <p:spPr>
            <a:xfrm>
              <a:off x="4644360" y="2457360"/>
              <a:ext cx="306720" cy="1702440"/>
            </a:xfrm>
            <a:custGeom>
              <a:avLst/>
              <a:gdLst/>
              <a:ahLst/>
              <a:rect l="l" t="t" r="r" b="b"/>
              <a:pathLst>
                <a:path w="138" h="909">
                  <a:moveTo>
                    <a:pt x="0" y="909"/>
                  </a:moveTo>
                  <a:lnTo>
                    <a:pt x="7" y="876"/>
                  </a:lnTo>
                  <a:lnTo>
                    <a:pt x="25" y="785"/>
                  </a:lnTo>
                  <a:lnTo>
                    <a:pt x="47" y="656"/>
                  </a:lnTo>
                  <a:lnTo>
                    <a:pt x="76" y="503"/>
                  </a:lnTo>
                  <a:lnTo>
                    <a:pt x="100" y="346"/>
                  </a:lnTo>
                  <a:lnTo>
                    <a:pt x="122" y="197"/>
                  </a:lnTo>
                  <a:lnTo>
                    <a:pt x="136" y="77"/>
                  </a:lnTo>
                  <a:lnTo>
                    <a:pt x="138" y="0"/>
                  </a:lnTo>
                  <a:lnTo>
                    <a:pt x="134" y="24"/>
                  </a:lnTo>
                  <a:lnTo>
                    <a:pt x="118" y="91"/>
                  </a:lnTo>
                  <a:lnTo>
                    <a:pt x="98" y="190"/>
                  </a:lnTo>
                  <a:lnTo>
                    <a:pt x="76" y="317"/>
                  </a:lnTo>
                  <a:lnTo>
                    <a:pt x="51" y="461"/>
                  </a:lnTo>
                  <a:lnTo>
                    <a:pt x="29" y="614"/>
                  </a:lnTo>
                  <a:lnTo>
                    <a:pt x="12" y="765"/>
                  </a:lnTo>
                  <a:lnTo>
                    <a:pt x="0" y="909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Freeform 85"/>
            <p:cNvSpPr/>
            <p:nvPr/>
          </p:nvSpPr>
          <p:spPr>
            <a:xfrm>
              <a:off x="3978720" y="2457360"/>
              <a:ext cx="311760" cy="1702440"/>
            </a:xfrm>
            <a:custGeom>
              <a:avLst/>
              <a:gdLst/>
              <a:ahLst/>
              <a:rect l="l" t="t" r="r" b="b"/>
              <a:pathLst>
                <a:path w="140" h="909">
                  <a:moveTo>
                    <a:pt x="140" y="909"/>
                  </a:moveTo>
                  <a:lnTo>
                    <a:pt x="133" y="876"/>
                  </a:lnTo>
                  <a:lnTo>
                    <a:pt x="115" y="785"/>
                  </a:lnTo>
                  <a:lnTo>
                    <a:pt x="91" y="656"/>
                  </a:lnTo>
                  <a:lnTo>
                    <a:pt x="64" y="503"/>
                  </a:lnTo>
                  <a:lnTo>
                    <a:pt x="38" y="346"/>
                  </a:lnTo>
                  <a:lnTo>
                    <a:pt x="16" y="197"/>
                  </a:lnTo>
                  <a:lnTo>
                    <a:pt x="2" y="77"/>
                  </a:lnTo>
                  <a:lnTo>
                    <a:pt x="0" y="0"/>
                  </a:lnTo>
                  <a:lnTo>
                    <a:pt x="4" y="24"/>
                  </a:lnTo>
                  <a:lnTo>
                    <a:pt x="20" y="91"/>
                  </a:lnTo>
                  <a:lnTo>
                    <a:pt x="40" y="190"/>
                  </a:lnTo>
                  <a:lnTo>
                    <a:pt x="64" y="317"/>
                  </a:lnTo>
                  <a:lnTo>
                    <a:pt x="89" y="461"/>
                  </a:lnTo>
                  <a:lnTo>
                    <a:pt x="111" y="614"/>
                  </a:lnTo>
                  <a:lnTo>
                    <a:pt x="129" y="765"/>
                  </a:lnTo>
                  <a:lnTo>
                    <a:pt x="140" y="909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Freeform 86"/>
            <p:cNvSpPr/>
            <p:nvPr/>
          </p:nvSpPr>
          <p:spPr>
            <a:xfrm>
              <a:off x="4601880" y="1700280"/>
              <a:ext cx="956520" cy="464760"/>
            </a:xfrm>
            <a:custGeom>
              <a:avLst/>
              <a:gdLst/>
              <a:ahLst/>
              <a:rect l="l" t="t" r="r" b="b"/>
              <a:pathLst>
                <a:path w="430" h="248">
                  <a:moveTo>
                    <a:pt x="0" y="11"/>
                  </a:moveTo>
                  <a:lnTo>
                    <a:pt x="4" y="11"/>
                  </a:lnTo>
                  <a:lnTo>
                    <a:pt x="17" y="9"/>
                  </a:lnTo>
                  <a:lnTo>
                    <a:pt x="37" y="9"/>
                  </a:lnTo>
                  <a:lnTo>
                    <a:pt x="62" y="9"/>
                  </a:lnTo>
                  <a:lnTo>
                    <a:pt x="93" y="11"/>
                  </a:lnTo>
                  <a:lnTo>
                    <a:pt x="126" y="13"/>
                  </a:lnTo>
                  <a:lnTo>
                    <a:pt x="164" y="18"/>
                  </a:lnTo>
                  <a:lnTo>
                    <a:pt x="201" y="27"/>
                  </a:lnTo>
                  <a:lnTo>
                    <a:pt x="241" y="38"/>
                  </a:lnTo>
                  <a:lnTo>
                    <a:pt x="279" y="51"/>
                  </a:lnTo>
                  <a:lnTo>
                    <a:pt x="314" y="71"/>
                  </a:lnTo>
                  <a:lnTo>
                    <a:pt x="348" y="95"/>
                  </a:lnTo>
                  <a:lnTo>
                    <a:pt x="377" y="124"/>
                  </a:lnTo>
                  <a:lnTo>
                    <a:pt x="401" y="160"/>
                  </a:lnTo>
                  <a:lnTo>
                    <a:pt x="419" y="200"/>
                  </a:lnTo>
                  <a:lnTo>
                    <a:pt x="428" y="248"/>
                  </a:lnTo>
                  <a:lnTo>
                    <a:pt x="428" y="244"/>
                  </a:lnTo>
                  <a:lnTo>
                    <a:pt x="430" y="235"/>
                  </a:lnTo>
                  <a:lnTo>
                    <a:pt x="430" y="220"/>
                  </a:lnTo>
                  <a:lnTo>
                    <a:pt x="428" y="202"/>
                  </a:lnTo>
                  <a:lnTo>
                    <a:pt x="425" y="180"/>
                  </a:lnTo>
                  <a:lnTo>
                    <a:pt x="419" y="153"/>
                  </a:lnTo>
                  <a:lnTo>
                    <a:pt x="408" y="129"/>
                  </a:lnTo>
                  <a:lnTo>
                    <a:pt x="392" y="102"/>
                  </a:lnTo>
                  <a:lnTo>
                    <a:pt x="372" y="78"/>
                  </a:lnTo>
                  <a:lnTo>
                    <a:pt x="346" y="53"/>
                  </a:lnTo>
                  <a:lnTo>
                    <a:pt x="310" y="33"/>
                  </a:lnTo>
                  <a:lnTo>
                    <a:pt x="268" y="18"/>
                  </a:lnTo>
                  <a:lnTo>
                    <a:pt x="217" y="7"/>
                  </a:lnTo>
                  <a:lnTo>
                    <a:pt x="155" y="0"/>
                  </a:lnTo>
                  <a:lnTo>
                    <a:pt x="84" y="2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Freeform 87"/>
            <p:cNvSpPr/>
            <p:nvPr/>
          </p:nvSpPr>
          <p:spPr>
            <a:xfrm>
              <a:off x="3079800" y="2485440"/>
              <a:ext cx="809640" cy="561960"/>
            </a:xfrm>
            <a:custGeom>
              <a:avLst/>
              <a:gdLst/>
              <a:ahLst/>
              <a:rect l="l" t="t" r="r" b="b"/>
              <a:pathLst>
                <a:path w="364" h="300">
                  <a:moveTo>
                    <a:pt x="9" y="0"/>
                  </a:moveTo>
                  <a:lnTo>
                    <a:pt x="9" y="2"/>
                  </a:lnTo>
                  <a:lnTo>
                    <a:pt x="5" y="14"/>
                  </a:lnTo>
                  <a:lnTo>
                    <a:pt x="3" y="27"/>
                  </a:lnTo>
                  <a:lnTo>
                    <a:pt x="0" y="47"/>
                  </a:lnTo>
                  <a:lnTo>
                    <a:pt x="0" y="69"/>
                  </a:lnTo>
                  <a:lnTo>
                    <a:pt x="3" y="93"/>
                  </a:lnTo>
                  <a:lnTo>
                    <a:pt x="7" y="120"/>
                  </a:lnTo>
                  <a:lnTo>
                    <a:pt x="16" y="147"/>
                  </a:lnTo>
                  <a:lnTo>
                    <a:pt x="31" y="175"/>
                  </a:lnTo>
                  <a:lnTo>
                    <a:pt x="51" y="202"/>
                  </a:lnTo>
                  <a:lnTo>
                    <a:pt x="80" y="226"/>
                  </a:lnTo>
                  <a:lnTo>
                    <a:pt x="118" y="251"/>
                  </a:lnTo>
                  <a:lnTo>
                    <a:pt x="162" y="269"/>
                  </a:lnTo>
                  <a:lnTo>
                    <a:pt x="218" y="284"/>
                  </a:lnTo>
                  <a:lnTo>
                    <a:pt x="284" y="295"/>
                  </a:lnTo>
                  <a:lnTo>
                    <a:pt x="364" y="300"/>
                  </a:lnTo>
                  <a:lnTo>
                    <a:pt x="360" y="300"/>
                  </a:lnTo>
                  <a:lnTo>
                    <a:pt x="349" y="297"/>
                  </a:lnTo>
                  <a:lnTo>
                    <a:pt x="329" y="295"/>
                  </a:lnTo>
                  <a:lnTo>
                    <a:pt x="306" y="291"/>
                  </a:lnTo>
                  <a:lnTo>
                    <a:pt x="278" y="284"/>
                  </a:lnTo>
                  <a:lnTo>
                    <a:pt x="247" y="275"/>
                  </a:lnTo>
                  <a:lnTo>
                    <a:pt x="213" y="264"/>
                  </a:lnTo>
                  <a:lnTo>
                    <a:pt x="178" y="251"/>
                  </a:lnTo>
                  <a:lnTo>
                    <a:pt x="145" y="233"/>
                  </a:lnTo>
                  <a:lnTo>
                    <a:pt x="111" y="213"/>
                  </a:lnTo>
                  <a:lnTo>
                    <a:pt x="82" y="189"/>
                  </a:lnTo>
                  <a:lnTo>
                    <a:pt x="56" y="160"/>
                  </a:lnTo>
                  <a:lnTo>
                    <a:pt x="34" y="127"/>
                  </a:lnTo>
                  <a:lnTo>
                    <a:pt x="18" y="91"/>
                  </a:lnTo>
                  <a:lnTo>
                    <a:pt x="9" y="47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Freeform 94"/>
            <p:cNvSpPr/>
            <p:nvPr/>
          </p:nvSpPr>
          <p:spPr>
            <a:xfrm>
              <a:off x="4092120" y="5497920"/>
              <a:ext cx="843480" cy="100800"/>
            </a:xfrm>
            <a:custGeom>
              <a:avLst/>
              <a:gdLst/>
              <a:ahLst/>
              <a:rect l="l" t="t" r="r" b="b"/>
              <a:pathLst>
                <a:path w="379" h="54">
                  <a:moveTo>
                    <a:pt x="379" y="0"/>
                  </a:moveTo>
                  <a:lnTo>
                    <a:pt x="379" y="0"/>
                  </a:lnTo>
                  <a:lnTo>
                    <a:pt x="377" y="3"/>
                  </a:lnTo>
                  <a:lnTo>
                    <a:pt x="373" y="5"/>
                  </a:lnTo>
                  <a:lnTo>
                    <a:pt x="368" y="7"/>
                  </a:lnTo>
                  <a:lnTo>
                    <a:pt x="359" y="9"/>
                  </a:lnTo>
                  <a:lnTo>
                    <a:pt x="348" y="11"/>
                  </a:lnTo>
                  <a:lnTo>
                    <a:pt x="335" y="16"/>
                  </a:lnTo>
                  <a:lnTo>
                    <a:pt x="317" y="18"/>
                  </a:lnTo>
                  <a:lnTo>
                    <a:pt x="295" y="20"/>
                  </a:lnTo>
                  <a:lnTo>
                    <a:pt x="268" y="25"/>
                  </a:lnTo>
                  <a:lnTo>
                    <a:pt x="237" y="27"/>
                  </a:lnTo>
                  <a:lnTo>
                    <a:pt x="202" y="29"/>
                  </a:lnTo>
                  <a:lnTo>
                    <a:pt x="162" y="29"/>
                  </a:lnTo>
                  <a:lnTo>
                    <a:pt x="113" y="31"/>
                  </a:lnTo>
                  <a:lnTo>
                    <a:pt x="60" y="31"/>
                  </a:lnTo>
                  <a:lnTo>
                    <a:pt x="0" y="29"/>
                  </a:lnTo>
                  <a:lnTo>
                    <a:pt x="4" y="29"/>
                  </a:lnTo>
                  <a:lnTo>
                    <a:pt x="13" y="31"/>
                  </a:lnTo>
                  <a:lnTo>
                    <a:pt x="29" y="36"/>
                  </a:lnTo>
                  <a:lnTo>
                    <a:pt x="49" y="38"/>
                  </a:lnTo>
                  <a:lnTo>
                    <a:pt x="73" y="42"/>
                  </a:lnTo>
                  <a:lnTo>
                    <a:pt x="100" y="47"/>
                  </a:lnTo>
                  <a:lnTo>
                    <a:pt x="129" y="49"/>
                  </a:lnTo>
                  <a:lnTo>
                    <a:pt x="160" y="51"/>
                  </a:lnTo>
                  <a:lnTo>
                    <a:pt x="193" y="54"/>
                  </a:lnTo>
                  <a:lnTo>
                    <a:pt x="226" y="54"/>
                  </a:lnTo>
                  <a:lnTo>
                    <a:pt x="257" y="51"/>
                  </a:lnTo>
                  <a:lnTo>
                    <a:pt x="288" y="47"/>
                  </a:lnTo>
                  <a:lnTo>
                    <a:pt x="315" y="40"/>
                  </a:lnTo>
                  <a:lnTo>
                    <a:pt x="342" y="29"/>
                  </a:lnTo>
                  <a:lnTo>
                    <a:pt x="362" y="18"/>
                  </a:lnTo>
                  <a:lnTo>
                    <a:pt x="379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Freeform 95"/>
            <p:cNvSpPr/>
            <p:nvPr/>
          </p:nvSpPr>
          <p:spPr>
            <a:xfrm>
              <a:off x="4092120" y="5889240"/>
              <a:ext cx="843480" cy="99360"/>
            </a:xfrm>
            <a:custGeom>
              <a:avLst/>
              <a:gdLst/>
              <a:ahLst/>
              <a:rect l="l" t="t" r="r" b="b"/>
              <a:pathLst>
                <a:path w="379" h="53">
                  <a:moveTo>
                    <a:pt x="379" y="0"/>
                  </a:moveTo>
                  <a:lnTo>
                    <a:pt x="379" y="0"/>
                  </a:lnTo>
                  <a:lnTo>
                    <a:pt x="377" y="2"/>
                  </a:lnTo>
                  <a:lnTo>
                    <a:pt x="373" y="4"/>
                  </a:lnTo>
                  <a:lnTo>
                    <a:pt x="368" y="6"/>
                  </a:lnTo>
                  <a:lnTo>
                    <a:pt x="359" y="9"/>
                  </a:lnTo>
                  <a:lnTo>
                    <a:pt x="348" y="11"/>
                  </a:lnTo>
                  <a:lnTo>
                    <a:pt x="335" y="15"/>
                  </a:lnTo>
                  <a:lnTo>
                    <a:pt x="317" y="18"/>
                  </a:lnTo>
                  <a:lnTo>
                    <a:pt x="295" y="22"/>
                  </a:lnTo>
                  <a:lnTo>
                    <a:pt x="268" y="24"/>
                  </a:lnTo>
                  <a:lnTo>
                    <a:pt x="237" y="26"/>
                  </a:lnTo>
                  <a:lnTo>
                    <a:pt x="202" y="29"/>
                  </a:lnTo>
                  <a:lnTo>
                    <a:pt x="162" y="31"/>
                  </a:lnTo>
                  <a:lnTo>
                    <a:pt x="113" y="31"/>
                  </a:lnTo>
                  <a:lnTo>
                    <a:pt x="60" y="31"/>
                  </a:lnTo>
                  <a:lnTo>
                    <a:pt x="0" y="31"/>
                  </a:lnTo>
                  <a:lnTo>
                    <a:pt x="4" y="31"/>
                  </a:lnTo>
                  <a:lnTo>
                    <a:pt x="13" y="33"/>
                  </a:lnTo>
                  <a:lnTo>
                    <a:pt x="29" y="38"/>
                  </a:lnTo>
                  <a:lnTo>
                    <a:pt x="49" y="40"/>
                  </a:lnTo>
                  <a:lnTo>
                    <a:pt x="73" y="44"/>
                  </a:lnTo>
                  <a:lnTo>
                    <a:pt x="100" y="46"/>
                  </a:lnTo>
                  <a:lnTo>
                    <a:pt x="129" y="51"/>
                  </a:lnTo>
                  <a:lnTo>
                    <a:pt x="160" y="53"/>
                  </a:lnTo>
                  <a:lnTo>
                    <a:pt x="193" y="53"/>
                  </a:lnTo>
                  <a:lnTo>
                    <a:pt x="226" y="53"/>
                  </a:lnTo>
                  <a:lnTo>
                    <a:pt x="257" y="51"/>
                  </a:lnTo>
                  <a:lnTo>
                    <a:pt x="288" y="46"/>
                  </a:lnTo>
                  <a:lnTo>
                    <a:pt x="315" y="40"/>
                  </a:lnTo>
                  <a:lnTo>
                    <a:pt x="342" y="31"/>
                  </a:lnTo>
                  <a:lnTo>
                    <a:pt x="362" y="18"/>
                  </a:lnTo>
                  <a:lnTo>
                    <a:pt x="379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Freeform 96"/>
            <p:cNvSpPr/>
            <p:nvPr/>
          </p:nvSpPr>
          <p:spPr>
            <a:xfrm>
              <a:off x="4092120" y="6278760"/>
              <a:ext cx="843480" cy="100800"/>
            </a:xfrm>
            <a:custGeom>
              <a:avLst/>
              <a:gdLst/>
              <a:ahLst/>
              <a:rect l="l" t="t" r="r" b="b"/>
              <a:pathLst>
                <a:path w="379" h="54">
                  <a:moveTo>
                    <a:pt x="379" y="0"/>
                  </a:moveTo>
                  <a:lnTo>
                    <a:pt x="379" y="0"/>
                  </a:lnTo>
                  <a:lnTo>
                    <a:pt x="377" y="3"/>
                  </a:lnTo>
                  <a:lnTo>
                    <a:pt x="373" y="5"/>
                  </a:lnTo>
                  <a:lnTo>
                    <a:pt x="368" y="7"/>
                  </a:lnTo>
                  <a:lnTo>
                    <a:pt x="359" y="9"/>
                  </a:lnTo>
                  <a:lnTo>
                    <a:pt x="348" y="11"/>
                  </a:lnTo>
                  <a:lnTo>
                    <a:pt x="335" y="16"/>
                  </a:lnTo>
                  <a:lnTo>
                    <a:pt x="317" y="18"/>
                  </a:lnTo>
                  <a:lnTo>
                    <a:pt x="295" y="23"/>
                  </a:lnTo>
                  <a:lnTo>
                    <a:pt x="268" y="25"/>
                  </a:lnTo>
                  <a:lnTo>
                    <a:pt x="237" y="29"/>
                  </a:lnTo>
                  <a:lnTo>
                    <a:pt x="202" y="29"/>
                  </a:lnTo>
                  <a:lnTo>
                    <a:pt x="162" y="31"/>
                  </a:lnTo>
                  <a:lnTo>
                    <a:pt x="113" y="34"/>
                  </a:lnTo>
                  <a:lnTo>
                    <a:pt x="60" y="34"/>
                  </a:lnTo>
                  <a:lnTo>
                    <a:pt x="0" y="31"/>
                  </a:lnTo>
                  <a:lnTo>
                    <a:pt x="4" y="31"/>
                  </a:lnTo>
                  <a:lnTo>
                    <a:pt x="13" y="34"/>
                  </a:lnTo>
                  <a:lnTo>
                    <a:pt x="29" y="38"/>
                  </a:lnTo>
                  <a:lnTo>
                    <a:pt x="49" y="40"/>
                  </a:lnTo>
                  <a:lnTo>
                    <a:pt x="73" y="45"/>
                  </a:lnTo>
                  <a:lnTo>
                    <a:pt x="100" y="47"/>
                  </a:lnTo>
                  <a:lnTo>
                    <a:pt x="129" y="51"/>
                  </a:lnTo>
                  <a:lnTo>
                    <a:pt x="160" y="54"/>
                  </a:lnTo>
                  <a:lnTo>
                    <a:pt x="193" y="54"/>
                  </a:lnTo>
                  <a:lnTo>
                    <a:pt x="226" y="54"/>
                  </a:lnTo>
                  <a:lnTo>
                    <a:pt x="257" y="51"/>
                  </a:lnTo>
                  <a:lnTo>
                    <a:pt x="288" y="47"/>
                  </a:lnTo>
                  <a:lnTo>
                    <a:pt x="315" y="40"/>
                  </a:lnTo>
                  <a:lnTo>
                    <a:pt x="342" y="31"/>
                  </a:lnTo>
                  <a:lnTo>
                    <a:pt x="362" y="18"/>
                  </a:lnTo>
                  <a:lnTo>
                    <a:pt x="379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Freeform 100"/>
            <p:cNvSpPr/>
            <p:nvPr/>
          </p:nvSpPr>
          <p:spPr>
            <a:xfrm>
              <a:off x="4388400" y="4268880"/>
              <a:ext cx="197640" cy="265680"/>
            </a:xfrm>
            <a:custGeom>
              <a:avLst/>
              <a:gdLst/>
              <a:ahLst/>
              <a:rect l="l" t="t" r="r" b="b"/>
              <a:pathLst>
                <a:path w="89" h="142">
                  <a:moveTo>
                    <a:pt x="0" y="0"/>
                  </a:moveTo>
                  <a:lnTo>
                    <a:pt x="2" y="0"/>
                  </a:lnTo>
                  <a:lnTo>
                    <a:pt x="11" y="4"/>
                  </a:lnTo>
                  <a:lnTo>
                    <a:pt x="22" y="11"/>
                  </a:lnTo>
                  <a:lnTo>
                    <a:pt x="36" y="22"/>
                  </a:lnTo>
                  <a:lnTo>
                    <a:pt x="49" y="40"/>
                  </a:lnTo>
                  <a:lnTo>
                    <a:pt x="58" y="64"/>
                  </a:lnTo>
                  <a:lnTo>
                    <a:pt x="62" y="97"/>
                  </a:lnTo>
                  <a:lnTo>
                    <a:pt x="60" y="142"/>
                  </a:lnTo>
                  <a:lnTo>
                    <a:pt x="64" y="135"/>
                  </a:lnTo>
                  <a:lnTo>
                    <a:pt x="73" y="120"/>
                  </a:lnTo>
                  <a:lnTo>
                    <a:pt x="82" y="95"/>
                  </a:lnTo>
                  <a:lnTo>
                    <a:pt x="89" y="69"/>
                  </a:lnTo>
                  <a:lnTo>
                    <a:pt x="87" y="42"/>
                  </a:lnTo>
                  <a:lnTo>
                    <a:pt x="76" y="20"/>
                  </a:lnTo>
                  <a:lnTo>
                    <a:pt x="47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Freeform 101"/>
            <p:cNvSpPr/>
            <p:nvPr/>
          </p:nvSpPr>
          <p:spPr>
            <a:xfrm>
              <a:off x="4452840" y="4729680"/>
              <a:ext cx="197640" cy="265680"/>
            </a:xfrm>
            <a:custGeom>
              <a:avLst/>
              <a:gdLst/>
              <a:ahLst/>
              <a:rect l="l" t="t" r="r" b="b"/>
              <a:pathLst>
                <a:path w="89" h="142">
                  <a:moveTo>
                    <a:pt x="0" y="0"/>
                  </a:moveTo>
                  <a:lnTo>
                    <a:pt x="2" y="0"/>
                  </a:lnTo>
                  <a:lnTo>
                    <a:pt x="11" y="4"/>
                  </a:lnTo>
                  <a:lnTo>
                    <a:pt x="22" y="11"/>
                  </a:lnTo>
                  <a:lnTo>
                    <a:pt x="35" y="22"/>
                  </a:lnTo>
                  <a:lnTo>
                    <a:pt x="49" y="40"/>
                  </a:lnTo>
                  <a:lnTo>
                    <a:pt x="58" y="64"/>
                  </a:lnTo>
                  <a:lnTo>
                    <a:pt x="62" y="98"/>
                  </a:lnTo>
                  <a:lnTo>
                    <a:pt x="60" y="142"/>
                  </a:lnTo>
                  <a:lnTo>
                    <a:pt x="64" y="135"/>
                  </a:lnTo>
                  <a:lnTo>
                    <a:pt x="73" y="120"/>
                  </a:lnTo>
                  <a:lnTo>
                    <a:pt x="82" y="95"/>
                  </a:lnTo>
                  <a:lnTo>
                    <a:pt x="89" y="69"/>
                  </a:lnTo>
                  <a:lnTo>
                    <a:pt x="86" y="42"/>
                  </a:lnTo>
                  <a:lnTo>
                    <a:pt x="75" y="20"/>
                  </a:lnTo>
                  <a:lnTo>
                    <a:pt x="47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Freeform 102"/>
            <p:cNvSpPr/>
            <p:nvPr/>
          </p:nvSpPr>
          <p:spPr>
            <a:xfrm>
              <a:off x="3929760" y="5252400"/>
              <a:ext cx="360720" cy="1292400"/>
            </a:xfrm>
            <a:custGeom>
              <a:avLst/>
              <a:gdLst/>
              <a:ahLst/>
              <a:rect l="l" t="t" r="r" b="b"/>
              <a:pathLst>
                <a:path w="162" h="690">
                  <a:moveTo>
                    <a:pt x="104" y="16"/>
                  </a:moveTo>
                  <a:lnTo>
                    <a:pt x="100" y="18"/>
                  </a:lnTo>
                  <a:lnTo>
                    <a:pt x="86" y="25"/>
                  </a:lnTo>
                  <a:lnTo>
                    <a:pt x="69" y="36"/>
                  </a:lnTo>
                  <a:lnTo>
                    <a:pt x="53" y="51"/>
                  </a:lnTo>
                  <a:lnTo>
                    <a:pt x="42" y="71"/>
                  </a:lnTo>
                  <a:lnTo>
                    <a:pt x="38" y="96"/>
                  </a:lnTo>
                  <a:lnTo>
                    <a:pt x="49" y="125"/>
                  </a:lnTo>
                  <a:lnTo>
                    <a:pt x="73" y="160"/>
                  </a:lnTo>
                  <a:lnTo>
                    <a:pt x="66" y="165"/>
                  </a:lnTo>
                  <a:lnTo>
                    <a:pt x="53" y="180"/>
                  </a:lnTo>
                  <a:lnTo>
                    <a:pt x="35" y="200"/>
                  </a:lnTo>
                  <a:lnTo>
                    <a:pt x="20" y="227"/>
                  </a:lnTo>
                  <a:lnTo>
                    <a:pt x="9" y="258"/>
                  </a:lnTo>
                  <a:lnTo>
                    <a:pt x="7" y="291"/>
                  </a:lnTo>
                  <a:lnTo>
                    <a:pt x="22" y="324"/>
                  </a:lnTo>
                  <a:lnTo>
                    <a:pt x="55" y="358"/>
                  </a:lnTo>
                  <a:lnTo>
                    <a:pt x="51" y="360"/>
                  </a:lnTo>
                  <a:lnTo>
                    <a:pt x="40" y="371"/>
                  </a:lnTo>
                  <a:lnTo>
                    <a:pt x="26" y="386"/>
                  </a:lnTo>
                  <a:lnTo>
                    <a:pt x="13" y="409"/>
                  </a:lnTo>
                  <a:lnTo>
                    <a:pt x="2" y="437"/>
                  </a:lnTo>
                  <a:lnTo>
                    <a:pt x="0" y="471"/>
                  </a:lnTo>
                  <a:lnTo>
                    <a:pt x="7" y="508"/>
                  </a:lnTo>
                  <a:lnTo>
                    <a:pt x="29" y="553"/>
                  </a:lnTo>
                  <a:lnTo>
                    <a:pt x="29" y="566"/>
                  </a:lnTo>
                  <a:lnTo>
                    <a:pt x="33" y="602"/>
                  </a:lnTo>
                  <a:lnTo>
                    <a:pt x="44" y="646"/>
                  </a:lnTo>
                  <a:lnTo>
                    <a:pt x="66" y="690"/>
                  </a:lnTo>
                  <a:lnTo>
                    <a:pt x="66" y="677"/>
                  </a:lnTo>
                  <a:lnTo>
                    <a:pt x="66" y="644"/>
                  </a:lnTo>
                  <a:lnTo>
                    <a:pt x="69" y="608"/>
                  </a:lnTo>
                  <a:lnTo>
                    <a:pt x="73" y="579"/>
                  </a:lnTo>
                  <a:lnTo>
                    <a:pt x="71" y="571"/>
                  </a:lnTo>
                  <a:lnTo>
                    <a:pt x="69" y="548"/>
                  </a:lnTo>
                  <a:lnTo>
                    <a:pt x="66" y="517"/>
                  </a:lnTo>
                  <a:lnTo>
                    <a:pt x="66" y="480"/>
                  </a:lnTo>
                  <a:lnTo>
                    <a:pt x="71" y="440"/>
                  </a:lnTo>
                  <a:lnTo>
                    <a:pt x="80" y="404"/>
                  </a:lnTo>
                  <a:lnTo>
                    <a:pt x="93" y="373"/>
                  </a:lnTo>
                  <a:lnTo>
                    <a:pt x="117" y="351"/>
                  </a:lnTo>
                  <a:lnTo>
                    <a:pt x="115" y="346"/>
                  </a:lnTo>
                  <a:lnTo>
                    <a:pt x="106" y="333"/>
                  </a:lnTo>
                  <a:lnTo>
                    <a:pt x="97" y="315"/>
                  </a:lnTo>
                  <a:lnTo>
                    <a:pt x="89" y="291"/>
                  </a:lnTo>
                  <a:lnTo>
                    <a:pt x="84" y="264"/>
                  </a:lnTo>
                  <a:lnTo>
                    <a:pt x="84" y="236"/>
                  </a:lnTo>
                  <a:lnTo>
                    <a:pt x="93" y="207"/>
                  </a:lnTo>
                  <a:lnTo>
                    <a:pt x="113" y="180"/>
                  </a:lnTo>
                  <a:lnTo>
                    <a:pt x="115" y="160"/>
                  </a:lnTo>
                  <a:lnTo>
                    <a:pt x="124" y="116"/>
                  </a:lnTo>
                  <a:lnTo>
                    <a:pt x="140" y="65"/>
                  </a:lnTo>
                  <a:lnTo>
                    <a:pt x="162" y="27"/>
                  </a:lnTo>
                  <a:lnTo>
                    <a:pt x="157" y="20"/>
                  </a:lnTo>
                  <a:lnTo>
                    <a:pt x="146" y="5"/>
                  </a:lnTo>
                  <a:lnTo>
                    <a:pt x="129" y="0"/>
                  </a:lnTo>
                  <a:lnTo>
                    <a:pt x="104" y="16"/>
                  </a:lnTo>
                  <a:close/>
                </a:path>
              </a:pathLst>
            </a:custGeom>
            <a:solidFill>
              <a:srgbClr val="ffd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Freeform 103"/>
            <p:cNvSpPr/>
            <p:nvPr/>
          </p:nvSpPr>
          <p:spPr>
            <a:xfrm>
              <a:off x="4615560" y="5227920"/>
              <a:ext cx="355680" cy="1292040"/>
            </a:xfrm>
            <a:custGeom>
              <a:avLst/>
              <a:gdLst/>
              <a:ahLst/>
              <a:rect l="l" t="t" r="r" b="b"/>
              <a:pathLst>
                <a:path w="160" h="690">
                  <a:moveTo>
                    <a:pt x="56" y="16"/>
                  </a:moveTo>
                  <a:lnTo>
                    <a:pt x="60" y="18"/>
                  </a:lnTo>
                  <a:lnTo>
                    <a:pt x="73" y="25"/>
                  </a:lnTo>
                  <a:lnTo>
                    <a:pt x="91" y="36"/>
                  </a:lnTo>
                  <a:lnTo>
                    <a:pt x="107" y="51"/>
                  </a:lnTo>
                  <a:lnTo>
                    <a:pt x="118" y="71"/>
                  </a:lnTo>
                  <a:lnTo>
                    <a:pt x="122" y="96"/>
                  </a:lnTo>
                  <a:lnTo>
                    <a:pt x="113" y="124"/>
                  </a:lnTo>
                  <a:lnTo>
                    <a:pt x="89" y="160"/>
                  </a:lnTo>
                  <a:lnTo>
                    <a:pt x="96" y="164"/>
                  </a:lnTo>
                  <a:lnTo>
                    <a:pt x="109" y="180"/>
                  </a:lnTo>
                  <a:lnTo>
                    <a:pt x="127" y="200"/>
                  </a:lnTo>
                  <a:lnTo>
                    <a:pt x="142" y="226"/>
                  </a:lnTo>
                  <a:lnTo>
                    <a:pt x="153" y="257"/>
                  </a:lnTo>
                  <a:lnTo>
                    <a:pt x="155" y="291"/>
                  </a:lnTo>
                  <a:lnTo>
                    <a:pt x="140" y="324"/>
                  </a:lnTo>
                  <a:lnTo>
                    <a:pt x="107" y="357"/>
                  </a:lnTo>
                  <a:lnTo>
                    <a:pt x="111" y="359"/>
                  </a:lnTo>
                  <a:lnTo>
                    <a:pt x="122" y="371"/>
                  </a:lnTo>
                  <a:lnTo>
                    <a:pt x="135" y="386"/>
                  </a:lnTo>
                  <a:lnTo>
                    <a:pt x="149" y="408"/>
                  </a:lnTo>
                  <a:lnTo>
                    <a:pt x="158" y="437"/>
                  </a:lnTo>
                  <a:lnTo>
                    <a:pt x="160" y="470"/>
                  </a:lnTo>
                  <a:lnTo>
                    <a:pt x="153" y="508"/>
                  </a:lnTo>
                  <a:lnTo>
                    <a:pt x="131" y="552"/>
                  </a:lnTo>
                  <a:lnTo>
                    <a:pt x="131" y="566"/>
                  </a:lnTo>
                  <a:lnTo>
                    <a:pt x="127" y="601"/>
                  </a:lnTo>
                  <a:lnTo>
                    <a:pt x="118" y="646"/>
                  </a:lnTo>
                  <a:lnTo>
                    <a:pt x="96" y="690"/>
                  </a:lnTo>
                  <a:lnTo>
                    <a:pt x="96" y="677"/>
                  </a:lnTo>
                  <a:lnTo>
                    <a:pt x="96" y="643"/>
                  </a:lnTo>
                  <a:lnTo>
                    <a:pt x="93" y="608"/>
                  </a:lnTo>
                  <a:lnTo>
                    <a:pt x="89" y="579"/>
                  </a:lnTo>
                  <a:lnTo>
                    <a:pt x="89" y="570"/>
                  </a:lnTo>
                  <a:lnTo>
                    <a:pt x="93" y="548"/>
                  </a:lnTo>
                  <a:lnTo>
                    <a:pt x="93" y="517"/>
                  </a:lnTo>
                  <a:lnTo>
                    <a:pt x="93" y="479"/>
                  </a:lnTo>
                  <a:lnTo>
                    <a:pt x="91" y="439"/>
                  </a:lnTo>
                  <a:lnTo>
                    <a:pt x="82" y="404"/>
                  </a:lnTo>
                  <a:lnTo>
                    <a:pt x="67" y="373"/>
                  </a:lnTo>
                  <a:lnTo>
                    <a:pt x="45" y="351"/>
                  </a:lnTo>
                  <a:lnTo>
                    <a:pt x="47" y="346"/>
                  </a:lnTo>
                  <a:lnTo>
                    <a:pt x="56" y="333"/>
                  </a:lnTo>
                  <a:lnTo>
                    <a:pt x="64" y="315"/>
                  </a:lnTo>
                  <a:lnTo>
                    <a:pt x="73" y="291"/>
                  </a:lnTo>
                  <a:lnTo>
                    <a:pt x="78" y="264"/>
                  </a:lnTo>
                  <a:lnTo>
                    <a:pt x="78" y="235"/>
                  </a:lnTo>
                  <a:lnTo>
                    <a:pt x="69" y="206"/>
                  </a:lnTo>
                  <a:lnTo>
                    <a:pt x="49" y="180"/>
                  </a:lnTo>
                  <a:lnTo>
                    <a:pt x="47" y="160"/>
                  </a:lnTo>
                  <a:lnTo>
                    <a:pt x="38" y="116"/>
                  </a:lnTo>
                  <a:lnTo>
                    <a:pt x="22" y="64"/>
                  </a:lnTo>
                  <a:lnTo>
                    <a:pt x="0" y="27"/>
                  </a:lnTo>
                  <a:lnTo>
                    <a:pt x="5" y="20"/>
                  </a:lnTo>
                  <a:lnTo>
                    <a:pt x="16" y="5"/>
                  </a:lnTo>
                  <a:lnTo>
                    <a:pt x="31" y="0"/>
                  </a:lnTo>
                  <a:lnTo>
                    <a:pt x="56" y="16"/>
                  </a:lnTo>
                  <a:close/>
                </a:path>
              </a:pathLst>
            </a:custGeom>
            <a:solidFill>
              <a:srgbClr val="ffd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Freeform 104"/>
            <p:cNvSpPr/>
            <p:nvPr/>
          </p:nvSpPr>
          <p:spPr>
            <a:xfrm>
              <a:off x="3925440" y="2044800"/>
              <a:ext cx="1094400" cy="470160"/>
            </a:xfrm>
            <a:custGeom>
              <a:avLst/>
              <a:gdLst/>
              <a:ahLst/>
              <a:rect l="l" t="t" r="r" b="b"/>
              <a:pathLst>
                <a:path w="492" h="251">
                  <a:moveTo>
                    <a:pt x="0" y="166"/>
                  </a:moveTo>
                  <a:lnTo>
                    <a:pt x="2" y="158"/>
                  </a:lnTo>
                  <a:lnTo>
                    <a:pt x="11" y="138"/>
                  </a:lnTo>
                  <a:lnTo>
                    <a:pt x="26" y="113"/>
                  </a:lnTo>
                  <a:lnTo>
                    <a:pt x="44" y="87"/>
                  </a:lnTo>
                  <a:lnTo>
                    <a:pt x="64" y="69"/>
                  </a:lnTo>
                  <a:lnTo>
                    <a:pt x="88" y="62"/>
                  </a:lnTo>
                  <a:lnTo>
                    <a:pt x="113" y="76"/>
                  </a:lnTo>
                  <a:lnTo>
                    <a:pt x="137" y="113"/>
                  </a:lnTo>
                  <a:lnTo>
                    <a:pt x="159" y="162"/>
                  </a:lnTo>
                  <a:lnTo>
                    <a:pt x="177" y="200"/>
                  </a:lnTo>
                  <a:lnTo>
                    <a:pt x="193" y="229"/>
                  </a:lnTo>
                  <a:lnTo>
                    <a:pt x="206" y="246"/>
                  </a:lnTo>
                  <a:lnTo>
                    <a:pt x="217" y="251"/>
                  </a:lnTo>
                  <a:lnTo>
                    <a:pt x="228" y="244"/>
                  </a:lnTo>
                  <a:lnTo>
                    <a:pt x="244" y="220"/>
                  </a:lnTo>
                  <a:lnTo>
                    <a:pt x="261" y="182"/>
                  </a:lnTo>
                  <a:lnTo>
                    <a:pt x="279" y="140"/>
                  </a:lnTo>
                  <a:lnTo>
                    <a:pt x="295" y="102"/>
                  </a:lnTo>
                  <a:lnTo>
                    <a:pt x="310" y="73"/>
                  </a:lnTo>
                  <a:lnTo>
                    <a:pt x="323" y="53"/>
                  </a:lnTo>
                  <a:lnTo>
                    <a:pt x="337" y="44"/>
                  </a:lnTo>
                  <a:lnTo>
                    <a:pt x="350" y="47"/>
                  </a:lnTo>
                  <a:lnTo>
                    <a:pt x="366" y="62"/>
                  </a:lnTo>
                  <a:lnTo>
                    <a:pt x="386" y="91"/>
                  </a:lnTo>
                  <a:lnTo>
                    <a:pt x="403" y="124"/>
                  </a:lnTo>
                  <a:lnTo>
                    <a:pt x="421" y="149"/>
                  </a:lnTo>
                  <a:lnTo>
                    <a:pt x="434" y="166"/>
                  </a:lnTo>
                  <a:lnTo>
                    <a:pt x="448" y="173"/>
                  </a:lnTo>
                  <a:lnTo>
                    <a:pt x="459" y="175"/>
                  </a:lnTo>
                  <a:lnTo>
                    <a:pt x="470" y="169"/>
                  </a:lnTo>
                  <a:lnTo>
                    <a:pt x="481" y="158"/>
                  </a:lnTo>
                  <a:lnTo>
                    <a:pt x="492" y="138"/>
                  </a:lnTo>
                  <a:lnTo>
                    <a:pt x="490" y="140"/>
                  </a:lnTo>
                  <a:lnTo>
                    <a:pt x="483" y="142"/>
                  </a:lnTo>
                  <a:lnTo>
                    <a:pt x="474" y="147"/>
                  </a:lnTo>
                  <a:lnTo>
                    <a:pt x="463" y="144"/>
                  </a:lnTo>
                  <a:lnTo>
                    <a:pt x="450" y="140"/>
                  </a:lnTo>
                  <a:lnTo>
                    <a:pt x="432" y="127"/>
                  </a:lnTo>
                  <a:lnTo>
                    <a:pt x="417" y="102"/>
                  </a:lnTo>
                  <a:lnTo>
                    <a:pt x="399" y="67"/>
                  </a:lnTo>
                  <a:lnTo>
                    <a:pt x="381" y="31"/>
                  </a:lnTo>
                  <a:lnTo>
                    <a:pt x="359" y="13"/>
                  </a:lnTo>
                  <a:lnTo>
                    <a:pt x="337" y="9"/>
                  </a:lnTo>
                  <a:lnTo>
                    <a:pt x="312" y="18"/>
                  </a:lnTo>
                  <a:lnTo>
                    <a:pt x="292" y="36"/>
                  </a:lnTo>
                  <a:lnTo>
                    <a:pt x="272" y="64"/>
                  </a:lnTo>
                  <a:lnTo>
                    <a:pt x="257" y="98"/>
                  </a:lnTo>
                  <a:lnTo>
                    <a:pt x="246" y="138"/>
                  </a:lnTo>
                  <a:lnTo>
                    <a:pt x="237" y="171"/>
                  </a:lnTo>
                  <a:lnTo>
                    <a:pt x="226" y="189"/>
                  </a:lnTo>
                  <a:lnTo>
                    <a:pt x="210" y="191"/>
                  </a:lnTo>
                  <a:lnTo>
                    <a:pt x="195" y="182"/>
                  </a:lnTo>
                  <a:lnTo>
                    <a:pt x="177" y="160"/>
                  </a:lnTo>
                  <a:lnTo>
                    <a:pt x="157" y="129"/>
                  </a:lnTo>
                  <a:lnTo>
                    <a:pt x="139" y="91"/>
                  </a:lnTo>
                  <a:lnTo>
                    <a:pt x="122" y="44"/>
                  </a:lnTo>
                  <a:lnTo>
                    <a:pt x="104" y="9"/>
                  </a:lnTo>
                  <a:lnTo>
                    <a:pt x="84" y="0"/>
                  </a:lnTo>
                  <a:lnTo>
                    <a:pt x="66" y="11"/>
                  </a:lnTo>
                  <a:lnTo>
                    <a:pt x="46" y="36"/>
                  </a:lnTo>
                  <a:lnTo>
                    <a:pt x="28" y="69"/>
                  </a:lnTo>
                  <a:lnTo>
                    <a:pt x="15" y="107"/>
                  </a:lnTo>
                  <a:lnTo>
                    <a:pt x="4" y="140"/>
                  </a:lnTo>
                  <a:lnTo>
                    <a:pt x="0" y="166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Freeform 105"/>
            <p:cNvSpPr/>
            <p:nvPr/>
          </p:nvSpPr>
          <p:spPr>
            <a:xfrm>
              <a:off x="4254480" y="6503760"/>
              <a:ext cx="335880" cy="125280"/>
            </a:xfrm>
            <a:custGeom>
              <a:avLst/>
              <a:gdLst/>
              <a:ahLst/>
              <a:rect l="l" t="t" r="r" b="b"/>
              <a:pathLst>
                <a:path w="151" h="67">
                  <a:moveTo>
                    <a:pt x="0" y="7"/>
                  </a:moveTo>
                  <a:lnTo>
                    <a:pt x="5" y="13"/>
                  </a:lnTo>
                  <a:lnTo>
                    <a:pt x="14" y="27"/>
                  </a:lnTo>
                  <a:lnTo>
                    <a:pt x="29" y="42"/>
                  </a:lnTo>
                  <a:lnTo>
                    <a:pt x="49" y="58"/>
                  </a:lnTo>
                  <a:lnTo>
                    <a:pt x="73" y="67"/>
                  </a:lnTo>
                  <a:lnTo>
                    <a:pt x="98" y="62"/>
                  </a:lnTo>
                  <a:lnTo>
                    <a:pt x="124" y="42"/>
                  </a:lnTo>
                  <a:lnTo>
                    <a:pt x="15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7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Remember being in the eighth grade?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Remember anything from eighth grade social studies?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Місце для нижнього колонтитула 3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3300"/>
                </a:solidFill>
                <a:latin typeface="Georgia"/>
              </a:rPr>
              <a:t>In the Beginning, Before 1840</a:t>
            </a:r>
            <a:endParaRPr b="1" lang="en-US" sz="7200" spc="-1" strike="noStrike">
              <a:solidFill>
                <a:srgbClr val="cc33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5T21:24:11Z</dcterms:created>
  <dc:creator>rjohnson</dc:creator>
  <dc:description/>
  <dc:language>en-US</dc:language>
  <cp:lastModifiedBy>Legion</cp:lastModifiedBy>
  <dcterms:modified xsi:type="dcterms:W3CDTF">2017-07-05T11:14:56Z</dcterms:modified>
  <cp:revision>179</cp:revision>
  <dc:subject/>
  <dc:title>PowerPoint Presentation</dc:title>
</cp:coreProperties>
</file>