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6A4F-1EE1-4A1A-8556-DF3B122CD3A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roquois Confede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udenosaunee Trib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ondag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haw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nec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id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yug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scaro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Iroquois Confederacy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Haudenosaunee Trib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Onondag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Mohawk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Senec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Oneida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Cayuga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uscarora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ming of the Iroquo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ound 1570, Hiawatha (an Onondaga chief) and Dekanawida (a Mohawk Chief) decided to stop their tribes from fight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ive nations formed the Iroquois Leag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orming of the Iroquois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Around 1570, Hiawatha (an Onondaga chief) and Dekanawida (a Mohawk Chief) decided to stop their tribes from fighting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ive nations formed the Iroquois Leagu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Princip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live in peace with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trade with each 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would go to war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tribe elected Sachems to run the Confedera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ind ourselves together by taking hold of each other’s hands. …  Our strength shall be in union. …  Carry no anger and hold no grudg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Iroquois Principl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live in peace with each o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trade with each o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would go to war TOGETHER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Each tribe elected Sachems to run the Confederacy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e bind ourselves together by taking hold of each other’s hands. …  Our strength shall be in union. …  Carry no anger and hold no grudges”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Hou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0 foot long houses that held 10-20 families.  Each family had a section of the 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owned the longhouses and a husband would move into his wife’s mother’s longhou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Long Houses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100 foot long houses that held 10-20 families.  Each family had a section of the hous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omen owned the longhouses and a husband would move into his wife’s mother’s longhous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quoi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THREE SISTERS” of corn, beans and squash were farmed by the wo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beaver, and moose were hunted by the m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Iroquois Culture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“THREE SISTERS” of corn, beans and squash were farmed by the women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Deer, beaver, and moose were hunted by the men. 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 of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grazing land for he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est provided w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 animals gave the Iroquois food and cl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needed crops they could store for the long winter in a temperate clima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hort growing season allowed for the 3 sisters to grow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effect of ENVIRONMENT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No grazing land for herds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 forest provided wood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Forest animals gave the Iroquois food and clothing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They needed crops they could store for the long winter in a temperate climate.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A short growing season allowed for the 3 sisters to grow. 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80"/>
                </a:solidFill>
                <a:latin typeface="Arial"/>
              </a:rPr>
              <a:t>www.sliderbase.com</a:t>
            </a: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8D0A-B42E-4033-B2EF-5EC0912E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CB73-58D7-41F4-B96D-7A1BF68E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CF2F-D8C5-44CB-8503-02A7F913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A5AA-2806-413D-9B24-B7657870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0A87E-32E2-419F-AE34-BF22D37D9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20AD-0F78-46B7-B33D-B8800028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D1D3-F2FD-43C0-8952-79B9DEE48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F027-220B-4075-8B04-48809021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920A-EC94-4EEC-8EB7-6DA4F5D3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30EA-0F7F-4D66-AD2E-70B53C9B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B776-5557-4299-A6B5-05E67181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8E6F-19F3-4D43-AED3-02DD95F8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9ADD-62E5-438A-9489-254DC5CB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30E4-D7E1-447A-8485-C27DD361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E5F3-B42C-440E-8FA9-2C778499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E762-9607-47FE-88C7-EBAF441E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355B-C534-4767-8BE7-2218422FC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9982-A2A9-4257-BAC3-4A02E594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0F7E-2780-414A-991F-30BFFA20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3753-1D28-4454-9B23-01E67EB3C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9E77-AD05-4190-86AD-30DF2385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9195-EC1E-4E25-8007-D3C9AA8C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3C39-72E6-46BF-BBE4-68F5D0FD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842-7E25-427F-9F57-41AC5F30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70592-4E93-4036-B04B-741E8D3615AC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80"/>
                  </a:solidFill>
                  <a:latin typeface="Arial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000" spc="-1" strike="noStrike">
                    <a:solidFill>
                      <a:srgbClr val="00008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743E1-0363-4BAB-9B0E-927D0E89428F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Iroquois Confederac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26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udenosaunee Trib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Onondaga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Mohaw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Seneca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80"/>
                </a:solidFill>
                <a:latin typeface="Arial"/>
                <a:ea typeface="Times New Roman"/>
              </a:rPr>
              <a:t>One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Cayuga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uscar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4320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 Forming of the Iroquois.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ound 1570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iawath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an Onondaga chief)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kanaw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(a Mohawk Chief) decided to stop their tribes from figh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ve nations formed the Iroquois Leag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rcRect l="1820" t="0" r="13470" b="0"/>
          <a:stretch/>
        </p:blipFill>
        <p:spPr>
          <a:xfrm>
            <a:off x="1752480" y="5029200"/>
            <a:ext cx="7086600" cy="139716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7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roquois Principl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live in peac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trade with each 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hey would go to war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TOGETHER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  <a:ea typeface="Arial"/>
              </a:rPr>
              <a:t>Each tribe elected Sachems to run the Confedera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69040" y="1981080"/>
            <a:ext cx="373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bind ourselves together by taking hold of each other’s hands. …  Our strength shall be in union. …  Carry no anger and hold no grudge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66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0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Arial"/>
                <a:ea typeface="Arial"/>
              </a:rPr>
              <a:t>Long Hous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368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00 foot long houses that held 10-20 families.  Each family had a section of the 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333760" y="19807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Women owned the longhouses and a husband would move into his wife’s mother’s longho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rcRect l="2194" t="0" r="2194" b="0"/>
          <a:stretch/>
        </p:blipFill>
        <p:spPr>
          <a:xfrm>
            <a:off x="3200400" y="4084560"/>
            <a:ext cx="5562720" cy="250668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roquois Cultur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3778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e “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THREE SISTERS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” of corn, beans and squash were farmed by the wom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600200" y="4267080"/>
            <a:ext cx="37749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  <a:ea typeface="Arial"/>
              </a:rPr>
              <a:t>Deer, beaver, and moose were hunted by the me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6858000" y="1981080"/>
            <a:ext cx="1995480" cy="1984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5638680" y="2133720"/>
            <a:ext cx="1568520" cy="4438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6" presetSubtype="2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The effect of </a:t>
            </a:r>
            <a:r>
              <a:rPr b="1" i="1" lang="en-US" sz="4400" spc="-1" strike="noStrike">
                <a:solidFill>
                  <a:srgbClr val="800000"/>
                </a:solidFill>
                <a:latin typeface="Arial"/>
                <a:ea typeface="Arial"/>
              </a:rPr>
              <a:t>ENVIRONMEN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No grazing land for he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he forest provided 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Forest animals gave the Iroquois food and cl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They needed crops they could store for the long winter in a temperate clim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Arial"/>
              </a:rPr>
              <a:t>A short growing season allowed for the 3 sisters to grow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7972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0T01:28:12Z</dcterms:created>
  <dc:creator>David &amp; Diana Hills</dc:creator>
  <dc:description/>
  <dc:language>en-US</dc:language>
  <cp:lastModifiedBy>Legion</cp:lastModifiedBy>
  <dcterms:modified xsi:type="dcterms:W3CDTF">2017-07-05T11:16:58Z</dcterms:modified>
  <cp:revision>9</cp:revision>
  <dc:subject/>
  <dc:title>The Iroquois Confederacy</dc:title>
</cp:coreProperties>
</file>