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7FA66-1019-4EB3-8916-7E238C93509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roquois Confedera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udenosaunee Tri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ondag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haw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ec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id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yug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scaro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The Iroquois Confederacy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Haudenosaunee Tribes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Onondaga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Mohawk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Seneca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Oneida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Cayuga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Tuscarora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www.sliderbase.com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rming of the Iroquo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ound 1570, Hiawatha (an Onondaga chief) and Dekanawida (a Mohawk Chief) decided to stop their tribes from figh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ve nations formed the Iroquois Leagu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The Forming of the Iroquois.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Around 1570, Hiawatha (an Onondaga chief) and Dekanawida (a Mohawk Chief) decided to stop their tribes from fighting.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The five nations formed the Iroquois League.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www.sliderbase.com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quois Princi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ould live in peace with each o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ould trade with each o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ould go to war TOGE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tribe elected Sachems to run the Confedera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bind ourselves together by taking hold of each other’s hands. …  Our strength shall be in union. …  Carry no anger and hold no grudge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Iroquois Principles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They would live in peace with each other.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They would trade with each other.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They would go to war TOGETHER.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Each tribe elected Sachems to run the Confederacy.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We bind ourselves together by taking hold of each other’s hands. …  Our strength shall be in union. …  Carry no anger and hold no grudges”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www.sliderbase.com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Hou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0 foot long houses that held 10-20 families.  Each family had a section of the hou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men owned the longhouses and a husband would move into his wife’s mother’s longhou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Long Houses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100 foot long houses that held 10-20 families.  Each family had a section of the house.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Women owned the longhouses and a husband would move into his wife’s mother’s longhouse.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www.sliderbase.com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quois Cul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“THREE SISTERS” of corn, beans and squash were farmed by the wom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er, beaver, and moose were hunted by the me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Iroquois Culture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The “THREE SISTERS” of corn, beans and squash were farmed by the women.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Deer, beaver, and moose were hunted by the men. 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www.sliderbase.com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ffect of ENVIRON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grazing land for her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rest provided w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est animals gave the Iroquois food and clo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needed crops they could store for the long winter in a temperate clima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hort growing season allowed for the 3 sisters to grow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The effect of ENVIRONMENT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No grazing land for herds.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The forest provided wood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Forest animals gave the Iroquois food and clothing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They needed crops they could store for the long winter in a temperate climate.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A short growing season allowed for the 3 sisters to grow. 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www.sliderbase.com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ADBD-B8A7-43BA-A310-F2C451820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C004-77A2-4553-8623-A4D0DB468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F104-2062-4DC8-8DCC-B08BC6BF2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0CE4-9C31-4AEC-81E8-94D807F63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8C826-8A11-4A50-9B85-B7C61BAF0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3042B-3E5B-41C5-B6F0-1126C5E8A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DAC50-BEA0-4884-91E9-7BC5A6967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39D7A-4ED4-4828-9488-607755049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CD40F-EC79-4255-8626-6BDE47215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3DB77-50D4-4BCE-AADB-01C95C704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35408-6B9C-4D43-8CB5-BBAA2FD80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65BE-3950-43FD-9068-6FE284E56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F467D-930B-4CEA-9C84-95F21C17F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9A8DD-6BAF-42E4-B18A-6D48E1E4F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0DC6C-FC4F-48F4-BEFB-1B2DDDC2C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1902E-BDDC-4BAD-BE70-0F54C9355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56756-4E61-47EA-8C4C-40587AFE7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E493-A5C7-4FAA-ADF7-21722BCBE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9BF6-6254-4177-A135-E00E1D3CD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7428-C44D-47E6-BA77-7118A5541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7DB1-0A82-4F5E-ACEF-7CB47D836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FEB6-8089-4FFD-8666-D245BFB8C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6FEB-52CF-4C24-B4BE-B88AC42B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3DCC-404C-4342-9E9A-199D6C7C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Group 1024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Rectangle 2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  <p:pic>
            <p:nvPicPr>
              <p:cNvPr id="3" name="Pictur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Freeform 4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  <p:sp>
            <p:nvSpPr>
              <p:cNvPr id="5" name="Freeform 5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  <p:sp>
            <p:nvSpPr>
              <p:cNvPr id="6" name="Freeform 6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</p:grpSp>
        <p:grpSp>
          <p:nvGrpSpPr>
            <p:cNvPr id="7" name="Group 1025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Rectangle 8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  <p:sp>
            <p:nvSpPr>
              <p:cNvPr id="9" name="Line 9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  <p:sp>
            <p:nvSpPr>
              <p:cNvPr id="10" name="Line 10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  <p:sp>
            <p:nvSpPr>
              <p:cNvPr id="11" name="Line 11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  <p:sp>
            <p:nvSpPr>
              <p:cNvPr id="12" name="Line 12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  <p:sp>
            <p:nvSpPr>
              <p:cNvPr id="13" name="Freeform 13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7340F-E402-42FF-80BF-B5360EEC80E1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25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Group 21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Rectangle 10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  <p:sp>
            <p:nvSpPr>
              <p:cNvPr id="58" name="Line 11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  <p:sp>
            <p:nvSpPr>
              <p:cNvPr id="59" name="Line 12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  <p:sp>
            <p:nvSpPr>
              <p:cNvPr id="60" name="Line 13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  <p:sp>
            <p:nvSpPr>
              <p:cNvPr id="61" name="Line 14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  <p:sp>
            <p:nvSpPr>
              <p:cNvPr id="62" name="Freeform 15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</p:grpSp>
        <p:grpSp>
          <p:nvGrpSpPr>
            <p:cNvPr id="63" name="Group 23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Rectangle 4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  <p:grpSp>
            <p:nvGrpSpPr>
              <p:cNvPr id="65" name="Group 22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Picture 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Freeform 6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00080"/>
                    </a:solidFill>
                    <a:latin typeface="Arial"/>
                  </a:endParaRPr>
                </a:p>
              </p:txBody>
            </p:sp>
            <p:sp>
              <p:nvSpPr>
                <p:cNvPr id="68" name="Freeform 7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0008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8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0008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134ED-6FDA-4B06-B396-92F999F5798B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The Iroquois Confederacy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590920" y="3559320"/>
            <a:ext cx="6400800" cy="261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udenosaunee Trib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Onondaga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  <a:ea typeface="Times New Roman"/>
              </a:rPr>
              <a:t>Mohaw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  <a:ea typeface="Times New Roman"/>
              </a:rPr>
              <a:t>Seneca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One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  <a:ea typeface="Times New Roman"/>
              </a:rPr>
              <a:t>Cayuga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uscar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64320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The Forming of the Iroquois.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ound 1570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iawath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(an Onondaga chief)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kanawid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(a Mohawk Chief) decided to stop their tribes from figh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ve nations formed the Iroquois Leag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rcRect l="1820" t="0" r="13470" b="0"/>
          <a:stretch/>
        </p:blipFill>
        <p:spPr>
          <a:xfrm>
            <a:off x="1752480" y="5029200"/>
            <a:ext cx="7086600" cy="139716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797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nodeType="afterEffect" fill="hold" presetClass="entr" presetID="17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Iroquois Principle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They would live in peace with each 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They would trade with each 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They would go to war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TOGETHER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Each tribe elected Sachems to run the Confedera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6904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bind ourselves together by taking hold of each other’s hands. …  Our strength shall be in union. …  Carry no anger and hold no grudge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797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4" presetSubtype="3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2" nodeType="afterEffect" fill="hold" presetClass="entr" presetID="4" presetSubtype="3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66" nodeType="afterEffect" fill="hold" presetClass="entr" presetID="4" presetSubtype="3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70" nodeType="afterEffect" fill="hold" presetClass="entr" presetID="4" presetSubtype="3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74" nodeType="afterEffect" fill="hold" presetClass="entr" presetID="2" presetSubtype="8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Arial"/>
                <a:ea typeface="Arial"/>
              </a:rPr>
              <a:t>Long House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368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00 foot long houses that held 10-20 families.  Each family had a section of the ho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333760" y="1980720"/>
            <a:ext cx="380988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Women owned the longhouses and a husband would move into his wife’s mother’s longho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rcRect l="2194" t="0" r="2194" b="0"/>
          <a:stretch/>
        </p:blipFill>
        <p:spPr>
          <a:xfrm>
            <a:off x="3200400" y="4084560"/>
            <a:ext cx="5562720" cy="250668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797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7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Iroquois Culture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79240" y="1980720"/>
            <a:ext cx="37782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The “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THREE SISTERS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” of corn, beans and squash were farmed by the wom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1600200" y="4267080"/>
            <a:ext cx="37749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Deer, beaver, and moose were hunted by the me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6" descr=""/>
          <p:cNvPicPr/>
          <p:nvPr/>
        </p:nvPicPr>
        <p:blipFill>
          <a:blip r:embed="rId1"/>
          <a:stretch/>
        </p:blipFill>
        <p:spPr>
          <a:xfrm>
            <a:off x="6858000" y="1981080"/>
            <a:ext cx="1995480" cy="1984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38" name="Picture 7" descr=""/>
          <p:cNvPicPr/>
          <p:nvPr/>
        </p:nvPicPr>
        <p:blipFill>
          <a:blip r:embed="rId2"/>
          <a:stretch/>
        </p:blipFill>
        <p:spPr>
          <a:xfrm>
            <a:off x="5638680" y="2133720"/>
            <a:ext cx="1568520" cy="4438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797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16" presetSubtype="2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800000"/>
                </a:solidFill>
                <a:latin typeface="Arial"/>
                <a:ea typeface="Arial"/>
              </a:rPr>
              <a:t>The effect of </a:t>
            </a:r>
            <a:r>
              <a:rPr b="1" i="1" lang="en-US" sz="4400" spc="-1" strike="noStrike">
                <a:solidFill>
                  <a:srgbClr val="800000"/>
                </a:solidFill>
                <a:latin typeface="Arial"/>
                <a:ea typeface="Arial"/>
              </a:rPr>
              <a:t>ENVIRONMEN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No grazing land for he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The forest provided w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Forest animals gave the Iroquois food and clot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They needed crops they could store for the long winter in a temperate clim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A short growing season allowed for the 3 sisters to grow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797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0T01:28:12Z</dcterms:created>
  <dc:creator>David &amp; Diana Hills</dc:creator>
  <dc:description/>
  <dc:language>en-US</dc:language>
  <cp:lastModifiedBy>Legion</cp:lastModifiedBy>
  <dcterms:modified xsi:type="dcterms:W3CDTF">2017-07-05T11:16:58Z</dcterms:modified>
  <cp:revision>9</cp:revision>
  <dc:subject/>
  <dc:title>The Iroquois Confederacy</dc:title>
</cp:coreProperties>
</file>