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7A07-6049-4E41-89A1-FC109A726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01D-8720-4045-B4A6-840BC124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559-0B83-4A8E-83AD-DF740B59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F18-D11B-46DD-8453-1941386C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7DF-25B2-4366-AE08-CE168278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7118-B68D-4870-86C9-C2E34397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36A6-5857-41A0-A4C3-A9A31EFC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30A-B0B9-4EEF-9EBC-293C36A8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75D2-28BE-4AA0-A161-86C50304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ACA1-D44D-416C-A4B1-8CE899FE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EFE9-80B4-41CB-812A-C7C50CAD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A028-611B-4BEA-A734-52E41D1C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DED-29D4-4E03-9ECE-793C98B5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F92F-08A4-4120-ADAF-558C2C0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74FC-F043-4D3F-BA70-D81939B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55F8-754A-4E05-8622-898E37F2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86A4-A0AA-43F3-8829-456D12E4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0085-7DEE-4F1B-93D3-A3804E18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DF0-157E-45AE-B59B-FAC72822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018-20CA-4AA5-8809-C1ECC907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323-8561-4B0F-A70C-4242949D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FCC-EEF0-414D-8080-6AFB531F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AFA-11F7-4E56-86A8-951C4915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C36-AF69-4370-A6A4-08351AB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09C-A831-475F-9DCA-D3724FBF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0D10-4473-4988-8D62-1CD2D0B35F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467C-A1A7-435C-96E2-326CB4688A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776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BELLWORK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</a:t>
            </a:r>
            <a:r>
              <a:rPr b="0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 mass and how does it compare to we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word is used to describe the amount of space an object takes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Substances contain only one kind of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of these two is a substa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H20  or Lemon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samples of a substance have the same phys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crystals of sucrose taste sweet and dissolve completely i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physical property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is a quality or condition of a substance that can be observed or measured without changing the substance’s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of physical properti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1.-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2.- SOLU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3.- O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4.- HAR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5.-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6.- MELT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7.- BOIL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Physical properties help chem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dentify a substance based on their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substance is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100 ˚C    and melts at 0 ˚C”     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78 ˚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d melts at -117 ˚C”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5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608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HN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Important properties of the States of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ty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 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 or vap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sion on h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 s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ssi-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ily 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7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SOL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Coal, sugar, ice and i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Definite shape and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shape doesn’t depend on the shape of their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particles are packed tightly together,  they are almost incompre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olids expand only lightly when h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Water, milk and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of their container (flow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packed closely together, but not rigidly pack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volume that a liquid occupies is always constant, no matter what shape it t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Almost incompressible, with a tendency to expand when he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and form of their container (flowa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spaced far apa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expand without limit to fill any 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are easily compre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14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3200" spc="-1" strike="noStrike">
                <a:solidFill>
                  <a:srgbClr val="ffffff"/>
                </a:solidFill>
                <a:latin typeface="Tahoma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gaseous state of a substance that is generally a liquid or solid at room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team (the gaseous state of matter) is referred to as a vapor because water is a liquid at room tempera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Moist air contains water vap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type of change that alters a given material without changing it’s chemical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include: cutting, grinding, bending, the melting of the metal gallium, the freezing of water and the condensation of steam to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Other verbs or actions related to physical changes include: boil, freeze, dissolve, melt, condense, break, split, crack, grind, cut, crush and b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ything that takes up space and ha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eight is a measure of the pull of gravity on an object; mass is the amount of matter the object cont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Volu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states of matter are represented in the photograp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must you do to a substance to change it’s physical stat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pix-6-lava-bowl-8-094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CB022225"/>
          <p:cNvPicPr/>
          <p:nvPr/>
        </p:nvPicPr>
        <p:blipFill>
          <a:blip r:embed="rId1"/>
          <a:stretch/>
        </p:blipFill>
        <p:spPr>
          <a:xfrm>
            <a:off x="83808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olf_ball_walking_hg_wht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3"/>
          <a:stretch/>
        </p:blipFill>
        <p:spPr>
          <a:xfrm>
            <a:off x="85680" y="6219720"/>
            <a:ext cx="136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erials differ in terms of the kind of matter they con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able sugar is always 100% sucr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t always has the same chemical composi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 that has a uniform and definite composition is calle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Picture 4" descr="sucrose"/>
          <p:cNvPicPr/>
          <p:nvPr/>
        </p:nvPicPr>
        <p:blipFill>
          <a:blip r:embed="rId1"/>
          <a:stretch/>
        </p:blipFill>
        <p:spPr>
          <a:xfrm>
            <a:off x="1143000" y="1781280"/>
            <a:ext cx="6934320" cy="43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2:45:32Z</dcterms:created>
  <dc:creator>Marco A. Mass Pascua</dc:creator>
  <dc:description/>
  <dc:language>en-US</dc:language>
  <cp:lastModifiedBy>RomaK</cp:lastModifiedBy>
  <dcterms:modified xsi:type="dcterms:W3CDTF">2015-09-02T05:56:58Z</dcterms:modified>
  <cp:revision>18</cp:revision>
  <dc:subject/>
  <dc:title>Matter and Change</dc:title>
</cp:coreProperties>
</file>