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5A04-C6DA-49E1-9BB6-4ABA06489B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LWORK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t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mass and how does it compare to we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rd is used to describe the amount of space an object takes up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stances contain only one kind of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of these two is a substan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0  or Lemonad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amples of a substance have the same physical proper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rystals of sucrose taste sweet and dissolve completely in w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hysical property is a quality or condition of a substance that can be observed or measured without changing the substance’s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physical properti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O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HARD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D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 MELT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- BOILING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properties help chem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a substance based on their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substance is thi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100 ˚C    and melts at 0 ˚C”     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less liquid that boils at 78 ˚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elts at -117 ˚C”  ???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, sugar, ice and i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e shape and volu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hape doesn’t depend on the shape of their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icles are packed tightly together,  they are almost incompre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ids expand only lightly when he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QU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, milk and bl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of their container (flow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packed closely together, but not rigidly pack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olume that a liquid occupies is always constant, no matter what shape it t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most incompressible, with a tendency to expand when he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kes the shape and form of their container (flowa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les are spaced far apar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expand without limit to fill any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es are easily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III Properties of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aseous state of a substance that is generally a liquid or solid at room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eam (the gaseous state of matter) is referred to as a vapor because water is a liquid at room temperatu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ist air contains water va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ype of change that alters a given material without changing it’s chemical com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include: cutting, grinding, bending, the melting of the metal gallium, the freezing of water and the condensation of steam to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verbs or actions related to physical changes include: boil, freeze, dissolve, melt, condense, break, split, crack, grind, cut, crush and b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thing that takes up space and has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 is a measure of the pull of gravity on an object; mass is the amount of matter the object cont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um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tates of matter are represented in the photo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ust you do to a substance to change it’s physical stat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erials differ in terms of the kind of matter they cont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ble sugar is always 100% sucr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always has the same chemical compos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that has a uniform and definite composition is called a subst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tter and Ch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87C-A924-40D3-86FB-9068B696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8352-00FB-4520-BB66-83F48180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E99-082C-4F37-A20A-245522365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88BCA-D5E7-42E4-A82C-D1C27098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973A6-936A-43A5-A255-6D777C9C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1DA60-6605-4096-BD3F-1B717ADF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A9C1B-38EB-4698-9767-F0F1388EA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90EB-7A35-4DA0-93E6-70C006B7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F09C-812A-4650-9FBA-D92E8C91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0080-B7EF-41E6-8D98-CBD8213B2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087BD-E86F-47FA-989E-CCE48C68B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77DC-4D9B-4A94-84D1-46324F3AA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1C88-5FA5-43F3-93D2-B30108D8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C48F7-1BC1-43A5-B721-BFB6E4F3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9CB87-6987-44CC-B8CD-87052DC7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A877-2779-4F92-8201-AD05C0D1F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7ECE-C3FB-4A59-B181-8D26641F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3D64-ED06-4E85-8CF3-A7D769A9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0568-A58A-4565-AFCB-FFB21D26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8960-1DA3-4550-85E7-EA2607BA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A398-7C27-4122-AB25-FE80C680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D22F-6FC6-4E03-B569-D1E85C076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3B54-DBF6-4AAB-B7A9-E8D60CB8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A0A6-D837-4B7D-896A-5B15759A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8330-725B-432B-8D9E-D0552C2954B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329E2-B3F9-4B8F-A0D6-DAED79240F5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7760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BELLWORK</a:t>
            </a:r>
            <a:br>
              <a:rPr sz="4400"/>
            </a:b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</a:t>
            </a:r>
            <a:r>
              <a:rPr b="0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is mass and how does it compare to weigh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 algn="ctr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word is used to describe the amount of space an object takes up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Substances contain only one kind of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of these two is a substanc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H20  or Lemonad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6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samples of a substance have the same physical properti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ll crystals of sucrose taste sweet and dissolve completely in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9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i="1" lang="es-HN" sz="3200" spc="-1" strike="noStrike" u="sng">
                <a:solidFill>
                  <a:srgbClr val="ffffff"/>
                </a:solidFill>
                <a:uFillTx/>
                <a:latin typeface="Tahoma"/>
              </a:rPr>
              <a:t>physical property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is a quality or condition of a substance that can be observed or measured without changing the substance’s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of physical properties includ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1.- COL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2.- SOLU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3.- OD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4.- HARD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5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5.- DENS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6.- MELT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7.- BOILING P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8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Physical properties help chemis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dentify a substance based on their characteristic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ich substance is thi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100 ˚C    and melts at 0 ˚C”     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“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Colorless liquid that boils at 78 ˚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d melts at -117 ˚C”  ?????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1" name="Picture 59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523880"/>
          <a:ext cx="8229600" cy="45770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86080">
                <a:tc gridSpan="4">
                  <a:txBody>
                    <a:bodyPr lIns="90000" rIns="900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HN" sz="28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Important properties of the States of Matt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 gridSpan="4"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roperty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olid 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iquid</a:t>
                      </a:r>
                      <a:r>
                        <a:rPr b="0" lang="es-HN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</a:t>
                      </a: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s or vapo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024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ap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lum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defini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pansion on heat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y sligh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Modera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at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mpressi-bilit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most incompre-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HN" sz="2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eadily compressibl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00"/>
                      </a:solidFill>
                    </a:lnL>
                    <a:lnR w="5760">
                      <a:solidFill>
                        <a:srgbClr val="ffff00"/>
                      </a:solidFill>
                    </a:lnR>
                    <a:lnT w="5760">
                      <a:solidFill>
                        <a:srgbClr val="ffff00"/>
                      </a:solidFill>
                    </a:lnT>
                    <a:lnB w="5760">
                      <a:solidFill>
                        <a:srgbClr val="ffff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5" name="Picture 17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Rectangle 36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SOL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Coal, sugar, ice and ir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Definite shape and volum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shape doesn’t depend on the shape of their contain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particles are packed tightly together,  they are almost incompressibl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olids expand only lightly when he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9" name="Picture 37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572760" indent="-572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LIQU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Water, milk and bloo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of their container (flows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packed closely together, but not rigidly packe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volume that a liquid occupies is always constant, no matter what shape it tak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2760" indent="-57276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Almost incompressible, with a tendency to expand when heat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GAS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akes the shape and form of their container (flowable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Particles are spaced far apart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expand without limit to fill any spac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Gases are easily compress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25146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HN" sz="3200" spc="-1" strike="noStrike">
                <a:solidFill>
                  <a:srgbClr val="ffffff"/>
                </a:solidFill>
                <a:latin typeface="Tahoma"/>
              </a:rPr>
              <a:t>Unit III Properties of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VAP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The gaseous state of a substance that is generally a liquid or solid at room tempera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Steam (the gaseous state of matter) is referred to as a vapor because water is a liquid at room temperatur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2800" spc="-1" strike="noStrike">
                <a:solidFill>
                  <a:srgbClr val="ffffff"/>
                </a:solidFill>
                <a:latin typeface="Tahoma"/>
              </a:rPr>
              <a:t>Moist air contains water vapo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 type of change that alters a given material without changing it’s chemical compositio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Examples include: cutting, grinding, bending, the melting of the metal gallium, the freezing of water and the condensation of steam to water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620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990720" y="1752480"/>
            <a:ext cx="7619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HN" sz="2800" spc="-1" strike="noStrike">
                <a:solidFill>
                  <a:srgbClr val="ffffff"/>
                </a:solidFill>
                <a:latin typeface="Tahoma"/>
              </a:rPr>
              <a:t>PHYSICAL CHAN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Other verbs or actions related to physical changes include: boil, freeze, dissolve, melt, condense, break, split, crack, grind, cut, crush and be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82520" indent="-18252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Anything that takes up space and has mas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eight is a measure of the pull of gravity on an object; mass is the amount of matter the object contai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Volum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3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states of matter are represented in the photograph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What must you do to a substance to change it’s physical state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6" name="Picture 6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8" name="Picture 4" descr="pix-6-lava-bowl-8-094"/>
          <p:cNvPicPr/>
          <p:nvPr/>
        </p:nvPicPr>
        <p:blipFill>
          <a:blip r:embed="rId1"/>
          <a:stretch/>
        </p:blipFill>
        <p:spPr>
          <a:xfrm>
            <a:off x="1066680" y="1905120"/>
            <a:ext cx="75438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he mass of an object is the amount of matter the object contains. A golf ball has a greater mass than a table tennis ball. The golf ball, therefore, contains more mat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2" name="Picture 4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5" name="Picture 4" descr="CB022225"/>
          <p:cNvPicPr/>
          <p:nvPr/>
        </p:nvPicPr>
        <p:blipFill>
          <a:blip r:embed="rId1"/>
          <a:stretch/>
        </p:blipFill>
        <p:spPr>
          <a:xfrm>
            <a:off x="838080" y="1981080"/>
            <a:ext cx="3733920" cy="41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golf_ball_walking_hg_wht"/>
          <p:cNvPicPr/>
          <p:nvPr/>
        </p:nvPicPr>
        <p:blipFill>
          <a:blip r:embed="rId2"/>
          <a:stretch/>
        </p:blipFill>
        <p:spPr>
          <a:xfrm>
            <a:off x="4572000" y="198108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logo"/>
          <p:cNvPicPr/>
          <p:nvPr/>
        </p:nvPicPr>
        <p:blipFill>
          <a:blip r:embed="rId3"/>
          <a:stretch/>
        </p:blipFill>
        <p:spPr>
          <a:xfrm>
            <a:off x="85680" y="6219720"/>
            <a:ext cx="136224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erials differ in terms of the kind of matter they contain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Table sugar is always 100% sucros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It always has the same chemical composi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HN" sz="3200" spc="-1" strike="noStrike">
                <a:solidFill>
                  <a:srgbClr val="ffffff"/>
                </a:solidFill>
                <a:latin typeface="Tahoma"/>
              </a:rPr>
              <a:t>Matter that has a uniform and definite composition is called a substanc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Picture 5" descr="logo"/>
          <p:cNvPicPr/>
          <p:nvPr/>
        </p:nvPicPr>
        <p:blipFill>
          <a:blip r:embed="rId1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HN" sz="4400" spc="-1" strike="noStrike" u="sng">
                <a:solidFill>
                  <a:srgbClr val="ffff00"/>
                </a:solidFill>
                <a:uFillTx/>
                <a:latin typeface="Tahoma"/>
              </a:rPr>
              <a:t>Matter and Chang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2" name="Picture 4" descr="sucrose"/>
          <p:cNvPicPr/>
          <p:nvPr/>
        </p:nvPicPr>
        <p:blipFill>
          <a:blip r:embed="rId1"/>
          <a:stretch/>
        </p:blipFill>
        <p:spPr>
          <a:xfrm>
            <a:off x="1143000" y="1781280"/>
            <a:ext cx="6934320" cy="4314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logo"/>
          <p:cNvPicPr/>
          <p:nvPr/>
        </p:nvPicPr>
        <p:blipFill>
          <a:blip r:embed="rId2"/>
          <a:stretch/>
        </p:blipFill>
        <p:spPr>
          <a:xfrm>
            <a:off x="76320" y="6219720"/>
            <a:ext cx="1361880" cy="56196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2:45:32Z</dcterms:created>
  <dc:creator>Marco A. Mass Pascua</dc:creator>
  <dc:description/>
  <dc:language>en-US</dc:language>
  <cp:lastModifiedBy>RomaK</cp:lastModifiedBy>
  <dcterms:modified xsi:type="dcterms:W3CDTF">2015-09-02T05:56:58Z</dcterms:modified>
  <cp:revision>18</cp:revision>
  <dc:subject/>
  <dc:title>Matter and Change</dc:title>
</cp:coreProperties>
</file>