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2698-5038-471E-A88A-525E921B8C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LI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xcer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LI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xcerp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people lived in longhouses. Ten or more families lived in one long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people lived in longhouses. Ten or more families lived in one long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Si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women grew corn, beans, and squash. These were called  the three sis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S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women grew corn, beans, and squash. These were called  the three si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also hunted  for  their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they hunted w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ke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r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alo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bits,  and  ge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H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lso hunted  for 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they hunted w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r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ke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alo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,  and  ge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liked to have fun by playing different ga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ames they played a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wl Cat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ss and C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os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s Cra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liked to have fun by playing different gam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ames they played a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wl Cat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ss and C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os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s Cra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played the Bowl Catch game with muskrat  tee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quois played the Bowl Catch game with muskrat  tee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invented lacrosse a long time ag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quois invented lacrosse a long time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CBE-670D-4A9D-8333-1FA5C2E0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6AE-7071-4D73-8A4A-44D03B0F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83D6-2527-47B5-9ECF-AF61ED6A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ABB3-625E-4A2D-8E3F-BD9F08B8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429-1395-4201-ADB4-CB2D864B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B4E-CA87-464E-B2E2-50452F71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E1A-BE0A-4DB4-ADB8-D1FD4C6B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47C-6046-4F6A-99A6-79DDD0A3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B47-B5A4-437E-9325-D59FD522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370-40E5-49F1-9280-1857E109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BAB-EB1F-4227-9728-9CFDCF1E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F90-5C16-4123-911F-AC8BFD44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A8B3-C762-4971-B7DD-0C87FD789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ROQUOIS LIF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cer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69960" y="423216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27160" y="3774960"/>
            <a:ext cx="12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057400"/>
            <a:ext cx="3265560" cy="45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_x0010_clan animals.jpg                                               002C9A96_x000c_Macintosh HD                   B8439062: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Reco2851.WAV" descr=""/>
          <p:cNvPicPr/>
          <p:nvPr/>
        </p:nvPicPr>
        <p:blipFill>
          <a:blip r:embed="rId3"/>
          <a:stretch/>
        </p:blipFill>
        <p:spPr>
          <a:xfrm>
            <a:off x="7391520" y="6019920"/>
            <a:ext cx="635040" cy="6350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3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4876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quois people lived in longhouses. Ten or more families lived in one long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_x000f_longhouse 2.jpg                                                00017A9D_x000e_mac hard drive                 ABA78158:"/>
          <p:cNvPicPr/>
          <p:nvPr/>
        </p:nvPicPr>
        <p:blipFill>
          <a:blip r:embed="rId1"/>
          <a:stretch/>
        </p:blipFill>
        <p:spPr>
          <a:xfrm>
            <a:off x="4267080" y="1328760"/>
            <a:ext cx="4618080" cy="3170160"/>
          </a:xfrm>
          <a:prstGeom prst="rect">
            <a:avLst/>
          </a:prstGeom>
          <a:ln w="0">
            <a:noFill/>
          </a:ln>
        </p:spPr>
      </p:pic>
      <p:pic>
        <p:nvPicPr>
          <p:cNvPr id="57" name="Reco2851.WAV" descr=""/>
          <p:cNvPicPr/>
          <p:nvPr/>
        </p:nvPicPr>
        <p:blipFill>
          <a:blip r:embed="rId2"/>
          <a:stretch/>
        </p:blipFill>
        <p:spPr>
          <a:xfrm>
            <a:off x="7543800" y="4952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_x0010_longhouseslg.jpg                                               002C99AF_x000c_Macintosh HD                   B8439062:"/>
          <p:cNvPicPr/>
          <p:nvPr/>
        </p:nvPicPr>
        <p:blipFill>
          <a:blip r:embed="rId3"/>
          <a:stretch/>
        </p:blipFill>
        <p:spPr>
          <a:xfrm>
            <a:off x="228600" y="914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94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Si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7760" y="152352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quois women grew corn, beans, and squash. These were called  the three si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_x000c_cornmeal.jpg                                                   00015010_x000e_Mac hard drive                 ABA78158:"/>
          <p:cNvPicPr/>
          <p:nvPr/>
        </p:nvPicPr>
        <p:blipFill>
          <a:blip r:embed="rId1"/>
          <a:stretch/>
        </p:blipFill>
        <p:spPr>
          <a:xfrm>
            <a:off x="1447920" y="1447920"/>
            <a:ext cx="164628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359244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H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 also hunted  for  their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nimals they hunted w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r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r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al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bbits,  and  gee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&#9;Deer3.JPG                                                      00017A8C_x000e_mac hard drive                 ABA78158:"/>
          <p:cNvPicPr/>
          <p:nvPr/>
        </p:nvPicPr>
        <p:blipFill>
          <a:blip r:embed="rId1"/>
          <a:stretch/>
        </p:blipFill>
        <p:spPr>
          <a:xfrm>
            <a:off x="685800" y="2084400"/>
            <a:ext cx="3809880" cy="39085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2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liked to have fun by playing different gam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games they played ar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wl Cat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ss and C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ro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 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s Cra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_x0010_cornhskdolls.jpg                                               00017A97_x000e_mac hard drive                 ABA78158:"/>
          <p:cNvPicPr/>
          <p:nvPr/>
        </p:nvPicPr>
        <p:blipFill>
          <a:blip r:embed="rId1"/>
          <a:stretch/>
        </p:blipFill>
        <p:spPr>
          <a:xfrm>
            <a:off x="1101600" y="1981080"/>
            <a:ext cx="297684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oquois played the Bowl Catch game with muskrat  tee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_x0010_elm barkdish.jpg                                               0000B96D_x000e_mac hard drive                 ABA78158:"/>
          <p:cNvPicPr/>
          <p:nvPr/>
        </p:nvPicPr>
        <p:blipFill>
          <a:blip r:embed="rId1"/>
          <a:stretch/>
        </p:blipFill>
        <p:spPr>
          <a:xfrm>
            <a:off x="4648320" y="3162240"/>
            <a:ext cx="3809880" cy="17528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24080" y="502884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oquois invented lacrosse a long time ag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_x0012_lacrossestick1.jpg                                             0001501B_x000e_Mac hard drive                 ABA78158:"/>
          <p:cNvPicPr/>
          <p:nvPr/>
        </p:nvPicPr>
        <p:blipFill>
          <a:blip r:embed="rId1"/>
          <a:stretch/>
        </p:blipFill>
        <p:spPr>
          <a:xfrm>
            <a:off x="731880" y="3581280"/>
            <a:ext cx="3809880" cy="811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327560" y="508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&#13;lacrosse4.jpg                                                  0001501B_x000e_Mac hard drive                 ABA78158:"/>
          <p:cNvPicPr/>
          <p:nvPr/>
        </p:nvPicPr>
        <p:blipFill>
          <a:blip r:embed="rId2"/>
          <a:stretch/>
        </p:blipFill>
        <p:spPr>
          <a:xfrm>
            <a:off x="5181480" y="380880"/>
            <a:ext cx="2757600" cy="43880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3:24:05Z</dcterms:created>
  <dc:creator>Roberta Schnorr</dc:creator>
  <dc:description/>
  <dc:language>en-US</dc:language>
  <cp:lastModifiedBy>Legion</cp:lastModifiedBy>
  <dcterms:modified xsi:type="dcterms:W3CDTF">2017-07-05T11:21:00Z</dcterms:modified>
  <cp:revision>13</cp:revision>
  <dc:subject/>
  <dc:title>IROQUOIS LIFE  LONG AGO</dc:title>
</cp:coreProperties>
</file>