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327E-5C75-4070-9772-3C71FEBA51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48B-D659-45C0-9E79-46C75EDB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5AC-BBB8-45A1-8C64-8FAEA024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0E5-329B-4C9F-BB78-62BF829C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923-8FEC-4074-B68D-9587E4F8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173-5C63-40F8-88E3-B46A6688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140-A6D0-4E4E-AD00-AA6ED1B9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331-6ECD-4D5D-A4D1-7F9267FE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8DD-AD6F-4F36-8595-96CED836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F70-6DE0-412C-A6F6-09AB5838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FDE-9529-42FF-A6B1-8D1198C5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A65-E853-4977-98D1-050CB592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1E0-90DB-41E5-88ED-6BEA8CFA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B4ED-C463-428D-82C5-B8EF82E62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69960" y="4232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3774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057400"/>
            <a:ext cx="326556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_x0010_clan animals.jpg                                               002C9A96_x000c_Macintosh HD                   B8439062: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Reco2851.WAV" descr=""/>
          <p:cNvPicPr/>
          <p:nvPr/>
        </p:nvPicPr>
        <p:blipFill>
          <a:blip r:embed="rId3"/>
          <a:stretch/>
        </p:blipFill>
        <p:spPr>
          <a:xfrm>
            <a:off x="7391520" y="60199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f_longhouse 2.jpg                                                00017A9D_x000e_mac hard drive                 ABA78158:"/>
          <p:cNvPicPr/>
          <p:nvPr/>
        </p:nvPicPr>
        <p:blipFill>
          <a:blip r:embed="rId1"/>
          <a:stretch/>
        </p:blipFill>
        <p:spPr>
          <a:xfrm>
            <a:off x="4267080" y="1328760"/>
            <a:ext cx="461808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Reco2851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_x0010_longhouseslg.jpg                                               002C99AF_x000c_Macintosh HD                   B8439062: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cornmeal.jpg                                                   00015010_x000e_Mac hard drive                 ABA78158:"/>
          <p:cNvPicPr/>
          <p:nvPr/>
        </p:nvPicPr>
        <p:blipFill>
          <a:blip r:embed="rId1"/>
          <a:stretch/>
        </p:blipFill>
        <p:spPr>
          <a:xfrm>
            <a:off x="1447920" y="1447920"/>
            <a:ext cx="16462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5924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s,  and  ge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&#9;Deer3.JPG                                                      00017A8C_x000e_mac hard drive                 ABA78158:"/>
          <p:cNvPicPr/>
          <p:nvPr/>
        </p:nvPicPr>
        <p:blipFill>
          <a:blip r:embed="rId1"/>
          <a:stretch/>
        </p:blipFill>
        <p:spPr>
          <a:xfrm>
            <a:off x="685800" y="2084400"/>
            <a:ext cx="3809880" cy="39085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0_cornhskdolls.jpg                                               00017A97_x000e_mac hard drive                 ABA78158:"/>
          <p:cNvPicPr/>
          <p:nvPr/>
        </p:nvPicPr>
        <p:blipFill>
          <a:blip r:embed="rId1"/>
          <a:stretch/>
        </p:blipFill>
        <p:spPr>
          <a:xfrm>
            <a:off x="1101600" y="1981080"/>
            <a:ext cx="297684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10_elm barkdish.jpg                                               0000B96D_x000e_mac hard drive                 ABA78158:"/>
          <p:cNvPicPr/>
          <p:nvPr/>
        </p:nvPicPr>
        <p:blipFill>
          <a:blip r:embed="rId1"/>
          <a:stretch/>
        </p:blipFill>
        <p:spPr>
          <a:xfrm>
            <a:off x="4648320" y="316224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4080" y="50288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_x0012_lacrossestick1.jpg                                             0001501B_x000e_Mac hard drive                 ABA78158:"/>
          <p:cNvPicPr/>
          <p:nvPr/>
        </p:nvPicPr>
        <p:blipFill>
          <a:blip r:embed="rId1"/>
          <a:stretch/>
        </p:blipFill>
        <p:spPr>
          <a:xfrm>
            <a:off x="731880" y="3581280"/>
            <a:ext cx="3809880" cy="81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327560" y="508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&#13;lacrosse4.jpg                                                  0001501B_x000e_Mac hard drive                 ABA78158:"/>
          <p:cNvPicPr/>
          <p:nvPr/>
        </p:nvPicPr>
        <p:blipFill>
          <a:blip r:embed="rId2"/>
          <a:stretch/>
        </p:blipFill>
        <p:spPr>
          <a:xfrm>
            <a:off x="5181480" y="380880"/>
            <a:ext cx="2757600" cy="4388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24:05Z</dcterms:created>
  <dc:creator>Roberta Schnorr</dc:creator>
  <dc:description/>
  <dc:language>en-US</dc:language>
  <cp:lastModifiedBy>Legion</cp:lastModifiedBy>
  <dcterms:modified xsi:type="dcterms:W3CDTF">2017-07-05T11:21:00Z</dcterms:modified>
  <cp:revision>13</cp:revision>
  <dc:subject/>
  <dc:title>IROQUOIS LIFE  LONG AGO</dc:title>
</cp:coreProperties>
</file>