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AC6F-0F7F-48B1-9AB4-25F466B264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58D-B360-448A-AD70-D3B6A299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059-634E-49A6-ADD0-7BF125D1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50F-1DF3-404A-A049-A121877E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6DB-62E0-41FF-AC7F-6933A264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1B3-A5C1-4E30-8FFB-1A56B86C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7FE-BFCC-4510-B27B-16125D49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FAF-E674-4CEA-AE15-66A74B91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E1B-E703-4A8F-BD3C-E6026662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ABE-0A5D-49EE-A3AF-6DC7020D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087-D7A4-440C-AA15-DD27A7F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11D-EE37-4961-8414-4307D2C6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905-336C-40ED-B816-9F6A8F0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3394-3C28-4456-ACBA-36BC9953B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69960" y="423216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377496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057400"/>
            <a:ext cx="326556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_x0010_clan animals.jpg                                               002C9A96_x000c_Macintosh HD                   B8439062: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Reco2851.WAV" descr=""/>
          <p:cNvPicPr/>
          <p:nvPr/>
        </p:nvPicPr>
        <p:blipFill>
          <a:blip r:embed="rId3"/>
          <a:stretch/>
        </p:blipFill>
        <p:spPr>
          <a:xfrm>
            <a:off x="7391520" y="6019920"/>
            <a:ext cx="635040" cy="635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3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_x000f_longhouse 2.jpg                                                00017A9D_x000e_mac hard drive                 ABA78158:"/>
          <p:cNvPicPr/>
          <p:nvPr/>
        </p:nvPicPr>
        <p:blipFill>
          <a:blip r:embed="rId1"/>
          <a:stretch/>
        </p:blipFill>
        <p:spPr>
          <a:xfrm>
            <a:off x="4267080" y="1328760"/>
            <a:ext cx="4618080" cy="3170160"/>
          </a:xfrm>
          <a:prstGeom prst="rect">
            <a:avLst/>
          </a:prstGeom>
          <a:ln w="0">
            <a:noFill/>
          </a:ln>
        </p:spPr>
      </p:pic>
      <p:pic>
        <p:nvPicPr>
          <p:cNvPr id="57" name="Reco2851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_x0010_longhouseslg.jpg                                               002C99AF_x000c_Macintosh HD                   B8439062:"/>
          <p:cNvPicPr/>
          <p:nvPr/>
        </p:nvPicPr>
        <p:blipFill>
          <a:blip r:embed="rId3"/>
          <a:stretch/>
        </p:blipFill>
        <p:spPr>
          <a:xfrm>
            <a:off x="228600" y="914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7760" y="1523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c_cornmeal.jpg                                                   00015010_x000e_Mac hard drive                 ABA78158:"/>
          <p:cNvPicPr/>
          <p:nvPr/>
        </p:nvPicPr>
        <p:blipFill>
          <a:blip r:embed="rId1"/>
          <a:stretch/>
        </p:blipFill>
        <p:spPr>
          <a:xfrm>
            <a:off x="1447920" y="1447920"/>
            <a:ext cx="16462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59244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s,  and  gee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&#9;Deer3.JPG                                                      00017A8C_x000e_mac hard drive                 ABA78158:"/>
          <p:cNvPicPr/>
          <p:nvPr/>
        </p:nvPicPr>
        <p:blipFill>
          <a:blip r:embed="rId1"/>
          <a:stretch/>
        </p:blipFill>
        <p:spPr>
          <a:xfrm>
            <a:off x="685800" y="2084400"/>
            <a:ext cx="3809880" cy="39085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_x0010_cornhskdolls.jpg                                               00017A97_x000e_mac hard drive                 ABA78158:"/>
          <p:cNvPicPr/>
          <p:nvPr/>
        </p:nvPicPr>
        <p:blipFill>
          <a:blip r:embed="rId1"/>
          <a:stretch/>
        </p:blipFill>
        <p:spPr>
          <a:xfrm>
            <a:off x="1101600" y="1981080"/>
            <a:ext cx="297684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_x0010_elm barkdish.jpg                                               0000B96D_x000e_mac hard drive                 ABA78158:"/>
          <p:cNvPicPr/>
          <p:nvPr/>
        </p:nvPicPr>
        <p:blipFill>
          <a:blip r:embed="rId1"/>
          <a:stretch/>
        </p:blipFill>
        <p:spPr>
          <a:xfrm>
            <a:off x="4648320" y="3162240"/>
            <a:ext cx="3809880" cy="1752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24080" y="50288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_x0012_lacrossestick1.jpg                                             0001501B_x000e_Mac hard drive                 ABA78158:"/>
          <p:cNvPicPr/>
          <p:nvPr/>
        </p:nvPicPr>
        <p:blipFill>
          <a:blip r:embed="rId1"/>
          <a:stretch/>
        </p:blipFill>
        <p:spPr>
          <a:xfrm>
            <a:off x="731880" y="3581280"/>
            <a:ext cx="3809880" cy="811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327560" y="508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&#13;lacrosse4.jpg                                                  0001501B_x000e_Mac hard drive                 ABA78158:"/>
          <p:cNvPicPr/>
          <p:nvPr/>
        </p:nvPicPr>
        <p:blipFill>
          <a:blip r:embed="rId2"/>
          <a:stretch/>
        </p:blipFill>
        <p:spPr>
          <a:xfrm>
            <a:off x="5181480" y="380880"/>
            <a:ext cx="2757600" cy="4388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24:05Z</dcterms:created>
  <dc:creator>Roberta Schnorr</dc:creator>
  <dc:description/>
  <dc:language>en-US</dc:language>
  <cp:lastModifiedBy>Legion</cp:lastModifiedBy>
  <dcterms:modified xsi:type="dcterms:W3CDTF">2017-07-05T11:21:00Z</dcterms:modified>
  <cp:revision>13</cp:revision>
  <dc:subject/>
  <dc:title>IROQUOIS LIFE  LONG AGO</dc:title>
</cp:coreProperties>
</file>