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644E-9119-4127-9E1A-8FE9628F22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64A-54BD-4406-ACC7-14D55860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E0D-422E-44F4-BE9D-6D0407BC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BBE-9777-4310-9508-BF8BF887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BA2C-8AC1-41C2-BD1D-F73D58BB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A66-08CC-4B40-9C6A-60D41F5E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63D5-809F-4640-A524-A653D63C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F38C-1BB8-48F7-A00E-CAA98E65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3FDE-8978-452C-98BB-F09BF611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7F90-3803-4CBB-A73C-2DC06541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88D-A61E-409B-A973-A88523D6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99FC-9F50-4ECB-A4CF-B01D6A78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E2A-F9A3-4A87-A125-7827DF44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F5E5-567E-4543-BDBD-DE26D3F37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127080"/>
            <a:ext cx="7086600" cy="6399000"/>
          </a:xfrm>
          <a:prstGeom prst="rect">
            <a:avLst/>
          </a:prstGeom>
          <a:ln w="0">
            <a:noFill/>
          </a:ln>
        </p:spPr>
      </p:pic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52280" y="0"/>
            <a:ext cx="4248360" cy="66294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9480" y="628560"/>
            <a:ext cx="8153640" cy="5762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2438280" y="0"/>
            <a:ext cx="4249800" cy="6629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43200" y="0"/>
            <a:ext cx="3855960" cy="65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14:54:23Z</dcterms:created>
  <dc:creator>dgreenberg</dc:creator>
  <dc:description/>
  <dc:language>en-US</dc:language>
  <cp:lastModifiedBy>Legion</cp:lastModifiedBy>
  <dcterms:modified xsi:type="dcterms:W3CDTF">2017-07-05T11:57:39Z</dcterms:modified>
  <cp:revision>5</cp:revision>
  <dc:subject/>
  <dc:title>No Slide Title</dc:title>
</cp:coreProperties>
</file>