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33144-596E-4201-AB2F-0D368EFD374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63F1-83AF-4355-B8BB-FBE783689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DD3E-11C9-4F5A-A5DA-14496B042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0F62-002B-412E-A7FA-B5BF01487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589B-ED74-49A0-85FA-D10DC0494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D6AD-86EC-4580-84E2-0961F946F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16DC-1B1A-43E3-AA22-BAA292542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9E4B-B860-4210-A92A-4B3FE1305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B11A-AAC9-4EC0-821A-2C6F73E2F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3249-3A98-4E87-B400-47BA2CB67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1D00-7C6C-499E-BFFD-4D243AD7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56FB-EFD4-4D57-AB8B-EB80883D0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D5FF-82B0-4108-BABA-F5AB3E15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BD61E-30AB-41B1-8EF0-9452004813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143000" y="127080"/>
            <a:ext cx="7086600" cy="6399000"/>
          </a:xfrm>
          <a:prstGeom prst="rect">
            <a:avLst/>
          </a:prstGeom>
          <a:ln w="0">
            <a:noFill/>
          </a:ln>
        </p:spPr>
      </p:pic>
      <p:sp>
        <p:nvSpPr>
          <p:cNvPr id="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152280" y="0"/>
            <a:ext cx="4248360" cy="662940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609480" y="628560"/>
            <a:ext cx="8153640" cy="576288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2438280" y="0"/>
            <a:ext cx="4249800" cy="662940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743200" y="0"/>
            <a:ext cx="3855960" cy="655308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3T14:54:23Z</dcterms:created>
  <dc:creator>dgreenberg</dc:creator>
  <dc:description/>
  <dc:language>en-US</dc:language>
  <cp:lastModifiedBy>Legion</cp:lastModifiedBy>
  <dcterms:modified xsi:type="dcterms:W3CDTF">2017-07-05T11:57:39Z</dcterms:modified>
  <cp:revision>5</cp:revision>
  <dc:subject/>
  <dc:title>No Slide Title</dc:title>
</cp:coreProperties>
</file>