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68E4-BF7A-40BB-9AF5-A69514477C1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se Vide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ople of the South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these Vide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ople of the 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- Games (Password = explor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k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- Games (Password = explor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– Desert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SOUTH of Rocky Mountains &amp; in SOUTHERN portion of Rocky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TH of the Rio Grand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eblo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– Desert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 SOUTH of Rocky Mountains &amp; in SOUTHERN portion of Rocky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of the Rio Grand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-Story, Terraced Buil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Mud and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tory, Terraced Bui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Mud and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farmed because it was it was a difficult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farmed because it was it was a difficult jo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s (pottery, weaving, carv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ledge of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  - Corn &amp; Toba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s (pottery, weaving, car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of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 - Corn &amp; 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74A8-EF75-4717-AF40-60EBED11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5B3-D1C9-4375-8BE4-6E07B1E6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07F5-A1B3-4607-B078-204EDCE2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0CE6-AF7B-40A4-9794-07A04B1F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87E7-DC91-4E13-A2E6-1C046E73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9B32-7440-424C-8F59-BA6A920E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727B-6747-44E3-98C1-2686CDCA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CCEA-8AD8-4E21-BA1F-BD9A7A66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4A17-1B0F-4B29-95B0-28B5DFDA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538A-98DC-43F3-A061-3DA5EDB2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878C-CC58-4D7C-8FCF-24F9D818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6232-9BE3-436B-84AF-6932D89E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nativeamericanhm_p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7359-4F71-4891-96AA-D367B00A7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nativeamericanhm_p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Native Americans:</a:t>
            </a:r>
            <a:br>
              <a:rPr sz="6400"/>
            </a:b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Videos &amp; Link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United Streaming Video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 MT"/>
              </a:rPr>
              <a:t>Watch these Videos: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People of the Southwes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Go to the website &amp; find out about: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g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ccup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ative American Gam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Jeopardy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op-Up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Quiz - Games (Password = explorers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astern Woodland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Lakota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280" y="1676520"/>
          <a:ext cx="8839440" cy="1761840"/>
        </p:xfrm>
        <a:graphic>
          <a:graphicData uri="http://schemas.openxmlformats.org/drawingml/2006/table">
            <a:tbl>
              <a:tblPr/>
              <a:tblGrid>
                <a:gridCol w="1600200"/>
                <a:gridCol w="1524240"/>
                <a:gridCol w="1600200"/>
                <a:gridCol w="1828800"/>
                <a:gridCol w="2286000"/>
              </a:tblGrid>
              <a:tr h="51552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di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ccup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anspor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uth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ueb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lti-s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rrac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uild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rm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un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alk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78" descr="r_osbn_port_iroq_lg"/>
          <p:cNvPicPr/>
          <p:nvPr/>
        </p:nvPicPr>
        <p:blipFill>
          <a:blip r:embed="rId1"/>
          <a:stretch/>
        </p:blipFill>
        <p:spPr>
          <a:xfrm>
            <a:off x="6961320" y="3809880"/>
            <a:ext cx="172080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0" descr="ist2_1292508_indian_pueblo_at_acoma"/>
          <p:cNvPicPr/>
          <p:nvPr/>
        </p:nvPicPr>
        <p:blipFill>
          <a:blip r:embed="rId2"/>
          <a:stretch/>
        </p:blipFill>
        <p:spPr>
          <a:xfrm>
            <a:off x="1295280" y="3924360"/>
            <a:ext cx="3048120" cy="2028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Reg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5" name="Picture 4" descr="map"/>
          <p:cNvPicPr/>
          <p:nvPr/>
        </p:nvPicPr>
        <p:blipFill>
          <a:blip r:embed="rId1"/>
          <a:srcRect l="0" t="0" r="0" b="16290"/>
          <a:stretch/>
        </p:blipFill>
        <p:spPr>
          <a:xfrm>
            <a:off x="2286000" y="2438280"/>
            <a:ext cx="6477120" cy="3962520"/>
          </a:xfrm>
          <a:prstGeom prst="rect">
            <a:avLst/>
          </a:prstGeom>
          <a:ln w="0">
            <a:noFill/>
          </a:ln>
        </p:spPr>
      </p:pic>
      <p:sp>
        <p:nvSpPr>
          <p:cNvPr id="96" name="Line 5"/>
          <p:cNvSpPr/>
          <p:nvPr/>
        </p:nvSpPr>
        <p:spPr>
          <a:xfrm flipV="1">
            <a:off x="2133720" y="5105520"/>
            <a:ext cx="1676160" cy="838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304920" y="4343400"/>
            <a:ext cx="2209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outhw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g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80880" y="12952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g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laces that have common (the same)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he Pueblo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5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The Pueblo 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5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Dry – Desert Like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75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Lived </a:t>
            </a: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SOUTH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of Rocky Mountains &amp; in </a:t>
            </a: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SOUTHERN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portion of Rocky Mountains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75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NORTH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of the Rio Grande River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2" name="Picture 8" descr="pueblo3"/>
          <p:cNvPicPr/>
          <p:nvPr/>
        </p:nvPicPr>
        <p:blipFill>
          <a:blip r:embed="rId1"/>
          <a:stretch/>
        </p:blipFill>
        <p:spPr>
          <a:xfrm>
            <a:off x="5486400" y="2362320"/>
            <a:ext cx="3200400" cy="31669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ulti-Story, Terraced Building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ade of Mud and Soi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6" name="Picture 10" descr="pueblo2"/>
          <p:cNvPicPr/>
          <p:nvPr/>
        </p:nvPicPr>
        <p:blipFill>
          <a:blip r:embed="rId1"/>
          <a:stretch/>
        </p:blipFill>
        <p:spPr>
          <a:xfrm>
            <a:off x="1905120" y="2590920"/>
            <a:ext cx="5295960" cy="38098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Living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334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Clim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kind of weather an area has over a long period of      ti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shape of the land’s surf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Environme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Natural Surround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4724280"/>
          <a:ext cx="8610480" cy="194472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60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lim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t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ld Nigh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ittle Rainf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igh Flatl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c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Picture 39" descr="adobe"/>
          <p:cNvPicPr/>
          <p:nvPr/>
        </p:nvPicPr>
        <p:blipFill>
          <a:blip r:embed="rId1"/>
          <a:stretch/>
        </p:blipFill>
        <p:spPr>
          <a:xfrm>
            <a:off x="5715000" y="1676520"/>
            <a:ext cx="3276720" cy="2170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Occup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4038120"/>
            <a:ext cx="6172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Farm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veryone farmed because it was it was a difficult job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57200" y="1295280"/>
            <a:ext cx="6721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ccup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Daily Job of an Ad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pueblo"/>
          <p:cNvPicPr/>
          <p:nvPr/>
        </p:nvPicPr>
        <p:blipFill>
          <a:blip r:embed="rId1"/>
          <a:stretch/>
        </p:blipFill>
        <p:spPr>
          <a:xfrm>
            <a:off x="1752480" y="2133720"/>
            <a:ext cx="3657600" cy="184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indian corn"/>
          <p:cNvPicPr/>
          <p:nvPr/>
        </p:nvPicPr>
        <p:blipFill>
          <a:blip r:embed="rId2"/>
          <a:stretch/>
        </p:blipFill>
        <p:spPr>
          <a:xfrm>
            <a:off x="6400800" y="2819520"/>
            <a:ext cx="2543040" cy="38098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2895480"/>
            <a:ext cx="4496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alked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6560" y="1203480"/>
            <a:ext cx="8052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ranspor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How people move from o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taoscelebrate"/>
          <p:cNvPicPr/>
          <p:nvPr/>
        </p:nvPicPr>
        <p:blipFill>
          <a:blip r:embed="rId1"/>
          <a:stretch/>
        </p:blipFill>
        <p:spPr>
          <a:xfrm>
            <a:off x="4419720" y="2352600"/>
            <a:ext cx="3886200" cy="38703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Contributio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rts (pottery, weaving, carving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Knowledge of Environmen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espect for natur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arming  - Corn &amp; Tobacco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1203480"/>
            <a:ext cx="8991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Contributio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– Things people from the pa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Cow Creek-Indian Woman1"/>
          <p:cNvPicPr/>
          <p:nvPr/>
        </p:nvPicPr>
        <p:blipFill>
          <a:blip r:embed="rId1"/>
          <a:stretch/>
        </p:blipFill>
        <p:spPr>
          <a:xfrm>
            <a:off x="5946840" y="2438280"/>
            <a:ext cx="2813040" cy="4181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pots"/>
          <p:cNvPicPr/>
          <p:nvPr/>
        </p:nvPicPr>
        <p:blipFill>
          <a:blip r:embed="rId2"/>
          <a:srcRect l="0" t="30955" r="0" b="27148"/>
          <a:stretch/>
        </p:blipFill>
        <p:spPr>
          <a:xfrm>
            <a:off x="1219320" y="4876920"/>
            <a:ext cx="4000320" cy="16761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03:14Z</dcterms:created>
  <dc:creator>5853</dc:creator>
  <dc:description/>
  <dc:language>en-US</dc:language>
  <cp:lastModifiedBy>Legion</cp:lastModifiedBy>
  <dcterms:modified xsi:type="dcterms:W3CDTF">2017-07-05T12:06:38Z</dcterms:modified>
  <cp:revision>15</cp:revision>
  <dc:subject/>
  <dc:title>Native Americans: Powhatan Indi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383731033</vt:lpwstr>
  </property>
</Properties>
</file>