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6808-49A8-43DF-9881-9A4FD946FD8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these Vide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ople of the 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 (Password = explor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o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eblo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y – Desert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SOUTH of Rocky Mountains &amp; in SOUTHERN portion of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of the Rio Grand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tory, Terrace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Mud and 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farmed because it was it was a difficult j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pottery, weaving, car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 - Corn &amp; Tobac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6C13-4A81-4502-A0BF-4FF2096E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54B-55BC-41F2-A2F7-9A1BD643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51E-F6DE-46ED-A5A2-2A4CB10B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130-9089-4AE2-BF19-D58C2B84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DF0-DF80-40B1-8F9A-B439B04F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F23-824B-4CBB-92D0-FA1525B8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DCA-ADD4-48BE-A8A2-5422595C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5E6-F452-4CD6-8273-81D59698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9C0-5270-4D4C-A63F-121F9040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EE3-03EF-452B-87B6-3739FF55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BA61-1381-422F-A90E-F3B8837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421-A43B-4B8C-9BB7-4692444C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5E26-E488-489D-9A51-C64B53962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 MT"/>
              </a:rPr>
              <a:t>Watch these Videos: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People of the Southwes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 (Password = explorers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Lakota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ueblo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280" y="1676520"/>
          <a:ext cx="8839440" cy="17618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155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uth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ueb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lti-s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rrac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uild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rm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un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8520" bIns="385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78" descr="r_osbn_port_iroq_lg"/>
          <p:cNvPicPr/>
          <p:nvPr/>
        </p:nvPicPr>
        <p:blipFill>
          <a:blip r:embed="rId1"/>
          <a:stretch/>
        </p:blipFill>
        <p:spPr>
          <a:xfrm>
            <a:off x="6961320" y="3809880"/>
            <a:ext cx="172080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0" descr="ist2_1292508_indian_pueblo_at_acoma"/>
          <p:cNvPicPr/>
          <p:nvPr/>
        </p:nvPicPr>
        <p:blipFill>
          <a:blip r:embed="rId2"/>
          <a:stretch/>
        </p:blipFill>
        <p:spPr>
          <a:xfrm>
            <a:off x="1295280" y="3924360"/>
            <a:ext cx="3048120" cy="2028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5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2286000" y="2438280"/>
            <a:ext cx="6477120" cy="396252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 flipV="1">
            <a:off x="2133720" y="5105520"/>
            <a:ext cx="167616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304920" y="4343400"/>
            <a:ext cx="2209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Southw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ueblo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The Pueblo  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5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 MT"/>
              </a:rPr>
              <a:t>Dry – Desert Like</a:t>
            </a:r>
            <a:endParaRPr b="0" lang="en-US" sz="3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Rocky Mountains &amp; in </a:t>
            </a: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SOUTHERN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portion of Rocky Mountains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spcBef>
                <a:spcPts val="975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ff"/>
                </a:solidFill>
                <a:latin typeface="Gill Sans MT"/>
              </a:rPr>
              <a:t>NORTH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 of the Rio Grande River</a:t>
            </a:r>
            <a:endParaRPr b="0" lang="en-US" sz="3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Picture 8" descr="pueblo3"/>
          <p:cNvPicPr/>
          <p:nvPr/>
        </p:nvPicPr>
        <p:blipFill>
          <a:blip r:embed="rId1"/>
          <a:stretch/>
        </p:blipFill>
        <p:spPr>
          <a:xfrm>
            <a:off x="5486400" y="2362320"/>
            <a:ext cx="32004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ulti-Story, Terraced Building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ade of Mud and Soil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Picture 10" descr="pueblo2"/>
          <p:cNvPicPr/>
          <p:nvPr/>
        </p:nvPicPr>
        <p:blipFill>
          <a:blip r:embed="rId1"/>
          <a:stretch/>
        </p:blipFill>
        <p:spPr>
          <a:xfrm>
            <a:off x="1905120" y="2590920"/>
            <a:ext cx="5295960" cy="38098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53341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4724280"/>
          <a:ext cx="8610480" cy="194472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60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d N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ttle Rainf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igh Flat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ac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39" descr="adobe"/>
          <p:cNvPicPr/>
          <p:nvPr/>
        </p:nvPicPr>
        <p:blipFill>
          <a:blip r:embed="rId1"/>
          <a:stretch/>
        </p:blipFill>
        <p:spPr>
          <a:xfrm>
            <a:off x="5715000" y="1676520"/>
            <a:ext cx="3276720" cy="2170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40381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veryone farmed because it was it was a difficult job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ueblo"/>
          <p:cNvPicPr/>
          <p:nvPr/>
        </p:nvPicPr>
        <p:blipFill>
          <a:blip r:embed="rId1"/>
          <a:stretch/>
        </p:blipFill>
        <p:spPr>
          <a:xfrm>
            <a:off x="1752480" y="2133720"/>
            <a:ext cx="3657600" cy="184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ndian corn"/>
          <p:cNvPicPr/>
          <p:nvPr/>
        </p:nvPicPr>
        <p:blipFill>
          <a:blip r:embed="rId2"/>
          <a:stretch/>
        </p:blipFill>
        <p:spPr>
          <a:xfrm>
            <a:off x="6400800" y="2819520"/>
            <a:ext cx="2543040" cy="38098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449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taoscelebrate"/>
          <p:cNvPicPr/>
          <p:nvPr/>
        </p:nvPicPr>
        <p:blipFill>
          <a:blip r:embed="rId1"/>
          <a:stretch/>
        </p:blipFill>
        <p:spPr>
          <a:xfrm>
            <a:off x="4419720" y="2352600"/>
            <a:ext cx="3886200" cy="387036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pottery, weaving, car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Knowledge of Environ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 - Corn &amp; Tobacco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Cow Creek-Indian Woman1"/>
          <p:cNvPicPr/>
          <p:nvPr/>
        </p:nvPicPr>
        <p:blipFill>
          <a:blip r:embed="rId1"/>
          <a:stretch/>
        </p:blipFill>
        <p:spPr>
          <a:xfrm>
            <a:off x="5946840" y="2438280"/>
            <a:ext cx="2813040" cy="4181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pots"/>
          <p:cNvPicPr/>
          <p:nvPr/>
        </p:nvPicPr>
        <p:blipFill>
          <a:blip r:embed="rId2"/>
          <a:srcRect l="0" t="30955" r="0" b="27148"/>
          <a:stretch/>
        </p:blipFill>
        <p:spPr>
          <a:xfrm>
            <a:off x="1219320" y="4876920"/>
            <a:ext cx="4000320" cy="16761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06:38Z</dcterms:modified>
  <cp:revision>15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