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13DA-FB28-4C4E-9008-A6AEA6D45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D0C-6533-4E82-AD46-725A67DD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5D4-49AC-4337-9385-0F59484A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4D4-A0F8-41DF-8FFD-2D17C808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225-6B39-40C1-850E-0DA1E2D1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4C96-699A-405E-96F8-ED8A1325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3A6E-34CD-4D66-96E8-31CB70FC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C128-E714-4860-8F02-95AEBCB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4B6-2D76-4C8E-95D6-4FCA7D5E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892D-EFFE-44B4-9F2E-56655FC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F226-C7F7-48A2-BF10-0CE3D06A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C2B2-A06C-46B2-89F2-7CF603DD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497-B37C-4C63-BCB1-ED49BCC5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7230-4B80-4BA5-A589-2B0DF27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BC3B-2118-4DA0-A55D-1A4386A8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FD2C-E0AA-4A23-9BCA-0032BB6D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B817-02BF-40F6-A075-CB2AAC1F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2F3B-EAD5-4697-942D-02C453AC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442B-CDD1-4530-A523-FB857FCE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E14C-D044-4320-8C60-53499742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6953-B6A1-4976-9075-36E6098C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82E4-2595-4FA2-80FC-21FE1F7E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B4ED-7802-46E8-B07D-58DC3ECF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567-7BBE-42BB-AD01-C7C27B34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5447-A3AA-4C89-A932-65B171C6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0E69-4F15-40C3-AC80-E199F65D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ED27-F90E-4882-98BE-AE7040AF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655D-5FF5-4C13-B023-2A28EA46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C468-D0D8-41C6-A60D-C0E8864D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3D07-848F-4AF9-8911-60842870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6B30C-5C5E-4F1C-93CB-ECC954F2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D89-D80B-416C-8D34-5A6B38D2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6A4-0583-4048-BDDE-8F8734CD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9BD-1B95-4EE1-A248-A9C1460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DFB-7C51-4CBB-B7E4-C1C4467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F7B-BC78-4C80-9AF2-64FAA08A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49C-0264-4EE4-B274-C65CFB2C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22AB-B843-4F5E-84A7-92805C9B1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2158-3733-464C-A2C5-6FA51888D8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7650-9C87-4ACB-B339-0185795D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66680" y="380880"/>
            <a:ext cx="777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3505320" y="992160"/>
            <a:ext cx="5486400" cy="541332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rk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952880" y="76320"/>
            <a:ext cx="3954600" cy="66182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4275000" y="457200"/>
            <a:ext cx="4616640" cy="59180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038480" y="303120"/>
            <a:ext cx="4572000" cy="63262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ve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9212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548320" cy="4405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066680" y="3581280"/>
            <a:ext cx="26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man with Wolves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Rave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962680" cy="4437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48769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Hawk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237200" y="762120"/>
            <a:ext cx="4197240" cy="52369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e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429000" y="1057320"/>
            <a:ext cx="5638680" cy="5570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1066680" y="2719440"/>
            <a:ext cx="7925040" cy="4062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4724280" y="1219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squito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990720" y="76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cc"/>
                </a:solidFill>
                <a:uFillTx/>
                <a:latin typeface="Arial"/>
              </a:rPr>
              <a:t>Northwest Coast Tribes: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Tlingit (Tooling git), Tsimshian (Chim she an), Haida (Hi duh), Nootka, Kwakiutl (Quack ee oodle), Coast Salish, Bellabella and Bella Co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438280" y="1895400"/>
            <a:ext cx="5486400" cy="3438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219320" y="52578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219320" y="22860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west Indian Desig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Caren Car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nternational Design Library ,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ative North American Art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Janet C. Berlo &amp; Ruth B. Phi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Indians of the Northwest Traditio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, History, Legends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Petra Pres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civilization.ca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alcheringa-gallery.com/ http://www.blacktush.ca/ http://www.serial-design.com/ - http://www.serial-design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PaintStroke"/>
              </a:rPr>
              <a:t>www.chichesterinc.com/NWCMask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 American Indian Motif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CD-Rom an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ver Publication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Picture 2"/>
          <p:cNvPicPr/>
          <p:nvPr/>
        </p:nvPicPr>
        <p:blipFill>
          <a:blip r:embed="rId1"/>
          <a:stretch/>
        </p:blipFill>
        <p:spPr>
          <a:xfrm>
            <a:off x="3414600" y="30240"/>
            <a:ext cx="5119920" cy="6796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907920"/>
            <a:ext cx="304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590920" y="1295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590920" y="45720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54600" y="304920"/>
            <a:ext cx="473220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Portrait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90720" y="48769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Wild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002120" y="228600"/>
            <a:ext cx="483696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90720" y="4876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Old Wo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454640" y="304920"/>
            <a:ext cx="4460760" cy="62481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651120" y="380880"/>
            <a:ext cx="541656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465360" y="914400"/>
            <a:ext cx="55263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429000" y="1087560"/>
            <a:ext cx="5638680" cy="48686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657600" y="1015920"/>
            <a:ext cx="5334120" cy="50864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0:34:31Z</dcterms:created>
  <dc:creator>LPS Lincoln Public Schools</dc:creator>
  <dc:description/>
  <dc:language>en-US</dc:language>
  <cp:lastModifiedBy>Legion</cp:lastModifiedBy>
  <cp:lastPrinted>2008-09-25T22:15:34Z</cp:lastPrinted>
  <dcterms:modified xsi:type="dcterms:W3CDTF">2017-07-05T12:15:59Z</dcterms:modified>
  <cp:revision>4</cp:revision>
  <dc:subject/>
  <dc:title>PowerPoint Presentation</dc:title>
</cp:coreProperties>
</file>