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DA2D-AA45-4D33-BFD7-B291129436C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: Aureliano Adame Jr., Zach Roth, Paul Fisher, and Kyle Gerw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ins Ind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: Aureliano Adame Jr., Zach Roth, Paul Fisher, and Kyle Gerw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the Pawm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wnee name derived from Caddoan pariki, meaning “horn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were excellent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quail, raccoons, skunks, and prairie chick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the Pawm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wnee name derived from Caddoan pariki, meaning “horn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 were excellent hun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unted quail, raccoons, skunks, and prairie chicke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Foot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Mont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They were excellent warriors. They were also very goo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They wore many animals skins and used mother nature to supply there col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Foot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Mont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They were excellent warriors. They were also very good hun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They wore many animals skins and used mother nature to supply there col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Black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Blackfoot because of how they wore black moccas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art of the buffalo was used for various reasons. It was never wa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buffalo made te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Blackf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called Blackfoot because of how they wore black moccas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part of the buffalo was used for various reasons. It was never was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lived in buffalo made teepe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utexas.edu/courses/wilson/ant304/projects/projects98/krochenskip/krochenskip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.wikipedia.org/wiki/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cheyenneindian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ccessgenealogy.com/native/tribes/pawnee/pawneehist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kshs.org/places/pawneeindian/history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onofthesouth.net/union-generals/sioux-indians/sioux-indian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iu.edu/~lewclark/bvsiou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Ci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utexas.edu/courses/wilson/ant304/projects/projects98/krochenskip/krochenskip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en.wikipedia.org/wiki/Cheyen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cheyenneindian.com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accessgenealogy.com/native/tribes/pawnee/pawneehist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kshs.org/places/pawneeindian/history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sonofthesouth.net/union-generals/sioux-indians/sioux-indians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iu.edu/~lewclark/bvsiou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apaho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ikar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iniboin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sin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ul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pewy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ot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dats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inah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d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glal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ag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o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eg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c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paw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si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ksik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to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chit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anktonai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i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apaho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ikar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siniboin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sin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ul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pewy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ow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kot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dats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inah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d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glal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ag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o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eg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nc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paw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rsi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ksik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to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chit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anktonai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: Dakota’s, Kansas, Nebraska, Montana, and Wyom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: Nomadic and moved frequently followed buffalo herds and lodged in te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often they moved they were a united tri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: Dakota’s, Kansas, Nebraska, Montana, and Wyom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: Nomadic and moved frequently followed buffalo herds and lodged in teepe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tter how often they moved they were a united trib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Tribe Con’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: strips of leather in their hair to keep their hair pulled ba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es were all made of animal skin (mostly deer skin). Women wore long dresses and leggings, men wore deerskins shirts and tight legg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Tribe Con’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: strips of leather in their hair to keep their hair pulled back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thes were all made of animal skin (mostly deer skin). Women wore long dresses and leggings, men wore deerskins shirts and tight leggi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On 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means “Little Snak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 themselves to Lakota/D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activities powow, rodeos, and r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On Siou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means “Little Snak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 themselves to Lakota/Dako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activities powow, rodeos, and ra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Great Plains east of Rocky Mountains west of Mississippi River, Settled in Montana and Oklaho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Took care of morning chores after waking up, men prepared to start hunting, women would keep the camp in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Great Plains east of Rocky Mountains west of Mississippi River, Settled in Montana and Oklahom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Took care of morning chores after waking up, men prepared to start hunting, women would keep the camp in ord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Men wore hip-leggings made of deerskin, women wore moccasins knee length leggings and dresses made of deersk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Men wore hip-leggings made of deerskin, women wore moccasins knee length leggings and dresses made of deersk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the Cheyenn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ee customs was smoking of the peace pi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their own langu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homes were made from logs and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the Cheyenn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ee customs was smoking of the peace pi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d their own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r homes were made from logs and ear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wne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Valley of Platte River, Nebra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Women grew crops and made pottery, women were perceived as the power of life, men would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Women wore skirts and moccasins, and in the winter they wore buckskin dresses, men would wear loin cloths in warmer we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wne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Valley of Platte River, Nebras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Women grew crops and made pottery, women were perceived as the power of life, men would hu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Women wore skirts and moccasins, and in the winter they wore buckskin dresses, men would wear loin cloths in warmer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48B-F2B8-4DEE-B0E2-FDF3EB20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D69-2933-4536-B5E7-3E2FE4C0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6DFA-C43C-4D7E-BB91-77A09199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C1B-ED68-4D7E-85BE-0805106B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A464-084A-45C2-A70D-43C22849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6CCF-CA82-4EE0-9076-B22F3FBA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272D-C874-42C4-AB89-6D3DBA3D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5C65-50B2-40AB-A166-4C2AA602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D1CE-45F1-483B-8EE6-724FF2D8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D1F4-2DFA-49AC-BF36-22612A11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A9C9-FF4B-40A0-9B36-F76D757E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108-2840-45BB-B822-A70735A0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2211-A9B3-4B87-8C2A-18A808AC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A6CB-BDA4-4929-97F4-0846D0AB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DD74-694C-471A-AD58-1210A51A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B122-E1D8-4781-958A-9813FFD5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DF10-C275-420C-A943-D4F3F417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6D7-28A2-4365-8B2E-CF30B741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3955-78C4-41CA-AFAF-3A366BA8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9A0D-98B8-4815-B3EC-702004F1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23A9-4C65-4D94-940F-DADA2315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7F6B-C92D-412F-92E7-6C0688E7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ED55-0C49-4BFC-9230-2449177F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18E0-F455-4F69-BDAC-56D2636C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6551-35E4-46AB-946B-E5DD1F483C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0AAC-AD58-4A4A-8E74-C22DAE0969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texas.edu/courses/wilson/ant304/projects/projects98/krochenskip/krochenskip.html" TargetMode="External"/><Relationship Id="rId2" Type="http://schemas.openxmlformats.org/officeDocument/2006/relationships/hyperlink" Target="http://en.wikipedia.org/wiki/Cheyenn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Plains Indian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: Aureliano Adame Jr., Zach Roth, Paul Fisher, and Kyle Gerw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25116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Interesting Facts About the Pawm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wnee name derived from Caddoan pariki, meaning “horn”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n were excellent hunter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hunted quail, raccoons, skunks, and prairie chicken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lackFoot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Monta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They were excellent warriors. They were also very good hunter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They wore many animals skins and used mother nature to supply there colth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Interesting Facts About Blackfoo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are called Blackfoot because of how they wore black moccasin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very part of the buffalo was used for various reasons. It was never wast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lived in buffalo made teepe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 Ci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.utexas.edu/courses/wilson/ant304/projects/projects98/krochenskip/krochenskip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9900"/>
                </a:solidFill>
                <a:uFillTx/>
                <a:latin typeface="Arial"/>
                <a:hlinkClick r:id="rId2"/>
              </a:rPr>
              <a:t>http://en.wikipedia.org/wiki/Cheyen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cheyenneindian.com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accessgenealogy.com/native/tribes/pawnee/pawneehist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kshs.org/places/pawneeindian/history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sonofthesouth.net/union-generals/sioux-indians/sioux-indians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eiu.edu/~lewclark/bvsioux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ib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495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rapaho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rikar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ssiniboin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tsin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Brul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heyenn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hipewyan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re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row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Dakot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Hidats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plainsT"/>
          <p:cNvPicPr/>
          <p:nvPr/>
        </p:nvPicPr>
        <p:blipFill>
          <a:blip r:embed="rId1"/>
          <a:stretch/>
        </p:blipFill>
        <p:spPr>
          <a:xfrm>
            <a:off x="5486400" y="1828800"/>
            <a:ext cx="3170160" cy="3700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429000" y="1752480"/>
            <a:ext cx="327672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inah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nda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glal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sage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o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ega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nc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paw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rsi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ksik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to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chit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anktonai India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oux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: Dakota’s, Kansas, Nebraska, Montana, and Wyoming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: Nomadic and moved frequently followed buffalo herds and lodged in teepe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 matter how often they moved they were a united trib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oux Tribe Con’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ps of leather in their hair to keep their hair pulled bac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thes were all made of animal skin (mostly deer skin). Women wore long dresses and leggings, men wore deerskins shirts and tight legg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 Interesting Facts On Sio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oux means “Little Snake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fer themselves to Lakota/Dakot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cial activities powow, rodeos, and rac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yenn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Great Plains east of Rocky Mountains west of Mississippi River, Settled in Montana and Oklahom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Took care of morning chores after waking up, men prepared to start hunting, women would keep the camp in ord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yenn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Men wore hip-leggings made of deerskin, women wore moccasins knee length leggings and dresses made of deerski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Interesting Facts About the Cheyenn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yenee customs was smoking of the peace pi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their own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homes were made from logs and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wne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Valley of Platte River, Nebrask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Women grew crops and made pottery, women were perceived as the power of life, men would hu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Women wore skirts and moccasins, and in the winter they wore buckskin dresses, men would wear loin cloths in warmer weath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5:51:54Z</dcterms:created>
  <dc:creator>Penta Career Center</dc:creator>
  <dc:description/>
  <dc:language>en-US</dc:language>
  <cp:lastModifiedBy>Legion</cp:lastModifiedBy>
  <dcterms:modified xsi:type="dcterms:W3CDTF">2017-07-05T12:26:24Z</dcterms:modified>
  <cp:revision>6</cp:revision>
  <dc:subject/>
  <dc:title>Plains Indians</dc:title>
</cp:coreProperties>
</file>