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8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44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4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0373-AB0A-4C98-A07D-4A2D2BF39E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3CC-6AB7-4F40-89FA-BDAA55E0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B7F-10C9-4258-A4E9-4EE599D9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74009-169D-4BAF-AD20-AD472CFE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D8AB5-DCF0-415B-B3D5-D1A8010E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80E9E-651E-4E99-961B-51417A50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0750A-EEC8-4E6E-8EB2-B6FEC065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831A3-90FF-4184-81E7-8F293186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509A8-F16F-4896-8E41-F8E34FF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50383-1B0B-4136-9B96-9B6C9F3A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C2F81-D2F3-4EBA-987C-345F77CF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AB17D-7FD0-4D7A-9DC5-F66BDA84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D5D-7AF2-4E8C-A764-A3BEE997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B9E-8694-4132-8B7F-F39A469F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6341-AC24-44EE-BE28-179FC149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1F9B-6DCE-4020-8831-F91642FE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9988-FA8A-4A8B-9CA8-D6157933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5840-CA2A-4F7E-A34B-5FB32D9F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4CB4-083F-48A0-88B1-AAA0A1AD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02F9-10E6-461D-902C-2DA1B21B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30BF-22EE-4EAE-B938-604E1851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B5F-3A9A-48F4-B69B-2AAE9FD9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8D21-3DC5-40F2-81E3-77EFCC6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3434-A038-45AB-B6F7-70918BF2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25B6-774C-49B4-B321-FF7754AD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2892-D499-4810-8244-20EB2EA6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00E6-4190-4F76-8CB4-C2BC6759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3E292-8115-4BEF-ADC3-6D2A11A6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4822-E256-4ED5-A399-CEA8C57F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0798C-76E9-46F7-B92C-3CD5FF4C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D9C0-D671-42E5-88E0-55B2E39B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FC93-F8CD-4243-A3BD-9B21465F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CB7-E7E5-4DBC-8989-09FFF4AE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CCB9-5FDE-4BDA-B8FA-2C3B72F1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888F0-D4F5-47AA-81A3-1A5899AB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5CE69-DF46-4630-98E7-26D8C72C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2CCC-F094-4EF3-A560-AFBB93A3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3156-FC80-4777-A571-0F1C71EB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47B4-EDA7-4690-99F8-F1A327BA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B5D7-DFBA-42D0-8854-FF5B15E5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E2B98-6038-4328-966D-BA10A114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8B58D-BCF3-49FB-9D95-217E0C3A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5D92-6B81-4363-A404-29BFD81B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3AB-8047-491B-BF40-C6073BC9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AAF5-3984-41A3-B098-C5003FCC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648A0-AD41-4178-BC03-E426AA84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68F0-FC5A-4412-92E3-265B6CC9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64886-D602-4302-8187-BD7E831C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F5F4-103C-4874-835F-E3F0E4E5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BD543-F7C3-4748-B05E-72ADAF4E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C9738-F2A4-42D8-8A35-E08FCF94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AECA8-63D7-45B5-BA06-9F3E0FF0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BD91-EC9E-4BE1-98BB-1E07479F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A5C9A-9EE0-4CED-8BF2-2D423507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46E-1B28-4A89-BB19-A28EDC4D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AA6C3-9B80-4C66-93D1-4627C5BB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90D9-2880-4054-9938-6890874B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066C3-53CD-4367-B2D9-8EDF260F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FC7E0-062B-4C54-AE26-DA8FBA62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808E0-4049-4EC9-8A65-A6FC6F46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CF683-A8BB-48C8-8D30-85B4FC1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1DCCE-80B1-4EED-93A8-5A29612D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E9E3-A0B4-4E78-B9AA-A5CA6CC1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1CAE1-C87B-4DF7-8DCD-12101B64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16B20-F616-416B-A83D-D2CB4419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0EA-4B7A-4D25-B8E0-EC5F3058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8C0C9-9507-4F8B-92B8-1CFF4A69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181B5-2D11-4219-9AFF-025E2D72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624B6-FF1A-4DB8-BA87-EC429E96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705E1-A07F-4971-87B0-8DD24886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5167-788B-460A-97D0-C3ADF2BC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489E0-86DA-4D5A-80CA-EA44A9DD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DF8B0-4ECC-4076-867A-7F7AFB29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DC7ED-BDA6-4EC4-B60C-55C12851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10FA2-F589-4724-B316-15B06E64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A6FED-C03C-4118-847B-D3020252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41A-FAFF-4914-AFCE-DF346FA7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6808F-FD00-4FC2-BE0F-1302316C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056A9-5BA7-46D2-B766-3092AEAD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9159F-9133-42B3-B80E-874F1EC6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859C5-A1C1-43FD-8186-4AC8962F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76518-D391-453E-B1F6-15D1716E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48481-F4D3-4382-B4F8-93231B7D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075E2-048C-4898-AB16-E221F46D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0577A-9280-495E-AA14-90E0C39E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20407-CB3E-46FB-864D-11A4F50F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1ED01-F34C-4269-8D15-2D245A1E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080-F4A5-43E6-AA2E-7E632140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5B6C8-13E6-405D-BAFB-04B00810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83989-1E87-4A8F-A758-B395C4DE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AF8E4-6694-453A-BE83-BBD1E92F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CFEA5-D530-4406-81B3-2468BBB8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08A65-EF61-49E0-B172-1E8FDB55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DDB0D-A064-4200-840E-710D0BFC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B0DB6-25E8-40A9-B494-C78B269A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5EE2E-D5CB-4975-BA8C-D7372AB7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E8B33-3194-4C0E-887E-72EA65F7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A1BED-78FF-4960-A994-A8BC4F4C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005-B345-4A16-BE0B-E15C1044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6D08F-01E0-4238-B916-EB0652E4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BDB3F-6D87-4202-829A-3700F29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BE75F-6143-42A1-9BE6-F60E5EBA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A2508-58C5-4A7B-9F20-8A2357FA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0A687-4639-4E17-8FAB-1EB36C88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D3D01-17C7-4D28-9FA4-B5385949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7EB95-EC4D-4845-9F05-A5CCF69D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F861C-CCDC-450B-810D-3A12DCC3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5C109-88B5-47BC-A07E-FCC78903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FF8B7-7F76-412F-A3BC-8DD98895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10C1-963C-4CE5-B99F-F3E8A327C6A9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81EA-7FC2-4CED-98C5-E22E8038D7C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279A-296B-4232-9D2F-3158BB30B7A6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4383-7A0B-4C5B-9297-DDE4AB13100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B2D7-0F02-4A0F-AA46-E2708B914EA4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DDEA-92F5-4CF8-A203-C1D562BF598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DC57-FBA1-4895-8F32-2703E5259E96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C941-55C8-4216-B8E1-763FB3448DD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856E-201F-4287-BE83-7A5A56A2162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DB07-07DB-4500-8D12-52174255807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9DAD-8B0C-401F-BDB9-6B2F74733881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10E8-9873-4F5A-AB69-D4467069DB8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6283-1374-4DEF-9407-DA1DCE43B48F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87ED-15D5-4855-9ABE-7E7FF47FCF0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A775-63E9-4A62-92F4-D9DEC721C1C6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35BB-F045-49B9-80DF-7057713ECD9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DB52-68F2-4FD7-B92F-8C99043EC803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42B9-100D-4BAB-8567-D13F96F87F4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rds.yahoo.com/_ylt=A0WTb_hzv81IHJsAFWOJzbkF;_ylu=X3oDMTBpZm5udGl1BHBvcwM1BHNlYwNzcgR2dGlkAw--/SIG=1mp4j4fvv/EXP=1221529843/**http:/images.search.yahoo.com/images/view?back=http://images.search.yahoo.com/search/images?ei=UTF-8&amp;p=eagle%20feather%20headdress&amp;fr2=tab-web&amp;fr=yfp-t-501&amp;w=263&amp;h=450&amp;imgurl=www.liverpoolmuseums.org.uk/wml/humanworld/worldcultures/americas/Hiawatha/graphics/large/Feather_headdress.jpg&amp;rurl=http://www.liverpoolmuseums.org.uk/wml/humanworld/worldcultures/americas/hiawatha/feather_headdress.asp&amp;size=19.2kB&amp;name=Feather_headdress.jpg&amp;p=eagle+feather+headdress&amp;type=JPG&amp;oid=5b010c7f52811078&amp;no=5&amp;tt=36&amp;sigr=1377flcf2&amp;sigi=13fvpftqd&amp;sigb=13c612lkj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Chiefs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Indians.jpg" TargetMode="External"/><Relationship Id="rId2" Type="http://schemas.openxmlformats.org/officeDocument/2006/relationships/hyperlink" Target="http://www.legendsofamerica.com/photos-nativeamerican/SiouxIndians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hyperlink" Target="http://rds.yahoo.com/_ylt=A0WTbx5Qwc1I0PsAtSyJzbkF;_ylu=X3oDMTBqY2pzbGhoBHBvcwMxMQRzZWMDc3IEdnRpZAM-/SIG=1jh8vq0u7/EXP=1221530320/**http:/images.search.yahoo.com/images/view?back=http://images.search.yahoo.com/search/images?p=dog+travois&amp;js=1&amp;ni=18&amp;ei=utf-8&amp;fr=yfp-t-501&amp;xargs=0&amp;pstart=1&amp;b=1&amp;w=449&amp;h=242&amp;imgurl=historyforkids.utah.gov/jump_in/images/kids--dogtravois_000.jpg&amp;rurl=http://historyforkids.utah.gov/jump_in/AncientDogsofUtah.html&amp;size=30.6kB&amp;name=kids--dogtravois_000.jpg&amp;p=dog+travois&amp;type=JPG&amp;oid=66e775b10f0d458c&amp;no=11&amp;tt=64&amp;sigr=11ts3fvvm&amp;sigi=11voji627&amp;sigb=13gvk743g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ld-picture.com/indians/Indian-Woman-Cooking.htm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old-picture.com/indians/Sioux-Indian-Maiden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9000" y="4761000"/>
            <a:ext cx="8650080" cy="1315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Native American Teepee"/>
          <p:cNvPicPr/>
          <p:nvPr/>
        </p:nvPicPr>
        <p:blipFill>
          <a:blip r:embed="rId2"/>
          <a:stretch/>
        </p:blipFill>
        <p:spPr>
          <a:xfrm>
            <a:off x="2286000" y="990720"/>
            <a:ext cx="501012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bies were taught at a very young age not to cry because it might scare off the food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four years old the girls would accompany their mother with her chores and the boys would listen to war stories and practice their bow and arrow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oys and girls never played together, they knew they had separate roles in lif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the age of 13, men went on Vision Ques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played a game like stick ball (hockey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tipi (teepee) is a portable house, great for the nomadic life of a Plains India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is made up of 3-4 poles and up to 12 buffalo skins sewn together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opening always faced the morning sun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takes about one hour for a women to assemble the families tip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Sioux tipis-tipi.co.uk,tipi,teepee,wigwam"/>
          <p:cNvPicPr/>
          <p:nvPr/>
        </p:nvPicPr>
        <p:blipFill>
          <a:blip r:embed="rId1"/>
          <a:stretch/>
        </p:blipFill>
        <p:spPr>
          <a:xfrm>
            <a:off x="380880" y="304920"/>
            <a:ext cx="4286520" cy="2952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Making Camp"/>
          <p:cNvPicPr/>
          <p:nvPr/>
        </p:nvPicPr>
        <p:blipFill>
          <a:blip r:embed="rId2"/>
          <a:stretch/>
        </p:blipFill>
        <p:spPr>
          <a:xfrm>
            <a:off x="3962520" y="2979720"/>
            <a:ext cx="5181480" cy="387828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s changed when they got horses. They traded or stole them from the Spanish settle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horses helped with hunting, intertribal trading and wa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arriors would paint their horses to show their history of battl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http://rds.yahoo.com/_ylt=A0WTefhLuM1IRTwBdgajzbkF/SIG=129ovqv06/EXP=1221528011/**http%3A/eee.uci.edu/clients/tcthorne/Hist15/horses.gif"/>
          <p:cNvPicPr/>
          <p:nvPr/>
        </p:nvPicPr>
        <p:blipFill>
          <a:blip r:embed="rId1"/>
          <a:stretch/>
        </p:blipFill>
        <p:spPr>
          <a:xfrm>
            <a:off x="228600" y="838080"/>
            <a:ext cx="4600440" cy="49532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http://www.americanwest.com/critters/animages/gazette/pix56.jpg"/>
          <p:cNvPicPr/>
          <p:nvPr/>
        </p:nvPicPr>
        <p:blipFill>
          <a:blip r:embed="rId2"/>
          <a:stretch/>
        </p:blipFill>
        <p:spPr>
          <a:xfrm>
            <a:off x="4876920" y="533520"/>
            <a:ext cx="2857320" cy="1952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Shoshone Warrior &amp; Horse by Nativestock Pictures."/>
          <p:cNvPicPr/>
          <p:nvPr/>
        </p:nvPicPr>
        <p:blipFill>
          <a:blip r:embed="rId3"/>
          <a:stretch/>
        </p:blipFill>
        <p:spPr>
          <a:xfrm>
            <a:off x="4952880" y="2590920"/>
            <a:ext cx="2743200" cy="399888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ummer wardrobe of deerskin and a winter wardrobe of buffalo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very Indian wore a belt to hang tools, knives or cups off of, since there were no pocke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ach tribe made a different moccasin, some were made from deerskin, quills, and bead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Hairpipes, long thin beads made from bones, were woven into the hair and kept for lif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a man has been a great warrior he would wear a war bonnet made of eagle feathers. The greater the warrior, the more feather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Scalp Shirts"/>
          <p:cNvPicPr/>
          <p:nvPr/>
        </p:nvPicPr>
        <p:blipFill>
          <a:blip r:embed="rId1"/>
          <a:stretch/>
        </p:blipFill>
        <p:spPr>
          <a:xfrm>
            <a:off x="152280" y="228600"/>
            <a:ext cx="4614840" cy="32767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4"/>
          <p:cNvSpPr/>
          <p:nvPr/>
        </p:nvSpPr>
        <p:spPr>
          <a:xfrm>
            <a:off x="228600" y="3505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ese shirts are made from human scalps…you don’t want to be a Plains Indian’s enem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57200"/>
            <a:ext cx="1609560" cy="2781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http://www.d.umn.edu/~cheaslip/headdress.jpg"/>
          <p:cNvPicPr/>
          <p:nvPr/>
        </p:nvPicPr>
        <p:blipFill>
          <a:blip r:embed="rId4"/>
          <a:stretch/>
        </p:blipFill>
        <p:spPr>
          <a:xfrm>
            <a:off x="5127480" y="3886200"/>
            <a:ext cx="4016520" cy="2781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0" descr="Go to fullsize image"/>
          <p:cNvPicPr/>
          <p:nvPr/>
        </p:nvPicPr>
        <p:blipFill>
          <a:blip r:embed="rId5"/>
          <a:stretch/>
        </p:blipFill>
        <p:spPr>
          <a:xfrm>
            <a:off x="1447920" y="4202280"/>
            <a:ext cx="1676160" cy="265572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92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efore each hunt they performed a buffalo d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n foot it took a whole tribe to catch a buffalo, they are very dangerou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uffalo heart was left on the plains as an offe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and women would record their lives on buffalo hides using pictograph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http://rds.yahoo.com/_ylt=A0WTeffxuM1ILzMA2GCjzbkF/SIG=12i98eifn/EXP=1221528177/**http%3A/www.saskschools.ca/~gregory/firstnations/scans/uses.jpg"/>
          <p:cNvPicPr/>
          <p:nvPr/>
        </p:nvPicPr>
        <p:blipFill>
          <a:blip r:embed="rId1"/>
          <a:stretch/>
        </p:blipFill>
        <p:spPr>
          <a:xfrm>
            <a:off x="0" y="609480"/>
            <a:ext cx="9091440" cy="57150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Winter Count Hide"/>
          <p:cNvPicPr/>
          <p:nvPr/>
        </p:nvPicPr>
        <p:blipFill>
          <a:blip r:embed="rId1"/>
          <a:stretch/>
        </p:blipFill>
        <p:spPr>
          <a:xfrm>
            <a:off x="0" y="990720"/>
            <a:ext cx="5340240" cy="4419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Image: Herd of buffalo feeding on the plain"/>
          <p:cNvPicPr/>
          <p:nvPr/>
        </p:nvPicPr>
        <p:blipFill>
          <a:blip r:embed="rId2"/>
          <a:stretch/>
        </p:blipFill>
        <p:spPr>
          <a:xfrm>
            <a:off x="4952880" y="380880"/>
            <a:ext cx="3048120" cy="2000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http://upload.wikimedia.org/wikipedia/commons/thumb/8/8d/American_bison_k5680-1.jpg/180px-American_bison_k5680-1.jpg"/>
          <p:cNvPicPr/>
          <p:nvPr/>
        </p:nvPicPr>
        <p:blipFill>
          <a:blip r:embed="rId3"/>
          <a:stretch/>
        </p:blipFill>
        <p:spPr>
          <a:xfrm>
            <a:off x="5105520" y="2819520"/>
            <a:ext cx="3824280" cy="248580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d in the middle region of the United Stat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roughly west of the Mississippi River and east of the Rocky Mountai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land is made up of miles of treeless grasslands….which is perfect grazing fields for buffalo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3049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were the tribes to hold onto their culture the longest out of all of the American Indian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because the plains were the last to be settled and the hardest to live off of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the white man came, it changed where they lived, the tools they used, and what they at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 of the largest Indian Reservations are located in the Great Plains today. (South Dakota and Oklahoma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8" descr="Chief Sitting Bull"/>
          <p:cNvPicPr/>
          <p:nvPr/>
        </p:nvPicPr>
        <p:blipFill>
          <a:blip r:embed="rId1"/>
          <a:stretch/>
        </p:blipFill>
        <p:spPr>
          <a:xfrm>
            <a:off x="6934320" y="152280"/>
            <a:ext cx="2066760" cy="2971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Crazy"/>
          <p:cNvPicPr/>
          <p:nvPr/>
        </p:nvPicPr>
        <p:blipFill>
          <a:blip r:embed="rId2"/>
          <a:stretch/>
        </p:blipFill>
        <p:spPr>
          <a:xfrm>
            <a:off x="0" y="152280"/>
            <a:ext cx="3238560" cy="4762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Crazy Horse model in foreground with mountain in background."/>
          <p:cNvPicPr/>
          <p:nvPr/>
        </p:nvPicPr>
        <p:blipFill>
          <a:blip r:embed="rId3"/>
          <a:stretch/>
        </p:blipFill>
        <p:spPr>
          <a:xfrm>
            <a:off x="2209680" y="3186000"/>
            <a:ext cx="5334120" cy="36720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10"/>
          <p:cNvSpPr/>
          <p:nvPr/>
        </p:nvSpPr>
        <p:spPr>
          <a:xfrm>
            <a:off x="5715000" y="4572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tting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1"/>
          <p:cNvSpPr/>
          <p:nvPr/>
        </p:nvSpPr>
        <p:spPr>
          <a:xfrm>
            <a:off x="304920" y="53341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razy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Image:Indian reservations.gif"/>
          <p:cNvPicPr/>
          <p:nvPr/>
        </p:nvPicPr>
        <p:blipFill>
          <a:blip r:embed="rId1"/>
          <a:stretch/>
        </p:blipFill>
        <p:spPr>
          <a:xfrm>
            <a:off x="152280" y="609480"/>
            <a:ext cx="8956800" cy="605808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"/>
          <p:cNvSpPr/>
          <p:nvPr/>
        </p:nvSpPr>
        <p:spPr>
          <a:xfrm>
            <a:off x="2666880" y="685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here Indian Reservations are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515240" y="-3290760"/>
            <a:ext cx="2286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Straight Arrow Connector 5" descr=""/>
          <p:cNvPicPr/>
          <p:nvPr/>
        </p:nvPicPr>
        <p:blipFill>
          <a:blip r:embed="rId3"/>
          <a:stretch/>
        </p:blipFill>
        <p:spPr>
          <a:xfrm>
            <a:off x="1731960" y="3371760"/>
            <a:ext cx="4565520" cy="15606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304920" y="190512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n between the Mississ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iver and the Rocky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 well known tribes in the Plains region are the…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ro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yen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pach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nce they moved around a lot you will find variations in the tribes, ex: the dakota-sioux, teton-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ioux Chief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4479840" cy="3200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Lakota Sioux Indian Village"/>
          <p:cNvPicPr/>
          <p:nvPr/>
        </p:nvPicPr>
        <p:blipFill>
          <a:blip r:embed="rId3"/>
          <a:stretch/>
        </p:blipFill>
        <p:spPr>
          <a:xfrm>
            <a:off x="3429000" y="264780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est hunters had the highest rank in their trib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 man was also judged by how many horses he was able to obtain and if he shared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hunted deer, rabbit and elk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ogs would pull their catch back to camp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>
            <a:hlinkClick r:id="rId1"/>
          </p:cNvPr>
          <p:cNvSpPr/>
          <p:nvPr/>
        </p:nvSpPr>
        <p:spPr>
          <a:xfrm>
            <a:off x="123840" y="-1257480"/>
            <a:ext cx="243828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Sioux Warrio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609480"/>
            <a:ext cx="3124080" cy="335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Stock Photo of  native american indians ogallala sioux archival photo  "/>
          <p:cNvPicPr/>
          <p:nvPr/>
        </p:nvPicPr>
        <p:blipFill>
          <a:blip r:embed="rId4"/>
          <a:stretch/>
        </p:blipFill>
        <p:spPr>
          <a:xfrm>
            <a:off x="4495680" y="533520"/>
            <a:ext cx="4280040" cy="3143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http://rds.yahoo.com/_ylt=A0WTb_4cwc1Ifw0Bt8KjzbkF/SIG=12t0egdf0/EXP=1221530268/**http%3A/www.majesticview1.com/images/NAID%2520Pics/dog_indians_travois.jpg"/>
          <p:cNvPicPr/>
          <p:nvPr/>
        </p:nvPicPr>
        <p:blipFill>
          <a:blip r:embed="rId5"/>
          <a:stretch/>
        </p:blipFill>
        <p:spPr>
          <a:xfrm>
            <a:off x="5029200" y="4114800"/>
            <a:ext cx="2428920" cy="2247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4648320"/>
            <a:ext cx="3182760" cy="17049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Plains women excelled at quillwork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se quills were sewn in clothing and used for artwork on tipi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omen chores were fetching water, sweeping, hoeing the fields, cooking and sewing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land far from rivers were tough to garden, but near rivers they would grow corn, squash and sunflowe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mostly picked berries and nu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were seen as inferior, not to speak unless spoken t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Indian Woman Coo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971800" cy="3922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Sioux Indian Maid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228600"/>
            <a:ext cx="3429000" cy="4778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http://rds.yahoo.com/_ylt=A0WTb_iOwM1IS70ACSejzbkF/SIG=12pm9ipi3/EXP=1221530126/**http%3A/www.digital.library.upenn.edu/women/buffalo/garden/plate-3.gif"/>
          <p:cNvPicPr/>
          <p:nvPr/>
        </p:nvPicPr>
        <p:blipFill>
          <a:blip r:embed="rId5"/>
          <a:stretch/>
        </p:blipFill>
        <p:spPr>
          <a:xfrm>
            <a:off x="3200400" y="2838600"/>
            <a:ext cx="2828880" cy="401940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3:24:19Z</dcterms:created>
  <dc:creator>Christine Goff</dc:creator>
  <dc:description/>
  <dc:language>en-US</dc:language>
  <cp:lastModifiedBy>Legion</cp:lastModifiedBy>
  <dcterms:modified xsi:type="dcterms:W3CDTF">2017-07-05T12:20:17Z</dcterms:modified>
  <cp:revision>25</cp:revision>
  <dc:subject/>
  <dc:title>The Plains Indians</dc:title>
</cp:coreProperties>
</file>