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9.png" ContentType="image/png"/>
  <Override PartName="/ppt/media/image38.jpeg" ContentType="image/jpeg"/>
  <Override PartName="/ppt/media/image11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44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png" ContentType="image/png"/>
  <Override PartName="/ppt/media/image35.png" ContentType="image/png"/>
  <Override PartName="/ppt/media/image4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C33C-2336-4AF3-ABA2-DA9808FB59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 were taught at a very young age not to cry because it might scare off the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four years old the girls would accompany their mother with her chores and the boys would listen to war stories and practice their bow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s and girls never played together, they knew they had separate roles in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age of 13, men went on Vision Qu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yed a game like stick ball (hocke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k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were taught at a very young age not to cry because it might scare off the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our years old the girls would accompany their mother with her chores and the boys would listen to war stories and practice their bow and arrow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ys and girls never played together, they knew they had separate roles in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 of 13, men went on Vision 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yed a game like stick ball (hoc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y live 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pi (teepee) is a portable house, great for the nomadic life of a Plains Indi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made up of 3-4 poles and up to 12 buffalo skins sewn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ing always faced the morning 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bout one hour for a women to assemble the families ti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ive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pi (teepee) is a portable house, great for the nomadic life of a Plains Indi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3-4 poles and up to 12 buffalo skins sewn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ing always faced the morning s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bout one hour for a women to assemble the families ti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lives changed when they got horses. They traded or stole them from the Spanish settl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ses helped with hunting, intertribal trading and w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riors would paint their horses to show their history of batt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lives changed when they got horses. They traded or stole them from the Spanish settl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rses helped with hunting, intertribal trading and w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riors would paint their horses to show their history of batt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Fash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wardrobe of deerskin and a winter wardrobe of buffal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Indian wore a belt to hang tools, knives or cups off of, since there were no pocke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ribe made a different moccasin, some were made from deerskin, quills, and be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pipes, long thin beads made from bones, were woven into the hair and kept for l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an has been a great warrior he would wear a war bonnet made of eagle feathers. The greater the warrior, the more feath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wardrobe of deerskin and a winter wardrobe of buffal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Indian wore a belt to hang tools, knives or cups off of, since there were no po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be made a different moccasin, some were made from deerskin, quills, and b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pipes, long thin beads made from bones, were woven into the hair and kept for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man has been a great warrior he would wear a war bonnet made of eagle feathers. The greater the warrior, the more fea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hirts are made from human scalps…you don’t want to be a Plains Indian’s enem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hirts are made from human scalps…you don’t want to be a Plains Indian’s enem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each hunt they performed a buffalo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oot it took a whole tribe to catch a buffalo, they are very dange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 heart was left on the plains as an off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and women would record their lives on buffalo hides using pictogra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each hunt they performed a buffalo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foot it took a whole tribe to catch a buffalo, they are very dangero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ffalo heart was left on the plains as an off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and women would record their lives on buffalo hides using pictograp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lived in the middle region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oughly west of the Mississippi River and east of the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made up of miles of treeless grasslands….which is perfect grazing fields for buffal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lived in the middle region of the United St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oughly west of the Mississippi River and east of the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nd is made up of miles of treeless grasslands….which is perfect grazing fields for buffal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hite man c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were the tribes to hold onto their culture the longest out of all of the American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the plains were the last to be settled and the hardest to live off 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hite man came, it changed where they lived, the tools they used, and what they 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of the largest Indian Reservations are located in the Great Plains today. (South Dakota and Oklahom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hite man c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were the tribes to hold onto their culture the longest out of all of the American India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plains were the last to be settled and the hardest to live off o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hite man came, it changed where they lived, the tools they used, and what they 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of the largest Indian Reservations are located in the Great Plains today. (South Dakota and Oklahom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ting Bu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zy H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B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zy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ndian Reservations ar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ndian Reservations are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etween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 and the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etween the Mississ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 and the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ell known tribes in the Plains region are th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y moved around a lot you will find variations in the tribes, ex: the dakota-sioux, teton-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ll known tribes in the Plains region are th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moved around a lot you will find variations in the tribes, ex: the dakota-sioux, teton-sio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hunters had the highest rank in their tri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also judged by how many horses he was able to obtain and if he shared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hunted deer, rabbit and el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s would pull their catch back to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hunters had the highest rank in their tri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was also judged by how many horses he was able to obtain and if he shared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hunted deer, rabbit and el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s would pull their catch back to cam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women excelled at quillwor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quills were sewn in clothing and used for artwork on tip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chores were fetching water, sweeping, hoeing the fields, cooking and sew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 far from rivers were tough to garden, but near rivers they would grow corn, squash and sun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ostly picked berries and 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een as inferior, not to speak unless spoke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women excelled at quill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ills were sewn in clothing and used for artwork on tip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chores were fetching water, sweeping, hoeing the fields, cooking and sew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 far from rivers were tough to garden, but near rivers they would grow corn, squash and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stly picked berries and 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een as inferior, not to speak unless spoke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088-593E-47BB-A02A-890EE789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1AB-CA22-41CA-844E-D867AB96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3E053-14C0-4F49-9E98-DB7EECF3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9D177-11D5-47CE-A0A1-3A7A0921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E7DB0-0176-4104-9270-094DDCA2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38D43-7B6D-4D17-A59A-D6350B89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42705-93EE-45F4-8E80-BAD09FDA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40679-2CEF-4958-A1FA-96D5AC02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40D8F-AEFA-4659-8CCD-80C6C0A6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9C8D7-52C8-4821-A157-B8F0C7EA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A7905-A04C-42D7-842D-5A72D418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2F3-1ED4-428B-8CDD-C3133E3B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EA5-9934-4081-8616-8C13B8EE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876D-4D09-4533-8903-740EA512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103B-1043-47E8-A7B9-D5BE5865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4164-C697-4D98-8240-1BA0F5D5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1C5A-475F-4E90-B09E-779DE61C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D021-DF9E-4244-B780-926CE34F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75E0-2E63-4449-83E8-D6FFBF06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AD00-BE32-4093-821B-91A87320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B76-4193-4E4B-B180-C8DCACAF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3A1E-EC60-4BD7-9FB5-6D63F192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2FB8-DB11-4181-9B4C-75F5450E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FF60-A92A-438D-8991-D4A09B82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98AC-1986-49D3-B543-12A3DB57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0273-49EA-46E2-8F9E-E892A34A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055DE-70C5-4F4E-BA36-7F5433E0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9FC7C-4653-4EE0-8A38-05D9191F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018C-70F1-4B71-88FC-8EE82E79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6705-1B84-432F-AA8A-79902791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3493B-6589-4337-A6A5-E40AA6B8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307-A34B-44A7-8CFC-D69152BB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0F384-850E-4F60-8104-D0786517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1BE7-7FEE-415F-A95B-1821CA0A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142C9-3701-4720-9002-F61D8B7E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DF1C-06A2-42F5-86AC-5B414BEC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6279-C7A3-496F-9B78-C30BB0EE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AEFF-100E-4AA7-8589-CF2FE597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7E1B3-75A6-452F-914A-2FA2AA2C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5B893-16B3-4F8A-9E87-C8010E87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497DD-A83D-4CC5-8BCE-2347627E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5F41A-9408-4AD2-8AE5-32745C60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E7D-BC80-4DF4-B1F1-E0CF6EFC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5F3B0-621D-4ACE-A405-AF7DC0F7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82CE1-F28D-4405-A891-97C3D3D4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99235-B2E5-4CFF-9004-737984FB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578EF-1A24-42A7-A85D-059025C8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887B7-44A9-40EE-AF0A-C626DD8F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4F8D5-0D42-479D-87B9-0699E39A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3DF5-1993-45E9-9997-2C3510F1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8405D-A559-493B-BEFA-EC5C1524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01AFD-7453-4A19-BA99-2089B167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A0B74-3921-4F44-AA38-98886069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65C9-6158-4752-BCBA-D4140589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0FA58-DB4D-4556-BB0C-9A6CE459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A5097-0C13-4A24-A58C-5CE83DE6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801CE-79A9-4874-A181-BEFD5D58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B7555-34B9-442C-9CE9-A38FC7E7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BF4B3-4142-438C-9181-F772EB58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56027-3E74-4522-A996-B80936B8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B3D8C-297D-4D64-A0DE-5B0067D2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47CD0-7A3A-4E2E-907B-74B99BF8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68203-B555-4024-8949-7F315F6A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809A5-3424-4501-AFB1-7C6CA453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B69-9B79-4C36-A31A-4989C086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B27A5-A8C3-4D4A-BBF6-B8C6D10B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11523-1C8F-41D1-BE1B-B71380A4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57895-41E9-4972-88BE-29C29122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F8887-DE88-467A-8845-455078BB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B3F5A-D90B-4103-83CD-A1E5B8DA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4E6B9-6E0D-46E5-A2C2-AC6287B6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8F85B-2A50-4F96-9801-9A28C891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B4EDE-6A6E-463E-94EC-3579C706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8C9BD-652F-4D73-AFBB-7775C6A7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F4D85-77C2-4F7D-BD91-B611715D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1F6-BB8C-42ED-8C60-5ACB8E92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1AD4F-7594-492C-9187-F3A05FCC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81FEF-F02D-43A5-BBA0-32F98CFE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84542-9B27-4CB9-A6F2-14C12B57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5D302-2F7F-4E21-BE5D-7873FC06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72F7C-4054-44D6-8A43-1BABA351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EB4D7-58FF-46D4-AA02-B75D97D0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82DA7-AC21-4FB0-B9E4-FE83F1F5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48BC0-1B61-4019-853B-0BAFFA3E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3D10D-B7C0-49DE-9B1D-09715B98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1B28E-46FC-47BC-A5D5-5760F5D9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858-F130-4B5D-954B-87278CF6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E63A6-6B59-4498-BA49-1DDCB0A4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09997-BC67-49F0-9CBF-90DC6E5F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3A8D6-C206-4270-BAE9-59B11623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ECC7E-AC40-483E-95A0-6FEFB36A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9FBB1-2C6B-4825-AD5D-183F69E1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FC14A-038A-4E1D-A7BB-9D86E8E0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943EF-72E4-41D9-B97E-ECD4EFEE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AD096-950C-4025-B8D6-F84348A7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FC228-F603-4B48-A62F-36121CB7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BD1FF-950E-49C0-8833-F0917C9F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2B6-BED5-4251-BBD6-03DC4125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1D407-99B1-4075-924A-33EC174B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FD4FA-F9CA-4984-A908-DB49D490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4CEA0-A38D-4AD9-B08E-A9CE99AC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F47ED-FC22-4744-93A4-220DCD4C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BB983-1510-45A1-8165-297F6775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1411A-E66C-4309-AD17-5A4750A8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C57CD-1D15-4BC6-B0C3-4F113C3F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6A962-7E29-40D4-A09B-4816D160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E627A-DDFF-42DB-B6CD-DB21AA76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D8A57-D831-45E0-A22B-B474667D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BA04-654C-4D5E-A98D-F8D565932755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BA3F-3FCF-4C7D-87DB-7BAC6CA47A8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B5E8-8CB7-4310-98B4-1CE5D545CC0E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939C-67BA-4FD8-8EDA-C352C8C71AF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B044-AF36-4E0F-9E55-405AC851A4D9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D5A8-53BD-426A-86A6-BDD774E1560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6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D77B-7F24-4F10-9C5E-465233660730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DF10-6EC7-4190-8058-FF1CFA88319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0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Straight Connector 10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F388-72EC-439C-BF50-2F89BF64BD56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E993-84D0-43F7-8FD0-F4FF54C57CF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C3FC-8302-4918-8DFC-3ED19E3036E4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A862-AEFB-4720-9CCF-8012D3A1B0B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7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A77B-3A7B-4957-BF97-54DC06436C9B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BFB4-D3A8-46FA-87B7-F0F6F71F5D8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56A6-9B34-4BC8-B14C-9B9507B1CC00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4851-8A22-440E-8866-FA44FDE3D5A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8B0F-D243-473D-969E-3E79D111F09E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243E-99AF-4336-B657-9CB146172CF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rds.yahoo.com/_ylt=A0WTb_hzv81IHJsAFWOJzbkF;_ylu=X3oDMTBpZm5udGl1BHBvcwM1BHNlYwNzcgR2dGlkAw--/SIG=1mp4j4fvv/EXP=1221529843/**http:/images.search.yahoo.com/images/view?back=http://images.search.yahoo.com/search/images?ei=UTF-8&amp;p=eagle%20feather%20headdress&amp;fr2=tab-web&amp;fr=yfp-t-501&amp;w=263&amp;h=450&amp;imgurl=www.liverpoolmuseums.org.uk/wml/humanworld/worldcultures/americas/Hiawatha/graphics/large/Feather_headdress.jpg&amp;rurl=http://www.liverpoolmuseums.org.uk/wml/humanworld/worldcultures/americas/hiawatha/feather_headdress.asp&amp;size=19.2kB&amp;name=Feather_headdress.jpg&amp;p=eagle+feather+headdress&amp;type=JPG&amp;oid=5b010c7f52811078&amp;no=5&amp;tt=36&amp;sigr=1377flcf2&amp;sigi=13fvpftqd&amp;sigb=13c612lkj" TargetMode="Externa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Nordamerikanische_Kulturareale_en.png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gendsofamerica.com/photos-nativeamerican/SiouxChiefs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gendsofamerica.com/photos-nativeamerican/SiouxIndians.jpg" TargetMode="External"/><Relationship Id="rId2" Type="http://schemas.openxmlformats.org/officeDocument/2006/relationships/hyperlink" Target="http://www.legendsofamerica.com/photos-nativeamerican/SiouxIndians.jpg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hyperlink" Target="http://rds.yahoo.com/_ylt=A0WTbx5Qwc1I0PsAtSyJzbkF;_ylu=X3oDMTBqY2pzbGhoBHBvcwMxMQRzZWMDc3IEdnRpZAM-/SIG=1jh8vq0u7/EXP=1221530320/**http:/images.search.yahoo.com/images/view?back=http://images.search.yahoo.com/search/images?p=dog+travois&amp;js=1&amp;ni=18&amp;ei=utf-8&amp;fr=yfp-t-501&amp;xargs=0&amp;pstart=1&amp;b=1&amp;w=449&amp;h=242&amp;imgurl=historyforkids.utah.gov/jump_in/images/kids--dogtravois_000.jpg&amp;rurl=http://historyforkids.utah.gov/jump_in/AncientDogsofUtah.html&amp;size=30.6kB&amp;name=kids--dogtravois_000.jpg&amp;p=dog+travois&amp;type=JPG&amp;oid=66e775b10f0d458c&amp;no=11&amp;tt=64&amp;sigr=11ts3fvvm&amp;sigi=11voji627&amp;sigb=13gvk743g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ld-picture.com/indians/Indian-Woman-Cooking.htm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old-picture.com/indians/Sioux-Indian-Maiden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9000" y="4761000"/>
            <a:ext cx="8650080" cy="1315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Native American Teepee"/>
          <p:cNvPicPr/>
          <p:nvPr/>
        </p:nvPicPr>
        <p:blipFill>
          <a:blip r:embed="rId2"/>
          <a:stretch/>
        </p:blipFill>
        <p:spPr>
          <a:xfrm>
            <a:off x="2286000" y="990720"/>
            <a:ext cx="5010120" cy="33051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abies were taught at a very young age not to cry because it might scare off the food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four years old the girls would accompany their mother with her chores and the boys would listen to war stories and practice their bow and arrow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oys and girls never played together, they knew they had separate roles in life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the age of 13, men went on Vision Ques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y played a game like stick ball (hockey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tipi (teepee) is a portable house, great for the nomadic life of a Plains Indian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is made up of 3-4 poles and up to 12 buffalo skins sewn together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opening always faced the morning sun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takes about one hour for a women to assemble the families tip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Sioux tipis-tipi.co.uk,tipi,teepee,wigwam"/>
          <p:cNvPicPr/>
          <p:nvPr/>
        </p:nvPicPr>
        <p:blipFill>
          <a:blip r:embed="rId1"/>
          <a:stretch/>
        </p:blipFill>
        <p:spPr>
          <a:xfrm>
            <a:off x="380880" y="304920"/>
            <a:ext cx="4286520" cy="2952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Making Camp"/>
          <p:cNvPicPr/>
          <p:nvPr/>
        </p:nvPicPr>
        <p:blipFill>
          <a:blip r:embed="rId2"/>
          <a:stretch/>
        </p:blipFill>
        <p:spPr>
          <a:xfrm>
            <a:off x="3962520" y="2979720"/>
            <a:ext cx="5181480" cy="387828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lives changed when they got horses. They traded or stole them from the Spanish settle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horses helped with hunting, intertribal trading and wa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arriors would paint their horses to show their history of battl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http://rds.yahoo.com/_ylt=A0WTefhLuM1IRTwBdgajzbkF/SIG=129ovqv06/EXP=1221528011/**http%3A/eee.uci.edu/clients/tcthorne/Hist15/horses.gif"/>
          <p:cNvPicPr/>
          <p:nvPr/>
        </p:nvPicPr>
        <p:blipFill>
          <a:blip r:embed="rId1"/>
          <a:stretch/>
        </p:blipFill>
        <p:spPr>
          <a:xfrm>
            <a:off x="228600" y="838080"/>
            <a:ext cx="4600440" cy="49532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http://www.americanwest.com/critters/animages/gazette/pix56.jpg"/>
          <p:cNvPicPr/>
          <p:nvPr/>
        </p:nvPicPr>
        <p:blipFill>
          <a:blip r:embed="rId2"/>
          <a:stretch/>
        </p:blipFill>
        <p:spPr>
          <a:xfrm>
            <a:off x="4876920" y="533520"/>
            <a:ext cx="2857320" cy="1952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Shoshone Warrior &amp; Horse by Nativestock Pictures."/>
          <p:cNvPicPr/>
          <p:nvPr/>
        </p:nvPicPr>
        <p:blipFill>
          <a:blip r:embed="rId3"/>
          <a:stretch/>
        </p:blipFill>
        <p:spPr>
          <a:xfrm>
            <a:off x="4952880" y="2590920"/>
            <a:ext cx="2743200" cy="399888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Summer wardrobe of deerskin and a winter wardrobe of buffalo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very Indian wore a belt to hang tools, knives or cups off of, since there were no pocket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ach tribe made a different moccasin, some were made from deerskin, quills, and bead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Hairpipes, long thin beads made from bones, were woven into the hair and kept for lif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f a man has been a great warrior he would wear a war bonnet made of eagle feathers. The greater the warrior, the more feather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Scalp Shirts"/>
          <p:cNvPicPr/>
          <p:nvPr/>
        </p:nvPicPr>
        <p:blipFill>
          <a:blip r:embed="rId1"/>
          <a:stretch/>
        </p:blipFill>
        <p:spPr>
          <a:xfrm>
            <a:off x="152280" y="228600"/>
            <a:ext cx="4614840" cy="3276720"/>
          </a:xfrm>
          <a:prstGeom prst="rect">
            <a:avLst/>
          </a:prstGeom>
          <a:ln w="0">
            <a:noFill/>
          </a:ln>
        </p:spPr>
      </p:pic>
      <p:sp>
        <p:nvSpPr>
          <p:cNvPr id="459" name="TextBox 4"/>
          <p:cNvSpPr/>
          <p:nvPr/>
        </p:nvSpPr>
        <p:spPr>
          <a:xfrm>
            <a:off x="228600" y="35053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hese shirts are made from human scalps…you don’t want to be a Plains Indian’s enem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4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57200"/>
            <a:ext cx="1609560" cy="27813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http://www.d.umn.edu/~cheaslip/headdress.jpg"/>
          <p:cNvPicPr/>
          <p:nvPr/>
        </p:nvPicPr>
        <p:blipFill>
          <a:blip r:embed="rId4"/>
          <a:stretch/>
        </p:blipFill>
        <p:spPr>
          <a:xfrm>
            <a:off x="5127480" y="3886200"/>
            <a:ext cx="4016520" cy="2781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0" descr="Go to fullsize image"/>
          <p:cNvPicPr/>
          <p:nvPr/>
        </p:nvPicPr>
        <p:blipFill>
          <a:blip r:embed="rId5"/>
          <a:stretch/>
        </p:blipFill>
        <p:spPr>
          <a:xfrm>
            <a:off x="1447920" y="4202280"/>
            <a:ext cx="1676160" cy="265572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0492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efore each hunt they performed a buffalo d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n foot it took a whole tribe to catch a buffalo, they are very dangerou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buffalo heart was left on the plains as an offer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n and women would record their lives on buffalo hides using pictograph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http://rds.yahoo.com/_ylt=A0WTeffxuM1ILzMA2GCjzbkF/SIG=12i98eifn/EXP=1221528177/**http%3A/www.saskschools.ca/~gregory/firstnations/scans/uses.jpg"/>
          <p:cNvPicPr/>
          <p:nvPr/>
        </p:nvPicPr>
        <p:blipFill>
          <a:blip r:embed="rId1"/>
          <a:stretch/>
        </p:blipFill>
        <p:spPr>
          <a:xfrm>
            <a:off x="0" y="609480"/>
            <a:ext cx="9091440" cy="5715000"/>
          </a:xfrm>
          <a:prstGeom prst="rect">
            <a:avLst/>
          </a:prstGeom>
          <a:ln w="0">
            <a:noFill/>
          </a:ln>
        </p:spPr>
      </p:pic>
      <p:sp>
        <p:nvSpPr>
          <p:cNvPr id="46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Winter Count Hide"/>
          <p:cNvPicPr/>
          <p:nvPr/>
        </p:nvPicPr>
        <p:blipFill>
          <a:blip r:embed="rId1"/>
          <a:stretch/>
        </p:blipFill>
        <p:spPr>
          <a:xfrm>
            <a:off x="0" y="990720"/>
            <a:ext cx="5340240" cy="4419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Image: Herd of buffalo feeding on the plain"/>
          <p:cNvPicPr/>
          <p:nvPr/>
        </p:nvPicPr>
        <p:blipFill>
          <a:blip r:embed="rId2"/>
          <a:stretch/>
        </p:blipFill>
        <p:spPr>
          <a:xfrm>
            <a:off x="4952880" y="380880"/>
            <a:ext cx="3048120" cy="2000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http://upload.wikimedia.org/wikipedia/commons/thumb/8/8d/American_bison_k5680-1.jpg/180px-American_bison_k5680-1.jpg"/>
          <p:cNvPicPr/>
          <p:nvPr/>
        </p:nvPicPr>
        <p:blipFill>
          <a:blip r:embed="rId3"/>
          <a:stretch/>
        </p:blipFill>
        <p:spPr>
          <a:xfrm>
            <a:off x="5105520" y="2819520"/>
            <a:ext cx="3824280" cy="248580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lived in the middle region of the United Stat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is roughly west of the Mississippi River and east of the Rocky Mountai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land is made up of miles of treeless grasslands….which is perfect grazing fields for buffalo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30492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were the tribes to hold onto their culture the longest out of all of the American Indian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is because the plains were the last to be settled and the hardest to live off of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en the white man came, it changed where they lived, the tools they used, and what they at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 of the largest Indian Reservations are located in the Great Plains today. (South Dakota and Oklahoma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8" descr="Chief Sitting Bull"/>
          <p:cNvPicPr/>
          <p:nvPr/>
        </p:nvPicPr>
        <p:blipFill>
          <a:blip r:embed="rId1"/>
          <a:stretch/>
        </p:blipFill>
        <p:spPr>
          <a:xfrm>
            <a:off x="6934320" y="152280"/>
            <a:ext cx="2066760" cy="2971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Crazy"/>
          <p:cNvPicPr/>
          <p:nvPr/>
        </p:nvPicPr>
        <p:blipFill>
          <a:blip r:embed="rId2"/>
          <a:stretch/>
        </p:blipFill>
        <p:spPr>
          <a:xfrm>
            <a:off x="0" y="152280"/>
            <a:ext cx="3238560" cy="47628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Crazy Horse model in foreground with mountain in background."/>
          <p:cNvPicPr/>
          <p:nvPr/>
        </p:nvPicPr>
        <p:blipFill>
          <a:blip r:embed="rId3"/>
          <a:stretch/>
        </p:blipFill>
        <p:spPr>
          <a:xfrm>
            <a:off x="2209680" y="3186000"/>
            <a:ext cx="5334120" cy="36720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10"/>
          <p:cNvSpPr/>
          <p:nvPr/>
        </p:nvSpPr>
        <p:spPr>
          <a:xfrm>
            <a:off x="5715000" y="45720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tting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1"/>
          <p:cNvSpPr/>
          <p:nvPr/>
        </p:nvSpPr>
        <p:spPr>
          <a:xfrm>
            <a:off x="304920" y="53341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razy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Image:Indian reservations.gif"/>
          <p:cNvPicPr/>
          <p:nvPr/>
        </p:nvPicPr>
        <p:blipFill>
          <a:blip r:embed="rId1"/>
          <a:stretch/>
        </p:blipFill>
        <p:spPr>
          <a:xfrm>
            <a:off x="152280" y="609480"/>
            <a:ext cx="8956800" cy="6058080"/>
          </a:xfrm>
          <a:prstGeom prst="rect">
            <a:avLst/>
          </a:prstGeom>
          <a:ln w="0">
            <a:noFill/>
          </a:ln>
        </p:spPr>
      </p:pic>
      <p:sp>
        <p:nvSpPr>
          <p:cNvPr id="483" name="TextBox 2"/>
          <p:cNvSpPr/>
          <p:nvPr/>
        </p:nvSpPr>
        <p:spPr>
          <a:xfrm>
            <a:off x="2666880" y="6858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here Indian Reservations are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515240" y="-3290760"/>
            <a:ext cx="22860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3" name="Picture 5" descr="Image:Nordamerikanische Kulturareale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Straight Arrow Connector 5" descr=""/>
          <p:cNvPicPr/>
          <p:nvPr/>
        </p:nvPicPr>
        <p:blipFill>
          <a:blip r:embed="rId3"/>
          <a:stretch/>
        </p:blipFill>
        <p:spPr>
          <a:xfrm>
            <a:off x="1731960" y="3371760"/>
            <a:ext cx="4565520" cy="15606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6"/>
          <p:cNvSpPr/>
          <p:nvPr/>
        </p:nvSpPr>
        <p:spPr>
          <a:xfrm>
            <a:off x="304920" y="190512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n between the Mississi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iver and the Rocky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me well known tribes in the Plains region are the…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row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oux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eyen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pach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nce they moved around a lot you will find variations in the tribes, ex: the dakota-sioux, teton-sioux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ioux Chief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4479840" cy="3200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Lakota Sioux Indian Village"/>
          <p:cNvPicPr/>
          <p:nvPr/>
        </p:nvPicPr>
        <p:blipFill>
          <a:blip r:embed="rId3"/>
          <a:stretch/>
        </p:blipFill>
        <p:spPr>
          <a:xfrm>
            <a:off x="3429000" y="2647800"/>
            <a:ext cx="5715000" cy="421020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best hunters had the highest rank in their tribe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 man was also judged by how many horses he was able to obtain and if he shared them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n hunted deer, rabbit and elk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ogs would pull their catch back to camp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>
            <a:hlinkClick r:id="rId1"/>
          </p:cNvPr>
          <p:cNvSpPr/>
          <p:nvPr/>
        </p:nvSpPr>
        <p:spPr>
          <a:xfrm>
            <a:off x="123840" y="-1257480"/>
            <a:ext cx="243828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Sioux Warrio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609480"/>
            <a:ext cx="3124080" cy="3355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Stock Photo of  native american indians ogallala sioux archival photo  "/>
          <p:cNvPicPr/>
          <p:nvPr/>
        </p:nvPicPr>
        <p:blipFill>
          <a:blip r:embed="rId4"/>
          <a:stretch/>
        </p:blipFill>
        <p:spPr>
          <a:xfrm>
            <a:off x="4495680" y="533520"/>
            <a:ext cx="4280040" cy="31431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http://rds.yahoo.com/_ylt=A0WTb_4cwc1Ifw0Bt8KjzbkF/SIG=12t0egdf0/EXP=1221530268/**http%3A/www.majesticview1.com/images/NAID%2520Pics/dog_indians_travois.jpg"/>
          <p:cNvPicPr/>
          <p:nvPr/>
        </p:nvPicPr>
        <p:blipFill>
          <a:blip r:embed="rId5"/>
          <a:stretch/>
        </p:blipFill>
        <p:spPr>
          <a:xfrm>
            <a:off x="5029200" y="4114800"/>
            <a:ext cx="2428920" cy="2247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4648320"/>
            <a:ext cx="3182760" cy="170496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Plains women excelled at quillwork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se quills were sewn in clothing and used for artwork on tipi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omen chores were fetching water, sweeping, hoeing the fields, cooking and sewing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land far from rivers were tough to garden, but near rivers they would grow corn, squash and sunflower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y mostly picked berries and nu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y were seen as inferior, not to speak unless spoken t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Indian Woman Coo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971800" cy="39225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Sioux Indian Maid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228600"/>
            <a:ext cx="3429000" cy="47782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http://rds.yahoo.com/_ylt=A0WTb_iOwM1IS70ACSejzbkF/SIG=12pm9ipi3/EXP=1221530126/**http%3A/www.digital.library.upenn.edu/women/buffalo/garden/plate-3.gif"/>
          <p:cNvPicPr/>
          <p:nvPr/>
        </p:nvPicPr>
        <p:blipFill>
          <a:blip r:embed="rId5"/>
          <a:stretch/>
        </p:blipFill>
        <p:spPr>
          <a:xfrm>
            <a:off x="3200400" y="2838600"/>
            <a:ext cx="2828880" cy="401940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3:24:19Z</dcterms:created>
  <dc:creator>Christine Goff</dc:creator>
  <dc:description/>
  <dc:language>en-US</dc:language>
  <cp:lastModifiedBy>Legion</cp:lastModifiedBy>
  <dcterms:modified xsi:type="dcterms:W3CDTF">2017-07-05T12:20:17Z</dcterms:modified>
  <cp:revision>25</cp:revision>
  <dc:subject/>
  <dc:title>The Plains Indians</dc:title>
</cp:coreProperties>
</file>