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9.png" ContentType="image/png"/>
  <Override PartName="/ppt/media/image38.jpeg" ContentType="image/jpeg"/>
  <Override PartName="/ppt/media/image11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44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5.png" ContentType="image/png"/>
  <Override PartName="/ppt/media/image35.png" ContentType="image/png"/>
  <Override PartName="/ppt/media/image4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8316-76DE-4126-A817-AF7DB68045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bies were taught at a very young age not to cry because it might scare off the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four years old the girls would accompany their mother with her chores and the boys would listen to war stories and practice their bow and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s and girls never played together, they knew they had separate roles in li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age of 13, men went on Vision Qu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layed a game like stick ball (hocke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 life k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were taught at a very young age not to cry because it might scare off the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our years old the girls would accompany their mother with her chores and the boys would listen to war stories and practice their bow and arrow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ys and girls never played together, they knew they had separate roles in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 of 13, men went on Vision 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layed a game like stick ball (hoc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y live 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pi (teepee) is a portable house, great for the nomadic life of a Plains Indi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made up of 3-4 poles and up to 12 buffalo skins sewn toge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ning always faced the morning 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bout one hour for a women to assemble the families ti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ive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pi (teepee) is a portable house, great for the nomadic life of a Plains Indi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3-4 poles and up to 12 buffalo skins sewn toge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ning always faced the morning su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bout one hour for a women to assemble the families ti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rav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 lives changed when they got horses. They traded or stole them from the Spanish settl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ses helped with hunting, intertribal trading and w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riors would paint their horses to show their history of batt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ra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 lives changed when they got horses. They traded or stole them from the Spanish settl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rses helped with hunting, intertribal trading and w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riors would paint their horses to show their history of batt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Fash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wardrobe of deerskin and a winter wardrobe of buffal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Indian wore a belt to hang tools, knives or cups off of, since there were no pocke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ribe made a different moccasin, some were made from deerskin, quills, and be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pipes, long thin beads made from bones, were woven into the hair and kept for lif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man has been a great warrior he would wear a war bonnet made of eagle feathers. The greater the warrior, the more feath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 Fash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wardrobe of deerskin and a winter wardrobe of buffal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Indian wore a belt to hang tools, knives or cups off of, since there were no po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be made a different moccasin, some were made from deerskin, quills, and b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pipes, long thin beads made from bones, were woven into the hair and kept for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man has been a great warrior he would wear a war bonnet made of eagle feathers. The greater the warrior, the more fea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hirts are made from human scalps…you don’t want to be a Plains Indian’s enem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hirts are made from human scalps…you don’t want to be a Plains Indian’s enem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each hunt they performed a buffalo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foot it took a whole tribe to catch a buffalo, they are very dangero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 heart was left on the plains as an off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and women would record their lives on buffalo hides using pictograph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ff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each hunt they performed a buffalo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foot it took a whole tribe to catch a buffalo, they are very dangero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ffalo heart was left on the plains as an off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and women would record their lives on buffalo hides using pictograph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 lived in the middle region of the United Sta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roughly west of the Mississippi River and east of the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and is made up of miles of treeless grasslands….which is perfect grazing fields for buffal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 lived in the middle region of the United St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roughly west of the Mississippi River and east of the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nd is made up of miles of treeless grasslands….which is perfect grazing fields for buffal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hite man c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 were the tribes to hold onto their culture the longest out of all of the American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ecause the plains were the last to be settled and the hardest to live off 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hite man came, it changed where they lived, the tools they used, and what they 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of the largest Indian Reservations are located in the Great Plains today. (South Dakota and Oklahom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hite man c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 were the tribes to hold onto their culture the longest out of all of the American India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plains were the last to be settled and the hardest to live off o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hite man came, it changed where they lived, the tools they used, and what they 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of the largest Indian Reservations are located in the Great Plains today. (South Dakota and Oklahom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ting Bu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zy Ho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ting B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zy 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ndian Reservations ar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ndian Reservations are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between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 and the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etween the Mississ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 and the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ell known tribes in the Plains region are th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a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y moved around a lot you will find variations in the tribes, ex: the dakota-sioux, teton-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ll known tribes in the Plains region are th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moved around a lot you will find variations in the tribes, ex: the dakota-sioux, teton-sio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est hunters had the highest rank in their trib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also judged by how many horses he was able to obtain and if he shared th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hunted deer, rabbit and el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gs would pull their catch back to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 Life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hunters had the highest rank in their trib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was also judged by how many horses he was able to obtain and if he shared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hunted deer, rabbit and el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s would pull their catch back to cam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women excelled at quillwor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quills were sewn in clothing and used for artwork on tip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chores were fetching water, sweeping, hoeing the fields, cooking and sew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nd far from rivers were tough to garden, but near rivers they would grow corn, squash and sun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ostly picked berries and n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een as inferior, not to speak unless spoke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 Lif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women excelled at quill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ills were sewn in clothing and used for artwork on tip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chores were fetching water, sweeping, hoeing the fields, cooking and sew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 far from rivers were tough to garden, but near rivers they would grow corn, squash and sun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stly picked berries and 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een as inferior, not to speak unless spoke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346F-9E63-48B5-B666-BC151954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38C-97E9-4800-BE55-E8C25BFC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B6C2D-5556-4377-BC1B-55AF38CD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DEFCA-A1AD-4999-8682-58BBA0A6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2041C-BBB1-4615-B672-507AB352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08FD87-3610-4540-B1E3-3304355F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770AD-17B4-4D4C-BC08-FE957C03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DFC74-0D37-4B8E-A2D3-E3CBB443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6B308-8431-4B1F-9503-CC44B532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0A9AA-437E-408A-A5DB-D333346D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1452F-C71A-45E7-888B-E4AE76A8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771-E944-4D1F-9E5B-D86D359B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9245-DE6B-4D29-A368-F410E349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1A58-3066-43F4-AE32-D18F2803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AF9A-3CE2-4515-8060-AD042B61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BC31-B1AC-4B62-87E3-FAD84D3C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A455-877E-4898-8CCB-82497425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FFAC-C903-4C65-9E06-92B74742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72E9-49B8-4847-8473-CFEED948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A619-2538-4E51-9743-3BF29ADC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67B-ACB0-473D-87FD-DD702350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ADA1-986C-4503-8322-BC249494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D7E9-195F-478B-B526-9A1AAB5B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B09E-DE03-4F9A-977A-6C5BE0D2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F93C-1CFF-4AA2-8FF2-E3469658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9B12-C47E-44FB-AC9C-22B408CB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E8C03-0846-491C-9B58-4FE1FC381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62BE9-3CF4-48F3-8D3B-EB178B5D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3C584-1071-4870-AC79-7B7F026C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0EC3D-2C8C-45D7-9068-FAEC94FA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DE97E-C092-47C5-BBA7-F997465F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9D0-6FD7-496E-937C-2FF0DEFC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FAA3D-4C64-4782-A67B-C87C4B95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C66D6-9700-4B92-8EA7-EDD2DFBA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E6DD1-14E4-4F9B-ADF9-FA9B5BA9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99812-DA21-4513-8953-6CF6933A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D039E-9114-44CF-A0AE-BEDA0731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468E7-3AA2-4635-BEC7-8511A9E2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66A63-5F1C-4CCF-9A79-6634C73C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AADE4-BFF7-4400-9D42-723F1DA0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B4E6B-B81B-4C2F-825F-DBC51252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B85F1-37C1-4B5C-8DBA-9135C7C1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1711-30AE-4C24-B53F-AD8DA9E3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540D2-2D2A-4F26-AD2A-AEA97DB1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30CED-619F-47C1-8C26-2854BAB1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D77A0-1A03-4239-9758-FB2C344C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E5034-AF61-446F-9EF2-230A0C13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3301D-1005-4142-813E-2E74D5AE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E1E21-459C-48D7-B187-F23F5774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8246F-04CA-43B3-943B-C08594CB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C1211-94B3-4DD9-80EC-E052DF97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7A441-C7A7-44B5-A6DE-8615D737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62C9D-24F0-4681-B630-380086C3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6E1-ABA6-4109-8155-92CA15B7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A398F-7C2B-41A4-99FC-B245B095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41E42-2FFA-405B-8E2E-331FA12B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1FE79-82A7-4CB1-A70B-3DE3D313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33ED9-E2EB-4927-BAAE-6A3B4A2C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45530-9D1B-4E58-BBF8-924720B4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9AD41-6C87-43BB-9399-B4E6C57F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F0E40-2B7E-4D7E-8067-F074EAC6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D3841-9A84-406B-B882-E8FA5CDA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7B95F-6B23-404C-B114-8298752D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A9980-6926-4A0C-A701-E0BA96B5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D2DD-61CE-41FA-8113-9071B5A4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D6FCB-0302-4FF5-BD7F-4C5B45C2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3B128-96F8-42EE-ADBA-D2CD90F1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FC3F4-A9E5-4E97-9E47-336CB837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27B8A-9E06-431C-AEF7-A55F2548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3668E-DC38-4AD2-9F19-DBA64F70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CFF7B-AD2D-449D-B671-9E4816A0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691CD-A544-4CEA-A2BB-184CF064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C3238-86E9-4DC4-9380-FBD9BF5D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B7D9C-64CC-424A-B3E2-5059F281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3BB3A-BF1E-436D-91A1-1BCD8474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C8D-9D91-4DA0-BA13-B3CCC165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D2487-D674-4574-8AFC-0803F2D3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0949F-3F5D-416B-B0B4-BDB26BE7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835A4-82FA-4DBB-A86E-BBF9AE36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9A317-0B19-4ADA-8E1F-BE021878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293E8-617F-454B-9C9D-804ADE44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835EF-45FB-4C9A-8E84-4FCDCD5D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CD8DF-9F7A-4391-AC39-8F75E53E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FF0A9-FE65-45E2-AB16-9E4954A0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190EE-B2D2-4762-99A4-F89405B1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B2982-8513-402E-8C62-98D5C125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2B7-C160-4FB0-B5AE-73ADBF0A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F69CC-AB0D-4BBF-BB64-69AB8A55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6FEAE-0D22-4D50-8C08-94FC9686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584EA-4E7A-4A89-9629-43DDC736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F00CF-2D66-4DEF-829B-F84999F9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29572-48C4-44CA-B688-591A49EB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7E5DC-A705-4790-B7A3-EB17812C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0CA1D-674A-4FF0-956F-5ABD94BD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E2F5D-2CF0-4D6D-B39C-3917DE46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966E9-C0B0-4A43-9194-9F75522C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73478-BE2B-4F1E-B605-049BB8CD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B755-16DC-4A11-BC5E-04EEAEBE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34F8F-505C-4C2E-A62A-323D8D5F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D60D1-7094-4A62-850B-9A354718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74FCF-99BD-4EE6-BFD4-02CD7375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51646-7675-4373-AA60-74CBDD0F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4D410-0EF6-4857-96FC-02C49D49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003DA-0CA5-4D68-808F-C625BEB4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D4608-7A79-4763-9538-61FDC31B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FD18C-FFA2-408D-AFFC-B4E8B2EA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D3C01-AE4A-464F-902C-BA2F3F51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EE5C8-0DF7-4CB6-A957-E2FB1274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F628-7103-4DCD-ADC2-0BE6BF00E99A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9EA0-7EED-41CD-89D8-131BF1D0B92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73D6-0A56-4171-9671-7D1D26245F92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BCA3-B0BE-45E7-9CBF-39B15709E85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B595-6FFE-42FD-A39D-591550BFE371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233A-3328-4DFE-B9C1-B9B2C351597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6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4A19-9644-4F00-AD29-6BF4B8C5C052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88CA-D05B-4308-BB48-799EE5DB275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0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Straight Connector 10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3871-C998-4C5A-8458-596013DC0258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42DC-CC89-44BB-871B-BEBC2F3AB66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6FCD-392B-4BD2-8884-D4856752F778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43DE-4C31-467A-88A1-316DBC10014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7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8C5A-5C7F-4DD0-9B5F-E0F4795B863A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2321-255E-454A-AE25-693DA262710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BF9C-3E9E-417C-9EA3-23F534C16AD0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A9BF-A3D0-4188-B974-2EE682D7A55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70CB-ADD2-4F30-B5A3-A2FAE62BE0A5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F353-9125-4489-B793-6108846A77A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rds.yahoo.com/_ylt=A0WTb_hzv81IHJsAFWOJzbkF;_ylu=X3oDMTBpZm5udGl1BHBvcwM1BHNlYwNzcgR2dGlkAw--/SIG=1mp4j4fvv/EXP=1221529843/**http:/images.search.yahoo.com/images/view?back=http://images.search.yahoo.com/search/images?ei=UTF-8&amp;p=eagle%20feather%20headdress&amp;fr2=tab-web&amp;fr=yfp-t-501&amp;w=263&amp;h=450&amp;imgurl=www.liverpoolmuseums.org.uk/wml/humanworld/worldcultures/americas/Hiawatha/graphics/large/Feather_headdress.jpg&amp;rurl=http://www.liverpoolmuseums.org.uk/wml/humanworld/worldcultures/americas/hiawatha/feather_headdress.asp&amp;size=19.2kB&amp;name=Feather_headdress.jpg&amp;p=eagle+feather+headdress&amp;type=JPG&amp;oid=5b010c7f52811078&amp;no=5&amp;tt=36&amp;sigr=1377flcf2&amp;sigi=13fvpftqd&amp;sigb=13c612lkj" TargetMode="External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d/Nordamerikanische_Kulturareale_en.png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gendsofamerica.com/photos-nativeamerican/SiouxChiefs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egendsofamerica.com/photos-nativeamerican/SiouxIndians.jpg" TargetMode="External"/><Relationship Id="rId2" Type="http://schemas.openxmlformats.org/officeDocument/2006/relationships/hyperlink" Target="http://www.legendsofamerica.com/photos-nativeamerican/SiouxIndians.jpg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hyperlink" Target="http://rds.yahoo.com/_ylt=A0WTbx5Qwc1I0PsAtSyJzbkF;_ylu=X3oDMTBqY2pzbGhoBHBvcwMxMQRzZWMDc3IEdnRpZAM-/SIG=1jh8vq0u7/EXP=1221530320/**http:/images.search.yahoo.com/images/view?back=http://images.search.yahoo.com/search/images?p=dog+travois&amp;js=1&amp;ni=18&amp;ei=utf-8&amp;fr=yfp-t-501&amp;xargs=0&amp;pstart=1&amp;b=1&amp;w=449&amp;h=242&amp;imgurl=historyforkids.utah.gov/jump_in/images/kids--dogtravois_000.jpg&amp;rurl=http://historyforkids.utah.gov/jump_in/AncientDogsofUtah.html&amp;size=30.6kB&amp;name=kids--dogtravois_000.jpg&amp;p=dog+travois&amp;type=JPG&amp;oid=66e775b10f0d458c&amp;no=11&amp;tt=64&amp;sigr=11ts3fvvm&amp;sigi=11voji627&amp;sigb=13gvk743g" TargetMode="Externa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ld-picture.com/indians/Indian-Woman-Cooking.htm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old-picture.com/indians/Sioux-Indian-Maiden.htm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9000" y="4761000"/>
            <a:ext cx="8650080" cy="1315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Native American Teepee"/>
          <p:cNvPicPr/>
          <p:nvPr/>
        </p:nvPicPr>
        <p:blipFill>
          <a:blip r:embed="rId2"/>
          <a:stretch/>
        </p:blipFill>
        <p:spPr>
          <a:xfrm>
            <a:off x="2286000" y="990720"/>
            <a:ext cx="5010120" cy="330516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abies were taught at a very young age not to cry because it might scare off the food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t four years old the girls would accompany their mother with her chores and the boys would listen to war stories and practice their bow and arrow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oys and girls never played together, they knew they had separate roles in life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t the age of 13, men went on Vision Ques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y played a game like stick ball (hockey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tipi (teepee) is a portable house, great for the nomadic life of a Plains Indian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is made up of 3-4 poles and up to 12 buffalo skins sewn together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opening always faced the morning sun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takes about one hour for a women to assemble the families tip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Sioux tipis-tipi.co.uk,tipi,teepee,wigwam"/>
          <p:cNvPicPr/>
          <p:nvPr/>
        </p:nvPicPr>
        <p:blipFill>
          <a:blip r:embed="rId1"/>
          <a:stretch/>
        </p:blipFill>
        <p:spPr>
          <a:xfrm>
            <a:off x="380880" y="304920"/>
            <a:ext cx="4286520" cy="2952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Making Camp"/>
          <p:cNvPicPr/>
          <p:nvPr/>
        </p:nvPicPr>
        <p:blipFill>
          <a:blip r:embed="rId2"/>
          <a:stretch/>
        </p:blipFill>
        <p:spPr>
          <a:xfrm>
            <a:off x="3962520" y="2979720"/>
            <a:ext cx="5181480" cy="387828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lains Indians lives changed when they got horses. They traded or stole them from the Spanish settler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horses helped with hunting, intertribal trading and war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arriors would paint their horses to show their history of battl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http://rds.yahoo.com/_ylt=A0WTefhLuM1IRTwBdgajzbkF/SIG=129ovqv06/EXP=1221528011/**http%3A/eee.uci.edu/clients/tcthorne/Hist15/horses.gif"/>
          <p:cNvPicPr/>
          <p:nvPr/>
        </p:nvPicPr>
        <p:blipFill>
          <a:blip r:embed="rId1"/>
          <a:stretch/>
        </p:blipFill>
        <p:spPr>
          <a:xfrm>
            <a:off x="228600" y="838080"/>
            <a:ext cx="4600440" cy="49532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http://www.americanwest.com/critters/animages/gazette/pix56.jpg"/>
          <p:cNvPicPr/>
          <p:nvPr/>
        </p:nvPicPr>
        <p:blipFill>
          <a:blip r:embed="rId2"/>
          <a:stretch/>
        </p:blipFill>
        <p:spPr>
          <a:xfrm>
            <a:off x="4876920" y="533520"/>
            <a:ext cx="2857320" cy="19526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Shoshone Warrior &amp; Horse by Nativestock Pictures."/>
          <p:cNvPicPr/>
          <p:nvPr/>
        </p:nvPicPr>
        <p:blipFill>
          <a:blip r:embed="rId3"/>
          <a:stretch/>
        </p:blipFill>
        <p:spPr>
          <a:xfrm>
            <a:off x="4952880" y="2590920"/>
            <a:ext cx="2743200" cy="3998880"/>
          </a:xfrm>
          <a:prstGeom prst="rect">
            <a:avLst/>
          </a:prstGeom>
          <a:ln w="0">
            <a:noFill/>
          </a:ln>
        </p:spPr>
      </p:pic>
      <p:sp>
        <p:nvSpPr>
          <p:cNvPr id="454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Summer wardrobe of deerskin and a winter wardrobe of buffalo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very Indian wore a belt to hang tools, knives or cups off of, since there were no pocket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ach tribe made a different moccasin, some were made from deerskin, quills, and bead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Hairpipes, long thin beads made from bones, were woven into the hair and kept for lif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f a man has been a great warrior he would wear a war bonnet made of eagle feathers. The greater the warrior, the more feather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Scalp Shirts"/>
          <p:cNvPicPr/>
          <p:nvPr/>
        </p:nvPicPr>
        <p:blipFill>
          <a:blip r:embed="rId1"/>
          <a:stretch/>
        </p:blipFill>
        <p:spPr>
          <a:xfrm>
            <a:off x="152280" y="228600"/>
            <a:ext cx="4614840" cy="3276720"/>
          </a:xfrm>
          <a:prstGeom prst="rect">
            <a:avLst/>
          </a:prstGeom>
          <a:ln w="0">
            <a:noFill/>
          </a:ln>
        </p:spPr>
      </p:pic>
      <p:sp>
        <p:nvSpPr>
          <p:cNvPr id="459" name="TextBox 4"/>
          <p:cNvSpPr/>
          <p:nvPr/>
        </p:nvSpPr>
        <p:spPr>
          <a:xfrm>
            <a:off x="228600" y="35053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hese shirts are made from human scalps…you don’t want to be a Plains Indian’s enem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4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457200"/>
            <a:ext cx="1609560" cy="27813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http://www.d.umn.edu/~cheaslip/headdress.jpg"/>
          <p:cNvPicPr/>
          <p:nvPr/>
        </p:nvPicPr>
        <p:blipFill>
          <a:blip r:embed="rId4"/>
          <a:stretch/>
        </p:blipFill>
        <p:spPr>
          <a:xfrm>
            <a:off x="5127480" y="3886200"/>
            <a:ext cx="4016520" cy="27813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0" descr="Go to fullsize image"/>
          <p:cNvPicPr/>
          <p:nvPr/>
        </p:nvPicPr>
        <p:blipFill>
          <a:blip r:embed="rId5"/>
          <a:stretch/>
        </p:blipFill>
        <p:spPr>
          <a:xfrm>
            <a:off x="1447920" y="4202280"/>
            <a:ext cx="1676160" cy="265572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30492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efore each hunt they performed a buffalo da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n foot it took a whole tribe to catch a buffalo, they are very dangerou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buffalo heart was left on the plains as an offer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en and women would record their lives on buffalo hides using pictograph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http://rds.yahoo.com/_ylt=A0WTeffxuM1ILzMA2GCjzbkF/SIG=12i98eifn/EXP=1221528177/**http%3A/www.saskschools.ca/~gregory/firstnations/scans/uses.jpg"/>
          <p:cNvPicPr/>
          <p:nvPr/>
        </p:nvPicPr>
        <p:blipFill>
          <a:blip r:embed="rId1"/>
          <a:stretch/>
        </p:blipFill>
        <p:spPr>
          <a:xfrm>
            <a:off x="0" y="609480"/>
            <a:ext cx="9091440" cy="5715000"/>
          </a:xfrm>
          <a:prstGeom prst="rect">
            <a:avLst/>
          </a:prstGeom>
          <a:ln w="0">
            <a:noFill/>
          </a:ln>
        </p:spPr>
      </p:pic>
      <p:sp>
        <p:nvSpPr>
          <p:cNvPr id="46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Winter Count Hide"/>
          <p:cNvPicPr/>
          <p:nvPr/>
        </p:nvPicPr>
        <p:blipFill>
          <a:blip r:embed="rId1"/>
          <a:stretch/>
        </p:blipFill>
        <p:spPr>
          <a:xfrm>
            <a:off x="0" y="990720"/>
            <a:ext cx="5340240" cy="4419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Image: Herd of buffalo feeding on the plain"/>
          <p:cNvPicPr/>
          <p:nvPr/>
        </p:nvPicPr>
        <p:blipFill>
          <a:blip r:embed="rId2"/>
          <a:stretch/>
        </p:blipFill>
        <p:spPr>
          <a:xfrm>
            <a:off x="4952880" y="380880"/>
            <a:ext cx="3048120" cy="2000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http://upload.wikimedia.org/wikipedia/commons/thumb/8/8d/American_bison_k5680-1.jpg/180px-American_bison_k5680-1.jpg"/>
          <p:cNvPicPr/>
          <p:nvPr/>
        </p:nvPicPr>
        <p:blipFill>
          <a:blip r:embed="rId3"/>
          <a:stretch/>
        </p:blipFill>
        <p:spPr>
          <a:xfrm>
            <a:off x="5105520" y="2819520"/>
            <a:ext cx="3824280" cy="2485800"/>
          </a:xfrm>
          <a:prstGeom prst="rect">
            <a:avLst/>
          </a:prstGeom>
          <a:ln w="0">
            <a:noFill/>
          </a:ln>
        </p:spPr>
      </p:pic>
      <p:sp>
        <p:nvSpPr>
          <p:cNvPr id="47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lains Indians lived in the middle region of the United Stat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is roughly west of the Mississippi River and east of the Rocky Mountai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land is made up of miles of treeless grasslands….which is perfect grazing fields for buffalo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30492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lains Indians were the tribes to hold onto their culture the longest out of all of the American Indian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is because the plains were the last to be settled and the hardest to live off of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en the white man came, it changed where they lived, the tools they used, and what they at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 of the largest Indian Reservations are located in the Great Plains today. (South Dakota and Oklahoma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8" descr="Chief Sitting Bull"/>
          <p:cNvPicPr/>
          <p:nvPr/>
        </p:nvPicPr>
        <p:blipFill>
          <a:blip r:embed="rId1"/>
          <a:stretch/>
        </p:blipFill>
        <p:spPr>
          <a:xfrm>
            <a:off x="6934320" y="152280"/>
            <a:ext cx="2066760" cy="29718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Crazy"/>
          <p:cNvPicPr/>
          <p:nvPr/>
        </p:nvPicPr>
        <p:blipFill>
          <a:blip r:embed="rId2"/>
          <a:stretch/>
        </p:blipFill>
        <p:spPr>
          <a:xfrm>
            <a:off x="0" y="152280"/>
            <a:ext cx="3238560" cy="47628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Crazy Horse model in foreground with mountain in background."/>
          <p:cNvPicPr/>
          <p:nvPr/>
        </p:nvPicPr>
        <p:blipFill>
          <a:blip r:embed="rId3"/>
          <a:stretch/>
        </p:blipFill>
        <p:spPr>
          <a:xfrm>
            <a:off x="2209680" y="3186000"/>
            <a:ext cx="5334120" cy="3672000"/>
          </a:xfrm>
          <a:prstGeom prst="rect">
            <a:avLst/>
          </a:prstGeom>
          <a:ln w="0">
            <a:noFill/>
          </a:ln>
        </p:spPr>
      </p:pic>
      <p:sp>
        <p:nvSpPr>
          <p:cNvPr id="479" name="TextBox 10"/>
          <p:cNvSpPr/>
          <p:nvPr/>
        </p:nvSpPr>
        <p:spPr>
          <a:xfrm>
            <a:off x="5715000" y="45720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tting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1"/>
          <p:cNvSpPr/>
          <p:nvPr/>
        </p:nvSpPr>
        <p:spPr>
          <a:xfrm>
            <a:off x="304920" y="53341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razy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Image:Indian reservations.gif"/>
          <p:cNvPicPr/>
          <p:nvPr/>
        </p:nvPicPr>
        <p:blipFill>
          <a:blip r:embed="rId1"/>
          <a:stretch/>
        </p:blipFill>
        <p:spPr>
          <a:xfrm>
            <a:off x="152280" y="609480"/>
            <a:ext cx="8956800" cy="6058080"/>
          </a:xfrm>
          <a:prstGeom prst="rect">
            <a:avLst/>
          </a:prstGeom>
          <a:ln w="0">
            <a:noFill/>
          </a:ln>
        </p:spPr>
      </p:pic>
      <p:sp>
        <p:nvSpPr>
          <p:cNvPr id="483" name="TextBox 2"/>
          <p:cNvSpPr/>
          <p:nvPr/>
        </p:nvSpPr>
        <p:spPr>
          <a:xfrm>
            <a:off x="2666880" y="6858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here Indian Reservations are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515240" y="-3290760"/>
            <a:ext cx="22860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3" name="Picture 5" descr="Image:Nordamerikanische Kulturareale e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Straight Arrow Connector 5" descr=""/>
          <p:cNvPicPr/>
          <p:nvPr/>
        </p:nvPicPr>
        <p:blipFill>
          <a:blip r:embed="rId3"/>
          <a:stretch/>
        </p:blipFill>
        <p:spPr>
          <a:xfrm>
            <a:off x="1731960" y="3371760"/>
            <a:ext cx="4565520" cy="15606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6"/>
          <p:cNvSpPr/>
          <p:nvPr/>
        </p:nvSpPr>
        <p:spPr>
          <a:xfrm>
            <a:off x="304920" y="190512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n between the Mississi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River and the Rocky 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ome well known tribes in the Plains region are the…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row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oux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eyen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pach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nce they moved around a lot you will find variations in the tribes, ex: the dakota-sioux, teton-sioux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Sioux Chief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4479840" cy="3200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Lakota Sioux Indian Village"/>
          <p:cNvPicPr/>
          <p:nvPr/>
        </p:nvPicPr>
        <p:blipFill>
          <a:blip r:embed="rId3"/>
          <a:stretch/>
        </p:blipFill>
        <p:spPr>
          <a:xfrm>
            <a:off x="3429000" y="2647800"/>
            <a:ext cx="5715000" cy="421020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best hunters had the highest rank in their tribe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 man was also judged by how many horses he was able to obtain and if he shared them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en hunted deer, rabbit and elk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ogs would pull their catch back to camp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2">
            <a:hlinkClick r:id="rId1"/>
          </p:cNvPr>
          <p:cNvSpPr/>
          <p:nvPr/>
        </p:nvSpPr>
        <p:spPr>
          <a:xfrm>
            <a:off x="123840" y="-1257480"/>
            <a:ext cx="243828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Sioux Warrio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609480"/>
            <a:ext cx="3124080" cy="3355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Stock Photo of  native american indians ogallala sioux archival photo  "/>
          <p:cNvPicPr/>
          <p:nvPr/>
        </p:nvPicPr>
        <p:blipFill>
          <a:blip r:embed="rId4"/>
          <a:stretch/>
        </p:blipFill>
        <p:spPr>
          <a:xfrm>
            <a:off x="4495680" y="533520"/>
            <a:ext cx="4280040" cy="31431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http://rds.yahoo.com/_ylt=A0WTb_4cwc1Ifw0Bt8KjzbkF/SIG=12t0egdf0/EXP=1221530268/**http%3A/www.majesticview1.com/images/NAID%2520Pics/dog_indians_travois.jpg"/>
          <p:cNvPicPr/>
          <p:nvPr/>
        </p:nvPicPr>
        <p:blipFill>
          <a:blip r:embed="rId5"/>
          <a:stretch/>
        </p:blipFill>
        <p:spPr>
          <a:xfrm>
            <a:off x="5029200" y="4114800"/>
            <a:ext cx="2428920" cy="22478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90720" y="4648320"/>
            <a:ext cx="3182760" cy="1704960"/>
          </a:xfrm>
          <a:prstGeom prst="rect">
            <a:avLst/>
          </a:prstGeom>
          <a:ln w="0">
            <a:noFill/>
          </a:ln>
        </p:spPr>
      </p:pic>
      <p:sp>
        <p:nvSpPr>
          <p:cNvPr id="43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 Plains women excelled at quillwork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se quills were sewn in clothing and used for artwork on tipi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Women chores were fetching water, sweeping, hoeing the fields, cooking and sewing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 land far from rivers were tough to garden, but near rivers they would grow corn, squash and sunflower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y mostly picked berries and nu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y were seen as inferior, not to speak unless spoken t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Indian Woman Cook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971800" cy="39225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Sioux Indian Maide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228600"/>
            <a:ext cx="3429000" cy="47782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http://rds.yahoo.com/_ylt=A0WTb_iOwM1IS70ACSejzbkF/SIG=12pm9ipi3/EXP=1221530126/**http%3A/www.digital.library.upenn.edu/women/buffalo/garden/plate-3.gif"/>
          <p:cNvPicPr/>
          <p:nvPr/>
        </p:nvPicPr>
        <p:blipFill>
          <a:blip r:embed="rId5"/>
          <a:stretch/>
        </p:blipFill>
        <p:spPr>
          <a:xfrm>
            <a:off x="3200400" y="2838600"/>
            <a:ext cx="2828880" cy="4019400"/>
          </a:xfrm>
          <a:prstGeom prst="rect">
            <a:avLst/>
          </a:prstGeom>
          <a:ln w="0">
            <a:noFill/>
          </a:ln>
        </p:spPr>
      </p:pic>
      <p:sp>
        <p:nvSpPr>
          <p:cNvPr id="43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3:24:19Z</dcterms:created>
  <dc:creator>Christine Goff</dc:creator>
  <dc:description/>
  <dc:language>en-US</dc:language>
  <cp:lastModifiedBy>Legion</cp:lastModifiedBy>
  <dcterms:modified xsi:type="dcterms:W3CDTF">2017-07-05T12:20:17Z</dcterms:modified>
  <cp:revision>25</cp:revision>
  <dc:subject/>
  <dc:title>The Plains Indians</dc:title>
</cp:coreProperties>
</file>