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9.png" ContentType="image/png"/>
  <Override PartName="/ppt/media/image38.jpeg" ContentType="image/jpeg"/>
  <Override PartName="/ppt/media/image11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44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.png" ContentType="image/png"/>
  <Override PartName="/ppt/media/image35.png" ContentType="image/png"/>
  <Override PartName="/ppt/media/image4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38E2-6637-44C4-B70B-A1E7C516FF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 were taught at a very young age not to cry because it might scare off the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four years old the girls would accompany their mother with her chores and the boys would listen to war stories and practice their bow and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s and girls never played together, they knew they had separate roles in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age of 13, men went on Vision Qu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yed a game like stick ball (hocke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k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were taught at a very young age not to cry because it might scare off the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our years old the girls would accompany their mother with her chores and the boys would listen to war stories and practice their bow and arrow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ys and girls never played together, they knew they had separate roles in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 of 13, men went on Vision 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yed a game like stick ball (hoc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y live 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pi (teepee) is a portable house, great for the nomadic life of a Plains Indi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made up of 3-4 poles and up to 12 buffalo skins sewn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ing always faced the morning 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bout one hour for a women to assemble the families ti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ive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pi (teepee) is a portable house, great for the nomadic life of a Plains Indi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3-4 poles and up to 12 buffalo skins sewn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ing always faced the morning s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bout one hour for a women to assemble the families ti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lives changed when they got horses. They traded or stole them from the Spanish settl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ses helped with hunting, intertribal trading and w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riors would paint their horses to show their history of batt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lives changed when they got horses. They traded or stole them from the Spanish settl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rses helped with hunting, intertribal trading and w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riors would paint their horses to show their history of batt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Fash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wardrobe of deerskin and a winter wardrobe of buffal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Indian wore a belt to hang tools, knives or cups off of, since there were no pocke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ribe made a different moccasin, some were made from deerskin, quills, and be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pipes, long thin beads made from bones, were woven into the hair and kept for l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an has been a great warrior he would wear a war bonnet made of eagle feathers. The greater the warrior, the more feath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wardrobe of deerskin and a winter wardrobe of buffal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Indian wore a belt to hang tools, knives or cups off of, since there were no po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be made a different moccasin, some were made from deerskin, quills, and b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pipes, long thin beads made from bones, were woven into the hair and kept for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man has been a great warrior he would wear a war bonnet made of eagle feathers. The greater the warrior, the more fea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hirts are made from human scalps…you don’t want to be a Plains Indian’s enem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hirts are made from human scalps…you don’t want to be a Plains Indian’s enem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each hunt they performed a buffalo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oot it took a whole tribe to catch a buffalo, they are very dangero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 heart was left on the plains as an off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and women would record their lives on buffalo hides using pictogra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each hunt they performed a buffalo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foot it took a whole tribe to catch a buffalo, they are very dangero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ffalo heart was left on the plains as an off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and women would record their lives on buffalo hides using pictograph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lived in the middle region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oughly west of the Mississippi River and east of the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made up of miles of treeless grasslands….which is perfect grazing fields for buffal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lived in the middle region of the United St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oughly west of the Mississippi River and east of the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nd is made up of miles of treeless grasslands….which is perfect grazing fields for buffal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hite man c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were the tribes to hold onto their culture the longest out of all of the American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the plains were the last to be settled and the hardest to live off 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hite man came, it changed where they lived, the tools they used, and what they 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of the largest Indian Reservations are located in the Great Plains today. (South Dakota and Oklahom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hite man c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were the tribes to hold onto their culture the longest out of all of the American India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plains were the last to be settled and the hardest to live off o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hite man came, it changed where they lived, the tools they used, and what they 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of the largest Indian Reservations are located in the Great Plains today. (South Dakota and Oklahom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ting Bu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zy H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ting B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zy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ndian Reservations ar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ndian Reservations are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between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 and the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etween the Mississ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 and the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ell known tribes in the Plains region are th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y moved around a lot you will find variations in the tribes, ex: the dakota-sioux, teton-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ll known tribes in the Plains region are th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moved around a lot you will find variations in the tribes, ex: the dakota-sioux, teton-sio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hunters had the highest rank in their trib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also judged by how many horses he was able to obtain and if he shared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hunted deer, rabbit and el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s would pull their catch back to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hunters had the highest rank in their trib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was also judged by how many horses he was able to obtain and if he shared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hunted deer, rabbit and el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s would pull their catch back to cam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women excelled at quillwor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quills were sewn in clothing and used for artwork on tip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chores were fetching water, sweeping, hoeing the fields, cooking and sew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nd far from rivers were tough to garden, but near rivers they would grow corn, squash and sun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ostly picked berries and n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een as inferior, not to speak unless spoke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women excelled at quill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ills were sewn in clothing and used for artwork on tip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chores were fetching water, sweeping, hoeing the fields, cooking and sew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 far from rivers were tough to garden, but near rivers they would grow corn, squash and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stly picked berries and 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een as inferior, not to speak unless spoke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732-1D7C-43AC-AF33-6EEF6A87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7753-0F78-4EB7-93CD-9CB54049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B2892-9335-4953-BE7C-2B7F96E9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0BDF7-CB4F-4A81-9CA6-6B973A6F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3D3E4-EAD4-409D-B339-AD10A660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15C21-136D-4E4D-9AF0-053B9564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65CD4-DE76-49BA-AA90-76786302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48268-FBAA-47D0-B1AE-1AED8B16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AE3D9-860C-4DA0-AABD-9C0D7A5E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0CED8-25F2-4E3A-BFFE-1952E662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D612D-2227-45F8-85A7-0E4DED10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826-7633-4627-AFB6-0B2E6EAB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0DB-8099-491C-AD04-B431DB96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3403-9954-43DE-BAE6-317E35DF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45EC-8E6D-49D0-9F4D-FDCD4C8E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8E5F-F666-4701-B1E3-91422E56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36FC-C691-42EF-B3ED-1D6DA286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F8E4-86EC-468B-BDA3-D78EDE64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E668-85AE-475B-B603-13850CF7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3060-F671-46F2-8173-13851C30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C12-BD78-485D-806B-9AF9E660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DF55-535D-46A5-AFF1-DA22A661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EDC9-E050-48DC-9F49-EC9C2BAB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86F2-D14A-4E4A-B00E-D12811D1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244A-FC36-4B17-853D-58AFE5A1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76FA-4E62-40E6-91A0-5EC04630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2B433-C9F0-4E51-841B-F48203E9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B176-7C27-4146-B4A0-FD15BBC1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ADB88-C0F2-4364-9486-EC1F11F2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66A17-C311-43C7-9671-305C0594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1605E-0B65-4576-B663-375082A0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B59-F195-4DDB-85E8-B6ED1AFA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E6C6F-D156-417E-BB88-0B2258A4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F193F-6998-4487-BCDB-737EB7E3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9A37C-DB5B-472E-AE7D-86E204C7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48CE2-843A-489C-87BF-985CB7CE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F14C0-5C23-4DFF-8BDF-A37E868A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CB4AC-525E-4A81-BB13-FB5D6277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C6CFD-2105-4541-80C1-1DA9109E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3F2A8-F1F1-4486-B2B9-39624214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A5F1D-1212-4C3F-B456-3698E761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C97C5-F181-4B15-80CB-5F81F67E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923-808E-4619-9AE1-DC2374F2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EABFB-7055-4217-B6FA-153B565A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2EFA9-62A4-433E-9108-86560962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6F4B1-C9A2-4679-8438-D83EECE9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8BFBB-E420-408B-8F02-DAC35E3C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F8398-F5A6-4CD7-BE2A-4BE7EA91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B97C8-B7EA-4EDA-AC04-F46D39E4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6586F-FAE9-4904-8346-FFDDD126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D946E-46BC-46C5-A300-B5D48207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B268A-BAB7-4C20-BEF2-19E9C0A8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625B4-D789-46E5-867D-C4C5684D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45E-EF2D-40EF-B020-527CD501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FB1BC-902B-412D-B021-6C3FD63F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F3BB0-C414-43DA-B4DB-BCEEA8C6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1D494-752A-482E-8D3F-34407318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0A563-79F3-4668-8C2F-CF64BD36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F114B-C8BD-4596-97E4-78671538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78708-97CC-47EE-83C5-4A691C4E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5042F-99D9-42DE-A344-F51DE03C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DF4C6-5318-4BA7-83A3-086E99FE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7F37C-3B77-406C-A9FA-3F07B6D9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1A698-FB5C-451B-932E-B077AA8A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D39-C200-4E54-825A-2474F1A5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C6688-99DD-471E-BEE1-D326D306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7AF05-D2F0-4FCB-8FB6-A4455335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EA877-E6BD-4C91-B901-F22CC376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14F21-A787-4BFB-9EF4-F8AF0E7E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66E7C-EA82-40F8-845C-6AB1BECF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36111-DC45-43F0-B82D-2AA1BAE2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56D1C-3F33-461D-9D3C-04465F15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D102C-2970-467E-A685-0D06D1AE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0BE8E-A4B6-48DA-9B2D-70CC4B62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BA81F-DD1E-42C5-A38E-B0B85778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35F-5109-4000-A91F-353C6D0E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8360F-EB3F-46F5-8AFD-A2F70CFE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EAC6A-9412-46A4-9020-0C0BA6A5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C27A5-BF4E-467C-B0EE-31D65258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EE0D6-2BBC-4485-B99A-562D6A4F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EC3BA-8DF7-44CE-9310-F11247C6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965DA-D1EF-44B0-B316-1508BB3B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B06F6-8446-4448-950C-EDC9A055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C0235-071C-4A63-AAB5-66DD5686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242F9-4A18-429A-8785-C5D8DE0B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F66DE-BB7D-4739-9B49-69B1804E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F7D-8655-496F-A38B-5CB36A86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0E4B6-3601-4A0D-BC71-9257F990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FF240-7998-4C46-ADE3-4A92E137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C3A0B-482A-4DCB-9282-17D6DF48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41743-5BB0-4781-A74D-82C97DF1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45163-3055-43C3-A686-95D14C35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D4C35-F2E9-4CDA-B474-8F20111E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6CE30-534F-4DF6-90BD-A7E9FD51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CCA63-E729-494A-AC30-6573D680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60CAF-0564-400E-A765-418936AF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BFCFE-F0B1-4DFE-AA6E-1EDC72DA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7FA-8130-4302-A675-3214BEB3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D921A-740F-42E9-BE07-12ED7CED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23122-DC64-4314-A5A9-07B193EB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8108F-75AB-4FDC-9660-A238E4F3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8107A-F65D-45C3-9283-BF1DE621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91C75-5537-4ADC-B44E-D62BAD15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16FE3-9229-4012-81E6-0A95DAB6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9BE0D-0784-44A3-94BB-BD18369F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53338-7F12-41AB-B95B-BBB1B6BB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F5120-A689-4566-BC5C-FC1A96C4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7A20D-9893-420E-B69D-CDCD5B65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2B04-C50B-4D38-8C31-396CAB739D40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55A6-871E-41F3-8254-D900C7E33D1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A233-A1E6-4350-B7B1-548CE92A2AAE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C119-BE23-4736-8CAA-CF7BDA622DE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1FB8-5C01-43BB-93F0-5F2526E57458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0EC6-C06A-460A-86B7-664FC7371C4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6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FDEF-3095-4B60-962D-69F7E9C1811C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BC65-0607-497F-9330-6413845F378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0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Straight Connector 10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B6CD-01F1-434A-814B-E06F0D6A6DAA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F8EE-108A-41CE-A1BD-7EE39820402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B856-3710-4625-96A2-E1ED4B0CE756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C03B-D551-4831-A7E2-D66CED254CC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7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836D-A317-423B-B663-A6C4201441DA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9A2F-D93F-4F8B-ABBB-E5F6237798E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322C-944D-4786-90A2-A0A4E6F81C0B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C185-4A77-4FCE-9763-6167E064E05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6A3E-7A7E-4C21-9C97-18A0FF5CD1BB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C71A-B06C-4C53-9D58-EA43FAB02D4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rds.yahoo.com/_ylt=A0WTb_hzv81IHJsAFWOJzbkF;_ylu=X3oDMTBpZm5udGl1BHBvcwM1BHNlYwNzcgR2dGlkAw--/SIG=1mp4j4fvv/EXP=1221529843/**http:/images.search.yahoo.com/images/view?back=http://images.search.yahoo.com/search/images?ei=UTF-8&amp;p=eagle%20feather%20headdress&amp;fr2=tab-web&amp;fr=yfp-t-501&amp;w=263&amp;h=450&amp;imgurl=www.liverpoolmuseums.org.uk/wml/humanworld/worldcultures/americas/Hiawatha/graphics/large/Feather_headdress.jpg&amp;rurl=http://www.liverpoolmuseums.org.uk/wml/humanworld/worldcultures/americas/hiawatha/feather_headdress.asp&amp;size=19.2kB&amp;name=Feather_headdress.jpg&amp;p=eagle+feather+headdress&amp;type=JPG&amp;oid=5b010c7f52811078&amp;no=5&amp;tt=36&amp;sigr=1377flcf2&amp;sigi=13fvpftqd&amp;sigb=13c612lkj" TargetMode="Externa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d/Nordamerikanische_Kulturareale_en.png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gendsofamerica.com/photos-nativeamerican/SiouxChiefs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gendsofamerica.com/photos-nativeamerican/SiouxIndians.jpg" TargetMode="External"/><Relationship Id="rId2" Type="http://schemas.openxmlformats.org/officeDocument/2006/relationships/hyperlink" Target="http://www.legendsofamerica.com/photos-nativeamerican/SiouxIndians.jpg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hyperlink" Target="http://rds.yahoo.com/_ylt=A0WTbx5Qwc1I0PsAtSyJzbkF;_ylu=X3oDMTBqY2pzbGhoBHBvcwMxMQRzZWMDc3IEdnRpZAM-/SIG=1jh8vq0u7/EXP=1221530320/**http:/images.search.yahoo.com/images/view?back=http://images.search.yahoo.com/search/images?p=dog+travois&amp;js=1&amp;ni=18&amp;ei=utf-8&amp;fr=yfp-t-501&amp;xargs=0&amp;pstart=1&amp;b=1&amp;w=449&amp;h=242&amp;imgurl=historyforkids.utah.gov/jump_in/images/kids--dogtravois_000.jpg&amp;rurl=http://historyforkids.utah.gov/jump_in/AncientDogsofUtah.html&amp;size=30.6kB&amp;name=kids--dogtravois_000.jpg&amp;p=dog+travois&amp;type=JPG&amp;oid=66e775b10f0d458c&amp;no=11&amp;tt=64&amp;sigr=11ts3fvvm&amp;sigi=11voji627&amp;sigb=13gvk743g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ld-picture.com/indians/Indian-Woman-Cooking.htm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old-picture.com/indians/Sioux-Indian-Maiden.htm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9000" y="4761000"/>
            <a:ext cx="8650080" cy="1315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Native American Teepee"/>
          <p:cNvPicPr/>
          <p:nvPr/>
        </p:nvPicPr>
        <p:blipFill>
          <a:blip r:embed="rId2"/>
          <a:stretch/>
        </p:blipFill>
        <p:spPr>
          <a:xfrm>
            <a:off x="2286000" y="990720"/>
            <a:ext cx="5010120" cy="33051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abies were taught at a very young age not to cry because it might scare off the food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four years old the girls would accompany their mother with her chores and the boys would listen to war stories and practice their bow and arrow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oys and girls never played together, they knew they had separate roles in life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the age of 13, men went on Vision Ques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y played a game like stick ball (hockey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tipi (teepee) is a portable house, great for the nomadic life of a Plains Indian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is made up of 3-4 poles and up to 12 buffalo skins sewn together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opening always faced the morning sun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takes about one hour for a women to assemble the families tip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Sioux tipis-tipi.co.uk,tipi,teepee,wigwam"/>
          <p:cNvPicPr/>
          <p:nvPr/>
        </p:nvPicPr>
        <p:blipFill>
          <a:blip r:embed="rId1"/>
          <a:stretch/>
        </p:blipFill>
        <p:spPr>
          <a:xfrm>
            <a:off x="380880" y="304920"/>
            <a:ext cx="4286520" cy="2952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Making Camp"/>
          <p:cNvPicPr/>
          <p:nvPr/>
        </p:nvPicPr>
        <p:blipFill>
          <a:blip r:embed="rId2"/>
          <a:stretch/>
        </p:blipFill>
        <p:spPr>
          <a:xfrm>
            <a:off x="3962520" y="2979720"/>
            <a:ext cx="5181480" cy="387828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lives changed when they got horses. They traded or stole them from the Spanish settle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horses helped with hunting, intertribal trading and wa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arriors would paint their horses to show their history of battl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http://rds.yahoo.com/_ylt=A0WTefhLuM1IRTwBdgajzbkF/SIG=129ovqv06/EXP=1221528011/**http%3A/eee.uci.edu/clients/tcthorne/Hist15/horses.gif"/>
          <p:cNvPicPr/>
          <p:nvPr/>
        </p:nvPicPr>
        <p:blipFill>
          <a:blip r:embed="rId1"/>
          <a:stretch/>
        </p:blipFill>
        <p:spPr>
          <a:xfrm>
            <a:off x="228600" y="838080"/>
            <a:ext cx="4600440" cy="49532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http://www.americanwest.com/critters/animages/gazette/pix56.jpg"/>
          <p:cNvPicPr/>
          <p:nvPr/>
        </p:nvPicPr>
        <p:blipFill>
          <a:blip r:embed="rId2"/>
          <a:stretch/>
        </p:blipFill>
        <p:spPr>
          <a:xfrm>
            <a:off x="4876920" y="533520"/>
            <a:ext cx="2857320" cy="1952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Shoshone Warrior &amp; Horse by Nativestock Pictures."/>
          <p:cNvPicPr/>
          <p:nvPr/>
        </p:nvPicPr>
        <p:blipFill>
          <a:blip r:embed="rId3"/>
          <a:stretch/>
        </p:blipFill>
        <p:spPr>
          <a:xfrm>
            <a:off x="4952880" y="2590920"/>
            <a:ext cx="2743200" cy="3998880"/>
          </a:xfrm>
          <a:prstGeom prst="rect">
            <a:avLst/>
          </a:prstGeom>
          <a:ln w="0">
            <a:noFill/>
          </a:ln>
        </p:spPr>
      </p:pic>
      <p:sp>
        <p:nvSpPr>
          <p:cNvPr id="454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Summer wardrobe of deerskin and a winter wardrobe of buffalo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very Indian wore a belt to hang tools, knives or cups off of, since there were no pocket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ach tribe made a different moccasin, some were made from deerskin, quills, and bead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Hairpipes, long thin beads made from bones, were woven into the hair and kept for lif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f a man has been a great warrior he would wear a war bonnet made of eagle feathers. The greater the warrior, the more feather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Scalp Shirts"/>
          <p:cNvPicPr/>
          <p:nvPr/>
        </p:nvPicPr>
        <p:blipFill>
          <a:blip r:embed="rId1"/>
          <a:stretch/>
        </p:blipFill>
        <p:spPr>
          <a:xfrm>
            <a:off x="152280" y="228600"/>
            <a:ext cx="4614840" cy="3276720"/>
          </a:xfrm>
          <a:prstGeom prst="rect">
            <a:avLst/>
          </a:prstGeom>
          <a:ln w="0">
            <a:noFill/>
          </a:ln>
        </p:spPr>
      </p:pic>
      <p:sp>
        <p:nvSpPr>
          <p:cNvPr id="459" name="TextBox 4"/>
          <p:cNvSpPr/>
          <p:nvPr/>
        </p:nvSpPr>
        <p:spPr>
          <a:xfrm>
            <a:off x="228600" y="35053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hese shirts are made from human scalps…you don’t want to be a Plains Indian’s enem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4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57200"/>
            <a:ext cx="1609560" cy="27813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http://www.d.umn.edu/~cheaslip/headdress.jpg"/>
          <p:cNvPicPr/>
          <p:nvPr/>
        </p:nvPicPr>
        <p:blipFill>
          <a:blip r:embed="rId4"/>
          <a:stretch/>
        </p:blipFill>
        <p:spPr>
          <a:xfrm>
            <a:off x="5127480" y="3886200"/>
            <a:ext cx="4016520" cy="2781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0" descr="Go to fullsize image"/>
          <p:cNvPicPr/>
          <p:nvPr/>
        </p:nvPicPr>
        <p:blipFill>
          <a:blip r:embed="rId5"/>
          <a:stretch/>
        </p:blipFill>
        <p:spPr>
          <a:xfrm>
            <a:off x="1447920" y="4202280"/>
            <a:ext cx="1676160" cy="265572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0492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efore each hunt they performed a buffalo da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n foot it took a whole tribe to catch a buffalo, they are very dangerou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buffalo heart was left on the plains as an offer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n and women would record their lives on buffalo hides using pictograph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http://rds.yahoo.com/_ylt=A0WTeffxuM1ILzMA2GCjzbkF/SIG=12i98eifn/EXP=1221528177/**http%3A/www.saskschools.ca/~gregory/firstnations/scans/uses.jpg"/>
          <p:cNvPicPr/>
          <p:nvPr/>
        </p:nvPicPr>
        <p:blipFill>
          <a:blip r:embed="rId1"/>
          <a:stretch/>
        </p:blipFill>
        <p:spPr>
          <a:xfrm>
            <a:off x="0" y="609480"/>
            <a:ext cx="9091440" cy="5715000"/>
          </a:xfrm>
          <a:prstGeom prst="rect">
            <a:avLst/>
          </a:prstGeom>
          <a:ln w="0">
            <a:noFill/>
          </a:ln>
        </p:spPr>
      </p:pic>
      <p:sp>
        <p:nvSpPr>
          <p:cNvPr id="46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Winter Count Hide"/>
          <p:cNvPicPr/>
          <p:nvPr/>
        </p:nvPicPr>
        <p:blipFill>
          <a:blip r:embed="rId1"/>
          <a:stretch/>
        </p:blipFill>
        <p:spPr>
          <a:xfrm>
            <a:off x="0" y="990720"/>
            <a:ext cx="5340240" cy="4419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Image: Herd of buffalo feeding on the plain"/>
          <p:cNvPicPr/>
          <p:nvPr/>
        </p:nvPicPr>
        <p:blipFill>
          <a:blip r:embed="rId2"/>
          <a:stretch/>
        </p:blipFill>
        <p:spPr>
          <a:xfrm>
            <a:off x="4952880" y="380880"/>
            <a:ext cx="3048120" cy="2000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http://upload.wikimedia.org/wikipedia/commons/thumb/8/8d/American_bison_k5680-1.jpg/180px-American_bison_k5680-1.jpg"/>
          <p:cNvPicPr/>
          <p:nvPr/>
        </p:nvPicPr>
        <p:blipFill>
          <a:blip r:embed="rId3"/>
          <a:stretch/>
        </p:blipFill>
        <p:spPr>
          <a:xfrm>
            <a:off x="5105520" y="2819520"/>
            <a:ext cx="3824280" cy="2485800"/>
          </a:xfrm>
          <a:prstGeom prst="rect">
            <a:avLst/>
          </a:prstGeom>
          <a:ln w="0">
            <a:noFill/>
          </a:ln>
        </p:spPr>
      </p:pic>
      <p:sp>
        <p:nvSpPr>
          <p:cNvPr id="47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lived in the middle region of the United Stat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is roughly west of the Mississippi River and east of the Rocky Mountai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land is made up of miles of treeless grasslands….which is perfect grazing fields for buffalo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30492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were the tribes to hold onto their culture the longest out of all of the American Indian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is because the plains were the last to be settled and the hardest to live off of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en the white man came, it changed where they lived, the tools they used, and what they at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 of the largest Indian Reservations are located in the Great Plains today. (South Dakota and Oklahoma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8" descr="Chief Sitting Bull"/>
          <p:cNvPicPr/>
          <p:nvPr/>
        </p:nvPicPr>
        <p:blipFill>
          <a:blip r:embed="rId1"/>
          <a:stretch/>
        </p:blipFill>
        <p:spPr>
          <a:xfrm>
            <a:off x="6934320" y="152280"/>
            <a:ext cx="2066760" cy="29718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Crazy"/>
          <p:cNvPicPr/>
          <p:nvPr/>
        </p:nvPicPr>
        <p:blipFill>
          <a:blip r:embed="rId2"/>
          <a:stretch/>
        </p:blipFill>
        <p:spPr>
          <a:xfrm>
            <a:off x="0" y="152280"/>
            <a:ext cx="3238560" cy="47628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Crazy Horse model in foreground with mountain in background."/>
          <p:cNvPicPr/>
          <p:nvPr/>
        </p:nvPicPr>
        <p:blipFill>
          <a:blip r:embed="rId3"/>
          <a:stretch/>
        </p:blipFill>
        <p:spPr>
          <a:xfrm>
            <a:off x="2209680" y="3186000"/>
            <a:ext cx="5334120" cy="36720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10"/>
          <p:cNvSpPr/>
          <p:nvPr/>
        </p:nvSpPr>
        <p:spPr>
          <a:xfrm>
            <a:off x="5715000" y="45720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tting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1"/>
          <p:cNvSpPr/>
          <p:nvPr/>
        </p:nvSpPr>
        <p:spPr>
          <a:xfrm>
            <a:off x="304920" y="53341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razy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Image:Indian reservations.gif"/>
          <p:cNvPicPr/>
          <p:nvPr/>
        </p:nvPicPr>
        <p:blipFill>
          <a:blip r:embed="rId1"/>
          <a:stretch/>
        </p:blipFill>
        <p:spPr>
          <a:xfrm>
            <a:off x="152280" y="609480"/>
            <a:ext cx="8956800" cy="6058080"/>
          </a:xfrm>
          <a:prstGeom prst="rect">
            <a:avLst/>
          </a:prstGeom>
          <a:ln w="0">
            <a:noFill/>
          </a:ln>
        </p:spPr>
      </p:pic>
      <p:sp>
        <p:nvSpPr>
          <p:cNvPr id="483" name="TextBox 2"/>
          <p:cNvSpPr/>
          <p:nvPr/>
        </p:nvSpPr>
        <p:spPr>
          <a:xfrm>
            <a:off x="2666880" y="6858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here Indian Reservations are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515240" y="-3290760"/>
            <a:ext cx="22860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3" name="Picture 5" descr="Image:Nordamerikanische Kulturareale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Straight Arrow Connector 5" descr=""/>
          <p:cNvPicPr/>
          <p:nvPr/>
        </p:nvPicPr>
        <p:blipFill>
          <a:blip r:embed="rId3"/>
          <a:stretch/>
        </p:blipFill>
        <p:spPr>
          <a:xfrm>
            <a:off x="1731960" y="3371760"/>
            <a:ext cx="4565520" cy="15606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6"/>
          <p:cNvSpPr/>
          <p:nvPr/>
        </p:nvSpPr>
        <p:spPr>
          <a:xfrm>
            <a:off x="304920" y="190512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n between the Mississi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River and the Rocky 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me well known tribes in the Plains region are the…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row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oux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eyen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pach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nce they moved around a lot you will find variations in the tribes, ex: the dakota-sioux, teton-sioux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ioux Chief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4479840" cy="3200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Lakota Sioux Indian Village"/>
          <p:cNvPicPr/>
          <p:nvPr/>
        </p:nvPicPr>
        <p:blipFill>
          <a:blip r:embed="rId3"/>
          <a:stretch/>
        </p:blipFill>
        <p:spPr>
          <a:xfrm>
            <a:off x="3429000" y="2647800"/>
            <a:ext cx="5715000" cy="421020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best hunters had the highest rank in their tribe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 man was also judged by how many horses he was able to obtain and if he shared them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n hunted deer, rabbit and elk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ogs would pull their catch back to camp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>
            <a:hlinkClick r:id="rId1"/>
          </p:cNvPr>
          <p:cNvSpPr/>
          <p:nvPr/>
        </p:nvSpPr>
        <p:spPr>
          <a:xfrm>
            <a:off x="123840" y="-1257480"/>
            <a:ext cx="243828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Sioux Warrio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609480"/>
            <a:ext cx="3124080" cy="3355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Stock Photo of  native american indians ogallala sioux archival photo  "/>
          <p:cNvPicPr/>
          <p:nvPr/>
        </p:nvPicPr>
        <p:blipFill>
          <a:blip r:embed="rId4"/>
          <a:stretch/>
        </p:blipFill>
        <p:spPr>
          <a:xfrm>
            <a:off x="4495680" y="533520"/>
            <a:ext cx="4280040" cy="31431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http://rds.yahoo.com/_ylt=A0WTb_4cwc1Ifw0Bt8KjzbkF/SIG=12t0egdf0/EXP=1221530268/**http%3A/www.majesticview1.com/images/NAID%2520Pics/dog_indians_travois.jpg"/>
          <p:cNvPicPr/>
          <p:nvPr/>
        </p:nvPicPr>
        <p:blipFill>
          <a:blip r:embed="rId5"/>
          <a:stretch/>
        </p:blipFill>
        <p:spPr>
          <a:xfrm>
            <a:off x="5029200" y="4114800"/>
            <a:ext cx="2428920" cy="22478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4648320"/>
            <a:ext cx="3182760" cy="170496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Plains women excelled at quillwork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se quills were sewn in clothing and used for artwork on tipi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omen chores were fetching water, sweeping, hoeing the fields, cooking and sewing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land far from rivers were tough to garden, but near rivers they would grow corn, squash and sunflower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y mostly picked berries and nu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y were seen as inferior, not to speak unless spoken t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Indian Woman Coo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971800" cy="39225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Sioux Indian Maid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228600"/>
            <a:ext cx="3429000" cy="47782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http://rds.yahoo.com/_ylt=A0WTb_iOwM1IS70ACSejzbkF/SIG=12pm9ipi3/EXP=1221530126/**http%3A/www.digital.library.upenn.edu/women/buffalo/garden/plate-3.gif"/>
          <p:cNvPicPr/>
          <p:nvPr/>
        </p:nvPicPr>
        <p:blipFill>
          <a:blip r:embed="rId5"/>
          <a:stretch/>
        </p:blipFill>
        <p:spPr>
          <a:xfrm>
            <a:off x="3200400" y="2838600"/>
            <a:ext cx="2828880" cy="4019400"/>
          </a:xfrm>
          <a:prstGeom prst="rect">
            <a:avLst/>
          </a:prstGeom>
          <a:ln w="0">
            <a:noFill/>
          </a:ln>
        </p:spPr>
      </p:pic>
      <p:sp>
        <p:nvSpPr>
          <p:cNvPr id="43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3:24:19Z</dcterms:created>
  <dc:creator>Christine Goff</dc:creator>
  <dc:description/>
  <dc:language>en-US</dc:language>
  <cp:lastModifiedBy>Legion</cp:lastModifiedBy>
  <dcterms:modified xsi:type="dcterms:W3CDTF">2017-07-05T12:20:17Z</dcterms:modified>
  <cp:revision>25</cp:revision>
  <dc:subject/>
  <dc:title>The Plains Indians</dc:title>
</cp:coreProperties>
</file>