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3.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7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43603-C267-467F-9A09-60AA86B8E1E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derdog Prevails in Indian Tales &amp; Lege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derdog Prevails in Indian Tales &amp; Leg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ble, Paul. Star Boy. New York: Bradbury Press, 198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young lady loves the morning star and finds him one morning on her long walk.  He takes her to live in the sky world with his mother, the moon, and father, the Sun.  The girl has a baby and calls him, Star Boy.  She loves her new home and child until one day she disobeys the Sun’s command and is able to see into her old world below.  She now longs to be with her original family.  She and her son return to earth and Star Boy’s mother dies from loneliness for morning star. Star Boy is now scarred and ugly and is not accepted in his world.  To gain the love of a beautiful chief’s daughter he searches for Sky World.  He longs to be made n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ble, Paul. Star Boy. New York: Bradbury Press, 198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oung lady loves the morning star and finds him one morning on her long walk.  He takes her to live in the sky world with his mother, the moon, and father, the Sun.  The girl has a baby and calls him, Star Boy.  She loves her new home and child until one day she disobeys the Sun’s command and is able to see into her old world below.  She now longs to be with her original family.  She and her son return to earth and Star Boy’s mother dies from loneliness for morning star. Star Boy is now scarred and ugly and is not accepted in his world.  To gain the love of a beautiful chief’s daughter he searches for Sky World.  He longs to be made n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ssel, K. Joyce. Squanto and the First Thanksgiving. Minnesota: Carolrhoda Book, 198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nto, A Patuxet Indian, is a friendly Indian boy who hunts wild animals. He is captured by Englishmen and sold as a slave. Squanto learns the white man ways and works very hard.  His master sees his sadness for his family and sets Squanto free. He returns to his own only to be captured again and sold as a slave in Spain to Catholic monks.  The monks teach Squanto The Christian Faith and help him back to America.  He finds no village or family and lives with the neighboring tribe.  He discovers Pilgrims living close by and begins to teach them survival ski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ssel, K. Joyce. Squanto and the First Thanksgiving. Minnesota: Carolrhoda Book, 198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nto, A Patuxet Indian, is a friendly Indian boy who hunts wild animals. He is captured by Englishmen and sold as a slave. Squanto learns the white man ways and works very hard.  His master sees his sadness for his family and sets Squanto free. He returns to his own only to be captured again and sold as a slave in Spain to Catholic monks.  The monks teach Squanto The Christian Faith and help him back to America.  He finds no village or family and lives with the neighboring tribe.  He discovers Pilgrims living close by and begins to teach them survival ski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lausner, Janet. Sequoyah’s Gift. New York: Harper Collins, 199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quoyah, a Cherokee leader, believes the Cherokee language bonds his tribe and he works to create a writing system, A Cherokee Alphabet, sot that the messages of his people will be preserved for all times.  He encounters many hardships, unbelief amongst his family and people, yet Sequoyah succeeds.  He holds on to hope and patience and creates the powerful gift of litera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lausner, Janet. Sequoyah’s Gift. New York: Harper Collins, 199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oyah, a Cherokee leader, believes the Cherokee language bonds his tribe and he works to create a writing system, A Cherokee Alphabet, sot that the messages of his people will be preserved for all times.  He encounters many hardships, unbelief amongst his family and people, yet Sequoyah succeeds.  He holds on to hope and patience and creates the powerful gift of litera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Rafe.  The Rough-Face Girl. New York: G.P.Putnam’s Sons, 199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village stands a great wigwam.  Inside the wigwam supposedly lives a handsome, Invisible Being with his sister.  His sister is the only one who has ever seen this rich and powerful being.  Women of the village want to marry him but the only one who shall marry him is the one that can see him.  Three sisters live in the village with their poor father and younger scarred face, burnt, sister.  The two beautifully dressed sisters are convinced one of them will marry The Invisible Being.  But they cannot describe him no matter how hard they try. It is the younger sister that sees him everywhere she goes.  It is she that receives the treasure that her sisters so long to h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tin, Rafe.  The Rough-Face Girl. New York: G.P.Putnam’s Sons, 199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village stands a great wigwam.  Inside the wigwam supposedly lives a handsome, Invisible Being with his sister.  His sister is the only one who has ever seen this rich and powerful being.  Women of the village want to marry him but the only one who shall marry him is the one that can see him.  Three sisters live in the village with their poor father and younger scarred face, burnt, sister.  The two beautifully dressed sisters are convinced one of them will marry The Invisible Being.  But they cannot describe him no matter how hard they try. It is the younger sister that sees him everywhere she goes.  It is she that receives the treasure that her sisters so long to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acter Analy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tories I chose are about individuals or groups of people that appear weak and/or ugly but are truly strong and beautiful.  The stories share common character traits.  Each character or group in these stories are unselfish and kind to others.  Most people in their communities do not believe in them but they overcome doubt, haunting and abuse to accomplish mighty deeds.  I call this idea the “Principle of the Package”.  The package that is beautifully wrapped and most desirable does not always contain the most valuable treasure.  The package that is tattered, torn and wrapped hurriedly often contains the riches treas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nto and Sacajawea experience similar circumstances such as slavery, abuse of white man and lost of family, but never once did they want revenge or refuse to assist.  Each leads and helps the white men, the same people who sold them and mistreated them.  Sacajawea travels with her newborn son, appears weak, but she is definitely not weak.  She is strong and perseveres all the while showing courage.  Squanto just like Sacajawea endures separation, sorrow and loneliness.  In the end they both witness great satisfaction.  One for leading a successful and valuable expedition and the other for teaching survival skills to a starving dying comm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tories I chose are about individuals or groups of people that appear weak and/or ugly but are truly strong and beautiful.  The stories share common character traits.  Each character or group in these stories are unselfish and kind to others.  Most people in their communities do not believe in them but they overcome doubt, haunting and abuse to accomplish mighty deeds.  I call this idea the “Principle of the Package”.  The package that is beautifully wrapped and most desirable does not always contain the most valuable treasure.  The package that is tattered, torn and wrapped hurriedly often contains the riches treas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nto and Sacajawea experience similar circumstances such as slavery, abuse of white man and lost of family, but never once did they want revenge or refuse to assist.  Each leads and helps the white men, the same people who sold them and mistreated them.  Sacajawea travels with her newborn son, appears weak, but she is definitely not weak.  She is strong and perseveres all the while showing courage.  Squanto just like Sacajawea endures separation, sorrow and loneliness.  In the end they both witness great satisfaction.  One for leading a successful and valuable expedition and the other for teaching survival skills to a starving dying commun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quoyah also perseveres.  He was not sold to slavery but he loses his family’s trust and confidence.  His loss is caused by his drive and obsession in creating a writing system for his Cherokee Nation.  People could not understand his odd behavior and isolation. They felt he was lazy.  Little Gopher in The Legend of the Indian Paintbrush also is ridiculed and believed to be odd for his love of painting and drawing.  He is not like the other warrior boys in his tribe.  Both of these characters have creative talents and when free to create beautiful results occur.  Sequoyah designs the Cherokee Alphabet and Little Gopher paints his tribe’s stories and brings the Indian paintbrush, the sunset, to his Peop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he-Who-Is-Alone in The Legend of the Bluebonnet and the family of the girl who loved wild horses made heart wrenching sacrifices for the sake of their families and tribes.  She-Who-Is-Alone gives her doll, her most valued possession, to the Great Spirits and ends the tribe’s famine.  The girl who loved wild horses’ family sacrifices their daughter, their most valued possession, to  satisfy her desire to run with the horses.  Each knew their loss is great but the love for their own family and people far exceeds their own desi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quoyah also perseveres.  He was not sold to slavery but he loses his family’s trust and confidence.  His loss is caused by his drive and obsession in creating a writing system for his Cherokee Nation.  People could not understand his odd behavior and isolation. They felt he was lazy.  Little Gopher in The Legend of the Indian Paintbrush also is ridiculed and believed to be odd for his love of painting and drawing.  He is not like the other warrior boys in his tribe.  Both of these characters have creative talents and when free to create beautiful results occur.  Sequoyah designs the Cherokee Alphabet and Little Gopher paints his tribe’s stories and brings the Indian paintbrush, the sunset, to his Peop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e-Who-Is-Alone in The Legend of the Bluebonnet and the family of the girl who loved wild horses made heart wrenching sacrifices for the sake of their families and tribes.  She-Who-Is-Alone gives her doll, her most valued possession, to the Great Spirits and ends the tribe’s famine.  The girl who loved wild horses’ family sacrifices their daughter, their most valued possession, to  satisfy her desire to run with the horses.  Each knew their loss is great but the love for their own family and people far exceeds their own desir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lindness is not easy to accept but with the love and support of his grandfather, Boy-Strength-of-the-Blue Horses in Knots on a Counting Rope overcomes his weakness and sees with his heart. He walks in darkness but the light in his heart is brighter than any others in his tribe.  It takes the belief of his grandfather to ‘open his eyes’.  The Rough-Face girl and Star Boy are like  Boy-Strength-of-the-Blue Horses.  They are not blind but they are physically scarred.  Each have scars and ugly markings that cause them to walk in darkness. Living in the darkness of doubt and taunting of ridicule.  Yet, the belief and love of a beautiful, caring being, much like grandfather, provides the light needed to find their inner and outward beau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cahontas is the last character to consider and she ,in appearance, is different then all these characters.  She is a beautiful princess and is well liked by her tribe.  She does not follow the ‘principle of the package’ but the white men in this story do.  They are weak and vulnerable strangers in the new land.  Pocahontas sees the white men and longs to learn about them.  She is instrumental in saving the captive white man from being killed by her tribe and father, the Chief. The white men survive the long winter because of Pocahontas’ care and support.  They befriend Pocahontas and give her gifts and knowledge of their homeland, England.  Even though Pocahontas is beautiful outward she proves to have a beautiful character as well.  Beautiful packages can house beautiful treas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lindness is not easy to accept but with the love and support of his grandfather, Boy-Strength-of-the-Blue Horses in Knots on a Counting Rope overcomes his weakness and sees with his heart. He walks in darkness but the light in his heart is brighter than any others in his tribe.  It takes the belief of his grandfather to ‘open his eyes’.  The Rough-Face girl and Star Boy are like  Boy-Strength-of-the-Blue Horses.  They are not blind but they are physically scarred.  Each have scars and ugly markings that cause them to walk in darkness. Living in the darkness of doubt and taunting of ridicule.  Yet, the belief and love of a beautiful, caring being, much like grandfather, provides the light needed to find their inner and outward beau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cahontas is the last character to consider and she ,in appearance, is different then all these characters.  She is a beautiful princess and is well liked by her tribe.  She does not follow the ‘principle of the package’ but the white men in this story do.  They are weak and vulnerable strangers in the new land.  Pocahontas sees the white men and longs to learn about them.  She is instrumental in saving the captive white man from being killed by her tribe and father, the Chief. The white men survive the long winter because of Pocahontas’ care and support.  They befriend Pocahontas and give her gifts and knowledge of their homeland, England.  Even though Pocahontas is beautiful outward she proves to have a beautiful character as well.  Beautiful packages can house beautiful treas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The Legend of the Bluebonnet the girl’s doll symbolizes her lost family.  The doll gives her the love and comfort she so desires from her family. In sacrificing her doll, she gains the love of her entire people and she is honored.  She now belongs.  In The Girl Who Loved Wild Horses the horse symbolizes family and freedom.  The girl wants to run and live with the horses making her spirit wild and free.  She sees them as her family. The girl’s true parents let her go because she symbolizes their desire to run wild and free amongst their distant rela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Knots on a Counting Rope the knots on the rope symbolize sight.  Every time the grandfather shares the boy’s story, of his birth and name,  the boy’s eyes are opened further to see his strength and power to overcome darkness.  The grandfather knows that his love will always surround his grandson and the counting rope will forever remind the boy that he can see through the darkn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is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The Legend of the Bluebonnet the girl’s doll symbolizes her lost family.  The doll gives her the love and comfort she so desires from her family. In sacrificing her doll, she gains the love of her entire people and she is honored.  She now belongs.  In The Girl Who Loved Wild Horses the horse symbolizes family and freedom.  The girl wants to run and live with the horses making her spirit wild and free.  She sees them as her family. The girl’s true parents let her go because she symbolizes their desire to run wild and free amongst their distant relat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Knots on a Counting Rope the knots on the rope symbolize sight.  Every time the grandfather shares the boy’s story, of his birth and name,  the boy’s eyes are opened further to see his strength and power to overcome darkness.  The grandfather knows that his love will always surround his grandson and the counting rope will forever remind the boy that he can see through the darkne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ar Boy and The Rough-Face Girl’s scars and ugliness symbolize shunning of others.  People could not see past the scars and accept them for the beautiful spirits they are.  I believe many people have scars and feel shunned and not accepted.  Hopefully when reading these stories they can find acceptance in their inner beauty and strength just as Star Boy and Rough-Face Girl do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quoyah’s Cherokee alphabet symbolizes the preservation of the language, customs and history of his tribe. He wanted more than anything for the Cherokee nation to hold strong to their language and to share it with their children and children's children. Sequoyah’s persecutions and tribulations paid off when he saw the Cherokee people reading and writing in their native langu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r Boy and The Rough-Face Girl’s scars and ugliness symbolize shunning of others.  People could not see past the scars and accept them for the beautiful spirits they are.  I believe many people have scars and feel shunned and not accepted.  Hopefully when reading these stories they can find acceptance in their inner beauty and strength just as Star Boy and Rough-Face Girl do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quoyah’s Cherokee alphabet symbolizes the preservation of the language, customs and history of his tribe. He wanted more than anything for the Cherokee nation to hold strong to their language and to share it with their children and children's children. Sequoyah’s persecutions and tribulations paid off when he saw the Cherokee people reading and writing in their native langu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ot Analy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ll the stories I collected the plot follows similar sequential events.  The  main characters (protagonists) are immediately faced with obstacles(antagonistic forces.)  Some of the characters became slaves while others had physical attributes that brought scars and isolation. These obstacles and physical appearance bring hardship and heartache. This is typical in story narra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time moves on the characters discover inner strength and love. This is found by either guiding and helping others or by others believing and providing support. In the non-fiction stories and one of the fiction stories the main characters are influenced by actual humans.  In the other five fiction stories the characters are influenced by Great Spirits.  The characters discover their special and unique strengths and they use their founded strength for the greater go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ot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ll the stories I collected the plot follows similar sequential events.  The  main characters (protagonists) are immediately faced with obstacles(antagonistic forces.)  Some of the characters became slaves while others had physical attributes that brought scars and isolation. These obstacles and physical appearance bring hardship and heartache. This is typical in story narrat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 time moves on the characters discover inner strength and love. This is found by either guiding and helping others or by others believing and providing support. In the non-fiction stories and one of the fiction stories the main characters are influenced by actual humans.  In the other five fiction stories the characters are influenced by Great Spirits.  The characters discover their special and unique strengths and they use their founded strength for the greater goo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collection of  North American Indian tales and stories to be used with the third grade Native American Indian unit. The unit will not only meet the state objectives but will promote the “right choice” program adopted by our schoo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 of this project is to use Native American Indian tales to show how unselfish acts of the “undesirable” can change the lives of many. The power of choice plays a definite role in each of these s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oject will enhance the existing unit by stimulating critical thinking skills.  The books in this collection are a combination of fiction and non-fiction stories. I like the combination of the two to show that real people ,like themselves,  can be used to empower a nation of people and it does not always exist in the world of make-believe. Students will analyze character behaviors, study the various plots to determine similarities and differences and look for symbolism within and amongst the s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used my school’s library WEBPac system to locate most of my resources.  I typed in keywords and then a list of titles were given.  I discovered that my library is well stocked with Native American Indian literature.  I used the internet search engine, Ask Jeeves, and the Irving Public Library.  Amazon.com and National Museum of the American Indian website were used  for the pictures of characters and for  the book cover’s jack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rpose and Description of Proje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ollection of  North American Indian tales and stories to be used with the third grade Native American Indian unit. The unit will not only meet the state objectives but will promote the “right choice” program adopted by our schoo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project is to use Native American Indian tales to show how unselfish acts of the “undesirable” can change the lives of many. The power of choice plays a definite role in each of these sto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ject will enhance the existing unit by stimulating critical thinking skills.  The books in this collection are a combination of fiction and non-fiction stories. I like the combination of the two to show that real people ,like themselves,  can be used to empower a nation of people and it does not always exist in the world of make-believe. Students will analyze character behaviors, study the various plots to determine similarities and differences and look for symbolism within and amongst the sto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used my school’s library WEBPac system to locate most of my resources.  I typed in keywords and then a list of titles were given.  I discovered that my library is well stocked with Native American Indian literature.  I used the internet search engine, Ask Jeeves, and the Irving Public Library.  Amazon.com and National Museum of the American Indian website were used  for the pictures of characters and for  the book cover’s jack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pose and Description of Projec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fore all of the stories’ climax the characters face a tough decision and challenging obstacle.  Once they tackle the decision and hurdle the obstacle they find comfort and great satisfaction. Victory is accomplished.  Not always shown extrinsically but definitely intrinsical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undesirable  are now the desirable and all  benefit because of the choices they made.  The Underdog Prevai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all of the stories’ climax the characters face a tough decision and challenging obstacle.  Once they tackle the decision and hurdle the obstacle they find comfort and great satisfaction. Victory is accomplished.  Not always shown extrinsically but definitely intrinsical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undesirable  are now the desirable and all  benefit because of the choices they made.  The Underdog Prevai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believe this project will greatly enhance my Native American Indian unit.  The students will have a greater appreciation of Native American’ tales and will understand character traits in a deeper way.  The TEK and TAKS objectives state that the student is expected to analyze characters and recognize a story’s plot especially in culturally diverse texts.  I believe the students will meet and far exceed these objec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collective unit of study will stimulate critical thinking and promote important values.  I am looking forward to teaching this unit in the fall.  I plan to document the student’s progress and reactions.  I hope that students will see the value and importance of all people and to respect everyone regardless of their race, sex, culture and appear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 believe this project will greatly enhance my Native American Indian unit.  The students will have a greater appreciation of Native American’ tales and will understand character traits in a deeper way.  The TEK and TAKS objectives state that the student is expected to analyze characters and recognize a story’s plot especially in culturally diverse texts.  I believe the students will meet and far exceed these objectiv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collective unit of study will stimulate critical thinking and promote important values.  I am looking forward to teaching this unit in the fall.  I plan to document the student’s progress and reactions.  I hope that students will see the value and importance of all people and to respect everyone regardless of their race, sex, culture and appear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ddition, I want them to understand that our actions can result in mighty and wonderful deeds, but it can also result in terrible and destructive deeds.  I want them to know that if they feel they are the ‘Underdog’ they should not despair.  Just like the characters in the stories they too can be a powerful instrument and Prev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ddition, I want them to understand that our actions can result in mighty and wonderful deeds, but it can also result in terrible and destructive deeds.  I want them to know that if they feel they are the ‘Underdog’ they should not despair.  Just like the characters in the stories they too can be a powerful instrument and Prevai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n Story Collection</a:t>
            </a:r>
            <a:br>
              <a:rPr sz="1200"/>
            </a:br>
            <a:r>
              <a:rPr b="0" lang="en-US" sz="1200" spc="-1" strike="noStrike">
                <a:solidFill>
                  <a:srgbClr val="000000"/>
                </a:solidFill>
                <a:latin typeface="Calibri"/>
              </a:rPr>
              <a:t>Click to see Bibliographic Citation and Synop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see Story Analy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 Story Collection</a:t>
            </a:r>
            <a:br>
              <a:rPr sz="1200"/>
            </a:br>
            <a:r>
              <a:rPr b="0" lang="en-US" sz="1200" spc="-1" strike="noStrike">
                <a:solidFill>
                  <a:srgbClr val="000000"/>
                </a:solidFill>
                <a:latin typeface="Times New Roman"/>
              </a:rPr>
              <a:t>Click to see Bibliographic Citation and Synop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see Story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ley, A. David. A Picture Book of Sacajawea. New York: Holiday House, 2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hoshone native American Indian girl is taken from her tribe and held captive by the hostile Hidatsa tribe.  Just as she learns the ways of her new surroundings she is sold to a white trapper, Charbonneau.  Sacajawea and her newborn baby travel with explorers, Lewis and Clark, on a journey to discover a route to the Pacific Ocean.  Sacajawea plays a vital role as interpreter for Lewis and Clark.  She eventually unites with her broth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United States gives much credit to Sacajawea’s service and the success of the expedition of Lewis and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ley, A. David. A Picture Book of Sacajawea. New York: Holiday House, 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oshone native American Indian girl is taken from her tribe and held captive by the hostile Hidatsa tribe.  Just as she learns the ways of her new surroundings she is sold to a white trapper, Charbonneau.  Sacajawea and her newborn baby travel with explorers, Lewis and Clark, on a journey to discover a route to the Pacific Ocean.  Sacajawea plays a vital role as interpreter for Lewis and Clark.  She eventually unites with her broth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United States gives much credit to Sacajawea’s service and the success of the expedition of Lewis and Cla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mbault, John and Bill Martin Jr. Knots on a Counting Rope. New York: Henry Holt and Company, 198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young boy loves his grandfather and the story he tells of his birth and name.  His name is Boy-Strength-of-Blue-Horses.  The boy is blind from birth and his grandfather guides him with much words and wisdom. The boy discovers inner strength and va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mbault, John and Bill Martin Jr. Knots on a Counting Rope. New York: Henry Holt and Company, 198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oung boy loves his grandfather and the story he tells of his birth and name.  His name is Boy-Strength-of-Blue-Horses.  The boy is blind from birth and his grandfather guides him with much words and wisdom. The boy discovers inner strength and va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lognese, Don and Elaine Raphael. Pocahontas, Princess of the River Tribes. New York: Scholastic Inc.,199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cahontas is a princess daughter of the great chief, Powhatan.  Pocahontas is a bright brave girl who desires to see the faces of the white men and the tall ships spoken by her people.  She is fascinated by their voices and appearances.  She does not allow the Chief to harm the captured leader.  John Smith and she become friends and she helps the white men survive the long wi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lognese, Don and Elaine Raphael. Pocahontas, Princess of the River Tribes. New York: Scholastic Inc.,199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cahontas is a princess daughter of the great chief, Powhatan.  Pocahontas is a bright brave girl who desires to see the faces of the white men and the tall ships spoken by her people.  She is fascinated by their voices and appearances.  She does not allow the Chief to harm the captured leader.  John Smith and she become friends and she helps the white men survive the long wi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aola, Tomie. The Legend of the Bluebonnet. New York: G.P. Putnam’s Sons, 198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rought has brought death and famine to the Comanche tribe.  A young girl holds her most loved possession, a warrior doll, and dreams of her family who died from the famine.  She waits for the return of the Shayman to here the words of the Great Spirits.  The Great Spirits have spoken and the small girl knows what she must d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aola, Tomie. The Legend of the Bluebonnet. New York: G.P. Putnam’s Sons, 198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rought has brought death and famine to the Comanche tribe.  A young girl holds her most loved possession, a warrior doll, and dreams of her family who died from the famine.  She waits for the return of the Shayman to here the words of the Great Spirits.  The Great Spirits have spoken and the small girl knows what she must d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aola, Tomie. The Legend of the Indian Paintbrush. New York: G.P. Putnam’s Sons.198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mall boy, Little Gopher, carves beautiful wood toy warriors and paints stones with berries.  He is unique from other boys.  A Dream Vision is given and speaks of the boy’s powerful gift and shows him how his People will remember his paintings forever.  He returns to his People and paints  pictures of the tribe’s hunts and great deeds.  Yet on the white buckskin given to him by the Dream Vision, he paints a special gift that will stay with his People fore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aola, Tomie. The Legend of the Indian Paintbrush. New York: G.P. Putnam’s Sons.198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mall boy, Little Gopher, carves beautiful wood toy warriors and paints stones with berries.  He is unique from other boys.  A Dream Vision is given and speaks of the boy’s powerful gift and shows him how his People will remember his paintings forever.  He returns to his People and paints  pictures of the tribe’s hunts and great deeds.  Yet on the white buckskin given to him by the Dream Vision, he paints a special gift that will stay with his People forev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ble, Paul. The Girl Who Loved Wild Horses. New York: Bradbury Press, 197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irl loves horses. She understands horses unlike any others of her tribe.  She sleeps with the horses and a terrible clash of thunder awakens her and she leaps upon a horse and rides. She rides with the winds of the storm.  She is lost from her tribe. She meets a beautiful, spotted stallion and she decides to live with the horses.  Her family eventually finds her but does not prevent her from running with the wild hor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ble, Paul. The Girl Who Loved Wild Horses. New York: Bradbury Press, 197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irl loves horses. She understands horses unlike any others of her tribe.  She sleeps with the horses and a terrible clash of thunder awakens her and she leaps upon a horse and rides. She rides with the winds of the storm.  She is lost from her tribe. She meets a beautiful, spotted stallion and she decides to live with the horses.  Her family eventually finds her but does not prevent her from running with the wild hor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5A5631-2D9C-483A-BEFE-8CAC293FA8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735F4-9FAF-4D2F-95AB-72DB00909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507BC0-7153-48BF-B771-5A03ACA2F9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C673FC-6558-4697-B8BE-4E3149B192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615DB4-E892-438B-BECA-4C29C147FE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763E5A-7C5D-46AF-B18A-1AD84CA86C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C0072F-ABA4-44F2-9AFA-379B6AC3F0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CDA6EF-FF6B-4015-A08A-3669DABAB2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9364FA-5CAF-492D-96DB-838B9BE1D6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67F15B9-FD30-431E-9200-34F28A88B1E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C5E3194-0770-488A-B9AC-DE127B4EC51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E2D68D8-6190-4509-9931-AE8AEF0C5FA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A0DD10-A250-4220-A5AD-3617611DF3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35C9A65-3810-49F3-BF35-B4F4F8D76A7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AFCC1ED-96DA-4A9D-ACEA-49F864443EE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FBDFCE5-B28C-45D8-A5B1-5D4D1CD1E5B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9D06A17-6912-4662-B5D2-FFDFE33357D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4E801E5-DC5E-468C-9C56-671D0E66628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0139F21-39BB-476A-8288-B43904F8D8F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523E1C9-3F1E-4CF7-84DF-C3E4A5BBA0B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4B20727-B2CB-4AB3-B0B4-03ADF6857BF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B928B2B-E1D4-4CA2-ABB5-8E5FF4DE772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29E4276-531C-4E47-A89F-F640079964B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4FCFAE-7F5B-4DD0-BB91-70110C2704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235AE5F-9704-4B7A-943A-E0C0D347F57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115A29A-1968-40F2-89F3-54C950C5F6F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B91745A-A2EF-48D3-B9B4-548A93E137A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3D15E49-BB3F-4E05-AE9C-C44ADC29424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844CE56-07F8-441A-B6F6-2DCE24F08BC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68D0E3C-47A3-4D3F-9CE9-8985C106297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1640497-D8A5-4B8B-9383-6C2840F937F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4E7FBEC-6AF0-4CEE-A287-F53ABAB9F29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250B36B-1DB8-42BA-ADD3-9473507B5D1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15D5CE4-1A56-429D-8268-62335B16474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230A6B-0DBD-4432-AE3C-54D48B45D0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531940B-BC76-4A1E-8C3B-BE38E9D440C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596361A-309A-4FBC-BC51-7C7BF830A9F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1DE8C31-7F06-4023-80EA-FE98024584F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69EE97F-A999-41AC-A444-4F489C45195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8BB7E2B-F6AB-4472-AF68-99362D8C1E7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26C2B07-51A1-41C5-B940-318EFBC26DE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5E14FAF-530B-4765-B64D-E1838CC5A52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385BEBA-9199-4088-B4C5-37033F2E564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F93AA6A-F1F8-476A-9CE0-C86EA7663D6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4F61169-2D34-4732-BA12-9FC3E91920B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BFB86B-13D8-4605-B438-0301FF4F7F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5B46E71-7198-46E4-B1C7-270186958D4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6319D48-7EC4-4F60-B4A3-6DD8C6D63F4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596C990-F483-4F54-A240-0A2BF9516C4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B2C0765-9A45-4070-9D98-8DA466D6746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C2DD96C-39AF-4243-B62D-5DC40B9D8F7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948A59D-71F7-441A-B451-6078D65E7C9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E09CFF8-2E82-4925-A3C2-CB7EB1C50FE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B63151D-1CAA-4576-B0E8-1779EE7872C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BDCFF32-3A8A-4CCC-9AEA-7E370DDB567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EFB05F7-46C1-47A5-8FE7-7B85F484C91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7F0348-35E8-4EE6-BD5B-054DD99E54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FD2B531-A773-40D2-AA82-D0CDB2D0D73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2D7F333-1106-43D9-B01F-F2B2E492AB9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63AB264-3DE9-4C80-BF16-3522B9C8426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34CBB89-1BFE-473C-833C-68DCC704116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CC20EAE-433D-417A-A6A2-C3B58CDD281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EE7AA7A-6E94-47DB-816A-FCDA7BB4318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A8BC88F-D3D7-4098-9E3F-81E2EDE308E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9E7E4CE-8409-4128-A2AE-DFB66F81DCE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A313E93-8719-4BA5-BECF-9D0CD8556CE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30337A3-C238-417D-8934-734E736DB08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6D28DD-A04E-41C1-98B9-9250EB39A6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F14DACB-2A80-44B0-B567-919D6C8F709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1B1435E-7BB2-46C5-8CD1-5B2F55A8AF6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6E82B0B-24F8-4955-ABE5-6B6E7B592CC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7613B00-8AC7-4BDD-8FC5-0AB87EDEF02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E480138-BDE0-40A3-BE46-9A35279B19D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D044059-CD23-42F0-9AC7-2AEFA2E663B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96752F5-B3CB-457F-98F6-1EBE1F4BFC8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7416B86-4688-406C-938D-00A5BC2298F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C112912-6880-4F54-8DFA-5519C99D9F8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720677-6B43-4342-A43F-2EE83965EA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4841A6-5B06-43B8-B369-06EA4B588F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33B2C-15D6-4595-A6EE-B9F84E2B63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6C5B5-D404-42A1-B724-B1EEF135E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13A720-1F97-44C0-BE2E-22969D52F1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D7B9FD-1CFA-4688-A8F3-B400151507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83F421-AC64-47D8-BC4F-CF8C9B488C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C3FB9D-E65C-4570-BFC9-D6B3380432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8962D2-17D0-4E3C-853D-319BF97122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6071B2-8B33-4D6B-88B9-492565F3E3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E2E3FE-7C33-439D-B541-E20B5AF386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BE5236-984B-4BF3-8D73-52CAA456A4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4F51F6-7B34-4EC0-984A-C6A01572D1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0EEE39-4050-4BEE-9AC6-37B109D6F3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DCBE6-EB10-4E8C-B927-D57CD5B8D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2A2EDC-3C44-4F5E-B828-CA7B94DFE7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15994D-36AD-44FE-A422-7AB58F8980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D43C96-77ED-47BF-BCA9-C76D4D1E7A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A1FD0F-1246-41F8-8151-736214C7CB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86D1DA-48EB-4905-B656-47554E39A7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A77B24-6C30-4988-8ECE-2E61332CA9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F38777-AD42-4418-BEDD-0EA0261CAE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F585E9-569B-4591-A016-C399E681C7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592327-F651-4425-9DAC-941B486491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C5719B-8AF7-4941-B12F-EF33E369D9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285ED-22D0-4059-B679-E1C6BC554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BC4207-45A8-404A-8101-902784E5FF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E42EE1-A01B-48DB-975B-F9FD2CE493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44FE1A-DDB5-4979-969D-380C770A51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FC17FD-99DF-4279-87C9-24EF5B1B4D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074C7B-B370-47F7-9A23-92BB829C44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5AEDED-E24C-4E7D-B9D2-730A89FD8F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9DEEDB-2ADA-4990-B012-399D4F0A3F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190621-584B-4957-937A-930A3F5FA1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9A57AA-B0FA-4E5A-A3AF-4CC2B64897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B02C9A2-CEFB-476B-A2CA-BBA609EB52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457D4-D7C8-499B-8C5C-0E9713D72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EEA172-85FE-485B-A62E-BACEFE554A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34F7B0-2EEE-4A42-BF24-42F4586766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D9D4FF-BF9F-415F-9224-A6E9281280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ADDBC9-56F1-4BE5-9461-45229C0B45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9A001B-30FD-488C-B44A-C6AFB0E904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DC2E10-737C-4759-81FE-69A00ED1B0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36BCE6-411F-4D83-831E-FD023C9AA7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DC5488-4DC3-45AA-9871-0CC7505FB4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E1BE32-9F3B-492E-BE56-04AD240C6F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D860686-D6FB-4E1E-B3D1-BBC715BB7D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E74AF-C297-41BD-881F-77E207CF0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FE1F71F-8141-4158-8BD4-CE597DA8D9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ED278C-AF98-4AD2-9833-4B8AAEB72D3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62D681-720E-4B1B-B029-011B94BDE8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4999FC-0C1A-4244-8B7B-4F8DD850CE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BC1E62-68D8-468A-80D8-B8A1185D57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AC2FA9-73B0-42E2-BD4C-E5CBED0D18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77B145-D087-4994-BE5A-C7BC402A7A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70D037-C91A-4131-B183-9EB2632E9C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EFD233-208A-4B6B-8903-F591478253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DAEC54-F40E-4EAF-AA12-CBDF3CDF29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D74D3-8834-473C-B04E-C38FA8EFC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84F1CD-EF48-4416-A6C3-010DA3BF96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FEFE0F7-3DD2-4AD8-8249-16B85A77154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09BA84E-5A0A-432C-91B5-6CEBEEAC1D8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5FCE9E0-BB51-4A53-9EF5-FACB0CEC123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4C7FCC-B70A-468C-B0A6-64B608F192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2FDBD5-D029-4ADF-A41A-089534D6CD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2DC979-0A16-4D2C-8126-B1D99356C5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611F3A-370D-48A6-96C7-7B5D51EEF7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E65B88-494F-4910-AA0A-01ADA30129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CAC853-2771-493A-A731-B76094A9F4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6AB64-8120-410E-983A-8D43C22FD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9BD748-BABC-498C-BADA-F7F5BD3EA4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E5D3C1-4D24-4561-ADC3-C6E13B0C00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BC8A2A-DC04-4971-873A-3628E83B16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279099A-C19C-4ADA-9403-0ADDC5369B7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F2A9800-1822-4136-9AD8-0E5DFDECBC2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5A43F58-21C7-4A99-B1CA-4359F8237BD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6A9586-51D4-4785-80AB-7CA2D58216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78FF20-0563-4C94-9FB5-064B401F2A9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0B5828-4B9C-4F5A-B3F6-4090E1ED30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560DF4-2746-411F-B095-F671D72EBC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92BA1-203E-4687-96E9-E4F031076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2A3908-E502-4DB5-AD20-A697E3806A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AAD80D-A864-4A64-B8FA-DA1AF86B2D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C1A3C7-883F-457E-82BF-595BA527F3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FE1A3E-6243-4403-920B-63B8739558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79F325-1FE6-4F68-9699-F47820816A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1312A7D-123E-4E88-87AC-6386BDA19EB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D4E16F1-9D03-49AD-B925-2796255A49C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E488234-9B3E-4F92-8A6A-C48D0D62CAB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6A2F3C-7594-4B9A-B07C-4D571DA4A8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1F28DC-8816-456D-9C04-2A1485C0CDD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60478-BD62-4DB5-A82A-AF948C65CF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B4C35-4538-4BB6-81F4-82480E55AA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1CF26-A0E2-479A-B92A-9C6A61C07C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E8992-B50F-41C2-997D-1CD71454B4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9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E32F9-FDF2-4342-A91E-78767AF0A5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5"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537"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2CDE2-D440-4723-ADA2-9C97D62CE1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B0E0B-A560-49E6-B977-59122D2E8A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35F01-7EC4-4F4F-A03A-E4CCDDEA1F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AC503-985A-48C7-961D-A6A2ACD32A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3CCD6-F6B0-42A6-9DF7-7A7FE55D59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1AD42-EA77-4457-B425-4781DA5735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06648-2FE7-4E27-A754-A3D2DE226C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891D5-2B0C-4A4E-8911-74DC4F8413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7303F-BC28-441A-9EE9-D2AF934586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5.xml"/><Relationship Id="rId3" Type="http://schemas.openxmlformats.org/officeDocument/2006/relationships/slideLayout" Target="../slideLayouts/slideLayout7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2.xml"/><Relationship Id="rId3" Type="http://schemas.openxmlformats.org/officeDocument/2006/relationships/slide" Target="slide3.xml"/><Relationship Id="rId4" Type="http://schemas.openxmlformats.org/officeDocument/2006/relationships/slideLayout" Target="../slideLayouts/slideLayout49.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8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Layout" Target="../slideLayouts/slideLayout145.xml"/><Relationship Id="rId1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Picture 6" descr="C:\WINDOWS\Desktop\storytelling\indian.gif"/>
          <p:cNvPicPr/>
          <p:nvPr/>
        </p:nvPicPr>
        <p:blipFill>
          <a:blip r:embed="rId1"/>
          <a:stretch/>
        </p:blipFill>
        <p:spPr>
          <a:xfrm>
            <a:off x="1828800" y="0"/>
            <a:ext cx="4241880" cy="3459240"/>
          </a:xfrm>
          <a:prstGeom prst="rect">
            <a:avLst/>
          </a:prstGeom>
          <a:ln w="0">
            <a:noFill/>
          </a:ln>
        </p:spPr>
      </p:pic>
      <p:sp>
        <p:nvSpPr>
          <p:cNvPr id="582" name="WordArt 5"/>
          <p:cNvSpPr txBox="1"/>
          <p:nvPr/>
        </p:nvSpPr>
        <p:spPr>
          <a:xfrm>
            <a:off x="380880" y="2666880"/>
            <a:ext cx="8153640" cy="1981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The Underdog Prevails in Indian Tales &amp; Legends</a:t>
            </a:r>
            <a:endParaRPr b="0" lang="en-US" sz="2400" spc="1" strike="noStrike">
              <a:ln w="9360">
                <a:solidFill>
                  <a:srgbClr val="000000"/>
                </a:solidFill>
                <a:miter/>
              </a:ln>
              <a:solidFill>
                <a:srgbClr val="000000"/>
              </a:solidFill>
              <a:latin typeface="Times New Roman"/>
              <a:ea typeface="Times New Roman"/>
            </a:endParaRPr>
          </a:p>
        </p:txBody>
      </p:sp>
      <p:sp>
        <p:nvSpPr>
          <p:cNvPr id="583" name="Місце для нижнього колонтитула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advTm="6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ble, Paul. </a:t>
            </a:r>
            <a:r>
              <a:rPr b="0" i="1" lang="en-US" sz="3200" spc="-1" strike="noStrike">
                <a:solidFill>
                  <a:srgbClr val="000000"/>
                </a:solidFill>
                <a:latin typeface="Times New Roman"/>
              </a:rPr>
              <a:t>Star Boy.</a:t>
            </a:r>
            <a:r>
              <a:rPr b="0" lang="en-US" sz="3200" spc="-1" strike="noStrike">
                <a:solidFill>
                  <a:srgbClr val="000000"/>
                </a:solidFill>
                <a:latin typeface="Times New Roman"/>
              </a:rPr>
              <a:t> New York: Bradbury Press, 1983.</a:t>
            </a:r>
            <a:endParaRPr b="0" lang="en-US" sz="3200" spc="-1" strike="noStrike">
              <a:solidFill>
                <a:srgbClr val="000000"/>
              </a:solidFill>
              <a:latin typeface="Times New Roman"/>
            </a:endParaRPr>
          </a:p>
        </p:txBody>
      </p:sp>
      <p:sp>
        <p:nvSpPr>
          <p:cNvPr id="626" name="PlaceHolder 2"/>
          <p:cNvSpPr>
            <a:spLocks noGrp="1"/>
          </p:cNvSpPr>
          <p:nvPr>
            <p:ph/>
          </p:nvPr>
        </p:nvSpPr>
        <p:spPr>
          <a:xfrm>
            <a:off x="3733560" y="1523880"/>
            <a:ext cx="4724280" cy="457200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young lady loves the morning star and finds him one morning on her long walk.  He takes her to live in the sky world with his mother, the moon, and father, the Sun.  The girl has a baby and calls him, Star Boy.  She loves her new home and child until one day she disobeys the Sun’s command and is able to see into her old world below.  She now longs to be with her original family.  She and her son return to earth and Star Boy’s mother dies from loneliness for morning star. Star Boy is now scarred and ugly and is not accepted in his world.  To gain the love of a beautiful chief’s daughter he searches for Sky World.  He longs to be made new.</a:t>
            </a:r>
            <a:endParaRPr b="0" lang="en-US" sz="2000" spc="-1" strike="noStrike">
              <a:solidFill>
                <a:srgbClr val="000000"/>
              </a:solidFill>
              <a:latin typeface="Times New Roman"/>
            </a:endParaRPr>
          </a:p>
        </p:txBody>
      </p:sp>
      <p:pic>
        <p:nvPicPr>
          <p:cNvPr id="627" name="Picture 6" descr=""/>
          <p:cNvPicPr/>
          <p:nvPr/>
        </p:nvPicPr>
        <p:blipFill>
          <a:blip r:embed="rId1"/>
          <a:stretch/>
        </p:blipFill>
        <p:spPr>
          <a:xfrm>
            <a:off x="762120" y="1981080"/>
            <a:ext cx="2946240" cy="3017880"/>
          </a:xfrm>
          <a:prstGeom prst="rect">
            <a:avLst/>
          </a:prstGeom>
          <a:ln w="0">
            <a:noFill/>
          </a:ln>
        </p:spPr>
      </p:pic>
      <p:sp>
        <p:nvSpPr>
          <p:cNvPr id="628" name="Rectangle 8"/>
          <p:cNvSpPr/>
          <p:nvPr/>
        </p:nvSpPr>
        <p:spPr>
          <a:xfrm>
            <a:off x="990720" y="5257800"/>
            <a:ext cx="263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ssel, K. Joyce. </a:t>
            </a:r>
            <a:r>
              <a:rPr b="0" i="1" lang="en-US" sz="3200" spc="-1" strike="noStrike">
                <a:solidFill>
                  <a:srgbClr val="000000"/>
                </a:solidFill>
                <a:latin typeface="Times New Roman"/>
              </a:rPr>
              <a:t>Squanto and the First</a:t>
            </a:r>
            <a:r>
              <a:rPr b="0" lang="en-US" sz="3200" spc="-1" strike="noStrike">
                <a:solidFill>
                  <a:srgbClr val="000000"/>
                </a:solidFill>
                <a:latin typeface="Times New Roman"/>
              </a:rPr>
              <a:t> </a:t>
            </a:r>
            <a:r>
              <a:rPr b="0" i="1" lang="en-US" sz="3200" spc="-1" strike="noStrike">
                <a:solidFill>
                  <a:srgbClr val="000000"/>
                </a:solidFill>
                <a:latin typeface="Times New Roman"/>
              </a:rPr>
              <a:t>Thanksgiving.</a:t>
            </a:r>
            <a:r>
              <a:rPr b="0" lang="en-US" sz="3200" spc="-1" strike="noStrike">
                <a:solidFill>
                  <a:srgbClr val="000000"/>
                </a:solidFill>
                <a:latin typeface="Times New Roman"/>
              </a:rPr>
              <a:t> Minnesota: Carolrhoda Book, 1983.</a:t>
            </a:r>
            <a:endParaRPr b="0" lang="en-US" sz="3200" spc="-1" strike="noStrike">
              <a:solidFill>
                <a:srgbClr val="000000"/>
              </a:solidFill>
              <a:latin typeface="Times New Roman"/>
            </a:endParaRPr>
          </a:p>
        </p:txBody>
      </p:sp>
      <p:sp>
        <p:nvSpPr>
          <p:cNvPr id="631" name="PlaceHolder 2"/>
          <p:cNvSpPr>
            <a:spLocks noGrp="1"/>
          </p:cNvSpPr>
          <p:nvPr>
            <p:ph/>
          </p:nvPr>
        </p:nvSpPr>
        <p:spPr>
          <a:xfrm>
            <a:off x="3885840" y="1828800"/>
            <a:ext cx="4724280" cy="411480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quanto, A Patuxet Indian, is a friendly Indian boy who hunts wild animals. He is captured by Englishmen and sold as a slave. Squanto learns the white man ways and works very hard.  His master sees his sadness for his family and sets Squanto free. He returns to his own only to be captured again and sold as a slave in Spain to Catholic monks.  The monks teach Squanto The Christian Faith and help him back to America.  He finds no village or family and lives with the neighboring tribe.  He discovers Pilgrims living close by and begins to teach them survival skills.</a:t>
            </a:r>
            <a:endParaRPr b="0" lang="en-US" sz="2000" spc="-1" strike="noStrike">
              <a:solidFill>
                <a:srgbClr val="000000"/>
              </a:solidFill>
              <a:latin typeface="Times New Roman"/>
            </a:endParaRPr>
          </a:p>
        </p:txBody>
      </p:sp>
      <p:pic>
        <p:nvPicPr>
          <p:cNvPr id="632" name="Picture 7" descr="C:\WINDOWS\Desktop\storytelling\squanto (Cropped).png"/>
          <p:cNvPicPr/>
          <p:nvPr/>
        </p:nvPicPr>
        <p:blipFill>
          <a:blip r:embed="rId1"/>
          <a:stretch/>
        </p:blipFill>
        <p:spPr>
          <a:xfrm>
            <a:off x="762120" y="2286000"/>
            <a:ext cx="2971800" cy="2320920"/>
          </a:xfrm>
          <a:prstGeom prst="rect">
            <a:avLst/>
          </a:prstGeom>
          <a:ln w="0">
            <a:noFill/>
          </a:ln>
        </p:spPr>
      </p:pic>
      <p:sp>
        <p:nvSpPr>
          <p:cNvPr id="633" name="Rectangle 8"/>
          <p:cNvSpPr/>
          <p:nvPr/>
        </p:nvSpPr>
        <p:spPr>
          <a:xfrm>
            <a:off x="838080" y="487692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ausner, Janet. </a:t>
            </a:r>
            <a:r>
              <a:rPr b="0" i="1" lang="en-US" sz="3200" spc="-1" strike="noStrike">
                <a:solidFill>
                  <a:srgbClr val="000000"/>
                </a:solidFill>
                <a:latin typeface="Times New Roman"/>
              </a:rPr>
              <a:t>Sequoyah’s Gift.</a:t>
            </a:r>
            <a:r>
              <a:rPr b="0" lang="en-US" sz="3200" spc="-1" strike="noStrike">
                <a:solidFill>
                  <a:srgbClr val="000000"/>
                </a:solidFill>
                <a:latin typeface="Times New Roman"/>
              </a:rPr>
              <a:t> New York: Harper Collins, 1993.</a:t>
            </a:r>
            <a:endParaRPr b="0" lang="en-US" sz="3200" spc="-1" strike="noStrike">
              <a:solidFill>
                <a:srgbClr val="000000"/>
              </a:solidFill>
              <a:latin typeface="Times New Roman"/>
            </a:endParaRPr>
          </a:p>
        </p:txBody>
      </p:sp>
      <p:sp>
        <p:nvSpPr>
          <p:cNvPr id="636" name="PlaceHolder 2"/>
          <p:cNvSpPr>
            <a:spLocks noGrp="1"/>
          </p:cNvSpPr>
          <p:nvPr>
            <p:ph/>
          </p:nvPr>
        </p:nvSpPr>
        <p:spPr>
          <a:xfrm>
            <a:off x="4114800" y="1599840"/>
            <a:ext cx="457200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uoyah, a Cherokee leader, believes the Cherokee language bonds his tribe and he works to create a writing system, A Cherokee Alphabet, sot that the messages of his people will be preserved for all times.  He encounters many hardships, unbelief amongst his family and people, yet Sequoyah succeeds.  He holds on to hope and patience and creates the powerful gift of literacy.</a:t>
            </a:r>
            <a:endParaRPr b="0" lang="en-US" sz="2400" spc="-1" strike="noStrike">
              <a:solidFill>
                <a:srgbClr val="000000"/>
              </a:solidFill>
              <a:latin typeface="Times New Roman"/>
            </a:endParaRPr>
          </a:p>
        </p:txBody>
      </p:sp>
      <p:pic>
        <p:nvPicPr>
          <p:cNvPr id="637" name="Picture 8" descr="C:\WINDOWS\Desktop\storytelling\sequoyah (Cropped) (Copy 1).png"/>
          <p:cNvPicPr/>
          <p:nvPr/>
        </p:nvPicPr>
        <p:blipFill>
          <a:blip r:embed="rId1"/>
          <a:stretch/>
        </p:blipFill>
        <p:spPr>
          <a:xfrm>
            <a:off x="685800" y="1752480"/>
            <a:ext cx="2832120" cy="3810240"/>
          </a:xfrm>
          <a:prstGeom prst="rect">
            <a:avLst/>
          </a:prstGeom>
          <a:ln w="0">
            <a:noFill/>
          </a:ln>
        </p:spPr>
      </p:pic>
      <p:sp>
        <p:nvSpPr>
          <p:cNvPr id="638" name="Rectangle 9"/>
          <p:cNvSpPr/>
          <p:nvPr/>
        </p:nvSpPr>
        <p:spPr>
          <a:xfrm>
            <a:off x="838080" y="5638680"/>
            <a:ext cx="309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tin, Rafe.  </a:t>
            </a:r>
            <a:r>
              <a:rPr b="0" i="1" lang="en-US" sz="3200" spc="-1" strike="noStrike">
                <a:solidFill>
                  <a:srgbClr val="000000"/>
                </a:solidFill>
                <a:latin typeface="Times New Roman"/>
              </a:rPr>
              <a:t>The Rough-Face Girl</a:t>
            </a:r>
            <a:r>
              <a:rPr b="0" lang="en-US" sz="3200" spc="-1" strike="noStrike">
                <a:solidFill>
                  <a:srgbClr val="000000"/>
                </a:solidFill>
                <a:latin typeface="Times New Roman"/>
              </a:rPr>
              <a:t>. New York: G.P.Putnam’s Sons, 1992.</a:t>
            </a:r>
            <a:endParaRPr b="0" lang="en-US" sz="3200" spc="-1" strike="noStrike">
              <a:solidFill>
                <a:srgbClr val="000000"/>
              </a:solidFill>
              <a:latin typeface="Times New Roman"/>
            </a:endParaRPr>
          </a:p>
        </p:txBody>
      </p:sp>
      <p:sp>
        <p:nvSpPr>
          <p:cNvPr id="641" name="PlaceHolder 2"/>
          <p:cNvSpPr>
            <a:spLocks noGrp="1"/>
          </p:cNvSpPr>
          <p:nvPr>
            <p:ph/>
          </p:nvPr>
        </p:nvSpPr>
        <p:spPr>
          <a:xfrm>
            <a:off x="4038120" y="1676520"/>
            <a:ext cx="4800600" cy="495288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 village stands a great wigwam.  Inside the wigwam supposedly lives a handsome, Invisible Being with his sister.  His sister is the only one who has ever seen this rich and powerful being.  Women of the village want to marry him but the only one who shall marry him is the one that can see him.  Three sisters live in the village with their poor father and younger scarred face, burnt, sister.  The two beautifully dressed sisters are convinced one of them will marry The Invisible Being.  But they cannot describe him no matter how hard they try. It is the younger sister that sees him everywhere she goes.  It is she that receives the treasure that her sisters so long to have.</a:t>
            </a:r>
            <a:endParaRPr b="0" lang="en-US" sz="2000" spc="-1" strike="noStrike">
              <a:solidFill>
                <a:srgbClr val="000000"/>
              </a:solidFill>
              <a:latin typeface="Times New Roman"/>
            </a:endParaRPr>
          </a:p>
        </p:txBody>
      </p:sp>
      <p:pic>
        <p:nvPicPr>
          <p:cNvPr id="642" name="Picture 6" descr=""/>
          <p:cNvPicPr/>
          <p:nvPr/>
        </p:nvPicPr>
        <p:blipFill>
          <a:blip r:embed="rId1"/>
          <a:stretch/>
        </p:blipFill>
        <p:spPr>
          <a:xfrm>
            <a:off x="914400" y="1905120"/>
            <a:ext cx="2706840" cy="3581280"/>
          </a:xfrm>
          <a:prstGeom prst="rect">
            <a:avLst/>
          </a:prstGeom>
          <a:ln w="0">
            <a:noFill/>
          </a:ln>
        </p:spPr>
      </p:pic>
      <p:sp>
        <p:nvSpPr>
          <p:cNvPr id="643" name="Rectangle 7"/>
          <p:cNvSpPr/>
          <p:nvPr/>
        </p:nvSpPr>
        <p:spPr>
          <a:xfrm>
            <a:off x="838080" y="5562720"/>
            <a:ext cx="289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WordArt 3"/>
          <p:cNvSpPr txBox="1"/>
          <p:nvPr/>
        </p:nvSpPr>
        <p:spPr>
          <a:xfrm>
            <a:off x="1905120" y="228600"/>
            <a:ext cx="4800600" cy="6858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Character Analysis</a:t>
            </a:r>
            <a:endPar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646" name="Text Box 4"/>
          <p:cNvSpPr/>
          <p:nvPr/>
        </p:nvSpPr>
        <p:spPr>
          <a:xfrm>
            <a:off x="228600" y="914400"/>
            <a:ext cx="8534520" cy="5497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The stories I chose are about individuals or groups of people that appear weak and/or ugly but are truly strong and beautiful.  The stories share common character traits.  Each character or group in these stories are unselfish and kind to others.  Most people in their communities do not believe in them but they overcome doubt, haunting and abuse to accomplish mighty deeds.  I call this idea the “Principle of the Package”.  The package that is beautifully wrapped and most desirable does not always contain the most valuable treasure.  The package that is tattered, torn and wrapped hurriedly often contains the riches treasur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quanto and Sacajawea experience similar circumstances such as slavery, abuse of white man and lost of family, but never once did they want revenge or refuse to assist.  Each leads and helps the white men, the same people who sold them and mistreated them.  Sacajawea travels with her newborn son, appears weak, but she is definitely not weak.  She is strong and perseveres all the while showing courage.  Squanto just like Sacajawea endures separation, sorrow and loneliness.  In the end they both witness great satisfaction.  One for leading a successful and valuable expedition and the other for teaching survival skills to a starving dying community.</a:t>
            </a:r>
            <a:endParaRPr b="0" lang="en-US" sz="2000" spc="-1" strike="noStrike">
              <a:solidFill>
                <a:srgbClr val="000000"/>
              </a:solidFill>
              <a:latin typeface="Times New Roman"/>
            </a:endParaRPr>
          </a:p>
        </p:txBody>
      </p:sp>
      <p:sp>
        <p:nvSpPr>
          <p:cNvPr id="647" name="AutoShape 5">
            <a:hlinkClick r:id="rId1" action="ppaction://hlinksldjump"/>
          </p:cNvPr>
          <p:cNvSpPr/>
          <p:nvPr/>
        </p:nvSpPr>
        <p:spPr>
          <a:xfrm>
            <a:off x="7086600" y="6019920"/>
            <a:ext cx="1523880" cy="83808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Text Box 6"/>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2" action="ppaction://hlinksldjump"/>
              </a:rPr>
              <a:t>click</a:t>
            </a:r>
            <a:endParaRPr b="0" lang="en-US" sz="1800" spc="-1" strike="noStrike">
              <a:solidFill>
                <a:srgbClr val="000000"/>
              </a:solidFill>
              <a:latin typeface="Times New Roman"/>
            </a:endParaRPr>
          </a:p>
        </p:txBody>
      </p:sp>
      <p:sp>
        <p:nvSpPr>
          <p:cNvPr id="6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Text Box 2"/>
          <p:cNvSpPr/>
          <p:nvPr/>
        </p:nvSpPr>
        <p:spPr>
          <a:xfrm>
            <a:off x="228600" y="228600"/>
            <a:ext cx="8915400" cy="6301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equoyah also perseveres.  He was not sold to slavery but he loses his family’s trust and confidence.  His loss is caused by his drive and obsession in creating a writing system for his Cherokee Nation.  People could not understand his odd behavior and isolation. They felt he was lazy.  Little Gopher in </a:t>
            </a:r>
            <a:r>
              <a:rPr b="0" i="1" lang="en-US" sz="2200" spc="-1" strike="noStrike">
                <a:solidFill>
                  <a:srgbClr val="000000"/>
                </a:solidFill>
                <a:latin typeface="Times New Roman"/>
              </a:rPr>
              <a:t>The Legend of the Indian Paintbrush</a:t>
            </a:r>
            <a:r>
              <a:rPr b="0" lang="en-US" sz="2200" spc="-1" strike="noStrike">
                <a:solidFill>
                  <a:srgbClr val="000000"/>
                </a:solidFill>
                <a:latin typeface="Times New Roman"/>
              </a:rPr>
              <a:t> also is ridiculed and believed to be odd for his love of painting and drawing.  He is not like the other warrior boys in his tribe.  Both of these characters have creative talents and when free to create beautiful results occur.  Sequoyah designs the Cherokee Alphabet and Little Gopher paints his tribe’s stories and brings the Indian paintbrush, the sunset, to his People.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he-Who-Is-Alone in </a:t>
            </a:r>
            <a:r>
              <a:rPr b="0" i="1" lang="en-US" sz="2200" spc="-1" strike="noStrike">
                <a:solidFill>
                  <a:srgbClr val="000000"/>
                </a:solidFill>
                <a:latin typeface="Times New Roman"/>
              </a:rPr>
              <a:t>The Legend of the Bluebonnet</a:t>
            </a:r>
            <a:r>
              <a:rPr b="0" lang="en-US" sz="2200" spc="-1" strike="noStrike">
                <a:solidFill>
                  <a:srgbClr val="000000"/>
                </a:solidFill>
                <a:latin typeface="Times New Roman"/>
              </a:rPr>
              <a:t> and the family of the girl who loved wild horses made heart wrenching sacrifices for the sake of their families and tribes.  She-Who-Is-Alone gives her doll, her most valued possession, to the Great Spirits and ends the tribe’s famine.  The girl who loved wild horses’ family sacrifices their daughter, their most valued possession, to  satisfy her desire to run with the horses.  Each knew their loss is great but the love for their own family and people far exceeds their own desires.  </a:t>
            </a:r>
            <a:endParaRPr b="0" lang="en-US" sz="2200" spc="-1" strike="noStrike">
              <a:solidFill>
                <a:srgbClr val="000000"/>
              </a:solidFill>
              <a:latin typeface="Times New Roman"/>
            </a:endParaRPr>
          </a:p>
        </p:txBody>
      </p:sp>
      <p:sp>
        <p:nvSpPr>
          <p:cNvPr id="651" name="AutoShape 3"/>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Text Box 4"/>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2"/>
          <p:cNvSpPr/>
          <p:nvPr/>
        </p:nvSpPr>
        <p:spPr>
          <a:xfrm>
            <a:off x="0" y="-212760"/>
            <a:ext cx="9144000" cy="70963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lindness is not easy to accept but with the love and support of his grandfather, Boy-Strength-of-the-Blue Horses in </a:t>
            </a:r>
            <a:r>
              <a:rPr b="0" i="1" lang="en-US" sz="2000" spc="-1" strike="noStrike">
                <a:solidFill>
                  <a:srgbClr val="000000"/>
                </a:solidFill>
                <a:latin typeface="Times New Roman"/>
              </a:rPr>
              <a:t>Knots on a</a:t>
            </a:r>
            <a:r>
              <a:rPr b="0" lang="en-US" sz="2000" spc="-1" strike="noStrike">
                <a:solidFill>
                  <a:srgbClr val="000000"/>
                </a:solidFill>
                <a:latin typeface="Times New Roman"/>
              </a:rPr>
              <a:t> </a:t>
            </a:r>
            <a:r>
              <a:rPr b="0" i="1" lang="en-US" sz="2000" spc="-1" strike="noStrike">
                <a:solidFill>
                  <a:srgbClr val="000000"/>
                </a:solidFill>
                <a:latin typeface="Times New Roman"/>
              </a:rPr>
              <a:t>Counting Rope</a:t>
            </a:r>
            <a:r>
              <a:rPr b="0" lang="en-US" sz="2000" spc="-1" strike="noStrike">
                <a:solidFill>
                  <a:srgbClr val="000000"/>
                </a:solidFill>
                <a:latin typeface="Times New Roman"/>
              </a:rPr>
              <a:t> overcomes his weakness and sees with his heart. He walks in darkness but the light in his heart is brighter than any others in his tribe.  It takes the belief of his grandfather to ‘open his eyes’.  The Rough-Face girl and Star Boy are like  Boy-Strength-of-the-Blue Horses.  They are not blind but they are physically scarred.  Each have scars and ugly markings that cause them to walk in darkness. Living in the darkness of doubt and taunting of ridicule.  Yet, the belief and love of a beautiful, caring being, much like grandfather, provides the light needed to find their inner and outward beauty.</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ocahontas is the last character to consider and she ,in appearance, is different then all these characters.  She is a beautiful princess and is well liked by her tribe.  She does not follow the ‘principle of the package’ but the white men in this story do.  They are weak and vulnerable strangers in the new land.  Pocahontas sees the white men and longs to learn about them.  She is instrumental in saving the captive white man from being killed by her tribe and father, the Chief. The white men survive the long winter because of Pocahontas’ care and support.  They befriend Pocahontas and give her gifts and knowledge of their homeland, England.  Even though Pocahontas is beautiful outward she proves to have a beautiful character as well.  Beautiful packages can house beautiful treasures.</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55" name="AutoShape 3"/>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Text Box 4"/>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WordArt 2"/>
          <p:cNvSpPr txBox="1"/>
          <p:nvPr/>
        </p:nvSpPr>
        <p:spPr>
          <a:xfrm>
            <a:off x="2362320" y="228600"/>
            <a:ext cx="308592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Symbolism</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59" name="Text Box 3"/>
          <p:cNvSpPr/>
          <p:nvPr/>
        </p:nvSpPr>
        <p:spPr>
          <a:xfrm>
            <a:off x="380880" y="1066680"/>
            <a:ext cx="8153640" cy="53265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200" spc="-1" strike="noStrike">
                <a:solidFill>
                  <a:srgbClr val="000000"/>
                </a:solidFill>
                <a:latin typeface="Times New Roman"/>
              </a:rPr>
              <a:t>In </a:t>
            </a:r>
            <a:r>
              <a:rPr b="0" i="1" lang="en-US" sz="2200" spc="-1" strike="noStrike">
                <a:solidFill>
                  <a:srgbClr val="000000"/>
                </a:solidFill>
                <a:latin typeface="Times New Roman"/>
              </a:rPr>
              <a:t>The Legend of the Bluebonnet</a:t>
            </a:r>
            <a:r>
              <a:rPr b="0" lang="en-US" sz="2200" spc="-1" strike="noStrike">
                <a:solidFill>
                  <a:srgbClr val="000000"/>
                </a:solidFill>
                <a:latin typeface="Times New Roman"/>
              </a:rPr>
              <a:t> the girl’s doll symbolizes her lost family.  The doll gives her the love and comfort she so desires from her family. In sacrificing her doll, she gains the love of her entire people and she is honored.  She now belongs.  In </a:t>
            </a:r>
            <a:r>
              <a:rPr b="0" i="1" lang="en-US" sz="2200" spc="-1" strike="noStrike">
                <a:solidFill>
                  <a:srgbClr val="000000"/>
                </a:solidFill>
                <a:latin typeface="Times New Roman"/>
              </a:rPr>
              <a:t>The Girl Who Loved</a:t>
            </a:r>
            <a:r>
              <a:rPr b="0" lang="en-US" sz="2200" spc="-1" strike="noStrike">
                <a:solidFill>
                  <a:srgbClr val="000000"/>
                </a:solidFill>
                <a:latin typeface="Times New Roman"/>
              </a:rPr>
              <a:t> </a:t>
            </a:r>
            <a:r>
              <a:rPr b="0" i="1" lang="en-US" sz="2200" spc="-1" strike="noStrike">
                <a:solidFill>
                  <a:srgbClr val="000000"/>
                </a:solidFill>
                <a:latin typeface="Times New Roman"/>
              </a:rPr>
              <a:t>Wild Horses</a:t>
            </a:r>
            <a:r>
              <a:rPr b="0" lang="en-US" sz="2200" spc="-1" strike="noStrike">
                <a:solidFill>
                  <a:srgbClr val="000000"/>
                </a:solidFill>
                <a:latin typeface="Times New Roman"/>
              </a:rPr>
              <a:t> the horse symbolizes family and freedom.  The girl wants to run and live with the horses making her spirit wild and free.  She sees them as her family. The girl’s true parents let her go because she symbolizes their desire to run wild and free amongst their distant relative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In </a:t>
            </a:r>
            <a:r>
              <a:rPr b="0" i="1" lang="en-US" sz="2200" spc="-1" strike="noStrike">
                <a:solidFill>
                  <a:srgbClr val="000000"/>
                </a:solidFill>
                <a:latin typeface="Times New Roman"/>
              </a:rPr>
              <a:t>Knots on a Counting Rope</a:t>
            </a:r>
            <a:r>
              <a:rPr b="0" lang="en-US" sz="2200" spc="-1" strike="noStrike">
                <a:solidFill>
                  <a:srgbClr val="000000"/>
                </a:solidFill>
                <a:latin typeface="Times New Roman"/>
              </a:rPr>
              <a:t> the knots on the rope symbolize sight.  Every time the grandfather shares the boy’s story, of his birth and name,  the boy’s eyes are opened further to see his strength and power to overcome darkness.  The grandfather knows that his love will always surround his grandson and the counting rope will forever remind the boy that he can see through the darkness.  </a:t>
            </a:r>
            <a:endParaRPr b="0" lang="en-US" sz="2200" spc="-1" strike="noStrike">
              <a:solidFill>
                <a:srgbClr val="000000"/>
              </a:solidFill>
              <a:latin typeface="Times New Roman"/>
            </a:endParaRPr>
          </a:p>
        </p:txBody>
      </p:sp>
      <p:sp>
        <p:nvSpPr>
          <p:cNvPr id="660" name="AutoShape 4"/>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Text Box 5"/>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Text Box 2"/>
          <p:cNvSpPr/>
          <p:nvPr/>
        </p:nvSpPr>
        <p:spPr>
          <a:xfrm>
            <a:off x="0" y="380880"/>
            <a:ext cx="8534520" cy="522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r Boy and The Rough-Face Girl’s scars and ugliness symbolize shunning of others.  People could not see past the scars and accept them for the beautiful spirits they are.  I believe many people have scars and feel shunned and not accepted.  Hopefully when reading these stories they can find acceptance in their inner beauty and strength just as Star Boy and Rough-Face Girl do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quoyah’s Cherokee alphabet symbolizes the preservation of the language, customs and history of his tribe. He wanted more than anything for the Cherokee nation to hold strong to their language and to share it with their children and children's children. Sequoyah’s persecutions and tribulations paid off when he saw the Cherokee people reading and writing in their native language.</a:t>
            </a:r>
            <a:endParaRPr b="0" lang="en-US" sz="2400" spc="-1" strike="noStrike">
              <a:solidFill>
                <a:srgbClr val="000000"/>
              </a:solidFill>
              <a:latin typeface="Times New Roman"/>
            </a:endParaRPr>
          </a:p>
        </p:txBody>
      </p:sp>
      <p:sp>
        <p:nvSpPr>
          <p:cNvPr id="664" name="AutoShape 3"/>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Text Box 4"/>
          <p:cNvSpPr/>
          <p:nvPr/>
        </p:nvSpPr>
        <p:spPr>
          <a:xfrm>
            <a:off x="7467480" y="59436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WordArt 2"/>
          <p:cNvSpPr txBox="1"/>
          <p:nvPr/>
        </p:nvSpPr>
        <p:spPr>
          <a:xfrm>
            <a:off x="1676520" y="228600"/>
            <a:ext cx="5410080" cy="13716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Plot Analysi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668" name="Text Box 3"/>
          <p:cNvSpPr/>
          <p:nvPr/>
        </p:nvSpPr>
        <p:spPr>
          <a:xfrm>
            <a:off x="609480" y="1905120"/>
            <a:ext cx="7772400" cy="4246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000" spc="-1" strike="noStrike">
                <a:solidFill>
                  <a:srgbClr val="000000"/>
                </a:solidFill>
                <a:latin typeface="Times New Roman"/>
              </a:rPr>
              <a:t>In all the stories I collected the plot follows similar sequential events.  The  main characters (protagonists) are immediately faced with obstacles(antagonistic forces.)  Some of the characters became slaves while others had physical attributes that brought scars and isolation. These obstacles and physical appearance bring hardship and heartache. This is typical in story narrativ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s time moves on the characters discover inner strength and love. This is found by either guiding and helping others or by others believing and providing support. In the non-fiction stories and one of the fiction stories the main characters are influenced by actual humans.  In the other five fiction stories the characters are influenced by Great Spirits.  The characters discover their special and unique strengths and they use their founded strength for the greater good.    </a:t>
            </a:r>
            <a:endParaRPr b="0" lang="en-US" sz="2000" spc="-1" strike="noStrike">
              <a:solidFill>
                <a:srgbClr val="000000"/>
              </a:solidFill>
              <a:latin typeface="Times New Roman"/>
            </a:endParaRPr>
          </a:p>
        </p:txBody>
      </p:sp>
      <p:sp>
        <p:nvSpPr>
          <p:cNvPr id="669" name="AutoShape 4"/>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Text Box 5"/>
          <p:cNvSpPr/>
          <p:nvPr/>
        </p:nvSpPr>
        <p:spPr>
          <a:xfrm>
            <a:off x="7467480" y="5867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Text Box 6"/>
          <p:cNvSpPr/>
          <p:nvPr/>
        </p:nvSpPr>
        <p:spPr>
          <a:xfrm>
            <a:off x="0" y="838080"/>
            <a:ext cx="9144000" cy="566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a collection of  North American Indian tales and stories to be used with the third grade Native American Indian unit. The unit will not only meet the state objectives but will promote the “right choice” program adopted by our school.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urpose of this project is to use Native American Indian tales to show how unselfish acts of the “undesirable” can change the lives of many. The power of choice plays a definite role in each of these stori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roject will enhance the existing unit by stimulating critical thinking skills.  The books in this collection are a combination of fiction and non-fiction stories. I like the combination of the two to show that real people ,like themselves,  can be used to empower a nation of people and it does not always exist in the world of make-believe. Students will analyze character behaviors, study the various plots to determine similarities and differences and look for symbolism within and amongst the stories.</a:t>
            </a:r>
            <a:endParaRPr b="0" lang="en-US" sz="2000" spc="-1" strike="noStrike">
              <a:solidFill>
                <a:srgbClr val="000000"/>
              </a:solidFill>
              <a:latin typeface="Times New Roman"/>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 used my school’s library WEBPac system to locate most of my resources.  I typed in keywords and then a list of titles were given.  I discovered that my library is well stocked with Native American Indian literature.  I used the internet search engine, Ask Jeeves, and the Irving Public Library.  Amazon.com and National Museum of the American Indian website were used  for the pictures of characters and for  the book cover’s jacket.</a:t>
            </a:r>
            <a:endParaRPr b="0" lang="en-US" sz="1900" spc="-1" strike="noStrike">
              <a:solidFill>
                <a:srgbClr val="000000"/>
              </a:solidFill>
              <a:latin typeface="Times New Roman"/>
            </a:endParaRPr>
          </a:p>
        </p:txBody>
      </p:sp>
      <p:sp>
        <p:nvSpPr>
          <p:cNvPr id="585" name="WordArt 7"/>
          <p:cNvSpPr txBox="1"/>
          <p:nvPr/>
        </p:nvSpPr>
        <p:spPr>
          <a:xfrm>
            <a:off x="990720" y="228600"/>
            <a:ext cx="7543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Purpose and Description of Project </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86" name="AutoShape 10">
            <a:hlinkClick r:id="rId1" action="ppaction://hlinksldjump"/>
          </p:cNvPr>
          <p:cNvSpPr/>
          <p:nvPr/>
        </p:nvSpPr>
        <p:spPr>
          <a:xfrm>
            <a:off x="7772400" y="6095880"/>
            <a:ext cx="114300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Text Box 11">
            <a:hlinkClick r:id="rId2" action="ppaction://hlinksldjump"/>
          </p:cNvPr>
          <p:cNvSpPr/>
          <p:nvPr/>
        </p:nvSpPr>
        <p:spPr>
          <a:xfrm>
            <a:off x="8077320" y="62485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3" action="ppaction://hlinksldjump"/>
              </a:rPr>
              <a:t>click</a:t>
            </a:r>
            <a:endParaRPr b="0" lang="en-US" sz="1800" spc="-1" strike="noStrike">
              <a:solidFill>
                <a:srgbClr val="000000"/>
              </a:solidFill>
              <a:latin typeface="Times New Roman"/>
            </a:endParaRPr>
          </a:p>
        </p:txBody>
      </p:sp>
      <p:sp>
        <p:nvSpPr>
          <p:cNvPr id="5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Text Box 2"/>
          <p:cNvSpPr/>
          <p:nvPr/>
        </p:nvSpPr>
        <p:spPr>
          <a:xfrm>
            <a:off x="228600" y="609480"/>
            <a:ext cx="8305920" cy="2645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200" spc="-1" strike="noStrike">
                <a:solidFill>
                  <a:srgbClr val="000000"/>
                </a:solidFill>
                <a:latin typeface="Times New Roman"/>
              </a:rPr>
              <a:t>Before all of the stories’ climax the characters face a tough decision and challenging obstacle.  Once they tackle the decision and hurdle the obstacle they find comfort and great satisfaction. Victory is accomplished.  Not always shown extrinsically but definitely intrinsically.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e undesirable  are now the desirable and all  benefit because of the choices they made.  The Underdog Prevails!!</a:t>
            </a:r>
            <a:endParaRPr b="0" lang="en-US" sz="2200" spc="-1" strike="noStrike">
              <a:solidFill>
                <a:srgbClr val="000000"/>
              </a:solidFill>
              <a:latin typeface="Times New Roman"/>
            </a:endParaRPr>
          </a:p>
        </p:txBody>
      </p:sp>
      <p:pic>
        <p:nvPicPr>
          <p:cNvPr id="673" name="Picture 3" descr="C:\Program Files\Common Files\Microsoft Shared\Clipart\cagcat50\bs01316_.wmf"/>
          <p:cNvPicPr/>
          <p:nvPr/>
        </p:nvPicPr>
        <p:blipFill>
          <a:blip r:embed="rId1"/>
          <a:stretch/>
        </p:blipFill>
        <p:spPr>
          <a:xfrm>
            <a:off x="2895480" y="3733920"/>
            <a:ext cx="1724040" cy="3124080"/>
          </a:xfrm>
          <a:prstGeom prst="rect">
            <a:avLst/>
          </a:prstGeom>
          <a:ln w="0">
            <a:noFill/>
          </a:ln>
        </p:spPr>
      </p:pic>
      <p:sp>
        <p:nvSpPr>
          <p:cNvPr id="674" name="AutoShape 4"/>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Text Box 5"/>
          <p:cNvSpPr/>
          <p:nvPr/>
        </p:nvSpPr>
        <p:spPr>
          <a:xfrm>
            <a:off x="7467480" y="5867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set>
                                      <p:cBhvr>
                                        <p:cTn id="6" dur="1" fill="hold">
                                          <p:stCondLst>
                                            <p:cond delay="0"/>
                                          </p:stCondLst>
                                        </p:cTn>
                                        <p:tgtEl>
                                          <p:spTgt spid="673"/>
                                        </p:tgtEl>
                                        <p:attrNameLst>
                                          <p:attrName>style.visibility</p:attrName>
                                        </p:attrNameLst>
                                      </p:cBhvr>
                                      <p:to>
                                        <p:strVal val="visible"/>
                                      </p:to>
                                    </p:set>
                                    <p:anim calcmode="lin" valueType="num">
                                      <p:cBhvr additive="repl">
                                        <p:cTn id="7" dur="5000" fill="hold"/>
                                        <p:tgtEl>
                                          <p:spTgt spid="673"/>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67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WordArt 2"/>
          <p:cNvSpPr txBox="1"/>
          <p:nvPr/>
        </p:nvSpPr>
        <p:spPr>
          <a:xfrm>
            <a:off x="2286000" y="457200"/>
            <a:ext cx="4290840" cy="13716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ummary</a:t>
            </a:r>
            <a:endParaRPr b="0" lang="en-US" sz="2400" spc="1" strike="noStrike">
              <a:ln w="9360">
                <a:solidFill>
                  <a:srgbClr val="000000"/>
                </a:solidFill>
                <a:miter/>
              </a:ln>
              <a:solidFill>
                <a:srgbClr val="000000"/>
              </a:solidFill>
              <a:latin typeface="Arial Black"/>
              <a:ea typeface="Arial Black"/>
            </a:endParaRPr>
          </a:p>
        </p:txBody>
      </p:sp>
      <p:sp>
        <p:nvSpPr>
          <p:cNvPr id="678" name="Text Box 4"/>
          <p:cNvSpPr/>
          <p:nvPr/>
        </p:nvSpPr>
        <p:spPr>
          <a:xfrm>
            <a:off x="533520" y="1295280"/>
            <a:ext cx="8076960" cy="5039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 believe this project will greatly enhance my Native American Indian unit.  The students will have a greater appreciation of Native American’ tales and will understand character traits in a deeper way.  The TEK and TAKS objectives state that the student is expected to analyze characters and recognize a story’s plot especially in culturally diverse texts.  I believe the students will meet and far exceed these objectiv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collective unit of study will stimulate critical thinking and promote important values.  I am looking forward to teaching this unit in the fall.  I plan to document the student’s progress and reactions.  I hope that students will see the value and importance of all people and to respect everyone regardless of their race, sex, culture and appearance.</a:t>
            </a:r>
            <a:endParaRPr b="0" lang="en-US" sz="2400" spc="-1" strike="noStrike">
              <a:solidFill>
                <a:srgbClr val="000000"/>
              </a:solidFill>
              <a:latin typeface="Times New Roman"/>
            </a:endParaRPr>
          </a:p>
        </p:txBody>
      </p:sp>
      <p:sp>
        <p:nvSpPr>
          <p:cNvPr id="679" name="AutoShape 5"/>
          <p:cNvSpPr/>
          <p:nvPr/>
        </p:nvSpPr>
        <p:spPr>
          <a:xfrm>
            <a:off x="7086600" y="586728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Text Box 6"/>
          <p:cNvSpPr/>
          <p:nvPr/>
        </p:nvSpPr>
        <p:spPr>
          <a:xfrm>
            <a:off x="7467480" y="60199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Text Box 2"/>
          <p:cNvSpPr/>
          <p:nvPr/>
        </p:nvSpPr>
        <p:spPr>
          <a:xfrm>
            <a:off x="0" y="0"/>
            <a:ext cx="91440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addition, I want them to understand that our actions can result in mighty and wonderful deeds, but it can also result in terrible and destructive deeds.  I want them to know that if they feel they are the ‘Underdog’ they should not despair.  Just like the characters in the stories they too can be a powerful instrument and Preva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3" name=""/>
          <p:cNvGraphicFramePr/>
          <p:nvPr/>
        </p:nvGraphicFramePr>
        <p:xfrm>
          <a:off x="1295280" y="2133720"/>
          <a:ext cx="5791320" cy="4694040"/>
        </p:xfrm>
        <a:graphic>
          <a:graphicData uri="http://schemas.openxmlformats.org/drawingml/2006/table">
            <a:tbl>
              <a:tblPr/>
              <a:tblGrid>
                <a:gridCol w="2932200"/>
                <a:gridCol w="2859120"/>
              </a:tblGrid>
              <a:tr h="4745880">
                <a:tc>
                  <a:txBody>
                    <a:bodyPr lIns="90000" rIns="900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Additional Resources:</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Museum of the American India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nmai.si.edu.</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cherokeehistory.co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ographies of Notable American Indian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infoplease.com/spot/aihmbioaz.html</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Software Program</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cc99"/>
                          </a:solidFill>
                          <a:latin typeface="Times New Roman"/>
                        </a:rPr>
                        <a:t>Kidspir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ents will use this program to create graphic organizers displaying character traits and plot analysi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rPr>
                        <a:t>Extensio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would like to find tales from other cultures that show this same theme and include them for enrichment work.</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6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cc"/>
                </a:solidFill>
                <a:latin typeface="Times New Roman"/>
              </a:rPr>
              <a:t>Ten Story Collection</a:t>
            </a:r>
            <a:br>
              <a:rPr sz="4800"/>
            </a:br>
            <a:r>
              <a:rPr b="1" lang="en-US" sz="2400" spc="-1" strike="noStrike">
                <a:solidFill>
                  <a:srgbClr val="000000"/>
                </a:solidFill>
                <a:latin typeface="Times New Roman"/>
              </a:rPr>
              <a:t>Click to see Bibliographic Citation and Synopsis</a:t>
            </a:r>
            <a:endParaRPr b="0" lang="en-US" sz="2400" spc="-1" strike="noStrike">
              <a:solidFill>
                <a:srgbClr val="000000"/>
              </a:solidFill>
              <a:latin typeface="Times New Roman"/>
            </a:endParaRPr>
          </a:p>
        </p:txBody>
      </p:sp>
      <p:graphicFrame>
        <p:nvGraphicFramePr>
          <p:cNvPr id="590" name=""/>
          <p:cNvGraphicFramePr/>
          <p:nvPr/>
        </p:nvGraphicFramePr>
        <p:xfrm>
          <a:off x="533520" y="1371600"/>
          <a:ext cx="7772400" cy="4602240"/>
        </p:xfrm>
        <a:graphic>
          <a:graphicData uri="http://schemas.openxmlformats.org/drawingml/2006/table">
            <a:tbl>
              <a:tblPr/>
              <a:tblGrid>
                <a:gridCol w="3886200"/>
                <a:gridCol w="3886200"/>
              </a:tblGrid>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 action="ppaction://hlinksldjump"/>
                        </a:rPr>
                        <a:t>A Picture Book of Sacajawea</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ction="ppaction://hlinksldjump"/>
                        </a:rPr>
                        <a:t>Knots on a Counting Rope</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3" action="ppaction://hlinksldjump"/>
                        </a:rPr>
                        <a:t>Pocahontas, Princess of the River Tribes</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4" action="ppaction://hlinksldjump"/>
                        </a:rPr>
                        <a:t>The Legend of the Bluebonnet</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608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5" action="ppaction://hlinksldjump"/>
                        </a:rPr>
                        <a:t>The Legend of the Indian Paintbrush</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6" action="ppaction://hlinksldjump"/>
                        </a:rPr>
                        <a:t>The Girl Who Loved Wild Horses</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7" action="ppaction://hlinksldjump"/>
                        </a:rPr>
                        <a:t>Star Boy</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8" action="ppaction://hlinksldjump"/>
                        </a:rPr>
                        <a:t>Squanto and the First Thanksgiving</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8222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9" action="ppaction://hlinksldjump"/>
                        </a:rPr>
                        <a:t>Sequoyah’s Gift</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0" action="ppaction://hlinksldjump"/>
                        </a:rPr>
                        <a:t>The Rough-Face Girl</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bl>
          </a:graphicData>
        </a:graphic>
      </p:graphicFrame>
      <p:sp>
        <p:nvSpPr>
          <p:cNvPr id="591" name="AutoShape 33"/>
          <p:cNvSpPr/>
          <p:nvPr/>
        </p:nvSpPr>
        <p:spPr>
          <a:xfrm>
            <a:off x="838080" y="6019920"/>
            <a:ext cx="7620120" cy="838080"/>
          </a:xfrm>
          <a:custGeom>
            <a:avLst/>
            <a:gdLst>
              <a:gd name="textAreaLeft" fmla="*/ 952560 w 7620120"/>
              <a:gd name="textAreaRight" fmla="*/ 6667920 w 7620120"/>
              <a:gd name="textAreaTop" fmla="*/ 209520 h 838080"/>
              <a:gd name="textAreaBottom" fmla="*/ 628560 h 838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cc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Text Box 34"/>
          <p:cNvSpPr/>
          <p:nvPr/>
        </p:nvSpPr>
        <p:spPr>
          <a:xfrm>
            <a:off x="4038480" y="6477120"/>
            <a:ext cx="3962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Text Box 35"/>
          <p:cNvSpPr/>
          <p:nvPr/>
        </p:nvSpPr>
        <p:spPr>
          <a:xfrm>
            <a:off x="2590920" y="617220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1" action="ppaction://hlinksldjump"/>
              </a:rPr>
              <a:t>Click to see Story Analysis</a:t>
            </a:r>
            <a:endParaRPr b="0" lang="en-US" sz="2400" spc="-1" strike="noStrike">
              <a:solidFill>
                <a:srgbClr val="000000"/>
              </a:solidFill>
              <a:latin typeface="Times New Roman"/>
            </a:endParaRPr>
          </a:p>
        </p:txBody>
      </p:sp>
      <p:sp>
        <p:nvSpPr>
          <p:cNvPr id="5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7621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ley, A. David. </a:t>
            </a:r>
            <a:r>
              <a:rPr b="0" i="1" lang="en-US" sz="3200" spc="-1" strike="noStrike">
                <a:solidFill>
                  <a:srgbClr val="000000"/>
                </a:solidFill>
                <a:latin typeface="Times New Roman"/>
              </a:rPr>
              <a:t>A Picture Book of</a:t>
            </a:r>
            <a:r>
              <a:rPr b="0" lang="en-US" sz="3200" spc="-1" strike="noStrike">
                <a:solidFill>
                  <a:srgbClr val="000000"/>
                </a:solidFill>
                <a:latin typeface="Times New Roman"/>
              </a:rPr>
              <a:t> </a:t>
            </a:r>
            <a:r>
              <a:rPr b="0" i="1" lang="en-US" sz="3200" spc="-1" strike="noStrike">
                <a:solidFill>
                  <a:srgbClr val="000000"/>
                </a:solidFill>
                <a:latin typeface="Times New Roman"/>
              </a:rPr>
              <a:t>Sacajawea.</a:t>
            </a:r>
            <a:r>
              <a:rPr b="0" lang="en-US" sz="3200" spc="-1" strike="noStrike">
                <a:solidFill>
                  <a:srgbClr val="000000"/>
                </a:solidFill>
                <a:latin typeface="Times New Roman"/>
              </a:rPr>
              <a:t> New York: Holiday House, 2000.</a:t>
            </a:r>
            <a:endParaRPr b="0" lang="en-US" sz="3200" spc="-1" strike="noStrike">
              <a:solidFill>
                <a:srgbClr val="000000"/>
              </a:solidFill>
              <a:latin typeface="Times New Roman"/>
            </a:endParaRPr>
          </a:p>
        </p:txBody>
      </p:sp>
      <p:sp>
        <p:nvSpPr>
          <p:cNvPr id="596" name="PlaceHolder 2"/>
          <p:cNvSpPr>
            <a:spLocks noGrp="1"/>
          </p:cNvSpPr>
          <p:nvPr>
            <p:ph/>
          </p:nvPr>
        </p:nvSpPr>
        <p:spPr>
          <a:xfrm>
            <a:off x="4190760" y="1447920"/>
            <a:ext cx="4267080" cy="4114800"/>
          </a:xfrm>
          <a:prstGeom prst="rect">
            <a:avLst/>
          </a:prstGeom>
          <a:noFill/>
          <a:ln w="0">
            <a:noFill/>
          </a:ln>
        </p:spPr>
        <p:txBody>
          <a:bodyPr anchor="t">
            <a:normAutofit fontScale="92000"/>
          </a:bodyPr>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hoshone native American Indian girl is taken from her tribe and held captive by the hostile Hidatsa tribe.  Just as she learns the ways of her new surroundings she is sold to a white trapper, Charbonneau.  Sacajawea and her newborn baby travel with explorers, Lewis and Clark, on a journey to discover a route to the Pacific Ocean.  Sacajawea plays a vital role as interpreter for Lewis and Clark.  She eventually unites with her brother.  </a:t>
            </a:r>
            <a:endParaRPr b="0" lang="en-US" sz="2000" spc="-1" strike="noStrike">
              <a:solidFill>
                <a:srgbClr val="000000"/>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United States gives much credit to Sacajawea’s service and the success of the expedition of Lewis and Clark.</a:t>
            </a:r>
            <a:endParaRPr b="0" lang="en-US" sz="2000" spc="-1" strike="noStrike">
              <a:solidFill>
                <a:srgbClr val="000000"/>
              </a:solidFill>
              <a:latin typeface="Times New Roman"/>
            </a:endParaRPr>
          </a:p>
        </p:txBody>
      </p:sp>
      <p:pic>
        <p:nvPicPr>
          <p:cNvPr id="597" name="Picture 7" descr="C:\WINDOWS\Desktop\storytelling\sacajawea (Cropped).png"/>
          <p:cNvPicPr/>
          <p:nvPr/>
        </p:nvPicPr>
        <p:blipFill>
          <a:blip r:embed="rId1"/>
          <a:stretch/>
        </p:blipFill>
        <p:spPr>
          <a:xfrm>
            <a:off x="914400" y="1523880"/>
            <a:ext cx="2709720" cy="4114800"/>
          </a:xfrm>
          <a:prstGeom prst="rect">
            <a:avLst/>
          </a:prstGeom>
          <a:ln w="0">
            <a:noFill/>
          </a:ln>
        </p:spPr>
      </p:pic>
      <p:sp>
        <p:nvSpPr>
          <p:cNvPr id="598" name="Text Box 8"/>
          <p:cNvSpPr/>
          <p:nvPr/>
        </p:nvSpPr>
        <p:spPr>
          <a:xfrm>
            <a:off x="914400" y="586728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5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chambault, John and Bill Martin Jr. </a:t>
            </a:r>
            <a:r>
              <a:rPr b="0" i="1" lang="en-US" sz="2800" spc="-1" strike="noStrike">
                <a:solidFill>
                  <a:srgbClr val="000000"/>
                </a:solidFill>
                <a:latin typeface="Times New Roman"/>
              </a:rPr>
              <a:t>Knots on a</a:t>
            </a:r>
            <a:r>
              <a:rPr b="0" lang="en-US" sz="2800" spc="-1" strike="noStrike">
                <a:solidFill>
                  <a:srgbClr val="000000"/>
                </a:solidFill>
                <a:latin typeface="Times New Roman"/>
              </a:rPr>
              <a:t> </a:t>
            </a:r>
            <a:r>
              <a:rPr b="0" i="1" lang="en-US" sz="2800" spc="-1" strike="noStrike">
                <a:solidFill>
                  <a:srgbClr val="000000"/>
                </a:solidFill>
                <a:latin typeface="Times New Roman"/>
              </a:rPr>
              <a:t>Counting Rope.</a:t>
            </a:r>
            <a:r>
              <a:rPr b="0" lang="en-US" sz="2800" spc="-1" strike="noStrike">
                <a:solidFill>
                  <a:srgbClr val="000000"/>
                </a:solidFill>
                <a:latin typeface="Times New Roman"/>
              </a:rPr>
              <a:t> New York: Henry Holt and Company, 1987</a:t>
            </a:r>
            <a:endParaRPr b="0" lang="en-US" sz="2800" spc="-1" strike="noStrike">
              <a:solidFill>
                <a:srgbClr val="000000"/>
              </a:solidFill>
              <a:latin typeface="Times New Roman"/>
            </a:endParaRPr>
          </a:p>
        </p:txBody>
      </p:sp>
      <p:sp>
        <p:nvSpPr>
          <p:cNvPr id="60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young boy loves his grandfather and the story he tells of his birth and name.  His name is Boy-Strength-of-Blue-Horses.  The boy is blind from birth and his grandfather guides him with much words and wisdom. The boy discovers inner strength and value.</a:t>
            </a:r>
            <a:endParaRPr b="0" lang="en-US" sz="2400" spc="-1" strike="noStrike">
              <a:solidFill>
                <a:srgbClr val="000000"/>
              </a:solidFill>
              <a:latin typeface="Times New Roman"/>
            </a:endParaRPr>
          </a:p>
        </p:txBody>
      </p:sp>
      <p:pic>
        <p:nvPicPr>
          <p:cNvPr id="602" name="Picture 7" descr=""/>
          <p:cNvPicPr/>
          <p:nvPr/>
        </p:nvPicPr>
        <p:blipFill>
          <a:blip r:embed="rId1"/>
          <a:stretch/>
        </p:blipFill>
        <p:spPr>
          <a:xfrm>
            <a:off x="380880" y="1981080"/>
            <a:ext cx="3810240" cy="3040200"/>
          </a:xfrm>
          <a:prstGeom prst="rect">
            <a:avLst/>
          </a:prstGeom>
          <a:ln w="0">
            <a:noFill/>
          </a:ln>
        </p:spPr>
      </p:pic>
      <p:sp>
        <p:nvSpPr>
          <p:cNvPr id="603" name="Rectangle 8"/>
          <p:cNvSpPr/>
          <p:nvPr/>
        </p:nvSpPr>
        <p:spPr>
          <a:xfrm>
            <a:off x="762120" y="51055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lognese, Don and Elaine Raphael. </a:t>
            </a:r>
            <a:r>
              <a:rPr b="0" i="1" lang="en-US" sz="3200" spc="-1" strike="noStrike">
                <a:solidFill>
                  <a:srgbClr val="000000"/>
                </a:solidFill>
                <a:latin typeface="Times New Roman"/>
              </a:rPr>
              <a:t>Pocahontas, Princess of the River Tribes</a:t>
            </a:r>
            <a:r>
              <a:rPr b="0" lang="en-US" sz="3200" spc="-1" strike="noStrike">
                <a:solidFill>
                  <a:srgbClr val="000000"/>
                </a:solidFill>
                <a:latin typeface="Times New Roman"/>
              </a:rPr>
              <a:t>. New York: Scholastic Inc.,1993.</a:t>
            </a:r>
            <a:endParaRPr b="0" lang="en-US" sz="3200" spc="-1" strike="noStrike">
              <a:solidFill>
                <a:srgbClr val="000000"/>
              </a:solidFill>
              <a:latin typeface="Times New Roman"/>
            </a:endParaRPr>
          </a:p>
        </p:txBody>
      </p:sp>
      <p:sp>
        <p:nvSpPr>
          <p:cNvPr id="606" name="PlaceHolder 2"/>
          <p:cNvSpPr>
            <a:spLocks noGrp="1"/>
          </p:cNvSpPr>
          <p:nvPr>
            <p:ph/>
          </p:nvPr>
        </p:nvSpPr>
        <p:spPr>
          <a:xfrm>
            <a:off x="3886200" y="1980720"/>
            <a:ext cx="457200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cahontas is a princess daughter of the great chief, Powhatan.  Pocahontas is a bright brave girl who desires to see the faces of the white men and the tall ships spoken by her people.  She is fascinated by their voices and appearances.  She does not allow the Chief to harm the captured leader.  John Smith and she become friends and she helps the white men survive the long winter.</a:t>
            </a:r>
            <a:endParaRPr b="0" lang="en-US" sz="2400" spc="-1" strike="noStrike">
              <a:solidFill>
                <a:srgbClr val="000000"/>
              </a:solidFill>
              <a:latin typeface="Times New Roman"/>
            </a:endParaRPr>
          </a:p>
        </p:txBody>
      </p:sp>
      <p:pic>
        <p:nvPicPr>
          <p:cNvPr id="607" name="Picture 7" descr="C:\WINDOWS\Desktop\storytelling\pocahontas (Cropped).png"/>
          <p:cNvPicPr/>
          <p:nvPr/>
        </p:nvPicPr>
        <p:blipFill>
          <a:blip r:embed="rId1"/>
          <a:stretch/>
        </p:blipFill>
        <p:spPr>
          <a:xfrm>
            <a:off x="838080" y="1752480"/>
            <a:ext cx="2256120" cy="4114800"/>
          </a:xfrm>
          <a:prstGeom prst="rect">
            <a:avLst/>
          </a:prstGeom>
          <a:ln w="0">
            <a:noFill/>
          </a:ln>
        </p:spPr>
      </p:pic>
      <p:sp>
        <p:nvSpPr>
          <p:cNvPr id="608" name="Rectangle 8"/>
          <p:cNvSpPr/>
          <p:nvPr/>
        </p:nvSpPr>
        <p:spPr>
          <a:xfrm>
            <a:off x="838080" y="5791320"/>
            <a:ext cx="301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aola, Tomie. </a:t>
            </a:r>
            <a:r>
              <a:rPr b="0" i="1" lang="en-US" sz="3200" spc="-1" strike="noStrike">
                <a:solidFill>
                  <a:srgbClr val="000000"/>
                </a:solidFill>
                <a:latin typeface="Times New Roman"/>
              </a:rPr>
              <a:t>The Legend of the</a:t>
            </a:r>
            <a:r>
              <a:rPr b="0" lang="en-US" sz="3200" spc="-1" strike="noStrike">
                <a:solidFill>
                  <a:srgbClr val="000000"/>
                </a:solidFill>
                <a:latin typeface="Times New Roman"/>
              </a:rPr>
              <a:t> </a:t>
            </a:r>
            <a:r>
              <a:rPr b="0" i="1" lang="en-US" sz="3200" spc="-1" strike="noStrike">
                <a:solidFill>
                  <a:srgbClr val="000000"/>
                </a:solidFill>
                <a:latin typeface="Times New Roman"/>
              </a:rPr>
              <a:t>Bluebonnet</a:t>
            </a:r>
            <a:r>
              <a:rPr b="0" lang="en-US" sz="3200" spc="-1" strike="noStrike">
                <a:solidFill>
                  <a:srgbClr val="000000"/>
                </a:solidFill>
                <a:latin typeface="Times New Roman"/>
              </a:rPr>
              <a:t>. New York: G.P. Putnam’s Sons, 1983.</a:t>
            </a:r>
            <a:endParaRPr b="0" lang="en-US" sz="3200" spc="-1" strike="noStrike">
              <a:solidFill>
                <a:srgbClr val="000000"/>
              </a:solidFill>
              <a:latin typeface="Times New Roman"/>
            </a:endParaRPr>
          </a:p>
        </p:txBody>
      </p:sp>
      <p:sp>
        <p:nvSpPr>
          <p:cNvPr id="611" name="PlaceHolder 2"/>
          <p:cNvSpPr>
            <a:spLocks noGrp="1"/>
          </p:cNvSpPr>
          <p:nvPr>
            <p:ph/>
          </p:nvPr>
        </p:nvSpPr>
        <p:spPr>
          <a:xfrm>
            <a:off x="4571640" y="1752120"/>
            <a:ext cx="3809880" cy="4496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rought has brought death and famine to the Comanche tribe.  A young girl holds her most loved possession, a warrior doll, and dreams of her family who died from the famine.  She waits for the return of the Shayman to here the words of the Great Spirits.  The Great Spirits have spoken and the small girl knows what she must do. </a:t>
            </a:r>
            <a:endParaRPr b="0" lang="en-US" sz="2400" spc="-1" strike="noStrike">
              <a:solidFill>
                <a:srgbClr val="000000"/>
              </a:solidFill>
              <a:latin typeface="Times New Roman"/>
            </a:endParaRPr>
          </a:p>
        </p:txBody>
      </p:sp>
      <p:pic>
        <p:nvPicPr>
          <p:cNvPr id="612" name="Picture 6" descr=""/>
          <p:cNvPicPr/>
          <p:nvPr/>
        </p:nvPicPr>
        <p:blipFill>
          <a:blip r:embed="rId1"/>
          <a:stretch/>
        </p:blipFill>
        <p:spPr>
          <a:xfrm>
            <a:off x="990720" y="1981080"/>
            <a:ext cx="2714400" cy="3429000"/>
          </a:xfrm>
          <a:prstGeom prst="rect">
            <a:avLst/>
          </a:prstGeom>
          <a:ln w="0">
            <a:noFill/>
          </a:ln>
        </p:spPr>
      </p:pic>
      <p:sp>
        <p:nvSpPr>
          <p:cNvPr id="613" name="Rectangle 7"/>
          <p:cNvSpPr/>
          <p:nvPr/>
        </p:nvSpPr>
        <p:spPr>
          <a:xfrm>
            <a:off x="1143000" y="5486400"/>
            <a:ext cx="248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aola, Tomie. </a:t>
            </a:r>
            <a:r>
              <a:rPr b="0" i="1" lang="en-US" sz="3200" spc="-1" strike="noStrike">
                <a:solidFill>
                  <a:srgbClr val="000000"/>
                </a:solidFill>
                <a:latin typeface="Times New Roman"/>
              </a:rPr>
              <a:t>The Legend of the Indian</a:t>
            </a:r>
            <a:r>
              <a:rPr b="0" lang="en-US" sz="3200" spc="-1" strike="noStrike">
                <a:solidFill>
                  <a:srgbClr val="000000"/>
                </a:solidFill>
                <a:latin typeface="Times New Roman"/>
              </a:rPr>
              <a:t> </a:t>
            </a:r>
            <a:r>
              <a:rPr b="0" i="1" lang="en-US" sz="3200" spc="-1" strike="noStrike">
                <a:solidFill>
                  <a:srgbClr val="000000"/>
                </a:solidFill>
                <a:latin typeface="Times New Roman"/>
              </a:rPr>
              <a:t>Paintbrush.</a:t>
            </a:r>
            <a:r>
              <a:rPr b="0" lang="en-US" sz="3200" spc="-1" strike="noStrike">
                <a:solidFill>
                  <a:srgbClr val="000000"/>
                </a:solidFill>
                <a:latin typeface="Times New Roman"/>
              </a:rPr>
              <a:t> New York: G.P. Putnam’s Sons.1988.</a:t>
            </a:r>
            <a:endParaRPr b="0" lang="en-US" sz="3200" spc="-1" strike="noStrike">
              <a:solidFill>
                <a:srgbClr val="000000"/>
              </a:solidFill>
              <a:latin typeface="Times New Roman"/>
            </a:endParaRPr>
          </a:p>
        </p:txBody>
      </p:sp>
      <p:sp>
        <p:nvSpPr>
          <p:cNvPr id="616" name="PlaceHolder 2"/>
          <p:cNvSpPr>
            <a:spLocks noGrp="1"/>
          </p:cNvSpPr>
          <p:nvPr>
            <p:ph/>
          </p:nvPr>
        </p:nvSpPr>
        <p:spPr>
          <a:xfrm>
            <a:off x="3809880" y="1981080"/>
            <a:ext cx="4648320" cy="4114800"/>
          </a:xfrm>
          <a:prstGeom prst="rect">
            <a:avLst/>
          </a:prstGeom>
          <a:noFill/>
          <a:ln w="0">
            <a:noFill/>
          </a:ln>
        </p:spPr>
        <p:txBody>
          <a:bodyPr anchor="t">
            <a:normAutofit fontScale="95000"/>
          </a:bodyPr>
          <a:p>
            <a:pPr marL="325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small boy, Little Gopher, carves beautiful wood toy warriors and paints stones with berries.  He is unique from other boys.  A Dream Vision is given and speaks of the boy’s powerful gift and shows him how his People will remember his paintings forever.  He returns to his People and paints  pictures of the tribe’s hunts and great deeds.  Yet on the white buckskin given to him by the Dream Vision, he paints a special gift that will stay with his People forever.</a:t>
            </a:r>
            <a:endParaRPr b="0" lang="en-US" sz="2200" spc="-1" strike="noStrike">
              <a:solidFill>
                <a:srgbClr val="000000"/>
              </a:solidFill>
              <a:latin typeface="Times New Roman"/>
            </a:endParaRPr>
          </a:p>
        </p:txBody>
      </p:sp>
      <p:pic>
        <p:nvPicPr>
          <p:cNvPr id="617" name="Picture 7" descr=""/>
          <p:cNvPicPr/>
          <p:nvPr/>
        </p:nvPicPr>
        <p:blipFill>
          <a:blip r:embed="rId1"/>
          <a:stretch/>
        </p:blipFill>
        <p:spPr>
          <a:xfrm>
            <a:off x="838080" y="2133720"/>
            <a:ext cx="2533680" cy="3200400"/>
          </a:xfrm>
          <a:prstGeom prst="rect">
            <a:avLst/>
          </a:prstGeom>
          <a:ln w="0">
            <a:noFill/>
          </a:ln>
        </p:spPr>
      </p:pic>
      <p:sp>
        <p:nvSpPr>
          <p:cNvPr id="618" name="Rectangle 8"/>
          <p:cNvSpPr/>
          <p:nvPr/>
        </p:nvSpPr>
        <p:spPr>
          <a:xfrm>
            <a:off x="990720" y="5410080"/>
            <a:ext cx="309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ble, Paul. </a:t>
            </a:r>
            <a:r>
              <a:rPr b="0" i="1" lang="en-US" sz="3200" spc="-1" strike="noStrike">
                <a:solidFill>
                  <a:srgbClr val="000000"/>
                </a:solidFill>
                <a:latin typeface="Times New Roman"/>
              </a:rPr>
              <a:t>The Girl Who Loved Wild</a:t>
            </a:r>
            <a:r>
              <a:rPr b="0" lang="en-US" sz="3200" spc="-1" strike="noStrike">
                <a:solidFill>
                  <a:srgbClr val="000000"/>
                </a:solidFill>
                <a:latin typeface="Times New Roman"/>
              </a:rPr>
              <a:t> </a:t>
            </a:r>
            <a:r>
              <a:rPr b="0" i="1" lang="en-US" sz="3200" spc="-1" strike="noStrike">
                <a:solidFill>
                  <a:srgbClr val="000000"/>
                </a:solidFill>
                <a:latin typeface="Times New Roman"/>
              </a:rPr>
              <a:t>Horses.</a:t>
            </a:r>
            <a:r>
              <a:rPr b="0" lang="en-US" sz="3200" spc="-1" strike="noStrike">
                <a:solidFill>
                  <a:srgbClr val="000000"/>
                </a:solidFill>
                <a:latin typeface="Times New Roman"/>
              </a:rPr>
              <a:t> New York: Bradbury Press, 1978.</a:t>
            </a:r>
            <a:endParaRPr b="0" lang="en-US" sz="3200" spc="-1" strike="noStrike">
              <a:solidFill>
                <a:srgbClr val="000000"/>
              </a:solidFill>
              <a:latin typeface="Times New Roman"/>
            </a:endParaRPr>
          </a:p>
        </p:txBody>
      </p:sp>
      <p:sp>
        <p:nvSpPr>
          <p:cNvPr id="621" name="PlaceHolder 2"/>
          <p:cNvSpPr>
            <a:spLocks noGrp="1"/>
          </p:cNvSpPr>
          <p:nvPr>
            <p:ph/>
          </p:nvPr>
        </p:nvSpPr>
        <p:spPr>
          <a:xfrm>
            <a:off x="3505320" y="1980720"/>
            <a:ext cx="4952880" cy="434340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irl loves horses. She understands horses unlike any others of her tribe.  She sleeps with the horses and a terrible clash of thunder awakens her and she leaps upon a horse and rides. She rides with the winds of the storm.  She is lost from her tribe. She meets a beautiful, spotted stallion and she decides to live with the horses.  Her family eventually finds her but does not prevent her from running with the wild horses.</a:t>
            </a:r>
            <a:endParaRPr b="0" lang="en-US" sz="2400" spc="-1" strike="noStrike">
              <a:solidFill>
                <a:srgbClr val="000000"/>
              </a:solidFill>
              <a:latin typeface="Times New Roman"/>
            </a:endParaRPr>
          </a:p>
        </p:txBody>
      </p:sp>
      <p:pic>
        <p:nvPicPr>
          <p:cNvPr id="622" name="Picture 6" descr=""/>
          <p:cNvPicPr/>
          <p:nvPr/>
        </p:nvPicPr>
        <p:blipFill>
          <a:blip r:embed="rId1"/>
          <a:stretch/>
        </p:blipFill>
        <p:spPr>
          <a:xfrm>
            <a:off x="533520" y="1905120"/>
            <a:ext cx="2901960" cy="3657600"/>
          </a:xfrm>
          <a:prstGeom prst="rect">
            <a:avLst/>
          </a:prstGeom>
          <a:ln w="0">
            <a:noFill/>
          </a:ln>
        </p:spPr>
      </p:pic>
      <p:sp>
        <p:nvSpPr>
          <p:cNvPr id="623" name="Rectangle 7"/>
          <p:cNvSpPr/>
          <p:nvPr/>
        </p:nvSpPr>
        <p:spPr>
          <a:xfrm>
            <a:off x="762120" y="5562720"/>
            <a:ext cx="278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04:59:51Z</dcterms:created>
  <dc:creator>The Slye Family</dc:creator>
  <dc:description/>
  <dc:language>en-US</dc:language>
  <cp:lastModifiedBy>Legion</cp:lastModifiedBy>
  <dcterms:modified xsi:type="dcterms:W3CDTF">2017-07-05T12:28:34Z</dcterms:modified>
  <cp:revision>43</cp:revision>
  <dc:subject/>
  <dc:title>PowerPoint Presentation</dc:title>
</cp:coreProperties>
</file>