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6250-BF1C-46CC-BF5E-5A738C92BE7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derdog Prevails in Indian Tales &amp; Leg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dog Prevails in Indian Tales &amp; Leg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Star Boy. New York: Bradbury Pres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Star Boy. New York: Bradbury Pres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ssel, K. Joyce. Squanto and the First Thanksgiving. Minnesota: Carolrhoda Book,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ssel, K. Joyce. Squanto and the First Thanksgiving. Minnesota: Carolrhoda Book,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lausner, Janet. Sequoyah’s Gift. New York: Harper Collins, 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lausner, Janet. Sequoyah’s Gift. New York: Harper Collins, 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Rafe.  The Rough-Face Girl. New York: G.P.Putnam’s Sons,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Rafe.  The Rough-Face Girl. New York: G.P.Putnam’s Sons,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and Description of Proj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and Description of Proje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desirable  are now the desirable and all  benefit because of the choices they made.  The Underdog Preva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desirable  are now the desirable and all  benefit because of the choices they made.  The Underdog Preva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 Story Collection</a:t>
            </a:r>
            <a:br>
              <a:rPr sz="1200"/>
            </a:br>
            <a:r>
              <a:rPr b="0" lang="en-US" sz="1200" spc="-1" strike="noStrike">
                <a:solidFill>
                  <a:srgbClr val="000000"/>
                </a:solidFill>
                <a:latin typeface="Calibri"/>
              </a:rPr>
              <a:t>Click to see Bibliographic Citation and Synop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see Story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 Story Collection</a:t>
            </a:r>
            <a:br>
              <a:rPr sz="1200"/>
            </a:br>
            <a:r>
              <a:rPr b="0" lang="en-US" sz="1200" spc="-1" strike="noStrike">
                <a:solidFill>
                  <a:srgbClr val="000000"/>
                </a:solidFill>
                <a:latin typeface="Times New Roman"/>
              </a:rPr>
              <a:t>Click to see Bibliographic Citation and Synop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e Story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ley, A. David. A Picture Book of Sacajawea. New York: Holiday House, 2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ited States gives much credit to Sacajawea’s service and the success of the expedition of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y, A. David. A Picture Book of Sacajawea. New York: Holiday House,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ted States gives much credit to Sacajawea’s service and the success of the expedition of Lewis and Cl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mbault, John and Bill Martin Jr. Knots on a Counting Rope. New York: Henry Holt and Company,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mbault, John and Bill Martin Jr. Knots on a Counting Rope. New York: Henry Holt and Company, 198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lognese, Don and Elaine Raphael. Pocahontas, Princess of the River Tribes. New York: Scholastic Inc.,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ognese, Don and Elaine Raphael. Pocahontas, Princess of the River Tribes. New York: Scholastic Inc.,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Bluebonnet. New York: G.P. Putnam’s Son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Bluebonnet. New York: G.P. Putnam’s Son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Indian Paintbrush. New York: G.P. Putnam’s Sons.198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Indian Paintbrush. New York: G.P. Putnam’s Sons.19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The Girl Who Loved Wild Horses. New York: Bradbury Press, 19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The Girl Who Loved Wild Horses. New York: Bradbury Press, 197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E0ED0-37C1-4791-B524-907FC6AC2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F670E-8CC1-4BCE-80DB-4D64ADE0E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4E6593-9859-4D8B-A2AC-A2F65E6A3F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A5F19D-8D5F-4DD1-9C12-B6CACAC56F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139362-E02B-48D0-AC96-02E3494AE0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F3414D-B433-460D-BC14-020635CAD0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B8DFA5-0FD5-46D3-AF81-846D9B376B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CE7945-33C2-4E0A-B1BE-6F6446E12D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D0E8CB-EDE6-4E91-88E0-F5D6CC0D61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1C445E-540D-481D-8EE7-6BA9109E44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B4407D-77F9-4F58-9385-B7FFB15AB4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519AEC-9FBB-4983-A9B1-9FAF83E4F6F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F34B9-0BBB-45EE-9D16-54C815C48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9F749B-A583-4A68-A6EB-DC6DF66A7D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A1A1CD-773C-4A9D-8D10-431AA8D47A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68CB934-647C-4E66-A0CF-1201772B58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4F2301-5DA0-4A0C-BE61-ACBC87D286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4BCB64-6530-48D6-BB70-6537160DAD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12B2D4-E667-4CA2-892A-35241917DD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82619D-7EAE-4742-8F50-A65B37B8E6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8A8E8F-C93C-43ED-9D02-3BB7632383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B7F8EB-FEE1-4863-B096-434FFF3C24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F6615EA-A220-4E0B-851D-78B20D26947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298B2-3ADF-4EA1-890F-D62D3959B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7B4802F-E243-41B9-A822-17D43E9B001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01265B4-C9BF-4DB2-9992-73FD08BEAD3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E35A68-AD54-49D3-AD09-D9871BEC48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12BF80-B873-478F-87EB-B711E4DEE4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85F2BF-4F5A-46E7-A007-25D8F21F79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1840CF-23A4-4072-8056-342249887A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8A7B2F-DCFF-4915-8104-6A2A810EAA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E27F62-B506-49A4-9876-2F33E2CFFF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E102E8-9162-441D-8D5A-1918D0C67C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91C5A8-3751-4B16-AF58-EBF359A824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C148A-0855-465D-931E-7184DE87B7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7ED1E7-8978-438E-BDBA-AF1D3E35A5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4DBC9FD-5222-4B28-8A64-214D13CEF8D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F5ADD48-A4DA-4611-B95E-AFA82A815EB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565FC78-23E2-4D0F-800E-15E8A010F31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4F0346-D8A5-4C0A-ADBA-EF14AED765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4A5C3E-683B-40DF-ABE5-67CA8CFA09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7FB8B5-C951-424D-AD19-5F6F83FD35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8DEAE3-4B6D-4BD4-AF00-0E6ED9FED6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38B40A-7F71-42A7-95FB-0F5E324636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8CBF7E-7E29-4A05-BC10-08F2F9D1B6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0E580-7EC5-4CDA-BD89-5B039D82C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103592-10EB-44F0-8C5D-8B519A8682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3BD3BF-0570-45BA-8795-20B80FA3EA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23CA53-A85C-4C44-BCCF-971C563FB6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A125948-A5F3-4939-B45D-7F5FD6EC27D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1CD95F6-86C0-4062-8BBB-E7142D951B9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2A89049-8B7D-4936-B5FF-924566F7462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84DB41-25A9-4F81-9847-3E6A140B4A8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FE56F3C-5266-4185-ABF0-9392B67C0D2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A3801EB-7943-498F-A4EE-4DF0D5A954E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E45D834-78D0-4FE1-8BC1-6D28C7B67E2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4B14D-CE33-499B-ACEC-EF1E89516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1B767BE-F15B-41BC-8BDF-4F83496C29C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6F6C83-0E2F-4DB9-9ADC-9865CA1D61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23CE63-6497-4F63-8CC2-44C4FFE18D6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F02E52-9664-451E-A139-5A7D76261F8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FC97F6F-A402-4F76-9468-816C6B8C58D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3FBDCB7-B555-427C-967C-7AEDBC8F71E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6FA6794-2590-4FCE-8F33-0CBBB88C2E7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1DC1C2C-3245-4B0C-AACC-195AE058DA7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8D0E2EE-4311-4387-8D94-DD1F8E2988D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032E4B4-9339-47CC-8A55-FBC0498BBD6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74EF1-5689-47F4-B245-E4FC53AE5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C45803F-2FE3-45CA-B5A0-350BCAFF671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96977EF-CFB7-495E-BC9D-B5A0139AAA7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C83802B-4245-4A6B-8EEE-20695E6FFC1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8EF84B-0ED7-4E4A-8A2D-6E87A0FB7CF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7222C8E-0814-4F99-975E-AB0B3C3C177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2A65F4-168F-46F8-9680-510D22443FD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3219B9E-8816-48EB-A317-19AEEE49E17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026575A-E267-4D36-A261-05E06F80BE5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B07C93B-7EDA-4BF3-A93C-FA8BB4B9D2C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E7067-D770-4F58-85F5-2F55F86AC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936F6-62AC-431D-8338-FA1072155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F35C2-75A4-489E-90BD-62D483AEF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CED43-C565-4A7E-9B14-A674BCBAE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AE26A-84D8-4A6D-97D9-1761CC3B7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DD79B-24B5-4E8D-AC79-99854AF83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AD542-EB74-40EB-B966-64BC3F989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3637BD-EDCE-40D1-B4D9-724C4E1691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38ACA4-F0CE-44C7-9269-3B89E0D111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515F6A-10B9-4C85-91EA-77AEE20911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F756A5-F9AE-40B8-A7B8-956A72B569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4D3519-35B0-4B4B-8E24-414944DE80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9A8C97-FBBA-4042-9615-6122DD7D3A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937C53-35AD-4327-9837-7299777F12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1401B-1452-432C-ADA0-A5387C83B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795349-DBA3-47A1-ACA4-F36E86B9A3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6EB48A-23C3-40EB-B6C9-988E0A38DC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DAC945-A992-4FEC-9A45-949D442821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E0BABA-990A-4F2D-B796-13C6EE0EF3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3B54EA-C65F-40F7-A7D7-08AD3DEC50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EA4B74-0AC7-4A76-A79C-7F6B42734E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F64044-2E3C-47D3-9524-9E2E975B5B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39B004-1481-4989-A531-6FB70BCFF9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3F8E9B-1D05-4D76-829D-DCE9C93F14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B88D71-EB41-43CB-992F-FDB5C97BDA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E64E1-2217-497A-A438-78B31C6F8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3FF910-657B-41D7-980C-5527B95F01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AA4A7F-9AF3-4F2E-A9AB-2533BB00CD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9C390A-ECCF-4271-8E8C-FBF4EFE341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914BC9-CEEE-4795-9F32-3243E234B4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C41563-D7A7-425C-8F8F-5578C566B9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C1A43E-C311-4BD9-AC1C-B58B884432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E6E2D2-0679-40B1-B860-9F8CECC93E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2EF58C-6F7F-41EB-9B6E-8BA9ADCC04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6C32E2-9227-4A32-9FCB-40CE28E1BC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18C88F-54F8-4144-B3E4-8B1052010A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E0BF2-BE9E-4FB1-A365-78A43E9D5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16CC92-3B30-4260-99ED-FE1D659518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35C1FC-1A3E-4A13-AEB6-6809B8AC78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6841D4-7607-4D1F-BF41-FE6AFC06D9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3289D6-AF3A-4298-AD85-0D220EED4C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4228AD-7498-4A9B-8C89-1AEF4224CD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BF6F96-F36F-4D14-BA00-F2EDA09332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D3045F-6E86-4B86-A04A-BD03ADE2C7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74BA68-3D27-46B0-959F-B24B5871A9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2EB31C-8D3C-4CA7-BA49-9AD6020D09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8B057B-F6DD-4C8A-9302-1F86BDA154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7E728-0658-4B4C-BBDF-2E8B2770F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03557C-AA47-45C3-9CCD-D93057BE8A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712209-AA50-4160-B40F-7DC2A4B9FB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A43AEB-3D00-4584-A1B9-44BC3E9499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6ED4EE-6D6B-4325-9602-115D11382A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FC1AE6-1C69-41B6-B64E-34DABA4030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E79D5B-AA4C-4E33-AEC2-71DDA9D496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15F673-CAF3-46BF-A699-18C25A7E41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614A88-FBCD-4699-95D8-C9D26E6499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DA2939-53BF-4F7E-956D-26E8F3C640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05D7E0-AB9C-499E-A6D5-D1184FF477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B95C3-C1F1-4A72-ACCE-3ADDBAF4B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8A250E-2B10-43B1-AF65-CE5F156509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F1A5A9-C253-49F4-BB5F-C6515804C2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26BF4C-2259-4C7D-A08D-2549F01D63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34B78F-FBB7-410F-AB37-C51593FE58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6A9160-183E-4C2A-A3EE-36AC01D605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37E17E-F03A-40DD-987D-308B594AC6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FAD877-37F1-409B-BDFC-FBF77AE002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EF314B-483D-442D-A9CC-68A58BBD64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CB9140-B36D-4EA5-B827-D3B5111EED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42AD47-1A0B-4020-86C0-3573C9D5E0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02BB2-1CFC-4F65-B591-959125694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666C96-14C2-419B-96B6-03FAA078C2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E7FC66-D75D-468D-B6B9-2AD9FD7C28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B023CE-0EB1-4215-B290-EC1161F67B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92C028-89AB-4776-95B6-37C4390670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F55205-63B5-4E32-8CFA-682B164451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12A2D3-F2D5-4D9D-B133-DDBFF89926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539809-14CE-43B4-A4BB-39C16C7214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7F811E-422A-4B41-994F-AF1FD30FF8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FD99E9-E203-4683-9557-3F2069F062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680330-D94C-47D9-9267-C2B600824D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2680A-A4FF-4588-AA69-EE7241E30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1414A4-D34A-480C-8C23-6FBE3E563A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3B0C8C-A0A4-429E-ADC9-A5F82BB65E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CCD4AC-A3B6-41B3-AB78-EC2114EA89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6BE8B3-9396-4ED3-9DED-3D710E5D11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05E157-B0A1-41E1-8803-AF62443D09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5A28AA-E01B-4286-8D75-AD640083E0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DEE72F-7206-4223-A6A9-F8F561CE7F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989CF4-88E9-4C84-BBE9-4828224DD2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47A249-A39B-41DB-9DCF-2A57BD3FC5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793457-482F-4853-8556-23C01368BA8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1033-C0AA-4DF8-91D7-21467EC4F8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04BE-6907-4550-A25D-9DBF06F7A2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629F-4113-4B8A-9865-BEB789075E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748E1-99D4-4BEF-9463-CC5E2C500A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6611A-93CB-4EDE-803C-5E0E82FEC4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BF95-28E2-4822-8EAA-E940CBBF17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D02F-3A84-4AA7-A6B9-C8AC5293E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DDA3-017E-409F-A0DA-9303965A7C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96AE4-0DC6-49C7-9BC1-0A4D8E4321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3D34-7EA9-418F-928F-5A2EEFB7B1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701CB-1105-4763-AFB6-7011A17B81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1D71-FCA5-4A5C-85CC-816F2DED38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F9D3-CF8C-46A0-A854-E4CF401E91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450D-8FFD-4CC5-B844-81BD830ECC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7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49.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4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6" descr="C:\WINDOWS\Desktop\storytelling\indian.gif"/>
          <p:cNvPicPr/>
          <p:nvPr/>
        </p:nvPicPr>
        <p:blipFill>
          <a:blip r:embed="rId1"/>
          <a:stretch/>
        </p:blipFill>
        <p:spPr>
          <a:xfrm>
            <a:off x="1828800" y="0"/>
            <a:ext cx="4241880" cy="3459240"/>
          </a:xfrm>
          <a:prstGeom prst="rect">
            <a:avLst/>
          </a:prstGeom>
          <a:ln w="0">
            <a:noFill/>
          </a:ln>
        </p:spPr>
      </p:pic>
      <p:sp>
        <p:nvSpPr>
          <p:cNvPr id="58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583" name="Місце для нижнього колонтитула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62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627" name="Picture 6" descr=""/>
          <p:cNvPicPr/>
          <p:nvPr/>
        </p:nvPicPr>
        <p:blipFill>
          <a:blip r:embed="rId1"/>
          <a:stretch/>
        </p:blipFill>
        <p:spPr>
          <a:xfrm>
            <a:off x="762120" y="1981080"/>
            <a:ext cx="2946240" cy="3017880"/>
          </a:xfrm>
          <a:prstGeom prst="rect">
            <a:avLst/>
          </a:prstGeom>
          <a:ln w="0">
            <a:noFill/>
          </a:ln>
        </p:spPr>
      </p:pic>
      <p:sp>
        <p:nvSpPr>
          <p:cNvPr id="62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63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63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63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63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63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63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64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642" name="Picture 6" descr=""/>
          <p:cNvPicPr/>
          <p:nvPr/>
        </p:nvPicPr>
        <p:blipFill>
          <a:blip r:embed="rId1"/>
          <a:stretch/>
        </p:blipFill>
        <p:spPr>
          <a:xfrm>
            <a:off x="914400" y="1905120"/>
            <a:ext cx="2706840" cy="3581280"/>
          </a:xfrm>
          <a:prstGeom prst="rect">
            <a:avLst/>
          </a:prstGeom>
          <a:ln w="0">
            <a:noFill/>
          </a:ln>
        </p:spPr>
      </p:pic>
      <p:sp>
        <p:nvSpPr>
          <p:cNvPr id="64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64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64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6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651"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5"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66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66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66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66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58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67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67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673"/>
                                        </p:tgtEl>
                                        <p:attrNameLst>
                                          <p:attrName>style.visibility</p:attrName>
                                        </p:attrNameLst>
                                      </p:cBhvr>
                                      <p:to>
                                        <p:strVal val="visible"/>
                                      </p:to>
                                    </p:set>
                                    <p:anim calcmode="lin" valueType="num">
                                      <p:cBhvr additive="repl">
                                        <p:cTn id="7" dur="5000" fill="hold"/>
                                        <p:tgtEl>
                                          <p:spTgt spid="67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6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67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67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
          <p:cNvGraphicFramePr/>
          <p:nvPr/>
        </p:nvGraphicFramePr>
        <p:xfrm>
          <a:off x="1295280" y="2133720"/>
          <a:ext cx="5791320" cy="4694040"/>
        </p:xfrm>
        <a:graphic>
          <a:graphicData uri="http://schemas.openxmlformats.org/drawingml/2006/table">
            <a:tbl>
              <a:tblPr/>
              <a:tblGrid>
                <a:gridCol w="2932200"/>
                <a:gridCol w="2859120"/>
              </a:tblGrid>
              <a:tr h="4745880">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9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9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9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9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9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02" name="Picture 7" descr=""/>
          <p:cNvPicPr/>
          <p:nvPr/>
        </p:nvPicPr>
        <p:blipFill>
          <a:blip r:embed="rId1"/>
          <a:stretch/>
        </p:blipFill>
        <p:spPr>
          <a:xfrm>
            <a:off x="380880" y="1981080"/>
            <a:ext cx="3810240" cy="3040200"/>
          </a:xfrm>
          <a:prstGeom prst="rect">
            <a:avLst/>
          </a:prstGeom>
          <a:ln w="0">
            <a:noFill/>
          </a:ln>
        </p:spPr>
      </p:pic>
      <p:sp>
        <p:nvSpPr>
          <p:cNvPr id="60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0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0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0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61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612" name="Picture 6" descr=""/>
          <p:cNvPicPr/>
          <p:nvPr/>
        </p:nvPicPr>
        <p:blipFill>
          <a:blip r:embed="rId1"/>
          <a:stretch/>
        </p:blipFill>
        <p:spPr>
          <a:xfrm>
            <a:off x="990720" y="1981080"/>
            <a:ext cx="2714400" cy="3429000"/>
          </a:xfrm>
          <a:prstGeom prst="rect">
            <a:avLst/>
          </a:prstGeom>
          <a:ln w="0">
            <a:noFill/>
          </a:ln>
        </p:spPr>
      </p:pic>
      <p:sp>
        <p:nvSpPr>
          <p:cNvPr id="61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61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617" name="Picture 7" descr=""/>
          <p:cNvPicPr/>
          <p:nvPr/>
        </p:nvPicPr>
        <p:blipFill>
          <a:blip r:embed="rId1"/>
          <a:stretch/>
        </p:blipFill>
        <p:spPr>
          <a:xfrm>
            <a:off x="838080" y="2133720"/>
            <a:ext cx="2533680" cy="3200400"/>
          </a:xfrm>
          <a:prstGeom prst="rect">
            <a:avLst/>
          </a:prstGeom>
          <a:ln w="0">
            <a:noFill/>
          </a:ln>
        </p:spPr>
      </p:pic>
      <p:sp>
        <p:nvSpPr>
          <p:cNvPr id="61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62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622" name="Picture 6" descr=""/>
          <p:cNvPicPr/>
          <p:nvPr/>
        </p:nvPicPr>
        <p:blipFill>
          <a:blip r:embed="rId1"/>
          <a:stretch/>
        </p:blipFill>
        <p:spPr>
          <a:xfrm>
            <a:off x="533520" y="1905120"/>
            <a:ext cx="2901960" cy="3657600"/>
          </a:xfrm>
          <a:prstGeom prst="rect">
            <a:avLst/>
          </a:prstGeom>
          <a:ln w="0">
            <a:noFill/>
          </a:ln>
        </p:spPr>
      </p:pic>
      <p:sp>
        <p:nvSpPr>
          <p:cNvPr id="62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5T12:28:34Z</dcterms:modified>
  <cp:revision>43</cp:revision>
  <dc:subject/>
  <dc:title>PowerPoint Presentation</dc:title>
</cp:coreProperties>
</file>