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E6EB-2B06-4782-8C66-1AB6588D7A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6CC-6770-44E8-8630-B667FBF3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0D1-5B80-41E6-AFE8-6CA7ADDC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086-467A-4D20-9711-F25BDCCC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10E-BB7A-4036-B85F-BA9E2FEA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125-FBFE-4E30-9800-F8C793BE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4EE-85A5-46B9-8E49-C4EBB115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79F-5DA3-45F9-BEB8-8089AEEF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30A-665F-41AA-8203-623C8BEC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8C8-1306-4711-914E-33CAC077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5D2-9A2F-48E8-8206-6BD35330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BED-7208-4449-B2A1-33D2EE27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EC5-7A19-4A72-B376-C5AB0BB3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98E6-7CE8-450E-B31D-74834E986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ate Gre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ffolk City Schoo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Grade – SOL 2.2, 2.4, 2.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-American Folktales   [22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People of the Plains   [26:26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The First Peoples   [21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oux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845440" y="5667120"/>
            <a:ext cx="302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280" y="1600200"/>
          <a:ext cx="8839440" cy="21272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73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astern Wood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w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ood and bark ho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shermen Hunters Far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ddled can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48" descr="longhouse2"/>
          <p:cNvPicPr/>
          <p:nvPr/>
        </p:nvPicPr>
        <p:blipFill>
          <a:blip r:embed="rId1"/>
          <a:stretch/>
        </p:blipFill>
        <p:spPr>
          <a:xfrm>
            <a:off x="1447920" y="3886200"/>
            <a:ext cx="6324480" cy="2641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6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304920" y="2362320"/>
            <a:ext cx="6476760" cy="3962160"/>
          </a:xfrm>
          <a:prstGeom prst="rect">
            <a:avLst/>
          </a:prstGeom>
          <a:ln w="0">
            <a:noFill/>
          </a:ln>
        </p:spPr>
      </p:pic>
      <p:sp>
        <p:nvSpPr>
          <p:cNvPr id="97" name="Line 5"/>
          <p:cNvSpPr/>
          <p:nvPr/>
        </p:nvSpPr>
        <p:spPr>
          <a:xfrm flipH="1">
            <a:off x="5791320" y="3352680"/>
            <a:ext cx="220968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6858000" y="4038480"/>
            <a:ext cx="2286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aster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oodl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owhat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95480" y="1294920"/>
            <a:ext cx="5943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Pocahontas &amp; Chief Powhatan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4000" spc="-1" strike="noStrike">
                <a:solidFill>
                  <a:srgbClr val="0000ff"/>
                </a:solidFill>
                <a:latin typeface="Gill Sans MT"/>
              </a:rPr>
              <a:t>EAST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of the Appalachian Mountain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4" descr="pocahontas"/>
          <p:cNvPicPr/>
          <p:nvPr/>
        </p:nvPicPr>
        <p:blipFill>
          <a:blip r:embed="rId1"/>
          <a:srcRect l="0" t="0" r="0" b="10283"/>
          <a:stretch/>
        </p:blipFill>
        <p:spPr>
          <a:xfrm>
            <a:off x="6858000" y="4038480"/>
            <a:ext cx="205272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541600" cy="4343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3038760" cy="2867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od &amp; Bark Hom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d Natural Materials to build homes, make clothes, &amp; tools (trees, rocks, bones animal skins, etc.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4" descr="algonquian-family"/>
          <p:cNvPicPr/>
          <p:nvPr/>
        </p:nvPicPr>
        <p:blipFill>
          <a:blip r:embed="rId2"/>
          <a:stretch/>
        </p:blipFill>
        <p:spPr>
          <a:xfrm>
            <a:off x="228600" y="4191120"/>
            <a:ext cx="3657600" cy="240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01_002_1_19"/>
          <p:cNvPicPr/>
          <p:nvPr/>
        </p:nvPicPr>
        <p:blipFill>
          <a:blip r:embed="rId3"/>
          <a:stretch/>
        </p:blipFill>
        <p:spPr>
          <a:xfrm>
            <a:off x="4191120" y="3733920"/>
            <a:ext cx="2895480" cy="2733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3962520"/>
          <a:ext cx="8610480" cy="18716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60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ld winter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, humid summer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ivers, Hills, Mountain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as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ests, Variety o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34" descr="Picture1"/>
          <p:cNvPicPr/>
          <p:nvPr/>
        </p:nvPicPr>
        <p:blipFill>
          <a:blip r:embed="rId1"/>
          <a:stretch/>
        </p:blipFill>
        <p:spPr>
          <a:xfrm>
            <a:off x="6705720" y="2133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sherm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ivers &amp; Lak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n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er, Small Mammals, &amp; Bird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omen &amp; Gir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rew  - Corn, Beans, &amp; Squas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2743200" cy="227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238284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3"/>
          <a:stretch/>
        </p:blipFill>
        <p:spPr>
          <a:xfrm>
            <a:off x="4114800" y="4705200"/>
            <a:ext cx="2514600" cy="1791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ddled Cano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464832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781360" cy="23814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jewelry, pottery, wea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egends and stori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algonquian-family"/>
          <p:cNvPicPr/>
          <p:nvPr/>
        </p:nvPicPr>
        <p:blipFill>
          <a:blip r:embed="rId1"/>
          <a:stretch/>
        </p:blipFill>
        <p:spPr>
          <a:xfrm>
            <a:off x="4876920" y="3809880"/>
            <a:ext cx="3813120" cy="25066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35:28Z</dcterms:modified>
  <cp:revision>11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