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1A9E-2195-4616-9163-6352C0A852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134-DB3D-4ACA-9CF9-CE1310C6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824-E29A-4F6D-A333-55B06DE7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7C9-46A6-4CFC-96C2-136B6621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B74-DAAE-454C-A4ED-9DDF4EFB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054-5E0A-4E96-B1D0-942DEA6F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5CD-9A43-4413-8B2A-F068726F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39E-1036-4B3B-8D84-588500A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043-FDF8-4A57-9AF1-E050790F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2DE-34F0-4A9F-AE34-5AD6CDBC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81D-820E-4AFD-8817-7F5D2E99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689-B770-4BE2-901E-F82165B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F04-0F51-4F62-A21B-261DE4F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419B-D362-4809-89A2-D2BD366DC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ate Gre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ffolk City Sch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Grade – SOL 2.2, 2.4, 2.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-American Folktales   [22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People of the Plains   [26:26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The First Peoples   [21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oux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45440" y="5667120"/>
            <a:ext cx="30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600200"/>
          <a:ext cx="8839440" cy="21272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73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astern Wood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w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od and bark ho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shermen Hunters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ddled can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8" descr="longhouse2"/>
          <p:cNvPicPr/>
          <p:nvPr/>
        </p:nvPicPr>
        <p:blipFill>
          <a:blip r:embed="rId1"/>
          <a:stretch/>
        </p:blipFill>
        <p:spPr>
          <a:xfrm>
            <a:off x="1447920" y="3886200"/>
            <a:ext cx="632448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304920" y="2362320"/>
            <a:ext cx="647676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 flipH="1">
            <a:off x="5791320" y="3352680"/>
            <a:ext cx="220968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6858000" y="4038480"/>
            <a:ext cx="228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aste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ood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owhat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cahontas &amp; Chief Powhata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4000" spc="-1" strike="noStrike">
                <a:solidFill>
                  <a:srgbClr val="0000ff"/>
                </a:solidFill>
                <a:latin typeface="Gill Sans MT"/>
              </a:rPr>
              <a:t>EAST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of the Appalachian Mountai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4" descr="pocahontas"/>
          <p:cNvPicPr/>
          <p:nvPr/>
        </p:nvPicPr>
        <p:blipFill>
          <a:blip r:embed="rId1"/>
          <a:srcRect l="0" t="0" r="0" b="10283"/>
          <a:stretch/>
        </p:blipFill>
        <p:spPr>
          <a:xfrm>
            <a:off x="6858000" y="4038480"/>
            <a:ext cx="2052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54160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30387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od &amp; Bark Hom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d Natural Materials to build homes, make clothes, &amp; tools (trees, rocks, bones animal skins, etc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algonquian-family"/>
          <p:cNvPicPr/>
          <p:nvPr/>
        </p:nvPicPr>
        <p:blipFill>
          <a:blip r:embed="rId2"/>
          <a:stretch/>
        </p:blipFill>
        <p:spPr>
          <a:xfrm>
            <a:off x="228600" y="4191120"/>
            <a:ext cx="3657600" cy="240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1_002_1_19"/>
          <p:cNvPicPr/>
          <p:nvPr/>
        </p:nvPicPr>
        <p:blipFill>
          <a:blip r:embed="rId3"/>
          <a:stretch/>
        </p:blipFill>
        <p:spPr>
          <a:xfrm>
            <a:off x="4191120" y="3733920"/>
            <a:ext cx="2895480" cy="2733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962520"/>
          <a:ext cx="8610480" cy="1871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ld winter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, humid summer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ivers, Hills, Mountain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as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ests, Variety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4" descr="Picture1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she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vers &amp; La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n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r, Small Mammals, &amp; Bir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men &amp; Gir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w  - Corn, Beans, &amp; Squas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2743200" cy="227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4114800" y="4705200"/>
            <a:ext cx="2514600" cy="1791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ddled Cano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46483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81360" cy="23814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jewelry, pottery, wea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gends and sto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lgonquian-family"/>
          <p:cNvPicPr/>
          <p:nvPr/>
        </p:nvPicPr>
        <p:blipFill>
          <a:blip r:embed="rId1"/>
          <a:stretch/>
        </p:blipFill>
        <p:spPr>
          <a:xfrm>
            <a:off x="4876920" y="3809880"/>
            <a:ext cx="3813120" cy="25066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35:28Z</dcterms:modified>
  <cp:revision>11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