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A3C4-4D08-4C4A-BCCE-D6F125C89B6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e G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ffolk City Sch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nd Grade – SOL 2.2, 2.4, 2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te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ffolk City 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Grade – SOL 2.2, 2.4, 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-American Folktales   [22:00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 People of the Plains   [26:26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 The First Peoples   [21:00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-American Folktales   [22:00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 People of the Plains   [26:26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 The First Peoples   [21:00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-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-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ou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er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er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what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cahontas &amp; Chief Powhat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EAST of the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what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cahontas &amp; Chief Powha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 EAST of the Appalachian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 &amp; Bark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Natural Materials to build homes, make clothes, &amp; tools (trees, rocks, bones animal skins,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 &amp; Bark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Natural Materials to build homes, make clothes, &amp; tools (trees, rocks, bones animal skin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er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&amp; Bo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vers &amp; La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&amp; Bo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r, Small Mammals, &amp; Bir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&amp; Gir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w  - Corn, Beans, &amp; Squ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er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&amp;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ers &amp; L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&amp; Bo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, Small Mammals, &amp; Bi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&amp; Gir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 - Corn, Beans, &amp; Squ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dled Can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ddled Can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s (jewelry, pottery, weav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ends and s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s (jewelry, pottery, wea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s and s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B41C-1AFF-4EB9-89E7-FB900B5A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1079-DA30-4365-9CB0-7A2B739C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BD5B-BB06-46EC-A61C-944DDE88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5A72-D673-4E5A-BDA4-FF4FDA0F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601C-72F7-4841-AC20-64C83E63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D502-B192-47AF-ADFD-FF16BBD4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9A42-DA32-41F3-B178-EA92E2D4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0075-6872-4A65-923F-6E15D648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A6C8-9FB1-42EB-828B-769AE153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4FE7-AA64-4CDC-854C-EC15243B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9049-BB0A-48CC-8DFF-A768D49C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6FB1-086C-4E7A-8753-7ED6C2E8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nativeamericanhm_p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1E8F-371F-4099-A2EB-EFC0EC742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nativeamericanhm_p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Native Americans:</a:t>
            </a:r>
            <a:br>
              <a:rPr sz="6400"/>
            </a:b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owhatan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9320" y="380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Kate Gre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TR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ffolk City Schoo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Grade – SOL 2.2, 2.4, 2.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Videos &amp; Link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United Streaming Video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ve-American Folktales   [22:00]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ve Americans: People of the Plains   [26:26]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ve Americans: The First Peoples   [21:00]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owhatan Indian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Go to the website &amp; find out about: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ccup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Native American Gam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Jeopardy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op-Up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Quiz - Gam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Eastern Woodland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oux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eblo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owhatan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2845440" y="5667120"/>
            <a:ext cx="302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31880"/>
                <a:tab algn="l" pos="1360440"/>
                <a:tab algn="l" pos="2103480"/>
                <a:tab algn="l" pos="284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31880"/>
                <a:tab algn="l" pos="1360440"/>
                <a:tab algn="l" pos="2103480"/>
                <a:tab algn="l" pos="284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31880"/>
                <a:tab algn="l" pos="1360440"/>
                <a:tab algn="l" pos="2103480"/>
                <a:tab algn="l" pos="284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280" y="1600200"/>
          <a:ext cx="8839440" cy="2127240"/>
        </p:xfrm>
        <a:graphic>
          <a:graphicData uri="http://schemas.openxmlformats.org/drawingml/2006/table">
            <a:tbl>
              <a:tblPr/>
              <a:tblGrid>
                <a:gridCol w="1600200"/>
                <a:gridCol w="1524240"/>
                <a:gridCol w="1600200"/>
                <a:gridCol w="1828800"/>
                <a:gridCol w="2286000"/>
              </a:tblGrid>
              <a:tr h="573120"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g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dia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m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ccupa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anspor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astern Woodla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wh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ood and bark ho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shermen Hunters Farm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al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ddled cano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48" descr="longhouse2"/>
          <p:cNvPicPr/>
          <p:nvPr/>
        </p:nvPicPr>
        <p:blipFill>
          <a:blip r:embed="rId1"/>
          <a:stretch/>
        </p:blipFill>
        <p:spPr>
          <a:xfrm>
            <a:off x="1447920" y="3886200"/>
            <a:ext cx="6324480" cy="26416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Reg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6" name="Picture 4" descr="map"/>
          <p:cNvPicPr/>
          <p:nvPr/>
        </p:nvPicPr>
        <p:blipFill>
          <a:blip r:embed="rId1"/>
          <a:srcRect l="0" t="0" r="0" b="16290"/>
          <a:stretch/>
        </p:blipFill>
        <p:spPr>
          <a:xfrm>
            <a:off x="304920" y="2362320"/>
            <a:ext cx="6476760" cy="3962160"/>
          </a:xfrm>
          <a:prstGeom prst="rect">
            <a:avLst/>
          </a:prstGeom>
          <a:ln w="0">
            <a:noFill/>
          </a:ln>
        </p:spPr>
      </p:pic>
      <p:sp>
        <p:nvSpPr>
          <p:cNvPr id="97" name="Line 5"/>
          <p:cNvSpPr/>
          <p:nvPr/>
        </p:nvSpPr>
        <p:spPr>
          <a:xfrm flipH="1">
            <a:off x="5791320" y="3352680"/>
            <a:ext cx="2209680" cy="9144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6"/>
          <p:cNvSpPr txBox="1"/>
          <p:nvPr/>
        </p:nvSpPr>
        <p:spPr>
          <a:xfrm>
            <a:off x="6858000" y="4038480"/>
            <a:ext cx="22860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aster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oodlan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g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80880" y="12952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g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laces that have common (the same)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he Powhat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95480" y="1294920"/>
            <a:ext cx="5943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Pocahontas &amp; Chief Powhatan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Lived </a:t>
            </a:r>
            <a:r>
              <a:rPr b="0" lang="en-US" sz="4000" spc="-1" strike="noStrike">
                <a:solidFill>
                  <a:srgbClr val="0000ff"/>
                </a:solidFill>
                <a:latin typeface="Gill Sans MT"/>
              </a:rPr>
              <a:t>EAST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 of the Appalachian Mountain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3" name="Picture 4" descr="pocahontas"/>
          <p:cNvPicPr/>
          <p:nvPr/>
        </p:nvPicPr>
        <p:blipFill>
          <a:blip r:embed="rId1"/>
          <a:srcRect l="0" t="0" r="0" b="10283"/>
          <a:stretch/>
        </p:blipFill>
        <p:spPr>
          <a:xfrm>
            <a:off x="6858000" y="4038480"/>
            <a:ext cx="2052720" cy="2514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2541600" cy="43434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3038760" cy="28670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ood &amp; Bark Hom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sed Natural Materials to build homes, make clothes, &amp; tools (trees, rocks, bones animal skins, etc.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9" name="Picture 4" descr="algonquian-family"/>
          <p:cNvPicPr/>
          <p:nvPr/>
        </p:nvPicPr>
        <p:blipFill>
          <a:blip r:embed="rId2"/>
          <a:stretch/>
        </p:blipFill>
        <p:spPr>
          <a:xfrm>
            <a:off x="228600" y="4191120"/>
            <a:ext cx="3657600" cy="2404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001_002_1_19"/>
          <p:cNvPicPr/>
          <p:nvPr/>
        </p:nvPicPr>
        <p:blipFill>
          <a:blip r:embed="rId3"/>
          <a:stretch/>
        </p:blipFill>
        <p:spPr>
          <a:xfrm>
            <a:off x="4191120" y="3733920"/>
            <a:ext cx="2895480" cy="27334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Living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Clim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kind of weather an area has over a long period of      ti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shape of the land’s surf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Environmen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Natural Surround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3962520"/>
          <a:ext cx="8610480" cy="187164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60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lim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t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ild winters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t, humid summer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ivers, Hills, Mountains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as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rests, Variety of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t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34" descr="Picture1"/>
          <p:cNvPicPr/>
          <p:nvPr/>
        </p:nvPicPr>
        <p:blipFill>
          <a:blip r:embed="rId1"/>
          <a:stretch/>
        </p:blipFill>
        <p:spPr>
          <a:xfrm>
            <a:off x="6705720" y="2133720"/>
            <a:ext cx="1904760" cy="14284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Occup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sherm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n &amp; Boy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ivers &amp; Lak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un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n &amp; Boy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er, Small Mammals, &amp; Bird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arm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omen &amp; Gir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rew  - Corn, Beans, &amp; Squash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57200" y="1295280"/>
            <a:ext cx="6721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ccup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Daily Job of an Ad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2743200" cy="2278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6477120" y="3200400"/>
            <a:ext cx="2382840" cy="2895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3"/>
          <a:stretch/>
        </p:blipFill>
        <p:spPr>
          <a:xfrm>
            <a:off x="4114800" y="4705200"/>
            <a:ext cx="2514600" cy="1791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alk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ddled Cano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556560" y="1203480"/>
            <a:ext cx="8052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ransport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How people move from o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4648320" cy="2133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2781360" cy="23814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Contributio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rts (jewelry, pottery, weaving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Legends and stori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Respect for natur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arming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52280" y="1203480"/>
            <a:ext cx="8991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Contributio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– Things people from the pa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algonquian-family"/>
          <p:cNvPicPr/>
          <p:nvPr/>
        </p:nvPicPr>
        <p:blipFill>
          <a:blip r:embed="rId1"/>
          <a:stretch/>
        </p:blipFill>
        <p:spPr>
          <a:xfrm>
            <a:off x="4876920" y="3809880"/>
            <a:ext cx="3813120" cy="25066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03:14Z</dcterms:created>
  <dc:creator>5853</dc:creator>
  <dc:description/>
  <dc:language>en-US</dc:language>
  <cp:lastModifiedBy>Legion</cp:lastModifiedBy>
  <dcterms:modified xsi:type="dcterms:W3CDTF">2017-07-05T12:35:28Z</dcterms:modified>
  <cp:revision>11</cp:revision>
  <dc:subject/>
  <dc:title>Native Americans: Powhatan Indi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383731033</vt:lpwstr>
  </property>
</Properties>
</file>