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0B0D-8CD9-44BC-84B5-1BB8F23868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b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r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s Cens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ts patents and registers tradema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eau of the Cens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tional Trade Administ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 C. Redfield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Commerce today is Carlos Gutierre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s Cens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s patents and registers tradema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eau of the Cens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Trade Adminis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 C. Redfield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Commerce today is Carlos Gutierre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federal law on minimum wages, maximum hours, and safe working condi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HA, Bureau of Labor Statis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B. Wilson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Labor today is Elaine Cha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federal law on minimum wages, maximum hours, and safe working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HA, Bureau of Labor Stat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 B. Wilson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Labor today is Elaine Cha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 and Hum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ervices – 19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s health care research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pure food and drug 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care and Medic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and Drug Admin and CD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ricia Harris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HS today is Michael O. Leavit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and Hum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s – 19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s health care research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pure food and drug 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re and Medic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Drug Admin and CD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cia Harris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HS today is Michael O. Leavit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ing and Urb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ment - 19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s home – financing and public housing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fair housing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Hou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bert C. Weaver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ousing today is Alphonso Jack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ing and Urb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- 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es home – financing and public housing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fair housing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Hou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C. Weaver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ousing today is Alphonso Jack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programs to promote and regulate highways, mass transit, railroads and air tra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deral Highway and Aviation Administ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n S. Boyd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Transportation today is Mary Pet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programs to promote and regulate highways, mass transit, railroads and air tra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 Highway and Aviation Adminis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n S. Boyd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Transportation today is Mary P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otes production of renewable energy, fossil fuels, and nuclear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s nuclear weapons research and p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R. Schlesinger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Energy today is Samuel W. Bodm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production of renewable energy, fossil fuels, and nuclear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s nuclear weapons research and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R. Schlesinger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Energy today is Samuel W. Bodm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federal aid to schools and conducts educational resear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Elementary and Secondary Edu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rley Hufstedler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Education today is Margaret Spell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federal aid to schools and conducts educational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Elementary and Secondary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rley Hufstedler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Education today is Margaret Spel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terans Affai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 ministries benefits, pensions, and medical programs for veter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teran Benefits Ad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Cemetery Ad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ward J. Derwinski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Veterans Affairs today is Jim Nichol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erans Affai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 ministries benefits, pensions, and medical programs for veter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eran Benefits Ad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Cemetery Ad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J. Derwinski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Veterans Affairs today is Jim Nichol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land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der and transportation secu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ergency preparedness and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st Guard, TSA, and immigration serv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m Ridge –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omeland Security today is Michael Chert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land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der and transportation secu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y preparedness and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st Guard, TSA, and immigration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Ridge –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omeland Security today is Michael Cherto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dition of the Cabinet dates back to the beginnings of the Presidency itsel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principal purposes of the Cabinet (drawn from Article II, Section 2 of the Constitution) is to advise the President on any subject he may require relating to the duties of their respective off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dition of the Cabinet dates back to the beginnings of the Presidency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principal purposes of the Cabinet (drawn from Article II, Section 2 of the Constitution) is to advise the President on any subject he may require relating to the duties of their respective off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ointment to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 nominates and the Senate must confirm the nomin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 will usually reward loyal party members and may often select 1 position from the opposition par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culturalism is often taken into consid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ment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 nominates and the Senate must confirm the nomin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will usually reward loyal party members and may often select 1 position from the opposition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 is often taken into consid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ises President on foreign poli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otiates treaties with foreign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Passport Serv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State today is Condoleezza R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ses President on foreign poli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s treaties with foreign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Passport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Jefferson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State today is Condoleezza 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asu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s coins and bills; collects ta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alcohol, tobacco and firearms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row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S and United States M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exander Hamilton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Treasury today is Henry Paul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su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coins and bills; collects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alcohol, tobacco and firearms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s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and United States M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er Hamilton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Treasury today is Henry Paul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en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military forces to deter war and protect the nation’s  secu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int Chiefs of Sta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s of Navy, Army and Air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 Knox – 1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Defense today is Robert G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military forces to deter war and protect the nation’s  secu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Chiefs of Sta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of Navy, Army and Air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Knox – 1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Defense today is Robert G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i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secutes those accused of violating federal la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legal advice for 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s US in cou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BI, DEA, ATF, US Marsh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mond Randolph – 1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torney General today is Alberto Gonzale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ecutes those accused of violating federal l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legal advice for 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s US in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BI, DEA, ATF, US Marsh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mond Randolph – 1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orney General today is Alberto Gonzale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s public lands, wildlife refuges, and national pa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Native Americans manage their aff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Fish and Wildlife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park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Ewing  - 1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Interior today is Dirk Kempthor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public lands, wildlife refuges, and national pa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Native Americans manage their aff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Fish and Wildlife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park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wing  - 1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Interior today is Dirk Kempthor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ricul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s national fore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pects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food stamp and school lunch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and Nutrition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 Coleman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Agriculture today is Mike Johan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national for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pects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food stamp and school lunch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Nutrition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 Coleman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Agriculture today is Mike Johan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88C4-54FB-4AD3-B362-89C7E273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540-597A-487F-A08D-6BA6E7C9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5A6D-0F05-46F3-B463-D10F86BA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9BB-A13C-4367-962A-7749AB03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868C-A933-4F9B-A9EF-9E0C6C16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99BE-DF37-4F2F-8147-987705EB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00A1-19F9-436A-9F42-1C2243FE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6E84-6512-41A7-9611-16A084D8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2990-3B39-400E-ACBE-5709CFA0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D152-B43C-4ED7-984D-DA3400D7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308-2E1B-47FD-85EA-8A1C84CD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0CD9-FE19-4E19-98A6-DD13B7ED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ACB6-CCA3-4684-9E2F-767455399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hyperlink" Target="http://www.whitehouse.gov/government/cabinet.htm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state.gov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streas.gov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efenselink.mil/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www.whitehouse.gov/government/gates-bio.html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usdoj.gov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oi.gov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Photo of the Presidential Seal"/>
          <p:cNvPicPr/>
          <p:nvPr/>
        </p:nvPicPr>
        <p:blipFill>
          <a:blip r:embed="rId1"/>
          <a:stretch/>
        </p:blipFill>
        <p:spPr>
          <a:xfrm>
            <a:off x="2514600" y="1295280"/>
            <a:ext cx="431784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143000" y="15228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President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2057400" y="548640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Cabin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51" name="Picture 11" descr="3dflagsdotcom_usa_2fawl"/>
          <p:cNvPicPr/>
          <p:nvPr/>
        </p:nvPicPr>
        <p:blipFill>
          <a:blip r:embed="rId2"/>
          <a:stretch/>
        </p:blipFill>
        <p:spPr>
          <a:xfrm>
            <a:off x="228600" y="1752480"/>
            <a:ext cx="1905120" cy="129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3dflagsdotcom_usa_2fawl"/>
          <p:cNvPicPr/>
          <p:nvPr/>
        </p:nvPicPr>
        <p:blipFill>
          <a:blip r:embed="rId3"/>
          <a:stretch/>
        </p:blipFill>
        <p:spPr>
          <a:xfrm>
            <a:off x="7162920" y="3962520"/>
            <a:ext cx="1981080" cy="13507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Commerc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19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s Cen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nts patents and registers tradem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reau of the Cen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Trad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iam C. Redf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Commerce today is Carlos Gutierr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Commerce"/>
          <p:cNvPicPr/>
          <p:nvPr/>
        </p:nvPicPr>
        <p:blipFill>
          <a:blip r:embed="rId1"/>
          <a:stretch/>
        </p:blipFill>
        <p:spPr>
          <a:xfrm>
            <a:off x="5791320" y="3200400"/>
            <a:ext cx="2859120" cy="3657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oc_seal"/>
          <p:cNvPicPr/>
          <p:nvPr/>
        </p:nvPicPr>
        <p:blipFill>
          <a:blip r:embed="rId2"/>
          <a:stretch/>
        </p:blipFill>
        <p:spPr>
          <a:xfrm>
            <a:off x="6324480" y="457200"/>
            <a:ext cx="2819520" cy="2665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Labor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federal law on minimum wages, maximum hours, and safe working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HA, Bureau of Labor Stati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iam B. Wilson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Labor today is Elaine Ch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Chao"/>
          <p:cNvPicPr/>
          <p:nvPr/>
        </p:nvPicPr>
        <p:blipFill>
          <a:blip r:embed="rId1"/>
          <a:stretch/>
        </p:blipFill>
        <p:spPr>
          <a:xfrm>
            <a:off x="5486400" y="3200400"/>
            <a:ext cx="2859120" cy="3657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labor- seal"/>
          <p:cNvPicPr/>
          <p:nvPr/>
        </p:nvPicPr>
        <p:blipFill>
          <a:blip r:embed="rId2"/>
          <a:stretch/>
        </p:blipFill>
        <p:spPr>
          <a:xfrm>
            <a:off x="6477120" y="5335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Health and Human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 Services – 19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ds health care research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pure food and drug 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re and Medic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and Drug Admin and CD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ricia Harris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baseline="30000">
                <a:solidFill>
                  <a:srgbClr val="ff0000"/>
                </a:solidFill>
                <a:latin typeface="Arial"/>
              </a:rPr>
              <a:t>Secretary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of HHS today is Michael O. Leavi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HHS"/>
          <p:cNvPicPr/>
          <p:nvPr/>
        </p:nvPicPr>
        <p:blipFill>
          <a:blip r:embed="rId1"/>
          <a:stretch/>
        </p:blipFill>
        <p:spPr>
          <a:xfrm>
            <a:off x="5410080" y="3581280"/>
            <a:ext cx="2621160" cy="32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hhs-1 seal"/>
          <p:cNvPicPr/>
          <p:nvPr/>
        </p:nvPicPr>
        <p:blipFill>
          <a:blip r:embed="rId2"/>
          <a:stretch/>
        </p:blipFill>
        <p:spPr>
          <a:xfrm>
            <a:off x="6705720" y="11430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Housing and Urban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Development -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es home – financing and public housing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fair housing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Hou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ert C. Weaver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Housing today is Alphonso Jackson.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seal_HUD"/>
          <p:cNvPicPr/>
          <p:nvPr/>
        </p:nvPicPr>
        <p:blipFill>
          <a:blip r:embed="rId1"/>
          <a:stretch/>
        </p:blipFill>
        <p:spPr>
          <a:xfrm>
            <a:off x="6553080" y="1447920"/>
            <a:ext cx="2257560" cy="2257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HUD"/>
          <p:cNvPicPr/>
          <p:nvPr/>
        </p:nvPicPr>
        <p:blipFill>
          <a:blip r:embed="rId2"/>
          <a:stretch/>
        </p:blipFill>
        <p:spPr>
          <a:xfrm>
            <a:off x="5791320" y="3733920"/>
            <a:ext cx="2441520" cy="31240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Transportation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6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programs to promote and regulate highways, mass transit, railroads and air tra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deral Highway and Aviation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an S. Boyd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Transportation today is Mary Pet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rans seal"/>
          <p:cNvPicPr/>
          <p:nvPr/>
        </p:nvPicPr>
        <p:blipFill>
          <a:blip r:embed="rId1"/>
          <a:stretch/>
        </p:blipFill>
        <p:spPr>
          <a:xfrm>
            <a:off x="6632640" y="838080"/>
            <a:ext cx="2511360" cy="2495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Mary Peters"/>
          <p:cNvPicPr/>
          <p:nvPr/>
        </p:nvPicPr>
        <p:blipFill>
          <a:blip r:embed="rId2"/>
          <a:stretch/>
        </p:blipFill>
        <p:spPr>
          <a:xfrm>
            <a:off x="6019920" y="3505320"/>
            <a:ext cx="2619360" cy="33526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Energy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otes production of renewable energy, fossil fuels, and nuclear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s nuclear weapons research and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mes R. Schlesing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Energy today is Samuel W. Bodm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energy"/>
          <p:cNvPicPr/>
          <p:nvPr/>
        </p:nvPicPr>
        <p:blipFill>
          <a:blip r:embed="rId1"/>
          <a:stretch/>
        </p:blipFill>
        <p:spPr>
          <a:xfrm>
            <a:off x="5562720" y="3124080"/>
            <a:ext cx="2917800" cy="373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energy- seal"/>
          <p:cNvPicPr/>
          <p:nvPr/>
        </p:nvPicPr>
        <p:blipFill>
          <a:blip r:embed="rId2"/>
          <a:stretch/>
        </p:blipFill>
        <p:spPr>
          <a:xfrm>
            <a:off x="6172200" y="304920"/>
            <a:ext cx="2743200" cy="2720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Education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federal aid to schools and conducts educational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Elementary and Secondary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irley Hufsted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Education today is Margaret Spelling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Edu"/>
          <p:cNvPicPr/>
          <p:nvPr/>
        </p:nvPicPr>
        <p:blipFill>
          <a:blip r:embed="rId1"/>
          <a:stretch/>
        </p:blipFill>
        <p:spPr>
          <a:xfrm>
            <a:off x="5562720" y="3276720"/>
            <a:ext cx="2800080" cy="3581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ducation seal"/>
          <p:cNvPicPr/>
          <p:nvPr/>
        </p:nvPicPr>
        <p:blipFill>
          <a:blip r:embed="rId2"/>
          <a:stretch/>
        </p:blipFill>
        <p:spPr>
          <a:xfrm>
            <a:off x="6362640" y="380880"/>
            <a:ext cx="2781360" cy="2781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Veterans Affairs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 ministries benefits, pensions, and medical programs for veter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teran Benefits Ad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Cemetery Ad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ward J. Derwinski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Veterans Affairs today is Jim Nicholson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VA - seal"/>
          <p:cNvPicPr/>
          <p:nvPr/>
        </p:nvPicPr>
        <p:blipFill>
          <a:blip r:embed="rId1"/>
          <a:stretch/>
        </p:blipFill>
        <p:spPr>
          <a:xfrm>
            <a:off x="6400800" y="838080"/>
            <a:ext cx="2743200" cy="269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VA"/>
          <p:cNvPicPr/>
          <p:nvPr/>
        </p:nvPicPr>
        <p:blipFill>
          <a:blip r:embed="rId2"/>
          <a:stretch/>
        </p:blipFill>
        <p:spPr>
          <a:xfrm>
            <a:off x="571500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Homeland Security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20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der and transportation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ergency preparedness and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st Guard, TSA, and immigration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m Ridge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Homeland Security today is Michael Chert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HS"/>
          <p:cNvPicPr/>
          <p:nvPr/>
        </p:nvPicPr>
        <p:blipFill>
          <a:blip r:embed="rId1"/>
          <a:stretch/>
        </p:blipFill>
        <p:spPr>
          <a:xfrm>
            <a:off x="5943600" y="3657600"/>
            <a:ext cx="256068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HS seal"/>
          <p:cNvPicPr/>
          <p:nvPr/>
        </p:nvPicPr>
        <p:blipFill>
          <a:blip r:embed="rId2"/>
          <a:stretch/>
        </p:blipFill>
        <p:spPr>
          <a:xfrm>
            <a:off x="6400800" y="8380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entury Schoolbook"/>
              </a:rPr>
              <a:t>History of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tradition of the Cabinet dates back to the beginnings of the Presidency itsel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e of the principal purposes of the Cabinet (drawn from Article II, Section 2 of the Constitution) is to advise the President on any subject he may require relating to the duties of their respective offic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Copies of the energy report are resting on the table in the Cabinet Room. White House photo by David Bohrer."/>
          <p:cNvPicPr/>
          <p:nvPr/>
        </p:nvPicPr>
        <p:blipFill>
          <a:blip r:embed="rId1"/>
          <a:stretch/>
        </p:blipFill>
        <p:spPr>
          <a:xfrm>
            <a:off x="0" y="396252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bushcabinet525"/>
          <p:cNvPicPr/>
          <p:nvPr/>
        </p:nvPicPr>
        <p:blipFill>
          <a:blip r:embed="rId2"/>
          <a:stretch/>
        </p:blipFill>
        <p:spPr>
          <a:xfrm>
            <a:off x="4800600" y="396252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ppointment to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President nominates and the Senate must confirm the nomin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esident will usually reward loyal party members and may often select 1 position from the opposition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ulticulturalism is often taken into consid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President George W. Bush"/>
          <p:cNvPicPr/>
          <p:nvPr/>
        </p:nvPicPr>
        <p:blipFill>
          <a:blip r:embed="rId1"/>
          <a:stretch/>
        </p:blipFill>
        <p:spPr>
          <a:xfrm>
            <a:off x="5410080" y="2057400"/>
            <a:ext cx="3535560" cy="48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Photo of the Presidential Seal"/>
          <p:cNvPicPr/>
          <p:nvPr/>
        </p:nvPicPr>
        <p:blipFill>
          <a:blip r:embed="rId2"/>
          <a:stretch/>
        </p:blipFill>
        <p:spPr>
          <a:xfrm>
            <a:off x="0" y="0"/>
            <a:ext cx="181944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Photo of the Presidential Sea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50040" y="0"/>
            <a:ext cx="1893960" cy="19051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State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ises President on foreign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gotiates treaties with foreign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Passport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Jefferson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State today is Condoleezza R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State"/>
          <p:cNvPicPr/>
          <p:nvPr/>
        </p:nvPicPr>
        <p:blipFill>
          <a:blip r:embed="rId1"/>
          <a:stretch/>
        </p:blipFill>
        <p:spPr>
          <a:xfrm>
            <a:off x="5181480" y="3429000"/>
            <a:ext cx="2560680" cy="327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State - sea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00800" y="380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Treasury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s coins and bills; collects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alcohol, tobacco and firearms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rows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S and United States M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exander Hamilton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Treasury today is Henry Paul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reasure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5335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Henry M. Paulson, Jr."/>
          <p:cNvPicPr/>
          <p:nvPr/>
        </p:nvPicPr>
        <p:blipFill>
          <a:blip r:embed="rId3"/>
          <a:stretch/>
        </p:blipFill>
        <p:spPr>
          <a:xfrm>
            <a:off x="5867280" y="3276720"/>
            <a:ext cx="256068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Defense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military forces to deter war and protect the nation’s 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int Chiefs of Sta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artments of Navy, Army and Air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nry Knox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Defense today is Robert G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Def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6858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Photo of Robert M. Gates, Secretary of Def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3276720"/>
            <a:ext cx="2865240" cy="35812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Justic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ecutes those accused of violating federal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legal advice for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s US in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BI, DEA, ATF, US Marsh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mond Randolph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ttorney General today is Alberto Gonzal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Justice"/>
          <p:cNvPicPr/>
          <p:nvPr/>
        </p:nvPicPr>
        <p:blipFill>
          <a:blip r:embed="rId1"/>
          <a:stretch/>
        </p:blipFill>
        <p:spPr>
          <a:xfrm>
            <a:off x="5824440" y="3124080"/>
            <a:ext cx="2917800" cy="3733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Seal_Dep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228600"/>
            <a:ext cx="2895840" cy="2855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Interior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br>
              <a:rPr sz="44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8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s public lands, wildlife refuges, and national p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s Native Americans manage their aff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 Fish and Wildlife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park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Ewing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Interior today is Dirk Kemptho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interior-1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609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Dirk Kempthorne"/>
          <p:cNvPicPr/>
          <p:nvPr/>
        </p:nvPicPr>
        <p:blipFill>
          <a:blip r:embed="rId3"/>
          <a:stretch/>
        </p:blipFill>
        <p:spPr>
          <a:xfrm>
            <a:off x="617220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Agricultur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188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s national fo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s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food stamp and school lunch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and Nutrition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m Coleman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Agriculture today is Mike Johan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agriculture-1 seal"/>
          <p:cNvPicPr/>
          <p:nvPr/>
        </p:nvPicPr>
        <p:blipFill>
          <a:blip r:embed="rId1"/>
          <a:stretch/>
        </p:blipFill>
        <p:spPr>
          <a:xfrm>
            <a:off x="6400800" y="685800"/>
            <a:ext cx="2550960" cy="2590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Agrric"/>
          <p:cNvPicPr/>
          <p:nvPr/>
        </p:nvPicPr>
        <p:blipFill>
          <a:blip r:embed="rId2"/>
          <a:stretch/>
        </p:blipFill>
        <p:spPr>
          <a:xfrm>
            <a:off x="586728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6:20:46Z</dcterms:created>
  <dc:creator>dgreenbe</dc:creator>
  <dc:description/>
  <dc:language>en-US</dc:language>
  <cp:lastModifiedBy>Legion</cp:lastModifiedBy>
  <dcterms:modified xsi:type="dcterms:W3CDTF">2017-07-05T12:38:04Z</dcterms:modified>
  <cp:revision>71</cp:revision>
  <dc:subject/>
  <dc:title>Slide 1</dc:title>
</cp:coreProperties>
</file>