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D30C-99AE-4246-BD48-95F8CEA6AAA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Quincy Ada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Jack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Cla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Harris Crawf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ohn Quincy Adam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rew Jacks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nry Cla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lliam Harris Crawfor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D6C-5816-4A23-83E5-EC48B67D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875-AE08-4689-8E29-B64E2830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C68-4974-466E-8897-2FDBE158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79E-AE0B-459A-A4D7-E0F77981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5D2A-5409-45B1-9F71-D13DE42B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7CC9-CE26-4476-A51A-E9750B4D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2202-BE73-4F36-9714-98EE6C55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EB2E-C132-4486-AE32-7FEA2F61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51CD-6F48-423B-9B18-0620B65C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23E4-524D-4FBD-B637-8988E973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F93E-1681-4771-9E62-CFD1C9D1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557-3674-4D6F-974F-98BF5960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D1CA-799D-439E-BEDE-607136CD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9370-1BF3-4760-82B9-3C3358CD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42AB-2BD1-411C-9D0C-83C33D27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F6A5-E56E-42B2-9A9A-8974B13C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D903-1AFC-4E64-9323-7F7898FD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8F3B-D063-48BB-B819-517E4F1A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8ECE-7000-4131-A534-8F173F7D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98A2-E2DE-46FA-AA34-BB21E23E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A04-6BFC-4F24-B051-4017F509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6768-98FE-4B54-AC99-B36C04D2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6B6-91B6-4E87-9ED4-4453C153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F80-C93A-4631-9FE6-1ED316BE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D4F8-F133-4526-AC0F-DD3FED16C8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DBC8-8C18-43DF-8151-44579B6BDD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John Quincy Adams"/>
          <p:cNvPicPr/>
          <p:nvPr/>
        </p:nvPicPr>
        <p:blipFill>
          <a:blip r:embed="rId1"/>
          <a:stretch/>
        </p:blipFill>
        <p:spPr>
          <a:xfrm>
            <a:off x="304920" y="22860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215280" y="251352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ohn Quincy Adam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1813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0" descr="Henry Clay"/>
          <p:cNvPicPr/>
          <p:nvPr/>
        </p:nvPicPr>
        <p:blipFill>
          <a:blip r:embed="rId2"/>
          <a:stretch/>
        </p:blipFill>
        <p:spPr>
          <a:xfrm>
            <a:off x="457200" y="3886200"/>
            <a:ext cx="2666880" cy="215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William Harris Crawford"/>
          <p:cNvPicPr/>
          <p:nvPr/>
        </p:nvPicPr>
        <p:blipFill>
          <a:blip r:embed="rId3"/>
          <a:stretch/>
        </p:blipFill>
        <p:spPr>
          <a:xfrm>
            <a:off x="5562720" y="3886200"/>
            <a:ext cx="2590560" cy="2057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Andrew Jackson"/>
          <p:cNvPicPr/>
          <p:nvPr/>
        </p:nvPicPr>
        <p:blipFill>
          <a:blip r:embed="rId4"/>
          <a:stretch/>
        </p:blipFill>
        <p:spPr>
          <a:xfrm>
            <a:off x="5715000" y="304920"/>
            <a:ext cx="2666880" cy="217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5"/>
          <p:cNvSpPr/>
          <p:nvPr/>
        </p:nvSpPr>
        <p:spPr>
          <a:xfrm>
            <a:off x="5905800" y="2589840"/>
            <a:ext cx="26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rew Jacks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1031040" y="6125040"/>
            <a:ext cx="1888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nry Cla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000400" y="61711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lliam Harris Crawfo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133720" y="327672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Election of 182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image4"/>
          <p:cNvPicPr/>
          <p:nvPr/>
        </p:nvPicPr>
        <p:blipFill>
          <a:blip r:embed="rId1"/>
          <a:stretch/>
        </p:blipFill>
        <p:spPr>
          <a:xfrm>
            <a:off x="0" y="1752480"/>
            <a:ext cx="4051440" cy="487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age1"/>
          <p:cNvPicPr/>
          <p:nvPr/>
        </p:nvPicPr>
        <p:blipFill>
          <a:blip r:embed="rId2"/>
          <a:stretch/>
        </p:blipFill>
        <p:spPr>
          <a:xfrm>
            <a:off x="4438800" y="380880"/>
            <a:ext cx="4502160" cy="5334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3049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Election of 18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1824"/>
          <p:cNvPicPr/>
          <p:nvPr/>
        </p:nvPicPr>
        <p:blipFill>
          <a:blip r:embed="rId1"/>
          <a:stretch/>
        </p:blipFill>
        <p:spPr>
          <a:xfrm>
            <a:off x="762120" y="228600"/>
            <a:ext cx="7848360" cy="63374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image2"/>
          <p:cNvPicPr/>
          <p:nvPr/>
        </p:nvPicPr>
        <p:blipFill>
          <a:blip r:embed="rId1"/>
          <a:stretch/>
        </p:blipFill>
        <p:spPr>
          <a:xfrm>
            <a:off x="4495680" y="0"/>
            <a:ext cx="4800600" cy="4422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image5"/>
          <p:cNvPicPr/>
          <p:nvPr/>
        </p:nvPicPr>
        <p:blipFill>
          <a:blip r:embed="rId2"/>
          <a:stretch/>
        </p:blipFill>
        <p:spPr>
          <a:xfrm>
            <a:off x="0" y="1600200"/>
            <a:ext cx="4441680" cy="4952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3049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Election of 182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032-360580_m_07_01"/>
          <p:cNvPicPr/>
          <p:nvPr/>
        </p:nvPicPr>
        <p:blipFill>
          <a:blip r:embed="rId1"/>
          <a:stretch/>
        </p:blipFill>
        <p:spPr>
          <a:xfrm>
            <a:off x="914400" y="210960"/>
            <a:ext cx="7848720" cy="664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3:45:03Z</dcterms:created>
  <dc:creator>dgreenberg</dc:creator>
  <dc:description/>
  <dc:language>en-US</dc:language>
  <cp:lastModifiedBy>Legion</cp:lastModifiedBy>
  <dcterms:modified xsi:type="dcterms:W3CDTF">2017-07-05T12:39:06Z</dcterms:modified>
  <cp:revision>10</cp:revision>
  <dc:subject/>
  <dc:title>Slide 1</dc:title>
</cp:coreProperties>
</file>