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5DD1-67D0-4685-8B2F-A5CDB26B9F4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John Quincy Ada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rew Jackson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enry Clay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illiam Harris Crawford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4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lection of 182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B4C-54C3-49C5-83D6-792EDABB6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6FDA-6C91-4D35-946F-65DC6EB4B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67E6-B513-4E15-A0CB-E0230FCC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A0C46-B98B-416E-B8B5-BB33900D3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E639-70AE-4807-B147-828192160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A398-1BA0-4293-A8C9-3E9EBE1C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61EC-A486-474E-BB99-A59FA7C4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295A-68C6-4623-88EE-E08C7701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AE6AF-FDF7-47D2-B093-3FD5F1FC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767C8-5B03-4219-8A1D-2AC106AA4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84B4E-A21F-428E-9999-816A27B5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21E-9928-4421-86AE-F29626F9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FC63-744D-483F-9917-5B512027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F4CE-7651-47D7-ABB3-7733B72BD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ED47-DE1B-4505-9F7F-F78D6A49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C1346-93CE-4D11-A338-E304A2ED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1AD6-61CC-4968-938A-0EF4A26A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F2D-58EB-436A-9548-38DB0EF4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6ED3-38B4-4B07-AD01-813AC071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99E-53A3-4407-87EE-C95D6A55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6AF5-009B-40BB-9F89-E6E09524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4611-9646-4618-BD92-A01A3888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F105-55DF-4447-872E-599ED5A9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33C3-1EB0-427E-9E70-0B144A88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5DA4-7818-4231-A3D7-867E633ECF4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2A6F-4133-4214-955B-3B2A8FBEB5B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5" descr="John Quincy Adams"/>
          <p:cNvPicPr/>
          <p:nvPr/>
        </p:nvPicPr>
        <p:blipFill>
          <a:blip r:embed="rId1"/>
          <a:stretch/>
        </p:blipFill>
        <p:spPr>
          <a:xfrm>
            <a:off x="304920" y="228600"/>
            <a:ext cx="2438280" cy="195408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215280" y="2513520"/>
            <a:ext cx="319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John Quincy Adam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18132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Picture 10" descr="Henry Clay"/>
          <p:cNvPicPr/>
          <p:nvPr/>
        </p:nvPicPr>
        <p:blipFill>
          <a:blip r:embed="rId2"/>
          <a:stretch/>
        </p:blipFill>
        <p:spPr>
          <a:xfrm>
            <a:off x="457200" y="3886200"/>
            <a:ext cx="2666880" cy="2157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William Harris Crawford"/>
          <p:cNvPicPr/>
          <p:nvPr/>
        </p:nvPicPr>
        <p:blipFill>
          <a:blip r:embed="rId3"/>
          <a:stretch/>
        </p:blipFill>
        <p:spPr>
          <a:xfrm>
            <a:off x="5562720" y="3886200"/>
            <a:ext cx="2590560" cy="20574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" descr="Andrew Jackson"/>
          <p:cNvPicPr/>
          <p:nvPr/>
        </p:nvPicPr>
        <p:blipFill>
          <a:blip r:embed="rId4"/>
          <a:stretch/>
        </p:blipFill>
        <p:spPr>
          <a:xfrm>
            <a:off x="5715000" y="304920"/>
            <a:ext cx="2666880" cy="21780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5"/>
          <p:cNvSpPr/>
          <p:nvPr/>
        </p:nvSpPr>
        <p:spPr>
          <a:xfrm>
            <a:off x="5905800" y="2589840"/>
            <a:ext cx="267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drew Jackson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1031040" y="6125040"/>
            <a:ext cx="18889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enry Cla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5000400" y="6171120"/>
            <a:ext cx="39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illiam Harris Crawford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18"/>
          <p:cNvSpPr/>
          <p:nvPr/>
        </p:nvSpPr>
        <p:spPr>
          <a:xfrm>
            <a:off x="2133720" y="3276720"/>
            <a:ext cx="419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image4"/>
          <p:cNvPicPr/>
          <p:nvPr/>
        </p:nvPicPr>
        <p:blipFill>
          <a:blip r:embed="rId1"/>
          <a:stretch/>
        </p:blipFill>
        <p:spPr>
          <a:xfrm>
            <a:off x="0" y="1752480"/>
            <a:ext cx="4051440" cy="4876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mage1"/>
          <p:cNvPicPr/>
          <p:nvPr/>
        </p:nvPicPr>
        <p:blipFill>
          <a:blip r:embed="rId2"/>
          <a:stretch/>
        </p:blipFill>
        <p:spPr>
          <a:xfrm>
            <a:off x="4438800" y="380880"/>
            <a:ext cx="4502160" cy="53341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1824"/>
          <p:cNvPicPr/>
          <p:nvPr/>
        </p:nvPicPr>
        <p:blipFill>
          <a:blip r:embed="rId1"/>
          <a:stretch/>
        </p:blipFill>
        <p:spPr>
          <a:xfrm>
            <a:off x="762120" y="228600"/>
            <a:ext cx="7848360" cy="63374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5" descr="image2"/>
          <p:cNvPicPr/>
          <p:nvPr/>
        </p:nvPicPr>
        <p:blipFill>
          <a:blip r:embed="rId1"/>
          <a:stretch/>
        </p:blipFill>
        <p:spPr>
          <a:xfrm>
            <a:off x="4495680" y="0"/>
            <a:ext cx="4800600" cy="4422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7" descr="image5"/>
          <p:cNvPicPr/>
          <p:nvPr/>
        </p:nvPicPr>
        <p:blipFill>
          <a:blip r:embed="rId2"/>
          <a:stretch/>
        </p:blipFill>
        <p:spPr>
          <a:xfrm>
            <a:off x="0" y="1600200"/>
            <a:ext cx="4441680" cy="49528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3049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Verdana"/>
              </a:rPr>
              <a:t>Election of 1828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032-360580_m_07_01"/>
          <p:cNvPicPr/>
          <p:nvPr/>
        </p:nvPicPr>
        <p:blipFill>
          <a:blip r:embed="rId1"/>
          <a:stretch/>
        </p:blipFill>
        <p:spPr>
          <a:xfrm>
            <a:off x="914400" y="210960"/>
            <a:ext cx="7848720" cy="6647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3:45:03Z</dcterms:created>
  <dc:creator>dgreenberg</dc:creator>
  <dc:description/>
  <dc:language>en-US</dc:language>
  <cp:lastModifiedBy>Legion</cp:lastModifiedBy>
  <dcterms:modified xsi:type="dcterms:W3CDTF">2017-07-05T12:39:06Z</dcterms:modified>
  <cp:revision>10</cp:revision>
  <dc:subject/>
  <dc:title>Slide 1</dc:title>
</cp:coreProperties>
</file>