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jpeg" ContentType="image/jpeg"/>
  <Override PartName="/ppt/media/hail%20to%20the%20chief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84BC-7828-46ED-9AA3-07D4D69626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15E-0E7B-4B73-984C-2205D766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CCD-A735-4AD6-9A30-C96394B7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445-6054-4C46-89D8-89CECE23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41B-8D1C-4EAE-8E1C-DD965175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69F-52DE-4A37-A59D-DFE33823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AAF-AB5A-4BFB-938B-9A85B6D4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B8E-625E-44F0-88A7-D518FE0F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61B-ECDD-469E-9D41-87F9DE5D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528-4CDB-41B2-AF3E-B2FAB4BD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885-E660-4F9E-8BE8-FA0AB423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CB2-28B7-4CF0-A4BC-F78AC557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45E-3EAF-4E70-850B-836ED98D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4AF7-FE39-49F9-B50B-E00C5C151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hail%20to%20the%20chie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Felix Titling"/>
              </a:rPr>
              <a:t>The Presidential Ele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Felix Titling"/>
              </a:rPr>
              <a:t>of 19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3" descr="JFKbutton"/>
          <p:cNvPicPr/>
          <p:nvPr/>
        </p:nvPicPr>
        <p:blipFill>
          <a:blip r:embed="rId1"/>
          <a:stretch/>
        </p:blipFill>
        <p:spPr>
          <a:xfrm>
            <a:off x="0" y="4767120"/>
            <a:ext cx="213372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nixon button"/>
          <p:cNvPicPr/>
          <p:nvPr/>
        </p:nvPicPr>
        <p:blipFill>
          <a:blip r:embed="rId2"/>
          <a:stretch/>
        </p:blipFill>
        <p:spPr>
          <a:xfrm>
            <a:off x="6858000" y="4767120"/>
            <a:ext cx="2286000" cy="20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eal-presidential-color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seal-presidential-color"/>
          <p:cNvPicPr/>
          <p:nvPr/>
        </p:nvPicPr>
        <p:blipFill>
          <a:blip r:embed="rId4"/>
          <a:stretch/>
        </p:blipFill>
        <p:spPr>
          <a:xfrm>
            <a:off x="7402680" y="0"/>
            <a:ext cx="17413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Felix Titling"/>
              </a:rPr>
              <a:t>Links to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380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ranklin Gothic Medium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The Candidates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Nixon Time"/>
          <p:cNvPicPr/>
          <p:nvPr/>
        </p:nvPicPr>
        <p:blipFill>
          <a:blip r:embed="rId1"/>
          <a:stretch/>
        </p:blipFill>
        <p:spPr>
          <a:xfrm>
            <a:off x="533520" y="1371600"/>
            <a:ext cx="35845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Ken poster"/>
          <p:cNvPicPr/>
          <p:nvPr/>
        </p:nvPicPr>
        <p:blipFill>
          <a:blip r:embed="rId2"/>
          <a:stretch/>
        </p:blipFill>
        <p:spPr>
          <a:xfrm>
            <a:off x="5257800" y="1447920"/>
            <a:ext cx="3324240" cy="464796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304920" y="624852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R) Richard M. Nix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4876920" y="6248520"/>
            <a:ext cx="40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D) John F. Kenned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Felix Titling"/>
              </a:rPr>
              <a:t>Background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John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file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7 – wins Pulitzer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he race for the offic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oth shaking hands"/>
          <p:cNvPicPr/>
          <p:nvPr/>
        </p:nvPicPr>
        <p:blipFill>
          <a:blip r:embed="rId1"/>
          <a:stretch/>
        </p:blipFill>
        <p:spPr>
          <a:xfrm>
            <a:off x="4952880" y="1523880"/>
            <a:ext cx="3676680" cy="276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jfk_next_pres_button"/>
          <p:cNvPicPr/>
          <p:nvPr/>
        </p:nvPicPr>
        <p:blipFill>
          <a:blip r:embed="rId2"/>
          <a:stretch/>
        </p:blipFill>
        <p:spPr>
          <a:xfrm>
            <a:off x="4800600" y="464832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nixon button"/>
          <p:cNvPicPr/>
          <p:nvPr/>
        </p:nvPicPr>
        <p:blipFill>
          <a:blip r:embed="rId3"/>
          <a:stretch/>
        </p:blipFill>
        <p:spPr>
          <a:xfrm>
            <a:off x="6934320" y="4724280"/>
            <a:ext cx="1828800" cy="1673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elevised Deb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re debate photo"/>
          <p:cNvPicPr/>
          <p:nvPr/>
        </p:nvPicPr>
        <p:blipFill>
          <a:blip r:embed="rId2"/>
          <a:stretch/>
        </p:blipFill>
        <p:spPr>
          <a:xfrm>
            <a:off x="6172200" y="1295280"/>
            <a:ext cx="2560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1960 Debate"/>
          <p:cNvPicPr/>
          <p:nvPr/>
        </p:nvPicPr>
        <p:blipFill>
          <a:blip r:embed="rId3"/>
          <a:stretch/>
        </p:blipFill>
        <p:spPr>
          <a:xfrm>
            <a:off x="5105520" y="426708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Bookman Old Style"/>
              </a:rPr>
              <a:t>JFK and MLK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LK/JFK Poster"/>
          <p:cNvPicPr/>
          <p:nvPr/>
        </p:nvPicPr>
        <p:blipFill>
          <a:blip r:embed="rId1"/>
          <a:stretch/>
        </p:blipFill>
        <p:spPr>
          <a:xfrm>
            <a:off x="5410080" y="1290600"/>
            <a:ext cx="3276720" cy="25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mlkkennedy"/>
          <p:cNvPicPr/>
          <p:nvPr/>
        </p:nvPicPr>
        <p:blipFill>
          <a:blip r:embed="rId2"/>
          <a:stretch/>
        </p:blipFill>
        <p:spPr>
          <a:xfrm>
            <a:off x="5334120" y="4038480"/>
            <a:ext cx="3429000" cy="26607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Franklin Gothic Medium"/>
              </a:rPr>
              <a:t>Election results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oral"/>
          <p:cNvPicPr/>
          <p:nvPr/>
        </p:nvPicPr>
        <p:blipFill>
          <a:blip r:embed="rId1"/>
          <a:stretch/>
        </p:blipFill>
        <p:spPr>
          <a:xfrm>
            <a:off x="5943600" y="990720"/>
            <a:ext cx="302112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opular"/>
          <p:cNvPicPr/>
          <p:nvPr/>
        </p:nvPicPr>
        <p:blipFill>
          <a:blip r:embed="rId2"/>
          <a:stretch/>
        </p:blipFill>
        <p:spPr>
          <a:xfrm>
            <a:off x="457200" y="1447920"/>
            <a:ext cx="4191120" cy="416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results"/>
          <p:cNvPicPr/>
          <p:nvPr/>
        </p:nvPicPr>
        <p:blipFill>
          <a:blip r:embed="rId3"/>
          <a:stretch/>
        </p:blipFill>
        <p:spPr>
          <a:xfrm>
            <a:off x="2971800" y="5051520"/>
            <a:ext cx="6172200" cy="1806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Kennedy’s Inaugural Addres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nedy said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"We shall pay any price, bear any burden, meet any hardship, support any friend, oppose any foe, to assure the survival and success of libert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nauguarl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376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495680" y="5334120"/>
            <a:ext cx="335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3:42:44Z</dcterms:created>
  <dc:creator>dgreenberg</dc:creator>
  <dc:description/>
  <dc:language>en-US</dc:language>
  <cp:lastModifiedBy>Legion</cp:lastModifiedBy>
  <dcterms:modified xsi:type="dcterms:W3CDTF">2017-07-05T12:41:30Z</dcterms:modified>
  <cp:revision>39</cp:revision>
  <dc:subject/>
  <dc:title>The Presidential Election</dc:title>
</cp:coreProperties>
</file>