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hail%20to%20the%20chief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57EB-BC32-44FB-9A01-6FC83862D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idat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) Richard M.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 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Profiles in Courage 1957 – wins Pulitzer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ce for the offi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ed Deb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FK and ML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result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’s Inaugural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nnedy said, "We shall pay any price, bear any burden, meet any hardship, support any friend, oppose any foe, to assure the survival and success of libert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C81-F9DD-4CAB-907C-A49A246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F5A-F971-44B6-8CD3-0505DDDA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BC1-6F15-426D-B04C-6D8827FE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5E3-50C3-40B5-853E-C27118FE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DA3-633A-400B-A018-0B74145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932-C0BE-404E-B6CD-8F66D677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B8B-A8B6-4BDA-825B-70A6CF1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B4E-32D5-41BB-8B01-87ED3B8A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BC7-CD9D-4E8F-B1C2-5B5E0309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23D-2323-4670-990F-58C2C9B7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69A-8B20-41FB-96E4-DE4E3E3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40E-4DD3-4728-A9A1-FED5A61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4E10-8937-4214-8A5F-802A3177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hail%20to%20the%20chie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Felix Titling"/>
              </a:rPr>
              <a:t>The Presidential El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Felix Titling"/>
              </a:rPr>
              <a:t>of 19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3" descr="JFKbutton"/>
          <p:cNvPicPr/>
          <p:nvPr/>
        </p:nvPicPr>
        <p:blipFill>
          <a:blip r:embed="rId1"/>
          <a:stretch/>
        </p:blipFill>
        <p:spPr>
          <a:xfrm>
            <a:off x="0" y="4767120"/>
            <a:ext cx="2133720" cy="209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nixon button"/>
          <p:cNvPicPr/>
          <p:nvPr/>
        </p:nvPicPr>
        <p:blipFill>
          <a:blip r:embed="rId2"/>
          <a:stretch/>
        </p:blipFill>
        <p:spPr>
          <a:xfrm>
            <a:off x="6858000" y="476712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eal-presidential-color"/>
          <p:cNvPicPr/>
          <p:nvPr/>
        </p:nvPicPr>
        <p:blipFill>
          <a:blip r:embed="rId3"/>
          <a:stretch/>
        </p:blipFill>
        <p:spPr>
          <a:xfrm>
            <a:off x="0" y="0"/>
            <a:ext cx="174132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6" descr="seal-presidential-color"/>
          <p:cNvPicPr/>
          <p:nvPr/>
        </p:nvPicPr>
        <p:blipFill>
          <a:blip r:embed="rId4"/>
          <a:stretch/>
        </p:blipFill>
        <p:spPr>
          <a:xfrm>
            <a:off x="7402680" y="0"/>
            <a:ext cx="17413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Felix Titling"/>
              </a:rPr>
              <a:t>Links to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a 4 minute clip of the debate between Kennedy and N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view JFK’s entire Inauguration and Inaugura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380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The Candidates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ixon Time"/>
          <p:cNvPicPr/>
          <p:nvPr/>
        </p:nvPicPr>
        <p:blipFill>
          <a:blip r:embed="rId1"/>
          <a:stretch/>
        </p:blipFill>
        <p:spPr>
          <a:xfrm>
            <a:off x="533520" y="1371600"/>
            <a:ext cx="35845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en poster"/>
          <p:cNvPicPr/>
          <p:nvPr/>
        </p:nvPicPr>
        <p:blipFill>
          <a:blip r:embed="rId2"/>
          <a:stretch/>
        </p:blipFill>
        <p:spPr>
          <a:xfrm>
            <a:off x="5257800" y="1447920"/>
            <a:ext cx="332424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304920" y="624852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R) Richard M. Nix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876920" y="6248520"/>
            <a:ext cx="40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D) John F. Kenned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Felix Titling"/>
              </a:rPr>
              <a:t>Background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chard N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1913 in Yorba Lind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tier College and Duke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Commander in US Navy during WW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President under Ike for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John Kenn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n in Brookline, Massachusetts in 1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v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t. in US Navy; Pt109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ed to House in 1946, Senate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file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7 – wins Pulitzer P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he race for the offic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men were young, military veterans, lawyers, had political experience and similar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many historians believe there were (2) important factors that decided the race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both shaking hands"/>
          <p:cNvPicPr/>
          <p:nvPr/>
        </p:nvPicPr>
        <p:blipFill>
          <a:blip r:embed="rId1"/>
          <a:stretch/>
        </p:blipFill>
        <p:spPr>
          <a:xfrm>
            <a:off x="4952880" y="1523880"/>
            <a:ext cx="367668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jfk_next_pres_button"/>
          <p:cNvPicPr/>
          <p:nvPr/>
        </p:nvPicPr>
        <p:blipFill>
          <a:blip r:embed="rId2"/>
          <a:stretch/>
        </p:blipFill>
        <p:spPr>
          <a:xfrm>
            <a:off x="4800600" y="464832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ixon button"/>
          <p:cNvPicPr/>
          <p:nvPr/>
        </p:nvPicPr>
        <p:blipFill>
          <a:blip r:embed="rId3"/>
          <a:stretch/>
        </p:blipFill>
        <p:spPr>
          <a:xfrm>
            <a:off x="6934320" y="4724280"/>
            <a:ext cx="1828800" cy="1673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Televised Deb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televised debates in his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million viewers tuned in, more on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st debate, the telegenic Kennedy won the image battle over Nixon who, recovering from the flu, appeared pale and refused make-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re debate photo"/>
          <p:cNvPicPr/>
          <p:nvPr/>
        </p:nvPicPr>
        <p:blipFill>
          <a:blip r:embed="rId2"/>
          <a:stretch/>
        </p:blipFill>
        <p:spPr>
          <a:xfrm>
            <a:off x="6172200" y="1295280"/>
            <a:ext cx="25606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960 Debate"/>
          <p:cNvPicPr/>
          <p:nvPr/>
        </p:nvPicPr>
        <p:blipFill>
          <a:blip r:embed="rId3"/>
          <a:stretch/>
        </p:blipFill>
        <p:spPr>
          <a:xfrm>
            <a:off x="5105520" y="426708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JFK and MLK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verend Martin Luther King was arrested in Atlanta, Kennedy called to offer his sympat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garnered Kennedy substantial African-American support in the 1960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LK/JFK Poster"/>
          <p:cNvPicPr/>
          <p:nvPr/>
        </p:nvPicPr>
        <p:blipFill>
          <a:blip r:embed="rId1"/>
          <a:stretch/>
        </p:blipFill>
        <p:spPr>
          <a:xfrm>
            <a:off x="5410080" y="1290600"/>
            <a:ext cx="3276720" cy="25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lkkennedy"/>
          <p:cNvPicPr/>
          <p:nvPr/>
        </p:nvPicPr>
        <p:blipFill>
          <a:blip r:embed="rId2"/>
          <a:stretch/>
        </p:blipFill>
        <p:spPr>
          <a:xfrm>
            <a:off x="5334120" y="4038480"/>
            <a:ext cx="3429000" cy="26607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Franklin Gothic Medium"/>
              </a:rPr>
              <a:t>Election results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oral"/>
          <p:cNvPicPr/>
          <p:nvPr/>
        </p:nvPicPr>
        <p:blipFill>
          <a:blip r:embed="rId1"/>
          <a:stretch/>
        </p:blipFill>
        <p:spPr>
          <a:xfrm>
            <a:off x="5943600" y="990720"/>
            <a:ext cx="302112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opular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6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results"/>
          <p:cNvPicPr/>
          <p:nvPr/>
        </p:nvPicPr>
        <p:blipFill>
          <a:blip r:embed="rId3"/>
          <a:stretch/>
        </p:blipFill>
        <p:spPr>
          <a:xfrm>
            <a:off x="2971800" y="5051520"/>
            <a:ext cx="6172200" cy="1806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Kennedy’s Inaugural Addres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John F. Kennedy delivers his inaugural address at Capitol Hill in Jan. 20, 196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said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"We shall pay any price, bear any burden, meet any hardship, support any friend, oppose any foe, to assure the survival and success of libert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nauguarl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76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4495680" y="53341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42:44Z</dcterms:created>
  <dc:creator>dgreenberg</dc:creator>
  <dc:description/>
  <dc:language>en-US</dc:language>
  <cp:lastModifiedBy>Legion</cp:lastModifiedBy>
  <dcterms:modified xsi:type="dcterms:W3CDTF">2017-07-05T12:41:30Z</dcterms:modified>
  <cp:revision>39</cp:revision>
  <dc:subject/>
  <dc:title>The Presidential Election</dc:title>
</cp:coreProperties>
</file>