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A752-248C-482D-A76E-3DB45CAC8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F79-1521-4A0F-BC8A-D9D4A2DB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F87-D26B-469C-8EAB-EA23A27F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263-595C-4B02-8074-B19F06A4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4D8-63D5-4577-B7AE-25F7549E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68F-C005-4A63-85EA-B39F4415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5FF-E326-41DF-B145-1764AB1F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D033-2DDC-494C-9668-314B0BF6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2F0-8DF6-471A-BD06-8C7663FE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0DA-3ACC-45DC-96F7-36675CF5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D42-D2B2-4FBB-8EF9-7737BE6D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AE3-FE07-49D3-8C40-807ABB6A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76A-7A0B-4E21-857E-5E004C81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b2b2b2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C10D-8DF1-4F99-8E26-41DBDC2B8EEF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11C2-8C8F-48B4-AE61-79D66F07DC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23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Relative mass formula, atomic mass, and empirical formula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04920" y="762120"/>
            <a:ext cx="8610480" cy="64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What volume of hydrogen is produced when 18g of water is electrolyse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0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Marble chips are made of calcium carbonate (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).  What volume of carbon dioxide will be released when 500g of 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is reacted with dilute hydrochloric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2HCl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   Ca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O + 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In your coursework you reacted magnesium with hydrochloric acid.  What volume of hydrogen would be produced if you reacted 1g of magnesium with excess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Mg + 2HCl                     Mg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962520" y="167652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886200" y="411480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4114800" y="655308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mpirical formula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620640"/>
            <a:ext cx="9144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Empirical formulae is simply a way of showing how many atoms are in a molecule (like a chemical formula).  For example, CaO, CaC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, H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0 and KMn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4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 are all empirical formulae.  Here’s how to work them out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692360" y="1844640"/>
            <a:ext cx="5790960" cy="11674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A classic exam question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ind the simplest formula of 2.24g of iron reacting with 0.96g of oxyge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28600" y="3260880"/>
            <a:ext cx="8686800" cy="36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ff66"/>
                </a:solidFill>
                <a:latin typeface="Comic Sans MS"/>
              </a:rPr>
              <a:t>Step 1: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Divide both masses by the relative atomic mas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iron 2.24/56 = 0.04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oxygen 0.96/16 = 0.0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cc"/>
                </a:solidFill>
                <a:latin typeface="Comic Sans MS"/>
              </a:rPr>
              <a:t>Step 2:</a:t>
            </a:r>
            <a:r>
              <a:rPr b="0" lang="en-GB" sz="2000" spc="-1" strike="noStrike">
                <a:solidFill>
                  <a:srgbClr val="ffcccc"/>
                </a:solidFill>
                <a:latin typeface="Comic Sans MS"/>
              </a:rPr>
              <a:t> Write this as a ratio and simplify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cc"/>
                </a:solidFill>
                <a:latin typeface="Comic Sans MS"/>
              </a:rPr>
              <a:t>0.04:0.06 is equivalent to 2: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Comic Sans MS"/>
              </a:rPr>
              <a:t>Step 3: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Write the formula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2 iron atoms for 3 oxygen atoms means the formula is 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Fe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2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O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" y="1219320"/>
            <a:ext cx="868680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magnesium oxide which contains 48g of magnesium and 32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nd the empirical formula of a compound that contains 42g of nitrogen and 9g of hydro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a compound containing 20g of calcium, 6g of carbon and 24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Relative formula mass, M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9144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The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relative formula mass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of a compound is blatantly the relative atomic masses of all the elements in the compound added toget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2209680" y="2057400"/>
            <a:ext cx="1409760" cy="1066320"/>
            <a:chOff x="2209680" y="2057400"/>
            <a:chExt cx="1409760" cy="1066320"/>
          </a:xfrm>
        </p:grpSpPr>
        <p:sp>
          <p:nvSpPr>
            <p:cNvPr id="52" name="Line 5"/>
            <p:cNvSpPr/>
            <p:nvPr/>
          </p:nvSpPr>
          <p:spPr>
            <a:xfrm>
              <a:off x="2990520" y="2514240"/>
              <a:ext cx="438120" cy="419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Line 6"/>
            <p:cNvSpPr/>
            <p:nvPr/>
          </p:nvSpPr>
          <p:spPr>
            <a:xfrm flipV="1">
              <a:off x="2361960" y="2476080"/>
              <a:ext cx="399960" cy="45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238200" y="2742840"/>
              <a:ext cx="3812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209680" y="2705040"/>
              <a:ext cx="380880" cy="380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2571480" y="2057400"/>
              <a:ext cx="666720" cy="6667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380880" y="198108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.g. water 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04920" y="3429000"/>
            <a:ext cx="8534160" cy="4406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Therefore M</a:t>
            </a:r>
            <a:r>
              <a:rPr b="1" i="1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 for water = 16 + (2x1) = 1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4114800"/>
            <a:ext cx="861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Work out M</a:t>
            </a:r>
            <a:r>
              <a:rPr b="1" i="1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 for the following compound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304920" y="4632480"/>
            <a:ext cx="4419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2209680" y="4632480"/>
            <a:ext cx="64771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=1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3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=23, O=16, H=1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=24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24+(2x35) = 9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=1, S=32, O=16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(2x1)+32+(4x16) = 9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=39, C=12, O=16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(2x39)+12+(3x16) = 13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" name="Group 30"/>
          <p:cNvGrpSpPr/>
          <p:nvPr/>
        </p:nvGrpSpPr>
        <p:grpSpPr>
          <a:xfrm>
            <a:off x="3352320" y="1828800"/>
            <a:ext cx="5486760" cy="398880"/>
            <a:chOff x="3352320" y="1828800"/>
            <a:chExt cx="5486760" cy="398880"/>
          </a:xfrm>
        </p:grpSpPr>
        <p:sp>
          <p:nvSpPr>
            <p:cNvPr id="63" name="Text Box 11"/>
            <p:cNvSpPr/>
            <p:nvPr/>
          </p:nvSpPr>
          <p:spPr>
            <a:xfrm>
              <a:off x="4191120" y="1828800"/>
              <a:ext cx="4647960" cy="39888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O = 16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H="1">
              <a:off x="3352320" y="2057400"/>
              <a:ext cx="838440" cy="1522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" name="Group 29"/>
          <p:cNvGrpSpPr/>
          <p:nvPr/>
        </p:nvGrpSpPr>
        <p:grpSpPr>
          <a:xfrm>
            <a:off x="3733920" y="2666880"/>
            <a:ext cx="5181480" cy="398880"/>
            <a:chOff x="3733920" y="2666880"/>
            <a:chExt cx="5181480" cy="398880"/>
          </a:xfrm>
        </p:grpSpPr>
        <p:sp>
          <p:nvSpPr>
            <p:cNvPr id="66" name="Text Box 12"/>
            <p:cNvSpPr/>
            <p:nvPr/>
          </p:nvSpPr>
          <p:spPr>
            <a:xfrm>
              <a:off x="4191120" y="2666880"/>
              <a:ext cx="4724280" cy="3988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H = 1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3733920" y="2895480"/>
              <a:ext cx="457200" cy="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More exampl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143000"/>
          <a:ext cx="8382240" cy="5334120"/>
        </p:xfrm>
        <a:graphic>
          <a:graphicData uri="http://schemas.openxmlformats.org/drawingml/2006/table">
            <a:tbl>
              <a:tblPr/>
              <a:tblGrid>
                <a:gridCol w="1981440"/>
                <a:gridCol w="3606840"/>
                <a:gridCol w="2793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aC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40 + 12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1 + 14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M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2 x (24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3 x ((2x1)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N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KM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C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5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Ca(OH)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lative atomic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s of an isotopic element relative to Carbon-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chlorine occurs in isotope forms Cl-35 (75.5%) and Cl-37 (24.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atomic mas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(75.5x35)+(24.5x37))/(75.5+24.5)=3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his: neon-20 (90.9%), neon-21 (0.3%), and neon-22 (8.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alculating percentage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04920" y="838080"/>
            <a:ext cx="853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If you can work out M</a:t>
            </a:r>
            <a:r>
              <a:rPr b="0" i="1" lang="en-GB" sz="2000" spc="-1" strike="noStrike" baseline="-25000">
                <a:solidFill>
                  <a:srgbClr val="ffccff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 then this bit is easy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2438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cc"/>
                </a:solidFill>
                <a:latin typeface="Comic Sans MS"/>
              </a:rPr>
              <a:t>Calculate the percentage mass of magnesium in magnesium oxide, Mg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8600" y="2895480"/>
            <a:ext cx="8686800" cy="140976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= 24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 for oxygen = 1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oxide = 24 + 16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refore percentage mass = 24/40 x 100% = 60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" name="Group 16"/>
          <p:cNvGrpSpPr/>
          <p:nvPr/>
        </p:nvGrpSpPr>
        <p:grpSpPr>
          <a:xfrm>
            <a:off x="304920" y="1371600"/>
            <a:ext cx="8839080" cy="914400"/>
            <a:chOff x="304920" y="1371600"/>
            <a:chExt cx="8839080" cy="914400"/>
          </a:xfrm>
        </p:grpSpPr>
        <p:grpSp>
          <p:nvGrpSpPr>
            <p:cNvPr id="77" name="Group 15"/>
            <p:cNvGrpSpPr/>
            <p:nvPr/>
          </p:nvGrpSpPr>
          <p:grpSpPr>
            <a:xfrm>
              <a:off x="304920" y="1371600"/>
              <a:ext cx="8610480" cy="914400"/>
              <a:chOff x="304920" y="1371600"/>
              <a:chExt cx="8610480" cy="914400"/>
            </a:xfrm>
          </p:grpSpPr>
          <p:sp>
            <p:nvSpPr>
              <p:cNvPr id="78" name="Rectangle 12"/>
              <p:cNvSpPr/>
              <p:nvPr/>
            </p:nvSpPr>
            <p:spPr>
              <a:xfrm>
                <a:off x="304920" y="1371600"/>
                <a:ext cx="8610480" cy="9144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Text Box 6"/>
              <p:cNvSpPr/>
              <p:nvPr/>
            </p:nvSpPr>
            <p:spPr>
              <a:xfrm>
                <a:off x="914400" y="1631880"/>
                <a:ext cx="342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Percentage mass (%) = 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Text Box 7"/>
              <p:cNvSpPr/>
              <p:nvPr/>
            </p:nvSpPr>
            <p:spPr>
              <a:xfrm>
                <a:off x="4876920" y="13716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Mass of element A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Text Box 8"/>
              <p:cNvSpPr/>
              <p:nvPr/>
            </p:nvSpPr>
            <p:spPr>
              <a:xfrm>
                <a:off x="4419720" y="18288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Relative formula mass M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Line 10"/>
              <p:cNvSpPr/>
              <p:nvPr/>
            </p:nvSpPr>
            <p:spPr>
              <a:xfrm>
                <a:off x="4572000" y="1828800"/>
                <a:ext cx="2895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3" name="Text Box 9"/>
            <p:cNvSpPr/>
            <p:nvPr/>
          </p:nvSpPr>
          <p:spPr>
            <a:xfrm>
              <a:off x="7696080" y="16002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Comic Sans MS"/>
                </a:rPr>
                <a:t>x100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4" name="Text Box 17"/>
          <p:cNvSpPr/>
          <p:nvPr/>
        </p:nvSpPr>
        <p:spPr>
          <a:xfrm>
            <a:off x="228600" y="4419720"/>
            <a:ext cx="86868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ccff"/>
                </a:solidFill>
                <a:latin typeface="Comic Sans MS"/>
              </a:rPr>
              <a:t>Calculate the percentage mass of the following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gen in hydrochloric acid, 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Potassium in potassium chloride, K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in calcium chloride, 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xygen in water, H</a:t>
            </a:r>
            <a:r>
              <a:rPr b="0" lang="en-GB" sz="2000" spc="-1" strike="noStrike" baseline="-25000">
                <a:solidFill>
                  <a:srgbClr val="66c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mass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28600" y="9158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cc"/>
                </a:solidFill>
                <a:latin typeface="Comic Sans MS"/>
              </a:rPr>
              <a:t>E.g. what mass of magnesium oxide is produced when 60g of magnesium is burned in air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" name="Group 12"/>
          <p:cNvGrpSpPr/>
          <p:nvPr/>
        </p:nvGrpSpPr>
        <p:grpSpPr>
          <a:xfrm>
            <a:off x="228600" y="2362320"/>
            <a:ext cx="8686800" cy="1368000"/>
            <a:chOff x="228600" y="2362320"/>
            <a:chExt cx="8686800" cy="1368000"/>
          </a:xfrm>
        </p:grpSpPr>
        <p:sp>
          <p:nvSpPr>
            <p:cNvPr id="88" name="Text Box 8"/>
            <p:cNvSpPr/>
            <p:nvPr/>
          </p:nvSpPr>
          <p:spPr>
            <a:xfrm>
              <a:off x="228600" y="2362320"/>
              <a:ext cx="86868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ccff"/>
                  </a:solidFill>
                  <a:latin typeface="Comic Sans MS"/>
                </a:rPr>
                <a:t>Step 1: READ the equatio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2Mg + O</a:t>
              </a:r>
              <a:r>
                <a:rPr b="0" lang="en-GB" sz="20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2Mg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Line 4"/>
            <p:cNvSpPr/>
            <p:nvPr/>
          </p:nvSpPr>
          <p:spPr>
            <a:xfrm>
              <a:off x="4419720" y="304812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0" name="Group 13"/>
          <p:cNvGrpSpPr/>
          <p:nvPr/>
        </p:nvGrpSpPr>
        <p:grpSpPr>
          <a:xfrm>
            <a:off x="4343400" y="1981080"/>
            <a:ext cx="4800600" cy="2057400"/>
            <a:chOff x="4343400" y="1981080"/>
            <a:chExt cx="4800600" cy="2057400"/>
          </a:xfrm>
        </p:grpSpPr>
        <p:sp>
          <p:nvSpPr>
            <p:cNvPr id="91" name="Text Box 5"/>
            <p:cNvSpPr/>
            <p:nvPr/>
          </p:nvSpPr>
          <p:spPr>
            <a:xfrm>
              <a:off x="6781680" y="1981080"/>
              <a:ext cx="2362320" cy="13136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IGNORE the oxygen in step 2 – the question doesn’t ask for it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4343400" y="2095560"/>
              <a:ext cx="2514600" cy="723960"/>
            </a:xfrm>
            <a:custGeom>
              <a:avLst/>
              <a:gdLst/>
              <a:ahLst/>
              <a:rect l="l" t="t" r="r" b="b"/>
              <a:pathLst>
                <a:path w="1584" h="456">
                  <a:moveTo>
                    <a:pt x="1584" y="24"/>
                  </a:moveTo>
                  <a:cubicBezTo>
                    <a:pt x="1380" y="12"/>
                    <a:pt x="1176" y="0"/>
                    <a:pt x="912" y="72"/>
                  </a:cubicBezTo>
                  <a:cubicBezTo>
                    <a:pt x="648" y="144"/>
                    <a:pt x="324" y="300"/>
                    <a:pt x="0" y="456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7238880" y="3200400"/>
              <a:ext cx="1003320" cy="838080"/>
            </a:xfrm>
            <a:custGeom>
              <a:avLst/>
              <a:gdLst/>
              <a:ahLst/>
              <a:rect l="l" t="t" r="r" b="b"/>
              <a:pathLst>
                <a:path w="632" h="528">
                  <a:moveTo>
                    <a:pt x="624" y="0"/>
                  </a:moveTo>
                  <a:cubicBezTo>
                    <a:pt x="628" y="76"/>
                    <a:pt x="632" y="152"/>
                    <a:pt x="528" y="240"/>
                  </a:cubicBezTo>
                  <a:cubicBezTo>
                    <a:pt x="424" y="328"/>
                    <a:pt x="212" y="428"/>
                    <a:pt x="0" y="528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4" name="Text Box 9"/>
          <p:cNvSpPr/>
          <p:nvPr/>
        </p:nvSpPr>
        <p:spPr>
          <a:xfrm>
            <a:off x="228600" y="495288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3: LEARN and APPLY the following 3 point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48g of Mg makes 8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g of Mg makes 80/48 = 1.66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0g of Mg makes 1.66 x 60 = 10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28600" y="3733920"/>
            <a:ext cx="8915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2: WORK OUT the relative formula masses (M</a:t>
            </a:r>
            <a:r>
              <a:rPr b="1" lang="en-GB" sz="2000" spc="-1" strike="noStrike" baseline="-25000">
                <a:solidFill>
                  <a:srgbClr val="ccccff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Mg = 2 x 24 = 48     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2MgO = 2 x (24+16) = 8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76320" y="1268280"/>
            <a:ext cx="89154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Work out 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 = 2 x ((2x1)+16) = 36          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2 = 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36g of water produces 4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1g of water produces 4/36 = 0.11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g of water will produce (4/36) x 6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320" y="4051440"/>
            <a:ext cx="8991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2Ca = 2x40 = 80                                 2CaO = 2 x (40+16) = 11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80g produces 112g so 10g produces (112/80) x 1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4g of Ca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6320" y="6019920"/>
            <a:ext cx="8991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2Al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((2x27)+(3x16)) = 204        4Al = 4x27 = 10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04g produces 108g so 100g produces (108/204) x 10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52.9g of Al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2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O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0" y="0"/>
            <a:ext cx="9144000" cy="1368000"/>
            <a:chOff x="0" y="0"/>
            <a:chExt cx="9144000" cy="1368000"/>
          </a:xfrm>
        </p:grpSpPr>
        <p:sp>
          <p:nvSpPr>
            <p:cNvPr id="100" name="Text Box 3"/>
            <p:cNvSpPr/>
            <p:nvPr/>
          </p:nvSpPr>
          <p:spPr>
            <a:xfrm>
              <a:off x="0" y="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cccc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3809880" y="609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2" name="Group 15"/>
          <p:cNvGrpSpPr/>
          <p:nvPr/>
        </p:nvGrpSpPr>
        <p:grpSpPr>
          <a:xfrm>
            <a:off x="0" y="5181480"/>
            <a:ext cx="9144000" cy="904320"/>
            <a:chOff x="0" y="5181480"/>
            <a:chExt cx="9144000" cy="904320"/>
          </a:xfrm>
        </p:grpSpPr>
        <p:sp>
          <p:nvSpPr>
            <p:cNvPr id="103" name="Text Box 4"/>
            <p:cNvSpPr/>
            <p:nvPr/>
          </p:nvSpPr>
          <p:spPr>
            <a:xfrm>
              <a:off x="0" y="518148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3)  What mass of aluminium is produced from 100g of aluminium oxide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Al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3  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4Al + 3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Line 11"/>
            <p:cNvSpPr/>
            <p:nvPr/>
          </p:nvSpPr>
          <p:spPr>
            <a:xfrm>
              <a:off x="3809880" y="57913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5" name="Group 14"/>
          <p:cNvGrpSpPr/>
          <p:nvPr/>
        </p:nvGrpSpPr>
        <p:grpSpPr>
          <a:xfrm>
            <a:off x="0" y="3213000"/>
            <a:ext cx="9144000" cy="904320"/>
            <a:chOff x="0" y="3213000"/>
            <a:chExt cx="9144000" cy="904320"/>
          </a:xfrm>
        </p:grpSpPr>
        <p:sp>
          <p:nvSpPr>
            <p:cNvPr id="106" name="Text Box 5"/>
            <p:cNvSpPr/>
            <p:nvPr/>
          </p:nvSpPr>
          <p:spPr>
            <a:xfrm>
              <a:off x="0" y="321300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2)  What mass of calcium oxide is produced when 10g of calcium burns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Ca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   2Ca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4267080" y="3822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1"/>
          <p:cNvGrpSpPr/>
          <p:nvPr/>
        </p:nvGrpSpPr>
        <p:grpSpPr>
          <a:xfrm>
            <a:off x="228600" y="4343400"/>
            <a:ext cx="8686800" cy="1066680"/>
            <a:chOff x="228600" y="4343400"/>
            <a:chExt cx="8686800" cy="1066680"/>
          </a:xfrm>
        </p:grpSpPr>
        <p:grpSp>
          <p:nvGrpSpPr>
            <p:cNvPr id="109" name="Group 30"/>
            <p:cNvGrpSpPr/>
            <p:nvPr/>
          </p:nvGrpSpPr>
          <p:grpSpPr>
            <a:xfrm>
              <a:off x="228600" y="4343400"/>
              <a:ext cx="8686800" cy="1066680"/>
              <a:chOff x="228600" y="4343400"/>
              <a:chExt cx="8686800" cy="1066680"/>
            </a:xfrm>
          </p:grpSpPr>
          <p:sp>
            <p:nvSpPr>
              <p:cNvPr id="110" name="Rectangle 28"/>
              <p:cNvSpPr/>
              <p:nvPr/>
            </p:nvSpPr>
            <p:spPr>
              <a:xfrm>
                <a:off x="228600" y="4343400"/>
                <a:ext cx="8686800" cy="1066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>
                <a:off x="685800" y="487692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>
                <a:off x="6248520" y="4876920"/>
                <a:ext cx="1981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13" name="Group 23"/>
            <p:cNvGrpSpPr/>
            <p:nvPr/>
          </p:nvGrpSpPr>
          <p:grpSpPr>
            <a:xfrm>
              <a:off x="5562720" y="4724280"/>
              <a:ext cx="380880" cy="152280"/>
              <a:chOff x="5562720" y="4724280"/>
              <a:chExt cx="380880" cy="152280"/>
            </a:xfrm>
          </p:grpSpPr>
          <p:sp>
            <p:nvSpPr>
              <p:cNvPr id="114" name="Line 24"/>
              <p:cNvSpPr/>
              <p:nvPr/>
            </p:nvSpPr>
            <p:spPr>
              <a:xfrm>
                <a:off x="5562720" y="472428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Line 25"/>
              <p:cNvSpPr/>
              <p:nvPr/>
            </p:nvSpPr>
            <p:spPr>
              <a:xfrm>
                <a:off x="5562720" y="487656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nother metho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y using this equa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8" name="Group 29"/>
          <p:cNvGrpSpPr/>
          <p:nvPr/>
        </p:nvGrpSpPr>
        <p:grpSpPr>
          <a:xfrm>
            <a:off x="228600" y="1371600"/>
            <a:ext cx="8686800" cy="1066680"/>
            <a:chOff x="228600" y="1371600"/>
            <a:chExt cx="8686800" cy="1066680"/>
          </a:xfrm>
        </p:grpSpPr>
        <p:sp>
          <p:nvSpPr>
            <p:cNvPr id="119" name="Rectangle 27"/>
            <p:cNvSpPr/>
            <p:nvPr/>
          </p:nvSpPr>
          <p:spPr>
            <a:xfrm>
              <a:off x="228600" y="1371600"/>
              <a:ext cx="8686800" cy="1066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Text Box 4"/>
            <p:cNvSpPr/>
            <p:nvPr/>
          </p:nvSpPr>
          <p:spPr>
            <a:xfrm>
              <a:off x="457200" y="144792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produc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Text Box 5"/>
            <p:cNvSpPr/>
            <p:nvPr/>
          </p:nvSpPr>
          <p:spPr>
            <a:xfrm>
              <a:off x="457200" y="19051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reactan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Text Box 6"/>
            <p:cNvSpPr/>
            <p:nvPr/>
          </p:nvSpPr>
          <p:spPr>
            <a:xfrm>
              <a:off x="6019920" y="14479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produc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Text Box 7"/>
            <p:cNvSpPr/>
            <p:nvPr/>
          </p:nvSpPr>
          <p:spPr>
            <a:xfrm>
              <a:off x="6019920" y="19051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reactan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533520" y="1905120"/>
              <a:ext cx="457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6095880" y="1905120"/>
              <a:ext cx="1981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6" name="Group 12"/>
            <p:cNvGrpSpPr/>
            <p:nvPr/>
          </p:nvGrpSpPr>
          <p:grpSpPr>
            <a:xfrm>
              <a:off x="5410080" y="1752480"/>
              <a:ext cx="381240" cy="152280"/>
              <a:chOff x="5410080" y="1752480"/>
              <a:chExt cx="381240" cy="152280"/>
            </a:xfrm>
          </p:grpSpPr>
          <p:sp>
            <p:nvSpPr>
              <p:cNvPr id="127" name="Line 10"/>
              <p:cNvSpPr/>
              <p:nvPr/>
            </p:nvSpPr>
            <p:spPr>
              <a:xfrm>
                <a:off x="5410080" y="175248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Line 11"/>
              <p:cNvSpPr/>
              <p:nvPr/>
            </p:nvSpPr>
            <p:spPr>
              <a:xfrm>
                <a:off x="5410080" y="190476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29" name="Group 13"/>
          <p:cNvGrpSpPr/>
          <p:nvPr/>
        </p:nvGrpSpPr>
        <p:grpSpPr>
          <a:xfrm>
            <a:off x="0" y="2819520"/>
            <a:ext cx="9144000" cy="1368000"/>
            <a:chOff x="0" y="2819520"/>
            <a:chExt cx="9144000" cy="1368000"/>
          </a:xfrm>
        </p:grpSpPr>
        <p:sp>
          <p:nvSpPr>
            <p:cNvPr id="130" name="Text Box 14"/>
            <p:cNvSpPr/>
            <p:nvPr/>
          </p:nvSpPr>
          <p:spPr>
            <a:xfrm>
              <a:off x="0" y="28195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3809880" y="342900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2" name="Text Box 17"/>
          <p:cNvSpPr/>
          <p:nvPr/>
        </p:nvSpPr>
        <p:spPr>
          <a:xfrm>
            <a:off x="609480" y="44197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ss of product IN GRAMM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09480" y="4876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6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617220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617220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457200" y="5791320"/>
            <a:ext cx="8153280" cy="459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 mass of product = (4/36) x 6g =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volume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914400"/>
            <a:ext cx="8382240" cy="745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t normal temperature and pressure the Relative Formula Mass (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of a gas will occupy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4920" y="1752480"/>
            <a:ext cx="861048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e.g. 2g of H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32g of 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44g of C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et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0" y="3276720"/>
            <a:ext cx="9144000" cy="1368000"/>
            <a:chOff x="0" y="3276720"/>
            <a:chExt cx="9144000" cy="1368000"/>
          </a:xfrm>
        </p:grpSpPr>
        <p:sp>
          <p:nvSpPr>
            <p:cNvPr id="141" name="Text Box 7"/>
            <p:cNvSpPr/>
            <p:nvPr/>
          </p:nvSpPr>
          <p:spPr>
            <a:xfrm>
              <a:off x="0" y="32767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VOLUME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809880" y="39625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3" name="Text Box 9"/>
          <p:cNvSpPr/>
          <p:nvPr/>
        </p:nvSpPr>
        <p:spPr>
          <a:xfrm>
            <a:off x="0" y="4876920"/>
            <a:ext cx="914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n the previous page we said that the MASS of hydrogen produced was 0.66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g of hydrogen (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will occupy 24 litres (from the red box above)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0.66g will occupy 0.66/2 x 24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8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7:00:03Z</dcterms:created>
  <dc:creator>W Richards</dc:creator>
  <dc:description/>
  <dc:language>en-US</dc:language>
  <cp:lastModifiedBy>LEGION</cp:lastModifiedBy>
  <dcterms:modified xsi:type="dcterms:W3CDTF">2015-09-07T08:20:49Z</dcterms:modified>
  <cp:revision>185</cp:revision>
  <dc:subject/>
  <dc:title>Relative mass formula atomic mass and empirical formula</dc:title>
</cp:coreProperties>
</file>