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47D9-B392-4476-9DCE-8285B6682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mass formula, atomic mass, and empirical formul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mass formula, atomic mass, and empirical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olume of hydrogen is produced when 18g of water is electrolyse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H2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2H2 + 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ble chips are made of calcium carbonate (CaCO3).  What volume of carbon dioxide will be released when 500g of CaCO3 is reacted with dilute hydrochloric aci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 + 2H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CaCl2 + H2O + C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your coursework you reacted magnesium with hydrochloric acid.  What volume of hydrogen would be produced if you reacted 1g of magnesium with excess aci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2HCl                     MgCl2 + H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olume of hydrogen is produced when 18g of water is electroly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H2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2H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ble chips are made of calcium carbonate (CaCO3).  What volume of carbon dioxide will be released when 500g of CaCO3 is reacted with dilute hydrochloric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 + 2H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CaCl2 + H2O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your coursework you reacted magnesium with hydrochloric acid.  What volume of hydrogen would be produced if you reacted 1g of magnesium with excess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2HCl                    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 is simply a way of showing how many atoms are in a molecule (like a chemical formula).  For example, CaO, CaCO3, H20 and KMnO4 are all empirical formulae.  Here’s how to work them out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ssic exam question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implest formula of 2.24g of iron reacting with 0.96g of oxy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vide both masses by the relative atomic mas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iron 2.24/56 = 0.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oxygen 0.96/16 = 0.0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rite this as a ratio and simplify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4:0.06 is equivalent to 2: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Write the formula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iron atoms for 3 oxygen atoms means the formula is Fe2O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 is simply a way of showing how many atoms are in a molecule (like a chemical formula).  For example, CaO, CaCO3, H20 and KMnO4 are all empirical formulae.  Here’s how to work them 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ssic exam 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implest formula of 2.24g of iron reacting with 0.96g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vide both masses by the relative atomic ma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iron 2.24/56 = 0.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oxygen 0.96/16 = 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rite this as a ratio and simplif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4:0.06 is equivalent to 2: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Write the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iron atoms for 3 oxygen atoms means the formula is Fe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magnesium oxide which contains 48g of magnesium and 32g of oxy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that contains 42g of nitrogen and 9g of hydro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containing 20g of calcium, 6g of carbon and 24g of oxy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magnesium oxide which contains 48g of magnesium and 32g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that contains 42g of nitrogen and 9g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containing 20g of calcium, 6g of carbon and 24g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ormula mass, M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formula mass of a compound is blatantly the relative atomic masses of all the elements in the compound added together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ater H2O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Mr for water = 16 + (2x1) = 1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 for the following compound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Cl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2CO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Cl=35 so Mr = 3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=23, O=16, H=1 so Mr = 4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=24, Cl=35 so Mr = 24+(2x35) = 9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S=32, O=16 so Mr = (2x1)+32+(4x16) = 9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=39, C=12, O=16 so Mr = (2x39)+12+(3x16) = 13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ormula mass, M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formula mass of a compound is blatantly the relative atomic masses of all the elements in the compound add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ater H2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Mr for water = 16 + (2x1) =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 for the following compoun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Cl=35 so Mr = 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=23, O=16, H=1 so Mr =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=24, Cl=35 so Mr = 24+(2x35) =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S=32, O=16 so Mr = (2x1)+32+(4x16)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=39, C=12, O=16 so Mr = (2x39)+12+(3x16) = 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of an isotopic element relative to Carbon-12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chlorine occurs in isotope forms Cl-35 (75.5%) and Cl-37 (24.5%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 =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(75.5x35)+(24.5x37))/(75.5+24.5)=35.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: neon-20 (90.9%), neon-21 (0.3%), and neon-22 (8.8%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of an isotopic element relative to Carbon-1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chlorine occurs in isotope forms Cl-35 (75.5%) and Cl-37 (24.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(75.5x35)+(24.5x37))/(75.5+24.5)=3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: neon-20 (90.9%), neon-21 (0.3%), and neon-22 (8.8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percentage ma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can work out Mr then this bit is easy…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magnesium in magnesium oxide, MgO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magnesium = 2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oxygen = 1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for magnesium oxide = 24 + 16 = 4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percentage mass = 24/40 x 100% = 60%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the following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n hydrochloric acid, HC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n potassium chloride, KC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n calcium chloride, CaCl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water, 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percentage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can work out Mr then this bit is easy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magnesium in magnesium oxide, Mg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magnesium = 2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oxygen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for magnesium oxide = 24 + 16 =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percentage mass = 24/40 x 100% = 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n hydrochloric acid, 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n potassium chloride, K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n calcium chloride, Ca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water,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mass of a produc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hat mass of magnesium oxide is produced when 60g of magnesium is burned in air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EARN and APPLY the following 3 point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g of Mg makes 80g of M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g of Mg makes 80/48 = 1.66g of M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g of Mg makes 1.66 x 60 = 100g of M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ORK OUT the relative formula masses (Mr)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= 2 x 24 = 48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MgO = 2 x (24+16) = 8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mass of a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hat mass of magnesium oxide is produced when 60g of magnesium is burned in ai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EARN and APPLY the following 3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g of Mg makes 80g of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g of Mg makes 80/48 = 1.66g of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g of Mg makes 1.66 x 60 = 100g of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ORK OUT the relative formula masses (Mr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= 2 x 24 = 48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MgO = 2 x (24+16)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:    2H2O = 2 x ((2x1)+16) = 36              2H2 = 2x2 = 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g of water produces 4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1g of water produces 4/36 = 0.11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 of water will produce (4/36) x 6 = 0.66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2Ca = 2x40 = 80                                 2CaO = 2 x (40+16) = 11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g produces 112g so 10g produces (112/80) x 10 = 14g of Ca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 2Al2O3 = 2x((2x27)+(3x16)) = 204        4Al = 4x27 = 10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4g produces 108g so 100g produces (108/204) x 100 = 52.9g of Al2O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:    2H2O = 2 x ((2x1)+16) = 36              2H2 = 2x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g of water produces 4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1g of water produces 4/36 = 0.11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 of water will produce (4/36) x 6 = 0.66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2Ca = 2x40 = 80                                 2CaO = 2 x (40+16) = 1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g produces 112g so 10g produces (112/80) x 10 = 14g of C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 2Al2O3 = 2x((2x27)+(3x16)) = 204        4Al = 4x27 = 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4g produces 108g so 100g produces (108/204) x 100 = 52.9g of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metho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using this equation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roduct IN GRAMM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mass of product = (4/36) x 6g = 0.66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using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roduct IN GRAM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mass of product = (4/36) x 6g = 0.66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volume of a produc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ormal temperature and pressure the Relative Formula Mass (Mr) of a gas will occupy a volume of 24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2g of H2 has a volume of 24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g of O2 has a volume of 24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g of CO2 has a volume of 24 litres et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previous page we said that the MASS of hydrogen produced was 0.66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g of hydrogen (H2) will occupy 24 litres (from the red box above)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0.66g will occupy 0.66/2 x 24 = 8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volume of a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ormal temperature and pressure the Relative Formula Mass (Mr) of a gas will occupy a volume of 24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2g of H2 has a volume of 24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g of O2 has a volume of 24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g of CO2 has a volume of 24 litres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previous page we said that the MASS of hydrogen produced was 0.66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g of hydrogen (H2) will occupy 24 litres (from the red box above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0.66g will occupy 0.66/2 x 24 = 8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05C3-9E71-495D-950F-0A9F7A47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4F89-C74C-466B-B926-59FBC1BA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6B03-8B6A-4AFC-B869-C3CC6B7B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313D-6CCF-43D3-BEEF-31E7FD4A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4232-2EB2-4347-B53C-0C578682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8168-1B90-4C3E-AB31-69584806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9936-E9E3-4CCA-A0BB-4613CB04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17B8-3255-46FC-95D6-DE17E31C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B0AB-6C3F-4EF6-95C8-4CD17AD0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7F7E-FD73-49EC-98EB-56EDDD90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714A-8BA7-43EC-9222-598701C2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5513-9D9C-4787-A398-8201EA5D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b2b2b2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F539-8FF4-41A9-B603-5348AC7D4352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9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3BC3-82F2-41D8-9070-5CBC178A79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23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Relative mass formula, atomic mass, and empirical formula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xample question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04920" y="762120"/>
            <a:ext cx="8610480" cy="64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What volume of hydrogen is produced when 18g of water is electrolyse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2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0 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        2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O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Marble chips are made of calcium carbonate (CaCO</a:t>
            </a:r>
            <a:r>
              <a:rPr b="0" lang="en-GB" sz="2000" spc="-1" strike="noStrike" baseline="-25000">
                <a:solidFill>
                  <a:srgbClr val="99ff66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).  What volume of carbon dioxide will be released when 500g of CaCO</a:t>
            </a:r>
            <a:r>
              <a:rPr b="0" lang="en-GB" sz="2000" spc="-1" strike="noStrike" baseline="-25000">
                <a:solidFill>
                  <a:srgbClr val="99ff66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 is reacted with dilute hydrochloric aci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CaCO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2HCl 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           CaCl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O + CO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In your coursework you reacted magnesium with hydrochloric acid.  What volume of hydrogen would be produced if you reacted 1g of magnesium with excess aci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Mg + 2HCl                     MgCl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3962520" y="1676520"/>
            <a:ext cx="129528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3886200" y="4114800"/>
            <a:ext cx="129528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4114800" y="6553080"/>
            <a:ext cx="129528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mpirical formula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0" y="620640"/>
            <a:ext cx="9144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Empirical formulae is simply a way of showing how many atoms are in a molecule (like a chemical formula).  For example, CaO, CaCO</a:t>
            </a:r>
            <a:r>
              <a:rPr b="0" i="1" lang="en-GB" sz="2000" spc="-1" strike="noStrike" baseline="-25000">
                <a:solidFill>
                  <a:srgbClr val="ccccff"/>
                </a:solidFill>
                <a:latin typeface="Comic Sans MS"/>
              </a:rPr>
              <a:t>3</a:t>
            </a: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, H</a:t>
            </a:r>
            <a:r>
              <a:rPr b="0" i="1" lang="en-GB" sz="2000" spc="-1" strike="noStrike" baseline="-25000">
                <a:solidFill>
                  <a:srgbClr val="ccccff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0 and KMnO</a:t>
            </a:r>
            <a:r>
              <a:rPr b="0" i="1" lang="en-GB" sz="2000" spc="-1" strike="noStrike" baseline="-25000">
                <a:solidFill>
                  <a:srgbClr val="ccccff"/>
                </a:solidFill>
                <a:latin typeface="Comic Sans MS"/>
              </a:rPr>
              <a:t>4</a:t>
            </a: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 are all empirical formulae.  Here’s how to work them out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692360" y="1844640"/>
            <a:ext cx="5790960" cy="11674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A classic exam question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Find the simplest formula of 2.24g of iron reacting with 0.96g of oxygen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28600" y="3260880"/>
            <a:ext cx="8686800" cy="36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ff66"/>
                </a:solidFill>
                <a:latin typeface="Comic Sans MS"/>
              </a:rPr>
              <a:t>Step 1:</a:t>
            </a: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 Divide both masses by the relative atomic mas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For iron 2.24/56 = 0.04</a:t>
            </a: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For oxygen 0.96/16 = 0.0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cc"/>
                </a:solidFill>
                <a:latin typeface="Comic Sans MS"/>
              </a:rPr>
              <a:t>Step 2:</a:t>
            </a:r>
            <a:r>
              <a:rPr b="0" lang="en-GB" sz="2000" spc="-1" strike="noStrike">
                <a:solidFill>
                  <a:srgbClr val="ffcccc"/>
                </a:solidFill>
                <a:latin typeface="Comic Sans MS"/>
              </a:rPr>
              <a:t> Write this as a ratio and simplify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cc"/>
                </a:solidFill>
                <a:latin typeface="Comic Sans MS"/>
              </a:rPr>
              <a:t>0.04:0.06 is equivalent to 2: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Comic Sans MS"/>
              </a:rPr>
              <a:t>Step 3: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Write the formula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Comic Sans MS"/>
              </a:rPr>
              <a:t>2 iron atoms for 3 oxygen atoms means the formula is </a:t>
            </a:r>
            <a:r>
              <a:rPr b="0" i="1" lang="en-GB" sz="2000" spc="-1" strike="noStrike" u="sng">
                <a:solidFill>
                  <a:srgbClr val="ffff66"/>
                </a:solidFill>
                <a:uFillTx/>
                <a:latin typeface="Comic Sans MS"/>
              </a:rPr>
              <a:t>Fe</a:t>
            </a:r>
            <a:r>
              <a:rPr b="0" i="1" lang="en-GB" sz="2000" spc="-1" strike="noStrike" u="sng" baseline="-25000">
                <a:solidFill>
                  <a:srgbClr val="ffff66"/>
                </a:solidFill>
                <a:uFillTx/>
                <a:latin typeface="Comic Sans MS"/>
              </a:rPr>
              <a:t>2</a:t>
            </a:r>
            <a:r>
              <a:rPr b="0" i="1" lang="en-GB" sz="2000" spc="-1" strike="noStrike" u="sng">
                <a:solidFill>
                  <a:srgbClr val="ffff66"/>
                </a:solidFill>
                <a:uFillTx/>
                <a:latin typeface="Comic Sans MS"/>
              </a:rPr>
              <a:t>O</a:t>
            </a:r>
            <a:r>
              <a:rPr b="0" i="1" lang="en-GB" sz="2000" spc="-1" strike="noStrike" u="sng" baseline="-25000">
                <a:solidFill>
                  <a:srgbClr val="ffff66"/>
                </a:solidFill>
                <a:uFillTx/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xample question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28600" y="1219320"/>
            <a:ext cx="868680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66"/>
                </a:solidFill>
                <a:latin typeface="Comic Sans MS"/>
              </a:rPr>
              <a:t>Find the empirical formula of magnesium oxide which contains 48g of magnesium and 32g of oxyg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ind the empirical formula of a compound that contains 42g of nitrogen and 9g of hydrog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66"/>
                </a:solidFill>
                <a:latin typeface="Comic Sans MS"/>
              </a:rPr>
              <a:t>Find the empirical formula of a compound containing 20g of calcium, 6g of carbon and 24g of oxyg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Relative formula mass, M</a:t>
            </a:r>
            <a:r>
              <a:rPr b="1" lang="en-GB" sz="44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04920" y="9144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The </a:t>
            </a:r>
            <a:r>
              <a:rPr b="0" i="1" lang="en-GB" sz="2000" spc="-1" strike="noStrike">
                <a:solidFill>
                  <a:srgbClr val="ffff66"/>
                </a:solidFill>
                <a:latin typeface="Comic Sans MS"/>
              </a:rPr>
              <a:t>relative formula mass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of a compound is blatantly the relative atomic masses of all the elements in the compound added together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2209680" y="2057400"/>
            <a:ext cx="1409760" cy="1066320"/>
            <a:chOff x="2209680" y="2057400"/>
            <a:chExt cx="1409760" cy="1066320"/>
          </a:xfrm>
        </p:grpSpPr>
        <p:sp>
          <p:nvSpPr>
            <p:cNvPr id="52" name="Line 5"/>
            <p:cNvSpPr/>
            <p:nvPr/>
          </p:nvSpPr>
          <p:spPr>
            <a:xfrm>
              <a:off x="2990520" y="2514240"/>
              <a:ext cx="438120" cy="419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Line 6"/>
            <p:cNvSpPr/>
            <p:nvPr/>
          </p:nvSpPr>
          <p:spPr>
            <a:xfrm flipV="1">
              <a:off x="2361960" y="2476080"/>
              <a:ext cx="399960" cy="456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238200" y="2742840"/>
              <a:ext cx="38124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209680" y="2705040"/>
              <a:ext cx="380880" cy="3805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2571480" y="2057400"/>
              <a:ext cx="666720" cy="66672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7" name="Text Box 10"/>
          <p:cNvSpPr/>
          <p:nvPr/>
        </p:nvSpPr>
        <p:spPr>
          <a:xfrm>
            <a:off x="380880" y="1981080"/>
            <a:ext cx="213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E.g. water H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04920" y="3429000"/>
            <a:ext cx="8534160" cy="4406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Therefore M</a:t>
            </a:r>
            <a:r>
              <a:rPr b="1" i="1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 for water = 16 + (2x1) = 1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304920" y="4114800"/>
            <a:ext cx="8610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6ff99"/>
                </a:solidFill>
                <a:latin typeface="Comic Sans MS"/>
              </a:rPr>
              <a:t>Work out M</a:t>
            </a:r>
            <a:r>
              <a:rPr b="1" i="1" lang="en-GB" sz="2000" spc="-1" strike="noStrike" baseline="-25000">
                <a:solidFill>
                  <a:srgbClr val="66ff99"/>
                </a:solidFill>
                <a:latin typeface="Comic Sans MS"/>
              </a:rPr>
              <a:t>r</a:t>
            </a:r>
            <a:r>
              <a:rPr b="1" i="1" lang="en-GB" sz="2000" spc="-1" strike="noStrike">
                <a:solidFill>
                  <a:srgbClr val="66ff99"/>
                </a:solidFill>
                <a:latin typeface="Comic Sans MS"/>
              </a:rPr>
              <a:t> for the following compound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304920" y="4632480"/>
            <a:ext cx="4419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ff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NaOH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g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ff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SO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2209680" y="4632480"/>
            <a:ext cx="64771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=1, Cl=35 so 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3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Na=23, O=16, H=1 so M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 = 4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g=24, Cl=35 so 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24+(2x35) = 9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H=1, S=32, O=16 so M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 = (2x1)+32+(4x16) = 9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K=39, C=12, O=16 so 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(2x39)+12+(3x16) = 13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" name="Group 30"/>
          <p:cNvGrpSpPr/>
          <p:nvPr/>
        </p:nvGrpSpPr>
        <p:grpSpPr>
          <a:xfrm>
            <a:off x="3352320" y="1828800"/>
            <a:ext cx="5486760" cy="398880"/>
            <a:chOff x="3352320" y="1828800"/>
            <a:chExt cx="5486760" cy="398880"/>
          </a:xfrm>
        </p:grpSpPr>
        <p:sp>
          <p:nvSpPr>
            <p:cNvPr id="63" name="Text Box 11"/>
            <p:cNvSpPr/>
            <p:nvPr/>
          </p:nvSpPr>
          <p:spPr>
            <a:xfrm>
              <a:off x="4191120" y="1828800"/>
              <a:ext cx="4647960" cy="398880"/>
            </a:xfrm>
            <a:prstGeom prst="rect">
              <a:avLst/>
            </a:prstGeom>
            <a:noFill/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Relative atomic mass of O = 16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 flipH="1">
              <a:off x="3352320" y="2057400"/>
              <a:ext cx="838440" cy="15228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5" name="Group 29"/>
          <p:cNvGrpSpPr/>
          <p:nvPr/>
        </p:nvGrpSpPr>
        <p:grpSpPr>
          <a:xfrm>
            <a:off x="3733920" y="2666880"/>
            <a:ext cx="5181480" cy="398880"/>
            <a:chOff x="3733920" y="2666880"/>
            <a:chExt cx="5181480" cy="398880"/>
          </a:xfrm>
        </p:grpSpPr>
        <p:sp>
          <p:nvSpPr>
            <p:cNvPr id="66" name="Text Box 12"/>
            <p:cNvSpPr/>
            <p:nvPr/>
          </p:nvSpPr>
          <p:spPr>
            <a:xfrm>
              <a:off x="4191120" y="2666880"/>
              <a:ext cx="4724280" cy="3988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Relative atomic mass of H = 1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 flipH="1">
              <a:off x="3733920" y="2895480"/>
              <a:ext cx="457200" cy="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More example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0880" y="1143000"/>
          <a:ext cx="8382240" cy="5334120"/>
        </p:xfrm>
        <a:graphic>
          <a:graphicData uri="http://schemas.openxmlformats.org/drawingml/2006/table">
            <a:tbl>
              <a:tblPr/>
              <a:tblGrid>
                <a:gridCol w="1981440"/>
                <a:gridCol w="3606840"/>
                <a:gridCol w="279396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CaCO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40 + 12 + 3x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HNO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1 + 14 + 3x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M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2 x (24 + 16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H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3 x ((2x1) + 16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4NH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KMnO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C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5</a:t>
                      </a: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O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4Ca(OH)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lative atomic mas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7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ss of an isotopic element relative to Carbon-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chlorine occurs in isotope forms Cl-35 (75.5%) and Cl-37 (24.5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 atomic mass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(75.5x35)+(24.5x37))/(75.5+24.5)=3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this: neon-20 (90.9%), neon-21 (0.3%), and neon-22 (8.8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Calculating percentage mas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04920" y="838080"/>
            <a:ext cx="8534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ff"/>
                </a:solidFill>
                <a:latin typeface="Comic Sans MS"/>
              </a:rPr>
              <a:t>If you can work out M</a:t>
            </a:r>
            <a:r>
              <a:rPr b="0" i="1" lang="en-GB" sz="2000" spc="-1" strike="noStrike" baseline="-25000">
                <a:solidFill>
                  <a:srgbClr val="ffccff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ccff"/>
                </a:solidFill>
                <a:latin typeface="Comic Sans MS"/>
              </a:rPr>
              <a:t> then this bit is easy…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28600" y="24382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cc"/>
                </a:solidFill>
                <a:latin typeface="Comic Sans MS"/>
              </a:rPr>
              <a:t>Calculate the percentage mass of magnesium in magnesium oxide, MgO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28600" y="2895480"/>
            <a:ext cx="8686800" cy="140976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for magnesium = 24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r for oxygen = 1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for magnesium oxide = 24 + 16 = 4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refore percentage mass = 24/40 x 100% = 60%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6" name="Group 16"/>
          <p:cNvGrpSpPr/>
          <p:nvPr/>
        </p:nvGrpSpPr>
        <p:grpSpPr>
          <a:xfrm>
            <a:off x="304920" y="1371600"/>
            <a:ext cx="8839080" cy="914400"/>
            <a:chOff x="304920" y="1371600"/>
            <a:chExt cx="8839080" cy="914400"/>
          </a:xfrm>
        </p:grpSpPr>
        <p:grpSp>
          <p:nvGrpSpPr>
            <p:cNvPr id="77" name="Group 15"/>
            <p:cNvGrpSpPr/>
            <p:nvPr/>
          </p:nvGrpSpPr>
          <p:grpSpPr>
            <a:xfrm>
              <a:off x="304920" y="1371600"/>
              <a:ext cx="8610480" cy="914400"/>
              <a:chOff x="304920" y="1371600"/>
              <a:chExt cx="8610480" cy="914400"/>
            </a:xfrm>
          </p:grpSpPr>
          <p:sp>
            <p:nvSpPr>
              <p:cNvPr id="78" name="Rectangle 12"/>
              <p:cNvSpPr/>
              <p:nvPr/>
            </p:nvSpPr>
            <p:spPr>
              <a:xfrm>
                <a:off x="304920" y="1371600"/>
                <a:ext cx="8610480" cy="9144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9" name="Text Box 6"/>
              <p:cNvSpPr/>
              <p:nvPr/>
            </p:nvSpPr>
            <p:spPr>
              <a:xfrm>
                <a:off x="914400" y="1631880"/>
                <a:ext cx="342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omic Sans MS"/>
                  </a:rPr>
                  <a:t>Percentage mass (%) = 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0" name="Text Box 7"/>
              <p:cNvSpPr/>
              <p:nvPr/>
            </p:nvSpPr>
            <p:spPr>
              <a:xfrm>
                <a:off x="4876920" y="1371600"/>
                <a:ext cx="3809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omic Sans MS"/>
                  </a:rPr>
                  <a:t>Mass of element A</a:t>
                </a:r>
                <a:r>
                  <a:rPr b="1" lang="en-GB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1" name="Text Box 8"/>
              <p:cNvSpPr/>
              <p:nvPr/>
            </p:nvSpPr>
            <p:spPr>
              <a:xfrm>
                <a:off x="4419720" y="1828800"/>
                <a:ext cx="3809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omic Sans MS"/>
                  </a:rPr>
                  <a:t>Relative formula mass M</a:t>
                </a:r>
                <a:r>
                  <a:rPr b="1" lang="en-GB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" name="Line 10"/>
              <p:cNvSpPr/>
              <p:nvPr/>
            </p:nvSpPr>
            <p:spPr>
              <a:xfrm>
                <a:off x="4572000" y="1828800"/>
                <a:ext cx="2895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83" name="Text Box 9"/>
            <p:cNvSpPr/>
            <p:nvPr/>
          </p:nvSpPr>
          <p:spPr>
            <a:xfrm>
              <a:off x="7696080" y="160020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Comic Sans MS"/>
                </a:rPr>
                <a:t>x100%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4" name="Text Box 17"/>
          <p:cNvSpPr/>
          <p:nvPr/>
        </p:nvSpPr>
        <p:spPr>
          <a:xfrm>
            <a:off x="228600" y="4419720"/>
            <a:ext cx="868680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ccff"/>
                </a:solidFill>
                <a:latin typeface="Comic Sans MS"/>
              </a:rPr>
              <a:t>Calculate the percentage mass of the following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ydrogen in hydrochloric acid, H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ccff"/>
                </a:solidFill>
                <a:latin typeface="Comic Sans MS"/>
              </a:rPr>
              <a:t>Potassium in potassium chloride, K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in calcium chloride, Ca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ccff"/>
                </a:solidFill>
                <a:latin typeface="Comic Sans MS"/>
              </a:rPr>
              <a:t>Oxygen in water, H</a:t>
            </a:r>
            <a:r>
              <a:rPr b="0" lang="en-GB" sz="2000" spc="-1" strike="noStrike" baseline="-25000">
                <a:solidFill>
                  <a:srgbClr val="66c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66ccff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Calculating the mass of a produc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228600" y="9158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ffcc"/>
                </a:solidFill>
                <a:latin typeface="Comic Sans MS"/>
              </a:rPr>
              <a:t>E.g. what mass of magnesium oxide is produced when 60g of magnesium is burned in air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7" name="Group 12"/>
          <p:cNvGrpSpPr/>
          <p:nvPr/>
        </p:nvGrpSpPr>
        <p:grpSpPr>
          <a:xfrm>
            <a:off x="228600" y="2362320"/>
            <a:ext cx="8686800" cy="1368000"/>
            <a:chOff x="228600" y="2362320"/>
            <a:chExt cx="8686800" cy="1368000"/>
          </a:xfrm>
        </p:grpSpPr>
        <p:sp>
          <p:nvSpPr>
            <p:cNvPr id="88" name="Text Box 8"/>
            <p:cNvSpPr/>
            <p:nvPr/>
          </p:nvSpPr>
          <p:spPr>
            <a:xfrm>
              <a:off x="228600" y="2362320"/>
              <a:ext cx="86868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ccff"/>
                  </a:solidFill>
                  <a:latin typeface="Comic Sans MS"/>
                </a:rPr>
                <a:t>Step 1: READ the equatio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2Mg + O</a:t>
              </a:r>
              <a:r>
                <a:rPr b="0" lang="en-GB" sz="20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 2MgO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Line 4"/>
            <p:cNvSpPr/>
            <p:nvPr/>
          </p:nvSpPr>
          <p:spPr>
            <a:xfrm>
              <a:off x="4419720" y="3048120"/>
              <a:ext cx="68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0" name="Group 13"/>
          <p:cNvGrpSpPr/>
          <p:nvPr/>
        </p:nvGrpSpPr>
        <p:grpSpPr>
          <a:xfrm>
            <a:off x="4343400" y="1981080"/>
            <a:ext cx="4800600" cy="2057400"/>
            <a:chOff x="4343400" y="1981080"/>
            <a:chExt cx="4800600" cy="2057400"/>
          </a:xfrm>
        </p:grpSpPr>
        <p:sp>
          <p:nvSpPr>
            <p:cNvPr id="91" name="Text Box 5"/>
            <p:cNvSpPr/>
            <p:nvPr/>
          </p:nvSpPr>
          <p:spPr>
            <a:xfrm>
              <a:off x="6781680" y="1981080"/>
              <a:ext cx="2362320" cy="13136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IGNORE the oxygen in step 2 – the question doesn’t ask for it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" name="Freeform 6"/>
            <p:cNvSpPr/>
            <p:nvPr/>
          </p:nvSpPr>
          <p:spPr>
            <a:xfrm>
              <a:off x="4343400" y="2095560"/>
              <a:ext cx="2514600" cy="723960"/>
            </a:xfrm>
            <a:custGeom>
              <a:avLst/>
              <a:gdLst/>
              <a:ahLst/>
              <a:rect l="l" t="t" r="r" b="b"/>
              <a:pathLst>
                <a:path w="1584" h="456">
                  <a:moveTo>
                    <a:pt x="1584" y="24"/>
                  </a:moveTo>
                  <a:cubicBezTo>
                    <a:pt x="1380" y="12"/>
                    <a:pt x="1176" y="0"/>
                    <a:pt x="912" y="72"/>
                  </a:cubicBezTo>
                  <a:cubicBezTo>
                    <a:pt x="648" y="144"/>
                    <a:pt x="324" y="300"/>
                    <a:pt x="0" y="456"/>
                  </a:cubicBezTo>
                </a:path>
              </a:pathLst>
            </a:custGeom>
            <a:noFill/>
            <a:ln w="63360">
              <a:solidFill>
                <a:srgbClr val="99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Freeform 7"/>
            <p:cNvSpPr/>
            <p:nvPr/>
          </p:nvSpPr>
          <p:spPr>
            <a:xfrm>
              <a:off x="7238880" y="3200400"/>
              <a:ext cx="1003320" cy="838080"/>
            </a:xfrm>
            <a:custGeom>
              <a:avLst/>
              <a:gdLst/>
              <a:ahLst/>
              <a:rect l="l" t="t" r="r" b="b"/>
              <a:pathLst>
                <a:path w="632" h="528">
                  <a:moveTo>
                    <a:pt x="624" y="0"/>
                  </a:moveTo>
                  <a:cubicBezTo>
                    <a:pt x="628" y="76"/>
                    <a:pt x="632" y="152"/>
                    <a:pt x="528" y="240"/>
                  </a:cubicBezTo>
                  <a:cubicBezTo>
                    <a:pt x="424" y="328"/>
                    <a:pt x="212" y="428"/>
                    <a:pt x="0" y="528"/>
                  </a:cubicBezTo>
                </a:path>
              </a:pathLst>
            </a:custGeom>
            <a:noFill/>
            <a:ln w="63360">
              <a:solidFill>
                <a:srgbClr val="99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4" name="Text Box 9"/>
          <p:cNvSpPr/>
          <p:nvPr/>
        </p:nvSpPr>
        <p:spPr>
          <a:xfrm>
            <a:off x="228600" y="4952880"/>
            <a:ext cx="8686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Step 3: LEARN and APPLY the following 3 point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48g of Mg makes 80g of 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g of Mg makes 80/48 = 1.66g of 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60g of Mg makes 1.66 x 60 = 100g of 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228600" y="3733920"/>
            <a:ext cx="891540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Step 2: WORK OUT the relative formula masses (M</a:t>
            </a:r>
            <a:r>
              <a:rPr b="1" lang="en-GB" sz="2000" spc="-1" strike="noStrike" baseline="-25000">
                <a:solidFill>
                  <a:srgbClr val="ccccff"/>
                </a:solidFill>
                <a:latin typeface="Comic Sans MS"/>
              </a:rPr>
              <a:t>r</a:t>
            </a: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Mg = 2 x 24 = 48      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2MgO = 2 x (24+16) = 8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6"/>
          <p:cNvSpPr/>
          <p:nvPr/>
        </p:nvSpPr>
        <p:spPr>
          <a:xfrm>
            <a:off x="76320" y="1268280"/>
            <a:ext cx="89154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Work out M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:    2H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O = 2 x ((2x1)+16) = 36              2H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 = 2x2 = 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36g of water produces 4g of hydrog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o 1g of water produces 4/36 = 0.11g of hydrog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6g of water will produce (4/36) x 6 =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0.66g of hydrog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76320" y="4051440"/>
            <a:ext cx="89913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M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: 2Ca = 2x40 = 80                                 2CaO = 2 x (40+16) = 11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80g produces 112g so 10g produces (112/80) x 10 =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4g of Ca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76320" y="6019920"/>
            <a:ext cx="8991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M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:  2Al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O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3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 = 2x((2x27)+(3x16)) = 204        4Al = 4x27 = 10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04g produces 108g so 100g produces (108/204) x 100 =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52.9g of Al</a:t>
            </a:r>
            <a:r>
              <a:rPr b="1" lang="en-GB" sz="2000" spc="-1" strike="noStrike" u="sng" baseline="-25000">
                <a:solidFill>
                  <a:srgbClr val="ffffff"/>
                </a:solidFill>
                <a:uFillTx/>
                <a:latin typeface="Comic Sans MS"/>
              </a:rPr>
              <a:t>2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O</a:t>
            </a:r>
            <a:r>
              <a:rPr b="1" lang="en-GB" sz="2000" spc="-1" strike="noStrike" u="sng" baseline="-25000">
                <a:solidFill>
                  <a:srgbClr val="ffffff"/>
                </a:solidFill>
                <a:uFillTx/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9" name="Group 13"/>
          <p:cNvGrpSpPr/>
          <p:nvPr/>
        </p:nvGrpSpPr>
        <p:grpSpPr>
          <a:xfrm>
            <a:off x="0" y="0"/>
            <a:ext cx="9144000" cy="1368000"/>
            <a:chOff x="0" y="0"/>
            <a:chExt cx="9144000" cy="1368000"/>
          </a:xfrm>
        </p:grpSpPr>
        <p:sp>
          <p:nvSpPr>
            <p:cNvPr id="100" name="Text Box 3"/>
            <p:cNvSpPr/>
            <p:nvPr/>
          </p:nvSpPr>
          <p:spPr>
            <a:xfrm>
              <a:off x="0" y="0"/>
              <a:ext cx="91440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buClr>
                  <a:srgbClr val="cccc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en water is electrolysed it breaks down into hydrogen and oxyge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                  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at mass of hydrogen is produced by the electrolysis of 6g of water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Line 10"/>
            <p:cNvSpPr/>
            <p:nvPr/>
          </p:nvSpPr>
          <p:spPr>
            <a:xfrm>
              <a:off x="3809880" y="60948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2" name="Group 15"/>
          <p:cNvGrpSpPr/>
          <p:nvPr/>
        </p:nvGrpSpPr>
        <p:grpSpPr>
          <a:xfrm>
            <a:off x="0" y="5181480"/>
            <a:ext cx="9144000" cy="904320"/>
            <a:chOff x="0" y="5181480"/>
            <a:chExt cx="9144000" cy="904320"/>
          </a:xfrm>
        </p:grpSpPr>
        <p:sp>
          <p:nvSpPr>
            <p:cNvPr id="103" name="Text Box 4"/>
            <p:cNvSpPr/>
            <p:nvPr/>
          </p:nvSpPr>
          <p:spPr>
            <a:xfrm>
              <a:off x="0" y="5181480"/>
              <a:ext cx="914400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3)  What mass of aluminium is produced from 100g of aluminium oxide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Al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3       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             4Al + 3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Line 11"/>
            <p:cNvSpPr/>
            <p:nvPr/>
          </p:nvSpPr>
          <p:spPr>
            <a:xfrm>
              <a:off x="3809880" y="579132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5" name="Group 14"/>
          <p:cNvGrpSpPr/>
          <p:nvPr/>
        </p:nvGrpSpPr>
        <p:grpSpPr>
          <a:xfrm>
            <a:off x="0" y="3213000"/>
            <a:ext cx="9144000" cy="904320"/>
            <a:chOff x="0" y="3213000"/>
            <a:chExt cx="9144000" cy="904320"/>
          </a:xfrm>
        </p:grpSpPr>
        <p:sp>
          <p:nvSpPr>
            <p:cNvPr id="106" name="Text Box 5"/>
            <p:cNvSpPr/>
            <p:nvPr/>
          </p:nvSpPr>
          <p:spPr>
            <a:xfrm>
              <a:off x="0" y="3213000"/>
              <a:ext cx="914400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2)  What mass of calcium oxide is produced when 10g of calcium burns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Ca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     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                2CaO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Line 12"/>
            <p:cNvSpPr/>
            <p:nvPr/>
          </p:nvSpPr>
          <p:spPr>
            <a:xfrm>
              <a:off x="4267080" y="382248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31"/>
          <p:cNvGrpSpPr/>
          <p:nvPr/>
        </p:nvGrpSpPr>
        <p:grpSpPr>
          <a:xfrm>
            <a:off x="228600" y="4343400"/>
            <a:ext cx="8686800" cy="1066680"/>
            <a:chOff x="228600" y="4343400"/>
            <a:chExt cx="8686800" cy="1066680"/>
          </a:xfrm>
        </p:grpSpPr>
        <p:grpSp>
          <p:nvGrpSpPr>
            <p:cNvPr id="109" name="Group 30"/>
            <p:cNvGrpSpPr/>
            <p:nvPr/>
          </p:nvGrpSpPr>
          <p:grpSpPr>
            <a:xfrm>
              <a:off x="228600" y="4343400"/>
              <a:ext cx="8686800" cy="1066680"/>
              <a:chOff x="228600" y="4343400"/>
              <a:chExt cx="8686800" cy="1066680"/>
            </a:xfrm>
          </p:grpSpPr>
          <p:sp>
            <p:nvSpPr>
              <p:cNvPr id="110" name="Rectangle 28"/>
              <p:cNvSpPr/>
              <p:nvPr/>
            </p:nvSpPr>
            <p:spPr>
              <a:xfrm>
                <a:off x="228600" y="4343400"/>
                <a:ext cx="8686800" cy="10666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1" name="Line 21"/>
              <p:cNvSpPr/>
              <p:nvPr/>
            </p:nvSpPr>
            <p:spPr>
              <a:xfrm>
                <a:off x="685800" y="4876920"/>
                <a:ext cx="457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2" name="Line 22"/>
              <p:cNvSpPr/>
              <p:nvPr/>
            </p:nvSpPr>
            <p:spPr>
              <a:xfrm>
                <a:off x="6248520" y="4876920"/>
                <a:ext cx="19810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13" name="Group 23"/>
            <p:cNvGrpSpPr/>
            <p:nvPr/>
          </p:nvGrpSpPr>
          <p:grpSpPr>
            <a:xfrm>
              <a:off x="5562720" y="4724280"/>
              <a:ext cx="380880" cy="152280"/>
              <a:chOff x="5562720" y="4724280"/>
              <a:chExt cx="380880" cy="152280"/>
            </a:xfrm>
          </p:grpSpPr>
          <p:sp>
            <p:nvSpPr>
              <p:cNvPr id="114" name="Line 24"/>
              <p:cNvSpPr/>
              <p:nvPr/>
            </p:nvSpPr>
            <p:spPr>
              <a:xfrm>
                <a:off x="5562720" y="4724280"/>
                <a:ext cx="380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" name="Line 25"/>
              <p:cNvSpPr/>
              <p:nvPr/>
            </p:nvSpPr>
            <p:spPr>
              <a:xfrm>
                <a:off x="5562720" y="4876560"/>
                <a:ext cx="380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Another method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28600" y="7621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ry using this equati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8" name="Group 29"/>
          <p:cNvGrpSpPr/>
          <p:nvPr/>
        </p:nvGrpSpPr>
        <p:grpSpPr>
          <a:xfrm>
            <a:off x="228600" y="1371600"/>
            <a:ext cx="8686800" cy="1066680"/>
            <a:chOff x="228600" y="1371600"/>
            <a:chExt cx="8686800" cy="1066680"/>
          </a:xfrm>
        </p:grpSpPr>
        <p:sp>
          <p:nvSpPr>
            <p:cNvPr id="119" name="Rectangle 27"/>
            <p:cNvSpPr/>
            <p:nvPr/>
          </p:nvSpPr>
          <p:spPr>
            <a:xfrm>
              <a:off x="228600" y="1371600"/>
              <a:ext cx="8686800" cy="10666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0" name="Text Box 4"/>
            <p:cNvSpPr/>
            <p:nvPr/>
          </p:nvSpPr>
          <p:spPr>
            <a:xfrm>
              <a:off x="457200" y="144792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ss of product IN GRAMME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1" name="Text Box 5"/>
            <p:cNvSpPr/>
            <p:nvPr/>
          </p:nvSpPr>
          <p:spPr>
            <a:xfrm>
              <a:off x="457200" y="190512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ss of reactant IN GRAMME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" name="Text Box 6"/>
            <p:cNvSpPr/>
            <p:nvPr/>
          </p:nvSpPr>
          <p:spPr>
            <a:xfrm>
              <a:off x="6019920" y="1447920"/>
              <a:ext cx="289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r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f product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" name="Text Box 7"/>
            <p:cNvSpPr/>
            <p:nvPr/>
          </p:nvSpPr>
          <p:spPr>
            <a:xfrm>
              <a:off x="6019920" y="1905120"/>
              <a:ext cx="289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r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f reactant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>
              <a:off x="533520" y="1905120"/>
              <a:ext cx="457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>
              <a:off x="6095880" y="1905120"/>
              <a:ext cx="1981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26" name="Group 12"/>
            <p:cNvGrpSpPr/>
            <p:nvPr/>
          </p:nvGrpSpPr>
          <p:grpSpPr>
            <a:xfrm>
              <a:off x="5410080" y="1752480"/>
              <a:ext cx="381240" cy="152280"/>
              <a:chOff x="5410080" y="1752480"/>
              <a:chExt cx="381240" cy="152280"/>
            </a:xfrm>
          </p:grpSpPr>
          <p:sp>
            <p:nvSpPr>
              <p:cNvPr id="127" name="Line 10"/>
              <p:cNvSpPr/>
              <p:nvPr/>
            </p:nvSpPr>
            <p:spPr>
              <a:xfrm>
                <a:off x="5410080" y="1752480"/>
                <a:ext cx="3812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" name="Line 11"/>
              <p:cNvSpPr/>
              <p:nvPr/>
            </p:nvSpPr>
            <p:spPr>
              <a:xfrm>
                <a:off x="5410080" y="1904760"/>
                <a:ext cx="3812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29" name="Group 13"/>
          <p:cNvGrpSpPr/>
          <p:nvPr/>
        </p:nvGrpSpPr>
        <p:grpSpPr>
          <a:xfrm>
            <a:off x="0" y="2819520"/>
            <a:ext cx="9144000" cy="1368000"/>
            <a:chOff x="0" y="2819520"/>
            <a:chExt cx="9144000" cy="1368000"/>
          </a:xfrm>
        </p:grpSpPr>
        <p:sp>
          <p:nvSpPr>
            <p:cNvPr id="130" name="Text Box 14"/>
            <p:cNvSpPr/>
            <p:nvPr/>
          </p:nvSpPr>
          <p:spPr>
            <a:xfrm>
              <a:off x="0" y="2819520"/>
              <a:ext cx="91440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Q. When water is electrolysed it breaks down into hydrogen and oxyge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                  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at mass of hydrogen is produced by the electrolysis of 6g of water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>
              <a:off x="3809880" y="342900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2" name="Text Box 17"/>
          <p:cNvSpPr/>
          <p:nvPr/>
        </p:nvSpPr>
        <p:spPr>
          <a:xfrm>
            <a:off x="609480" y="44197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ss of product IN GRAMM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609480" y="4876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6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6172200" y="4419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6172200" y="487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457200" y="5791320"/>
            <a:ext cx="8153280" cy="4597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o mass of product = (4/36) x 6g =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0.66g of hyd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Calculating the volume of a produc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0880" y="914400"/>
            <a:ext cx="8382240" cy="745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t normal temperature and pressure the Relative Formula Mass (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 of a gas will occupy a volume of 24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04920" y="1752480"/>
            <a:ext cx="861048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e.g. 2g of H</a:t>
            </a:r>
            <a:r>
              <a:rPr b="0" lang="en-GB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has a volume of 24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32g of O</a:t>
            </a:r>
            <a:r>
              <a:rPr b="0" lang="en-GB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has a volume of 24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44g of CO</a:t>
            </a:r>
            <a:r>
              <a:rPr b="0" lang="en-GB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has a volume of 24 litres </a:t>
            </a:r>
            <a:r>
              <a:rPr b="0" i="1" lang="en-GB" sz="2000" spc="-1" strike="noStrike">
                <a:solidFill>
                  <a:srgbClr val="ffff66"/>
                </a:solidFill>
                <a:latin typeface="Comic Sans MS"/>
              </a:rPr>
              <a:t>etc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40" name="Group 10"/>
          <p:cNvGrpSpPr/>
          <p:nvPr/>
        </p:nvGrpSpPr>
        <p:grpSpPr>
          <a:xfrm>
            <a:off x="0" y="3276720"/>
            <a:ext cx="9144000" cy="1368000"/>
            <a:chOff x="0" y="3276720"/>
            <a:chExt cx="9144000" cy="1368000"/>
          </a:xfrm>
        </p:grpSpPr>
        <p:sp>
          <p:nvSpPr>
            <p:cNvPr id="141" name="Text Box 7"/>
            <p:cNvSpPr/>
            <p:nvPr/>
          </p:nvSpPr>
          <p:spPr>
            <a:xfrm>
              <a:off x="0" y="3276720"/>
              <a:ext cx="91440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Q.  When water is electrolysed it breaks down into hydrogen and oxyge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                  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at VOLUME of hydrogen is produced by the electrolysis of 6g of water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3809880" y="396252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3" name="Text Box 9"/>
          <p:cNvSpPr/>
          <p:nvPr/>
        </p:nvSpPr>
        <p:spPr>
          <a:xfrm>
            <a:off x="0" y="4876920"/>
            <a:ext cx="9144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n the previous page we said that the MASS of hydrogen produced was 0.66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g of hydrogen (H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 will occupy 24 litres (from the red box above)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o 0.66g will occupy 0.66/2 x 24 =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8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7:00:03Z</dcterms:created>
  <dc:creator>W Richards</dc:creator>
  <dc:description/>
  <dc:language>en-US</dc:language>
  <cp:lastModifiedBy>LEGION</cp:lastModifiedBy>
  <dcterms:modified xsi:type="dcterms:W3CDTF">2015-09-07T08:20:49Z</dcterms:modified>
  <cp:revision>185</cp:revision>
  <dc:subject/>
  <dc:title>Relative mass formula atomic mass and empirical formula</dc:title>
</cp:coreProperties>
</file>