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CD2B-3E48-4299-B82D-80139B9A6A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E38-5C73-47AE-9DAC-B62EDF01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D5F-99C5-4210-AD55-D79E7F7F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B33-DC9E-4B2F-AEC8-07543639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B43-38D4-4B51-ACAD-34176530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7A4-86F6-4DA9-A8EE-6B2A6779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320-9EB5-4C7D-AC21-381A67BF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362-1358-470C-A9D8-F01F18FE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963-469C-48B3-9F8E-A18999FE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8EA-62CB-45DA-916E-6AEC0843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F08-3071-4459-910E-FF26A714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779-DEF2-42B5-AEB4-FE843FAD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32F-9E38-4B4A-A9FB-E459235E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D56A-B92B-455F-960C-7FF395A91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eblo hunters used bows and arrow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war, Pueblo men fired their bows or fought with spears and war clu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Legion</cp:lastModifiedBy>
  <dcterms:modified xsi:type="dcterms:W3CDTF">2017-07-05T12:43:19Z</dcterms:modified>
  <cp:revision>11</cp:revision>
  <dc:subject/>
  <dc:title>Pueblo Native Americans</dc:title>
</cp:coreProperties>
</file>