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clap.wav" ContentType="audio/x-wav"/>
  <Override PartName="/ppt/media/image2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614B-9C04-4480-8AED-598105E0258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Native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s are a group of different tribes who are all much alike, so much alike we group them toge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eblos are a group of different tribes who are all much alike, so much alike we group them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, including the Tigua, are farmers. Most of their food comes from crops they plant and tend. Corn is the main crop they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Indians, including the Tigua, are farmers. Most of their food comes from crops they plant and tend. Corn is the main crop they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aised cotton that they used to make cloth. They also raised gourds that could be dried out and used as contain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aised cotton that they used to make cloth. They also raised gourds that could be dried out and used as contai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hunted deer, rabbits, antelope, bear and any other wild game they could find for me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and children would collect wild foods like berries when they were in s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n hunted deer, rabbits, antelope, bear and any other wild game they could find for me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men and children would collect wild foods like berries when they were in s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Jumano Village had its own leader and its own gover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is a system for running a town o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Jumano Village had its own leader and its own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 is a system for running a town or coun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hunters used bows and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ar, Pueblo men fired their bows or fought with spears and war clu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hunters used bows and arr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ar, Pueblo men fired their bows or fought with spears and war clu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Locations of Jum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Locations of J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important religious ceremonies that had to be done at each stage of the farming seas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dances and ceremonies while the crops were growing to bring rain and protect the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gest dances and ceremonies came with the harvest of the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Spanish, came diseases and epidemics that killed many of the Pueblo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were killed fighting off the Spanish inv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Jumano were pushed south and west out of their territory by the Apach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important religious ceremonies that had to be done at each stage of the farming sea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dances and ceremonies while the crops were growing to bring rain and protect the cro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st dances and ceremonies came with the harvest of the cro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Spanish, came diseases and epidemics that killed many of the Pueblo Indi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were killed fighting off the Spanish inva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s Jumano were pushed south and west out of their territory by the Apach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2 facts on their buil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s on their jo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 on what they ate (foo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 on their t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2 facts on why they dan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Qu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2 facts on their buil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s on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 on what they ate (foo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 on their to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2 facts on why they d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ueblo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ig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um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ueblo Tri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i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name, Pueblo, is Spanish and means "town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larger Pueblos there are several individual Pueblo buildings built around a plaza or squ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name, Pueblo, is Spanish and means "town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arger Pueblos there are several individual Pueblo buildings built around a plaza or squa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ueblos had hundreds of people living in them. Some Pueblos were 4 or 5 stories hig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ueblos had hundreds of people living in them. Some Pueblos were 4 or 5 stories hig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Bui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 are built several ways. One way is to use rocks to build a wall and cover the rocks with a plaster of mud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obe is a type of brick made from straw and m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 are built several ways. One way is to use rocks to build a wall and cover the rocks with a plaster of mud on the out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be is a type of brick made from straw and mu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orno is a kind of oven used by Pueblo Indians to cook bread and tortillas 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their roof like a po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orno is a kind of oven used by Pueblo Indians to cook bread and tortillas 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ir roof like a po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ored and cooked their food in well-made po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gua and other Pueblos are famous for their beautiful pott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ored and cooked their food in well-made pott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gua and other Pueblos are famous for their beautiful potte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y land made it hard to f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umano irrigated their crops from nearby st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ded with other groups for things they could not grow or ma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travel long distances to tr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ry land made it hard to fa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umano irrigated their crops from nearby str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raded with other groups for things they could not grow or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uld travel long distances to tra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cleared the fields and prepared the soi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did most of the farming. They used sharp sticks to poke holes in the dirt and put seeds in each 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would walk the fields every day and pick insects off the plants by hand and would pull up w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n cleared the fields and prepared the soi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men did most of the farming. They used sharp sticks to poke holes in the dirt and put seeds in each ho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ildren would walk the fields every day and pick insects off the plants by hand and would pull up w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714A-091B-4B19-8227-E2CCE932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EBA-CC15-40B5-B0B4-32B49D32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211-DAFA-4BC4-8D8E-F6237A08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18B-74F6-40B6-9E45-71F4CCE5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27A3-D4D5-4F06-B4A0-8B3F18C8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7BD-268D-48BD-A3A1-541CA4AC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096-E99A-4DEF-9297-24187415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F45-84FF-48BA-8401-9DD263C6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F96-E058-40F5-B2A2-2860E098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700-FA2D-421C-AAC0-12800D9E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1C8-9F83-4F83-8E29-41CD19CD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F41-A50C-4F0B-9AF4-43333673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D6F7-5023-4A52-9D4B-A7CB72318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Pueblos are a group of different tribes who are all much alike, so much alike we group them together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>
            <a:hlinkClick r:id="" action="ppaction://hlinkshowjump?jump=nextslide"/>
          </p:cNvPr>
          <p:cNvSpPr/>
          <p:nvPr/>
        </p:nvSpPr>
        <p:spPr>
          <a:xfrm>
            <a:off x="76960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C:\Program Files\Microsoft Office\Clipart\standard\stddir4\PH01346J.jpg"/>
          <p:cNvPicPr/>
          <p:nvPr/>
        </p:nvPicPr>
        <p:blipFill>
          <a:blip r:embed="rId1"/>
          <a:stretch/>
        </p:blipFill>
        <p:spPr>
          <a:xfrm>
            <a:off x="4191120" y="2743200"/>
            <a:ext cx="4495680" cy="29973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ueblo Indians, including the Tigua, are farmers. Most of their food comes from crops they plant and tend. Corn is the main crop they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C:\Program Files\Microsoft Office\Clipart\standard\stddir1\BD06981_.WMF"/>
          <p:cNvPicPr/>
          <p:nvPr/>
        </p:nvPicPr>
        <p:blipFill>
          <a:blip r:embed="rId1"/>
          <a:stretch/>
        </p:blipFill>
        <p:spPr>
          <a:xfrm>
            <a:off x="685800" y="2206800"/>
            <a:ext cx="3809880" cy="36637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6">
            <a:hlinkClick r:id="" action="ppaction://hlinkshowjump?jump=nextslide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raised cotton that they used to make cloth. They also raised gourds that could be dried out and used as contai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:\Program Files\Microsoft Office\Clipart\standard\stddir4\PH01276J.jpg"/>
          <p:cNvPicPr/>
          <p:nvPr/>
        </p:nvPicPr>
        <p:blipFill>
          <a:blip r:embed="rId1"/>
          <a:stretch/>
        </p:blipFill>
        <p:spPr>
          <a:xfrm>
            <a:off x="4038480" y="1981080"/>
            <a:ext cx="4800600" cy="37404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>
            <a:hlinkClick r:id="" action="ppaction://hlinkshowjump?jump=nextslide"/>
          </p:cNvPr>
          <p:cNvSpPr/>
          <p:nvPr/>
        </p:nvSpPr>
        <p:spPr>
          <a:xfrm>
            <a:off x="76201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hunted deer, rabbits, antelope, bear and any other wild game they could find for me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and children would collect wild foods like berries when they were in sea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:\Program Files\Microsoft Office\Clipart\standard\stddir1\BD06271_.WMF"/>
          <p:cNvPicPr/>
          <p:nvPr/>
        </p:nvPicPr>
        <p:blipFill>
          <a:blip r:embed="rId1"/>
          <a:stretch/>
        </p:blipFill>
        <p:spPr>
          <a:xfrm>
            <a:off x="380880" y="2819520"/>
            <a:ext cx="4191120" cy="21841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ch Jumano Village had its own leader and its own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vernment is a system for running a town o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C:\Program Files\Microsoft Office\Clipart\standard\stddir2\BS01157_.wmf"/>
          <p:cNvPicPr/>
          <p:nvPr/>
        </p:nvPicPr>
        <p:blipFill>
          <a:blip r:embed="rId1"/>
          <a:stretch/>
        </p:blipFill>
        <p:spPr>
          <a:xfrm>
            <a:off x="4648320" y="1989000"/>
            <a:ext cx="3809880" cy="40989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6781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eblo hunters used bows and arrow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war, Pueblo men fired their bows or fought with spears and war clu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Pueblo Locations of Jum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1" descr="C:\Documents and Settings\MBHILL\My Documents\My Pictures\map jumanos.jpg"/>
          <p:cNvPicPr/>
          <p:nvPr/>
        </p:nvPicPr>
        <p:blipFill>
          <a:blip r:embed="rId1"/>
          <a:stretch/>
        </p:blipFill>
        <p:spPr>
          <a:xfrm>
            <a:off x="457200" y="914400"/>
            <a:ext cx="7620120" cy="5218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re were important religious ceremonies that had to be done at each stage of the farming seas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re were dances and ceremonies while the crops were growing to bring rain and protect the crop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biggest dances and ceremonies came with the harvest of the crop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ith the Spanish, came diseases and epidemics that killed many of the Pueblo India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thers were killed fighting off the Spanish inva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Plains Jumano were pushed south and west out of their territory by the Apach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">
            <a:hlinkClick r:id="" action="ppaction://hlinkshowjump?jump=nextslide"/>
          </p:cNvPr>
          <p:cNvSpPr/>
          <p:nvPr/>
        </p:nvSpPr>
        <p:spPr>
          <a:xfrm>
            <a:off x="7772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2 facts on their buil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s on their jo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 on what they ate (foo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 on their to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2 facts on why they dan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Pueblo Trib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igu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Juma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4">
            <a:hlinkClick r:id="" action="ppaction://hlinkshowjump?jump=nextslide"/>
          </p:cNvPr>
          <p:cNvSpPr/>
          <p:nvPr/>
        </p:nvSpPr>
        <p:spPr>
          <a:xfrm>
            <a:off x="7848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ir name, Pueblo, is Spanish and means "town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 larger Pueblos there are several individual Pueblo buildings built around a plaza or squ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78487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C:\Documents and Settings\MBHILL\My Documents\My Pictures\pueblo snow.jpg"/>
          <p:cNvPicPr/>
          <p:nvPr/>
        </p:nvPicPr>
        <p:blipFill>
          <a:blip r:embed="rId1"/>
          <a:stretch/>
        </p:blipFill>
        <p:spPr>
          <a:xfrm>
            <a:off x="1371600" y="1600200"/>
            <a:ext cx="5130720" cy="2260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274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y Pueblos had hundreds of people living in them. Some Pueblos were 4 or 5 stories high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C:\Documents and Settings\MBHILL\My Documents\My Pictures\pueblo1.jpg"/>
          <p:cNvPicPr/>
          <p:nvPr/>
        </p:nvPicPr>
        <p:blipFill>
          <a:blip r:embed="rId1"/>
          <a:stretch/>
        </p:blipFill>
        <p:spPr>
          <a:xfrm>
            <a:off x="3048120" y="1676520"/>
            <a:ext cx="571500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>
            <a:hlinkClick r:id="" action="ppaction://hlinkshowjump?jump=nextslide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eblos are built several ways. One way is to use rocks to build a wall and cover the rocks with a plaster of mud on the out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obe is a type of brick made from straw and m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" descr="C:\Documents and Settings\MBHILL\My Documents\My Pictures\pueblo brick.jpg"/>
          <p:cNvPicPr/>
          <p:nvPr/>
        </p:nvPicPr>
        <p:blipFill>
          <a:blip r:embed="rId1"/>
          <a:stretch/>
        </p:blipFill>
        <p:spPr>
          <a:xfrm>
            <a:off x="4648320" y="2109960"/>
            <a:ext cx="4038480" cy="3125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rn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kind of oven used by Pueblo Indians to cook bread and tortillas i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used their roof like a po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C:\Documents and Settings\MBHILL\My Documents\My Pictures\pueblo oven.jpg"/>
          <p:cNvPicPr/>
          <p:nvPr/>
        </p:nvPicPr>
        <p:blipFill>
          <a:blip r:embed="rId1"/>
          <a:stretch/>
        </p:blipFill>
        <p:spPr>
          <a:xfrm>
            <a:off x="4038480" y="1752480"/>
            <a:ext cx="4724640" cy="37213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" action="ppaction://hlinkshowjump?jump=nextslide"/>
          </p:cNvPr>
          <p:cNvSpPr/>
          <p:nvPr/>
        </p:nvSpPr>
        <p:spPr>
          <a:xfrm>
            <a:off x="73152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stored and cooked their food in well-made pot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Tigua and other Pueblos are famous for their beautiful pott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C:\Program Files\Microsoft Office\Clipart\standard\stddir2\BD08820_.WMF"/>
          <p:cNvPicPr/>
          <p:nvPr/>
        </p:nvPicPr>
        <p:blipFill>
          <a:blip r:embed="rId1"/>
          <a:stretch/>
        </p:blipFill>
        <p:spPr>
          <a:xfrm>
            <a:off x="4572000" y="1752480"/>
            <a:ext cx="327492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a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ry land made it hard to fa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Jumano irrigated their crops from nearby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traded with other groups for things they could not grow or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would travel long distances to tr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C:\Program Files\Microsoft Office\Clipart\photohm\j0145190.jpg"/>
          <p:cNvPicPr/>
          <p:nvPr/>
        </p:nvPicPr>
        <p:blipFill>
          <a:blip r:embed="rId1"/>
          <a:stretch/>
        </p:blipFill>
        <p:spPr>
          <a:xfrm>
            <a:off x="4495680" y="1981080"/>
            <a:ext cx="4267440" cy="40388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cleared the fields and prepared the so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did most of the farming. They used sharp sticks to poke holes in the dirt and put seeds in each h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hildren would walk the fields every day and pick insects off the plants by hand and would pull up w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C:\Documents and Settings\MBHILL\My Documents\My Pictures\pueblo people.jpg"/>
          <p:cNvPicPr/>
          <p:nvPr/>
        </p:nvPicPr>
        <p:blipFill>
          <a:blip r:embed="rId1"/>
          <a:stretch/>
        </p:blipFill>
        <p:spPr>
          <a:xfrm>
            <a:off x="4648320" y="2330280"/>
            <a:ext cx="4495680" cy="3384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5:22:15Z</dcterms:created>
  <dc:creator>BISD</dc:creator>
  <dc:description/>
  <dc:language>en-US</dc:language>
  <cp:lastModifiedBy>Legion</cp:lastModifiedBy>
  <dcterms:modified xsi:type="dcterms:W3CDTF">2017-07-05T12:43:19Z</dcterms:modified>
  <cp:revision>11</cp:revision>
  <dc:subject/>
  <dc:title>Pueblo Native Americans</dc:title>
</cp:coreProperties>
</file>