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clap.wav" ContentType="audio/x-wav"/>
  <Override PartName="/ppt/media/image2.jpeg" ContentType="image/jpeg"/>
  <Override PartName="/ppt/media/image1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335A-41FB-45F9-80CE-EBB5D0E117A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Native Americ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eblos are a group of different tribes who are all much alike, so much alike we group them toge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Native Americ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eblos are a group of different tribes who are all much alike, so much alike we group them toge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Indians, including the Tigua, are farmers. Most of their food comes from crops they plant and tend. Corn is the main crop they pl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Indians, including the Tigua, are farmers. Most of their food comes from crops they plant and tend. Corn is the main crop they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raised cotton that they used to make cloth. They also raised gourds that could be dried out and used as contain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aised cotton that they used to make cloth. They also raised gourds that could be dried out and used as contain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n hunted deer, rabbits, antelope, bear and any other wild game they could find for mea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en and children would collect wild foods like berries when they were in sea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n hunted deer, rabbits, antelope, bear and any other wild game they could find for me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men and children would collect wild foods like berries when they were in sea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Jumano Village had its own leader and its own govern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vernment is a system for running a town or coun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Jumano Village had its own leader and its own gover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vernment is a system for running a town or coun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hunters used bows and arr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war, Pueblo men fired their bows or fought with spears and war club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hunters used bows and arrow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ar, Pueblo men fired their bows or fought with spears and war clu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Locations of Juma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Locations of Jum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c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ere important religious ceremonies that had to be done at each stage of the farming seas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ere dances and ceremonies while the crops were growing to bring rain and protect the crop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ggest dances and ceremonies came with the harvest of the crop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e Spanish, came diseases and epidemics that killed many of the Pueblo Indi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s were killed fighting off the Spanish invad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Jumano were pushed south and west out of their territory by the Apach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ere important religious ceremonies that had to be done at each stage of the farming seas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ere dances and ceremonies while the crops were growing to bring rain and protect the crop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gest dances and ceremonies came with the harvest of the crop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he Spanish, came diseases and epidemics that killed many of the Pueblo India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s were killed fighting off the Spanish inva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ins Jumano were pushed south and west out of their territory by the Apach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Qui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2 facts on their buil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1 facts on their job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1 fact on what they ate (foo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1 fact on their t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2 facts on why they dan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Qu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2 facts on their buil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1 facts on their jo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1 fact on what they ate (foo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1 fact on their to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2 facts on why they dan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ueblo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igu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Juma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ueblo Tri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ig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um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ir name, Pueblo, is Spanish and means "town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larger Pueblos there are several individual Pueblo buildings built around a plaza or squa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name, Pueblo, is Spanish and means "town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larger Pueblos there are several individual Pueblo buildings built around a plaza or squa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Pueblos had hundreds of people living in them. Some Pueblos were 4 or 5 stories hig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ueblos had hundreds of people living in them. Some Pueblos were 4 or 5 stories hig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Buil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s are built several ways. One way is to use rocks to build a wall and cover the rocks with a plaster of mud on the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obe is a type of brick made from straw and mu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Buil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s are built several ways. One way is to use rocks to build a wall and cover the rocks with a plaster of mud on the outs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obe is a type of brick made from straw and mu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Build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orno is a kind of oven used by Pueblo Indians to cook bread and tortillas 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used their roof like a por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Buil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orno is a kind of oven used by Pueblo Indians to cook bread and tortillas 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d their roof like a po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tored and cooked their food in well-made potte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gua and other Pueblos are famous for their beautiful potte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tored and cooked their food in well-made pott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gua and other Pueblos are famous for their beautiful potte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ry land made it hard to far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Jumano irrigated their crops from nearby stre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raded with other groups for things they could not grow or ma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uld travel long distances to tra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ry land made it hard to far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umano irrigated their crops from nearby str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raded with other groups for things they could not grow or ma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uld travel long distances to tra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J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n cleared the fields and prepared the soi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en did most of the farming. They used sharp sticks to poke holes in the dirt and put seeds in each ho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ldren would walk the fields every day and pick insects off the plants by hand and would pull up wee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J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n cleared the fields and prepared the soi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men did most of the farming. They used sharp sticks to poke holes in the dirt and put seeds in each ho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ildren would walk the fields every day and pick insects off the plants by hand and would pull up w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BCC7-185A-472B-B278-8DA13FE0D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2A40-F38A-4B7B-9376-0EE0913A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F4E0-C745-40E5-B220-F447DDBFF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E6AF-3AA2-4B4F-A63C-E51EE3A19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0F03-1CA6-4216-B2D2-3D7966AA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3C6C-B543-4ED2-9FC5-7E177DD0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2E74-E029-454E-AD09-6F1B133F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4B48-F7D1-4B43-BB83-A953C0C1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F7E0-CFEF-4609-B6DF-A39B7276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C22A-7843-40BA-90F5-278704FD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E3D4-9918-4194-A77C-9C79490A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DA62-762D-4BB8-B3FB-F08B44B6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0C85-847D-4B99-A2B0-0368AE3C0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Native Americ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Pueblos are a group of different tribes who are all much alike, so much alike we group them together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5">
            <a:hlinkClick r:id="" action="ppaction://hlinkshowjump?jump=nextslide"/>
          </p:cNvPr>
          <p:cNvSpPr/>
          <p:nvPr/>
        </p:nvSpPr>
        <p:spPr>
          <a:xfrm>
            <a:off x="76960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C:\Program Files\Microsoft Office\Clipart\standard\stddir4\PH01346J.jpg"/>
          <p:cNvPicPr/>
          <p:nvPr/>
        </p:nvPicPr>
        <p:blipFill>
          <a:blip r:embed="rId1"/>
          <a:stretch/>
        </p:blipFill>
        <p:spPr>
          <a:xfrm>
            <a:off x="4191120" y="2743200"/>
            <a:ext cx="4495680" cy="299736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ueblo Indians, including the Tigua, are farmers. Most of their food comes from crops they plant and tend. Corn is the main crop they pl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C:\Program Files\Microsoft Office\Clipart\standard\stddir1\BD06981_.WMF"/>
          <p:cNvPicPr/>
          <p:nvPr/>
        </p:nvPicPr>
        <p:blipFill>
          <a:blip r:embed="rId1"/>
          <a:stretch/>
        </p:blipFill>
        <p:spPr>
          <a:xfrm>
            <a:off x="685800" y="2206800"/>
            <a:ext cx="3809880" cy="366372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6">
            <a:hlinkClick r:id="" action="ppaction://hlinkshowjump?jump=nextslide"/>
          </p:cNvPr>
          <p:cNvSpPr/>
          <p:nvPr/>
        </p:nvSpPr>
        <p:spPr>
          <a:xfrm>
            <a:off x="76201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y raised cotton that they used to make cloth. They also raised gourds that could be dried out and used as contain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C:\Program Files\Microsoft Office\Clipart\standard\stddir4\PH01276J.jpg"/>
          <p:cNvPicPr/>
          <p:nvPr/>
        </p:nvPicPr>
        <p:blipFill>
          <a:blip r:embed="rId1"/>
          <a:stretch/>
        </p:blipFill>
        <p:spPr>
          <a:xfrm>
            <a:off x="4038480" y="1981080"/>
            <a:ext cx="4800600" cy="37404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6">
            <a:hlinkClick r:id="" action="ppaction://hlinkshowjump?jump=nextslide"/>
          </p:cNvPr>
          <p:cNvSpPr/>
          <p:nvPr/>
        </p:nvSpPr>
        <p:spPr>
          <a:xfrm>
            <a:off x="76201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ueblo 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men hunted deer, rabbits, antelope, bear and any other wild game they could find for me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women and children would collect wild foods like berries when they were in sea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C:\Program Files\Microsoft Office\Clipart\standard\stddir1\BD06271_.WMF"/>
          <p:cNvPicPr/>
          <p:nvPr/>
        </p:nvPicPr>
        <p:blipFill>
          <a:blip r:embed="rId1"/>
          <a:stretch/>
        </p:blipFill>
        <p:spPr>
          <a:xfrm>
            <a:off x="380880" y="2819520"/>
            <a:ext cx="4191120" cy="21841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6">
            <a:hlinkClick r:id="" action="ppaction://hlinkshowjump?jump=nextslide"/>
          </p:cNvPr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ch Jumano Village had its own leader and its own gover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vernment is a system for running a town or count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C:\Program Files\Microsoft Office\Clipart\standard\stddir2\BS01157_.wmf"/>
          <p:cNvPicPr/>
          <p:nvPr/>
        </p:nvPicPr>
        <p:blipFill>
          <a:blip r:embed="rId1"/>
          <a:stretch/>
        </p:blipFill>
        <p:spPr>
          <a:xfrm>
            <a:off x="4648320" y="1989000"/>
            <a:ext cx="3809880" cy="409896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6">
            <a:hlinkClick r:id="" action="ppaction://hlinkshowjump?jump=nextslide"/>
          </p:cNvPr>
          <p:cNvSpPr/>
          <p:nvPr/>
        </p:nvSpPr>
        <p:spPr>
          <a:xfrm>
            <a:off x="8153280" y="59436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4695" y="3794"/>
                </a:moveTo>
                <a:lnTo>
                  <a:pt x="18708" y="10800"/>
                </a:lnTo>
                <a:lnTo>
                  <a:pt x="46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67816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ueblo hunters used bows and arrow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 war, Pueblo men fired their bows or fought with spears and war clu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6">
            <a:hlinkClick r:id="" action="ppaction://hlinkshowjump?jump=nextslide"/>
          </p:cNvPr>
          <p:cNvSpPr/>
          <p:nvPr/>
        </p:nvSpPr>
        <p:spPr>
          <a:xfrm>
            <a:off x="8153280" y="59436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4695" y="3794"/>
                </a:moveTo>
                <a:lnTo>
                  <a:pt x="18708" y="10800"/>
                </a:lnTo>
                <a:lnTo>
                  <a:pt x="46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Pueblo Locations of Juma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8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1" descr="C:\Documents and Settings\MBHILL\My Documents\My Pictures\map jumanos.jpg"/>
          <p:cNvPicPr/>
          <p:nvPr/>
        </p:nvPicPr>
        <p:blipFill>
          <a:blip r:embed="rId1"/>
          <a:stretch/>
        </p:blipFill>
        <p:spPr>
          <a:xfrm>
            <a:off x="457200" y="914400"/>
            <a:ext cx="7620120" cy="52182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Dan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re were important religious ceremonies that had to be done at each stage of the farming seas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re were dances and ceremonies while the crops were growing to bring rain and protect the crops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biggest dances and ceremonies came with the harvest of the crops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With the Spanish, came diseases and epidemics that killed many of the Pueblo India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thers were killed fighting off the Spanish invad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Plains Jumano were pushed south and west out of their territory by the Apach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5">
            <a:hlinkClick r:id="" action="ppaction://hlinkshowjump?jump=nextslide"/>
          </p:cNvPr>
          <p:cNvSpPr/>
          <p:nvPr/>
        </p:nvSpPr>
        <p:spPr>
          <a:xfrm>
            <a:off x="77724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2 facts on their build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1 facts on their jo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1 fact on what they ate (foo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1 fact on their too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2 facts on why they dan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Pueblo Trib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igu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Juman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4">
            <a:hlinkClick r:id="" action="ppaction://hlinkshowjump?jump=nextslide"/>
          </p:cNvPr>
          <p:cNvSpPr/>
          <p:nvPr/>
        </p:nvSpPr>
        <p:spPr>
          <a:xfrm>
            <a:off x="78487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38862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ir name, Pueblo, is Spanish and means "town"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 larger Pueblos there are several individual Pueblo buildings built around a plaza or squa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6">
            <a:hlinkClick r:id="" action="ppaction://hlinkshowjump?jump=nextslide"/>
          </p:cNvPr>
          <p:cNvSpPr/>
          <p:nvPr/>
        </p:nvSpPr>
        <p:spPr>
          <a:xfrm>
            <a:off x="784872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7" descr="C:\Documents and Settings\MBHILL\My Documents\My Pictures\pueblo snow.jpg"/>
          <p:cNvPicPr/>
          <p:nvPr/>
        </p:nvPicPr>
        <p:blipFill>
          <a:blip r:embed="rId1"/>
          <a:stretch/>
        </p:blipFill>
        <p:spPr>
          <a:xfrm>
            <a:off x="1371600" y="1600200"/>
            <a:ext cx="5130720" cy="22604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2743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y Pueblos had hundreds of people living in them. Some Pueblos were 4 or 5 stories high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C:\Documents and Settings\MBHILL\My Documents\My Pictures\pueblo1.jpg"/>
          <p:cNvPicPr/>
          <p:nvPr/>
        </p:nvPicPr>
        <p:blipFill>
          <a:blip r:embed="rId1"/>
          <a:stretch/>
        </p:blipFill>
        <p:spPr>
          <a:xfrm>
            <a:off x="3048120" y="1676520"/>
            <a:ext cx="5715000" cy="39621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>
            <a:hlinkClick r:id="" action="ppaction://hlinkshowjump?jump=nextslide"/>
          </p:cNvPr>
          <p:cNvSpPr/>
          <p:nvPr/>
        </p:nvSpPr>
        <p:spPr>
          <a:xfrm>
            <a:off x="78487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Buil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eblos are built several ways. One way is to use rocks to build a wall and cover the rocks with a plaster of mud on the out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dobe is a type of brick made from straw and mu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">
            <a:hlinkClick r:id="" action="ppaction://hlinkshowjump?jump=nextslide"/>
          </p:cNvPr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0" descr="C:\Documents and Settings\MBHILL\My Documents\My Pictures\pueblo brick.jpg"/>
          <p:cNvPicPr/>
          <p:nvPr/>
        </p:nvPicPr>
        <p:blipFill>
          <a:blip r:embed="rId1"/>
          <a:stretch/>
        </p:blipFill>
        <p:spPr>
          <a:xfrm>
            <a:off x="4648320" y="2109960"/>
            <a:ext cx="4038480" cy="31255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Build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orn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kind of oven used by Pueblo Indians to cook bread and tortillas i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used their roof like a po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" descr="C:\Documents and Settings\MBHILL\My Documents\My Pictures\pueblo oven.jpg"/>
          <p:cNvPicPr/>
          <p:nvPr/>
        </p:nvPicPr>
        <p:blipFill>
          <a:blip r:embed="rId1"/>
          <a:stretch/>
        </p:blipFill>
        <p:spPr>
          <a:xfrm>
            <a:off x="4038480" y="1752480"/>
            <a:ext cx="4724640" cy="372132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7">
            <a:hlinkClick r:id="" action="ppaction://hlinkshowjump?jump=nextslide"/>
          </p:cNvPr>
          <p:cNvSpPr/>
          <p:nvPr/>
        </p:nvSpPr>
        <p:spPr>
          <a:xfrm>
            <a:off x="73152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t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y stored and cooked their food in well-made pott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Tigua and other Pueblos are famous for their beautiful potte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C:\Program Files\Microsoft Office\Clipart\standard\stddir2\BD08820_.WMF"/>
          <p:cNvPicPr/>
          <p:nvPr/>
        </p:nvPicPr>
        <p:blipFill>
          <a:blip r:embed="rId1"/>
          <a:stretch/>
        </p:blipFill>
        <p:spPr>
          <a:xfrm>
            <a:off x="4572000" y="1752480"/>
            <a:ext cx="3274920" cy="457200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6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ar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dry land made it hard to far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Jumano irrigated their crops from nearby 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y traded with other groups for things they could not grow or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y would travel long distances to tra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7" descr="C:\Program Files\Microsoft Office\Clipart\photohm\j0145190.jpg"/>
          <p:cNvPicPr/>
          <p:nvPr/>
        </p:nvPicPr>
        <p:blipFill>
          <a:blip r:embed="rId1"/>
          <a:stretch/>
        </p:blipFill>
        <p:spPr>
          <a:xfrm>
            <a:off x="4495680" y="1981080"/>
            <a:ext cx="4267440" cy="40388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8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Jo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men cleared the fields and prepared the soi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women did most of the farming. They used sharp sticks to poke holes in the dirt and put seeds in each ho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children would walk the fields every day and pick insects off the plants by hand and would pull up we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9" descr="C:\Documents and Settings\MBHILL\My Documents\My Pictures\pueblo people.jpg"/>
          <p:cNvPicPr/>
          <p:nvPr/>
        </p:nvPicPr>
        <p:blipFill>
          <a:blip r:embed="rId1"/>
          <a:stretch/>
        </p:blipFill>
        <p:spPr>
          <a:xfrm>
            <a:off x="4648320" y="2330280"/>
            <a:ext cx="4495680" cy="338472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10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15:22:15Z</dcterms:created>
  <dc:creator>BISD</dc:creator>
  <dc:description/>
  <dc:language>en-US</dc:language>
  <cp:lastModifiedBy>Legion</cp:lastModifiedBy>
  <dcterms:modified xsi:type="dcterms:W3CDTF">2017-07-05T12:43:19Z</dcterms:modified>
  <cp:revision>11</cp:revision>
  <dc:subject/>
  <dc:title>Pueblo Native Americans</dc:title>
</cp:coreProperties>
</file>